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1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13.wmf" ContentType="image/x-wmf"/>
  <Override PartName="/ppt/media/image5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4.wmf" ContentType="image/x-wmf"/>
  <Override PartName="/ppt/media/image3.png" ContentType="image/png"/>
  <Override PartName="/ppt/media/image15.wmf" ContentType="image/x-wmf"/>
  <Override PartName="/ppt/media/image7.png" ContentType="image/png"/>
  <Override PartName="/ppt/media/image8.wmf" ContentType="image/x-wmf"/>
  <Override PartName="/ppt/media/image17.wmf" ContentType="image/x-wmf"/>
  <Override PartName="/ppt/media/image9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A9F74-635C-429E-A161-ECE33154EF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FC8FA-16D2-40DB-9651-7BE422A7CE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662E3-89B1-49CF-915F-F06D3B6507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663BA-A0B5-4860-A441-6592BDE840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10B7-4C3F-4DCF-A486-B0230518ED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9CF5-93D3-43EA-9948-D80B434963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72A1-8EDB-4DB1-BF05-5D557DBEE0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D983-C463-433D-963B-713EC9CBEC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E3CB-4A8C-426C-B876-34D16D5247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F529-753E-4E3E-B1D0-719A03CDC5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BB47-0B9D-469A-BDFC-583CDEE9C0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273E3-4913-4408-AF26-CE83971FA4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4259-9971-40CA-874B-4B5BEF19F8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3680-9465-4289-BB92-BB607FD9EE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C3FC-8D1C-4192-A72E-63686D7A1F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CDEE-E1A5-47F8-BB92-273806B73E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DE60-3B66-4ADD-960B-C5E05EBFF0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3CEAD-28F2-4CAA-B89A-2B990B558D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33E4B-6707-40B4-9847-8192639EBD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92416-ECB2-42CB-BCC6-DED39AC275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8C59B-7FD8-4449-9D9F-3182A821AB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66790-52BD-4D8E-BB2E-2409B3C416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1C817-B7A7-4713-A476-C4AC5462F2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97851-F02A-4380-937A-D52738EA2C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5E6E-7101-47E3-B9C2-FC2CA1891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7943-C749-45C6-8B79-C3FE647CE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 Dominante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uncionamiento de seguidor de voltaj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2233440"/>
            <a:ext cx="777240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stantes de Tiempo: Slew Rate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Negativa: Estab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aplica un escalón en la entrada de 0.1 V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46280" y="2971800"/>
            <a:ext cx="4359240" cy="3070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105520" y="3200400"/>
            <a:ext cx="3886200" cy="27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Análisis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t=0,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.1 V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0 y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 V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del OPAMP tratará de saturarse positivamente a una velocidad máxima dada por la slew rate (0.5V/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salida crecerá hasta que el terminal inversor alcance el voltaje de la entrada no inverso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stantes de Tiempo: Slew Rate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1860480"/>
            <a:ext cx="8534520" cy="46324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343400" y="43434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00400" y="3701880"/>
            <a:ext cx="2209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ines Diferenciales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“Igual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4419720"/>
            <a:ext cx="99072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09680" y="5149800"/>
            <a:ext cx="3505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Tasa de crecimiento </a:t>
            </a: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0.4V/</a:t>
            </a: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s  Slew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2280" y="2394000"/>
            <a:ext cx="4953240" cy="32288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 Constantes de Tiemp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calones Unitarios sincronizados de entrada en t=0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5562720"/>
            <a:ext cx="19051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uentes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3V 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5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05520" y="2205000"/>
            <a:ext cx="3886200" cy="40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Análisis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t=0, C descargad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 y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2=1.5V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del OPAMP tratará de saturarse negativamente a una velocidad máxima dada por la slew rate (0.5V/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).Por otro lado C se cargará con una constante de tiempo (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2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/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C.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l voltaje diferencial (función de ambas velocidades) define la estabilidad del sistema: Si el condensador es “muy rápido”(es decir la salida del OPAMP no cambia en la escala de tiempo RC) “gana” la retroalimentación positiv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781200" y="2409840"/>
                <a:ext cx="11998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2514600" y="55609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OPAMP LM324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lew rate = 0.5V/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;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~ 100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 Constantes de Tiemp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629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calones Unitarios sincronizados de entra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25146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Análisis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ensador se carga segú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410080" y="3200400"/>
                <a:ext cx="365760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u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/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‖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C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343480" y="4114800"/>
                <a:ext cx="36370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u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/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‖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C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033960" y="4962600"/>
                <a:ext cx="196704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6320" y="2606760"/>
            <a:ext cx="5235480" cy="3413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914400" y="2590920"/>
                <a:ext cx="120024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8763120" cy="47782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 Constantes de Tiemp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5562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: C=1pF 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1ns &lt;&lt; slew rat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 Retroalimentación positiva siempre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505320"/>
            <a:ext cx="609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00400" y="4419720"/>
            <a:ext cx="609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38480" y="2743200"/>
            <a:ext cx="6098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91520" y="2529000"/>
            <a:ext cx="609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43800" y="3200400"/>
            <a:ext cx="609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1771560"/>
            <a:ext cx="8458200" cy="47815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 Constantes de Tiemp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5943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: C=1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 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~ 1ms &gt;&gt; slew rat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 principio” ~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 gana retroalimentación nega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38880" y="1905120"/>
            <a:ext cx="6098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2819520"/>
            <a:ext cx="609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5334120"/>
            <a:ext cx="6098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4267080"/>
            <a:ext cx="609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3657600"/>
            <a:ext cx="6098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 Constantes de Tiempo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908000"/>
            <a:ext cx="8534520" cy="46450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553080" y="3733920"/>
            <a:ext cx="6098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4343400"/>
            <a:ext cx="609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95480" y="2514600"/>
            <a:ext cx="6098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81480" y="2666880"/>
            <a:ext cx="6098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48320" y="3352680"/>
            <a:ext cx="609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7913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: C=1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 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~ 1ms &gt;&gt; slew rat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tiempos ~ ms gana retroalimentación posi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 Positiv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Inestabilida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dor” se comporta en forma inestable a propósi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alida alcanza valores de saturación rápidam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plicacion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aradores con histéresis (Schmitt Trigger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iltros: A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&gt;&gt;A y ancho de banda “selectivo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sciladores (Relajación, sinusoidale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 Positiva: Ejempl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chmitt-Trigg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arador-Regenerativo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see Histéresis: importante en labores de compa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3208320"/>
            <a:ext cx="6172200" cy="342108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152280" y="3224160"/>
            <a:ext cx="5867640" cy="2971800"/>
            <a:chOff x="152280" y="3224160"/>
            <a:chExt cx="5867640" cy="2971800"/>
          </a:xfrm>
        </p:grpSpPr>
        <p:sp>
          <p:nvSpPr>
            <p:cNvPr id="195" name=""/>
            <p:cNvSpPr/>
            <p:nvPr/>
          </p:nvSpPr>
          <p:spPr>
            <a:xfrm>
              <a:off x="3067200" y="3224160"/>
              <a:ext cx="0" cy="297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62120" y="4724280"/>
              <a:ext cx="457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4965840" y="4406760"/>
                  <a:ext cx="1054080" cy="24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β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os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ef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152280" y="4419720"/>
                  <a:ext cx="105408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β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eg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ef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3090960" y="4253040"/>
                  <a:ext cx="15620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os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eg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ef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3124080" y="3352680"/>
                  <a:ext cx="254160" cy="24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o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3124080" y="5867280"/>
                  <a:ext cx="254160" cy="24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eg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952880" y="1600200"/>
            <a:ext cx="41911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20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Retroalimentación (I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 Positiva: Ejempl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Útil en labores de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a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scil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6095880" cy="34401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410080" y="1905120"/>
            <a:ext cx="357372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 Positiva: Oscilad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562720" y="1730520"/>
            <a:ext cx="3581280" cy="3070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209680" y="4508640"/>
                <a:ext cx="259092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600200" y="5824440"/>
                <a:ext cx="23623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4952880" y="6043680"/>
                <a:ext cx="114300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838080" y="4572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rga a V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51498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rga y descarga toman el mismo tiempo. Si se define por t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l tiempo que transcurre desde que el condensador tiene el voltaje -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 hasta que alcanz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, el período T e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5486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scilador: Generador de onda cuad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upuesto: inicialment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V =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ensador se carga a voltaje V co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hasta que terminal inversor alcanza voltaj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 toma valor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- V =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eg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ensador “se carga” a voltaje -V con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hasta que terminal inversor alcanza voltaje -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repite el cicl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 Positiva: Oscilad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2833560"/>
            <a:ext cx="7086600" cy="38721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5410080" y="2962440"/>
            <a:ext cx="3657600" cy="3133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286000" y="5334120"/>
                <a:ext cx="114300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scilador: Generador de onda cuadrada (Oscilador de Relajación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blema: Slew-Rate (máxima velocidad sali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olución: Comparad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52578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s v/s Comparador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bor de Compa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plicación práctic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equeña diferencia entre terminales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voca saturación en el OPAMP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se requiere “comportamiento de amplificación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OPAMP: Slew Rate es una limitación, pero para este tipo de aplicación ¿Importa la estabilidad?... NO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mparado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: OPAMP diseñado especialmente para labores de comparación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no posee condensador de compensación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la Slew Rate ya no es problema (~ 5000V/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esencia de Ruido en la entrada implica transiciones no deseadas dada la gran sensibilidad del dispositivo a diferencias de voltaj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ecesidad de Histéresis, Idea: Retroalimentación positiva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243864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 Positiva: Comparador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ilar a un OPAM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ferenci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señado para tener una slew-rate alta (5000 V/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posee compens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retroalimentación positiva puede ser inestabl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deal en configuración retroalimentada positivam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rquitectura Típ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trada diferencial FE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lida “Open-Collector con Emisor a tierr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OSFET: permite excursión completa de la señal de salida [0,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y OPAMP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dentificación de Retroalimentación “Dominante”: Análisis de Estabilida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iciones para que “pines sean iguales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 de la Slew Rate o máxima velocidad de respuesta en la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 de las constantes de tiempo del sistema en cuest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positiva puede ser úti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aradores con Histéresis: Schmitt-Trigge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scil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ar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studio de Metodología Gener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Analizar algunos ejemplos Pedagógicos (no práctico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Ejemplos de Retroalimentación Positiv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Metodología Genera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etectar si la configuración es “estable”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e ser así encontrar zona de operación line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so contrario analizar las “constantes de tiempo del sistema”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n general se asumirá que la impedancia de entrada a un OPAMP es mucho mayor que las impedancias DC del sistem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 Estabilidad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asume que el OPAMP se encuentra en Zona Line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“aplica” una variación “pequeña” en la sal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analiza el efecto en el voltaje diferencial (Determinación de “Retroalimentación Dominante”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se opone al cambio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stable (Retroalimentación Negativ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refuerza el cambio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Inestable (Retroalimentación Positiv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 el Sistema es estable la hipótesis original es consist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n caso contrario el sistema “diverge” (Saturación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Zona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267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Zon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 nega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neal: “Pines a igual voltaje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 posi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59240" y="1752480"/>
            <a:ext cx="4708440" cy="2606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045040" y="1981080"/>
                <a:ext cx="11811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304920" y="2971800"/>
            <a:ext cx="403848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tabilidad y Zona Lineal: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umenta, sólo el terminal inversor aumenta (no inversor fijo a tierra) por lo que la entrada diferencial disminuye oponiéndose al cambi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stabilidad (Retroalimentación negativa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Zona Lineal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“Pines iguales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429080" y="4419720"/>
                <a:ext cx="410544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A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304920" y="5029200"/>
            <a:ext cx="43434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Zona de Saturación: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se encuentra acotado por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o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e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Restricción sobre amplitud de entrada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724280" y="5334120"/>
                <a:ext cx="37497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  <m:r>
                      <m:t xml:space="preserve">⇔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eedback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257800" y="5791320"/>
                <a:ext cx="194940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&lt;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Zona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so Particula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01640" y="2666880"/>
            <a:ext cx="5546880" cy="29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193920"/>
                <a:ext cx="256860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Zona</m:t>
                        </m:r>
                        <m:r>
                          <m:rPr>
                            <m:lit/>
                            <m:nor/>
                          </m:rPr>
                          <m:t xml:space="preserve">Lineal</m:t>
                        </m:r>
                        <m:r>
                          <m:t xml:space="preserve">⇔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&lt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8</m:t>
                        </m:r>
                        <m:r>
                          <m:t xml:space="preserve">⇔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400800" y="4343400"/>
                <a:ext cx="23814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anancia: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Zona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2281320"/>
            <a:ext cx="7848720" cy="4271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09480" y="2514600"/>
                <a:ext cx="99396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906560" y="3832200"/>
            <a:ext cx="0" cy="2263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295280" y="4648320"/>
                <a:ext cx="56196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816280" y="3962520"/>
                <a:ext cx="69372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2743200" y="2590920"/>
            <a:ext cx="0" cy="31017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2971800"/>
            <a:ext cx="0" cy="2438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248520" y="4114800"/>
                <a:ext cx="136836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ananci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2666880" y="243828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2057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ción Posi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59436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5105520"/>
            <a:ext cx="1219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eg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62520" y="2971800"/>
            <a:ext cx="4952880" cy="29797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 Dominante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y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on pequeñas comparadas con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ntonces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35053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133880" y="3095640"/>
                <a:ext cx="11062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267000" y="5256360"/>
                <a:ext cx="244800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ut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 flipV="1">
            <a:off x="5334120" y="48002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71400" y="4390920"/>
                <a:ext cx="27576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ut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85800" y="4995720"/>
                <a:ext cx="24573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Ω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Ω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447920" y="5638680"/>
                <a:ext cx="97632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457200" y="608004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n seguidor de voltaje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2666880"/>
            <a:ext cx="36576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tabilidad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umenta, ambos terminales (inversor y no inversor) aumentan, sin embargo el inversor aumenta en una mayor propor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stabilidad (Gana retroalimentación negati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Depto. Ing. Electrica</cp:lastModifiedBy>
  <dcterms:modified xsi:type="dcterms:W3CDTF">2003-10-22T14:45:24Z</dcterms:modified>
  <cp:revision>961</cp:revision>
  <dc:subject>Retroalimentación (II)</dc:subject>
  <dc:title>Clase 20</dc:title>
</cp:coreProperties>
</file>