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13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6.png" ContentType="image/png"/>
  <Override PartName="/ppt/media/image26.wmf" ContentType="image/x-wmf"/>
  <Override PartName="/ppt/media/image15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20.png" ContentType="image/png"/>
  <Override PartName="/ppt/media/image19.wmf" ContentType="image/x-wmf"/>
  <Override PartName="/ppt/media/image25.png" ContentType="image/png"/>
  <Override PartName="/ppt/media/image2.png" ContentType="image/png"/>
  <Override PartName="/ppt/media/image18.wmf" ContentType="image/x-wmf"/>
  <Override PartName="/ppt/media/image1.png" ContentType="image/png"/>
  <Override PartName="/ppt/media/image14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88188" cy="10220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6108A-7B13-4F5B-9149-71EC8DE602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40886-872B-4CDB-B68A-D75ED57D7A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51458-2CEF-4B86-94DE-6D57B68FD8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E1B4C-313C-4A9E-881C-962755A053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161C-60BB-4C04-A345-9383799BFD5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E6AF-E1DF-45FE-AA2F-3D4FD61FF9C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2988-0FB5-415D-807F-77D3BDBD85B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2579-333E-430F-AA28-024BD4AF1EB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1F35-28BE-47B7-9132-248BB24549C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3F2D-95F0-45C2-93D6-36F4C1AC59C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B0BE-071B-40A1-8619-A1258E481C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7112C-9F32-4168-B13D-244FE89E32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C877-4A1D-43B6-86AF-977D26B62A4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6514-8ED1-4342-B754-1246332280A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FE2F-40F1-4E43-AAF0-12159F1A618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FDA1-3147-46DD-832F-E880EA91D63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FB2F-EC75-4E7A-BCC8-D058561630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4FD7E-4B45-47A0-B4AF-C73AEFB9A6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0DD30-88AF-4ADE-AFCF-4370A45F46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9CB83-01F8-4426-AF4C-AAD5DEE292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76CC9-5149-403D-8FC2-99FF2749C9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B0674-2F2D-4735-B9DD-162C334E07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78BD4-D7D6-4572-8FE2-513FD7ACF8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F6A55-C748-44DA-8909-E5D6398AA5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DF328-A5FB-45E8-AE54-B6543CCDC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88A7-021E-4504-A728-C59D46EDA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Efectos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52280" y="167616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ncho de Banda Aument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oducto Gain-Bandwidth permanece consta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1828800" y="2743200"/>
                <a:ext cx="194004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38" name=""/>
          <p:cNvGrpSpPr/>
          <p:nvPr/>
        </p:nvGrpSpPr>
        <p:grpSpPr>
          <a:xfrm>
            <a:off x="6095880" y="4724280"/>
            <a:ext cx="2880000" cy="1684440"/>
            <a:chOff x="6095880" y="4724280"/>
            <a:chExt cx="2880000" cy="168444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6095880" y="4724280"/>
              <a:ext cx="2880000" cy="168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8292960" y="545616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642520" y="5271840"/>
              <a:ext cx="0" cy="67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388200" y="5470560"/>
              <a:ext cx="533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400800" y="5259240"/>
              <a:ext cx="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228600" y="3533760"/>
                <a:ext cx="52578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jωC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jωC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r>
                      <m:t xml:space="preserve">≡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ω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311040" y="4343400"/>
                <a:ext cx="517536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ω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/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ω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d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/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ω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1244520" y="5064120"/>
                <a:ext cx="3022560" cy="14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ω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Hf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den>
                        </m:f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≡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β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;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f</m:t>
                            </m:r>
                          </m:sub>
                        </m:sSub>
                        <m:r>
                          <m:t xml:space="preserve">≡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β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47" name=""/>
          <p:cNvGrpSpPr/>
          <p:nvPr/>
        </p:nvGrpSpPr>
        <p:grpSpPr>
          <a:xfrm>
            <a:off x="5410080" y="1447920"/>
            <a:ext cx="3733920" cy="3120840"/>
            <a:chOff x="5410080" y="1447920"/>
            <a:chExt cx="3733920" cy="3120840"/>
          </a:xfrm>
        </p:grpSpPr>
        <p:grpSp>
          <p:nvGrpSpPr>
            <p:cNvPr id="248" name=""/>
            <p:cNvGrpSpPr/>
            <p:nvPr/>
          </p:nvGrpSpPr>
          <p:grpSpPr>
            <a:xfrm>
              <a:off x="5730840" y="1447920"/>
              <a:ext cx="3057480" cy="2322360"/>
              <a:chOff x="5730840" y="1447920"/>
              <a:chExt cx="3057480" cy="2322360"/>
            </a:xfrm>
          </p:grpSpPr>
          <p:pic>
            <p:nvPicPr>
              <p:cNvPr id="24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730840" y="1957320"/>
                <a:ext cx="3057480" cy="1280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036840" y="1447920"/>
                <a:ext cx="2548080" cy="2322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1" name=""/>
            <p:cNvSpPr/>
            <p:nvPr/>
          </p:nvSpPr>
          <p:spPr>
            <a:xfrm>
              <a:off x="6949800" y="2703600"/>
              <a:ext cx="304920" cy="28404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061040" y="2666880"/>
              <a:ext cx="1066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(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 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908760" y="2684520"/>
              <a:ext cx="40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908760" y="2798640"/>
              <a:ext cx="40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10080" y="1765440"/>
              <a:ext cx="609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410080" y="2895480"/>
              <a:ext cx="609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400800" y="2362320"/>
              <a:ext cx="736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(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 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-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689440" y="2428920"/>
              <a:ext cx="1066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213320" y="2209680"/>
              <a:ext cx="1067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858000" y="1484280"/>
              <a:ext cx="88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pos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&gt;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858000" y="3465360"/>
              <a:ext cx="934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neg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&lt;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807240" y="3554280"/>
              <a:ext cx="101520" cy="9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807240" y="1569960"/>
              <a:ext cx="101520" cy="93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858000" y="1598760"/>
              <a:ext cx="0" cy="23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858000" y="3375000"/>
              <a:ext cx="0" cy="23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534160" y="2325600"/>
              <a:ext cx="609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86400" y="2335320"/>
              <a:ext cx="571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7010280" y="4038480"/>
              <a:ext cx="914400" cy="530280"/>
              <a:chOff x="7010280" y="4038480"/>
              <a:chExt cx="914400" cy="530280"/>
            </a:xfrm>
          </p:grpSpPr>
          <p:grpSp>
            <p:nvGrpSpPr>
              <p:cNvPr id="269" name=""/>
              <p:cNvGrpSpPr/>
              <p:nvPr/>
            </p:nvGrpSpPr>
            <p:grpSpPr>
              <a:xfrm>
                <a:off x="7391160" y="4267080"/>
                <a:ext cx="141480" cy="301680"/>
                <a:chOff x="7391160" y="4267080"/>
                <a:chExt cx="141480" cy="301680"/>
              </a:xfrm>
            </p:grpSpPr>
            <p:grpSp>
              <p:nvGrpSpPr>
                <p:cNvPr id="270" name=""/>
                <p:cNvGrpSpPr/>
                <p:nvPr/>
              </p:nvGrpSpPr>
              <p:grpSpPr>
                <a:xfrm>
                  <a:off x="7391160" y="4506120"/>
                  <a:ext cx="141480" cy="62640"/>
                  <a:chOff x="7391160" y="4506120"/>
                  <a:chExt cx="141480" cy="62640"/>
                </a:xfrm>
              </p:grpSpPr>
              <p:sp>
                <p:nvSpPr>
                  <p:cNvPr id="271" name=""/>
                  <p:cNvSpPr/>
                  <p:nvPr/>
                </p:nvSpPr>
                <p:spPr>
                  <a:xfrm>
                    <a:off x="7391160" y="4506120"/>
                    <a:ext cx="1414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7414560" y="4537440"/>
                    <a:ext cx="94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7437960" y="4568760"/>
                    <a:ext cx="47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4" name=""/>
                <p:cNvSpPr/>
                <p:nvPr/>
              </p:nvSpPr>
              <p:spPr>
                <a:xfrm>
                  <a:off x="7463880" y="4270680"/>
                  <a:ext cx="0" cy="235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7425000" y="4267080"/>
                  <a:ext cx="8028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6" name=""/>
              <p:cNvSpPr/>
              <p:nvPr/>
            </p:nvSpPr>
            <p:spPr>
              <a:xfrm>
                <a:off x="7010280" y="4038480"/>
                <a:ext cx="91440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77" name=""/>
            <p:cNvCxnSpPr>
              <a:stCxn id="249" idx="3"/>
              <a:endCxn id="276" idx="3"/>
            </p:cNvCxnSpPr>
            <p:nvPr/>
          </p:nvCxnSpPr>
          <p:spPr>
            <a:xfrm flipH="1">
              <a:off x="7923960" y="2598840"/>
              <a:ext cx="864360" cy="1629360"/>
            </a:xfrm>
            <a:prstGeom prst="bentConnector3">
              <a:avLst>
                <a:gd name="adj1" fmla="val -2645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8" name=""/>
            <p:cNvCxnSpPr>
              <a:stCxn id="276" idx="1"/>
              <a:endCxn id="256" idx="2"/>
            </p:cNvCxnSpPr>
            <p:nvPr/>
          </p:nvCxnSpPr>
          <p:spPr>
            <a:xfrm rot="10800000">
              <a:off x="5714280" y="3199680"/>
              <a:ext cx="1296000" cy="1027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Retroalimentación Negativ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duce Ganancia respectiva y puede hacerse muy estable (si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 &gt;&gt;1 ganancia ~ 1/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able: Variaciones en temperatura, Diferencias entre componentes (matching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inealidad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umenta Ancho de Band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oducto “Gain-Bandwidth” permanece constan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ltera las impedancias de entrada y salid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pende de la configur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 tal forma que el efecto es “deseable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Ejempl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52280" y="1980720"/>
            <a:ext cx="38102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spejo de corrien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sistencia de emis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umenta impedancia por colect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962160" y="1980720"/>
            <a:ext cx="2895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plificador EC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-20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 de transconductancia, retroalimentación corriente-seri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-20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umenta la impedancia mirando por el colect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457200" y="3809880"/>
            <a:ext cx="3124080" cy="2324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1066680" y="5638680"/>
                <a:ext cx="191772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f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7026120" y="1600200"/>
            <a:ext cx="1889280" cy="2949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5715000" y="4572000"/>
                <a:ext cx="323064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5987880" y="5334120"/>
                <a:ext cx="268308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s y Retroaliment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OPAMP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deal para retroalimentación negativ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 rel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 &gt;&gt; 1 se cumple para un amplio rango de frecuencia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umenta ancho de Band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lineal (1/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ortante ¿Cómo opera el OPAMP Retroalimentado?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lineal exige que el OPAMP este fuera de satur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trabaja en la zona lineal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gla de oro 1”: Los terminales de entrada del OPAMP se mantienen con voltajes “iguales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entrada cambi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etroalimentación (algo)-serie aumenta impedancia de entrada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“Regla de oro 2”: Corriente en la entrada diferencial es despreciabl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: Buffer de Voltaj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52280" y="1980720"/>
            <a:ext cx="792504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-216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xiste retroalimentación negativ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ines en la entrada diferencial a “igual”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tencial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entrada crece en factor (1+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Salida disminuye en factor (1+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r lo tanto es un buffer de voltaj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striccion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 puede superar los voltajes de alimentación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tampoco. Buffer Opera para voltajes de entrada estrictamente comprendidos en el rango impuesto por la aliment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elocidad de respuesta: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no puede cambiar más rápido que la Slew Rate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tampoco. Restricción a la máxima componente de frecuencia a la entra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5722920" y="1828800"/>
            <a:ext cx="311616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6248520" y="1523880"/>
            <a:ext cx="2743200" cy="2367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no Inversor: Gananci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51920" y="1905120"/>
            <a:ext cx="3886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 no-invers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troalimentación negativ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rata de mantener los pines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“+” y “-” al mismo potencial (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se revisará en Análisis Transitorio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152280" y="3200400"/>
                <a:ext cx="13716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pu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8001000" y="3870360"/>
                <a:ext cx="106668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p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put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9" name=""/>
          <p:cNvSpPr/>
          <p:nvPr/>
        </p:nvSpPr>
        <p:spPr>
          <a:xfrm>
            <a:off x="5867280" y="393048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Ganancia lazo cerra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426708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Restricciones zona lineal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6515280" y="5029200"/>
                <a:ext cx="194292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g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6553080" y="5486400"/>
                <a:ext cx="16956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&l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  <m:r>
                      <m:t xml:space="preserve">&lt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6943680" y="4572000"/>
                <a:ext cx="135252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g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4089240" y="2895480"/>
                <a:ext cx="10162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ia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1692360" y="3352680"/>
                <a:ext cx="745920" cy="3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2563920" y="3276720"/>
                <a:ext cx="221904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pu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ia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4910040" y="3208320"/>
                <a:ext cx="225288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p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pu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ia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put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08" name=""/>
          <p:cNvGrpSpPr/>
          <p:nvPr/>
        </p:nvGrpSpPr>
        <p:grpSpPr>
          <a:xfrm>
            <a:off x="0" y="3886200"/>
            <a:ext cx="6095880" cy="2673360"/>
            <a:chOff x="0" y="3886200"/>
            <a:chExt cx="6095880" cy="2673360"/>
          </a:xfrm>
        </p:grpSpPr>
        <p:pic>
          <p:nvPicPr>
            <p:cNvPr id="309" name="" descr=""/>
            <p:cNvPicPr/>
            <p:nvPr/>
          </p:nvPicPr>
          <p:blipFill>
            <a:blip r:embed="rId2"/>
            <a:stretch/>
          </p:blipFill>
          <p:spPr>
            <a:xfrm>
              <a:off x="0" y="3886200"/>
              <a:ext cx="6095880" cy="267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533520" y="4267080"/>
              <a:ext cx="259056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Análisis realizado con PSPICE: </a:t>
              </a:r>
              <a:br>
                <a:rPr sz="1400"/>
              </a:b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Análisis “DC Sweep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no Inversor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puesta en Frecuenci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38102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fectos retroaliment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isminución ganancia: (92000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11: factor ~ 8400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umento ancho de banda: (frecuencia de corte 10 Hz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92KHz: factor ~ 9200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0" y="3733920"/>
            <a:ext cx="6781680" cy="289692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657600" y="1676520"/>
            <a:ext cx="5486400" cy="2133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7238880" y="3809880"/>
                <a:ext cx="12891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6" name=""/>
          <p:cNvSpPr/>
          <p:nvPr/>
        </p:nvSpPr>
        <p:spPr>
          <a:xfrm>
            <a:off x="6781680" y="528624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oducto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“Gain- Bandwidth” ~ c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705720" y="4554360"/>
                <a:ext cx="23558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≡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β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2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840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no Inversor: Retroalimentación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52280" y="19047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 no-invers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troalimentación negativ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Ganancia Lazo Abierto: A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Ganancia Lazo Cerrado: A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ada Opamp: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lida Opamp: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troaliment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ivisor de tensión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etroalimentación “voltaje-serie”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5105520" y="1828800"/>
            <a:ext cx="3573360" cy="2610000"/>
            <a:chOff x="5105520" y="1828800"/>
            <a:chExt cx="3573360" cy="2610000"/>
          </a:xfrm>
        </p:grpSpPr>
        <p:pic>
          <p:nvPicPr>
            <p:cNvPr id="321" name="" descr=""/>
            <p:cNvPicPr/>
            <p:nvPr/>
          </p:nvPicPr>
          <p:blipFill>
            <a:blip r:embed="rId1"/>
            <a:stretch/>
          </p:blipFill>
          <p:spPr>
            <a:xfrm>
              <a:off x="5105520" y="1828800"/>
              <a:ext cx="3573360" cy="261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5791320" y="2286000"/>
              <a:ext cx="1143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238880" y="2224080"/>
              <a:ext cx="1143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5867280" y="4495680"/>
                <a:ext cx="266724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pu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put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pu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5592600" y="4876920"/>
                <a:ext cx="321804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pu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β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26" name=""/>
          <p:cNvGrpSpPr/>
          <p:nvPr/>
        </p:nvGrpSpPr>
        <p:grpSpPr>
          <a:xfrm>
            <a:off x="304920" y="4784760"/>
            <a:ext cx="5105160" cy="1539720"/>
            <a:chOff x="304920" y="4784760"/>
            <a:chExt cx="5105160" cy="1539720"/>
          </a:xfrm>
        </p:grpSpPr>
        <p:sp>
          <p:nvSpPr>
            <p:cNvPr id="327" name=""/>
            <p:cNvSpPr/>
            <p:nvPr/>
          </p:nvSpPr>
          <p:spPr>
            <a:xfrm>
              <a:off x="990720" y="47847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600200" y="4784760"/>
              <a:ext cx="914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371600" y="4954680"/>
              <a:ext cx="457200" cy="457200"/>
            </a:xfrm>
            <a:prstGeom prst="flowChartSummingJunct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0" name=""/>
                <p:cNvSpPr txBox="1"/>
                <p:nvPr/>
              </p:nvSpPr>
              <p:spPr>
                <a:xfrm>
                  <a:off x="2595600" y="4871880"/>
                  <a:ext cx="75240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ut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1" name=""/>
                <p:cNvSpPr txBox="1"/>
                <p:nvPr/>
              </p:nvSpPr>
              <p:spPr>
                <a:xfrm>
                  <a:off x="2514600" y="5716440"/>
                  <a:ext cx="98748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cxnSp>
          <p:nvCxnSpPr>
            <p:cNvPr id="332" name=""/>
            <p:cNvCxnSpPr>
              <a:stCxn id="329" idx="6"/>
            </p:cNvCxnSpPr>
            <p:nvPr/>
          </p:nvCxnSpPr>
          <p:spPr>
            <a:xfrm flipV="1">
              <a:off x="1828800" y="5176440"/>
              <a:ext cx="767520" cy="7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3" name=""/>
            <p:cNvCxnSpPr>
              <a:endCxn id="329" idx="2"/>
            </p:cNvCxnSpPr>
            <p:nvPr/>
          </p:nvCxnSpPr>
          <p:spPr>
            <a:xfrm>
              <a:off x="761760" y="5181120"/>
              <a:ext cx="610200" cy="2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lg" type="oval" w="lg"/>
              <a:tailEnd len="med" type="triangle" w="med"/>
            </a:ln>
          </p:spPr>
        </p:cxnSp>
        <p:cxnSp>
          <p:nvCxnSpPr>
            <p:cNvPr id="334" name=""/>
            <p:cNvCxnSpPr/>
            <p:nvPr/>
          </p:nvCxnSpPr>
          <p:spPr>
            <a:xfrm>
              <a:off x="3348000" y="5176800"/>
              <a:ext cx="154800" cy="845280"/>
            </a:xfrm>
            <a:prstGeom prst="bentConnector3">
              <a:avLst>
                <a:gd name="adj1" fmla="val 59370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5" name=""/>
            <p:cNvCxnSpPr>
              <a:endCxn id="329" idx="4"/>
            </p:cNvCxnSpPr>
            <p:nvPr/>
          </p:nvCxnSpPr>
          <p:spPr>
            <a:xfrm rot="10800000">
              <a:off x="1599480" y="5411160"/>
              <a:ext cx="915120" cy="610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36" name=""/>
            <p:cNvSpPr/>
            <p:nvPr/>
          </p:nvSpPr>
          <p:spPr>
            <a:xfrm>
              <a:off x="1143000" y="53337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04920" y="5073480"/>
              <a:ext cx="685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495680" y="5073480"/>
              <a:ext cx="914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447920" y="5470560"/>
              <a:ext cx="914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260960" y="517824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no Inversor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Transitori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75960" y="1752120"/>
            <a:ext cx="5257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aplica señal escal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input (0.1V, Td=20ns, Tr=100ns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égimen Transitori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Le toma tiempo al Opamp responder a la señal (no “detecta” inicialmente la retroalimentación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Culpable: Retrasos asociados a los dispositivos que conforman el OPAMP + Slew Rate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5410080" y="1679400"/>
            <a:ext cx="3733920" cy="227988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50760" y="3448080"/>
            <a:ext cx="7416720" cy="318132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6477120" y="5410080"/>
            <a:ext cx="25905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Análisis realizado con PSPICE: 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Análisis “Transient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no Inversor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Transitori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54100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alcanza régimen perman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ines de la entrada diferencial casi al mismo potenci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100mV;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99.765mV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”bias”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de “lazo cerrado” &lt;&lt; “lazo abierto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5410080" y="1676520"/>
            <a:ext cx="3733920" cy="227952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50760" y="3448080"/>
            <a:ext cx="7416720" cy="318132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4038480" y="4038480"/>
            <a:ext cx="2971800" cy="85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Régimen permanente: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Ganancia “lazo cerrado”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11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in “-” iguala al pin “+”: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I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ectrónica Analógic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19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Retroalimentación (I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no Inversor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Transitori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54100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régimen perman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ines de la entrada diferencial casi al mismo potenci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100mV;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99.765mV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bias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0.235mV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tiene que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+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ia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5410080" y="1676520"/>
            <a:ext cx="3733920" cy="2279520"/>
          </a:xfrm>
          <a:prstGeom prst="rect">
            <a:avLst/>
          </a:prstGeom>
          <a:ln w="0">
            <a:noFill/>
          </a:ln>
        </p:spPr>
      </p:pic>
      <p:grpSp>
        <p:nvGrpSpPr>
          <p:cNvPr id="354" name=""/>
          <p:cNvGrpSpPr/>
          <p:nvPr/>
        </p:nvGrpSpPr>
        <p:grpSpPr>
          <a:xfrm>
            <a:off x="0" y="3535200"/>
            <a:ext cx="7284960" cy="3170520"/>
            <a:chOff x="0" y="3535200"/>
            <a:chExt cx="7284960" cy="3170520"/>
          </a:xfrm>
        </p:grpSpPr>
        <p:pic>
          <p:nvPicPr>
            <p:cNvPr id="355" name="" descr=""/>
            <p:cNvPicPr/>
            <p:nvPr/>
          </p:nvPicPr>
          <p:blipFill>
            <a:blip r:embed="rId2"/>
            <a:stretch/>
          </p:blipFill>
          <p:spPr>
            <a:xfrm>
              <a:off x="0" y="3535200"/>
              <a:ext cx="7284960" cy="317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3962520" y="4800600"/>
              <a:ext cx="2971800" cy="106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égimen permanente: </a:t>
              </a:r>
              <a:br>
                <a:rPr sz="1600"/>
              </a:b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Bias  implica diferencia respecto al valor 11*100 mV=1.1 V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no Inversor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Transitorio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6320" y="1904760"/>
            <a:ext cx="54100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OPAMP tiene tiempo de respuesta ~ 10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e aplica Vinput (0.1V, Td=20ns, 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Tr=20us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tar que “no se retrasa en responder”, a diferencia de cuando tenía Tr=100ns=0.1u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azón: “se da cuenta” tempranamente que existe retroalimentación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5410080" y="1676520"/>
            <a:ext cx="3733920" cy="227952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0" y="3352680"/>
            <a:ext cx="7391520" cy="317052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3200400" y="3714840"/>
            <a:ext cx="3886200" cy="131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Fabricante: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ndica la “slew-rate” del Opamp. Esta entrega la máxima tasa de crecimiento de la entrada que el Opamp es capaz de seguir.</a:t>
            </a:r>
            <a:br>
              <a:rPr sz="1600"/>
            </a:b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Valor Típico: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1V /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1: Fuente de Corrien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51920" y="182880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versor Voltaje a Corrien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uncionamient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mbos operacionales tienen retroalimentación negativ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pines a igual potenci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riente por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s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/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y circula por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también (alta impedancia OPAMP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tiene voltaje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/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/ (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4575240" y="1752480"/>
            <a:ext cx="4263840" cy="432144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822960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620120" y="3809880"/>
            <a:ext cx="761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2: Rectificador Activ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ctificador con diod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ñales deben superar 0.6V: No es de precis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ctificador Activ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Uso de OPAMP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Útil en aplicaciones de precis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figuración propuesta no considera el efecto de la Slew Ra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elocidad de conmutación del diodo es importa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4495680" y="2819520"/>
            <a:ext cx="4648320" cy="32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2: Rectificador Activ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8001000" cy="43434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457200" y="18288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mulación PSPICE: f=1kHz, diodo 1N4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6095880" y="1427040"/>
            <a:ext cx="2971800" cy="20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2: Rectificador Activ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0" y="2003400"/>
            <a:ext cx="8381880" cy="454968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 flipV="1">
            <a:off x="1676520" y="3733560"/>
            <a:ext cx="1066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4419720"/>
            <a:ext cx="25909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Problema </a:t>
            </a:r>
            <a:r>
              <a:rPr b="1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la Slew Rat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¿Qué lo provoca?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Respuesta: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Diodo “lento” (1N400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6172200" y="1427040"/>
            <a:ext cx="2971800" cy="207828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457200" y="16002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mulación PSPICE: f=100kHz, diodo 1N4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2: Rectificador Activo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8305920" cy="450828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838080" y="4419720"/>
            <a:ext cx="2362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fecto Slew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2666880" y="3428640"/>
            <a:ext cx="1600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4648320"/>
            <a:ext cx="15238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743200" y="45720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6172200" y="1427040"/>
            <a:ext cx="2971800" cy="207828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457200" y="16002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mulación PSPICE: f=100 kHz, diodo 1N41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2: Rectificador Activo. Solución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40972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oblem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lew Rate + saturación negativa de la sali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olucion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lew Rate: Cambiar OPAMP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turación Negativa: Evitar que la salida “baje” tanto: Diodo D2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76320" y="2416320"/>
            <a:ext cx="5410080" cy="40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2: Rectificador Activo: Solución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2184480"/>
            <a:ext cx="8077320" cy="438444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5943600" y="1452600"/>
            <a:ext cx="3200400" cy="241452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152280" y="1812960"/>
            <a:ext cx="601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mulación PSPICE: f=100 kHz (Notar cambio de f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ltera características de: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mplific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ncho de Band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PAMPs: Ideales para retroalimentación Negativ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ermite analizar en forma simple el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ortamiento del OPAMP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rientes de entrada despreciabl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ines entrada diferencial al mismo potenci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striccion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sociadas a características reales de los OPAMPs y los dispositivos existentes en los lazos de retroaliment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Estudiar los efectos de la retroalimentación negativa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Gananci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Respuesta en frecuenci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Impedancia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Estudiar aplicaciones básica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Poner atención a las limitaciones de los dispositivos y su efecto en los circuito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ermite alterar comportamiento de amplificador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mpedancias de entrada-salid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Ganancia, respuesta en frecuenci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stabilidad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inealidad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n dos “sabores”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 negativ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 positiv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Topología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4114800"/>
            <a:ext cx="7467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Bloqu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mparador: Entrega señal diferencia entre entrada y la señal retroalimentad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mplificador Básico (puede ser voltaje o corriente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uestreador: Recoje una “muestra” de la señal en la etapa de salida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voltaje o corriente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ed Retroalimentación: Toma la muestra de la señal de salida y la amplifica por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. Entrega al comparador la señal de retroalimentación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52280" y="1828800"/>
            <a:ext cx="8839440" cy="2362320"/>
            <a:chOff x="152280" y="1828800"/>
            <a:chExt cx="8839440" cy="2362320"/>
          </a:xfrm>
        </p:grpSpPr>
        <p:sp>
          <p:nvSpPr>
            <p:cNvPr id="99" name=""/>
            <p:cNvSpPr/>
            <p:nvPr/>
          </p:nvSpPr>
          <p:spPr>
            <a:xfrm>
              <a:off x="152280" y="2209680"/>
              <a:ext cx="99072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Fu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600200" y="2209680"/>
              <a:ext cx="121932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Compara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505320" y="1981080"/>
              <a:ext cx="2514600" cy="99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Amplificador Bás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Ganancia lazo abierto 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705720" y="2209680"/>
              <a:ext cx="137160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Muestrea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1143000" y="2286000"/>
              <a:ext cx="456840" cy="457200"/>
              <a:chOff x="1143000" y="2286000"/>
              <a:chExt cx="456840" cy="457200"/>
            </a:xfrm>
          </p:grpSpPr>
          <p:sp>
            <p:nvSpPr>
              <p:cNvPr id="104" name=""/>
              <p:cNvSpPr/>
              <p:nvPr/>
            </p:nvSpPr>
            <p:spPr>
              <a:xfrm>
                <a:off x="1143000" y="2286000"/>
                <a:ext cx="45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143000" y="2743200"/>
                <a:ext cx="45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2819520" y="2286000"/>
              <a:ext cx="685080" cy="457200"/>
              <a:chOff x="2819520" y="2286000"/>
              <a:chExt cx="685080" cy="457200"/>
            </a:xfrm>
          </p:grpSpPr>
          <p:sp>
            <p:nvSpPr>
              <p:cNvPr id="107" name=""/>
              <p:cNvSpPr/>
              <p:nvPr/>
            </p:nvSpPr>
            <p:spPr>
              <a:xfrm>
                <a:off x="2819520" y="2286000"/>
                <a:ext cx="68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819520" y="2743200"/>
                <a:ext cx="68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6019920" y="2286000"/>
              <a:ext cx="685080" cy="457200"/>
              <a:chOff x="6019920" y="2286000"/>
              <a:chExt cx="685080" cy="457200"/>
            </a:xfrm>
          </p:grpSpPr>
          <p:sp>
            <p:nvSpPr>
              <p:cNvPr id="110" name=""/>
              <p:cNvSpPr/>
              <p:nvPr/>
            </p:nvSpPr>
            <p:spPr>
              <a:xfrm>
                <a:off x="6019920" y="2286000"/>
                <a:ext cx="68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19920" y="2743200"/>
                <a:ext cx="68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8457840" y="2362320"/>
              <a:ext cx="152640" cy="336600"/>
              <a:chOff x="8457840" y="2362320"/>
              <a:chExt cx="152640" cy="336600"/>
            </a:xfrm>
          </p:grpSpPr>
          <p:sp>
            <p:nvSpPr>
              <p:cNvPr id="113" name=""/>
              <p:cNvSpPr/>
              <p:nvPr/>
            </p:nvSpPr>
            <p:spPr>
              <a:xfrm rot="5400000">
                <a:off x="8562240" y="2336760"/>
                <a:ext cx="22320" cy="7308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8458200" y="2384280"/>
                <a:ext cx="152280" cy="5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458200" y="2441880"/>
                <a:ext cx="152280" cy="5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8458200" y="2498400"/>
                <a:ext cx="152280" cy="5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458200" y="2556000"/>
                <a:ext cx="152280" cy="5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V="1">
                <a:off x="8458200" y="2612880"/>
                <a:ext cx="152280" cy="5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5400000">
                <a:off x="8480160" y="2648160"/>
                <a:ext cx="28440" cy="7308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8534520" y="233028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077320" y="2286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534520" y="2282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77320" y="2743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534520" y="2693880"/>
              <a:ext cx="1440" cy="49320"/>
            </a:xfrm>
            <a:custGeom>
              <a:avLst/>
              <a:gdLst/>
              <a:ahLst/>
              <a:rect l="l" t="t" r="r" b="b"/>
              <a:pathLst>
                <a:path w="1" h="31">
                  <a:moveTo>
                    <a:pt x="0" y="0"/>
                  </a:moveTo>
                  <a:lnTo>
                    <a:pt x="1" y="3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38280" y="3505320"/>
              <a:ext cx="4724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1981080" y="2819520"/>
              <a:ext cx="457200" cy="304560"/>
              <a:chOff x="1981080" y="2819520"/>
              <a:chExt cx="457200" cy="304560"/>
            </a:xfrm>
          </p:grpSpPr>
          <p:sp>
            <p:nvSpPr>
              <p:cNvPr id="127" name=""/>
              <p:cNvSpPr/>
              <p:nvPr/>
            </p:nvSpPr>
            <p:spPr>
              <a:xfrm>
                <a:off x="2438280" y="28195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981080" y="28195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7162920" y="2819520"/>
              <a:ext cx="457200" cy="304560"/>
              <a:chOff x="7162920" y="2819520"/>
              <a:chExt cx="457200" cy="304560"/>
            </a:xfrm>
          </p:grpSpPr>
          <p:sp>
            <p:nvSpPr>
              <p:cNvPr id="130" name=""/>
              <p:cNvSpPr/>
              <p:nvPr/>
            </p:nvSpPr>
            <p:spPr>
              <a:xfrm>
                <a:off x="7620120" y="28195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162920" y="28195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32" name=""/>
            <p:cNvCxnSpPr>
              <a:stCxn id="131" idx="0"/>
              <a:endCxn id="125" idx="0"/>
            </p:cNvCxnSpPr>
            <p:nvPr/>
          </p:nvCxnSpPr>
          <p:spPr>
            <a:xfrm>
              <a:off x="7159320" y="3120840"/>
              <a:ext cx="3960" cy="384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3" name=""/>
            <p:cNvCxnSpPr>
              <a:stCxn id="127" idx="0"/>
              <a:endCxn id="125" idx="0"/>
            </p:cNvCxnSpPr>
            <p:nvPr/>
          </p:nvCxnSpPr>
          <p:spPr>
            <a:xfrm>
              <a:off x="2435400" y="3120840"/>
              <a:ext cx="3600" cy="384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4" name=""/>
            <p:cNvSpPr/>
            <p:nvPr/>
          </p:nvSpPr>
          <p:spPr>
            <a:xfrm>
              <a:off x="1981080" y="3962520"/>
              <a:ext cx="563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5" name=""/>
            <p:cNvCxnSpPr>
              <a:stCxn id="128" idx="0"/>
              <a:endCxn id="134" idx="0"/>
            </p:cNvCxnSpPr>
            <p:nvPr/>
          </p:nvCxnSpPr>
          <p:spPr>
            <a:xfrm>
              <a:off x="1978200" y="3120840"/>
              <a:ext cx="3600" cy="842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6" name=""/>
            <p:cNvCxnSpPr>
              <a:stCxn id="130" idx="0"/>
              <a:endCxn id="134" idx="1"/>
            </p:cNvCxnSpPr>
            <p:nvPr/>
          </p:nvCxnSpPr>
          <p:spPr>
            <a:xfrm>
              <a:off x="7616520" y="3120840"/>
              <a:ext cx="3960" cy="842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7" name=""/>
            <p:cNvSpPr/>
            <p:nvPr/>
          </p:nvSpPr>
          <p:spPr>
            <a:xfrm>
              <a:off x="3886200" y="3276720"/>
              <a:ext cx="18288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Red</a:t>
              </a:r>
              <a:br>
                <a:rPr sz="1800"/>
              </a:b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Retroaliment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(Ganancia 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29000" y="34290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429000" y="373392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429000" y="35812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895480" y="22096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895480" y="25146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895480" y="23623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095880" y="22096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95880" y="25146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095880" y="236232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001000" y="22096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001000" y="25146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001000" y="23623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2895480" y="1828800"/>
              <a:ext cx="533520" cy="459720"/>
              <a:chOff x="2895480" y="1828800"/>
              <a:chExt cx="533520" cy="459720"/>
            </a:xfrm>
          </p:grpSpPr>
          <p:sp>
            <p:nvSpPr>
              <p:cNvPr id="151" name=""/>
              <p:cNvSpPr/>
              <p:nvPr/>
            </p:nvSpPr>
            <p:spPr>
              <a:xfrm>
                <a:off x="2895480" y="1828800"/>
                <a:ext cx="5335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s-ES_tradn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895480" y="1981440"/>
                <a:ext cx="5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6095880" y="1828800"/>
              <a:ext cx="533520" cy="459720"/>
              <a:chOff x="6095880" y="1828800"/>
              <a:chExt cx="533520" cy="459720"/>
            </a:xfrm>
          </p:grpSpPr>
          <p:sp>
            <p:nvSpPr>
              <p:cNvPr id="154" name=""/>
              <p:cNvSpPr/>
              <p:nvPr/>
            </p:nvSpPr>
            <p:spPr>
              <a:xfrm>
                <a:off x="6095880" y="1828800"/>
                <a:ext cx="5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095880" y="1981440"/>
                <a:ext cx="5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1905120" y="3581280"/>
              <a:ext cx="533160" cy="459720"/>
              <a:chOff x="1905120" y="3581280"/>
              <a:chExt cx="533160" cy="459720"/>
            </a:xfrm>
          </p:grpSpPr>
          <p:sp>
            <p:nvSpPr>
              <p:cNvPr id="157" name=""/>
              <p:cNvSpPr/>
              <p:nvPr/>
            </p:nvSpPr>
            <p:spPr>
              <a:xfrm>
                <a:off x="1905120" y="3581280"/>
                <a:ext cx="5331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s-ES_tradn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905120" y="3733920"/>
                <a:ext cx="53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143000" y="22096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143000" y="25146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143000" y="23623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1143000" y="1828800"/>
              <a:ext cx="533520" cy="459720"/>
              <a:chOff x="1143000" y="1828800"/>
              <a:chExt cx="533520" cy="459720"/>
            </a:xfrm>
          </p:grpSpPr>
          <p:sp>
            <p:nvSpPr>
              <p:cNvPr id="163" name=""/>
              <p:cNvSpPr/>
              <p:nvPr/>
            </p:nvSpPr>
            <p:spPr>
              <a:xfrm>
                <a:off x="1143000" y="1828800"/>
                <a:ext cx="5335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s-ES_tradn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143000" y="1981440"/>
                <a:ext cx="5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001000" y="1828800"/>
              <a:ext cx="533520" cy="459720"/>
              <a:chOff x="8001000" y="1828800"/>
              <a:chExt cx="533520" cy="459720"/>
            </a:xfrm>
          </p:grpSpPr>
          <p:sp>
            <p:nvSpPr>
              <p:cNvPr id="166" name=""/>
              <p:cNvSpPr/>
              <p:nvPr/>
            </p:nvSpPr>
            <p:spPr>
              <a:xfrm>
                <a:off x="8001000" y="1828800"/>
                <a:ext cx="5335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s-ES_tradn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001000" y="1981440"/>
                <a:ext cx="5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Topología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mparad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mparador serie (voltaje): aumenta la impedancia de entrad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mparador paralelo (corriente): reduce la impedancia de entrad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uestread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oltaje: reduce la impedancia de salid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rriente: aumenta la impedancia de salid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d de Retroaliment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Formada usualmente por elementos pasivo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sibles Topologías: cuatro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Combinaciones entre las topologías de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uestra (Voltaje-Corriente) y comparación (Serie- Paralelo)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tación: la topología de feedback se denotará 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Muestra-Compar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jemplo: topología voltaje-serie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toma muestra de voltaje a la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alida y la una parte de esta se ubica en serie al circuito de la entrada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Características Básic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87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lectrónica Analógic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plificador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oltaj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conducta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mpeda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uestreo”: Corriente, Voltaj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aración”: Voltaje (serie), Corriente (paralelo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5181480" y="1981080"/>
            <a:ext cx="3124080" cy="1371600"/>
            <a:chOff x="5181480" y="1981080"/>
            <a:chExt cx="3124080" cy="1371600"/>
          </a:xfrm>
        </p:grpSpPr>
        <p:grpSp>
          <p:nvGrpSpPr>
            <p:cNvPr id="173" name=""/>
            <p:cNvGrpSpPr/>
            <p:nvPr/>
          </p:nvGrpSpPr>
          <p:grpSpPr>
            <a:xfrm>
              <a:off x="5181480" y="1981080"/>
              <a:ext cx="3124080" cy="1371600"/>
              <a:chOff x="5181480" y="1981080"/>
              <a:chExt cx="3124080" cy="1371600"/>
            </a:xfrm>
          </p:grpSpPr>
          <p:grpSp>
            <p:nvGrpSpPr>
              <p:cNvPr id="174" name=""/>
              <p:cNvGrpSpPr/>
              <p:nvPr/>
            </p:nvGrpSpPr>
            <p:grpSpPr>
              <a:xfrm>
                <a:off x="5410080" y="2209680"/>
                <a:ext cx="2895480" cy="1143000"/>
                <a:chOff x="5410080" y="2209680"/>
                <a:chExt cx="2895480" cy="11430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6476760" y="2209680"/>
                  <a:ext cx="914400" cy="45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_tradnl" sz="20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6476760" y="2895480"/>
                  <a:ext cx="914400" cy="45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_tradnl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5714640" y="2253960"/>
                  <a:ext cx="381240" cy="380880"/>
                </a:xfrm>
                <a:prstGeom prst="flowChartSummingJunction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78" name=""/>
                <p:cNvCxnSpPr>
                  <a:stCxn id="177" idx="4"/>
                  <a:endCxn id="176" idx="1"/>
                </p:cNvCxnSpPr>
                <p:nvPr/>
              </p:nvCxnSpPr>
              <p:spPr>
                <a:xfrm flipH="1" rot="16200000">
                  <a:off x="5945760" y="2593080"/>
                  <a:ext cx="489600" cy="572040"/>
                </a:xfrm>
                <a:prstGeom prst="bentConnector2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</p:cxnSp>
            <p:cxnSp>
              <p:nvCxnSpPr>
                <p:cNvPr id="179" name=""/>
                <p:cNvCxnSpPr>
                  <a:stCxn id="177" idx="6"/>
                  <a:endCxn id="175" idx="1"/>
                </p:cNvCxnSpPr>
                <p:nvPr/>
              </p:nvCxnSpPr>
              <p:spPr>
                <a:xfrm flipV="1">
                  <a:off x="6095880" y="2437560"/>
                  <a:ext cx="381600" cy="68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180" name=""/>
                <p:cNvSpPr/>
                <p:nvPr/>
              </p:nvSpPr>
              <p:spPr>
                <a:xfrm>
                  <a:off x="7391160" y="243828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81" name=""/>
                <p:cNvCxnSpPr>
                  <a:stCxn id="176" idx="3"/>
                  <a:endCxn id="180" idx="0"/>
                </p:cNvCxnSpPr>
                <p:nvPr/>
              </p:nvCxnSpPr>
              <p:spPr>
                <a:xfrm flipV="1">
                  <a:off x="7391160" y="2437560"/>
                  <a:ext cx="457920" cy="686520"/>
                </a:xfrm>
                <a:prstGeom prst="bentConnector2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</p:cxnSp>
            <p:sp>
              <p:nvSpPr>
                <p:cNvPr id="182" name=""/>
                <p:cNvSpPr/>
                <p:nvPr/>
              </p:nvSpPr>
              <p:spPr>
                <a:xfrm>
                  <a:off x="5410080" y="2438280"/>
                  <a:ext cx="304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7848360" y="243828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lg" type="oval" w="lg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4" name=""/>
              <p:cNvSpPr/>
              <p:nvPr/>
            </p:nvSpPr>
            <p:spPr>
              <a:xfrm>
                <a:off x="7543440" y="1981080"/>
                <a:ext cx="6858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s-ES_tradn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181480" y="1981080"/>
                <a:ext cx="6858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s-ES_tradn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943240" y="1981080"/>
                <a:ext cx="6858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s-ES_tradn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867280" y="2666880"/>
                <a:ext cx="6858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s-ES_tradn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486040" y="2025360"/>
              <a:ext cx="838440" cy="826560"/>
              <a:chOff x="5486040" y="2025360"/>
              <a:chExt cx="838440" cy="826560"/>
            </a:xfrm>
          </p:grpSpPr>
          <p:sp>
            <p:nvSpPr>
              <p:cNvPr id="189" name=""/>
              <p:cNvSpPr/>
              <p:nvPr/>
            </p:nvSpPr>
            <p:spPr>
              <a:xfrm>
                <a:off x="5486040" y="202536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867280" y="251460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5410080" y="3581280"/>
                <a:ext cx="15242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7315200" y="3581280"/>
                <a:ext cx="10461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β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122800" y="4267080"/>
                <a:ext cx="364032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β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Efecto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Ganancia Lazo Cerrad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 A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&gt;1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1/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 ganancia se estabiliza (antes variaba bastante, ahora es tan estable como lo es la red de retroalimentación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ejora la Linealidad!!!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mpedanci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jemplo: Amplificador de Voltaje con retroalimentación voltaje-seri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entrada aumenta: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f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(1+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salida disminuye: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f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/(1+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5715000" y="2057400"/>
                <a:ext cx="230040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97" name=""/>
          <p:cNvGrpSpPr/>
          <p:nvPr/>
        </p:nvGrpSpPr>
        <p:grpSpPr>
          <a:xfrm>
            <a:off x="5029200" y="3048120"/>
            <a:ext cx="3733920" cy="3120840"/>
            <a:chOff x="5029200" y="3048120"/>
            <a:chExt cx="3733920" cy="3120840"/>
          </a:xfrm>
        </p:grpSpPr>
        <p:grpSp>
          <p:nvGrpSpPr>
            <p:cNvPr id="198" name=""/>
            <p:cNvGrpSpPr/>
            <p:nvPr/>
          </p:nvGrpSpPr>
          <p:grpSpPr>
            <a:xfrm>
              <a:off x="5349960" y="3048120"/>
              <a:ext cx="3057480" cy="2322360"/>
              <a:chOff x="5349960" y="3048120"/>
              <a:chExt cx="3057480" cy="2322360"/>
            </a:xfrm>
          </p:grpSpPr>
          <p:pic>
            <p:nvPicPr>
              <p:cNvPr id="19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349960" y="3557520"/>
                <a:ext cx="3057480" cy="1280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655960" y="3048120"/>
                <a:ext cx="2548080" cy="2322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1" name=""/>
            <p:cNvSpPr/>
            <p:nvPr/>
          </p:nvSpPr>
          <p:spPr>
            <a:xfrm>
              <a:off x="6568920" y="4303800"/>
              <a:ext cx="304920" cy="28404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680160" y="4267080"/>
              <a:ext cx="1066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(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 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527880" y="4284720"/>
              <a:ext cx="40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527880" y="4398840"/>
              <a:ext cx="40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29200" y="3365640"/>
              <a:ext cx="609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029200" y="4495680"/>
              <a:ext cx="609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019920" y="3962520"/>
              <a:ext cx="736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(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 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-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08560" y="4029120"/>
              <a:ext cx="1066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32440" y="3809880"/>
              <a:ext cx="1067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477120" y="3084480"/>
              <a:ext cx="88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pos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&gt;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77120" y="5065560"/>
              <a:ext cx="934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neg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&lt;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426360" y="5154480"/>
              <a:ext cx="101520" cy="9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426360" y="3170160"/>
              <a:ext cx="101520" cy="93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477120" y="3198960"/>
              <a:ext cx="0" cy="23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77120" y="4975200"/>
              <a:ext cx="0" cy="23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153280" y="3925800"/>
              <a:ext cx="609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105520" y="3935520"/>
              <a:ext cx="571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6629400" y="5638680"/>
              <a:ext cx="914400" cy="530280"/>
              <a:chOff x="6629400" y="5638680"/>
              <a:chExt cx="914400" cy="530280"/>
            </a:xfrm>
          </p:grpSpPr>
          <p:grpSp>
            <p:nvGrpSpPr>
              <p:cNvPr id="219" name=""/>
              <p:cNvGrpSpPr/>
              <p:nvPr/>
            </p:nvGrpSpPr>
            <p:grpSpPr>
              <a:xfrm>
                <a:off x="7010280" y="5867280"/>
                <a:ext cx="141480" cy="301680"/>
                <a:chOff x="7010280" y="5867280"/>
                <a:chExt cx="141480" cy="30168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7010280" y="6106320"/>
                  <a:ext cx="141480" cy="62640"/>
                  <a:chOff x="7010280" y="6106320"/>
                  <a:chExt cx="141480" cy="6264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7010280" y="6106320"/>
                    <a:ext cx="1414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7033680" y="6137640"/>
                    <a:ext cx="94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7057080" y="6168960"/>
                    <a:ext cx="47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4" name=""/>
                <p:cNvSpPr/>
                <p:nvPr/>
              </p:nvSpPr>
              <p:spPr>
                <a:xfrm>
                  <a:off x="7083000" y="5870880"/>
                  <a:ext cx="0" cy="235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044120" y="5867280"/>
                  <a:ext cx="8028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6" name=""/>
              <p:cNvSpPr/>
              <p:nvPr/>
            </p:nvSpPr>
            <p:spPr>
              <a:xfrm>
                <a:off x="6629400" y="5638680"/>
                <a:ext cx="91440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27" name=""/>
            <p:cNvCxnSpPr>
              <a:stCxn id="199" idx="3"/>
              <a:endCxn id="226" idx="3"/>
            </p:cNvCxnSpPr>
            <p:nvPr/>
          </p:nvCxnSpPr>
          <p:spPr>
            <a:xfrm flipH="1">
              <a:off x="7543080" y="4199040"/>
              <a:ext cx="864360" cy="1629360"/>
            </a:xfrm>
            <a:prstGeom prst="bentConnector3">
              <a:avLst>
                <a:gd name="adj1" fmla="val -2645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26" idx="1"/>
              <a:endCxn id="206" idx="2"/>
            </p:cNvCxnSpPr>
            <p:nvPr/>
          </p:nvCxnSpPr>
          <p:spPr>
            <a:xfrm rot="10800000">
              <a:off x="5333400" y="4799880"/>
              <a:ext cx="1296000" cy="1027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Efecto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mpedancias: Gener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 variable “muestreada” mejora su desempeño (Salid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uestreo voltaj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mpedancia de salida men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uestreo corrient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mpedancia de salida may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 variable “comparada” mejora su desempeño (Entrad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rie (voltaje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mpedancia de entrada may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lelo (corriente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mpedancia de entrada men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4648320" y="1752480"/>
                <a:ext cx="4438440" cy="12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β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β</m:t>
                                </m:r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5213520" y="3048120"/>
                <a:ext cx="336996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≡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f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A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&gt;&gt;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5257800" y="4114800"/>
                <a:ext cx="339264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β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ut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5398920" y="5040360"/>
                <a:ext cx="316404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den>
                    </m:f>
                    <m:r>
                      <m:t xml:space="preserve">≡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A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&lt;&lt;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7T02:28:57Z</dcterms:created>
  <dc:creator>Domingo Morales Lizama</dc:creator>
  <dc:description/>
  <dc:language>en-US</dc:language>
  <cp:lastModifiedBy>Depto. Ing. Electrica</cp:lastModifiedBy>
  <dcterms:modified xsi:type="dcterms:W3CDTF">2003-10-22T14:43:44Z</dcterms:modified>
  <cp:revision>895</cp:revision>
  <dc:subject>Retroalimentación (I)</dc:subject>
  <dc:title>Clase 19</dc:title>
</cp:coreProperties>
</file>