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3C87-4358-45EC-A71F-A046F09BB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8F2A-EA6A-433D-8EAB-D88EB5C5B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C2DE-8A1F-4AF4-9C8D-58799CB08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8D14-525A-4432-BB3A-30C8E271E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4FD-4225-4BBB-B007-1893B784AF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526-26D3-424F-B3E4-BE07C0E74B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900-C50E-492D-B44E-5B411B5F82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A0E-5D2F-4EC5-8AA5-22DEE30B03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ACF-6402-460A-89AC-9A4ECAD803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CD4-F2C1-4813-90B2-94C8AB0CE1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F2F-69F0-42DE-8B6D-714F1A0F0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A389-225E-43E2-BC21-E05D2DB65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034-CAE9-47FB-BEE8-49742C2D62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7EE-CCA9-4E69-BB49-89DA5A4058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7C6-EF35-4F6F-9097-99F45E359A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C64-1F99-4BF3-A448-13A9434088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3DD-42A9-4AA2-AA18-743BCE067F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E0DD-21E0-448B-B706-F62279025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9012-1F6D-40E4-9AA3-85EF69B1F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5DAF-69E2-4E13-9574-9CA10B23B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3956-D785-4398-A4B2-1448ADCC1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3369-01AC-40EE-924B-3B9AAC326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DE4F-146F-4961-8B84-22028DAC0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6436-8FAD-41E2-B982-1344941A2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1F5E-A674-44ED-AF6F-81EF79CAC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89B5-D827-4B78-9E2F-3337D772C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cho de Banda Aumen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ducto Gain-Bandwidth permanece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28800" y="2743200"/>
                <a:ext cx="194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6095880" y="4724280"/>
            <a:ext cx="2880000" cy="1684440"/>
            <a:chOff x="6095880" y="4724280"/>
            <a:chExt cx="2880000" cy="168444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28800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92960" y="545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42520" y="527184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8200" y="5470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0800" y="525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3533760"/>
                <a:ext cx="5257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1040" y="4343400"/>
                <a:ext cx="5175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44520" y="5064120"/>
                <a:ext cx="3022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410080" y="1447920"/>
            <a:ext cx="3733920" cy="3120840"/>
            <a:chOff x="5410080" y="1447920"/>
            <a:chExt cx="3733920" cy="3120840"/>
          </a:xfrm>
        </p:grpSpPr>
        <p:grpSp>
          <p:nvGrpSpPr>
            <p:cNvPr id="248" name=""/>
            <p:cNvGrpSpPr/>
            <p:nvPr/>
          </p:nvGrpSpPr>
          <p:grpSpPr>
            <a:xfrm>
              <a:off x="5730840" y="1447920"/>
              <a:ext cx="3057480" cy="2322360"/>
              <a:chOff x="5730840" y="1447920"/>
              <a:chExt cx="3057480" cy="23223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0840" y="19573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6840" y="14479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1" name=""/>
            <p:cNvSpPr/>
            <p:nvPr/>
          </p:nvSpPr>
          <p:spPr>
            <a:xfrm>
              <a:off x="6949800" y="27036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1040" y="26668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8760" y="26845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8760" y="27986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17654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895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3623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9440" y="24289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320" y="22096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4842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0" y="34653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35542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07240" y="15699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1598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3750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4160" y="23256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23353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10280" y="4038480"/>
              <a:ext cx="914400" cy="530280"/>
              <a:chOff x="7010280" y="4038480"/>
              <a:chExt cx="914400" cy="53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391160" y="4267080"/>
                <a:ext cx="141480" cy="301680"/>
                <a:chOff x="7391160" y="4267080"/>
                <a:chExt cx="141480" cy="30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7391160" y="4506120"/>
                  <a:ext cx="141480" cy="62640"/>
                  <a:chOff x="7391160" y="4506120"/>
                  <a:chExt cx="141480" cy="626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7391160" y="45061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14560" y="45374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437960" y="45687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463880" y="42706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25000" y="42670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10280" y="40384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7" name=""/>
            <p:cNvCxnSpPr>
              <a:stCxn id="249" idx="3"/>
              <a:endCxn id="276" idx="3"/>
            </p:cNvCxnSpPr>
            <p:nvPr/>
          </p:nvCxnSpPr>
          <p:spPr>
            <a:xfrm flipH="1">
              <a:off x="7923960" y="25988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76" idx="1"/>
              <a:endCxn id="256" idx="2"/>
            </p:cNvCxnSpPr>
            <p:nvPr/>
          </p:nvCxnSpPr>
          <p:spPr>
            <a:xfrm rot="10800000">
              <a:off x="5714280" y="31996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duce Ganancia respectiva y puede hacerse muy estable (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&gt;&gt;1 ganancia ~ 1/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: Variaciones en temperatura, Diferencias entre componentes (matching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to “Gain-Bandwidth” permanece consta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 las impedancias de entrada y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 la config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tal forma que el efecto es “deseabl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jemp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ejo de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impedancia por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2160" y="1980720"/>
            <a:ext cx="289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 E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, retroalimentación corrient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la impedancia mirando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12408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5638680"/>
                <a:ext cx="1917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26120" y="1600200"/>
            <a:ext cx="1889280" cy="29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4572000"/>
                <a:ext cx="3230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987880" y="5334120"/>
                <a:ext cx="2683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rel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&gt;&gt; 1 se cumple para un amplio rango de frecue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(1/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 ¿Cómo opera el OPAMP Retroalimentad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exige que el OPAMP este 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baja en la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gla de oro 1”: Los terminales de entrada del OPAMP se mantienen con voltajes “iguales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camb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(algo)-serie aumenta impedancia de entrad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“Regla de oro 2”: Corriente en la entrada diferencial es despreci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Buffer de Voltaj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es en la entrada diferencial a “igual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crec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 lo tanto es un buffe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uede superar los voltajes de 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Buffer Opera para voltajes de entrada estrictamente comprendidos en el rango impuesto por la 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uede cambiar más rápido que la Slew Ra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Restricción a la máxima componente de frecuencia a la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722920" y="1828800"/>
            <a:ext cx="3116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43200" cy="236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Gana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ta de mantener los pin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+” y “-” al mismo potencial (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e revisará en Análisis Transitori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2280" y="320040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001000" y="3870360"/>
                <a:ext cx="1066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5867280" y="3930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67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tricciones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15280" y="5029200"/>
                <a:ext cx="1942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5486400"/>
                <a:ext cx="1695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43680" y="4572000"/>
                <a:ext cx="1352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089240" y="2895480"/>
                <a:ext cx="1016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92360" y="3352680"/>
                <a:ext cx="745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63920" y="3276720"/>
                <a:ext cx="2219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10040" y="3208320"/>
                <a:ext cx="225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a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0" y="3886200"/>
            <a:ext cx="6095880" cy="2673360"/>
            <a:chOff x="0" y="3886200"/>
            <a:chExt cx="6095880" cy="267336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0" y="3886200"/>
              <a:ext cx="60958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33520" y="4267080"/>
              <a:ext cx="2590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realizado con PSPICE: </a:t>
              </a:r>
              <a:br>
                <a:rPr sz="1400"/>
              </a:b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“DC Sweep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s 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minución ganancia: (9200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1: factor ~ 84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ancho de banda: (frecuencia de corte 10 Hz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92KHz: factor ~ 92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6781680" cy="289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5486400" cy="21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38880" y="3809880"/>
                <a:ext cx="1289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781680" y="52862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Gain- Bandwidth” ~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705720" y="4554360"/>
                <a:ext cx="2355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4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Retroaliment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Abiert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“voltaje-seri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05520" y="1828800"/>
            <a:ext cx="3573360" cy="2610000"/>
            <a:chOff x="5105520" y="1828800"/>
            <a:chExt cx="3573360" cy="2610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5105520" y="1828800"/>
              <a:ext cx="3573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91320" y="22860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222408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867280" y="4495680"/>
                <a:ext cx="2667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92600" y="4876920"/>
                <a:ext cx="3218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04920" y="4784760"/>
            <a:ext cx="5105160" cy="1539720"/>
            <a:chOff x="304920" y="4784760"/>
            <a:chExt cx="5105160" cy="1539720"/>
          </a:xfrm>
        </p:grpSpPr>
        <p:sp>
          <p:nvSpPr>
            <p:cNvPr id="327" name=""/>
            <p:cNvSpPr/>
            <p:nvPr/>
          </p:nvSpPr>
          <p:spPr>
            <a:xfrm>
              <a:off x="990720" y="4784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7847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4954680"/>
              <a:ext cx="457200" cy="4572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595600" y="4871880"/>
                  <a:ext cx="752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514600" y="5716440"/>
                  <a:ext cx="9874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332" name=""/>
            <p:cNvCxnSpPr>
              <a:stCxn id="329" idx="6"/>
            </p:cNvCxnSpPr>
            <p:nvPr/>
          </p:nvCxnSpPr>
          <p:spPr>
            <a:xfrm flipV="1">
              <a:off x="1828800" y="5176440"/>
              <a:ext cx="7675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endCxn id="329" idx="2"/>
            </p:cNvCxnSpPr>
            <p:nvPr/>
          </p:nvCxnSpPr>
          <p:spPr>
            <a:xfrm>
              <a:off x="761760" y="5181120"/>
              <a:ext cx="6102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3348000" y="5176800"/>
              <a:ext cx="154800" cy="845280"/>
            </a:xfrm>
            <a:prstGeom prst="bentConnector3">
              <a:avLst>
                <a:gd name="adj1" fmla="val 5937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endCxn id="329" idx="4"/>
            </p:cNvCxnSpPr>
            <p:nvPr/>
          </p:nvCxnSpPr>
          <p:spPr>
            <a:xfrm rot="10800000">
              <a:off x="1599480" y="5411160"/>
              <a:ext cx="91512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143000" y="5333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5073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5680" y="50734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4705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0960" y="51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plica señal escal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input (0.1V, Td=20ns, Tr=100n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égimen Transitori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e toma tiempo al Opamp responder a la señal (no “detecta” inicialmente la retroalimentac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lpable: Retrasos asociados a los dispositivos que conforman el OPAMP + Slew R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410080" y="167940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477120" y="5410080"/>
            <a:ext cx="2590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realizado con PSPICE: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“Transi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lcanza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bia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“lazo cerrado” &lt;&lt; “lazo abiert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038480" y="4038480"/>
            <a:ext cx="2971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égimen permane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“lazo cerrado”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in “-” iguala al pin “+”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.235m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tiene qu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0" y="3535200"/>
            <a:ext cx="7284960" cy="3170520"/>
            <a:chOff x="0" y="3535200"/>
            <a:chExt cx="7284960" cy="31705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3535200"/>
              <a:ext cx="72849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962520" y="4800600"/>
              <a:ext cx="297180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égimen permanente: </a:t>
              </a:r>
              <a:br>
                <a:rPr sz="1600"/>
              </a:b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Bias  implica diferencia respecto al valor 11*100 mV=1.1 V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AMP tiene tiempo de respuesta ~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aplica Vinput (0.1V, Td=20ns,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r=20u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“no se retrasa en responder”, a diferencia de cuando tenía Tr=100ns=0.1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azón: “se da cuenta” tempranamente que exist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7391520" cy="317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0400" y="3714840"/>
            <a:ext cx="3886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abrica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ndica la “slew-rate” del Opamp. Esta entrega la máxima tasa de crecimiento de la entrada que el Opamp es capaz de seguir.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alor Típico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V 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1: Fuente de Corri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versor Voltaje a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os operacionales tienen retroalimentación negativ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ines a igual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circula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ambién (alta impedancia OPAMP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iene voltaj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263840" cy="432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29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3809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con d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ñales deben superar 0.6V: No 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Activ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o de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Útil en aplicacion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propuesta no considera el efecto de la Slew R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conmutación del diodo es impor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6483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095880" y="1427040"/>
            <a:ext cx="29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8381880" cy="4549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1676520" y="37335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4197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la Slew Ra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¿Qué lo provoca?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spuest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odo “lento” (1N4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38080" y="441972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fecto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342864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648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 kHz, diodo 1N4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. Solu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 + saturación negativa de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: Cambiar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: Evitar que la salida “baje” tanto: Diodo D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2416320"/>
            <a:ext cx="5410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: Solu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8077320" cy="438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943600" y="14526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2280" y="181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ulación PSPICE: f=100 kHz (Notar cambio de 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características d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: Ideales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analizar en forma simple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s de entrada despreci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entrada diferencial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ociadas a características reales de los OPAMPs y los dispositivos existentes en los lazos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los efectos de la retroalimentación negati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aplicaciones bás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ner atención a las limitaciones de los dispositivos y su efecto en los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ermite alterar comportamiento de amplif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 de entrada-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, respuesta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dos “sabor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Entrega señal diferencia entre entrada y la señal retroaliment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dor Básico (puede ser 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eador: Recoje una “muestra” de la señal en la etapa de sali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d Retroalimentación: Toma la muestra de la señal de salida y la amplific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 Entrega al comparador la señal d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1828800"/>
            <a:ext cx="8839440" cy="2362320"/>
            <a:chOff x="152280" y="1828800"/>
            <a:chExt cx="8839440" cy="2362320"/>
          </a:xfrm>
        </p:grpSpPr>
        <p:sp>
          <p:nvSpPr>
            <p:cNvPr id="99" name=""/>
            <p:cNvSpPr/>
            <p:nvPr/>
          </p:nvSpPr>
          <p:spPr>
            <a:xfrm>
              <a:off x="152280" y="22096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209680"/>
              <a:ext cx="1219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mpa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81080"/>
              <a:ext cx="25146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mplificador 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anancia lazo abierto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2209680"/>
              <a:ext cx="1371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uestre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43000" y="2286000"/>
              <a:ext cx="456840" cy="457200"/>
              <a:chOff x="1143000" y="2286000"/>
              <a:chExt cx="456840" cy="457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286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2743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19520" y="2286000"/>
              <a:ext cx="685080" cy="457200"/>
              <a:chOff x="2819520" y="2286000"/>
              <a:chExt cx="685080" cy="45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28195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195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019920" y="2286000"/>
              <a:ext cx="685080" cy="457200"/>
              <a:chOff x="6019920" y="2286000"/>
              <a:chExt cx="6850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199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457840" y="2362320"/>
              <a:ext cx="152640" cy="336600"/>
              <a:chOff x="8457840" y="2362320"/>
              <a:chExt cx="152640" cy="33660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8562240" y="233676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458200" y="23842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58200" y="2441880"/>
                <a:ext cx="1522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458200" y="24984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58200" y="25560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458200" y="26128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8480160" y="264816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534520" y="23302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2282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34520" y="269388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50532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81080" y="2819520"/>
              <a:ext cx="457200" cy="304560"/>
              <a:chOff x="1981080" y="2819520"/>
              <a:chExt cx="457200" cy="30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24382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162920" y="2819520"/>
              <a:ext cx="457200" cy="304560"/>
              <a:chOff x="7162920" y="2819520"/>
              <a:chExt cx="45720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201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31" idx="0"/>
              <a:endCxn id="125" idx="0"/>
            </p:cNvCxnSpPr>
            <p:nvPr/>
          </p:nvCxnSpPr>
          <p:spPr>
            <a:xfrm>
              <a:off x="7159320" y="3120840"/>
              <a:ext cx="396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7" idx="0"/>
              <a:endCxn id="125" idx="0"/>
            </p:cNvCxnSpPr>
            <p:nvPr/>
          </p:nvCxnSpPr>
          <p:spPr>
            <a:xfrm>
              <a:off x="2435400" y="3120840"/>
              <a:ext cx="360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1981080" y="39625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8" idx="0"/>
              <a:endCxn id="134" idx="0"/>
            </p:cNvCxnSpPr>
            <p:nvPr/>
          </p:nvCxnSpPr>
          <p:spPr>
            <a:xfrm>
              <a:off x="1978200" y="3120840"/>
              <a:ext cx="360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0" idx="0"/>
              <a:endCxn id="134" idx="1"/>
            </p:cNvCxnSpPr>
            <p:nvPr/>
          </p:nvCxnSpPr>
          <p:spPr>
            <a:xfrm>
              <a:off x="7616520" y="3120840"/>
              <a:ext cx="396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3886200" y="327672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Ganancia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2362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1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01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95480" y="1828800"/>
              <a:ext cx="533520" cy="459720"/>
              <a:chOff x="2895480" y="1828800"/>
              <a:chExt cx="53352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9548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954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95880" y="1828800"/>
              <a:ext cx="533520" cy="459720"/>
              <a:chOff x="6095880" y="1828800"/>
              <a:chExt cx="533520" cy="459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5880" y="18288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05120" y="3581280"/>
              <a:ext cx="533160" cy="459720"/>
              <a:chOff x="1905120" y="3581280"/>
              <a:chExt cx="533160" cy="45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1905120" y="358128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05120" y="37339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143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43000" y="1828800"/>
              <a:ext cx="533520" cy="459720"/>
              <a:chOff x="1143000" y="1828800"/>
              <a:chExt cx="53352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43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3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001000" y="1828800"/>
              <a:ext cx="533520" cy="459720"/>
              <a:chOff x="8001000" y="1828800"/>
              <a:chExt cx="533520" cy="45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8001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serie (voltaje): aumenta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paralelo (corriente): reduce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: reduce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: aumenta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ormada usualmente por elementos pasiv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bles Topologías: cuatr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Combinaciones entre las topologías d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a (Voltaje-Corriente) y comparación (Serie- Paralelo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ción: la topología de feedback se denotará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uestra-Compa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topología voltaje-seri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toma muestra de voltaje a l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lida y la una parte de esta se ubica en serie al circuito de la entrad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estreo”: Corriente,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”: Voltaje (serie), Corriente (paralel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81480" y="1981080"/>
            <a:ext cx="3124080" cy="1371600"/>
            <a:chOff x="5181480" y="1981080"/>
            <a:chExt cx="3124080" cy="1371600"/>
          </a:xfrm>
        </p:grpSpPr>
        <p:grpSp>
          <p:nvGrpSpPr>
            <p:cNvPr id="173" name=""/>
            <p:cNvGrpSpPr/>
            <p:nvPr/>
          </p:nvGrpSpPr>
          <p:grpSpPr>
            <a:xfrm>
              <a:off x="5181480" y="1981080"/>
              <a:ext cx="3124080" cy="1371600"/>
              <a:chOff x="5181480" y="1981080"/>
              <a:chExt cx="3124080" cy="1371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10080" y="2209680"/>
                <a:ext cx="2895480" cy="1143000"/>
                <a:chOff x="5410080" y="2209680"/>
                <a:chExt cx="2895480" cy="1143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6760" y="22096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6760" y="28954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4640" y="225396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6" idx="1"/>
                </p:cNvCxnSpPr>
                <p:nvPr/>
              </p:nvCxnSpPr>
              <p:spPr>
                <a:xfrm flipH="1" rot="16200000">
                  <a:off x="5945760" y="2593080"/>
                  <a:ext cx="489600" cy="5720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79" name=""/>
                <p:cNvCxnSpPr>
                  <a:stCxn id="177" idx="6"/>
                  <a:endCxn id="175" idx="1"/>
                </p:cNvCxnSpPr>
                <p:nvPr/>
              </p:nvCxnSpPr>
              <p:spPr>
                <a:xfrm flipV="1">
                  <a:off x="6095880" y="2437560"/>
                  <a:ext cx="381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80" name=""/>
                <p:cNvSpPr/>
                <p:nvPr/>
              </p:nvSpPr>
              <p:spPr>
                <a:xfrm>
                  <a:off x="73911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1" name=""/>
                <p:cNvCxnSpPr>
                  <a:stCxn id="176" idx="3"/>
                  <a:endCxn id="180" idx="0"/>
                </p:cNvCxnSpPr>
                <p:nvPr/>
              </p:nvCxnSpPr>
              <p:spPr>
                <a:xfrm flipV="1">
                  <a:off x="7391160" y="2437560"/>
                  <a:ext cx="457920" cy="6865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82" name=""/>
                <p:cNvSpPr/>
                <p:nvPr/>
              </p:nvSpPr>
              <p:spPr>
                <a:xfrm>
                  <a:off x="5410080" y="2438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483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5434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2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26668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040" y="2025360"/>
              <a:ext cx="838440" cy="826560"/>
              <a:chOff x="5486040" y="2025360"/>
              <a:chExt cx="838440" cy="82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5486040" y="2025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25146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10080" y="3581280"/>
                <a:ext cx="1524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15200" y="3581280"/>
                <a:ext cx="104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22800" y="4267080"/>
                <a:ext cx="3640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 Lazo Cerr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1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ganancia se estabiliza (antes variaba bastante, ahora es tan estable como lo es la red de retro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la Linealidad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Amplificador de Voltaje con retroalimentación voltaj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umenta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5000" y="2057400"/>
                <a:ext cx="2300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029200" y="3048120"/>
            <a:ext cx="3733920" cy="3120840"/>
            <a:chOff x="5029200" y="3048120"/>
            <a:chExt cx="3733920" cy="3120840"/>
          </a:xfrm>
        </p:grpSpPr>
        <p:grpSp>
          <p:nvGrpSpPr>
            <p:cNvPr id="198" name=""/>
            <p:cNvGrpSpPr/>
            <p:nvPr/>
          </p:nvGrpSpPr>
          <p:grpSpPr>
            <a:xfrm>
              <a:off x="5349960" y="3048120"/>
              <a:ext cx="3057480" cy="2322360"/>
              <a:chOff x="5349960" y="3048120"/>
              <a:chExt cx="3057480" cy="232236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49960" y="35575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5960" y="30481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6568920" y="43038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160" y="42670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7880" y="42847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7880" y="43988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33656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4956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9625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8560" y="40291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2440" y="38098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30844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50655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26360" y="51544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6360" y="31701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1989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49752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39258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9355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629400" y="5638680"/>
              <a:ext cx="914400" cy="530280"/>
              <a:chOff x="6629400" y="5638680"/>
              <a:chExt cx="914400" cy="5302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010280" y="5867280"/>
                <a:ext cx="141480" cy="301680"/>
                <a:chOff x="7010280" y="5867280"/>
                <a:chExt cx="141480" cy="301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010280" y="6106320"/>
                  <a:ext cx="141480" cy="62640"/>
                  <a:chOff x="7010280" y="6106320"/>
                  <a:chExt cx="141480" cy="6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010280" y="61063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3680" y="61376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57080" y="61689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7083000" y="58708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44120" y="58672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6629400" y="56386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7" name=""/>
            <p:cNvCxnSpPr>
              <a:stCxn id="199" idx="3"/>
              <a:endCxn id="226" idx="3"/>
            </p:cNvCxnSpPr>
            <p:nvPr/>
          </p:nvCxnSpPr>
          <p:spPr>
            <a:xfrm flipH="1">
              <a:off x="7543080" y="41990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6" idx="1"/>
              <a:endCxn id="206" idx="2"/>
            </p:cNvCxnSpPr>
            <p:nvPr/>
          </p:nvCxnSpPr>
          <p:spPr>
            <a:xfrm rot="10800000">
              <a:off x="5333400" y="47998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: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muestreada” mejora su desempeño (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comparada” mejora su desempeño (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rie (voltaj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lelo (corrient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8320" y="1752480"/>
                <a:ext cx="4438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13520" y="3048120"/>
                <a:ext cx="33699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4114800"/>
                <a:ext cx="3392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398920" y="5040360"/>
                <a:ext cx="3164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3:44Z</dcterms:modified>
  <cp:revision>895</cp:revision>
  <dc:subject>Retroalimentación (I)</dc:subject>
  <dc:title>Clase 19</dc:title>
</cp:coreProperties>
</file>