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7EE0-1C63-4F78-8098-324934E90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9E7A-A886-4D93-96AD-D55539720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3C64-1AA2-45BC-BAB2-EA15C9BB9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F6AF-FAB2-4312-848C-829B109B7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9E1-95AB-4F7C-A369-5FDD2B8507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64E-4AA7-4FB7-BDB9-3917BF81C8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39A-DF4B-426F-9858-7172CD0E28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6B8-CBBD-4591-BC3A-F98A5AC5EE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B59-D7C3-4C60-B88D-8918356F84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9AC-C426-478C-8A13-B77288B597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D75-5B4A-4258-8D06-BFF1BACA06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253D-893E-4CD1-9DCC-FD999E2DE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ACE-8ABB-4E17-A162-12972E39F1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52A-15B1-4177-BB85-B07AA9CCD8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D50-6BB6-40D1-96EF-EB01D9021D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B5A-507E-4A92-837D-3B5569A534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780-276C-47D4-8732-5AAAA5147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230A-80E6-4ED1-A899-B61C2315F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DF5E-9263-4871-BF0D-4F64465EE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CCC9-2FD0-4BBF-A6CC-65A03491B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29E9-85B5-4908-980E-FC6B4F567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3BB5-029D-4658-8F26-4F2458953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18D2-F03B-4737-AB2C-327910FAD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C284-B2EB-4AA7-A82E-2114F3C7A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967E-5B95-4106-829C-3FA2370AE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5E01-1CD8-4212-ADC7-48F1BF551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tal: Transistores con buen Match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28800" y="3048120"/>
                <a:ext cx="131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08240" y="3657600"/>
                <a:ext cx="2349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66680" y="4343400"/>
                <a:ext cx="2938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84280" y="5181480"/>
                <a:ext cx="2131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648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Ganancia g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2583000"/>
            <a:ext cx="7315200" cy="39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72000" y="4800600"/>
                <a:ext cx="1371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025720" y="4343400"/>
                <a:ext cx="1357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62120" y="393048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ndiente en la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172200" y="2819520"/>
            <a:ext cx="2895120" cy="3124080"/>
            <a:chOff x="6172200" y="2819520"/>
            <a:chExt cx="2895120" cy="312408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6199200" y="2819520"/>
              <a:ext cx="28681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172200" y="4253040"/>
              <a:ext cx="400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4560" y="3620160"/>
              <a:ext cx="601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47200" y="4253040"/>
              <a:ext cx="400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50640" y="4582080"/>
              <a:ext cx="20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1760" y="3963240"/>
              <a:ext cx="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164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4360" y="3674160"/>
              <a:ext cx="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04080" y="3620160"/>
              <a:ext cx="5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4360" y="39402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0408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04560" y="399384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54440" y="3940200"/>
              <a:ext cx="501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51480" y="3124080"/>
                <a:ext cx="1412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o Diferencial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permanece Fijo en –0.7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4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¿Factible?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1V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odos los transistores en activ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negativ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 (corriente “más negativa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495680" cy="3859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722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5835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5440" y="5459400"/>
                <a:ext cx="1385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70160" y="5459400"/>
                <a:ext cx="1311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36840" y="5840280"/>
                <a:ext cx="1404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 de Salid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436840"/>
            <a:ext cx="7238880" cy="4040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486400" y="3068640"/>
            <a:ext cx="3352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iferenci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viene tener Corrientes “pequeñas” (Importancia de espejos de corriente Wilso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57800" y="2057400"/>
            <a:ext cx="3878280" cy="3995640"/>
            <a:chOff x="5257800" y="2057400"/>
            <a:chExt cx="3878280" cy="399564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5410080" y="2057400"/>
              <a:ext cx="3726000" cy="39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257800" y="434340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560" y="380988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9120" y="373392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149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293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328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5360" y="4191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3800" y="4191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06360" y="3201840"/>
                <a:ext cx="1155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882880" y="3184560"/>
                <a:ext cx="2222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359000" y="3809880"/>
                <a:ext cx="3746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457200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00, T=300 º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00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Adicion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 Darlington (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jempl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en factor 100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tapa Diferencial 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4 y Q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parale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de Polariz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0" y="1981080"/>
            <a:ext cx="4266720" cy="4152960"/>
            <a:chOff x="4572000" y="1981080"/>
            <a:chExt cx="4266720" cy="415296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4711680" y="1981080"/>
              <a:ext cx="400176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572000" y="36151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89680" y="3045960"/>
              <a:ext cx="83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78200" y="37555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0600" y="432360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40800" y="3501360"/>
              <a:ext cx="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30920" y="3471840"/>
              <a:ext cx="69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39760" y="311652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50160" y="3045960"/>
              <a:ext cx="6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39760" y="3471840"/>
              <a:ext cx="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50160" y="3471840"/>
              <a:ext cx="69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89680" y="3542400"/>
              <a:ext cx="34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9800" y="3471840"/>
              <a:ext cx="698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07920" y="3809880"/>
                <a:ext cx="3560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33520" y="480060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rdenes de Magnitud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1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.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del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bajas frecuenci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Parámetros dependen del punto de operación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Gan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rand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de-Off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 +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7200" y="4159080"/>
            <a:ext cx="5967000" cy="2317680"/>
            <a:chOff x="457200" y="4159080"/>
            <a:chExt cx="5967000" cy="2317680"/>
          </a:xfrm>
        </p:grpSpPr>
        <p:grpSp>
          <p:nvGrpSpPr>
            <p:cNvPr id="253" name=""/>
            <p:cNvGrpSpPr/>
            <p:nvPr/>
          </p:nvGrpSpPr>
          <p:grpSpPr>
            <a:xfrm>
              <a:off x="1533240" y="4476240"/>
              <a:ext cx="453600" cy="205200"/>
              <a:chOff x="1533240" y="4476240"/>
              <a:chExt cx="453600" cy="205200"/>
            </a:xfrm>
          </p:grpSpPr>
          <p:sp>
            <p:nvSpPr>
              <p:cNvPr id="254" name=""/>
              <p:cNvSpPr/>
              <p:nvPr/>
            </p:nvSpPr>
            <p:spPr>
              <a:xfrm>
                <a:off x="1533240" y="44762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156312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640160" y="4476240"/>
                <a:ext cx="7668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171720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79424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187128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48680" y="45828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6276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61" idx="0"/>
              <a:endCxn id="254" idx="0"/>
            </p:cNvCxnSpPr>
            <p:nvPr/>
          </p:nvCxnSpPr>
          <p:spPr>
            <a:xfrm flipH="1" flipV="1" rot="5400000">
              <a:off x="991440" y="4554000"/>
              <a:ext cx="520560" cy="56160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60" idx="0"/>
              <a:endCxn id="264" idx="0"/>
            </p:cNvCxnSpPr>
            <p:nvPr/>
          </p:nvCxnSpPr>
          <p:spPr>
            <a:xfrm flipH="1" rot="16200000">
              <a:off x="2151360" y="4418280"/>
              <a:ext cx="610920" cy="939240"/>
            </a:xfrm>
            <a:prstGeom prst="bentConnector4">
              <a:avLst>
                <a:gd name="adj1" fmla="val -707"/>
                <a:gd name="adj2" fmla="val 9996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65" name=""/>
            <p:cNvGrpSpPr/>
            <p:nvPr/>
          </p:nvGrpSpPr>
          <p:grpSpPr>
            <a:xfrm>
              <a:off x="2823480" y="5198040"/>
              <a:ext cx="205200" cy="453960"/>
              <a:chOff x="2823480" y="5198040"/>
              <a:chExt cx="205200" cy="453960"/>
            </a:xfrm>
          </p:grpSpPr>
          <p:sp>
            <p:nvSpPr>
              <p:cNvPr id="264" name=""/>
              <p:cNvSpPr/>
              <p:nvPr/>
            </p:nvSpPr>
            <p:spPr>
              <a:xfrm rot="5400000">
                <a:off x="296460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82348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2348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82348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2348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82348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400000">
                <a:off x="285372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2" name=""/>
            <p:cNvCxnSpPr>
              <a:stCxn id="271" idx="0"/>
              <a:endCxn id="261" idx="4"/>
            </p:cNvCxnSpPr>
            <p:nvPr/>
          </p:nvCxnSpPr>
          <p:spPr>
            <a:xfrm flipH="1">
              <a:off x="971280" y="5647680"/>
              <a:ext cx="1946880" cy="65160"/>
            </a:xfrm>
            <a:prstGeom prst="bentConnector4">
              <a:avLst>
                <a:gd name="adj1" fmla="val -110"/>
                <a:gd name="adj2" fmla="val 81611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>
              <a:off x="457200" y="478512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564084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904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6040" y="478512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96040" y="550800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6040" y="5198040"/>
              <a:ext cx="718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3120" y="415908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4088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80" idx="0"/>
            </p:cNvCxnSpPr>
            <p:nvPr/>
          </p:nvCxnSpPr>
          <p:spPr>
            <a:xfrm flipH="1" flipV="1" rot="5400000">
              <a:off x="3954240" y="4373640"/>
              <a:ext cx="516600" cy="92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endCxn id="283" idx="0"/>
            </p:cNvCxnSpPr>
            <p:nvPr/>
          </p:nvCxnSpPr>
          <p:spPr>
            <a:xfrm>
              <a:off x="4678200" y="4582080"/>
              <a:ext cx="1132200" cy="61488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84" name=""/>
            <p:cNvGrpSpPr/>
            <p:nvPr/>
          </p:nvGrpSpPr>
          <p:grpSpPr>
            <a:xfrm>
              <a:off x="5704200" y="5198040"/>
              <a:ext cx="205200" cy="453960"/>
              <a:chOff x="5704200" y="5198040"/>
              <a:chExt cx="205200" cy="453960"/>
            </a:xfrm>
          </p:grpSpPr>
          <p:sp>
            <p:nvSpPr>
              <p:cNvPr id="283" name=""/>
              <p:cNvSpPr/>
              <p:nvPr/>
            </p:nvSpPr>
            <p:spPr>
              <a:xfrm rot="5400000">
                <a:off x="584532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70420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420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70420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0420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70420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5400000">
                <a:off x="573444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1" name=""/>
            <p:cNvCxnSpPr>
              <a:stCxn id="290" idx="0"/>
              <a:endCxn id="280" idx="4"/>
            </p:cNvCxnSpPr>
            <p:nvPr/>
          </p:nvCxnSpPr>
          <p:spPr>
            <a:xfrm flipV="1" rot="10800000">
              <a:off x="3748680" y="5647680"/>
              <a:ext cx="2049840" cy="65160"/>
            </a:xfrm>
            <a:prstGeom prst="bentConnector4">
              <a:avLst>
                <a:gd name="adj1" fmla="val 193"/>
                <a:gd name="adj2" fmla="val 80277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2" name=""/>
            <p:cNvSpPr/>
            <p:nvPr/>
          </p:nvSpPr>
          <p:spPr>
            <a:xfrm>
              <a:off x="3406680" y="52423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04200" y="478512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4200" y="550656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04200" y="519804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572360" y="5198040"/>
              <a:ext cx="205200" cy="453960"/>
              <a:chOff x="4572360" y="5198040"/>
              <a:chExt cx="205200" cy="453960"/>
            </a:xfrm>
          </p:grpSpPr>
          <p:sp>
            <p:nvSpPr>
              <p:cNvPr id="297" name=""/>
              <p:cNvSpPr/>
              <p:nvPr/>
            </p:nvSpPr>
            <p:spPr>
              <a:xfrm rot="5400000">
                <a:off x="471348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457236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36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57236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7236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57236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60260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4" name=""/>
            <p:cNvCxnSpPr>
              <a:stCxn id="297" idx="0"/>
            </p:cNvCxnSpPr>
            <p:nvPr/>
          </p:nvCxnSpPr>
          <p:spPr>
            <a:xfrm flipV="1">
              <a:off x="4678200" y="4581720"/>
              <a:ext cx="1080" cy="61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5" name=""/>
            <p:cNvSpPr/>
            <p:nvPr/>
          </p:nvSpPr>
          <p:spPr>
            <a:xfrm>
              <a:off x="4675680" y="5652360"/>
              <a:ext cx="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112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920" y="5198040"/>
              <a:ext cx="822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md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85360" y="5198040"/>
              <a:ext cx="721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12000" y="4313520"/>
              <a:ext cx="2777760" cy="21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3120" y="4502160"/>
              <a:ext cx="12312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03120" y="6098040"/>
              <a:ext cx="123120" cy="12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8520" y="609984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8520" y="450216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315200" y="5334120"/>
                <a:ext cx="1023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934320" y="3809880"/>
                <a:ext cx="17413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219800" y="4643280"/>
                <a:ext cx="12495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fecto Mill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mplica “Multiplicación de Mille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Colector Bas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arece como Filtro Pasabajos para la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apacidad está amplificada por la ganancia en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Fijar el voltaje del colect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esta forma no existirá gana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Buffer de corriente a la salida del amplificador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8080" y="4659480"/>
            <a:ext cx="1908000" cy="1817280"/>
            <a:chOff x="838080" y="4659480"/>
            <a:chExt cx="1908000" cy="1817280"/>
          </a:xfrm>
        </p:grpSpPr>
        <p:sp>
          <p:nvSpPr>
            <p:cNvPr id="320" name=""/>
            <p:cNvSpPr/>
            <p:nvPr/>
          </p:nvSpPr>
          <p:spPr>
            <a:xfrm>
              <a:off x="838080" y="5308560"/>
              <a:ext cx="1766880" cy="908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9160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088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6240" y="6022440"/>
              <a:ext cx="1414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615680" y="4919040"/>
              <a:ext cx="311760" cy="129600"/>
              <a:chOff x="1615680" y="4919040"/>
              <a:chExt cx="311760" cy="129600"/>
            </a:xfrm>
          </p:grpSpPr>
          <p:sp>
            <p:nvSpPr>
              <p:cNvPr id="325" name=""/>
              <p:cNvSpPr/>
              <p:nvPr/>
            </p:nvSpPr>
            <p:spPr>
              <a:xfrm>
                <a:off x="1615680" y="491904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163584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689120" y="4919040"/>
                <a:ext cx="5256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17416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79496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18478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01160" y="4986360"/>
                <a:ext cx="26280" cy="61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2" name=""/>
            <p:cNvCxnSpPr>
              <a:stCxn id="325" idx="0"/>
              <a:endCxn id="321" idx="0"/>
            </p:cNvCxnSpPr>
            <p:nvPr/>
          </p:nvCxnSpPr>
          <p:spPr>
            <a:xfrm rot="5400000">
              <a:off x="1242720" y="5000400"/>
              <a:ext cx="392400" cy="353880"/>
            </a:xfrm>
            <a:prstGeom prst="bentConnector3">
              <a:avLst>
                <a:gd name="adj1" fmla="val -33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stCxn id="331" idx="0"/>
              <a:endCxn id="322" idx="0"/>
            </p:cNvCxnSpPr>
            <p:nvPr/>
          </p:nvCxnSpPr>
          <p:spPr>
            <a:xfrm flipH="1" rot="16200000">
              <a:off x="1896120" y="5017680"/>
              <a:ext cx="387360" cy="324360"/>
            </a:xfrm>
            <a:prstGeom prst="bentConnector3">
              <a:avLst>
                <a:gd name="adj1" fmla="val -2046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34" name=""/>
            <p:cNvGrpSpPr/>
            <p:nvPr/>
          </p:nvGrpSpPr>
          <p:grpSpPr>
            <a:xfrm>
              <a:off x="1615680" y="6346800"/>
              <a:ext cx="282240" cy="129960"/>
              <a:chOff x="1615680" y="6346800"/>
              <a:chExt cx="282240" cy="129960"/>
            </a:xfrm>
          </p:grpSpPr>
          <p:sp>
            <p:nvSpPr>
              <p:cNvPr id="335" name=""/>
              <p:cNvSpPr/>
              <p:nvPr/>
            </p:nvSpPr>
            <p:spPr>
              <a:xfrm>
                <a:off x="1615680" y="634680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86240" y="64116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7200" y="6476760"/>
                <a:ext cx="7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1756800" y="608760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2160" y="5281200"/>
              <a:ext cx="49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51800" y="5281200"/>
              <a:ext cx="494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15680" y="4659480"/>
                  <a:ext cx="223560" cy="20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3606840" y="4724280"/>
            <a:ext cx="4775040" cy="1752480"/>
            <a:chOff x="3606840" y="4724280"/>
            <a:chExt cx="4775040" cy="1752480"/>
          </a:xfrm>
        </p:grpSpPr>
        <p:grpSp>
          <p:nvGrpSpPr>
            <p:cNvPr id="343" name=""/>
            <p:cNvGrpSpPr/>
            <p:nvPr/>
          </p:nvGrpSpPr>
          <p:grpSpPr>
            <a:xfrm>
              <a:off x="3606840" y="5308560"/>
              <a:ext cx="4775040" cy="1168200"/>
              <a:chOff x="3606840" y="5308560"/>
              <a:chExt cx="4775040" cy="1168200"/>
            </a:xfrm>
          </p:grpSpPr>
          <p:sp>
            <p:nvSpPr>
              <p:cNvPr id="344" name=""/>
              <p:cNvSpPr/>
              <p:nvPr/>
            </p:nvSpPr>
            <p:spPr>
              <a:xfrm>
                <a:off x="5066640" y="5308560"/>
                <a:ext cx="1766160" cy="908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2016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0944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4440" y="6022440"/>
                <a:ext cx="141480" cy="12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844240" y="6346800"/>
                <a:ext cx="282240" cy="129960"/>
                <a:chOff x="5844240" y="6346800"/>
                <a:chExt cx="282240" cy="129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844240" y="6346800"/>
                  <a:ext cx="28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914800" y="6411600"/>
                  <a:ext cx="14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945760" y="6476760"/>
                  <a:ext cx="7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5985360" y="6087600"/>
                <a:ext cx="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" name=""/>
              <p:cNvCxnSpPr>
                <a:endCxn id="345" idx="2"/>
              </p:cNvCxnSpPr>
              <p:nvPr/>
            </p:nvCxnSpPr>
            <p:spPr>
              <a:xfrm>
                <a:off x="4642560" y="5437800"/>
                <a:ext cx="7779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"/>
              <p:cNvCxnSpPr>
                <a:stCxn id="355" idx="0"/>
                <a:endCxn id="347" idx="2"/>
              </p:cNvCxnSpPr>
              <p:nvPr/>
            </p:nvCxnSpPr>
            <p:spPr>
              <a:xfrm flipH="1" rot="16200000">
                <a:off x="5277960" y="5452200"/>
                <a:ext cx="1800" cy="1271880"/>
              </a:xfrm>
              <a:prstGeom prst="bentConnector4">
                <a:avLst>
                  <a:gd name="adj1" fmla="val -300000"/>
                  <a:gd name="adj2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56" name=""/>
              <p:cNvGrpSpPr/>
              <p:nvPr/>
            </p:nvGrpSpPr>
            <p:grpSpPr>
              <a:xfrm>
                <a:off x="4572360" y="5605920"/>
                <a:ext cx="141120" cy="286200"/>
                <a:chOff x="4572360" y="5605920"/>
                <a:chExt cx="141120" cy="286200"/>
              </a:xfrm>
            </p:grpSpPr>
            <p:sp>
              <p:nvSpPr>
                <p:cNvPr id="357" name=""/>
                <p:cNvSpPr/>
                <p:nvPr/>
              </p:nvSpPr>
              <p:spPr>
                <a:xfrm rot="5400000">
                  <a:off x="467028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457236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57236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457236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57236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457236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5400000">
                  <a:off x="459432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4" name=""/>
              <p:cNvCxnSpPr>
                <a:stCxn id="357" idx="0"/>
              </p:cNvCxnSpPr>
              <p:nvPr/>
            </p:nvCxnSpPr>
            <p:spPr>
              <a:xfrm flipV="1">
                <a:off x="464256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65" name=""/>
              <p:cNvSpPr/>
              <p:nvPr/>
            </p:nvSpPr>
            <p:spPr>
              <a:xfrm>
                <a:off x="4637160" y="5892840"/>
                <a:ext cx="540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20160" y="5346000"/>
                <a:ext cx="494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08000" y="5346000"/>
                <a:ext cx="495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3606840" y="5501520"/>
                    <a:ext cx="894600" cy="53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9" name=""/>
              <p:cNvGrpSpPr/>
              <p:nvPr/>
            </p:nvGrpSpPr>
            <p:grpSpPr>
              <a:xfrm>
                <a:off x="7257240" y="5605920"/>
                <a:ext cx="141120" cy="286200"/>
                <a:chOff x="7257240" y="5605920"/>
                <a:chExt cx="141120" cy="286200"/>
              </a:xfrm>
            </p:grpSpPr>
            <p:sp>
              <p:nvSpPr>
                <p:cNvPr id="370" name=""/>
                <p:cNvSpPr/>
                <p:nvPr/>
              </p:nvSpPr>
              <p:spPr>
                <a:xfrm rot="5400000">
                  <a:off x="735516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725724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25724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725724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25724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725724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5400000">
                  <a:off x="727920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77" name=""/>
              <p:cNvCxnSpPr>
                <a:stCxn id="370" idx="0"/>
              </p:cNvCxnSpPr>
              <p:nvPr/>
            </p:nvCxnSpPr>
            <p:spPr>
              <a:xfrm flipV="1">
                <a:off x="732744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8" name=""/>
              <p:cNvSpPr/>
              <p:nvPr/>
            </p:nvSpPr>
            <p:spPr>
              <a:xfrm>
                <a:off x="7322040" y="5892840"/>
                <a:ext cx="576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80000" y="5438160"/>
                <a:ext cx="84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85360" y="6087600"/>
                <a:ext cx="134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7469280" y="5463720"/>
                    <a:ext cx="912600" cy="53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5632200" y="4724280"/>
                  <a:ext cx="6339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≡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47960" y="54450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en juntura base-colector ~ p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voltaje~ 10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tancia de Miller ~ 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-1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Filtro pasabajos de entrada ~ 10 MHz (incluye efecto Mill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 de Q1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míni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hay efecto multiplicación de Miller: Frecuencia de corte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43000" y="3857760"/>
            <a:ext cx="3124080" cy="26953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689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cho de Banda: Cascode v/s Norm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321400" cy="4537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6320" y="1866960"/>
            <a:ext cx="8321400" cy="4502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93432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Times New Roman"/>
              </a:rPr>
              <a:t>Ca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6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Digital: Familia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sólo se usan en amplific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n lugar a familia lógica de alta velocidad: EC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Acoplada por Emisor (EC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los transistores del par diferencial nunca están saturados la conmutación es a alta velocidad (del orden de 1 n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to: disipación de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tan famosa como CMOS o TTL, pero en interfaces de transceivers de fibra óptica es la solución (Gigabit Ethernet, ATM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típico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K (10XXX): 2 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0K (100XXX): 0.75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 ECLinPS :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traso máximo de 0.5ns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1752480"/>
            <a:ext cx="6095880" cy="4191120"/>
            <a:chOff x="0" y="1752480"/>
            <a:chExt cx="6095880" cy="419112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0" y="1752480"/>
              <a:ext cx="60958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243400" y="393048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43400" y="272772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209680" y="5638680"/>
            <a:ext cx="1122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E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5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46400" y="2522520"/>
            <a:ext cx="1508040" cy="30783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11560" y="1906560"/>
            <a:ext cx="150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ferencia de voltaje e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2658960"/>
            <a:ext cx="1295280" cy="29419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49400" y="1906560"/>
            <a:ext cx="222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Amplificador Diferencial </a:t>
            </a:r>
            <a:br>
              <a:rPr sz="1400"/>
            </a:b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“no-saturab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176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4940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1752480"/>
            <a:ext cx="3048120" cy="34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elocidad a costa de disipación de potencia: los transistores del par diferencial nunca están saturados, así hay una conmutación de mayor velocidad (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equeñ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entaj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uido provocado por variaciones en la alimentación aparece como modo común por lo que es despreciable (es importante que los colectores vayan a la “tierra” menos ruido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ola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1828800"/>
            <a:ext cx="2819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desprecia la corriente base. El arreglo formado por Q4-D1-D2 es una referencia de voltaje estable (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ruébelo!!!(*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que fija un voltaj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misor de Q4. La polarización del par diferencial está fija (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) y puede ser conmutada cuando los voltajes de entrada difieren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algunos cientos de milivolts. Note que los transistores Q1-Q3 y Q2 nunca se saturan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1676520"/>
            <a:ext cx="6324480" cy="4190760"/>
            <a:chOff x="0" y="1676520"/>
            <a:chExt cx="6324480" cy="419076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1676520"/>
              <a:ext cx="632448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440320" y="385416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0320" y="265140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89280" y="552600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-5.2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9120" y="2995560"/>
            <a:ext cx="950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4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41840" y="31989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89280" y="40226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1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644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756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374652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BB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5616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5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29040" y="49100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4800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4,12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48000" y="47037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589608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*) compruébelo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suma una variación en algún parámetro del arreglo y muestre que la configuración se opone al cambio... ¡¡¡Retroalimentación negativa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2760" y="348948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35654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N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Ope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1676520"/>
            <a:ext cx="28195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ferencia de voltaje (emisor de Q4) se usa como una de las entradas del amplificador diferencial. Las otras entradas A y B se comparan con ést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e que el circuito posee dos entradas A y B en una configuración lógica NOR. Basta una diferencia de algunos cientos de milivolts para que la 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ircule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o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 Al superarse esta diferencia la salida varía en unos 0,5 Volts adic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1752480"/>
            <a:ext cx="6324120" cy="4267080"/>
            <a:chOff x="0" y="1752480"/>
            <a:chExt cx="6324120" cy="4267080"/>
          </a:xfrm>
        </p:grpSpPr>
        <p:grpSp>
          <p:nvGrpSpPr>
            <p:cNvPr id="432" name=""/>
            <p:cNvGrpSpPr/>
            <p:nvPr/>
          </p:nvGrpSpPr>
          <p:grpSpPr>
            <a:xfrm>
              <a:off x="0" y="1752480"/>
              <a:ext cx="6324120" cy="4267080"/>
              <a:chOff x="0" y="1752480"/>
              <a:chExt cx="6324120" cy="4267080"/>
            </a:xfrm>
          </p:grpSpPr>
          <p:pic>
            <p:nvPicPr>
              <p:cNvPr id="4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752480"/>
                <a:ext cx="6324120" cy="426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5439960" y="397008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439960" y="274536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N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788560" y="567252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-5.2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8400" y="3096000"/>
              <a:ext cx="95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4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40760" y="33022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88560" y="414108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1.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6440" y="4141080"/>
              <a:ext cx="47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87200" y="4141080"/>
              <a:ext cx="47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360" y="386064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BB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0.5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5652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5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28320" y="5045040"/>
              <a:ext cx="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00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4,12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48000" y="483516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76320" y="597204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lida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dos salidas (colectores del par Q1-Q3 y Q2) tienen buffers (Q5 y Q6) que permiten minimizar los efectos de carg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arámetr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638680" cy="4343400"/>
            <a:chOff x="1981080" y="1981080"/>
            <a:chExt cx="5638680" cy="4343400"/>
          </a:xfrm>
        </p:grpSpPr>
        <p:grpSp>
          <p:nvGrpSpPr>
            <p:cNvPr id="450" name=""/>
            <p:cNvGrpSpPr/>
            <p:nvPr/>
          </p:nvGrpSpPr>
          <p:grpSpPr>
            <a:xfrm>
              <a:off x="3047760" y="1981080"/>
              <a:ext cx="3353040" cy="4343400"/>
              <a:chOff x="3047760" y="1981080"/>
              <a:chExt cx="3353040" cy="4343400"/>
            </a:xfrm>
          </p:grpSpPr>
          <p:sp>
            <p:nvSpPr>
              <p:cNvPr id="451" name=""/>
              <p:cNvSpPr/>
              <p:nvPr/>
            </p:nvSpPr>
            <p:spPr>
              <a:xfrm>
                <a:off x="3429000" y="1981080"/>
                <a:ext cx="259056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29000" y="327672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281952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29000" y="373392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29000" y="457200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429000" y="502920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29000" y="548640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7760" y="28195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47760" y="32767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47760" y="37339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7760" y="45720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47760" y="50292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7760" y="54864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981080" y="24382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81080" y="342900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81080" y="42670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4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81080" y="51814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200" y="2438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72200" y="297180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72200" y="4724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6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72200" y="51814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as Familias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milia 100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-4.5V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 menores (~0.75n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onsumo (~40mW contra los 20mW de 10K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lógicos difer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sitive ECL (PEC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CL tiene buena inmunidad al ruido gracias a alimentarse negativ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 embargo no se puede interconectar con compuertas TTL o C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: poseen modo diferencial (MD) y común (MC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C: “eliminado” con una fuente de corriente en los emis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se puede “aumentar”: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 e impedancias dependen del punto de operación: conviene corriente de polarización pequeña, pero se puede requerir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 Mill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base-colector aparece como filtro de entrada pasabajos con capacidad amplificada por la ganancia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Reducir la ganancia de voltaje” mediante “buffer de corrie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aumenta el ancho de ban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EC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funcionamiento de un Amplificador Difer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Ver cómo se genera la Familia lógica EC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tiv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es “Estándar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misor Común, Colector Común y Base Comú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n variaciones en la señal de voltaje respecto a tier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tierra tiene ruido” este se sumará al nivel de voltaje de entrada al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se amplifica la “señal útil” y el rui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hibitivo para señales con razón señal a ruido baj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r la diferencia de la señal de entrada y su referencia: Amplificador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n “zona lineal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mbinación lineal de las entrad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de Modo Común” af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a lo mismo: (1000005 y 1000000; 10 y 5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irá amplificación de “Modo Común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y “Diferencial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 CMRR “Razón de Rechazo en Modo Comú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MRR “grand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terminación de ganancia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81480" y="2057400"/>
            <a:ext cx="3657600" cy="990720"/>
            <a:chOff x="5181480" y="2057400"/>
            <a:chExt cx="3657600" cy="990720"/>
          </a:xfrm>
        </p:grpSpPr>
        <p:sp>
          <p:nvSpPr>
            <p:cNvPr id="99" name=""/>
            <p:cNvSpPr/>
            <p:nvPr/>
          </p:nvSpPr>
          <p:spPr>
            <a:xfrm flipH="1">
              <a:off x="6323760" y="2057400"/>
              <a:ext cx="1676520" cy="990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MP Di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272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3868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100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2057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4382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9600" y="2209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00800" y="3200400"/>
                <a:ext cx="152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95840" y="3778200"/>
                <a:ext cx="1482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29360" y="4692600"/>
                <a:ext cx="1816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61160" y="5302080"/>
                <a:ext cx="1316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≡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272360" y="3778200"/>
                <a:ext cx="1566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gle ended output (ejemp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diferencial: entre colect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es “matched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“A” queda fi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17720" y="4191120"/>
                <a:ext cx="3020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87560" y="4648320"/>
                <a:ext cx="264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06400" y="5562720"/>
                <a:ext cx="3460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Modo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metrí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20000" indent="-14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por R es el doble de la que aporta un solo transist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95680" y="2286000"/>
            <a:ext cx="4419720" cy="3855960"/>
            <a:chOff x="4495680" y="2286000"/>
            <a:chExt cx="4419720" cy="38559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549680" y="2286000"/>
              <a:ext cx="428940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495680" y="39006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32148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59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77120" y="43876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50920" y="3352680"/>
                <a:ext cx="2506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733920"/>
                <a:ext cx="25146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85800" y="4495680"/>
                <a:ext cx="35053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80880" y="5257800"/>
            <a:ext cx="403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006560" y="56386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“grande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MR “pequeñ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080" y="5029200"/>
                <a:ext cx="2997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30080" y="3962520"/>
                <a:ext cx="3461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modo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permanece fij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ube “much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grande” 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o existe cota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onsta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ción entr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-lineal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esenta tramo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2:36:09Z</dcterms:modified>
  <cp:revision>1169</cp:revision>
  <dc:subject>Amplificadores Diferenciales</dc:subject>
  <dc:title>Clase 16</dc:title>
</cp:coreProperties>
</file>