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8.wmf" ContentType="image/x-wmf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EB93-8F4B-4667-AF54-E066CF081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AB113-8341-47D3-919B-AE870CB31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832C-1B1D-4186-AD7D-3C47F0B5D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29451-C45F-4574-AF0E-D2411EBD2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5834-79F0-447D-9B64-9DCC442D6C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6CBF-EDF9-49EB-84B1-81F25CC1BA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D016-888C-458F-ACCD-71F2712858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0FC5-52ED-4B79-B034-83BB11ECAE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F7F2-23F1-4000-B3CA-4A59529FDC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83B5-C59F-4A47-A9EC-10A49D3C14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0E66-F725-4D8A-8DCA-DB705BE560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83A4A-5110-49B3-A734-EC4133B43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48A0-D34B-493F-BBEE-AE8A127AE2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4683-16D3-4F94-BCE8-5AE643851D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110C-02DC-4B85-BA00-29421A1258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7770-161E-4E2F-AC31-EAC342D7B2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9548-3E31-416F-BBFC-1A68D2A86E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AE63-81CC-46B5-BD07-9448C3AE6B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9526A-2BA2-4AFA-831A-FF339F9A4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F6BD4-7BC1-40F6-8BBC-8D0154DB4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E931B-CFC9-48B9-A508-B2DF18A0B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9A4BB-15B3-40C1-9C92-9C9DE60D9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2D87E-43DA-4F90-9C17-D699C19432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53E60-8890-42D8-9056-4E17943B0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59FA-3AE7-4BFD-BE36-D0D4FB36D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2502-99DA-40F3-857C-064F10458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Zona no linea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ital: Transistores con buen Match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419720" y="1676520"/>
            <a:ext cx="4647960" cy="4457520"/>
            <a:chOff x="4419720" y="1676520"/>
            <a:chExt cx="4647960" cy="445752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4572000" y="1676520"/>
              <a:ext cx="4359240" cy="44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419720" y="34290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24680" y="281952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58200" y="3581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41911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9920" y="3308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1320" y="3276720"/>
              <a:ext cx="761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289548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10280" y="28195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38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10280" y="32767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24680" y="3352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96080" y="32767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28800" y="3048120"/>
                <a:ext cx="1319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308240" y="3657600"/>
                <a:ext cx="2349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66680" y="4343400"/>
                <a:ext cx="2938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484280" y="5181480"/>
                <a:ext cx="2131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Zona no linea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4648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: Ganancia g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6320" y="2583000"/>
            <a:ext cx="7315200" cy="397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572000" y="4800600"/>
                <a:ext cx="13716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025720" y="4343400"/>
                <a:ext cx="13572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762120" y="3930480"/>
            <a:ext cx="2514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endiente en la zona line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172200" y="2819520"/>
            <a:ext cx="2895120" cy="3124080"/>
            <a:chOff x="6172200" y="2819520"/>
            <a:chExt cx="2895120" cy="312408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6199200" y="2819520"/>
              <a:ext cx="28681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172200" y="4253040"/>
              <a:ext cx="400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04560" y="3620160"/>
              <a:ext cx="601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47200" y="4253040"/>
              <a:ext cx="400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50640" y="4582080"/>
              <a:ext cx="20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51760" y="3963240"/>
              <a:ext cx="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01640" y="3940200"/>
              <a:ext cx="500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54360" y="3674160"/>
              <a:ext cx="0" cy="18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04080" y="3620160"/>
              <a:ext cx="50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4360" y="394020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04080" y="3940200"/>
              <a:ext cx="500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404560" y="3993840"/>
              <a:ext cx="25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54440" y="3940200"/>
              <a:ext cx="501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551480" y="3124080"/>
                <a:ext cx="1412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Ejemp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19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do Diferencial Zona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permanece Fijo en –0.7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4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2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ímite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1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¿Factible?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2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1V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Todos los transistores en activ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2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1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(negativ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ímite (corriente “más negativa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4495680" cy="3859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1722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286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5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58356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- 5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95440" y="5459400"/>
                <a:ext cx="13856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270160" y="5459400"/>
                <a:ext cx="1311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36840" y="5840280"/>
                <a:ext cx="14047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Ejemp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oltaje de Salida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2436840"/>
            <a:ext cx="7238880" cy="40402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486400" y="3068640"/>
            <a:ext cx="33526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4952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ción diferenci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viene tener Corrientes “pequeñas” (Importancia de espejos de corriente Wilson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257800" y="2057400"/>
            <a:ext cx="3878280" cy="3995640"/>
            <a:chOff x="5257800" y="2057400"/>
            <a:chExt cx="3878280" cy="3995640"/>
          </a:xfrm>
        </p:grpSpPr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5410080" y="2057400"/>
              <a:ext cx="3726000" cy="39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257800" y="434340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19560" y="380988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29120" y="3733920"/>
              <a:ext cx="571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14920" y="3886200"/>
              <a:ext cx="571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29320" y="3886200"/>
              <a:ext cx="571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53280" y="3352680"/>
              <a:ext cx="838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86400" y="3352680"/>
              <a:ext cx="838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05360" y="41911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43800" y="4191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06360" y="3201840"/>
                <a:ext cx="11559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882880" y="3184560"/>
                <a:ext cx="22226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359000" y="3809880"/>
                <a:ext cx="37465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685800" y="4572000"/>
            <a:ext cx="4724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00, T=300 º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1mA 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d)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5k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10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d)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500k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jora Adiciona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ntrada Diferencial Darlington (h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n el ejemplo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d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aumenta en factor 100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tapa Diferencial F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mpedancia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es de Q4 y Q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quivalente paralel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de Polariz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0" y="1981080"/>
            <a:ext cx="4266720" cy="4152960"/>
            <a:chOff x="4572000" y="1981080"/>
            <a:chExt cx="4266720" cy="415296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4711680" y="1981080"/>
              <a:ext cx="4001760" cy="41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572000" y="3615120"/>
              <a:ext cx="56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89680" y="3045960"/>
              <a:ext cx="839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78200" y="3755520"/>
              <a:ext cx="56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00600" y="4323600"/>
              <a:ext cx="2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40800" y="3501360"/>
              <a:ext cx="0" cy="4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830920" y="3471840"/>
              <a:ext cx="69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39760" y="3116520"/>
              <a:ext cx="0" cy="2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50160" y="3045960"/>
              <a:ext cx="69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39760" y="3471840"/>
              <a:ext cx="0" cy="35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50160" y="3471840"/>
              <a:ext cx="69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789680" y="3542400"/>
              <a:ext cx="34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79800" y="3471840"/>
              <a:ext cx="698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907920" y="3809880"/>
                <a:ext cx="3560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533520" y="4800600"/>
            <a:ext cx="4038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rdenes de Magnitud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~ 15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mA 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d)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0.15M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d)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7.5M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Model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(bajas frecuencias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Parámetros dependen del punto de operación!!!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deal Alta Imped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deal Alta Imped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deal Alta Gan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grand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de-Off: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equeño + etapa de ganancia adicio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57200" y="4159080"/>
            <a:ext cx="5967000" cy="2317680"/>
            <a:chOff x="457200" y="4159080"/>
            <a:chExt cx="5967000" cy="2317680"/>
          </a:xfrm>
        </p:grpSpPr>
        <p:grpSp>
          <p:nvGrpSpPr>
            <p:cNvPr id="253" name=""/>
            <p:cNvGrpSpPr/>
            <p:nvPr/>
          </p:nvGrpSpPr>
          <p:grpSpPr>
            <a:xfrm>
              <a:off x="1533240" y="4476240"/>
              <a:ext cx="453600" cy="205200"/>
              <a:chOff x="1533240" y="4476240"/>
              <a:chExt cx="453600" cy="205200"/>
            </a:xfrm>
          </p:grpSpPr>
          <p:sp>
            <p:nvSpPr>
              <p:cNvPr id="254" name=""/>
              <p:cNvSpPr/>
              <p:nvPr/>
            </p:nvSpPr>
            <p:spPr>
              <a:xfrm>
                <a:off x="1533240" y="447624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1563120" y="4476240"/>
                <a:ext cx="7704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1640160" y="4476240"/>
                <a:ext cx="7668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flipV="1">
                <a:off x="1717200" y="4476240"/>
                <a:ext cx="7704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1794240" y="4476240"/>
                <a:ext cx="7704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flipV="1">
                <a:off x="1871280" y="4476240"/>
                <a:ext cx="7704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48680" y="458280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662760" y="5095080"/>
              <a:ext cx="617040" cy="617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2" name=""/>
            <p:cNvCxnSpPr>
              <a:stCxn id="261" idx="0"/>
              <a:endCxn id="254" idx="0"/>
            </p:cNvCxnSpPr>
            <p:nvPr/>
          </p:nvCxnSpPr>
          <p:spPr>
            <a:xfrm flipH="1" flipV="1" rot="5400000">
              <a:off x="991440" y="4554000"/>
              <a:ext cx="520560" cy="561600"/>
            </a:xfrm>
            <a:prstGeom prst="bentConnector3">
              <a:avLst>
                <a:gd name="adj1" fmla="val 1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3" name=""/>
            <p:cNvCxnSpPr>
              <a:stCxn id="260" idx="0"/>
              <a:endCxn id="264" idx="0"/>
            </p:cNvCxnSpPr>
            <p:nvPr/>
          </p:nvCxnSpPr>
          <p:spPr>
            <a:xfrm flipH="1" rot="16200000">
              <a:off x="2151360" y="4418280"/>
              <a:ext cx="610920" cy="939240"/>
            </a:xfrm>
            <a:prstGeom prst="bentConnector4">
              <a:avLst>
                <a:gd name="adj1" fmla="val -707"/>
                <a:gd name="adj2" fmla="val 99961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65" name=""/>
            <p:cNvGrpSpPr/>
            <p:nvPr/>
          </p:nvGrpSpPr>
          <p:grpSpPr>
            <a:xfrm>
              <a:off x="2823480" y="5198040"/>
              <a:ext cx="205200" cy="453960"/>
              <a:chOff x="2823480" y="5198040"/>
              <a:chExt cx="205200" cy="453960"/>
            </a:xfrm>
          </p:grpSpPr>
          <p:sp>
            <p:nvSpPr>
              <p:cNvPr id="264" name=""/>
              <p:cNvSpPr/>
              <p:nvPr/>
            </p:nvSpPr>
            <p:spPr>
              <a:xfrm rot="5400000">
                <a:off x="2964600" y="516384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2823480" y="522792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23480" y="5305320"/>
                <a:ext cx="20520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823480" y="538200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823480" y="54590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2823480" y="55364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5400000">
                <a:off x="2853720" y="558360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2" name=""/>
            <p:cNvCxnSpPr>
              <a:stCxn id="271" idx="0"/>
              <a:endCxn id="261" idx="4"/>
            </p:cNvCxnSpPr>
            <p:nvPr/>
          </p:nvCxnSpPr>
          <p:spPr>
            <a:xfrm flipH="1">
              <a:off x="971280" y="5647680"/>
              <a:ext cx="1946880" cy="65160"/>
            </a:xfrm>
            <a:prstGeom prst="bentConnector4">
              <a:avLst>
                <a:gd name="adj1" fmla="val -110"/>
                <a:gd name="adj2" fmla="val 81611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3" name=""/>
            <p:cNvSpPr/>
            <p:nvPr/>
          </p:nvSpPr>
          <p:spPr>
            <a:xfrm>
              <a:off x="457200" y="4785120"/>
              <a:ext cx="7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7200" y="5640840"/>
              <a:ext cx="7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09040" y="5198040"/>
              <a:ext cx="720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96040" y="4785120"/>
              <a:ext cx="71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96040" y="5508000"/>
              <a:ext cx="71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96040" y="5198040"/>
              <a:ext cx="718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83120" y="4159080"/>
              <a:ext cx="720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40880" y="5095080"/>
              <a:ext cx="617040" cy="617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1" name=""/>
            <p:cNvCxnSpPr>
              <a:stCxn id="280" idx="0"/>
            </p:cNvCxnSpPr>
            <p:nvPr/>
          </p:nvCxnSpPr>
          <p:spPr>
            <a:xfrm flipH="1" flipV="1" rot="5400000">
              <a:off x="3954240" y="4373640"/>
              <a:ext cx="516600" cy="926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2" name=""/>
            <p:cNvCxnSpPr>
              <a:endCxn id="283" idx="0"/>
            </p:cNvCxnSpPr>
            <p:nvPr/>
          </p:nvCxnSpPr>
          <p:spPr>
            <a:xfrm>
              <a:off x="4678200" y="4582080"/>
              <a:ext cx="1132200" cy="614880"/>
            </a:xfrm>
            <a:prstGeom prst="bentConnector3">
              <a:avLst>
                <a:gd name="adj1" fmla="val 1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84" name=""/>
            <p:cNvGrpSpPr/>
            <p:nvPr/>
          </p:nvGrpSpPr>
          <p:grpSpPr>
            <a:xfrm>
              <a:off x="5704200" y="5198040"/>
              <a:ext cx="205200" cy="453960"/>
              <a:chOff x="5704200" y="5198040"/>
              <a:chExt cx="205200" cy="453960"/>
            </a:xfrm>
          </p:grpSpPr>
          <p:sp>
            <p:nvSpPr>
              <p:cNvPr id="283" name=""/>
              <p:cNvSpPr/>
              <p:nvPr/>
            </p:nvSpPr>
            <p:spPr>
              <a:xfrm rot="5400000">
                <a:off x="5845320" y="516384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5704200" y="522792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704200" y="5305320"/>
                <a:ext cx="20520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5704200" y="538200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704200" y="54590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5704200" y="55364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5400000">
                <a:off x="5734440" y="558360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91" name=""/>
            <p:cNvCxnSpPr>
              <a:stCxn id="290" idx="0"/>
              <a:endCxn id="280" idx="4"/>
            </p:cNvCxnSpPr>
            <p:nvPr/>
          </p:nvCxnSpPr>
          <p:spPr>
            <a:xfrm flipV="1" rot="10800000">
              <a:off x="3748680" y="5647680"/>
              <a:ext cx="2049840" cy="65160"/>
            </a:xfrm>
            <a:prstGeom prst="bentConnector4">
              <a:avLst>
                <a:gd name="adj1" fmla="val 193"/>
                <a:gd name="adj2" fmla="val 80277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2" name=""/>
            <p:cNvSpPr/>
            <p:nvPr/>
          </p:nvSpPr>
          <p:spPr>
            <a:xfrm>
              <a:off x="3406680" y="524232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04200" y="4785120"/>
              <a:ext cx="72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04200" y="5506560"/>
              <a:ext cx="72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04200" y="5198040"/>
              <a:ext cx="720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4572360" y="5198040"/>
              <a:ext cx="205200" cy="453960"/>
              <a:chOff x="4572360" y="5198040"/>
              <a:chExt cx="205200" cy="453960"/>
            </a:xfrm>
          </p:grpSpPr>
          <p:sp>
            <p:nvSpPr>
              <p:cNvPr id="297" name=""/>
              <p:cNvSpPr/>
              <p:nvPr/>
            </p:nvSpPr>
            <p:spPr>
              <a:xfrm rot="5400000">
                <a:off x="4713480" y="516384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4572360" y="522792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360" y="5305320"/>
                <a:ext cx="20520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4572360" y="538200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572360" y="54590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4572360" y="55364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400000">
                <a:off x="4602600" y="558360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04" name=""/>
            <p:cNvCxnSpPr>
              <a:stCxn id="297" idx="0"/>
            </p:cNvCxnSpPr>
            <p:nvPr/>
          </p:nvCxnSpPr>
          <p:spPr>
            <a:xfrm flipV="1">
              <a:off x="4678200" y="4581720"/>
              <a:ext cx="1080" cy="61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05" name=""/>
            <p:cNvSpPr/>
            <p:nvPr/>
          </p:nvSpPr>
          <p:spPr>
            <a:xfrm>
              <a:off x="4675680" y="5652360"/>
              <a:ext cx="0" cy="5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41120" y="5198040"/>
              <a:ext cx="720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86920" y="5198040"/>
              <a:ext cx="822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md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85360" y="5198040"/>
              <a:ext cx="721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12000" y="4313520"/>
              <a:ext cx="2777760" cy="216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03120" y="4502160"/>
              <a:ext cx="123120" cy="12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03120" y="6098040"/>
              <a:ext cx="123120" cy="12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58520" y="6099840"/>
              <a:ext cx="122760" cy="12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58520" y="4502160"/>
              <a:ext cx="122760" cy="12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7315200" y="5334120"/>
                <a:ext cx="10238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934320" y="3809880"/>
                <a:ext cx="17413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7219800" y="4643280"/>
                <a:ext cx="12495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Efecto Mille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3152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Implica “Multiplicación de Miller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untura Colector Base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parece como Filtro Pasabajos para la entra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apacidad está amplificada por la ganancia en volt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: “Fijar el voltaje del colector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 esta forma no existirá ganancia de volt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Cascode: Buffer de corriente a la salida del amplificador emisor comú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838080" y="4659480"/>
            <a:ext cx="1908000" cy="1817280"/>
            <a:chOff x="838080" y="4659480"/>
            <a:chExt cx="1908000" cy="1817280"/>
          </a:xfrm>
        </p:grpSpPr>
        <p:sp>
          <p:nvSpPr>
            <p:cNvPr id="320" name=""/>
            <p:cNvSpPr/>
            <p:nvPr/>
          </p:nvSpPr>
          <p:spPr>
            <a:xfrm>
              <a:off x="838080" y="5308560"/>
              <a:ext cx="1766880" cy="908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91600" y="5373360"/>
              <a:ext cx="14112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180880" y="5373360"/>
              <a:ext cx="14112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86240" y="6022440"/>
              <a:ext cx="141480" cy="129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1615680" y="4919040"/>
              <a:ext cx="311760" cy="129600"/>
              <a:chOff x="1615680" y="4919040"/>
              <a:chExt cx="311760" cy="129600"/>
            </a:xfrm>
          </p:grpSpPr>
          <p:sp>
            <p:nvSpPr>
              <p:cNvPr id="325" name=""/>
              <p:cNvSpPr/>
              <p:nvPr/>
            </p:nvSpPr>
            <p:spPr>
              <a:xfrm>
                <a:off x="1615680" y="4919040"/>
                <a:ext cx="20520" cy="619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1635840" y="4919040"/>
                <a:ext cx="52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1689120" y="4919040"/>
                <a:ext cx="5256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1741680" y="4919040"/>
                <a:ext cx="52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1794960" y="4919040"/>
                <a:ext cx="52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1847880" y="4919040"/>
                <a:ext cx="52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901160" y="4986360"/>
                <a:ext cx="26280" cy="619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2" name=""/>
            <p:cNvCxnSpPr>
              <a:stCxn id="325" idx="0"/>
              <a:endCxn id="321" idx="0"/>
            </p:cNvCxnSpPr>
            <p:nvPr/>
          </p:nvCxnSpPr>
          <p:spPr>
            <a:xfrm rot="5400000">
              <a:off x="1242720" y="5000400"/>
              <a:ext cx="392400" cy="353880"/>
            </a:xfrm>
            <a:prstGeom prst="bentConnector3">
              <a:avLst>
                <a:gd name="adj1" fmla="val -339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3" name=""/>
            <p:cNvCxnSpPr>
              <a:stCxn id="331" idx="0"/>
              <a:endCxn id="322" idx="0"/>
            </p:cNvCxnSpPr>
            <p:nvPr/>
          </p:nvCxnSpPr>
          <p:spPr>
            <a:xfrm flipH="1" rot="16200000">
              <a:off x="1896120" y="5017680"/>
              <a:ext cx="387360" cy="324360"/>
            </a:xfrm>
            <a:prstGeom prst="bentConnector3">
              <a:avLst>
                <a:gd name="adj1" fmla="val -2046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34" name=""/>
            <p:cNvGrpSpPr/>
            <p:nvPr/>
          </p:nvGrpSpPr>
          <p:grpSpPr>
            <a:xfrm>
              <a:off x="1615680" y="6346800"/>
              <a:ext cx="282240" cy="129960"/>
              <a:chOff x="1615680" y="6346800"/>
              <a:chExt cx="282240" cy="129960"/>
            </a:xfrm>
          </p:grpSpPr>
          <p:sp>
            <p:nvSpPr>
              <p:cNvPr id="335" name=""/>
              <p:cNvSpPr/>
              <p:nvPr/>
            </p:nvSpPr>
            <p:spPr>
              <a:xfrm>
                <a:off x="1615680" y="634680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686240" y="6411600"/>
                <a:ext cx="14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717200" y="6476760"/>
                <a:ext cx="7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1756800" y="6087600"/>
              <a:ext cx="0" cy="2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2160" y="5281200"/>
              <a:ext cx="49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51800" y="5281200"/>
              <a:ext cx="494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615680" y="4659480"/>
                  <a:ext cx="223560" cy="20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2" name=""/>
          <p:cNvGrpSpPr/>
          <p:nvPr/>
        </p:nvGrpSpPr>
        <p:grpSpPr>
          <a:xfrm>
            <a:off x="3606840" y="4724280"/>
            <a:ext cx="4775040" cy="1752480"/>
            <a:chOff x="3606840" y="4724280"/>
            <a:chExt cx="4775040" cy="1752480"/>
          </a:xfrm>
        </p:grpSpPr>
        <p:grpSp>
          <p:nvGrpSpPr>
            <p:cNvPr id="343" name=""/>
            <p:cNvGrpSpPr/>
            <p:nvPr/>
          </p:nvGrpSpPr>
          <p:grpSpPr>
            <a:xfrm>
              <a:off x="3606840" y="5308560"/>
              <a:ext cx="4775040" cy="1168200"/>
              <a:chOff x="3606840" y="5308560"/>
              <a:chExt cx="4775040" cy="1168200"/>
            </a:xfrm>
          </p:grpSpPr>
          <p:sp>
            <p:nvSpPr>
              <p:cNvPr id="344" name=""/>
              <p:cNvSpPr/>
              <p:nvPr/>
            </p:nvSpPr>
            <p:spPr>
              <a:xfrm>
                <a:off x="5066640" y="5308560"/>
                <a:ext cx="1766160" cy="908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420160" y="5373000"/>
                <a:ext cx="141120" cy="129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409440" y="5373000"/>
                <a:ext cx="141120" cy="129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914440" y="6022440"/>
                <a:ext cx="141480" cy="129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5844240" y="6346800"/>
                <a:ext cx="282240" cy="129960"/>
                <a:chOff x="5844240" y="6346800"/>
                <a:chExt cx="282240" cy="1299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844240" y="6346800"/>
                  <a:ext cx="282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914800" y="6411600"/>
                  <a:ext cx="140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945760" y="6476760"/>
                  <a:ext cx="70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>
                <a:off x="5985360" y="6087600"/>
                <a:ext cx="0" cy="25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53" name=""/>
              <p:cNvCxnSpPr>
                <a:endCxn id="345" idx="2"/>
              </p:cNvCxnSpPr>
              <p:nvPr/>
            </p:nvCxnSpPr>
            <p:spPr>
              <a:xfrm>
                <a:off x="4642560" y="5437800"/>
                <a:ext cx="777960" cy="10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4" name=""/>
              <p:cNvCxnSpPr>
                <a:stCxn id="355" idx="0"/>
                <a:endCxn id="347" idx="2"/>
              </p:cNvCxnSpPr>
              <p:nvPr/>
            </p:nvCxnSpPr>
            <p:spPr>
              <a:xfrm flipH="1" rot="16200000">
                <a:off x="5277960" y="5452200"/>
                <a:ext cx="1800" cy="1271880"/>
              </a:xfrm>
              <a:prstGeom prst="bentConnector4">
                <a:avLst>
                  <a:gd name="adj1" fmla="val -300000"/>
                  <a:gd name="adj2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356" name=""/>
              <p:cNvGrpSpPr/>
              <p:nvPr/>
            </p:nvGrpSpPr>
            <p:grpSpPr>
              <a:xfrm>
                <a:off x="4572360" y="5605920"/>
                <a:ext cx="141120" cy="286200"/>
                <a:chOff x="4572360" y="5605920"/>
                <a:chExt cx="141120" cy="286200"/>
              </a:xfrm>
            </p:grpSpPr>
            <p:sp>
              <p:nvSpPr>
                <p:cNvPr id="357" name=""/>
                <p:cNvSpPr/>
                <p:nvPr/>
              </p:nvSpPr>
              <p:spPr>
                <a:xfrm rot="5400000">
                  <a:off x="4670280" y="5581440"/>
                  <a:ext cx="18720" cy="6768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V="1">
                  <a:off x="4572360" y="562428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572360" y="5673600"/>
                  <a:ext cx="141120" cy="4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V="1">
                  <a:off x="4572360" y="572148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572360" y="577080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4572360" y="581904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rot="5400000">
                  <a:off x="4594320" y="5846040"/>
                  <a:ext cx="24120" cy="6768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64" name=""/>
              <p:cNvCxnSpPr>
                <a:stCxn id="357" idx="0"/>
              </p:cNvCxnSpPr>
              <p:nvPr/>
            </p:nvCxnSpPr>
            <p:spPr>
              <a:xfrm flipV="1">
                <a:off x="4642560" y="5437800"/>
                <a:ext cx="1080" cy="165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65" name=""/>
              <p:cNvSpPr/>
              <p:nvPr/>
            </p:nvSpPr>
            <p:spPr>
              <a:xfrm>
                <a:off x="4637160" y="5892840"/>
                <a:ext cx="5400" cy="19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420160" y="5346000"/>
                <a:ext cx="494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408000" y="5346000"/>
                <a:ext cx="495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8" name=""/>
                  <p:cNvSpPr txBox="1"/>
                  <p:nvPr/>
                </p:nvSpPr>
                <p:spPr>
                  <a:xfrm>
                    <a:off x="3606840" y="5501520"/>
                    <a:ext cx="894600" cy="53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69" name=""/>
              <p:cNvGrpSpPr/>
              <p:nvPr/>
            </p:nvGrpSpPr>
            <p:grpSpPr>
              <a:xfrm>
                <a:off x="7257240" y="5605920"/>
                <a:ext cx="141120" cy="286200"/>
                <a:chOff x="7257240" y="5605920"/>
                <a:chExt cx="141120" cy="286200"/>
              </a:xfrm>
            </p:grpSpPr>
            <p:sp>
              <p:nvSpPr>
                <p:cNvPr id="370" name=""/>
                <p:cNvSpPr/>
                <p:nvPr/>
              </p:nvSpPr>
              <p:spPr>
                <a:xfrm rot="5400000">
                  <a:off x="7355160" y="5581440"/>
                  <a:ext cx="18720" cy="6768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7257240" y="562428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257240" y="5673600"/>
                  <a:ext cx="141120" cy="4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V="1">
                  <a:off x="7257240" y="572148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257240" y="577080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V="1">
                  <a:off x="7257240" y="581904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5400000">
                  <a:off x="7279200" y="5846040"/>
                  <a:ext cx="24120" cy="6768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77" name=""/>
              <p:cNvCxnSpPr>
                <a:stCxn id="370" idx="0"/>
              </p:cNvCxnSpPr>
              <p:nvPr/>
            </p:nvCxnSpPr>
            <p:spPr>
              <a:xfrm flipV="1">
                <a:off x="7327440" y="5437800"/>
                <a:ext cx="1080" cy="165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78" name=""/>
              <p:cNvSpPr/>
              <p:nvPr/>
            </p:nvSpPr>
            <p:spPr>
              <a:xfrm>
                <a:off x="7322040" y="5892840"/>
                <a:ext cx="5760" cy="19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80000" y="5438160"/>
                <a:ext cx="847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985360" y="6087600"/>
                <a:ext cx="134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1" name=""/>
                  <p:cNvSpPr txBox="1"/>
                  <p:nvPr/>
                </p:nvSpPr>
                <p:spPr>
                  <a:xfrm>
                    <a:off x="7469280" y="5463720"/>
                    <a:ext cx="912600" cy="532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K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5632200" y="4724280"/>
                  <a:ext cx="63396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≡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2847960" y="5445000"/>
                <a:ext cx="609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on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de transición en juntura base-colector ~ pF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voltaje~ 100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tancia de Miller ~ 10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-10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recuencia de corte Filtro pasabajos de entrada ~ 10 MHz (incluye efecto Miller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28840" y="190512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scod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 de Q1 “fij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voltaje mínim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hay efecto multiplicación de Miller: Frecuencia de corte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143000" y="3857760"/>
            <a:ext cx="3124080" cy="26953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26892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cho de Banda: Cascode v/s Norm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6320" y="1828800"/>
            <a:ext cx="8321400" cy="45370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76320" y="1866960"/>
            <a:ext cx="8321400" cy="45021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693432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0000"/>
                </a:solidFill>
                <a:latin typeface="Times New Roman"/>
              </a:rPr>
              <a:t>Cas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3276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6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mplificadores Diferencial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plicación Digital: Familia EC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es Diferenci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sólo se usan en amplific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an lugar a familia lógica de alta velocidad: EC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amilia Lógica Acoplada por Emisor (EC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los transistores del par diferencial nunca están saturados la conmutación es a alta velocidad (del orden de 1 n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to: disipación de pote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es tan famosa como CMOS o TTL, pero en interfaces de transceivers de fibra óptica es la solución (Gigabit Ethernet, ATM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típicos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milia ECL 10K (10XXX): 2 n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milia ECL 100K (100XXX): 0.75n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milia  ECLinPS : </a:t>
            </a:r>
            <a:r>
              <a:rPr b="0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traso máximo de 0.5ns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amilia Lógica ECL 10K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0" y="1752480"/>
            <a:ext cx="6095880" cy="4191120"/>
            <a:chOff x="0" y="1752480"/>
            <a:chExt cx="6095880" cy="4191120"/>
          </a:xfrm>
        </p:grpSpPr>
        <p:pic>
          <p:nvPicPr>
            <p:cNvPr id="398" name="" descr=""/>
            <p:cNvPicPr/>
            <p:nvPr/>
          </p:nvPicPr>
          <p:blipFill>
            <a:blip r:embed="rId1"/>
            <a:stretch/>
          </p:blipFill>
          <p:spPr>
            <a:xfrm>
              <a:off x="0" y="1752480"/>
              <a:ext cx="609588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5243400" y="3930480"/>
              <a:ext cx="85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43400" y="2727720"/>
              <a:ext cx="85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209680" y="5638680"/>
            <a:ext cx="1122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EE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5.2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146400" y="2522520"/>
            <a:ext cx="1508040" cy="307836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11560" y="1906560"/>
            <a:ext cx="150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Referencia de voltaje e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2658960"/>
            <a:ext cx="1295280" cy="2941920"/>
          </a:xfrm>
          <a:prstGeom prst="rect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049400" y="1906560"/>
            <a:ext cx="222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3333cc"/>
                </a:solidFill>
                <a:latin typeface="Times New Roman"/>
              </a:rPr>
              <a:t>Amplificador Diferencial </a:t>
            </a:r>
            <a:br>
              <a:rPr sz="1400"/>
            </a:br>
            <a:r>
              <a:rPr b="1" i="1" lang="es-ES_tradnl" sz="1400" spc="-1" strike="noStrike">
                <a:solidFill>
                  <a:srgbClr val="3333cc"/>
                </a:solidFill>
                <a:latin typeface="Times New Roman"/>
              </a:rPr>
              <a:t>“no-saturabl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31760" y="4095720"/>
            <a:ext cx="4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49400" y="4095720"/>
            <a:ext cx="4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1752480"/>
            <a:ext cx="3048120" cy="34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aracterísticas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elocidad a costa de disipación de potencia: los transistores del par diferencial nunca están saturados, así hay una conmutación de mayor velocidad (t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lmacenamiento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pequeñ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Ventajas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uido provocado por variaciones en la alimentación aparece como modo común por lo que es despreciable (es importante que los colectores vayan a la “tierra” menos ruidos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amilia Lógica ECL 10K: Polariz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324480" y="1828800"/>
            <a:ext cx="2819520" cy="36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e desprecia la corriente base. El arreglo formado por Q4-D1-D2 es una referencia de voltaje estable (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ompruébelo!!!(*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 que fija un voltaj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n el emisor de Q4. La polarización del par diferencial está fija (corrient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) y puede ser conmutada cuando los voltajes de entrada difieren d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n algunos cientos de milivolts. Note que los transistores Q1-Q3 y Q2 nunca se saturan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0" y="1676520"/>
            <a:ext cx="6324480" cy="4190760"/>
            <a:chOff x="0" y="1676520"/>
            <a:chExt cx="6324480" cy="4190760"/>
          </a:xfrm>
        </p:grpSpPr>
        <p:pic>
          <p:nvPicPr>
            <p:cNvPr id="412" name="" descr=""/>
            <p:cNvPicPr/>
            <p:nvPr/>
          </p:nvPicPr>
          <p:blipFill>
            <a:blip r:embed="rId1"/>
            <a:stretch/>
          </p:blipFill>
          <p:spPr>
            <a:xfrm>
              <a:off x="0" y="1676520"/>
              <a:ext cx="6324480" cy="41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5440320" y="3854160"/>
              <a:ext cx="884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9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40320" y="2651400"/>
              <a:ext cx="884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900" spc="-1" strike="noStrike">
                  <a:solidFill>
                    <a:srgbClr val="000000"/>
                  </a:solidFill>
                  <a:latin typeface="Times New Roman"/>
                </a:rPr>
                <a:t>N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789280" y="552600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-5.2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9120" y="2995560"/>
            <a:ext cx="9507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0,64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41840" y="319896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89280" y="402264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-1.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36440" y="402264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7560" y="402264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9720" y="374652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BB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-0.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56160" y="463716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0,65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29040" y="491004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48000" y="463716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4,12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48000" y="470376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" y="5896080"/>
            <a:ext cx="73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(*) compruébelo: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suma una variación en algún parámetro del arreglo y muestre que la configuración se opone al cambio... ¡¡¡Retroalimentación negativa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52760" y="348948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-0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43000" y="356544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NOR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-0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amilia Lógica ECL 10K: Oper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324480" y="1676520"/>
            <a:ext cx="281952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ncionamiento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ferencia de voltaje (emisor de Q4) se usa como una de las entradas del amplificador diferencial. Las otras entradas A y B se comparan con ésta.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te que el circuito posee dos entradas A y B en una configuración lógica NOR. Basta una diferencia de algunos cientos de milivolts para que la corrient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ircule sólo a través d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o sólo a través d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. Al superarse esta diferencia la salida varía en unos 0,5 Volts adicion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0" y="1752480"/>
            <a:ext cx="6324120" cy="4267080"/>
            <a:chOff x="0" y="1752480"/>
            <a:chExt cx="6324120" cy="4267080"/>
          </a:xfrm>
        </p:grpSpPr>
        <p:grpSp>
          <p:nvGrpSpPr>
            <p:cNvPr id="432" name=""/>
            <p:cNvGrpSpPr/>
            <p:nvPr/>
          </p:nvGrpSpPr>
          <p:grpSpPr>
            <a:xfrm>
              <a:off x="0" y="1752480"/>
              <a:ext cx="6324120" cy="4267080"/>
              <a:chOff x="0" y="1752480"/>
              <a:chExt cx="6324120" cy="4267080"/>
            </a:xfrm>
          </p:grpSpPr>
          <p:pic>
            <p:nvPicPr>
              <p:cNvPr id="43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1752480"/>
                <a:ext cx="6324120" cy="426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"/>
              <p:cNvSpPr/>
              <p:nvPr/>
            </p:nvSpPr>
            <p:spPr>
              <a:xfrm>
                <a:off x="5439960" y="3970080"/>
                <a:ext cx="883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900" spc="-1" strike="noStrike">
                    <a:solidFill>
                      <a:srgbClr val="000000"/>
                    </a:solidFill>
                    <a:latin typeface="Times New Roman"/>
                  </a:rPr>
                  <a:t>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439960" y="2745360"/>
                <a:ext cx="883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900" spc="-1" strike="noStrike">
                    <a:solidFill>
                      <a:srgbClr val="000000"/>
                    </a:solidFill>
                    <a:latin typeface="Times New Roman"/>
                  </a:rPr>
                  <a:t>N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2788560" y="567252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-5.2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8400" y="3096000"/>
              <a:ext cx="9507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0,64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740760" y="330228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88560" y="414108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-1.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6440" y="4141080"/>
              <a:ext cx="475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87200" y="4141080"/>
              <a:ext cx="47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19360" y="386064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BB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-0.5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556520" y="476676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5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0,65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28320" y="5045040"/>
              <a:ext cx="0" cy="20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48000" y="476676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6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4,12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48000" y="4835160"/>
              <a:ext cx="0" cy="2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76320" y="5972040"/>
            <a:ext cx="624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Salida: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s dos salidas (colectores del par Q1-Q3 y Q2) tienen buffers (Q5 y Q6) que permiten minimizar los efectos de carg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amilia Lógica ECL 10K: Parámetr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981080" y="1981080"/>
            <a:ext cx="5638680" cy="4343400"/>
            <a:chOff x="1981080" y="1981080"/>
            <a:chExt cx="5638680" cy="4343400"/>
          </a:xfrm>
        </p:grpSpPr>
        <p:grpSp>
          <p:nvGrpSpPr>
            <p:cNvPr id="450" name=""/>
            <p:cNvGrpSpPr/>
            <p:nvPr/>
          </p:nvGrpSpPr>
          <p:grpSpPr>
            <a:xfrm>
              <a:off x="3047760" y="1981080"/>
              <a:ext cx="3353040" cy="4343400"/>
              <a:chOff x="3047760" y="1981080"/>
              <a:chExt cx="3353040" cy="4343400"/>
            </a:xfrm>
          </p:grpSpPr>
          <p:sp>
            <p:nvSpPr>
              <p:cNvPr id="451" name=""/>
              <p:cNvSpPr/>
              <p:nvPr/>
            </p:nvSpPr>
            <p:spPr>
              <a:xfrm>
                <a:off x="3429000" y="1981080"/>
                <a:ext cx="2590560" cy="83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Anor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429000" y="3276720"/>
                <a:ext cx="2590560" cy="4572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Noise Margin Hig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29000" y="2819520"/>
                <a:ext cx="2590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429000" y="3733920"/>
                <a:ext cx="259056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Anor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429000" y="4572000"/>
                <a:ext cx="2590560" cy="4572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Noise Margin Lo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429000" y="5029200"/>
                <a:ext cx="2590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429000" y="5486400"/>
                <a:ext cx="259056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Anor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7760" y="281952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047760" y="327672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047760" y="373392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047760" y="457200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047760" y="502920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7760" y="548640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1981080" y="2438280"/>
              <a:ext cx="144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HMAX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0.8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81080" y="3429000"/>
              <a:ext cx="144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HM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1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81080" y="4267080"/>
              <a:ext cx="144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LMAX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4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81080" y="5181480"/>
              <a:ext cx="144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LM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8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72200" y="2438280"/>
              <a:ext cx="144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HMAX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0.8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172200" y="2971800"/>
              <a:ext cx="144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HM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0.9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72200" y="4724280"/>
              <a:ext cx="144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LMAX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6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72200" y="5181480"/>
              <a:ext cx="144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LM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8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tras Familias EC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amilia 100K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fere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-4.5V,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de propagación menores (~0.75n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yor consumo (~40mW contra los 20mW de 10K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iveles lógicos diferent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ositive ECL (PECL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CL tiene buena inmunidad al ruido gracias a alimentarse negativam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n embargo no se puede interconectar con compuertas TTL o CM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es Diferenci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Lineal: poseen modo diferencial (MD) y común (MC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C: “eliminado” con una fuente de corriente en los emis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iferencial se puede “aumentar”: carg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s e impedancias dependen del punto de operación: conviene corriente de polarización pequeña, pero se puede requerir ganancia adicio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fecto Miller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dad base-colector aparece como filtro de entrada pasabajos con capacidad amplificada por la ganancia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: “Reducir la ganancia de voltaje” mediante “buffer de corrient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Cascode: aumenta el ancho de ban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amilia Lógica EC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el funcionamiento de un Amplificador Diferencia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Ver cómo se genera la Familia lógica EC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Motiv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mplificadores “Estándar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misor Común, Colector Común y Base Comú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n variaciones en la señal de voltaje respecto a tier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 tierra tiene ruido” este se sumará al nivel de voltaje de entrada al amplific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r lo tanto se amplifica la “señal útil” y el rui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hibitivo para señales con razón señal a ruido baj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r la diferencia de la señal de entrada y su referencia: Amplificador Diferenci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en “zona lineal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: combinación lineal de las entrad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de Modo Común” afec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da lo mismo: (1000005 y 1000000; 10 y 5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irá amplificación de “Modo Común” (A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y “Diferencial” (A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define CMRR “Razón de Rechazo en Modo Comú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deal: CMRR “grande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terminación de ganancias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181480" y="2057400"/>
            <a:ext cx="3657600" cy="990720"/>
            <a:chOff x="5181480" y="2057400"/>
            <a:chExt cx="3657600" cy="990720"/>
          </a:xfrm>
        </p:grpSpPr>
        <p:sp>
          <p:nvSpPr>
            <p:cNvPr id="99" name=""/>
            <p:cNvSpPr/>
            <p:nvPr/>
          </p:nvSpPr>
          <p:spPr>
            <a:xfrm flipH="1">
              <a:off x="6323760" y="2057400"/>
              <a:ext cx="1676520" cy="9907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AMP Di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6272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38680" y="2666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01000" y="2666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81480" y="2057400"/>
              <a:ext cx="609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7800" y="24382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229600" y="22096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400800" y="3200400"/>
                <a:ext cx="15238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595840" y="3778200"/>
                <a:ext cx="14828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≡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129360" y="4692600"/>
                <a:ext cx="1816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761160" y="5302080"/>
                <a:ext cx="13161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≡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272360" y="3778200"/>
                <a:ext cx="15667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≡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≡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 Básico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724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gle ended output (ejemplo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diferencial: entre colect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iferenci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stores “matched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nto “A” queda fij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017720" y="4191120"/>
                <a:ext cx="3020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087560" y="4648320"/>
                <a:ext cx="26463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pu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06400" y="5562720"/>
                <a:ext cx="34606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6" name=""/>
          <p:cNvGrpSpPr/>
          <p:nvPr/>
        </p:nvGrpSpPr>
        <p:grpSpPr>
          <a:xfrm>
            <a:off x="4648320" y="2286000"/>
            <a:ext cx="4419000" cy="3855960"/>
            <a:chOff x="4648320" y="2286000"/>
            <a:chExt cx="4419000" cy="385596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4701960" y="2286000"/>
              <a:ext cx="4289040" cy="38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648320" y="39006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4680" y="3214800"/>
              <a:ext cx="91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458200" y="3900600"/>
              <a:ext cx="609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43876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 Básico: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267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Modo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metrí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20000" indent="-144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rriente por R es el doble de la que aporta un solo transisto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495680" y="2286000"/>
            <a:ext cx="4419720" cy="3855960"/>
            <a:chOff x="4495680" y="2286000"/>
            <a:chExt cx="4419720" cy="385596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4549680" y="2286000"/>
              <a:ext cx="4289400" cy="38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495680" y="390060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72400" y="321480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05920" y="39006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77120" y="438768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150920" y="3352680"/>
                <a:ext cx="2506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43000" y="3733920"/>
                <a:ext cx="251460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85800" y="4495680"/>
                <a:ext cx="35053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380880" y="5257800"/>
            <a:ext cx="4038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M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006560" y="5638680"/>
                <a:ext cx="2997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 Básico: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724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iferencial “grande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grande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arg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MMR “pequeño”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 “grande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Fuente de Corr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648320" y="2286000"/>
            <a:ext cx="4419000" cy="3855960"/>
            <a:chOff x="4648320" y="2286000"/>
            <a:chExt cx="4419000" cy="385596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4701960" y="2286000"/>
              <a:ext cx="4289040" cy="38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648320" y="39006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24680" y="3214800"/>
              <a:ext cx="91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58200" y="3900600"/>
              <a:ext cx="609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29400" y="43876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838080" y="5029200"/>
                <a:ext cx="2997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730080" y="3962520"/>
                <a:ext cx="34610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Zona no lineal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 modo diferenci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 permanece fij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ube “mucho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grande” y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chico”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1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grande” e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chic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o existe cota: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constant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lación entre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y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-lineal,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esenta tramo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419720" y="1676520"/>
            <a:ext cx="4647960" cy="4457520"/>
            <a:chOff x="4419720" y="1676520"/>
            <a:chExt cx="4647960" cy="445752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4572000" y="1676520"/>
              <a:ext cx="4359240" cy="44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4419720" y="34290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24680" y="281952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458200" y="3581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29400" y="41911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19920" y="3308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91320" y="3276720"/>
              <a:ext cx="761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43800" y="289548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10280" y="28195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438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32767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24680" y="3352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96080" y="32767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8-05T22:36:09Z</dcterms:modified>
  <cp:revision>1169</cp:revision>
  <dc:subject>Amplificadores Diferenciales</dc:subject>
  <dc:title>Clase 16</dc:title>
</cp:coreProperties>
</file>