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4553-23EE-4486-A0A7-98019AEBD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FC44-A69C-4C7F-9BC2-58F351859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C5B9-F111-48EC-92B6-C41DFD40E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2BDA-9E28-4EE2-9116-E8D4CDBF4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C4E-CDD7-4FF3-BC5F-BB2EBCCD6C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F05-4E49-4479-9C39-D4E083F48D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18C-6DD0-47C5-99DA-F42A9E325E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65F-173E-454C-982D-1010E04628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207-9D88-4C81-A508-610ED68015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970-28B1-43B6-B9AC-2580A75574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72B-1FEE-43C9-B421-0504C78EB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0846-2CFC-44D4-B048-F3008DFC7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E30-A3DC-405F-8D9C-BBC9EFC153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FB9-A33A-4F9C-902D-C4DBB1E163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0AC-EDCA-4070-8340-681D42431B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520-8445-482D-AA16-4B4284D7D3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473-55D3-4EAC-AD9B-D8BE61C22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5C45-595B-454A-B278-6A5966C4A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EF08-391A-4B4E-98DF-9B3D8E53E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57BB-966D-4394-B915-92C4942CF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E873-5193-48F0-8F64-40E444A84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3978-9F3B-4923-A8C1-0583367CF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21FC-0C0B-4999-9120-3D2C05689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6D7D-2CCC-4867-8E05-C0802E0F6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0BA7-8DC0-4FE3-9555-63EA5C8F7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F171-A59F-4128-A5F4-48947667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empo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2971800"/>
            <a:ext cx="7695720" cy="1220760"/>
            <a:chOff x="685800" y="2971800"/>
            <a:chExt cx="7695720" cy="1220760"/>
          </a:xfrm>
        </p:grpSpPr>
        <p:sp>
          <p:nvSpPr>
            <p:cNvPr id="220" name=""/>
            <p:cNvSpPr/>
            <p:nvPr/>
          </p:nvSpPr>
          <p:spPr>
            <a:xfrm>
              <a:off x="7238880" y="380988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026720" y="3376440"/>
              <a:ext cx="6972840" cy="447840"/>
              <a:chOff x="1026720" y="3376440"/>
              <a:chExt cx="6972840" cy="4478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573560" y="3376440"/>
                <a:ext cx="2050560" cy="447840"/>
                <a:chOff x="1573560" y="3376440"/>
                <a:chExt cx="2050560" cy="4478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7356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6688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25304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666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253008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7240" y="3376440"/>
                <a:ext cx="2050560" cy="447840"/>
                <a:chOff x="2667240" y="3376440"/>
                <a:chExt cx="2050560" cy="4478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66724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6056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36241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7605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62376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761280" y="3376440"/>
                <a:ext cx="2050560" cy="447840"/>
                <a:chOff x="3761280" y="3376440"/>
                <a:chExt cx="2050560" cy="4478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76128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5460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7181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48546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71780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855320" y="3376440"/>
                <a:ext cx="2050560" cy="447840"/>
                <a:chOff x="4855320" y="3376440"/>
                <a:chExt cx="2050560" cy="447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5532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4864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8122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9486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581184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949000" y="3376440"/>
                <a:ext cx="2050560" cy="447840"/>
                <a:chOff x="5949000" y="3376440"/>
                <a:chExt cx="2050560" cy="447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4900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4232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6905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70423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90552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1026720" y="3824280"/>
                <a:ext cx="4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73560" y="3824280"/>
                <a:ext cx="9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4367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5735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436760" y="337644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163520" y="381312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8640" y="381312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3813120"/>
              <a:ext cx="4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1680" y="381312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536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744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3489480"/>
              <a:ext cx="41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67960" y="348948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360" y="304812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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56040" y="3433680"/>
              <a:ext cx="102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81320" y="343368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6040" y="335268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77960" y="2971800"/>
              <a:ext cx="19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iempo de bit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321000"/>
              <a:ext cx="88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80880" y="16765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corporación de reloj (Clock, Ck, pulsos periódicos):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ición Latches y Flip Flop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Latches se disparan (trigger) por nivel de voltaje, mientras que los FF lo hacen por el flanco (edge) del reloj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e Estados (n) en función d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251240"/>
            <a:ext cx="86104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trol de la operación del latch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reloj habilitará el latch  para realizar sus funciones: seteo, reseteo y memorizar. Las acciones anteriores deberán suceder sólo cuando existe un pulso en el sistema. Por lo tanto, el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rá permitir que las compuertas alcancen el régimen permanente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stado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s en el tiempo de bit entre pulsos. Los cambios de estado pueden ocurrir durante el pulso (nivel) o cuando éste aparece o desaparece (flan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609480" y="1930320"/>
            <a:ext cx="3962520" cy="1881360"/>
            <a:chOff x="609480" y="1930320"/>
            <a:chExt cx="3962520" cy="1881360"/>
          </a:xfrm>
        </p:grpSpPr>
        <p:grpSp>
          <p:nvGrpSpPr>
            <p:cNvPr id="274" name=""/>
            <p:cNvGrpSpPr/>
            <p:nvPr/>
          </p:nvGrpSpPr>
          <p:grpSpPr>
            <a:xfrm>
              <a:off x="1130040" y="1985040"/>
              <a:ext cx="2868120" cy="1702080"/>
              <a:chOff x="1130040" y="1985040"/>
              <a:chExt cx="2868120" cy="17020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599840" y="1985040"/>
                <a:ext cx="2084760" cy="1702080"/>
                <a:chOff x="1599840" y="1985040"/>
                <a:chExt cx="2084760" cy="170208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599840" y="1985040"/>
                  <a:ext cx="781200" cy="439200"/>
                  <a:chOff x="1599840" y="1985040"/>
                  <a:chExt cx="781200" cy="43920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1808280" y="1985040"/>
                    <a:ext cx="572760" cy="439200"/>
                    <a:chOff x="1808280" y="1985040"/>
                    <a:chExt cx="572760" cy="439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808280" y="198504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277000" y="214956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1599840" y="20944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599840" y="231444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599840" y="3247920"/>
                  <a:ext cx="781200" cy="439200"/>
                  <a:chOff x="1599840" y="3247920"/>
                  <a:chExt cx="781200" cy="439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1808280" y="3247920"/>
                    <a:ext cx="572760" cy="439200"/>
                    <a:chOff x="1808280" y="3247920"/>
                    <a:chExt cx="572760" cy="4392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808280" y="32479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277000" y="34124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1599840" y="33573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599840" y="35773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694600" y="2094480"/>
                  <a:ext cx="781200" cy="439200"/>
                  <a:chOff x="2694600" y="2094480"/>
                  <a:chExt cx="781200" cy="43920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03040" y="2094480"/>
                    <a:ext cx="572760" cy="439200"/>
                    <a:chOff x="2903040" y="2094480"/>
                    <a:chExt cx="572760" cy="4392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2903040" y="209448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71760" y="225900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>
                    <a:off x="2694600" y="22039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694600" y="24238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94600" y="3138120"/>
                  <a:ext cx="781200" cy="439200"/>
                  <a:chOff x="2694600" y="3138120"/>
                  <a:chExt cx="781200" cy="43920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903040" y="3138120"/>
                    <a:ext cx="572760" cy="439200"/>
                    <a:chOff x="2903040" y="3138120"/>
                    <a:chExt cx="572760" cy="4392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903040" y="31381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371760" y="33026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"/>
                  <p:cNvSpPr/>
                  <p:nvPr/>
                </p:nvSpPr>
                <p:spPr>
                  <a:xfrm>
                    <a:off x="2694600" y="32475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694600" y="34675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00" name=""/>
                <p:cNvCxnSpPr>
                  <a:stCxn id="279" idx="6"/>
                  <a:endCxn id="292" idx="0"/>
                </p:cNvCxnSpPr>
                <p:nvPr/>
              </p:nvCxnSpPr>
              <p:spPr>
                <a:xfrm>
                  <a:off x="2381760" y="220392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1" name=""/>
                <p:cNvCxnSpPr>
                  <a:stCxn id="285" idx="6"/>
                  <a:endCxn id="299" idx="0"/>
                </p:cNvCxnSpPr>
                <p:nvPr/>
              </p:nvCxnSpPr>
              <p:spPr>
                <a:xfrm>
                  <a:off x="2381760" y="346716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02" name=""/>
                <p:cNvSpPr/>
                <p:nvPr/>
              </p:nvSpPr>
              <p:spPr>
                <a:xfrm>
                  <a:off x="2694600" y="24242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94600" y="30830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476520" y="2314440"/>
                  <a:ext cx="208080" cy="164520"/>
                  <a:chOff x="3476520" y="2314440"/>
                  <a:chExt cx="208080" cy="1645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>
                    <a:off x="3476520" y="2314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84600" y="231444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3476520" y="3192480"/>
                  <a:ext cx="208080" cy="164520"/>
                  <a:chOff x="3476520" y="3192480"/>
                  <a:chExt cx="208080" cy="164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>
                    <a:off x="3476520" y="335700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3684600" y="319248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0" name=""/>
                <p:cNvCxnSpPr>
                  <a:stCxn id="306" idx="0"/>
                  <a:endCxn id="303" idx="0"/>
                </p:cNvCxnSpPr>
                <p:nvPr/>
              </p:nvCxnSpPr>
              <p:spPr>
                <a:xfrm flipH="1">
                  <a:off x="2693880" y="2477520"/>
                  <a:ext cx="991080" cy="605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1" name=""/>
                <p:cNvCxnSpPr>
                  <a:endCxn id="302" idx="0"/>
                </p:cNvCxnSpPr>
                <p:nvPr/>
              </p:nvCxnSpPr>
              <p:spPr>
                <a:xfrm flipH="1" flipV="1">
                  <a:off x="2693880" y="2588040"/>
                  <a:ext cx="991080" cy="604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312" name=""/>
              <p:cNvCxnSpPr>
                <a:stCxn id="306" idx="0"/>
              </p:cNvCxnSpPr>
              <p:nvPr/>
            </p:nvCxnSpPr>
            <p:spPr>
              <a:xfrm>
                <a:off x="3685320" y="231408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3" name=""/>
              <p:cNvCxnSpPr/>
              <p:nvPr/>
            </p:nvCxnSpPr>
            <p:spPr>
              <a:xfrm>
                <a:off x="3685320" y="335736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4" name=""/>
              <p:cNvCxnSpPr>
                <a:stCxn id="280" idx="0"/>
              </p:cNvCxnSpPr>
              <p:nvPr/>
            </p:nvCxnSpPr>
            <p:spPr>
              <a:xfrm flipH="1">
                <a:off x="1130040" y="209412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5" name=""/>
              <p:cNvCxnSpPr/>
              <p:nvPr/>
            </p:nvCxnSpPr>
            <p:spPr>
              <a:xfrm flipH="1">
                <a:off x="1130040" y="35769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6" name=""/>
              <p:cNvCxnSpPr>
                <a:stCxn id="281" idx="0"/>
                <a:endCxn id="286" idx="0"/>
              </p:cNvCxnSpPr>
              <p:nvPr/>
            </p:nvCxnSpPr>
            <p:spPr>
              <a:xfrm>
                <a:off x="1599480" y="2314080"/>
                <a:ext cx="1080" cy="104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7" name=""/>
              <p:cNvCxnSpPr/>
              <p:nvPr/>
            </p:nvCxnSpPr>
            <p:spPr>
              <a:xfrm flipH="1">
                <a:off x="1130040" y="28083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</p:grpSp>
        <p:sp>
          <p:nvSpPr>
            <p:cNvPr id="318" name=""/>
            <p:cNvSpPr/>
            <p:nvPr/>
          </p:nvSpPr>
          <p:spPr>
            <a:xfrm>
              <a:off x="609480" y="19303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480" y="341280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644920"/>
              <a:ext cx="6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94120" y="2149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4120" y="3247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06960" y="330300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4" name=""/>
          <p:cNvGraphicFramePr/>
          <p:nvPr/>
        </p:nvGraphicFramePr>
        <p:xfrm>
          <a:off x="304920" y="3965400"/>
          <a:ext cx="1828800" cy="1825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RS Temporiz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5410080"/>
            <a:ext cx="609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Problema en la transi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uego de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uelve a “0”, cualquier asimetría en el latch provoca no saber cuál será el valor de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9051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ransición de estado (Q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19920" y="2590920"/>
            <a:ext cx="1599840" cy="1371600"/>
            <a:chOff x="6019920" y="2590920"/>
            <a:chExt cx="1599840" cy="1371600"/>
          </a:xfrm>
        </p:grpSpPr>
        <p:grpSp>
          <p:nvGrpSpPr>
            <p:cNvPr id="329" name=""/>
            <p:cNvGrpSpPr/>
            <p:nvPr/>
          </p:nvGrpSpPr>
          <p:grpSpPr>
            <a:xfrm>
              <a:off x="6019920" y="2590920"/>
              <a:ext cx="1599840" cy="1371600"/>
              <a:chOff x="6019920" y="2590920"/>
              <a:chExt cx="1599840" cy="1371600"/>
            </a:xfrm>
          </p:grpSpPr>
          <p:sp>
            <p:nvSpPr>
              <p:cNvPr id="330" name=""/>
              <p:cNvSpPr/>
              <p:nvPr/>
            </p:nvSpPr>
            <p:spPr>
              <a:xfrm>
                <a:off x="6316200" y="2590920"/>
                <a:ext cx="100728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78960" y="260568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78960" y="354276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78960" y="3037320"/>
                <a:ext cx="770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80728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19920" y="324072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19920" y="374580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23840" y="295164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23840" y="352908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90320" y="274860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0320" y="332604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46000" y="3384720"/>
                <a:ext cx="1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197400" y="3168360"/>
              <a:ext cx="1184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810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02264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Es “transparente”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“ve” el comportamiento de la entrada, y se adapta a esté, lo cual no es des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590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4724280"/>
            <a:ext cx="6019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isparado por flanco negativ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responde a la entrada RS justo en la transición negativa d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3478320"/>
            <a:ext cx="7162920" cy="2220840"/>
            <a:chOff x="0" y="3478320"/>
            <a:chExt cx="7162920" cy="22208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0" y="3478320"/>
              <a:ext cx="716292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H="1">
              <a:off x="2864880" y="354744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480360" y="534312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8600" y="5683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l Flip Flop RS temporizado, pues no aparec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fila S=R=1 (que provoca problemas en el FF 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52280" y="1733400"/>
            <a:ext cx="3438000" cy="1543680"/>
            <a:chOff x="152280" y="1733400"/>
            <a:chExt cx="3438000" cy="1543680"/>
          </a:xfrm>
        </p:grpSpPr>
        <p:sp>
          <p:nvSpPr>
            <p:cNvPr id="354" name=""/>
            <p:cNvSpPr/>
            <p:nvPr/>
          </p:nvSpPr>
          <p:spPr>
            <a:xfrm>
              <a:off x="1276200" y="1796760"/>
              <a:ext cx="561960" cy="5083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27080" y="19238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7080" y="21780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6200" y="2749320"/>
              <a:ext cx="561960" cy="5079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7080" y="28764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27080" y="313056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"/>
            <p:cNvCxnSpPr>
              <a:stCxn id="355" idx="0"/>
            </p:cNvCxnSpPr>
            <p:nvPr/>
          </p:nvCxnSpPr>
          <p:spPr>
            <a:xfrm flipH="1">
              <a:off x="775440" y="192348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61" name=""/>
            <p:cNvSpPr/>
            <p:nvPr/>
          </p:nvSpPr>
          <p:spPr>
            <a:xfrm>
              <a:off x="152280" y="173340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280" y="29397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9480" y="23158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04760" y="1796760"/>
              <a:ext cx="1685520" cy="1460520"/>
              <a:chOff x="1904760" y="1796760"/>
              <a:chExt cx="1685520" cy="1460520"/>
            </a:xfrm>
          </p:grpSpPr>
          <p:sp>
            <p:nvSpPr>
              <p:cNvPr id="365" name=""/>
              <p:cNvSpPr/>
              <p:nvPr/>
            </p:nvSpPr>
            <p:spPr>
              <a:xfrm>
                <a:off x="2216880" y="1796760"/>
                <a:ext cx="1061280" cy="14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7040" y="1811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67040" y="2810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67040" y="2273040"/>
                <a:ext cx="811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04760" y="205056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04760" y="248832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04760" y="300348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520" y="21816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520" y="27954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16560" y="19645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16560" y="25801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90960" y="2642040"/>
                <a:ext cx="12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7" name=""/>
            <p:cNvCxnSpPr/>
            <p:nvPr/>
          </p:nvCxnSpPr>
          <p:spPr>
            <a:xfrm flipH="1">
              <a:off x="775440" y="217764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78" name=""/>
            <p:cNvSpPr/>
            <p:nvPr/>
          </p:nvSpPr>
          <p:spPr>
            <a:xfrm>
              <a:off x="152280" y="19875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" name=""/>
            <p:cNvCxnSpPr>
              <a:stCxn id="358" idx="0"/>
            </p:cNvCxnSpPr>
            <p:nvPr/>
          </p:nvCxnSpPr>
          <p:spPr>
            <a:xfrm flipH="1">
              <a:off x="775440" y="2876400"/>
              <a:ext cx="251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80" name=""/>
            <p:cNvSpPr/>
            <p:nvPr/>
          </p:nvSpPr>
          <p:spPr>
            <a:xfrm>
              <a:off x="152280" y="26859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59" idx="0"/>
            </p:cNvCxnSpPr>
            <p:nvPr/>
          </p:nvCxnSpPr>
          <p:spPr>
            <a:xfrm flipH="1">
              <a:off x="775440" y="313020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2" name=""/>
            <p:cNvCxnSpPr>
              <a:stCxn id="370" idx="0"/>
              <a:endCxn id="363" idx="3"/>
            </p:cNvCxnSpPr>
            <p:nvPr/>
          </p:nvCxnSpPr>
          <p:spPr>
            <a:xfrm flipH="1" flipV="1">
              <a:off x="838800" y="2483640"/>
              <a:ext cx="106596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3" name=""/>
            <p:cNvCxnSpPr>
              <a:stCxn id="354" idx="3"/>
              <a:endCxn id="369" idx="0"/>
            </p:cNvCxnSpPr>
            <p:nvPr/>
          </p:nvCxnSpPr>
          <p:spPr>
            <a:xfrm>
              <a:off x="1837800" y="205056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4" name=""/>
            <p:cNvCxnSpPr>
              <a:stCxn id="357" idx="3"/>
              <a:endCxn id="371" idx="0"/>
            </p:cNvCxnSpPr>
            <p:nvPr/>
          </p:nvCxnSpPr>
          <p:spPr>
            <a:xfrm>
              <a:off x="1837800" y="300312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5" name=""/>
            <p:cNvSpPr/>
            <p:nvPr/>
          </p:nvSpPr>
          <p:spPr>
            <a:xfrm flipH="1">
              <a:off x="505800" y="205092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66760" y="241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238880" y="1752480"/>
            <a:ext cx="1523880" cy="1388880"/>
            <a:chOff x="7238880" y="1752480"/>
            <a:chExt cx="1523880" cy="1388880"/>
          </a:xfrm>
        </p:grpSpPr>
        <p:grpSp>
          <p:nvGrpSpPr>
            <p:cNvPr id="388" name=""/>
            <p:cNvGrpSpPr/>
            <p:nvPr/>
          </p:nvGrpSpPr>
          <p:grpSpPr>
            <a:xfrm>
              <a:off x="7238880" y="1752480"/>
              <a:ext cx="1523880" cy="1388880"/>
              <a:chOff x="7238880" y="1752480"/>
              <a:chExt cx="1523880" cy="1388880"/>
            </a:xfrm>
          </p:grpSpPr>
          <p:sp>
            <p:nvSpPr>
              <p:cNvPr id="389" name=""/>
              <p:cNvSpPr/>
              <p:nvPr/>
            </p:nvSpPr>
            <p:spPr>
              <a:xfrm>
                <a:off x="7521480" y="1752480"/>
                <a:ext cx="958680" cy="137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95040" y="187380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5040" y="269568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95040" y="2257560"/>
                <a:ext cx="734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38880" y="202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38880" y="24019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38880" y="28501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0520" y="21139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80520" y="26913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72200" y="198216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77600" y="253008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305920" y="257544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1920" y="1752480"/>
                <a:ext cx="734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21920" y="2805480"/>
                <a:ext cx="734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7365960" y="2328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038480" y="1752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F JK: transparente y de 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162920" y="3489480"/>
          <a:ext cx="1904400" cy="220932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468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8643960" y="536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38480" y="2514600"/>
            <a:ext cx="2971800" cy="510120"/>
            <a:chOff x="4038480" y="2514600"/>
            <a:chExt cx="2971800" cy="510120"/>
          </a:xfrm>
        </p:grpSpPr>
        <p:sp>
          <p:nvSpPr>
            <p:cNvPr id="408" name=""/>
            <p:cNvSpPr/>
            <p:nvPr/>
          </p:nvSpPr>
          <p:spPr>
            <a:xfrm>
              <a:off x="4038480" y="2514600"/>
              <a:ext cx="2971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Preset y Clea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724280" y="2073240"/>
            <a:ext cx="4227480" cy="106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6320" y="1600200"/>
            <a:ext cx="426708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erminales Preset y Clear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n estado inicial para el flip-flop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 y Cr son la entrada a un latch RS si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 0 (para ambas operaciones)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es un latch, Pr y Cr deberán ser complemen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315200" y="3886200"/>
            <a:ext cx="1523520" cy="1676160"/>
            <a:chOff x="7315200" y="3886200"/>
            <a:chExt cx="1523520" cy="1676160"/>
          </a:xfrm>
        </p:grpSpPr>
        <p:grpSp>
          <p:nvGrpSpPr>
            <p:cNvPr id="415" name=""/>
            <p:cNvGrpSpPr/>
            <p:nvPr/>
          </p:nvGrpSpPr>
          <p:grpSpPr>
            <a:xfrm>
              <a:off x="7315200" y="4025520"/>
              <a:ext cx="1523520" cy="1408320"/>
              <a:chOff x="7315200" y="4025520"/>
              <a:chExt cx="1523520" cy="1408320"/>
            </a:xfrm>
          </p:grpSpPr>
          <p:sp>
            <p:nvSpPr>
              <p:cNvPr id="416" name=""/>
              <p:cNvSpPr/>
              <p:nvPr/>
            </p:nvSpPr>
            <p:spPr>
              <a:xfrm>
                <a:off x="7597800" y="402552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1360" y="41475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1360" y="49860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1360" y="45378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15200" y="43048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5200" y="468684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15200" y="51433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56480" y="439344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56480" y="49813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48520" y="426312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53920" y="48171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1880" y="486360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99320" y="4025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99320" y="5096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465680" y="462240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13240" y="388620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13240" y="542268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638680" y="1676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3809880"/>
            <a:ext cx="47242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vención Simbólic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lear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r=1 )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set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Cr=1 )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ógica Nega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Negadores e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320" y="3699000"/>
            <a:ext cx="4267080" cy="2778840"/>
            <a:chOff x="76320" y="3699000"/>
            <a:chExt cx="4267080" cy="2778840"/>
          </a:xfrm>
        </p:grpSpPr>
        <p:sp>
          <p:nvSpPr>
            <p:cNvPr id="436" name=""/>
            <p:cNvSpPr/>
            <p:nvPr/>
          </p:nvSpPr>
          <p:spPr>
            <a:xfrm>
              <a:off x="141120" y="4465800"/>
              <a:ext cx="4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320" y="5443560"/>
              <a:ext cx="5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20" y="4951440"/>
              <a:ext cx="446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92320" y="597996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5840" y="431172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0080" y="44118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0080" y="46101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5840" y="547848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080" y="55674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0080" y="57657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/>
            <p:nvPr/>
          </p:nvCxnSpPr>
          <p:spPr>
            <a:xfrm flipH="1">
              <a:off x="542520" y="4608000"/>
              <a:ext cx="18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7" name=""/>
            <p:cNvCxnSpPr>
              <a:stCxn id="444" idx="0"/>
            </p:cNvCxnSpPr>
            <p:nvPr/>
          </p:nvCxnSpPr>
          <p:spPr>
            <a:xfrm flipH="1">
              <a:off x="542520" y="556740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8" name=""/>
            <p:cNvCxnSpPr/>
            <p:nvPr/>
          </p:nvCxnSpPr>
          <p:spPr>
            <a:xfrm flipH="1">
              <a:off x="521640" y="5068440"/>
              <a:ext cx="1207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9" name=""/>
            <p:cNvCxnSpPr>
              <a:stCxn id="440" idx="3"/>
              <a:endCxn id="450" idx="0"/>
            </p:cNvCxnSpPr>
            <p:nvPr/>
          </p:nvCxnSpPr>
          <p:spPr>
            <a:xfrm>
              <a:off x="1334880" y="4509720"/>
              <a:ext cx="394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1" name=""/>
            <p:cNvCxnSpPr>
              <a:stCxn id="443" idx="3"/>
              <a:endCxn id="452" idx="0"/>
            </p:cNvCxnSpPr>
            <p:nvPr/>
          </p:nvCxnSpPr>
          <p:spPr>
            <a:xfrm flipV="1">
              <a:off x="1334880" y="5670000"/>
              <a:ext cx="3942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53" name=""/>
            <p:cNvGrpSpPr/>
            <p:nvPr/>
          </p:nvGrpSpPr>
          <p:grpSpPr>
            <a:xfrm>
              <a:off x="1192320" y="3860640"/>
              <a:ext cx="714240" cy="337320"/>
              <a:chOff x="1192320" y="3860640"/>
              <a:chExt cx="71424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1192320" y="386064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488600" y="3916440"/>
                <a:ext cx="11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728720" y="4413240"/>
              <a:ext cx="688320" cy="387360"/>
              <a:chOff x="1728720" y="4413240"/>
              <a:chExt cx="688320" cy="38736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1912320" y="4413240"/>
                <a:ext cx="504720" cy="387360"/>
                <a:chOff x="1912320" y="4413240"/>
                <a:chExt cx="504720" cy="3873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912320" y="441324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25600" y="455832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1728720" y="4509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28720" y="47037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728720" y="5380200"/>
              <a:ext cx="688320" cy="387360"/>
              <a:chOff x="1728720" y="5380200"/>
              <a:chExt cx="688320" cy="3873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912320" y="5380200"/>
                <a:ext cx="504720" cy="387360"/>
                <a:chOff x="1912320" y="5380200"/>
                <a:chExt cx="504720" cy="3873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912320" y="538020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25600" y="552528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1728720" y="54766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28720" y="5670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74960" y="4430880"/>
              <a:ext cx="506160" cy="387360"/>
              <a:chOff x="2874960" y="4430880"/>
              <a:chExt cx="506160" cy="387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874960" y="4430880"/>
                <a:ext cx="41436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89320" y="4575960"/>
                <a:ext cx="9180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692440" y="4606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92440" y="47228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868480" y="5349960"/>
              <a:ext cx="504720" cy="387360"/>
              <a:chOff x="2868480" y="5349960"/>
              <a:chExt cx="504720" cy="387360"/>
            </a:xfrm>
          </p:grpSpPr>
          <p:sp>
            <p:nvSpPr>
              <p:cNvPr id="474" name=""/>
              <p:cNvSpPr/>
              <p:nvPr/>
            </p:nvSpPr>
            <p:spPr>
              <a:xfrm>
                <a:off x="2868480" y="5349960"/>
                <a:ext cx="41328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81760" y="5495040"/>
                <a:ext cx="9144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692440" y="54468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2440" y="55738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" name=""/>
            <p:cNvCxnSpPr>
              <a:stCxn id="459" idx="6"/>
              <a:endCxn id="471" idx="0"/>
            </p:cNvCxnSpPr>
            <p:nvPr/>
          </p:nvCxnSpPr>
          <p:spPr>
            <a:xfrm flipV="1">
              <a:off x="2417400" y="4606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"/>
            <p:cNvCxnSpPr>
              <a:stCxn id="465" idx="6"/>
              <a:endCxn id="477" idx="0"/>
            </p:cNvCxnSpPr>
            <p:nvPr/>
          </p:nvCxnSpPr>
          <p:spPr>
            <a:xfrm>
              <a:off x="2417400" y="55735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80" name=""/>
            <p:cNvSpPr/>
            <p:nvPr/>
          </p:nvSpPr>
          <p:spPr>
            <a:xfrm>
              <a:off x="2692440" y="47340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2440" y="53020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381120" y="4624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64000" y="4624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381120" y="55450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564000" y="53989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6" name=""/>
            <p:cNvCxnSpPr>
              <a:stCxn id="483" idx="0"/>
              <a:endCxn id="481" idx="0"/>
            </p:cNvCxnSpPr>
            <p:nvPr/>
          </p:nvCxnSpPr>
          <p:spPr>
            <a:xfrm flipH="1">
              <a:off x="2691720" y="4768560"/>
              <a:ext cx="8722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7" name=""/>
            <p:cNvCxnSpPr>
              <a:endCxn id="480" idx="0"/>
            </p:cNvCxnSpPr>
            <p:nvPr/>
          </p:nvCxnSpPr>
          <p:spPr>
            <a:xfrm flipH="1" flipV="1">
              <a:off x="2691720" y="4866840"/>
              <a:ext cx="8722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8" name=""/>
            <p:cNvCxnSpPr>
              <a:stCxn id="483" idx="0"/>
            </p:cNvCxnSpPr>
            <p:nvPr/>
          </p:nvCxnSpPr>
          <p:spPr>
            <a:xfrm>
              <a:off x="3563640" y="4624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89" name=""/>
            <p:cNvCxnSpPr/>
            <p:nvPr/>
          </p:nvCxnSpPr>
          <p:spPr>
            <a:xfrm>
              <a:off x="3563640" y="55447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90" name=""/>
            <p:cNvCxnSpPr>
              <a:stCxn id="461" idx="0"/>
              <a:endCxn id="466" idx="0"/>
            </p:cNvCxnSpPr>
            <p:nvPr/>
          </p:nvCxnSpPr>
          <p:spPr>
            <a:xfrm>
              <a:off x="1728360" y="4703400"/>
              <a:ext cx="1080" cy="77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1" name=""/>
            <p:cNvSpPr/>
            <p:nvPr/>
          </p:nvSpPr>
          <p:spPr>
            <a:xfrm>
              <a:off x="3746520" y="447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46520" y="5446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2640" y="549576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1440" y="446580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1440" y="563076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33840" y="3860640"/>
              <a:ext cx="680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3840" y="62769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>
              <a:stCxn id="496" idx="4"/>
              <a:endCxn id="494" idx="2"/>
            </p:cNvCxnSpPr>
            <p:nvPr/>
          </p:nvCxnSpPr>
          <p:spPr>
            <a:xfrm flipH="1" rot="16200000">
              <a:off x="2538360" y="4156560"/>
              <a:ext cx="5720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97" idx="0"/>
              <a:endCxn id="495" idx="2"/>
            </p:cNvCxnSpPr>
            <p:nvPr/>
          </p:nvCxnSpPr>
          <p:spPr>
            <a:xfrm flipH="1" flipV="1" rot="5400000">
              <a:off x="2518200" y="5913720"/>
              <a:ext cx="6134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0" name=""/>
            <p:cNvSpPr/>
            <p:nvPr/>
          </p:nvSpPr>
          <p:spPr>
            <a:xfrm>
              <a:off x="2666880" y="4665600"/>
              <a:ext cx="669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40396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41" idx="0"/>
              <a:endCxn id="500" idx="0"/>
            </p:cNvCxnSpPr>
            <p:nvPr/>
          </p:nvCxnSpPr>
          <p:spPr>
            <a:xfrm flipH="1" rot="16200000">
              <a:off x="1587960" y="3552480"/>
              <a:ext cx="254520" cy="1971000"/>
            </a:xfrm>
            <a:prstGeom prst="bentConnector3">
              <a:avLst>
                <a:gd name="adj1" fmla="val -6685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>
              <a:stCxn id="501" idx="4"/>
              <a:endCxn id="445" idx="0"/>
            </p:cNvCxnSpPr>
            <p:nvPr/>
          </p:nvCxnSpPr>
          <p:spPr>
            <a:xfrm rot="5400000">
              <a:off x="1567440" y="4633560"/>
              <a:ext cx="294480" cy="1971000"/>
            </a:xfrm>
            <a:prstGeom prst="bentConnector3">
              <a:avLst>
                <a:gd name="adj1" fmla="val 18800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4" name=""/>
            <p:cNvSpPr/>
            <p:nvPr/>
          </p:nvSpPr>
          <p:spPr>
            <a:xfrm>
              <a:off x="2360520" y="36990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0520" y="614052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724280" y="3124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abla Flip Flop J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Race Around Condi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1676520"/>
            <a:ext cx="571500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oblema flip flop JK: “Race Around Condition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á en “1” el estado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queda indefinido debido a que el Flip Flop es transparente: La salida cambia debido a la entrada y reaparece en la entrada para provocar un cambio en la salida la cual se retroalimenta a la entrad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5638680"/>
            <a:ext cx="7162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 propagación interna (transistores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estado queda indefinido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lución no-práctica: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&lt;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286000" y="4540320"/>
            <a:ext cx="685800" cy="398880"/>
            <a:chOff x="2286000" y="4540320"/>
            <a:chExt cx="685800" cy="398880"/>
          </a:xfrm>
        </p:grpSpPr>
        <p:sp>
          <p:nvSpPr>
            <p:cNvPr id="511" name=""/>
            <p:cNvSpPr/>
            <p:nvPr/>
          </p:nvSpPr>
          <p:spPr>
            <a:xfrm>
              <a:off x="2362320" y="4632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86000" y="4540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86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676520"/>
            <a:ext cx="1523880" cy="1675800"/>
            <a:chOff x="1066680" y="1676520"/>
            <a:chExt cx="1523880" cy="1675800"/>
          </a:xfrm>
        </p:grpSpPr>
        <p:grpSp>
          <p:nvGrpSpPr>
            <p:cNvPr id="515" name=""/>
            <p:cNvGrpSpPr/>
            <p:nvPr/>
          </p:nvGrpSpPr>
          <p:grpSpPr>
            <a:xfrm>
              <a:off x="1066680" y="1815840"/>
              <a:ext cx="1523880" cy="1407960"/>
              <a:chOff x="1066680" y="1815840"/>
              <a:chExt cx="1523880" cy="140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1349280" y="181584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22840" y="1937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22840" y="27759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122840" y="232812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66680" y="20952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66680" y="247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66680" y="29332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08320" y="21837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08320" y="277128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00000" y="205308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05400" y="260712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33720" y="265356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50800" y="1815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0800" y="288648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1217160" y="241236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5080" y="167652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65080" y="321264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9718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29200" y="4556160"/>
            <a:ext cx="685800" cy="398880"/>
            <a:chOff x="5029200" y="4556160"/>
            <a:chExt cx="685800" cy="398880"/>
          </a:xfrm>
        </p:grpSpPr>
        <p:sp>
          <p:nvSpPr>
            <p:cNvPr id="536" name=""/>
            <p:cNvSpPr/>
            <p:nvPr/>
          </p:nvSpPr>
          <p:spPr>
            <a:xfrm>
              <a:off x="51055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92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772400" y="4556160"/>
            <a:ext cx="685800" cy="398880"/>
            <a:chOff x="7772400" y="4556160"/>
            <a:chExt cx="685800" cy="398880"/>
          </a:xfrm>
        </p:grpSpPr>
        <p:sp>
          <p:nvSpPr>
            <p:cNvPr id="539" name=""/>
            <p:cNvSpPr/>
            <p:nvPr/>
          </p:nvSpPr>
          <p:spPr>
            <a:xfrm>
              <a:off x="78487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5105520"/>
            <a:ext cx="8686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508968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=1, durante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eg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09480" y="3505320"/>
            <a:ext cx="2362320" cy="440640"/>
            <a:chOff x="609480" y="3505320"/>
            <a:chExt cx="2362320" cy="440640"/>
          </a:xfrm>
        </p:grpSpPr>
        <p:sp>
          <p:nvSpPr>
            <p:cNvPr id="545" name=""/>
            <p:cNvSpPr/>
            <p:nvPr/>
          </p:nvSpPr>
          <p:spPr>
            <a:xfrm>
              <a:off x="609480" y="3505320"/>
              <a:ext cx="236232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n+1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956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8412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62120" y="1752480"/>
            <a:ext cx="7781760" cy="4066920"/>
            <a:chOff x="762120" y="1752480"/>
            <a:chExt cx="7781760" cy="4066920"/>
          </a:xfrm>
        </p:grpSpPr>
        <p:grpSp>
          <p:nvGrpSpPr>
            <p:cNvPr id="550" name=""/>
            <p:cNvGrpSpPr/>
            <p:nvPr/>
          </p:nvGrpSpPr>
          <p:grpSpPr>
            <a:xfrm>
              <a:off x="762120" y="1752480"/>
              <a:ext cx="7781760" cy="4066920"/>
              <a:chOff x="762120" y="1752480"/>
              <a:chExt cx="7781760" cy="406692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752480"/>
                <a:ext cx="7781760" cy="40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771480" y="24062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1480" y="39301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48000" y="18284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448000" y="48445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81720" y="24062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817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2120" y="26348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1480" y="32000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7821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1072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53120" y="5028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8132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3400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14880" y="408600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14880" y="43430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86440" y="42098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58040" y="4214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5804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9144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6720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3380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24440" y="42764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13380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672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133800" y="273348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380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33800" y="248580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246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3960" y="279036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8176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1052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34280" y="290016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86760" y="2785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0552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00480" y="499716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9100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71920" y="40860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3852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8520" y="4281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8520" y="4038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8520" y="249516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28800" y="2733480"/>
                <a:ext cx="15264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3852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67240" y="26096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30500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5768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6320" y="3200400"/>
            <a:ext cx="685800" cy="380880"/>
            <a:chOff x="76320" y="3200400"/>
            <a:chExt cx="685800" cy="380880"/>
          </a:xfrm>
        </p:grpSpPr>
        <p:sp>
          <p:nvSpPr>
            <p:cNvPr id="599" name=""/>
            <p:cNvSpPr/>
            <p:nvPr/>
          </p:nvSpPr>
          <p:spPr>
            <a:xfrm>
              <a:off x="76320" y="35812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7144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1440" y="3200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4520" y="35812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4520" y="32875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1452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47920" y="5943600"/>
            <a:ext cx="685800" cy="380880"/>
            <a:chOff x="1447920" y="5943600"/>
            <a:chExt cx="685800" cy="380880"/>
          </a:xfrm>
        </p:grpSpPr>
        <p:sp>
          <p:nvSpPr>
            <p:cNvPr id="606" name=""/>
            <p:cNvSpPr/>
            <p:nvPr/>
          </p:nvSpPr>
          <p:spPr>
            <a:xfrm>
              <a:off x="1447920" y="63244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64304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43040" y="59436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86120" y="63244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6120" y="6030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98612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522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símb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dica que el cambio de estado se realiza en el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lanco negativo del reloj de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320" y="48769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flanco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flanco negativo del pulso el Master deshabilita la entrad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nte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las variables S y R el resultado de la señal de entrada JK y del estado Q que se encontraba en ese momento. Al mismo momento, se habilita la sección Slave, por lo que los datos SR captados son operados en el latch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fi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nuevo estado Q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l FF JK Master Slave no es transparent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581280" y="1600200"/>
            <a:ext cx="5486400" cy="3200400"/>
            <a:chOff x="3581280" y="1600200"/>
            <a:chExt cx="5486400" cy="320040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703680" y="1600200"/>
              <a:ext cx="5364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581280" y="205416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1280" y="32544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37240" y="16002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37240" y="40068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13920" y="223524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81280" y="267984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139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70960" y="330516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8680" y="417816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30640" y="1960560"/>
              <a:ext cx="2152800" cy="20988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42200" y="1960560"/>
              <a:ext cx="2152440" cy="2098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392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03920" y="3624120"/>
              <a:ext cx="10476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5840" y="35337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9480" y="353700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948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0404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336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880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2320" y="358632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38800" y="3492360"/>
              <a:ext cx="1047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1336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8800" y="227808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8800" y="217800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1040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16880" y="2417760"/>
              <a:ext cx="10620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00800" y="2319480"/>
              <a:ext cx="1065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97800" y="23194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13640" y="250344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01160" y="24130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76800" y="428004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45040" y="41148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4280040"/>
              <a:ext cx="10620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1984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44920" y="3492360"/>
              <a:ext cx="1065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44920" y="359100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44920" y="339876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44920" y="21844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44920" y="22780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16600" y="227484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78440" y="276228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89640" y="2762280"/>
              <a:ext cx="14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08720" y="205416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87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52280" y="1600200"/>
            <a:ext cx="335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pulso (flanco +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ndo el pulso de reloj aparece se habilita la entrada de JK a la sección Master mientras que la sección Slave mantiene el estado que poseía (Q). Master entrega en su salida SR la operación del flip flop JK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n Race Aroun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ues el estado Q no camb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352680" y="2666880"/>
            <a:ext cx="396720" cy="300240"/>
            <a:chOff x="3352680" y="2666880"/>
            <a:chExt cx="396720" cy="300240"/>
          </a:xfrm>
        </p:grpSpPr>
        <p:sp>
          <p:nvSpPr>
            <p:cNvPr id="666" name=""/>
            <p:cNvSpPr/>
            <p:nvPr/>
          </p:nvSpPr>
          <p:spPr>
            <a:xfrm>
              <a:off x="3352680" y="296712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6536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65360" y="2666880"/>
              <a:ext cx="1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64080" y="2967120"/>
              <a:ext cx="8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64080" y="273564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66408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os Flip Flop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D (Data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;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como “delay” de un 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T (Toggl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en contadores, donde T=“1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952880" y="2133720"/>
            <a:ext cx="2514600" cy="1676160"/>
            <a:chOff x="4952880" y="2133720"/>
            <a:chExt cx="2514600" cy="1676160"/>
          </a:xfrm>
        </p:grpSpPr>
        <p:grpSp>
          <p:nvGrpSpPr>
            <p:cNvPr id="675" name=""/>
            <p:cNvGrpSpPr/>
            <p:nvPr/>
          </p:nvGrpSpPr>
          <p:grpSpPr>
            <a:xfrm>
              <a:off x="5695560" y="3290400"/>
              <a:ext cx="380880" cy="304200"/>
              <a:chOff x="5695560" y="3290400"/>
              <a:chExt cx="380880" cy="304200"/>
            </a:xfrm>
          </p:grpSpPr>
          <p:sp>
            <p:nvSpPr>
              <p:cNvPr id="676" name=""/>
              <p:cNvSpPr/>
              <p:nvPr/>
            </p:nvSpPr>
            <p:spPr>
              <a:xfrm flipV="1" rot="16200000">
                <a:off x="5686200" y="3299400"/>
                <a:ext cx="304200" cy="285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16200000">
                <a:off x="5981760" y="3397320"/>
                <a:ext cx="975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8" name=""/>
            <p:cNvCxnSpPr>
              <a:stCxn id="676" idx="3"/>
              <a:endCxn id="679" idx="2"/>
            </p:cNvCxnSpPr>
            <p:nvPr/>
          </p:nvCxnSpPr>
          <p:spPr>
            <a:xfrm flipH="1" rot="10800000">
              <a:off x="5691600" y="2596320"/>
              <a:ext cx="592920" cy="844920"/>
            </a:xfrm>
            <a:prstGeom prst="bentConnector3">
              <a:avLst>
                <a:gd name="adj1" fmla="val -383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77" idx="0"/>
              <a:endCxn id="681" idx="2"/>
            </p:cNvCxnSpPr>
            <p:nvPr/>
          </p:nvCxnSpPr>
          <p:spPr>
            <a:xfrm flipV="1">
              <a:off x="6075000" y="3434400"/>
              <a:ext cx="222840" cy="6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2" name=""/>
            <p:cNvCxnSpPr>
              <a:stCxn id="683" idx="6"/>
            </p:cNvCxnSpPr>
            <p:nvPr/>
          </p:nvCxnSpPr>
          <p:spPr>
            <a:xfrm>
              <a:off x="7211880" y="2584080"/>
              <a:ext cx="1771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4" name=""/>
            <p:cNvCxnSpPr>
              <a:stCxn id="685" idx="6"/>
            </p:cNvCxnSpPr>
            <p:nvPr/>
          </p:nvCxnSpPr>
          <p:spPr>
            <a:xfrm>
              <a:off x="7211520" y="3422520"/>
              <a:ext cx="1803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6" name=""/>
            <p:cNvSpPr/>
            <p:nvPr/>
          </p:nvSpPr>
          <p:spPr>
            <a:xfrm>
              <a:off x="4952880" y="2590560"/>
              <a:ext cx="51444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294768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048360" y="2133720"/>
              <a:ext cx="1419120" cy="1676160"/>
              <a:chOff x="6048360" y="2133720"/>
              <a:chExt cx="1419120" cy="1676160"/>
            </a:xfrm>
          </p:grpSpPr>
          <p:sp>
            <p:nvSpPr>
              <p:cNvPr id="689" name=""/>
              <p:cNvSpPr/>
              <p:nvPr/>
            </p:nvSpPr>
            <p:spPr>
              <a:xfrm>
                <a:off x="6275160" y="227340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48360" y="23954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48360" y="3233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70400" y="278604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6240" y="240840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30920" y="3243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59600" y="329076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376680" y="227340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376680" y="334332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43400" y="28702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91320" y="213372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691320" y="367020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6233760" y="286992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284880" y="25272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4800" y="25146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97480" y="33656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4800" y="335268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2" name=""/>
          <p:cNvGraphicFramePr/>
          <p:nvPr/>
        </p:nvGraphicFramePr>
        <p:xfrm>
          <a:off x="7594560" y="236232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3" name=""/>
          <p:cNvGrpSpPr/>
          <p:nvPr/>
        </p:nvGrpSpPr>
        <p:grpSpPr>
          <a:xfrm>
            <a:off x="4952880" y="4267080"/>
            <a:ext cx="2514600" cy="1676160"/>
            <a:chOff x="4952880" y="4267080"/>
            <a:chExt cx="2514600" cy="1676160"/>
          </a:xfrm>
        </p:grpSpPr>
        <p:cxnSp>
          <p:nvCxnSpPr>
            <p:cNvPr id="704" name=""/>
            <p:cNvCxnSpPr>
              <a:stCxn id="705" idx="2"/>
              <a:endCxn id="706" idx="2"/>
            </p:cNvCxnSpPr>
            <p:nvPr/>
          </p:nvCxnSpPr>
          <p:spPr>
            <a:xfrm rot="10800000">
              <a:off x="6284160" y="4729680"/>
              <a:ext cx="13320" cy="839160"/>
            </a:xfrm>
            <a:prstGeom prst="bentConnector3">
              <a:avLst>
                <a:gd name="adj1" fmla="val 64722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7" name=""/>
            <p:cNvCxnSpPr>
              <a:stCxn id="708" idx="6"/>
            </p:cNvCxnSpPr>
            <p:nvPr/>
          </p:nvCxnSpPr>
          <p:spPr>
            <a:xfrm>
              <a:off x="7211880" y="471744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9" name=""/>
            <p:cNvCxnSpPr>
              <a:stCxn id="710" idx="6"/>
            </p:cNvCxnSpPr>
            <p:nvPr/>
          </p:nvCxnSpPr>
          <p:spPr>
            <a:xfrm>
              <a:off x="7211520" y="5555520"/>
              <a:ext cx="1803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1" name=""/>
            <p:cNvSpPr/>
            <p:nvPr/>
          </p:nvSpPr>
          <p:spPr>
            <a:xfrm>
              <a:off x="4952880" y="4724280"/>
              <a:ext cx="514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508140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048360" y="4267080"/>
              <a:ext cx="1419120" cy="1676160"/>
              <a:chOff x="6048360" y="4267080"/>
              <a:chExt cx="1419120" cy="167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6275160" y="440676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48360" y="45288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48360" y="5367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70400" y="49194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726240" y="45417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30920" y="53766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59600" y="54241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76680" y="440676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76680" y="547668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43400" y="500364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91320" y="426708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91320" y="580356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6233760" y="500328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84880" y="46605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4800" y="46479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97480" y="54990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4800" y="54860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27" name=""/>
          <p:cNvGraphicFramePr/>
          <p:nvPr/>
        </p:nvGraphicFramePr>
        <p:xfrm>
          <a:off x="7594560" y="449568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"/>
          <p:cNvSpPr/>
          <p:nvPr/>
        </p:nvSpPr>
        <p:spPr>
          <a:xfrm>
            <a:off x="8396280" y="5010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248520" y="1447920"/>
            <a:ext cx="2590560" cy="510120"/>
            <a:chOff x="6248520" y="1447920"/>
            <a:chExt cx="2590560" cy="510120"/>
          </a:xfrm>
        </p:grpSpPr>
        <p:sp>
          <p:nvSpPr>
            <p:cNvPr id="730" name=""/>
            <p:cNvSpPr/>
            <p:nvPr/>
          </p:nvSpPr>
          <p:spPr>
            <a:xfrm>
              <a:off x="6248520" y="1447920"/>
              <a:ext cx="25905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4372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2944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6483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2590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48320" y="47386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523880" y="2557440"/>
            <a:ext cx="1828800" cy="1000800"/>
            <a:chOff x="1523880" y="2557440"/>
            <a:chExt cx="1828800" cy="1000800"/>
          </a:xfrm>
        </p:grpSpPr>
        <p:sp>
          <p:nvSpPr>
            <p:cNvPr id="738" name=""/>
            <p:cNvSpPr/>
            <p:nvPr/>
          </p:nvSpPr>
          <p:spPr>
            <a:xfrm>
              <a:off x="1523880" y="3048120"/>
              <a:ext cx="1828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D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10040" y="255744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D Edge Triggered Positiv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2117880"/>
            <a:ext cx="33530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lip Flop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la configuración no es Master Slave, sin embargo es disparado por flanco positivo y no es transparente. A esta configuración se le llam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dge-trigg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(En la figura el 74LS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mbién existe una versión edge triggered positivo para el Flip Flop JK Master Slave (74LS10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52280" y="1828800"/>
            <a:ext cx="5486040" cy="4495680"/>
            <a:chOff x="152280" y="1828800"/>
            <a:chExt cx="5486040" cy="4495680"/>
          </a:xfrm>
        </p:grpSpPr>
        <p:grpSp>
          <p:nvGrpSpPr>
            <p:cNvPr id="743" name=""/>
            <p:cNvGrpSpPr/>
            <p:nvPr/>
          </p:nvGrpSpPr>
          <p:grpSpPr>
            <a:xfrm>
              <a:off x="360360" y="1828800"/>
              <a:ext cx="5277960" cy="4495680"/>
              <a:chOff x="360360" y="1828800"/>
              <a:chExt cx="5277960" cy="449568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360" y="1828800"/>
                <a:ext cx="5277960" cy="449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1831680" y="30769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818720" y="32832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04520" y="321156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513160" y="448092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818720" y="461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18720" y="452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83168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818720" y="5691600"/>
                <a:ext cx="13896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823040" y="549612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04520" y="5592960"/>
                <a:ext cx="13860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28240" y="452124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32560" y="432396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49676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96760" y="334620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28240" y="344916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2560" y="325188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818720" y="22068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23040" y="20005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04520" y="210348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52280" y="548856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280" y="4198680"/>
              <a:ext cx="76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360360" y="3884400"/>
              <a:ext cx="624600" cy="358560"/>
              <a:chOff x="360360" y="3884400"/>
              <a:chExt cx="624600" cy="358560"/>
            </a:xfrm>
          </p:grpSpPr>
          <p:sp>
            <p:nvSpPr>
              <p:cNvPr id="767" name=""/>
              <p:cNvSpPr/>
              <p:nvPr/>
            </p:nvSpPr>
            <p:spPr>
              <a:xfrm>
                <a:off x="360360" y="4242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53820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8200" y="388440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50680" y="4242960"/>
                <a:ext cx="13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8200" y="396648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85068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667760" y="309492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gistros de Desplazamiento, contadores, divisores por N (lo verán en PD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emorias (ROM, RAM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ógica Combinacional, Secu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istema Combinacional: Defini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finició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que tienen una o más líneas de entrada y que calculan uno o varios valores de salida determinados únicamente por las entradas actu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s Importa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ltiplexores (MUX)- demultiplexores (DEMUX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cod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OMs, EPROMs, EEPRO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apeo Display de 7 segment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598320" y="1905120"/>
            <a:ext cx="793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uffers e inversores Tri-est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de acceso a buses mediante alta imped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 como buff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us: muchos dispositivos conectados en paralelo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mpedancia equivalente pequeñ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uede representar carga para uno de los dispositivos conectados al bu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Buffer%20tri-estado-simbolo" descr=""/>
          <p:cNvPicPr/>
          <p:nvPr/>
        </p:nvPicPr>
        <p:blipFill>
          <a:blip r:embed="rId1"/>
          <a:stretch/>
        </p:blipFill>
        <p:spPr>
          <a:xfrm>
            <a:off x="304920" y="4587840"/>
            <a:ext cx="71326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tradas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efinen la línea de salida que se activa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ctiva una y sólo un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 bits de entrad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íneas a contro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tri-estado: permite control en la toma del b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O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un Chip Select (CS ó CE) que habilita la pastil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Output Enable (OE) que habilita las salidas (columnas de la matriz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decodificador que selecciona una y sólo una fila de la matri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a matriz donde está almacenada la información (típicamente NM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721400" y="1828800"/>
            <a:ext cx="427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N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-M7-M9 son carg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restantes son driver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nea de palabra a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stor driver con baj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ertical forma un “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invier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lumna es un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lmacena información sólo para l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4303800" y="1676520"/>
            <a:ext cx="4840200" cy="485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33520" y="5867280"/>
                <a:ext cx="1371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590920" y="5867280"/>
                <a:ext cx="817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OM con direccionamient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i-dimensional (filas y column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Estática (S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Lectura y Escritura (pin RD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ri-estado (O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emoria 2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reccionamiento: n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formación almacenada: 2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alabras (words) en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m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xión a buses I/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codificador de Filas (puede incluir uno de column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Memoria%20RAM%204x3" descr=""/>
          <p:cNvPicPr/>
          <p:nvPr/>
        </p:nvPicPr>
        <p:blipFill>
          <a:blip r:embed="rId1"/>
          <a:stretch/>
        </p:blipFill>
        <p:spPr>
          <a:xfrm>
            <a:off x="3878280" y="1417680"/>
            <a:ext cx="5265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dinámica (D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sidera la capacidad de los MOSFET para almacenar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requiere alimentación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se descarga con corriente constante (~pA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plicar voltaje en forma periódica para no perder la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 proceso anterior se le denomina “refres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 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propiedades. Revisar en particula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atch RS y Flip Flop RS Temporiz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 Master Sla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Otros Flip Flops y Edge Trigger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rganización de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Dos%20memorias%20de%204M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721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80880" y="1981080"/>
          <a:ext cx="8458200" cy="4038840"/>
        </p:xfrm>
        <a:graphic>
          <a:graphicData uri="http://schemas.openxmlformats.org/drawingml/2006/table">
            <a:tbl>
              <a:tblPr/>
              <a:tblGrid>
                <a:gridCol w="1197000"/>
                <a:gridCol w="2314800"/>
                <a:gridCol w="1595160"/>
                <a:gridCol w="957240"/>
                <a:gridCol w="2394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Tí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é Ni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de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ación 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ámara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tch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tillados por nivel de voltaje (y no flanc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n generar memoria de un bi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lip Flo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bios de estado gatillados por flancos (Edge triggered positivo o negativ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ster Slave: no transpar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stros de desplazamiento, contadores, divide por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morias: RAM y RO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“simétr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asimetrías intrínsecas: precisión finita en los valores de los dispositivos, dependencia de la temperatura, uso y paso del tiempo, etc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s de equilibr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ables: Dos puntos (Bi-establ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en corte 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saturado, QB en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estable: Estado simétr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lquier perturbación lleva al sistema a uno de los puntos de equilibrio est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B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B tiende a satur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A tiende a cort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A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.. Hasta alcanzar el punto de equilibrio estable QA corte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58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Biestab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cepto interesa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imitación: no existe control del est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externo del estado de un biesta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ón como memoria de 1 b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352680" y="2057400"/>
          <a:ext cx="3114720" cy="1825560"/>
        </p:xfrm>
        <a:graphic>
          <a:graphicData uri="http://schemas.openxmlformats.org/drawingml/2006/table">
            <a:tbl>
              <a:tblPr/>
              <a:tblGrid>
                <a:gridCol w="577800"/>
                <a:gridCol w="609840"/>
                <a:gridCol w="609480"/>
                <a:gridCol w="671400"/>
                <a:gridCol w="6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Latch RS Genér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943440"/>
            <a:ext cx="89154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Implementa unidad de memoria básica. Funcion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seteo y resete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filas 2-3);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emoriza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X=Y=1 mantiene los datos (siempre que exista alimentación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e activa por nivel de voltaje, desde la salida se puede “ver” la entrada a través del latch pues es “transparente”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i se suprime la entrada X=Y=0, se tiene que P = ~Q, que es el modo de operación deseable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arias configuraciones y tecnologías de implementación posibles (CMOS, TTL, EC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0240" y="2084400"/>
            <a:ext cx="2590920" cy="14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retroalimentación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a las compuertas no debe representar carga para la sal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828800"/>
            <a:ext cx="3505320" cy="1902240"/>
            <a:chOff x="0" y="1828800"/>
            <a:chExt cx="3505320" cy="1902240"/>
          </a:xfrm>
        </p:grpSpPr>
        <p:grpSp>
          <p:nvGrpSpPr>
            <p:cNvPr id="105" name=""/>
            <p:cNvGrpSpPr/>
            <p:nvPr/>
          </p:nvGrpSpPr>
          <p:grpSpPr>
            <a:xfrm>
              <a:off x="1154160" y="1893960"/>
              <a:ext cx="978840" cy="523800"/>
              <a:chOff x="1154160" y="1893960"/>
              <a:chExt cx="978840" cy="5238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415160" y="1893960"/>
                <a:ext cx="717840" cy="523800"/>
                <a:chOff x="1415160" y="1893960"/>
                <a:chExt cx="717840" cy="523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415160" y="1893960"/>
                  <a:ext cx="587520" cy="5238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02680" y="2090160"/>
                  <a:ext cx="130320" cy="1306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154160" y="20246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4160" y="228672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154160" y="3137040"/>
              <a:ext cx="978840" cy="522000"/>
              <a:chOff x="1154160" y="3137040"/>
              <a:chExt cx="978840" cy="5220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415160" y="3137040"/>
                <a:ext cx="717840" cy="522000"/>
                <a:chOff x="1415160" y="3137040"/>
                <a:chExt cx="717840" cy="522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415160" y="3137040"/>
                  <a:ext cx="587520" cy="5220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02680" y="3332520"/>
                  <a:ext cx="130320" cy="13032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1154160" y="3267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54160" y="3528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" name=""/>
            <p:cNvCxnSpPr>
              <a:endCxn id="109" idx="0"/>
            </p:cNvCxnSpPr>
            <p:nvPr/>
          </p:nvCxnSpPr>
          <p:spPr>
            <a:xfrm>
              <a:off x="761760" y="202536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endCxn id="116" idx="0"/>
            </p:cNvCxnSpPr>
            <p:nvPr/>
          </p:nvCxnSpPr>
          <p:spPr>
            <a:xfrm>
              <a:off x="761760" y="352872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1154160" y="22860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54160" y="30718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360" y="2155680"/>
              <a:ext cx="261720" cy="195480"/>
              <a:chOff x="2133360" y="2155680"/>
              <a:chExt cx="261720" cy="195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133360" y="215568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080" y="21556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33360" y="3201480"/>
              <a:ext cx="261720" cy="195480"/>
              <a:chOff x="2133360" y="3201480"/>
              <a:chExt cx="261720" cy="19548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2133360" y="339696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2395080" y="32014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7" name=""/>
            <p:cNvCxnSpPr>
              <a:stCxn id="123" idx="0"/>
              <a:endCxn id="120" idx="0"/>
            </p:cNvCxnSpPr>
            <p:nvPr/>
          </p:nvCxnSpPr>
          <p:spPr>
            <a:xfrm flipH="1">
              <a:off x="1153800" y="2351160"/>
              <a:ext cx="12420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endCxn id="119" idx="0"/>
            </p:cNvCxnSpPr>
            <p:nvPr/>
          </p:nvCxnSpPr>
          <p:spPr>
            <a:xfrm flipH="1" flipV="1">
              <a:off x="1153800" y="2482200"/>
              <a:ext cx="124200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>
              <a:stCxn id="123" idx="0"/>
            </p:cNvCxnSpPr>
            <p:nvPr/>
          </p:nvCxnSpPr>
          <p:spPr>
            <a:xfrm>
              <a:off x="2395080" y="215532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2395080" y="339696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499680" y="202536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2" name=""/>
            <p:cNvSpPr/>
            <p:nvPr/>
          </p:nvSpPr>
          <p:spPr>
            <a:xfrm>
              <a:off x="0" y="182880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5720" y="195912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55720" y="326700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H="1">
              <a:off x="499680" y="352872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6" name=""/>
            <p:cNvSpPr/>
            <p:nvPr/>
          </p:nvSpPr>
          <p:spPr>
            <a:xfrm>
              <a:off x="0" y="333216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Básica: Chatterless Swit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76920"/>
            <a:ext cx="8458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t=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switch (SPDT) conmuta desde la posición 1 a la posición 2 y tarda en hacer contacto un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. Al hacer contacto existen rebotes (chatters) que provocan que el voltaje en el terminal 2 conmute entre 0 y 5 V como muestra la figura para X. El latch permite eliminar esos rebotes al “memorizar” la transición inicial y no alterar est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2057400"/>
            <a:ext cx="3581280" cy="2743200"/>
            <a:chOff x="228600" y="2057400"/>
            <a:chExt cx="3581280" cy="2743200"/>
          </a:xfrm>
        </p:grpSpPr>
        <p:grpSp>
          <p:nvGrpSpPr>
            <p:cNvPr id="140" name=""/>
            <p:cNvGrpSpPr/>
            <p:nvPr/>
          </p:nvGrpSpPr>
          <p:grpSpPr>
            <a:xfrm>
              <a:off x="228600" y="2057400"/>
              <a:ext cx="3581280" cy="2743200"/>
              <a:chOff x="228600" y="2057400"/>
              <a:chExt cx="3581280" cy="2743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28600" y="2057400"/>
                <a:ext cx="3581280" cy="2743200"/>
                <a:chOff x="228600" y="2057400"/>
                <a:chExt cx="3581280" cy="274320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057400"/>
                  <a:ext cx="3581280" cy="274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2366280" y="3233880"/>
                  <a:ext cx="727200" cy="108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94200" y="336564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94200" y="393048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93840" y="351792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93840" y="408924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07560" y="335772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07560" y="392904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96240" y="3473280"/>
                  <a:ext cx="8856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13800" y="371484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77800" y="34639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3" name=""/>
                <p:cNvCxnSpPr>
                  <a:stCxn id="150" idx="6"/>
                  <a:endCxn id="152" idx="2"/>
                </p:cNvCxnSpPr>
                <p:nvPr/>
              </p:nvCxnSpPr>
              <p:spPr>
                <a:xfrm>
                  <a:off x="785160" y="3522240"/>
                  <a:ext cx="159336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4" name=""/>
                <p:cNvSpPr/>
                <p:nvPr/>
              </p:nvSpPr>
              <p:spPr>
                <a:xfrm>
                  <a:off x="2377800" y="40165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5" name=""/>
                <p:cNvCxnSpPr>
                  <a:stCxn id="151" idx="6"/>
                  <a:endCxn id="154" idx="2"/>
                </p:cNvCxnSpPr>
                <p:nvPr/>
              </p:nvCxnSpPr>
              <p:spPr>
                <a:xfrm>
                  <a:off x="1602720" y="3763440"/>
                  <a:ext cx="775080" cy="313560"/>
                </a:xfrm>
                <a:prstGeom prst="bentConnector3">
                  <a:avLst>
                    <a:gd name="adj1" fmla="val 49907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6" name=""/>
                <p:cNvSpPr/>
                <p:nvPr/>
              </p:nvSpPr>
              <p:spPr>
                <a:xfrm>
                  <a:off x="1103760" y="430848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1109520" y="3955680"/>
                  <a:ext cx="441720" cy="42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00440" y="2182680"/>
                  <a:ext cx="71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+5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11480" y="3594240"/>
                  <a:ext cx="99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atc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779400" y="3809880"/>
                <a:ext cx="757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6612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08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1905120"/>
            <a:ext cx="3048120" cy="2743200"/>
            <a:chOff x="3886200" y="1905120"/>
            <a:chExt cx="3048120" cy="2743200"/>
          </a:xfrm>
        </p:grpSpPr>
        <p:sp>
          <p:nvSpPr>
            <p:cNvPr id="164" name=""/>
            <p:cNvSpPr/>
            <p:nvPr/>
          </p:nvSpPr>
          <p:spPr>
            <a:xfrm>
              <a:off x="4140360" y="37339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97480" y="32767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480" y="3276720"/>
              <a:ext cx="237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37339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2884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9528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2427120"/>
              <a:ext cx="812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952880" y="2883960"/>
              <a:ext cx="4366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895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26080" y="28843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6260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9560" y="2427120"/>
              <a:ext cx="23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8320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1023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83200" y="2427120"/>
              <a:ext cx="1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2360" y="2884320"/>
              <a:ext cx="83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0360" y="4648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52880" y="4191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52880" y="4191120"/>
              <a:ext cx="192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0360" y="46483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2492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33796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4229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9440" y="3429000"/>
              <a:ext cx="3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1969920"/>
              <a:ext cx="0" cy="267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397320"/>
              <a:ext cx="653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3706920"/>
              <a:ext cx="654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24520" y="2166840"/>
              <a:ext cx="11736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9560" y="1905120"/>
              <a:ext cx="8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506920" y="2166840"/>
              <a:ext cx="2383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0400" y="386388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No hay 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7238880" y="2517840"/>
          <a:ext cx="1609560" cy="1825560"/>
        </p:xfrm>
        <a:graphic>
          <a:graphicData uri="http://schemas.openxmlformats.org/drawingml/2006/table">
            <a:tbl>
              <a:tblPr/>
              <a:tblGrid>
                <a:gridCol w="403200"/>
                <a:gridCol w="380880"/>
                <a:gridCol w="425520"/>
                <a:gridCol w="39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28600" y="1447920"/>
            <a:ext cx="6705720" cy="3284280"/>
            <a:chOff x="228600" y="1447920"/>
            <a:chExt cx="6705720" cy="32842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670572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51840" y="244476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17280" y="2444760"/>
              <a:ext cx="64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4920" y="4800600"/>
            <a:ext cx="464796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mplementación con compuertas NOR CMO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representan carga una a la otra (Para la salida de un NOR la carga es el terminal Gate, el cual consume corriente despreciable a “bajas” frecuenci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S=1, R=0 no es deseable pues se pierde el carácter lógico complementario de Q  y P = ~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623960"/>
            <a:ext cx="190512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=1 (R=1 simetría)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1 On y P1 Off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 = “low”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3 Off y P3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a obten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to conoc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=0 (S=0 simetría)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4 Off y P4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159520" y="4876920"/>
          <a:ext cx="2232000" cy="1574640"/>
        </p:xfrm>
        <a:graphic>
          <a:graphicData uri="http://schemas.openxmlformats.org/drawingml/2006/table">
            <a:tbl>
              <a:tblPr/>
              <a:tblGrid>
                <a:gridCol w="536400"/>
                <a:gridCol w="536760"/>
                <a:gridCol w="590400"/>
                <a:gridCol w="56844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7648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111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ado inicial: “cualquier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447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2590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6035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t=0, Reset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mantener est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978360"/>
            <a:ext cx="838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8862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0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Re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886200"/>
            <a:ext cx="1219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Indese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Leszek Szczecinski</cp:lastModifiedBy>
  <dcterms:modified xsi:type="dcterms:W3CDTF">2003-08-05T22:35:17Z</dcterms:modified>
  <cp:revision>213</cp:revision>
  <dc:subject>Latches / Flip-Flops</dc:subject>
  <dc:title>Clase 14</dc:title>
</cp:coreProperties>
</file>