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5.wmf" ContentType="image/x-wmf"/>
  <Override PartName="/ppt/media/image7.png" ContentType="image/png"/>
  <Override PartName="/ppt/media/image12.png" ContentType="image/png"/>
  <Override PartName="/ppt/media/image9.wmf" ContentType="image/x-wmf"/>
  <Override PartName="/ppt/media/image8.wmf" ContentType="image/x-wmf"/>
  <Override PartName="/ppt/media/image13.png" ContentType="image/png"/>
  <Override PartName="/ppt/media/image30.png" ContentType="image/png"/>
  <Override PartName="/ppt/media/image4.wmf" ContentType="image/x-wmf"/>
  <Override PartName="/ppt/media/image27.wmf" ContentType="image/x-wmf"/>
  <Override PartName="/ppt/media/image3.png" ContentType="image/png"/>
  <Override PartName="/ppt/media/image26.png" ContentType="image/png"/>
  <Override PartName="/ppt/media/image29.wmf" ContentType="image/x-wmf"/>
  <Override PartName="/ppt/media/image1.png" ContentType="image/png"/>
  <Override PartName="/ppt/media/image14.wmf" ContentType="image/x-wmf"/>
  <Override PartName="/ppt/media/image16.wmf" ContentType="image/x-wmf"/>
  <Override PartName="/ppt/media/image17.png" ContentType="image/png"/>
  <Override PartName="/ppt/media/image20.png" ContentType="image/png"/>
  <Override PartName="/ppt/media/image19.png" ContentType="image/png"/>
  <Override PartName="/ppt/media/image18.png" ContentType="image/png"/>
  <Override PartName="/ppt/media/image21.wmf" ContentType="image/x-wmf"/>
  <Override PartName="/ppt/media/image22.png" ContentType="image/png"/>
  <Override PartName="/ppt/media/image23.png" ContentType="image/png"/>
  <Override PartName="/ppt/media/image24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A4E03-2026-494D-90A4-8835039E79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AC739-F27A-40F9-9DB4-EE3B191E14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9CF74-09D1-44AB-A61C-E1EBF8842E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8A906-58B7-4E3D-BE7D-CDBB26CB5B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15CF-34F0-4088-AF3C-321628AD3F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5FFD-CFAA-42B4-882D-F11CBAE501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A40E-53EA-46AB-BCD7-AD28EBF3DB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4B42-50E9-446D-A36F-1ED1BF9F62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4BAA-E9BF-44A7-B15E-19C8676380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675A-25BF-4864-99A9-DCC33058A0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240F-757E-4978-A65B-BE1F208A30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60F2D-98B9-4576-B78B-B65F550893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2419-4987-4066-889C-0B65BC51F9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04AD-F7B6-43EB-8989-86EE6566E9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49C1-AA00-4B85-B483-6793477817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C7C7-81F1-4EC3-8F33-311D819BCB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73B6-0473-44BF-8A50-00527466CB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F526E-9F66-4D12-8B26-1090EBDE20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D1925-B670-4BB9-B2E9-154CA3826B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F6B6F-AEA6-4948-BAB9-B654486F99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B7F5B-ADCC-4A37-A81D-9346541776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92FC1-DD95-43AF-B9C1-2C3C1AEA2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57CE4-42B4-42BB-BC95-0698CC3DB3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BC6A7-EF3C-4AC1-BBB1-1E1A53FEC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D38B-66B1-4F8F-81C5-E392E5F6A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742F-9038-4C14-9F7C-0ABDD63F6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Característ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OSFET puede simular una carga: ¡¡¡Gran Integración!!!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permite conmutación “total” (máximo voltaj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2058840"/>
            <a:ext cx="8305920" cy="44942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2058840"/>
            <a:ext cx="8305920" cy="44942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010280" y="4038480"/>
            <a:ext cx="2133720" cy="2001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514600" y="5181480"/>
            <a:ext cx="91440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5562720"/>
            <a:ext cx="9907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7672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52680" y="32767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52680" y="41911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48769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15000" y="5638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324480" y="3544920"/>
                <a:ext cx="144792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2548080"/>
            <a:ext cx="7543800" cy="40813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0" y="2548080"/>
            <a:ext cx="7543800" cy="40813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Invers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7619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99360" indent="-9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blemas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15280" indent="-8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Transistor Driver cortad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¡¡¡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3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15280" indent="-8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Transistor Driver En saturación o Triode: Pendiente alt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ransición poco abrupta (No es bueno para el Noise Margi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25909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81480" y="33526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81480" y="42670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49528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81480" y="548640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19920" y="5791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7116840" y="2438280"/>
            <a:ext cx="2027160" cy="3551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838080" y="3048120"/>
                <a:ext cx="144792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2548080"/>
            <a:ext cx="7543800" cy="40813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2548080"/>
            <a:ext cx="7543800" cy="4081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Invers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s Noise Margin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2.8V; 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3.1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1.5V; 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4.5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blemas con los Noise Margin High: NM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&lt; 0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Mal funcionamient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81480" y="25909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81480" y="33526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81480" y="42670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81480" y="49528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81480" y="548640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5791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7116840" y="2620800"/>
            <a:ext cx="2027160" cy="3551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838080" y="3048120"/>
                <a:ext cx="144792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Inversor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sibles soluciones a los problemas anteri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te no implic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debe a que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0 para un dispositivo enhancement. Se usará un depletion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0)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poco abrupta. Se debe a que tienen corrientes comparables. Idea: La carga Mosfet tendrá un K menor al del Mosfet Driver, o equivalentemente una razón W/L menor (tradeoff implica un (W/L)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~ ¼ (W/L)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rive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191120" y="4267080"/>
                <a:ext cx="30589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752480" y="4343400"/>
                <a:ext cx="19814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NMOS con Resistencia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de Off Velocidad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densador 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O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cidad de salida (propia y carg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ción Salida Low – High (L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1 en corte (abierto)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carga 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R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ción Salida High – Low (H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1 en Triode (cerrado)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esistencia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 tierr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descarga a un voltaje  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D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(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+ R ) con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(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+R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ado que R &gt;&gt;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la transición L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H toma más tiempo y exige que R sea pequeñ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 pequeño implica Menor Noise Marg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012000" y="2362320"/>
            <a:ext cx="2979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es CM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CMOS: Complementary MOSF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Driver N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Carga P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uelven los problemas de los inversores anteri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sipación estática miníma, sólo disipación de potencia dinám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a impedancia de entrada y baja impedancia de sal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o Noise Margi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tegración VLS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mutación en todo el rango lógic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: velocidad (solución GaAsFET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CMOS: Característic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5791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rreglo “similar” al Push Pull analógic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mínimo de “Potencia Estática”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s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 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renaj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~ 10 pA/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)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; 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renaj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~ 0.5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)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de Potencia en la transi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Simplificado: Interruptores en Seri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specto Tecnológic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MOS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K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MOS 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a una relación de aspecto igual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se desea simetría, PMOS requiere más “oblea” que N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249960" y="2498760"/>
            <a:ext cx="2817720" cy="35971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943680" y="287964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43680" y="524196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600200" y="3048120"/>
                <a:ext cx="25732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t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A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CMOS: Característic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OS como Interruptores Seri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 “pequeño” corta al NMOS y activa al P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 “grande” activa al NMOS y corta al P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249960" y="2498760"/>
            <a:ext cx="2817720" cy="359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243080" y="4846680"/>
                <a:ext cx="20574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861840" y="3505320"/>
                <a:ext cx="13878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938160" y="5989680"/>
                <a:ext cx="25192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623960" y="4114800"/>
                <a:ext cx="15415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6943680" y="287964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43680" y="524196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166760" y="5380200"/>
                <a:ext cx="252108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4854600" y="3733920"/>
                <a:ext cx="22212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778280" y="2819520"/>
                <a:ext cx="239760" cy="27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5616720" y="3200400"/>
                <a:ext cx="55548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5311800" y="2209680"/>
                <a:ext cx="37152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2471760" y="3505320"/>
                <a:ext cx="14907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79" name=""/>
          <p:cNvGrpSpPr/>
          <p:nvPr/>
        </p:nvGrpSpPr>
        <p:grpSpPr>
          <a:xfrm>
            <a:off x="5006520" y="2361960"/>
            <a:ext cx="762480" cy="2596320"/>
            <a:chOff x="5006520" y="2361960"/>
            <a:chExt cx="762480" cy="2596320"/>
          </a:xfrm>
        </p:grpSpPr>
        <p:sp>
          <p:nvSpPr>
            <p:cNvPr id="280" name=""/>
            <p:cNvSpPr/>
            <p:nvPr/>
          </p:nvSpPr>
          <p:spPr>
            <a:xfrm flipV="1">
              <a:off x="5235480" y="236196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006520" y="2809800"/>
              <a:ext cx="222120" cy="46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229000" y="363384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5033880" y="4230360"/>
              <a:ext cx="380880" cy="727920"/>
              <a:chOff x="5033880" y="4230360"/>
              <a:chExt cx="380880" cy="72792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5033880" y="4578120"/>
                <a:ext cx="380880" cy="380160"/>
                <a:chOff x="5033880" y="4578120"/>
                <a:chExt cx="380880" cy="3801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5033880" y="4806360"/>
                  <a:ext cx="380880" cy="151920"/>
                  <a:chOff x="5033880" y="4806360"/>
                  <a:chExt cx="380880" cy="1519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5033880" y="4806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5109840" y="4882320"/>
                    <a:ext cx="228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186160" y="4958280"/>
                    <a:ext cx="75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9" name=""/>
                <p:cNvSpPr/>
                <p:nvPr/>
              </p:nvSpPr>
              <p:spPr>
                <a:xfrm flipV="1">
                  <a:off x="5227560" y="457812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90" name=""/>
              <p:cNvCxnSpPr>
                <a:stCxn id="282" idx="0"/>
                <a:endCxn id="289" idx="0"/>
              </p:cNvCxnSpPr>
              <p:nvPr/>
            </p:nvCxnSpPr>
            <p:spPr>
              <a:xfrm flipH="1">
                <a:off x="5227200" y="4230360"/>
                <a:ext cx="2160" cy="347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</a:ln>
            </p:spPr>
          </p:cxnSp>
        </p:grpSp>
        <p:sp>
          <p:nvSpPr>
            <p:cNvPr id="291" name=""/>
            <p:cNvSpPr/>
            <p:nvPr/>
          </p:nvSpPr>
          <p:spPr>
            <a:xfrm>
              <a:off x="5235480" y="35049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35480" y="33526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3" name=""/>
          <p:cNvGraphicFramePr/>
          <p:nvPr/>
        </p:nvGraphicFramePr>
        <p:xfrm>
          <a:off x="4724280" y="5181480"/>
          <a:ext cx="1168560" cy="1004760"/>
        </p:xfrm>
        <a:graphic>
          <a:graphicData uri="http://schemas.openxmlformats.org/drawingml/2006/table">
            <a:tbl>
              <a:tblPr/>
              <a:tblGrid>
                <a:gridCol w="584280"/>
                <a:gridCol w="584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CMOS: Curva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52280" y="1838160"/>
            <a:ext cx="8686800" cy="47149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152280" y="1838160"/>
            <a:ext cx="8686800" cy="47149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8458200" y="21337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458200" y="4191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4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458200" y="5486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3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458200" y="59785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2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320" y="5486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ff3300"/>
                </a:solidFill>
                <a:latin typeface="Times New Roman"/>
              </a:rPr>
              <a:t>- 3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320" y="57592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ff3300"/>
                </a:solidFill>
                <a:latin typeface="Times New Roman"/>
              </a:rPr>
              <a:t>- 2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60498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ff3300"/>
                </a:solidFill>
                <a:latin typeface="Times New Roman"/>
              </a:rPr>
              <a:t>- 2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838080" y="2013120"/>
            <a:ext cx="1593720" cy="1572120"/>
            <a:chOff x="838080" y="2013120"/>
            <a:chExt cx="1593720" cy="1572120"/>
          </a:xfrm>
        </p:grpSpPr>
        <p:sp>
          <p:nvSpPr>
            <p:cNvPr id="305" name=""/>
            <p:cNvSpPr/>
            <p:nvPr/>
          </p:nvSpPr>
          <p:spPr>
            <a:xfrm>
              <a:off x="847440" y="2394000"/>
              <a:ext cx="152388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ff3300"/>
                  </a:solidFill>
                  <a:latin typeface="Times New Roman"/>
                </a:rPr>
                <a:t>-4</a:t>
              </a:r>
              <a:br>
                <a:rPr sz="2400"/>
              </a:br>
              <a:r>
                <a:rPr b="0" i="1" lang="es-ES_tradnl" sz="24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ff3300"/>
                  </a:solidFill>
                  <a:latin typeface="Times New Roman"/>
                </a:rPr>
                <a:t>-3</a:t>
              </a:r>
              <a:br>
                <a:rPr sz="2400"/>
              </a:br>
              <a:r>
                <a:rPr b="0" i="1" lang="es-ES_tradnl" sz="24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ff33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838080" y="2013120"/>
                  <a:ext cx="84744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NMOS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1609560" y="2013120"/>
                  <a:ext cx="82224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MOS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800600" y="2666880"/>
                <a:ext cx="25210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4257720" y="6248520"/>
                <a:ext cx="7714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8458200" y="57992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2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CM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92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 consumo de potencia dinámic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-20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es proporcional a la frecuencia de conmu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2214720"/>
            <a:ext cx="7848720" cy="43383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914400" y="4495680"/>
            <a:ext cx="152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Off); P(Tri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2666880" y="4876560"/>
            <a:ext cx="2819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1320" y="5638680"/>
            <a:ext cx="152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Triode); P(Of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48120" y="4495680"/>
            <a:ext cx="914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SAT)</a:t>
            </a:r>
            <a:br>
              <a:rPr sz="1200"/>
            </a:b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P(Tri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67080" y="4876920"/>
            <a:ext cx="914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SAT)</a:t>
            </a:r>
            <a:br>
              <a:rPr sz="1200"/>
            </a:b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P(S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5562720"/>
            <a:ext cx="914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Triode)</a:t>
            </a:r>
            <a:br>
              <a:rPr sz="1200"/>
            </a:b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P(S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7086600" y="1828800"/>
                <a:ext cx="179712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</m:sSub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↔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Electrónica Digit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2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Inversores Lógico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TTL (simplificad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udiaremos su funcionamien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Buscaremos mejor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iveles Lógic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0” lógico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oltaje de entrada “bajo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1” lógico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oltaje de entrada “alto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648320" y="2209680"/>
            <a:ext cx="4495320" cy="3809880"/>
            <a:chOff x="4648320" y="2209680"/>
            <a:chExt cx="4495320" cy="3809880"/>
          </a:xfrm>
        </p:grpSpPr>
        <p:pic>
          <p:nvPicPr>
            <p:cNvPr id="324" name="" descr=""/>
            <p:cNvPicPr/>
            <p:nvPr/>
          </p:nvPicPr>
          <p:blipFill>
            <a:blip r:embed="rId1"/>
            <a:stretch/>
          </p:blipFill>
          <p:spPr>
            <a:xfrm>
              <a:off x="4648320" y="2209680"/>
              <a:ext cx="449532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5112720" y="4012920"/>
              <a:ext cx="128520" cy="135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Salida en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TTL (simplificad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égimen Perman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en “0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1 saturado, Q2 y Q3 en cor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Salida en “1”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4008600" y="2225520"/>
            <a:ext cx="505908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Salida Satura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33526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TTL (simplificad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égimen Perman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en “1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1 en “inversa activa”, Q2 y Q3 en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en “0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3733920" y="2362320"/>
            <a:ext cx="524196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Conmut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talles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versión a “alta velocidad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rítico para Velocida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nsición  Saturación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rt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1 ayuda a reducir 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imero: Q2 y Q3 saturados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 una entrada de Q1 cambia a “0” Q1 entra a zona activ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 en activa ayuda a remover los portadores (carga) en exceso en Q2 y Q3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ógica TTL posee alta velocidad de conmutación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duce el delay en la respues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Utiliza “fuente de corriente” para extraer los portadores en exces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4861080" y="2087640"/>
            <a:ext cx="4054320" cy="3246480"/>
            <a:chOff x="4861080" y="2087640"/>
            <a:chExt cx="4054320" cy="3246480"/>
          </a:xfrm>
        </p:grpSpPr>
        <p:pic>
          <p:nvPicPr>
            <p:cNvPr id="335" name="" descr=""/>
            <p:cNvPicPr/>
            <p:nvPr/>
          </p:nvPicPr>
          <p:blipFill>
            <a:blip r:embed="rId1"/>
            <a:stretch/>
          </p:blipFill>
          <p:spPr>
            <a:xfrm>
              <a:off x="4861080" y="2087640"/>
              <a:ext cx="4054320" cy="32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5280120" y="3624120"/>
              <a:ext cx="115920" cy="115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Limitacion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114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mitación de Interconex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Q3 en sat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cibe corrientes de las etapas posteriores: Define Fan-Ou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debe salir de Satur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debe superar sus rating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an Out depende del nivel de voltaje a la entrada para el “1” lógico. Si el voltaje es “grande” entonces habrá una gran corriente de base en Q3, a medida que el voltaje de “achica” también lo hace la corriente base disminuyendo el fan out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4572000" y="1523880"/>
            <a:ext cx="4054320" cy="3246480"/>
            <a:chOff x="4572000" y="1523880"/>
            <a:chExt cx="4054320" cy="3246480"/>
          </a:xfrm>
        </p:grpSpPr>
        <p:pic>
          <p:nvPicPr>
            <p:cNvPr id="340" name="" descr=""/>
            <p:cNvPicPr/>
            <p:nvPr/>
          </p:nvPicPr>
          <p:blipFill>
            <a:blip r:embed="rId1"/>
            <a:stretch/>
          </p:blipFill>
          <p:spPr>
            <a:xfrm>
              <a:off x="4572000" y="1523880"/>
              <a:ext cx="4054320" cy="32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4991040" y="3060360"/>
              <a:ext cx="115920" cy="115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4572000" y="4842000"/>
            <a:ext cx="441972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jemplo Fan-Out “optimista” (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): </a:t>
            </a:r>
            <a:br>
              <a:rPr sz="18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(1.2+N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1) mA           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6.5 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Condición d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Saturación: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6.5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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&gt; (1.2+N*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or lo tanto N &lt; 1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Limitacion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mutación a la salid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pacitancia de car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 len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Pull-up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fine constante de tiempo muy alta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condensador se carga desde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E(SAT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ducir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es solución: aumenta disipación de potencia (no permite gran integración) y genera peaks de corr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Salida Tótem-Pol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4861080" y="2011320"/>
            <a:ext cx="4054320" cy="3246480"/>
            <a:chOff x="4861080" y="2011320"/>
            <a:chExt cx="4054320" cy="3246480"/>
          </a:xfrm>
        </p:grpSpPr>
        <p:pic>
          <p:nvPicPr>
            <p:cNvPr id="346" name="" descr=""/>
            <p:cNvPicPr/>
            <p:nvPr/>
          </p:nvPicPr>
          <p:blipFill>
            <a:blip r:embed="rId1"/>
            <a:stretch/>
          </p:blipFill>
          <p:spPr>
            <a:xfrm>
              <a:off x="4861080" y="2011320"/>
              <a:ext cx="4054320" cy="32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5280120" y="3547800"/>
              <a:ext cx="115920" cy="115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Mejorad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Salida Tótem-Pol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3 es “reservorio” de corriente (descarga C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4 es fuente de corriente (Carga)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2 como “phase-splitter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 ráp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2-Q3 pasan de Saturación a corte. Salida permanece en 0.2 pues no puede cambiar instantáneamente por C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lican Q4 en saturación, es decir baja impedancia y rápida descarg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4 funciona como“Pull-up Activ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419720" y="2286000"/>
            <a:ext cx="4647960" cy="3473280"/>
            <a:chOff x="4419720" y="2286000"/>
            <a:chExt cx="4647960" cy="3473280"/>
          </a:xfrm>
        </p:grpSpPr>
        <p:pic>
          <p:nvPicPr>
            <p:cNvPr id="351" name="" descr=""/>
            <p:cNvPicPr/>
            <p:nvPr/>
          </p:nvPicPr>
          <p:blipFill>
            <a:blip r:embed="rId1"/>
            <a:stretch/>
          </p:blipFill>
          <p:spPr>
            <a:xfrm>
              <a:off x="4419720" y="2286000"/>
              <a:ext cx="4647960" cy="34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4822920" y="3998880"/>
              <a:ext cx="115920" cy="11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. TTL Mejorado: Curva de transfer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carga: [0, 1mA] incrementos de 100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52280" y="2662200"/>
            <a:ext cx="7010640" cy="38512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2514600" y="2471760"/>
            <a:ext cx="4213080" cy="35481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 flipV="1">
            <a:off x="1752480" y="3580920"/>
            <a:ext cx="0" cy="2590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3581280"/>
            <a:ext cx="1218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320" y="3321000"/>
            <a:ext cx="533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2280" y="5683320"/>
            <a:ext cx="609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71600" y="614052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57400" y="624852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2514600" y="6095520"/>
            <a:ext cx="7632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" y="5975280"/>
            <a:ext cx="1905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3520" y="3429000"/>
            <a:ext cx="1218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. TTL Mejorado: Curva de transfer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495320" y="1523520"/>
            <a:ext cx="4038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carga: [0, 1mA] incrementos de 100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52280" y="1784520"/>
            <a:ext cx="8610840" cy="472896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5181480" y="1857240"/>
            <a:ext cx="3886200" cy="32720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 flipV="1">
            <a:off x="1752480" y="3273480"/>
            <a:ext cx="1800" cy="289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320" y="2819520"/>
            <a:ext cx="587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2280" y="5643720"/>
            <a:ext cx="67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71600" y="6100920"/>
            <a:ext cx="83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09680" y="6172200"/>
            <a:ext cx="83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735280" y="5943600"/>
            <a:ext cx="84240" cy="341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22160" y="5865840"/>
            <a:ext cx="209736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" y="2967120"/>
            <a:ext cx="134136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0880" y="2209680"/>
            <a:ext cx="1143000" cy="57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,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orte</a:t>
            </a:r>
            <a:br>
              <a:rPr sz="1400"/>
            </a:b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s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666880" y="2622600"/>
            <a:ext cx="2743200" cy="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conduce por R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pero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orte.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conduce pero no saturado lo cual hace descender a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4070520"/>
            <a:ext cx="2362320" cy="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aumenta conducción.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se enciende (activa)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y hace bajar rápidamente a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48120" y="5349960"/>
            <a:ext cx="2438280" cy="57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aumenta conducción.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se satura (activa)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y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se co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742840" y="3809880"/>
            <a:ext cx="6094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48120" y="3581280"/>
            <a:ext cx="1981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Segundo Quiebr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TL: Parámetros Famil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oltaj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L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H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rrient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Hmax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Lmax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Hmax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Lmax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962520" y="1785960"/>
            <a:ext cx="472428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plicaciones Digital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Figuras de Mérito de los Invers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Inversores lógicos básicos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NMOS, CMOS, TT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arámetros Familia TTL:Voltaj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carga: [0, 1mA] incrementos de 100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91520" y="2209680"/>
            <a:ext cx="137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3.6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467480" y="2590920"/>
            <a:ext cx="1295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0.2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543800" y="3854520"/>
            <a:ext cx="129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1.2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43800" y="4159080"/>
            <a:ext cx="129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0.6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76320" y="2286000"/>
            <a:ext cx="8610480" cy="4333320"/>
            <a:chOff x="76320" y="2286000"/>
            <a:chExt cx="8610480" cy="4333320"/>
          </a:xfrm>
        </p:grpSpPr>
        <p:sp>
          <p:nvSpPr>
            <p:cNvPr id="394" name=""/>
            <p:cNvSpPr/>
            <p:nvPr/>
          </p:nvSpPr>
          <p:spPr>
            <a:xfrm>
              <a:off x="7467480" y="2971800"/>
              <a:ext cx="1219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L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= 0.8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43800" y="3429000"/>
              <a:ext cx="1143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H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= 1.4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6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0"/>
              <a:ext cx="7696440" cy="42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2"/>
            <a:stretch/>
          </p:blipFill>
          <p:spPr>
            <a:xfrm>
              <a:off x="2819520" y="2362320"/>
              <a:ext cx="4213080" cy="35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 flipV="1">
              <a:off x="1752480" y="3580920"/>
              <a:ext cx="0" cy="2590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3520" y="3581280"/>
              <a:ext cx="1218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6320" y="332100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2280" y="5683320"/>
              <a:ext cx="60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371600" y="61405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057400" y="62485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2514600" y="6095520"/>
              <a:ext cx="7632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31800" y="5975280"/>
              <a:ext cx="190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3520" y="3429000"/>
              <a:ext cx="1218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arámetros Familia TTL: Corriente I</a:t>
            </a:r>
            <a:r>
              <a:rPr b="0" i="1" lang="es-ES_tradnl" sz="3600" spc="-1" strike="noStrike" baseline="-25000">
                <a:solidFill>
                  <a:srgbClr val="000000"/>
                </a:solidFill>
                <a:latin typeface="Times New Roman"/>
              </a:rPr>
              <a:t>OLMAX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0" y="2168640"/>
            <a:ext cx="8077320" cy="43844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562720" y="306216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.4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19920" y="542448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.5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96080" y="5729400"/>
            <a:ext cx="12956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.6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476760" y="2057400"/>
            <a:ext cx="106668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4120" y="1828800"/>
            <a:ext cx="3581280" cy="74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ición de mayor exigencia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justo al bord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4259520" cy="33102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533520" y="5105520"/>
            <a:ext cx="7467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467480" y="4921200"/>
            <a:ext cx="12956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ff3300"/>
                </a:solidFill>
                <a:latin typeface="Times New Roman"/>
              </a:rPr>
              <a:t>OL</a:t>
            </a:r>
            <a:r>
              <a:rPr b="0" i="1" lang="es-ES_tradnl" sz="1600" spc="-1" strike="noStrike">
                <a:solidFill>
                  <a:srgbClr val="ff3300"/>
                </a:solidFill>
                <a:latin typeface="Times New Roman"/>
              </a:rPr>
              <a:t> = 0.2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952880" y="4419360"/>
            <a:ext cx="16002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994200"/>
            <a:ext cx="2286000" cy="7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LMAX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define el número de compuertas conectadas a la salida para el estado “low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arámetros Familia TTL: Corriente I</a:t>
            </a:r>
            <a:r>
              <a:rPr b="0" i="1" lang="es-ES_tradnl" sz="3600" spc="-1" strike="noStrike" baseline="-25000">
                <a:solidFill>
                  <a:srgbClr val="000000"/>
                </a:solidFill>
                <a:latin typeface="Times New Roman"/>
              </a:rPr>
              <a:t>ILMAX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LMA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 Cuando la corriente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oma su máximo valor para voltajes de entrada “low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conjunto con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LMA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finen Fan Out Low: Número de “cargas” que puede alimentar el inversor en el estado low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an Out es el mínimo entre Fan Out low y high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886200" cy="3807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1143000" y="4038480"/>
                <a:ext cx="29718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an Out Lo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LMA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arámetros Familia TTL: Corriente I</a:t>
            </a:r>
            <a:r>
              <a:rPr b="0" i="1" lang="es-ES_tradnl" sz="3600" spc="-1" strike="noStrike" baseline="-25000">
                <a:solidFill>
                  <a:srgbClr val="000000"/>
                </a:solidFill>
                <a:latin typeface="Times New Roman"/>
              </a:rPr>
              <a:t>OHMAX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0" y="2266920"/>
            <a:ext cx="7924680" cy="43020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685800" y="281952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0.4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685440" y="3124080"/>
            <a:ext cx="15228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219320" y="320040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0.5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1142640" y="3505320"/>
            <a:ext cx="76212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124080" y="5653080"/>
            <a:ext cx="22100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.8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2742840" y="5181480"/>
            <a:ext cx="76212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9480" y="5576760"/>
            <a:ext cx="12956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0.7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1371600" y="48006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0" y="374796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0.6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1905120" y="4114800"/>
            <a:ext cx="83808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" y="4984920"/>
            <a:ext cx="7467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3520" y="1828800"/>
            <a:ext cx="3581280" cy="74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ición de mayor exigencia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467480" y="4800600"/>
            <a:ext cx="12956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ff3300"/>
                </a:solidFill>
                <a:latin typeface="Times New Roman"/>
              </a:rPr>
              <a:t>OH</a:t>
            </a:r>
            <a:r>
              <a:rPr b="0" i="1" lang="es-ES_tradnl" sz="1600" spc="-1" strike="noStrike">
                <a:solidFill>
                  <a:srgbClr val="ff3300"/>
                </a:solidFill>
                <a:latin typeface="Times New Roman"/>
              </a:rPr>
              <a:t> = 3.6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4038480" y="1574640"/>
            <a:ext cx="37339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cada de inversor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0" y="2308320"/>
            <a:ext cx="7848720" cy="426060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464328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nversores: Figuras de Mérit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nversores: Famili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MOS: alta integración (carga MOSFET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OS: bajo consumo de pot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TL (Alta velocidad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de entrada remueve portadores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sde transistores saturados (como fuente de corrient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lida Tótem Pole: Pull up Activ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stante de tiempo pequeña en transición Low -&gt; High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sumo mínimo en saturación debido que diodo y transistor de carga están cortados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 en Inversor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ango de Voltajes que corresponden al “1” y “0” lógicos (“High y Low”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 región de “incerteza” (transición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argen de Ruido (Noise Margin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 velocidad de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iempos de subida y baj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de Propag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sipación de potenci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ática y Dinámic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fectos de carg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la entrada (fan-in) y Salida (fan-out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05720" y="3124080"/>
            <a:ext cx="99036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4735440"/>
            <a:ext cx="99036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20080" y="25909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6" idx="0"/>
            <a:endCxn id="98" idx="4"/>
          </p:cNvCxnSpPr>
          <p:nvPr/>
        </p:nvCxnSpPr>
        <p:spPr>
          <a:xfrm flipH="1" flipV="1">
            <a:off x="7195680" y="2742840"/>
            <a:ext cx="57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7120080" y="4191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96" idx="2"/>
            <a:endCxn id="100" idx="0"/>
          </p:cNvCxnSpPr>
          <p:nvPr/>
        </p:nvCxnSpPr>
        <p:spPr>
          <a:xfrm flipH="1">
            <a:off x="7195680" y="3809520"/>
            <a:ext cx="576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100" idx="4"/>
            <a:endCxn id="97" idx="0"/>
          </p:cNvCxnSpPr>
          <p:nvPr/>
        </p:nvCxnSpPr>
        <p:spPr>
          <a:xfrm>
            <a:off x="7196040" y="4343040"/>
            <a:ext cx="5760" cy="39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8153280" y="419112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6"/>
            <a:endCxn id="103" idx="2"/>
          </p:cNvCxnSpPr>
          <p:nvPr/>
        </p:nvCxnSpPr>
        <p:spPr>
          <a:xfrm>
            <a:off x="7272000" y="4266720"/>
            <a:ext cx="881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05" name=""/>
          <p:cNvGrpSpPr/>
          <p:nvPr/>
        </p:nvGrpSpPr>
        <p:grpSpPr>
          <a:xfrm>
            <a:off x="7010280" y="5714640"/>
            <a:ext cx="380880" cy="305280"/>
            <a:chOff x="7010280" y="5714640"/>
            <a:chExt cx="380880" cy="305280"/>
          </a:xfrm>
        </p:grpSpPr>
        <p:sp>
          <p:nvSpPr>
            <p:cNvPr id="106" name=""/>
            <p:cNvSpPr/>
            <p:nvPr/>
          </p:nvSpPr>
          <p:spPr>
            <a:xfrm>
              <a:off x="7010280" y="5867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86600" y="5943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19720" y="60199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7203960" y="5714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0" name=""/>
          <p:cNvCxnSpPr>
            <a:stCxn id="109" idx="0"/>
            <a:endCxn id="97" idx="2"/>
          </p:cNvCxnSpPr>
          <p:nvPr/>
        </p:nvCxnSpPr>
        <p:spPr>
          <a:xfrm flipH="1" flipV="1">
            <a:off x="7200720" y="5420880"/>
            <a:ext cx="3600" cy="294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8229600" y="3962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38880" y="245268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9920" y="50068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6"/>
            <a:endCxn id="97" idx="1"/>
          </p:cNvCxnSpPr>
          <p:nvPr/>
        </p:nvCxnSpPr>
        <p:spPr>
          <a:xfrm flipV="1">
            <a:off x="6172200" y="5077800"/>
            <a:ext cx="5342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5638680" y="46623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 en Inversor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7848360" cy="430992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6553080" y="2160720"/>
            <a:ext cx="2590920" cy="2957040"/>
            <a:chOff x="6553080" y="2160720"/>
            <a:chExt cx="2590920" cy="2957040"/>
          </a:xfrm>
        </p:grpSpPr>
        <p:sp>
          <p:nvSpPr>
            <p:cNvPr id="119" name=""/>
            <p:cNvSpPr/>
            <p:nvPr/>
          </p:nvSpPr>
          <p:spPr>
            <a:xfrm>
              <a:off x="7359120" y="2717280"/>
              <a:ext cx="748080" cy="568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Carg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9120" y="4053240"/>
              <a:ext cx="748080" cy="568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Dri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72320" y="2275200"/>
              <a:ext cx="114840" cy="12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2" name=""/>
            <p:cNvCxnSpPr>
              <a:stCxn id="119" idx="0"/>
              <a:endCxn id="121" idx="4"/>
            </p:cNvCxnSpPr>
            <p:nvPr/>
          </p:nvCxnSpPr>
          <p:spPr>
            <a:xfrm flipH="1" flipV="1">
              <a:off x="7729560" y="2400840"/>
              <a:ext cx="396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7672320" y="3601800"/>
              <a:ext cx="114840" cy="12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2"/>
              <a:endCxn id="123" idx="0"/>
            </p:cNvCxnSpPr>
            <p:nvPr/>
          </p:nvCxnSpPr>
          <p:spPr>
            <a:xfrm flipH="1">
              <a:off x="7729560" y="3285360"/>
              <a:ext cx="396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5" name=""/>
            <p:cNvCxnSpPr>
              <a:stCxn id="123" idx="4"/>
              <a:endCxn id="120" idx="0"/>
            </p:cNvCxnSpPr>
            <p:nvPr/>
          </p:nvCxnSpPr>
          <p:spPr>
            <a:xfrm>
              <a:off x="7729560" y="3728160"/>
              <a:ext cx="3960" cy="32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6" name=""/>
            <p:cNvSpPr/>
            <p:nvPr/>
          </p:nvSpPr>
          <p:spPr>
            <a:xfrm>
              <a:off x="8452800" y="3601800"/>
              <a:ext cx="115200" cy="12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3" idx="6"/>
              <a:endCxn id="126" idx="2"/>
            </p:cNvCxnSpPr>
            <p:nvPr/>
          </p:nvCxnSpPr>
          <p:spPr>
            <a:xfrm>
              <a:off x="7787160" y="3664440"/>
              <a:ext cx="66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128" name=""/>
            <p:cNvGrpSpPr/>
            <p:nvPr/>
          </p:nvGrpSpPr>
          <p:grpSpPr>
            <a:xfrm>
              <a:off x="7589160" y="4865040"/>
              <a:ext cx="288000" cy="252720"/>
              <a:chOff x="7589160" y="4865040"/>
              <a:chExt cx="288000" cy="252720"/>
            </a:xfrm>
          </p:grpSpPr>
          <p:sp>
            <p:nvSpPr>
              <p:cNvPr id="129" name=""/>
              <p:cNvSpPr/>
              <p:nvPr/>
            </p:nvSpPr>
            <p:spPr>
              <a:xfrm>
                <a:off x="7589160" y="4991040"/>
                <a:ext cx="28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646760" y="5054400"/>
                <a:ext cx="17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671600" y="5117760"/>
                <a:ext cx="11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7735320" y="4865040"/>
                <a:ext cx="0" cy="12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33" name=""/>
            <p:cNvCxnSpPr>
              <a:stCxn id="132" idx="0"/>
              <a:endCxn id="120" idx="2"/>
            </p:cNvCxnSpPr>
            <p:nvPr/>
          </p:nvCxnSpPr>
          <p:spPr>
            <a:xfrm flipH="1" flipV="1">
              <a:off x="7733160" y="4621320"/>
              <a:ext cx="2880" cy="24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4" name=""/>
            <p:cNvSpPr/>
            <p:nvPr/>
          </p:nvSpPr>
          <p:spPr>
            <a:xfrm>
              <a:off x="8510760" y="3410640"/>
              <a:ext cx="63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63400" y="2160720"/>
              <a:ext cx="633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41080" y="4278240"/>
              <a:ext cx="114840" cy="12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7" name=""/>
            <p:cNvCxnSpPr>
              <a:stCxn id="136" idx="6"/>
              <a:endCxn id="120" idx="1"/>
            </p:cNvCxnSpPr>
            <p:nvPr/>
          </p:nvCxnSpPr>
          <p:spPr>
            <a:xfrm flipV="1">
              <a:off x="6955560" y="4337640"/>
              <a:ext cx="40356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8" name=""/>
            <p:cNvSpPr/>
            <p:nvPr/>
          </p:nvSpPr>
          <p:spPr>
            <a:xfrm>
              <a:off x="6553080" y="3992400"/>
              <a:ext cx="63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581280" y="2355840"/>
            <a:ext cx="99072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03800" y="4892760"/>
            <a:ext cx="99072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269388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endiente = 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4114440" y="2617560"/>
            <a:ext cx="11430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715000" y="3151080"/>
            <a:ext cx="533520" cy="198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2639880"/>
            <a:ext cx="32767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5164200"/>
            <a:ext cx="48769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14800" y="2617920"/>
            <a:ext cx="0" cy="31240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5208480"/>
            <a:ext cx="0" cy="5335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246528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90392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5715000"/>
            <a:ext cx="76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571500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1857240"/>
            <a:ext cx="18288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Zona de Transición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“incertidumbre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2514600"/>
            <a:ext cx="1523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1981080"/>
            <a:ext cx="1828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Zona “High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243828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19920" y="59878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Zona “Low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15000" y="601992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752480" y="3276720"/>
                <a:ext cx="17528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ndiente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3505320" y="365760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 en Inversore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601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ango de voltajes asociados a High y Low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ientras la transición por la zona de saturación sea más rápida se tendrá un NM mej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terconexión de compuert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debe cumpli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so contrario: “Error Lógico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uido Provoca Errores Lógic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olerancia a Error: Noise Marg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952880" y="2590920"/>
            <a:ext cx="4191120" cy="3812400"/>
            <a:chOff x="4952880" y="2590920"/>
            <a:chExt cx="4191120" cy="3812400"/>
          </a:xfrm>
        </p:grpSpPr>
        <p:sp>
          <p:nvSpPr>
            <p:cNvPr id="163" name=""/>
            <p:cNvSpPr/>
            <p:nvPr/>
          </p:nvSpPr>
          <p:spPr>
            <a:xfrm flipV="1">
              <a:off x="5638680" y="2743200"/>
              <a:ext cx="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8381880" y="2743200"/>
              <a:ext cx="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63" idx="0"/>
              <a:endCxn id="164" idx="0"/>
            </p:cNvCxnSpPr>
            <p:nvPr/>
          </p:nvCxnSpPr>
          <p:spPr>
            <a:xfrm>
              <a:off x="5638680" y="5866920"/>
              <a:ext cx="2743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6" name=""/>
            <p:cNvSpPr/>
            <p:nvPr/>
          </p:nvSpPr>
          <p:spPr>
            <a:xfrm>
              <a:off x="5562720" y="3200400"/>
              <a:ext cx="152280" cy="4572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62720" y="5257800"/>
              <a:ext cx="152280" cy="30492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05920" y="3429000"/>
              <a:ext cx="152280" cy="685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05920" y="4648320"/>
              <a:ext cx="152280" cy="9144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52880" y="351936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52880" y="502920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05920" y="391464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05920" y="441972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15000" y="3657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6781680" y="411480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781680" y="464832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15000" y="52578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48520" y="473868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NM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34320" y="373392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NM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858000" y="3657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7086600" y="46479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8680" y="259092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96080" y="259092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52880" y="588168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Salida Compuerta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848720" y="588312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Entrada Compuerta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 en Inversores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2475000"/>
            <a:ext cx="7543800" cy="4093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391520" y="3429000"/>
            <a:ext cx="0" cy="2438280"/>
          </a:xfrm>
          <a:prstGeom prst="line">
            <a:avLst/>
          </a:prstGeom>
          <a:ln w="1908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7200" y="4648320"/>
            <a:ext cx="6934320" cy="0"/>
          </a:xfrm>
          <a:prstGeom prst="line">
            <a:avLst/>
          </a:prstGeom>
          <a:ln w="1908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848720" y="3429000"/>
            <a:ext cx="0" cy="26668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33520" y="4800600"/>
            <a:ext cx="73152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48769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4952880"/>
            <a:ext cx="9144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H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4876920"/>
            <a:ext cx="9144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L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315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asos de propag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en transición High-Low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HL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 y Low-High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LH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miden con respecto al 50% de las máximas excursion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es Lóg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iversas Posibilidad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ecnologías (BJT-TTL, CMOS, NMOS, BiCMOS, etc.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 (ventajas/desventajas) particula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ben considerarse según la aplic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, velocidad, integración, fan-ou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nvers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rensión temprana del comportamiento de los inversores permite entender con mayor facilidad las familias lógic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Ide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¿Qué sucede si se cortocircuitan los terminales compuerta y drenaje en un transistor MOSFET enhancement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ugar geométrico representa una curva cuadrática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2541600"/>
            <a:ext cx="7696080" cy="4164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400800" y="3048120"/>
            <a:ext cx="2438280" cy="22874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543800" y="5638680"/>
            <a:ext cx="10666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3.0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2743200"/>
            <a:ext cx="98892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30440" y="3459240"/>
            <a:ext cx="9892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30440" y="4297320"/>
            <a:ext cx="9892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59040" y="4906800"/>
            <a:ext cx="9892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16240" y="5440320"/>
            <a:ext cx="9892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69080" y="5897520"/>
            <a:ext cx="98892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400800" y="2068560"/>
                <a:ext cx="16002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9T15:02:40Z</dcterms:created>
  <dc:creator>Domingo Morales Lizama</dc:creator>
  <dc:description/>
  <dc:language>en-US</dc:language>
  <cp:lastModifiedBy>Leszek Szczecinski</cp:lastModifiedBy>
  <dcterms:modified xsi:type="dcterms:W3CDTF">2003-08-27T14:57:45Z</dcterms:modified>
  <cp:revision>560</cp:revision>
  <dc:subject>Inversores Lógicos</dc:subject>
  <dc:title>Clase 12</dc:title>
</cp:coreProperties>
</file>