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9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7.png" ContentType="image/png"/>
  <Override PartName="/ppt/media/image11.png" ContentType="image/png"/>
  <Override PartName="/ppt/media/image19.jpeg" ContentType="image/jpeg"/>
  <Override PartName="/ppt/media/image6.png" ContentType="image/png"/>
  <Override PartName="/ppt/media/image10.png" ContentType="image/png"/>
  <Override PartName="/ppt/media/image5.png" ContentType="image/png"/>
  <Override PartName="/ppt/media/image24.wmf" ContentType="image/x-wmf"/>
  <Override PartName="/ppt/media/image4.jpeg" ContentType="image/jpeg"/>
  <Override PartName="/ppt/media/image2.png" ContentType="image/png"/>
  <Override PartName="/ppt/media/image25.png" ContentType="image/png"/>
  <Override PartName="/ppt/media/image23.wmf" ContentType="image/x-wmf"/>
  <Override PartName="/ppt/media/image18.jpeg" ContentType="image/jpeg"/>
  <Override PartName="/ppt/media/image22.wmf" ContentType="image/x-wmf"/>
  <Override PartName="/ppt/media/image21.png" ContentType="image/png"/>
  <Override PartName="/ppt/media/image20.wmf" ContentType="image/x-wmf"/>
  <Override PartName="/ppt/media/image16.jpeg" ContentType="image/jpeg"/>
  <Override PartName="/ppt/media/image26.wmf" ContentType="image/x-wmf"/>
  <Override PartName="/ppt/media/image15.jpeg" ContentType="image/jpeg"/>
  <Override PartName="/ppt/media/image1.png" ContentType="image/png"/>
  <Override PartName="/ppt/media/image17.jpeg" ContentType="image/jpeg"/>
  <Override PartName="/ppt/media/image3.png" ContentType="image/png"/>
  <Override PartName="/ppt/embeddings/oleObject1.bin" ContentType="application/vnd.openxmlformats-officedocument.oleObje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FC4B3A-2447-4209-BD49-BD08C014A72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12E3EA-5FFF-4876-8593-EA796F1FBFA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FB760B-6879-4DFB-9082-07007F15038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EE3B3D-A2E6-4E3D-B8C7-4948C75B0F5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54B2A-BCE6-4FF8-BA59-B0CBD519FE4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D729B-2E02-4A36-8A14-9B365D730AB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1B8C0-B421-4EFC-A4B6-8C95C5747AB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E85A0-2E8D-48F3-8481-81F0FACA463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EA32B-F4EA-459A-97DD-D111A0CF863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BA464-99DD-49A0-9FED-789E323E301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619B2-38E5-4045-A9AA-C7CD78D9D79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681D38-6D70-4A2D-8326-DED3D91E421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CBC6A-17D5-4AC3-940E-A1C9889B3EF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6DE2D-13D8-47DA-BCD5-A8835FEC44D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04E5E-2A94-4DF3-A8F9-9F00D8059BD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0764D-9ADE-4CEE-B730-043A7CD874F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9CF0C-EEF1-44CE-B254-B95DF5CD72A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97CC82-EBAE-477E-A5E6-3A396E96986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4132CD-CFBC-4D2C-B38B-4EB3470330A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778B2F-9C9F-45A7-B5B9-27A747E1ADE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E9E201-45FC-41BE-A808-0B71D702165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9A700B-0C0F-49C0-92B9-A4D97BDC414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793747-811F-480E-A22C-54471DCC98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A1E5B3-2C51-4F02-8524-96665C4CB57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23464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8686800" y="6568560"/>
            <a:ext cx="457200" cy="2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4BD38-60E3-4ED1-B052-3E7BCEC256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6566040"/>
            <a:ext cx="6961320" cy="0"/>
          </a:xfrm>
          <a:prstGeom prst="line">
            <a:avLst/>
          </a:prstGeom>
          <a:ln w="19080">
            <a:solidFill>
              <a:srgbClr val="2828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" name=""/>
          <p:cNvGraphicFramePr/>
          <p:nvPr/>
        </p:nvGraphicFramePr>
        <p:xfrm>
          <a:off x="7543800" y="6108840"/>
          <a:ext cx="438120" cy="647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43800" y="6108840"/>
                    <a:ext cx="43812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151920" y="6573960"/>
            <a:ext cx="5257800" cy="16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001eb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1eb1"/>
                </a:solidFill>
                <a:latin typeface="Times New Roman"/>
              </a:rPr>
              <a:t>   </a:t>
            </a:r>
            <a:r>
              <a:rPr b="0" i="1" lang="en-US" sz="1200" spc="-1" strike="noStrike">
                <a:solidFill>
                  <a:srgbClr val="001eb1"/>
                </a:solidFill>
                <a:latin typeface="Times New Roman"/>
              </a:rPr>
              <a:t>EL42A Circuitos Electrónicos                   Profesor: Domingo Morales Liza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04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ldNum" idx="3"/>
          </p:nvPr>
        </p:nvSpPr>
        <p:spPr>
          <a:xfrm>
            <a:off x="8686800" y="6568560"/>
            <a:ext cx="457200" cy="2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3252E-3CBD-4998-87A4-5986BFA519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6566040"/>
            <a:ext cx="6961320" cy="0"/>
          </a:xfrm>
          <a:prstGeom prst="line">
            <a:avLst/>
          </a:prstGeom>
          <a:ln w="19080">
            <a:solidFill>
              <a:srgbClr val="2828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7543800" y="6108840"/>
          <a:ext cx="438120" cy="647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43800" y="6108840"/>
                    <a:ext cx="43812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PlaceHolder 3"/>
          <p:cNvSpPr>
            <a:spLocks noGrp="1"/>
          </p:cNvSpPr>
          <p:nvPr>
            <p:ph type="ftr" idx="4"/>
          </p:nvPr>
        </p:nvSpPr>
        <p:spPr>
          <a:xfrm>
            <a:off x="151920" y="6573960"/>
            <a:ext cx="5257800" cy="16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001eb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1eb1"/>
                </a:solidFill>
                <a:latin typeface="Times New Roman"/>
              </a:rPr>
              <a:t>   </a:t>
            </a:r>
            <a:r>
              <a:rPr b="0" i="1" lang="en-US" sz="1200" spc="-1" strike="noStrike">
                <a:solidFill>
                  <a:srgbClr val="001eb1"/>
                </a:solidFill>
                <a:latin typeface="Times New Roman"/>
              </a:rPr>
              <a:t>EL42A Circuitos Electrónicos                   Profesor: Domingo Morales Liza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EL42A Circuitos Electrónicos</a:t>
            </a:r>
            <a:br>
              <a:rPr sz="3600"/>
            </a:b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Semestre Primavera 2003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858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Departamento de Ingeniería Eléctrica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Universidad de Chile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Transistores MOSFET: Operación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81480" y="19810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mpuerta “abierta”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No se forma canal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Al aplicar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DS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no circula corriente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Juntura Drenaje-Cuerpo en inversa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apa de agotamiento se extiende en juntura DC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mpuerta “cerrada”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e forma canal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Al aplicar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DS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existe paso de corriente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Para voltajes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DS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pequeños el comportamiento es resistivo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MOSFET%20Canal%20n%20vista%20Transversal%20con%20Vds" descr=""/>
          <p:cNvPicPr/>
          <p:nvPr/>
        </p:nvPicPr>
        <p:blipFill>
          <a:blip r:embed="rId1"/>
          <a:stretch/>
        </p:blipFill>
        <p:spPr>
          <a:xfrm>
            <a:off x="152280" y="1981080"/>
            <a:ext cx="4953240" cy="2214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26" name="MOSFET%20Canal%20n%20vista%20Transversal%20con%20Vds%20y%20Vgs" descr=""/>
          <p:cNvPicPr/>
          <p:nvPr/>
        </p:nvPicPr>
        <p:blipFill>
          <a:blip r:embed="rId2"/>
          <a:stretch/>
        </p:blipFill>
        <p:spPr>
          <a:xfrm>
            <a:off x="152280" y="4214880"/>
            <a:ext cx="4572000" cy="2360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Transistores MOSFET: Operación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560" y="1904760"/>
            <a:ext cx="419076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ompuerta “cerrada”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Aumento de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DS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genera asimetría entre junturas Compuerta-Fuente y Compuerta-Drenaje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ampo Eléctrico disminuye hacia el drenaje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724280" y="1905120"/>
            <a:ext cx="4267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Asimetría en juntura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mpuerta-Fuente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oltaje en directa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GS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e inyectan portadores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mpuerta-Drenaje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oltaje directa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–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DS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oltaje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campo eléctrico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Symbol" charset="2"/>
              <a:buChar char="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portadores minoritarios en la capa de inversión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Existe “Pinch-Off”, o estrechamiento total del canal: Corriente no cambia ante cambios de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GS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MOSFET%20Canal%20n%20vista%20Transversal%20con%20Vds%20grande%20y%20Vgs" descr=""/>
          <p:cNvPicPr/>
          <p:nvPr/>
        </p:nvPicPr>
        <p:blipFill>
          <a:blip r:embed="rId1"/>
          <a:stretch/>
        </p:blipFill>
        <p:spPr>
          <a:xfrm>
            <a:off x="0" y="3840120"/>
            <a:ext cx="5356080" cy="278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MOSFET Enhancement de Canal n </a:t>
            </a:r>
            <a:br>
              <a:rPr sz="3600"/>
            </a:b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en Región Lineal: Análisis Cuantitativo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46483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-219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Región Lineal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75200" indent="-182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mpuerta habilitada </a:t>
            </a:r>
            <a:br>
              <a:rPr sz="2000"/>
            </a:b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(existe canal: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GS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&gt;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75200" indent="-182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DS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pequeño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75200" indent="-182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Densidad de carga en la interfaz semiconductor-óxido: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291960" y="4191120"/>
                <a:ext cx="2009880" cy="42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q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S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S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134" name="MOSFET%20cuantitativo%20coordenadas" descr=""/>
          <p:cNvPicPr/>
          <p:nvPr/>
        </p:nvPicPr>
        <p:blipFill>
          <a:blip r:embed="rId1"/>
          <a:stretch/>
        </p:blipFill>
        <p:spPr>
          <a:xfrm>
            <a:off x="5257800" y="1973160"/>
            <a:ext cx="3581280" cy="45799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2349360" y="4038480"/>
                <a:ext cx="2854440" cy="77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x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q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S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pS</m:t>
                                </m:r>
                              </m:sub>
                            </m:sSub>
                          </m:e>
                        </m:d>
                      </m:num>
                      <m:den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x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6" name=""/>
          <p:cNvSpPr/>
          <p:nvPr/>
        </p:nvSpPr>
        <p:spPr>
          <a:xfrm>
            <a:off x="380880" y="4495680"/>
            <a:ext cx="46483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Despejando la densidad superficial de portadores minoritarios n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1839960" y="5638680"/>
                <a:ext cx="1828800" cy="73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S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x</m:t>
                            </m:r>
                          </m:sub>
                        </m:sSub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−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MOSFET Enhancement de Canal n </a:t>
            </a:r>
            <a:br>
              <a:rPr sz="3600"/>
            </a:b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en Región Lineal: Análisis Cuantitativo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80880" y="1828440"/>
            <a:ext cx="46483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orriente por el canal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rriente por el canal (debido a campo generado por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DS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Reemplazando n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pS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MOSFET%20cuantitativo%20coordenadas" descr=""/>
          <p:cNvPicPr/>
          <p:nvPr/>
        </p:nvPicPr>
        <p:blipFill>
          <a:blip r:embed="rId1"/>
          <a:stretch/>
        </p:blipFill>
        <p:spPr>
          <a:xfrm>
            <a:off x="5257800" y="1973160"/>
            <a:ext cx="3581280" cy="457992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380880" y="4191120"/>
            <a:ext cx="4648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914400" y="3276720"/>
                <a:ext cx="3749760" cy="42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J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qn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S</m:t>
                        </m:r>
                      </m:sub>
                    </m:sSub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x</m:t>
                            </m:r>
                          </m:sub>
                        </m:sSub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q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S</m:t>
                            </m:r>
                          </m:sub>
                        </m:sSub>
                      </m:e>
                    </m:d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914400" y="3809880"/>
                <a:ext cx="370512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J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W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x</m:t>
                            </m:r>
                          </m:sub>
                        </m:sSub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q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S</m:t>
                            </m:r>
                          </m:sub>
                        </m:sSub>
                      </m:e>
                    </m:d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4" name=""/>
          <p:cNvSpPr/>
          <p:nvPr/>
        </p:nvSpPr>
        <p:spPr>
          <a:xfrm>
            <a:off x="380880" y="3886200"/>
            <a:ext cx="4648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Región lineal o triodo: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DS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pequeñ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ampos eléctricos en aislante y canal son ~ unifor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“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v / d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1157400" y="5629320"/>
                <a:ext cx="3370320" cy="8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≈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x</m:t>
                            </m:r>
                          </m:sub>
                        </m:sSub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GS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ox</m:t>
                                </m:r>
                              </m:sub>
                            </m:sSub>
                          </m:den>
                        </m:f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q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S</m:t>
                            </m:r>
                          </m:sub>
                        </m:sSub>
                      </m:e>
                    </m:d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S</m:t>
                            </m:r>
                          </m:sub>
                        </m:sSub>
                      </m:num>
                      <m:den>
                        <m:r>
                          <m:t xml:space="preserve">L</m:t>
                        </m:r>
                      </m:den>
                    </m:f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MOSFET Enhancement de Canal n </a:t>
            </a:r>
            <a:br>
              <a:rPr sz="3600"/>
            </a:b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en Región Lineal: Análisis Cuantitativo (I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880" y="1828800"/>
            <a:ext cx="46483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omportamiento zona lineal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MOSFET%20cuantitativo%20coordenadas" descr=""/>
          <p:cNvPicPr/>
          <p:nvPr/>
        </p:nvPicPr>
        <p:blipFill>
          <a:blip r:embed="rId1"/>
          <a:stretch/>
        </p:blipFill>
        <p:spPr>
          <a:xfrm>
            <a:off x="5257800" y="1973160"/>
            <a:ext cx="3581280" cy="457992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380880" y="4191120"/>
            <a:ext cx="4648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976320" y="2276640"/>
                <a:ext cx="3416400" cy="84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≈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f>
                      <m:num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x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x</m:t>
                            </m:r>
                          </m:sub>
                        </m:sSub>
                      </m:den>
                    </m:f>
                    <m:f>
                      <m:num>
                        <m:r>
                          <m:t xml:space="preserve">W</m:t>
                        </m:r>
                      </m:num>
                      <m:den>
                        <m:r>
                          <m:t xml:space="preserve">L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GS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q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S</m:t>
                            </m:r>
                          </m:sub>
                        </m:sSub>
                        <m:f>
                          <m:num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ox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ε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ox</m:t>
                                </m:r>
                              </m:sub>
                            </m:sSub>
                          </m:den>
                        </m:f>
                      </m:e>
                    </m:d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51" name=""/>
          <p:cNvSpPr/>
          <p:nvPr/>
        </p:nvSpPr>
        <p:spPr>
          <a:xfrm>
            <a:off x="380880" y="2743200"/>
            <a:ext cx="464832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rriente debe ser &gt;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Se define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l Voltaje Umbral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Parámetro K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(Notar que C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ox 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ox 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/ t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ox 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1143000" y="4876920"/>
                <a:ext cx="3059280" cy="75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≡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qN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S</m:t>
                        </m:r>
                      </m:sub>
                    </m:sSub>
                    <m:f>
                      <m:num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x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x</m:t>
                            </m:r>
                          </m:sub>
                        </m:sSub>
                      </m:den>
                    </m:f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K</m:t>
                    </m:r>
                    <m:r>
                      <m:t xml:space="preserve">≡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f>
                      <m:num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x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x</m:t>
                            </m:r>
                          </m:sub>
                        </m:sSub>
                      </m:den>
                    </m:f>
                    <m:f>
                      <m:num>
                        <m:r>
                          <m:t xml:space="preserve">W</m:t>
                        </m:r>
                      </m:num>
                      <m:den>
                        <m:r>
                          <m:t xml:space="preserve">L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1066680" y="5715000"/>
                <a:ext cx="3103560" cy="78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≈</m:t>
                    </m:r>
                    <m:r>
                      <m:t xml:space="preserve">2</m:t>
                    </m:r>
                    <m:r>
                      <m:t xml:space="preserve">K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GS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e>
                    </m:d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sub>
                    </m:sSub>
                    <m:r>
                      <m:t xml:space="preserve">≡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S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S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on</m:t>
                            </m:r>
                            <m:r>
                              <m:t xml:space="preserve">)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MOSFET Enhancement de Canal n </a:t>
            </a:r>
            <a:br>
              <a:rPr sz="3600"/>
            </a:b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en Región Lineal: Análisis Cuantitativo (IV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80520" y="1828440"/>
            <a:ext cx="54104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8000"/>
          </a:bodyPr>
          <a:p>
            <a:pPr marL="198720" indent="-1987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omportamiento zona lineal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30920" indent="-165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GS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debe ser mayor a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para que se forme capa de inversión (canal 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30920" indent="-165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Resistencia de encendido Drenaje-Fuente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662760" indent="-132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Definido por el voltaje de encendido: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GS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-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662760" indent="-132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onstante K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MOSFET%20cuantitativo%20coordenadas" descr=""/>
          <p:cNvPicPr/>
          <p:nvPr/>
        </p:nvPicPr>
        <p:blipFill>
          <a:blip r:embed="rId1"/>
          <a:stretch/>
        </p:blipFill>
        <p:spPr>
          <a:xfrm>
            <a:off x="5724360" y="1973160"/>
            <a:ext cx="3343320" cy="4275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1447920" y="5181480"/>
                <a:ext cx="3058920" cy="75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≡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qN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S</m:t>
                        </m:r>
                      </m:sub>
                    </m:sSub>
                    <m:f>
                      <m:num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x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x</m:t>
                            </m:r>
                          </m:sub>
                        </m:sSub>
                      </m:den>
                    </m:f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K</m:t>
                    </m:r>
                    <m:r>
                      <m:t xml:space="preserve">≡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f>
                      <m:num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x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x</m:t>
                            </m:r>
                          </m:sub>
                        </m:sSub>
                      </m:den>
                    </m:f>
                    <m:f>
                      <m:num>
                        <m:r>
                          <m:t xml:space="preserve">W</m:t>
                        </m:r>
                      </m:num>
                      <m:den>
                        <m:r>
                          <m:t xml:space="preserve">L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1447920" y="4267080"/>
                <a:ext cx="3103560" cy="78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≈</m:t>
                    </m:r>
                    <m:r>
                      <m:t xml:space="preserve">2</m:t>
                    </m:r>
                    <m:r>
                      <m:t xml:space="preserve">K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GS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e>
                    </m:d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sub>
                    </m:sSub>
                    <m:r>
                      <m:t xml:space="preserve">≡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S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S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on</m:t>
                            </m:r>
                            <m:r>
                              <m:t xml:space="preserve">)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MOSFET Enhancement de Canal n </a:t>
            </a:r>
            <a:br>
              <a:rPr sz="3600"/>
            </a:b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Caso General: Análisis Cuantitativo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80520" y="1828440"/>
            <a:ext cx="81536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-263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DS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sin restricción provoca Potencial V(x) en el canal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2040" indent="-219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Hipótesis de Campos Eléctricos Uniformes ya no es válid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2040" indent="-219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ampo Eléctrico en el aislante: E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(x)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GS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– V(x)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)/ 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ox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2040" indent="-219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ampo Eléctrico en el canal: E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(x)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dV(x)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dx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MOSFET%20cuantitativo%20general%20coordenadas" descr=""/>
          <p:cNvPicPr/>
          <p:nvPr/>
        </p:nvPicPr>
        <p:blipFill>
          <a:blip r:embed="rId1"/>
          <a:stretch/>
        </p:blipFill>
        <p:spPr>
          <a:xfrm>
            <a:off x="762120" y="4191120"/>
            <a:ext cx="5851440" cy="2454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1177920" y="3276720"/>
                <a:ext cx="6137280" cy="84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Wμ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x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ox</m:t>
                                </m:r>
                              </m:sub>
                            </m:sSub>
                          </m:den>
                        </m:f>
                      </m:e>
                    </m:d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Wμ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x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GS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V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</m:e>
                            </m:d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ox</m:t>
                                </m:r>
                              </m:sub>
                            </m:sSub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ox</m:t>
                                </m:r>
                              </m:sub>
                            </m:sSub>
                          </m:den>
                        </m:f>
                      </m:e>
                    </m:d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MOSFET Enhancement de Canal n </a:t>
            </a:r>
            <a:br>
              <a:rPr sz="3600"/>
            </a:b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Caso General: Análisis Cuantitativo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80520" y="1828800"/>
            <a:ext cx="8153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Pero el canal es un “circuito serie” </a:t>
            </a: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i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i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(x)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MOSFET%20cuantitativo%20general%20coordenadas" descr=""/>
          <p:cNvPicPr/>
          <p:nvPr/>
        </p:nvPicPr>
        <p:blipFill>
          <a:blip r:embed="rId1"/>
          <a:stretch/>
        </p:blipFill>
        <p:spPr>
          <a:xfrm>
            <a:off x="1447920" y="4114800"/>
            <a:ext cx="5867280" cy="2460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2590920" y="2438280"/>
                <a:ext cx="3884400" cy="75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Wμ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x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x</m:t>
                            </m:r>
                          </m:sub>
                        </m:sSub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GS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e>
                        </m:d>
                        <m:r>
                          <m:t xml:space="preserve">−</m:t>
                        </m:r>
                        <m:r>
                          <m:t xml:space="preserve">V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</m:e>
                    </m:d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1467000" y="3276720"/>
                <a:ext cx="5601960" cy="75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L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Wμ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x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x</m:t>
                            </m:r>
                          </m:sub>
                        </m:sSub>
                      </m:den>
                    </m:f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GS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</m:e>
                            </m:d>
                            <m:r>
                              <m:t xml:space="preserve">−</m:t>
                            </m:r>
                            <m:r>
                              <m:t xml:space="preserve">V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MOSFET Enhancement de Canal n </a:t>
            </a:r>
            <a:br>
              <a:rPr sz="3600"/>
            </a:b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Caso General: Análisis Cuantitativo (I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80520" y="1828800"/>
            <a:ext cx="8153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Por lo tanto i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para v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GS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&gt; V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T 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viene dado por: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923760" y="2362320"/>
                <a:ext cx="6607440" cy="84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f>
                          <m:num>
                            <m:r>
                              <m:t xml:space="preserve">W</m:t>
                            </m:r>
                          </m:num>
                          <m:den>
                            <m:r>
                              <m:t xml:space="preserve">L</m:t>
                            </m:r>
                          </m:den>
                        </m:f>
                        <m:f>
                          <m:num>
                            <m:sSub>
                              <m:e>
                                <m:r>
                                  <m:t xml:space="preserve">ε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ox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ox</m:t>
                                </m:r>
                              </m:sub>
                            </m:sSub>
                          </m:den>
                        </m:f>
                      </m:e>
                    </m:d>
                    <m:d>
                      <m:dPr>
                        <m:begChr m:val="["/>
                        <m:endChr m:val="]"/>
                      </m:dP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GS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e>
                        </m:d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S</m:t>
                            </m:r>
                          </m:sub>
                        </m:sSub>
                        <m:r>
                          <m:t xml:space="preserve">−</m:t>
                        </m:r>
                        <m:f>
                          <m:num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DS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K</m:t>
                    </m:r>
                    <m:d>
                      <m:dPr>
                        <m:begChr m:val="["/>
                        <m:endChr m:val="]"/>
                      </m:dP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GS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e>
                        </m:d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S</m:t>
                            </m:r>
                          </m:sub>
                        </m:sSub>
                        <m:r>
                          <m:t xml:space="preserve">−</m:t>
                        </m:r>
                        <m:f>
                          <m:num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DS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71" name=""/>
          <p:cNvSpPr/>
          <p:nvPr/>
        </p:nvSpPr>
        <p:spPr>
          <a:xfrm>
            <a:off x="380880" y="2895480"/>
            <a:ext cx="76201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Si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DS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&lt;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GS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-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 Zona Line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cuación predice un máximo en i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para 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DS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=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GS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-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3200400" y="4191120"/>
                <a:ext cx="2009880" cy="4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D</m:t>
                        </m:r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K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GS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73" name=""/>
          <p:cNvSpPr/>
          <p:nvPr/>
        </p:nvSpPr>
        <p:spPr>
          <a:xfrm>
            <a:off x="380880" y="4343400"/>
            <a:ext cx="76201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Si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DS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&gt;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GS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-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 la ecuación no es válida: el voltaje en la juntura drenaje-compuerta sería menor que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 por lo que desaparece la zona de inversión en ese extrem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Lo que sucede es que ocurre Pinch-O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mienza la zona de “Saturación” MOSF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MOSFET Enhancement de Canal n </a:t>
            </a:r>
            <a:br>
              <a:rPr sz="3600"/>
            </a:b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Caso General: Análisis Cuantitativo (IV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80520" y="1828800"/>
            <a:ext cx="8153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8000"/>
          </a:bodyPr>
          <a:p>
            <a:pPr marL="130320" indent="-130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Pinch Off ocurre para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DS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&gt;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GS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–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282240" indent="-1083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El largo efectivo de l canal es L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eff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= L -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282240" indent="-1083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Los portadores al llegar a x=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son acelerados hacia el drenaje debido a la existencia de la capa de agotamiento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303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MOSFET%20cuantitativo%20general%20pinchoff" descr=""/>
          <p:cNvPicPr/>
          <p:nvPr/>
        </p:nvPicPr>
        <p:blipFill>
          <a:blip r:embed="rId1"/>
          <a:stretch/>
        </p:blipFill>
        <p:spPr>
          <a:xfrm>
            <a:off x="1295280" y="4046400"/>
            <a:ext cx="5761080" cy="25830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1814400" y="3124080"/>
                <a:ext cx="4799160" cy="8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f>
                          <m:num>
                            <m:r>
                              <m:t xml:space="preserve">W</m:t>
                            </m:r>
                          </m:num>
                          <m:den>
                            <m:r>
                              <m:t xml:space="preserve">L</m:t>
                            </m:r>
                            <m:r>
                              <m:t xml:space="preserve">−</m:t>
                            </m:r>
                            <m:r>
                              <m:t xml:space="preserve">δ</m:t>
                            </m:r>
                          </m:den>
                        </m:f>
                        <m:f>
                          <m:num>
                            <m:sSub>
                              <m:e>
                                <m:r>
                                  <m:t xml:space="preserve">ε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ox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ox</m:t>
                                </m:r>
                              </m:sub>
                            </m:sSub>
                          </m:den>
                        </m:f>
                      </m:e>
                    </m:d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GS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K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δ</m:t>
                        </m:r>
                      </m:e>
                    </m:d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GS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Capítulo I</a:t>
            </a:r>
            <a:br>
              <a:rPr sz="3600"/>
            </a:b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 Dispositivos Electrónicos Básico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000000"/>
                </a:solidFill>
                <a:latin typeface="Times New Roman"/>
              </a:rPr>
              <a:t>Clase Nº 10 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000000"/>
                </a:solidFill>
                <a:latin typeface="Times New Roman"/>
              </a:rPr>
              <a:t>Dispositivos MOSFET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MOSFET Enhancement de Canal n </a:t>
            </a:r>
            <a:br>
              <a:rPr sz="3600"/>
            </a:b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Caso General: Análisis Cuantitativo (V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153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5000"/>
          </a:bodyPr>
          <a:p>
            <a:pPr marL="119880" indent="-119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Si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DS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se incrementa más allá del Pinch Off (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DS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&gt;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GS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–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) en zona de Saturación MOSFET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19880" indent="-119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La corriente i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aumentará levemente respecto a su valor en Pinch Off (Correcciones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/L &lt;&lt;1 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19880" indent="-119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Similar al efecto Early en Transistores BJT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2190600" y="3657600"/>
                <a:ext cx="3640320" cy="4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K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δ</m:t>
                        </m:r>
                      </m:e>
                    </m:d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GS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sub>
                    </m:sSub>
                    <m:r>
                      <m:t xml:space="preserve">&gt;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GS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1" name=""/>
              <p:cNvSpPr txBox="1"/>
              <p:nvPr/>
            </p:nvSpPr>
            <p:spPr>
              <a:xfrm>
                <a:off x="380880" y="4343400"/>
                <a:ext cx="3637080" cy="75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δ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f>
                      <m:num>
                        <m:r>
                          <m:t xml:space="preserve">W</m:t>
                        </m:r>
                      </m:num>
                      <m:den>
                        <m:r>
                          <m:t xml:space="preserve">L</m:t>
                        </m:r>
                      </m:den>
                    </m:f>
                    <m:f>
                      <m:num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x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x</m:t>
                            </m:r>
                          </m:sub>
                        </m:sSub>
                      </m:den>
                    </m:f>
                    <m:f>
                      <m:num>
                        <m:r>
                          <m:t xml:space="preserve">1</m:t>
                        </m:r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δ</m:t>
                                </m:r>
                              </m:num>
                              <m:den>
                                <m:r>
                                  <m:t xml:space="preserve">L</m:t>
                                </m:r>
                              </m:den>
                            </m:f>
                          </m:e>
                        </m:d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K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δ</m:t>
                            </m:r>
                          </m:num>
                          <m:den>
                            <m:r>
                              <m:t xml:space="preserve">L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4983120" y="4191120"/>
                <a:ext cx="3035520" cy="93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K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δ</m:t>
                        </m:r>
                      </m:e>
                    </m:d>
                    <m:r>
                      <m:t xml:space="preserve">=</m:t>
                    </m:r>
                    <m:r>
                      <m:t xml:space="preserve">K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δ</m:t>
                            </m:r>
                          </m:num>
                          <m:den>
                            <m:r>
                              <m:t xml:space="preserve">L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O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δ</m:t>
                                    </m:r>
                                  </m:num>
                                  <m:den>
                                    <m:r>
                                      <m:t xml:space="preserve">L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" name=""/>
              <p:cNvSpPr txBox="1"/>
              <p:nvPr/>
            </p:nvSpPr>
            <p:spPr>
              <a:xfrm>
                <a:off x="2362320" y="5334120"/>
                <a:ext cx="5021280" cy="75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≈</m:t>
                    </m:r>
                    <m:r>
                      <m:t xml:space="preserve">2</m:t>
                    </m:r>
                    <m:r>
                      <m:t xml:space="preserve">K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GS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δ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S</m:t>
                                    </m:r>
                                  </m:sub>
                                </m:sSub>
                              </m:e>
                            </m:d>
                          </m:num>
                          <m:den>
                            <m:r>
                              <m:t xml:space="preserve">L</m:t>
                            </m:r>
                          </m:den>
                        </m:f>
                      </m:e>
                    </m:d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sub>
                    </m:sSub>
                    <m:r>
                      <m:t xml:space="preserve">&gt;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GS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Ecuaciones MOSFET de Canal n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028840" y="1828440"/>
            <a:ext cx="396252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Parámetros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oltaje Threshold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[V]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MOSFET Enhancement: 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T  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&gt; 0 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MOSFET Depletion: 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T  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&lt; 0 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Ganancia Zona Saturación K 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K &gt; 0 (canal tipo n)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152280" y="1828800"/>
            <a:ext cx="4724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-263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Zonas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2040" indent="-219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orte :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GS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&lt;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2040" indent="-219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Lineal o triode: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GS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 y  0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DS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&lt;&lt;(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GS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2040" indent="-219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Zona “Intermedia”: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GS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 y  0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DS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&lt; (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GS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2040" indent="-219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Zona de Saturación: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GS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 y 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DS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(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GS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879840" indent="-17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Existe pendiente no nula por la modulación del largo del canal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5932440" y="3809880"/>
                <a:ext cx="2602080" cy="66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≡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qN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S</m:t>
                        </m:r>
                      </m:sub>
                    </m:sSub>
                    <m:f>
                      <m:num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x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x</m:t>
                            </m:r>
                          </m:sub>
                        </m:sSub>
                      </m:den>
                    </m:f>
                    <m:r>
                      <m:rPr>
                        <m:lit/>
                        <m:nor/>
                      </m:rPr>
                      <m:t xml:space="preserve"> ; </m:t>
                    </m:r>
                    <m:r>
                      <m:t xml:space="preserve">K</m:t>
                    </m:r>
                    <m:r>
                      <m:t xml:space="preserve">≡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f>
                      <m:num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x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x</m:t>
                            </m:r>
                          </m:sub>
                        </m:sSub>
                      </m:den>
                    </m:f>
                    <m:f>
                      <m:num>
                        <m:r>
                          <m:t xml:space="preserve">W</m:t>
                        </m:r>
                      </m:num>
                      <m:den>
                        <m:r>
                          <m:t xml:space="preserve">L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98280" y="4648320"/>
                <a:ext cx="5845320" cy="179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,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GS</m:t>
                                  </m:r>
                                </m:sub>
                              </m:sSub>
                              <m:r>
                                <m:t xml:space="preserve">&lt;</m:t>
                              </m:r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T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2</m:t>
                              </m:r>
                              <m:r>
                                <m:t xml:space="preserve">K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GS</m:t>
                                      </m:r>
                                    </m:sub>
                                  </m:sSub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T</m:t>
                                      </m:r>
                                    </m:sub>
                                  </m:sSub>
                                </m:e>
                              </m:d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DS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,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GS</m:t>
                                  </m:r>
                                </m:sub>
                              </m:sSub>
                              <m:r>
                                <m:t xml:space="preserve">&gt;</m:t>
                              </m:r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T</m:t>
                                  </m:r>
                                </m:sub>
                              </m:sSub>
                              <m:r>
                                <m:t xml:space="preserve">;</m:t>
                              </m:r>
                              <m:r>
                                <m:t xml:space="preserve">0</m:t>
                              </m:r>
                              <m:r>
                                <m:t xml:space="preserve">≤</m:t>
                              </m:r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DS</m:t>
                                  </m:r>
                                </m:sub>
                              </m:sSub>
                              <m:r>
                                <m:rPr>
                                  <m:lit/>
                                  <m:nor/>
                                </m:rPr>
                                <m:t xml:space="preserve">&lt;&lt;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GS</m:t>
                                      </m:r>
                                    </m:sub>
                                  </m:sSub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T</m:t>
                                      </m:r>
                                    </m:sub>
                                  </m:sSub>
                                </m:e>
                              </m:d>
                            </m:e>
                          </m:mr>
                          <m:mr>
                            <m:e>
                              <m:r>
                                <m:t xml:space="preserve">2</m:t>
                              </m:r>
                              <m:r>
                                <m:t xml:space="preserve">K</m:t>
                              </m:r>
                              <m:d>
                                <m:dPr>
                                  <m:begChr m:val="["/>
                                  <m:endChr m:val="]"/>
                                </m:dPr>
                                <m:e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sSub>
                                        <m:e>
                                          <m:r>
                                            <m:t xml:space="preserve">v</m:t>
                                          </m:r>
                                        </m:e>
                                        <m:sub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GS</m:t>
                                          </m:r>
                                        </m:sub>
                                      </m:sSub>
                                      <m:r>
                                        <m:t xml:space="preserve">−</m:t>
                                      </m:r>
                                      <m:sSub>
                                        <m:e>
                                          <m:r>
                                            <m:t xml:space="preserve">V</m:t>
                                          </m:r>
                                        </m:e>
                                        <m:sub>
                                          <m:r>
                                            <m:t xml:space="preserve">T</m:t>
                                          </m:r>
                                        </m:sub>
                                      </m:sSub>
                                    </m:e>
                                  </m:d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DS</m:t>
                                      </m:r>
                                    </m:sub>
                                  </m:sSub>
                                  <m:r>
                                    <m:t xml:space="preserve">−</m:t>
                                  </m:r>
                                  <m:f>
                                    <m:num>
                                      <m:sSubSup>
                                        <m:e>
                                          <m:r>
                                            <m:t xml:space="preserve">v</m:t>
                                          </m:r>
                                        </m:e>
                                        <m:sub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DS</m:t>
                                          </m:r>
                                        </m:sub>
                                        <m:sup>
                                          <m:r>
                                            <m:t xml:space="preserve">2</m:t>
                                          </m:r>
                                        </m:sup>
                                      </m:sSubSup>
                                    </m:num>
                                    <m:den>
                                      <m:r>
                                        <m:t xml:space="preserve">2</m:t>
                                      </m:r>
                                    </m:den>
                                  </m:f>
                                </m:e>
                              </m:d>
                            </m:e>
                            <m:e>
                              <m:r>
                                <m:t xml:space="preserve">,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GS</m:t>
                                  </m:r>
                                </m:sub>
                              </m:sSub>
                              <m:r>
                                <m:t xml:space="preserve">&gt;</m:t>
                              </m:r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T</m:t>
                                  </m:r>
                                </m:sub>
                              </m:sSub>
                              <m:r>
                                <m:t xml:space="preserve">;</m:t>
                              </m:r>
                              <m:r>
                                <m:t xml:space="preserve">0</m:t>
                              </m:r>
                              <m:r>
                                <m:t xml:space="preserve">≤</m:t>
                              </m:r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DS</m:t>
                                  </m:r>
                                </m:sub>
                              </m:sSub>
                              <m:r>
                                <m:t xml:space="preserve">&lt;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GS</m:t>
                                      </m:r>
                                    </m:sub>
                                  </m:sSub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T</m:t>
                                      </m:r>
                                    </m:sub>
                                  </m:sSub>
                                </m:e>
                              </m:d>
                            </m:e>
                          </m:mr>
                          <m:mr>
                            <m:e>
                              <m:r>
                                <m:t xml:space="preserve">K</m:t>
                              </m:r>
                              <m:sSup>
                                <m:e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sSub>
                                        <m:e>
                                          <m:r>
                                            <m:t xml:space="preserve">v</m:t>
                                          </m:r>
                                        </m:e>
                                        <m:sub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GS</m:t>
                                          </m:r>
                                        </m:sub>
                                      </m:sSub>
                                      <m:r>
                                        <m:t xml:space="preserve">−</m:t>
                                      </m:r>
                                      <m:sSub>
                                        <m:e>
                                          <m:r>
                                            <m:t xml:space="preserve">V</m:t>
                                          </m:r>
                                        </m:e>
                                        <m:sub>
                                          <m:r>
                                            <m:t xml:space="preserve">T</m:t>
                                          </m:r>
                                        </m:sub>
                                      </m:sSub>
                                    </m:e>
                                  </m:d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  <m:e>
                              <m:r>
                                <m:t xml:space="preserve">,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GS</m:t>
                                  </m:r>
                                </m:sub>
                              </m:sSub>
                              <m:r>
                                <m:t xml:space="preserve">&gt;</m:t>
                              </m:r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T</m:t>
                                  </m:r>
                                </m:sub>
                              </m:sSub>
                              <m:r>
                                <m:t xml:space="preserve">;</m:t>
                              </m:r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DS</m:t>
                                  </m:r>
                                </m:sub>
                              </m:sSub>
                              <m:r>
                                <m:t xml:space="preserve">≥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GS</m:t>
                                      </m:r>
                                    </m:sub>
                                  </m:sSub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T</m:t>
                                      </m:r>
                                    </m:sub>
                                  </m:sSub>
                                </m:e>
                              </m:d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MOSFET Enhancement de Canal n: Zona Lineal o Triode y Corte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5486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Transistor MOSFET de potencia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2309760"/>
            <a:ext cx="7848720" cy="427356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914400" y="3048120"/>
            <a:ext cx="3375000" cy="205416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5486400" y="5486400"/>
            <a:ext cx="106668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D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0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248520" y="2666880"/>
            <a:ext cx="106668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D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30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934320" y="3657600"/>
            <a:ext cx="106668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D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10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733920" y="6324480"/>
            <a:ext cx="761760" cy="19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581280" y="6186600"/>
            <a:ext cx="1067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6320" y="2743200"/>
            <a:ext cx="457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74674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019920" y="5791320"/>
            <a:ext cx="0" cy="304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705720" y="2971800"/>
            <a:ext cx="30456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057400" y="5334120"/>
            <a:ext cx="1066680" cy="40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T </a:t>
            </a: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= 3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590920" y="568152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57200" y="5334120"/>
            <a:ext cx="1066680" cy="40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DSS</a:t>
            </a: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457200" y="5715000"/>
            <a:ext cx="53352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1978200"/>
            <a:ext cx="8458200" cy="459864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MOSFET Enhancement de Canal n: Zona Lineal o Triode y Corte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5486400" cy="76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MOSFET de potencia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v/s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GS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con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DS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como parámetro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2"/>
          <a:stretch/>
        </p:blipFill>
        <p:spPr>
          <a:xfrm>
            <a:off x="914400" y="3048120"/>
            <a:ext cx="3375000" cy="205416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5486400" y="5486400"/>
            <a:ext cx="106668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D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0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400800" y="2133720"/>
            <a:ext cx="106668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DS 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&gt; 7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29600" y="2286000"/>
            <a:ext cx="91440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D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6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962520" y="6354720"/>
            <a:ext cx="761760" cy="19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81280" y="6186600"/>
            <a:ext cx="1067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6320" y="2362320"/>
            <a:ext cx="457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H="1">
            <a:off x="8077320" y="2514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019920" y="5791320"/>
            <a:ext cx="0" cy="304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480" y="236232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254320" y="5257800"/>
            <a:ext cx="1066680" cy="40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T </a:t>
            </a: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= 3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787480" y="560556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57200" y="5334120"/>
            <a:ext cx="1066680" cy="40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DSS</a:t>
            </a: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457200" y="5715000"/>
            <a:ext cx="53352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8153280" y="3124080"/>
            <a:ext cx="91440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D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4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7696080" y="3276720"/>
            <a:ext cx="5335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153280" y="3733920"/>
            <a:ext cx="91440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D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3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flipH="1">
            <a:off x="7772400" y="3886200"/>
            <a:ext cx="533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077320" y="4572000"/>
            <a:ext cx="91440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D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2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H="1" flipV="1">
            <a:off x="7619760" y="4571640"/>
            <a:ext cx="53316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8077320" y="5410080"/>
            <a:ext cx="91440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D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1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flipH="1" flipV="1">
            <a:off x="7619760" y="5257440"/>
            <a:ext cx="533160" cy="30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MOSFET Enhancement de Canal n: Curvas de Salida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7543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Zona Lineal o triodo: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DS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&lt; (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GS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Zona Saturación (Fuente Corriente):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DS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&gt; (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GS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0" y="2435400"/>
            <a:ext cx="7620120" cy="414792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2"/>
          <a:stretch/>
        </p:blipFill>
        <p:spPr>
          <a:xfrm>
            <a:off x="5715000" y="3889440"/>
            <a:ext cx="3375000" cy="205416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5257800" y="6248520"/>
            <a:ext cx="10666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2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5638680"/>
            <a:ext cx="106668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4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0" y="5029200"/>
            <a:ext cx="106668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6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572000" y="3886200"/>
            <a:ext cx="106668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8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19920" y="2743200"/>
            <a:ext cx="106668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10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581280" y="6354720"/>
            <a:ext cx="762120" cy="19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581280" y="6186600"/>
            <a:ext cx="1067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6320" y="2743200"/>
            <a:ext cx="457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981080" y="5638680"/>
            <a:ext cx="137160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1" i="1" lang="es-ES_tradnl" sz="1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1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 = 1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H="1">
            <a:off x="1143000" y="5867280"/>
            <a:ext cx="9907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666880" y="4952880"/>
            <a:ext cx="137160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1" i="1" lang="es-ES_tradnl" sz="1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1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 = 3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H="1">
            <a:off x="2514600" y="5257800"/>
            <a:ext cx="3808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048120" y="3733920"/>
            <a:ext cx="137160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1" i="1" lang="es-ES_tradnl" sz="1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1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 = 5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886200" y="40384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209680" y="2666880"/>
            <a:ext cx="137160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1" i="1" lang="es-ES_tradnl" sz="1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1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 = 7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505320" y="2666880"/>
            <a:ext cx="17524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09480" y="3429000"/>
            <a:ext cx="18288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1.6 A/V</a:t>
            </a:r>
            <a:r>
              <a:rPr b="0" i="1" lang="es-ES_tradnl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MOSFET Depletion de Canal n: </a:t>
            </a:r>
            <a:br>
              <a:rPr sz="3600"/>
            </a:b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Zona Lineal o Triode y Corte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0" y="2017800"/>
            <a:ext cx="8153280" cy="4521240"/>
          </a:xfrm>
          <a:prstGeom prst="rect">
            <a:avLst/>
          </a:prstGeom>
          <a:ln w="0">
            <a:noFill/>
          </a:ln>
        </p:spPr>
      </p:pic>
      <p:pic>
        <p:nvPicPr>
          <p:cNvPr id="255" name="" descr=""/>
          <p:cNvPicPr/>
          <p:nvPr/>
        </p:nvPicPr>
        <p:blipFill>
          <a:blip r:embed="rId2"/>
          <a:stretch/>
        </p:blipFill>
        <p:spPr>
          <a:xfrm>
            <a:off x="685800" y="2895480"/>
            <a:ext cx="3711600" cy="220212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/>
          <p:nvPr/>
        </p:nvSpPr>
        <p:spPr>
          <a:xfrm>
            <a:off x="174600" y="5257800"/>
            <a:ext cx="1371600" cy="40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T </a:t>
            </a: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= - 3.5 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860400" y="560556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486400" y="5486400"/>
            <a:ext cx="106668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D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0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172200" y="2286000"/>
            <a:ext cx="106668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DS  </a:t>
            </a:r>
            <a:r>
              <a:rPr b="0" i="1" lang="es-ES_tradnl" sz="1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 14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H="1" flipV="1">
            <a:off x="7695720" y="2742840"/>
            <a:ext cx="38124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19920" y="5715000"/>
            <a:ext cx="0" cy="30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7086600" y="243828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77320" y="3276720"/>
            <a:ext cx="91440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D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8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 flipV="1">
            <a:off x="7619760" y="3124080"/>
            <a:ext cx="60948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8077320" y="3733920"/>
            <a:ext cx="91440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D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6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 flipH="1">
            <a:off x="7162560" y="3886200"/>
            <a:ext cx="990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077320" y="4572000"/>
            <a:ext cx="91440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D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4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 flipH="1" flipV="1">
            <a:off x="7315200" y="4419720"/>
            <a:ext cx="838080" cy="304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8077320" y="5257800"/>
            <a:ext cx="91440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D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2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H="1" flipV="1">
            <a:off x="7619760" y="5105520"/>
            <a:ext cx="533160" cy="304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7924680" y="2743200"/>
            <a:ext cx="1067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D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10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7924680" y="2286000"/>
            <a:ext cx="1067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D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12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flipH="1">
            <a:off x="777204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657600" y="6354720"/>
            <a:ext cx="762120" cy="19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581280" y="6186600"/>
            <a:ext cx="1067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6320" y="2590920"/>
            <a:ext cx="457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MOSFET Depletion de Canal n: </a:t>
            </a:r>
            <a:br>
              <a:rPr sz="3600"/>
            </a:b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Curvas de Salida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0" y="2135160"/>
            <a:ext cx="7924680" cy="440388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>
            <a:off x="6019920" y="6172200"/>
            <a:ext cx="10666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- 4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257800" y="5029200"/>
            <a:ext cx="106668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2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867280" y="4572000"/>
            <a:ext cx="106704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4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7772400" y="2209680"/>
            <a:ext cx="106668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10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581280" y="6354720"/>
            <a:ext cx="762120" cy="19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581280" y="6186600"/>
            <a:ext cx="1067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76320" y="2743200"/>
            <a:ext cx="457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981080" y="6248520"/>
            <a:ext cx="13716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1" i="1" lang="es-ES_tradnl" sz="1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1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 = 3.5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H="1" flipV="1">
            <a:off x="1828800" y="5790960"/>
            <a:ext cx="9144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971800" y="5029200"/>
            <a:ext cx="137160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1" i="1" lang="es-ES_tradnl" sz="1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1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 = 5.5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H="1">
            <a:off x="2514600" y="5257800"/>
            <a:ext cx="3808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191120" y="3657600"/>
            <a:ext cx="137160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1" i="1" lang="es-ES_tradnl" sz="1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1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 = 9.5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H="1">
            <a:off x="3962520" y="3886200"/>
            <a:ext cx="3045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486400" y="2743200"/>
            <a:ext cx="160020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1" i="1" lang="es-ES_tradnl" sz="1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1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 = 11.5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09480" y="2666880"/>
            <a:ext cx="25146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0.0111 mA/V</a:t>
            </a:r>
            <a:r>
              <a:rPr b="0" i="1" lang="es-ES_tradnl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 flipV="1">
            <a:off x="6400800" y="609552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8001000" y="5791320"/>
            <a:ext cx="10666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- 2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 flipH="1">
            <a:off x="7695720" y="6019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7924680" y="5486400"/>
            <a:ext cx="1067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0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 flipH="1">
            <a:off x="7543800" y="5638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943600" y="3809880"/>
            <a:ext cx="106668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6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7772400" y="3200400"/>
            <a:ext cx="106668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8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 flipH="1">
            <a:off x="4723920" y="2971800"/>
            <a:ext cx="8384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Resumen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Transistores MOSFET: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Alta impedancia en la compuert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ontrol de corriente mediante voltaje en la compuert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Existe umbral de activación V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Umbral positivo o negativo dependiendo de si el dispositivo es Enhancement/Depletion ó tipo n / tipo p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Zonas de Operación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rte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Linea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Saturación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Objetivo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Estudiar los modos de operación de los MOSFET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Características MOS (Metal-Oxido-Semiconductor)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Incrementales (NMOS, PMOS)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000000"/>
                </a:solidFill>
                <a:latin typeface="Times New Roman"/>
              </a:rPr>
              <a:t>Comprender los modelos y sus limitaciones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000000"/>
                </a:solidFill>
                <a:latin typeface="Times New Roman"/>
              </a:rPr>
              <a:t>Polarización de los FETs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Transistores MOSFET: Definiciones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74674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Transistor MOSFET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uatro terminales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Usualmente Cuerpo (Body) conectado a Fuente (Source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MOSFET%20Canal%20n%20vista%20general" descr=""/>
          <p:cNvPicPr/>
          <p:nvPr/>
        </p:nvPicPr>
        <p:blipFill>
          <a:blip r:embed="rId1"/>
          <a:stretch/>
        </p:blipFill>
        <p:spPr>
          <a:xfrm>
            <a:off x="76320" y="2895480"/>
            <a:ext cx="6705360" cy="306576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5105520" y="4495680"/>
            <a:ext cx="396216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Definiciones</a:t>
            </a:r>
            <a:br>
              <a:rPr sz="1600"/>
            </a:b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Si el substrato es tipo p el MOSFET será de canal n y vice-versa.</a:t>
            </a:r>
            <a:br>
              <a:rPr sz="1600"/>
            </a:b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- Existen de tipo “enhancement” (como el de la figura) y “depletion” (donde se ha dopado el semiconductor bajo la capa aislant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62120" y="5943600"/>
            <a:ext cx="350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Mosfet enhancement de Canal 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Transistores MOSFET: Definiciones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anal Bajo Compuert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Necesidad de sobrepasar voltaje umbral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para formar el cana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Enhancement o Incremental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xistencia de canal sin voltaje en compuert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Depletion o Decremental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Existe un dopado adicional por debajo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Dopado del Substrato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Substrato tipo p: MOSFET de canal n (mismo tipo que la fuente y el drenaje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Substrato tipo n: MOSFET de canal p (mismo tipo que la fuente y el drenaje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648320" y="4495680"/>
            <a:ext cx="380988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Terminal del Substrato o “Cuerpo” (Bod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Lib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nectado a la Fu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Transistores MOSFET: Símbolo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228600" y="1828800"/>
          <a:ext cx="6095880" cy="4309920"/>
        </p:xfrm>
        <a:graphic>
          <a:graphicData uri="http://schemas.openxmlformats.org/drawingml/2006/table">
            <a:tbl>
              <a:tblPr/>
              <a:tblGrid>
                <a:gridCol w="1219320"/>
                <a:gridCol w="1218960"/>
                <a:gridCol w="1219320"/>
                <a:gridCol w="1219320"/>
                <a:gridCol w="1218960"/>
              </a:tblGrid>
              <a:tr h="6094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hancem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le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90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uerpo lib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uerpo conectado a Fuen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uerpo lib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uerpo conectado a Fuen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5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2800"/>
                      </a:br>
                      <a:r>
                        <a:rPr b="0" i="1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po 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5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2800"/>
                      </a:br>
                      <a:r>
                        <a:rPr b="0" i="1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po 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523880" y="3581280"/>
            <a:ext cx="1051200" cy="10890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2819520" y="3581280"/>
            <a:ext cx="1006200" cy="106704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1523880" y="4876920"/>
            <a:ext cx="1067040" cy="105084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4"/>
          <a:stretch/>
        </p:blipFill>
        <p:spPr>
          <a:xfrm>
            <a:off x="2819520" y="4876920"/>
            <a:ext cx="1006200" cy="10062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5"/>
          <a:stretch/>
        </p:blipFill>
        <p:spPr>
          <a:xfrm>
            <a:off x="3962520" y="3581280"/>
            <a:ext cx="1006200" cy="100656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6"/>
          <a:stretch/>
        </p:blipFill>
        <p:spPr>
          <a:xfrm>
            <a:off x="5257800" y="3581280"/>
            <a:ext cx="952560" cy="108900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7"/>
          <a:stretch/>
        </p:blipFill>
        <p:spPr>
          <a:xfrm>
            <a:off x="3962520" y="4952880"/>
            <a:ext cx="1104840" cy="10512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8"/>
          <a:stretch/>
        </p:blipFill>
        <p:spPr>
          <a:xfrm>
            <a:off x="5181480" y="4952880"/>
            <a:ext cx="968400" cy="102888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6477120" y="2527200"/>
            <a:ext cx="2514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Nota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Existen en la literatura otros símbolos para representar los dispositivos MOSFET indicad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Análisis MOSFET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Se estudiarán los MOSFET de canal n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Tanto Enhacement como Depletion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Propuesto: Análisis y generalización para los MOSFET de canal p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Transistores MOSFET: Características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6320" y="1905120"/>
            <a:ext cx="403848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structura MOS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Metal-Oxide-Semiconductor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La estructura existente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entre la compuerta (Gate)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y el cuerpo (Body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mpuerta define conducción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oltaje en la compuerta respecto al cuerpo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omienza a “atraer” portadores minoritarios (n) a la capa aislante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MOSFET%20Canal%20n%20vista%20Transversal" descr=""/>
          <p:cNvPicPr/>
          <p:nvPr/>
        </p:nvPicPr>
        <p:blipFill>
          <a:blip r:embed="rId1"/>
          <a:stretch/>
        </p:blipFill>
        <p:spPr>
          <a:xfrm>
            <a:off x="4114800" y="1905120"/>
            <a:ext cx="5029200" cy="325116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76320" y="4724280"/>
            <a:ext cx="861048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Para voltaje suficientemente alto se forma un canal de tipo n (Capa de Inversión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ondición: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GB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&gt;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 (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= “Voltaje Threshold”, no confundir con el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 de BJ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Para voltajes de compuerta más grandes el canal será may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Transistores MOSFET: Características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75960" y="1904760"/>
            <a:ext cx="4343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apa de Óxido es Aislante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Resistencia (DC) Compuerta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muy alta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orriente (DC) Compuerta despreciable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ontrol del “encendido” del transistor: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GB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(usualmente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GB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=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porque vienen conectados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En forma natural el Transistor MOSFET es un amplificador de Transconductancia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xisten comportamientos capacitivos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A frecuencias “altas” la impedancia puede ser baja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Las señales de alta frecuencia pueden “evitar” la alta resistencia 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MOSFET%20Canal%20n%20vista%20Transversal" descr=""/>
          <p:cNvPicPr/>
          <p:nvPr/>
        </p:nvPicPr>
        <p:blipFill>
          <a:blip r:embed="rId1"/>
          <a:stretch/>
        </p:blipFill>
        <p:spPr>
          <a:xfrm>
            <a:off x="4343400" y="2052720"/>
            <a:ext cx="4800600" cy="31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9T15:02:40Z</dcterms:created>
  <dc:creator>Domingo Morales Lizama</dc:creator>
  <dc:description/>
  <dc:language>en-US</dc:language>
  <cp:lastModifiedBy>Leszek Szczecinski</cp:lastModifiedBy>
  <dcterms:modified xsi:type="dcterms:W3CDTF">2003-08-05T22:02:15Z</dcterms:modified>
  <cp:revision>439</cp:revision>
  <dc:subject>Dispositivos MOSFET</dc:subject>
  <dc:title>Clase 10</dc:title>
</cp:coreProperties>
</file>