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4.wmf" ContentType="image/x-wmf"/>
  <Override PartName="/ppt/media/image4.jpeg" ContentType="image/jpeg"/>
  <Override PartName="/ppt/media/image2.png" ContentType="image/png"/>
  <Override PartName="/ppt/media/image25.png" ContentType="image/png"/>
  <Override PartName="/ppt/media/image23.wmf" ContentType="image/x-wmf"/>
  <Override PartName="/ppt/media/image18.jpeg" ContentType="image/jpeg"/>
  <Override PartName="/ppt/media/image22.wmf" ContentType="image/x-wmf"/>
  <Override PartName="/ppt/media/image21.png" ContentType="image/png"/>
  <Override PartName="/ppt/media/image20.wmf" ContentType="image/x-wmf"/>
  <Override PartName="/ppt/media/image16.jpeg" ContentType="image/jpeg"/>
  <Override PartName="/ppt/media/image26.wmf" ContentType="image/x-wmf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3D1C7-527A-4741-B4C5-B84B44941E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47A1D-2AAE-4418-89F7-7D744346E9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7AFD1-BB21-4DC6-A2DD-224C9E0347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2AEC1-8C85-424E-ADAA-34E357B0D5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2823-35E1-4A45-BF54-FA11E38F109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0A23-7C16-4ED7-BE13-E98B31B551A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FBF7-34CC-4296-89D2-C2BD7EF9D5D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945E-7C8F-4DEE-B00D-F29CCE1FBEB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8600-2AD5-4AB5-A5B8-3FF13EB762F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94D3-FF41-469C-A168-05941BD491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A159-0156-4AD8-8961-B5E1DEEAAC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7912E-2691-49E6-8DE2-B245783BCA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E8D0-9E8B-4C4C-9F69-46179A0B6F6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AF57-2BF1-4CDB-923F-4F5B61D9DCD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28D2-4DF3-4829-943E-036E2AD8552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2EB1-DFA9-4282-82DE-075221FA9C5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D9F3-348C-4477-9B2E-0113E62FE0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6D468-1392-4E6B-884B-7198295285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DE8B0-28C4-4491-B399-652E657149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AAB7C-7C4F-4118-AD08-22FFC0B27A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FFCEB-D480-42CD-99A8-C4B2126DBD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D1987-BB57-4DAF-BA9B-FB45449B91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87D54-71FA-467B-A20F-A8EF5F563C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4F14A-74CC-4529-AB34-69B74C3AFC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64371-B4D5-4B39-9D57-7C27295D5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BCD22-EE8C-4450-865C-34CF9E2DE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es MOSFET: Operación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814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uerta “abiert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 se forma can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l aplicar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no circula corrie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Juntura Drenaje-Cuerpo en invers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pa de agotamiento se extiende en juntura DC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uerta “cerrad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forma can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l aplicar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xiste paso de corrie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 voltajes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pequeños el comportamiento es resistiv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MOSFET%20Canal%20n%20vista%20Transversal%20con%20Vds" descr=""/>
          <p:cNvPicPr/>
          <p:nvPr/>
        </p:nvPicPr>
        <p:blipFill>
          <a:blip r:embed="rId1"/>
          <a:stretch/>
        </p:blipFill>
        <p:spPr>
          <a:xfrm>
            <a:off x="152280" y="1981080"/>
            <a:ext cx="4953240" cy="221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6" name="MOSFET%20Canal%20n%20vista%20Transversal%20con%20Vds%20y%20Vgs" descr=""/>
          <p:cNvPicPr/>
          <p:nvPr/>
        </p:nvPicPr>
        <p:blipFill>
          <a:blip r:embed="rId2"/>
          <a:stretch/>
        </p:blipFill>
        <p:spPr>
          <a:xfrm>
            <a:off x="152280" y="4214880"/>
            <a:ext cx="4572000" cy="2360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es MOSFET: Operación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4190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mpuerta “cerrada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umento de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genera asimetría entre junturas Compuerta-Fuente y Compuerta-Drenaj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mpo Eléctrico disminuye hacia el drenaj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simetría en juntur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uerta-Fu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oltaje en directa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inyectan portador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uerta-Drenaj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oltaje directa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–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oltaj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campo eléctric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ortadores minoritarios en la capa de invers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xiste “Pinch-Off”, o estrechamiento total del canal: Corriente no cambia ante cambios de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MOSFET%20Canal%20n%20vista%20Transversal%20con%20Vds%20grande%20y%20Vgs" descr=""/>
          <p:cNvPicPr/>
          <p:nvPr/>
        </p:nvPicPr>
        <p:blipFill>
          <a:blip r:embed="rId1"/>
          <a:stretch/>
        </p:blipFill>
        <p:spPr>
          <a:xfrm>
            <a:off x="0" y="3840120"/>
            <a:ext cx="535608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n Región Lineal: Análisis Cuantitativ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gión Line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uerta habilitada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(existe canal: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pequeñ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nsidad de carga en la interfaz semiconductor-óxido: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91960" y="4191120"/>
                <a:ext cx="20098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S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34" name="MOSFET%20cuantitativo%20coordenadas" descr=""/>
          <p:cNvPicPr/>
          <p:nvPr/>
        </p:nvPicPr>
        <p:blipFill>
          <a:blip r:embed="rId1"/>
          <a:stretch/>
        </p:blipFill>
        <p:spPr>
          <a:xfrm>
            <a:off x="5257800" y="1973160"/>
            <a:ext cx="3581280" cy="4579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349360" y="4038480"/>
                <a:ext cx="2854440" cy="7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S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S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380880" y="4495680"/>
            <a:ext cx="4648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spejando la densidad superficial de portadores minoritarios n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39960" y="5638680"/>
                <a:ext cx="182880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n Región Lineal: Análisis Cuantitativ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rriente por el can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 por el canal (debido a campo generado por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emplazando n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MOSFET%20cuantitativo%20coordenadas" descr=""/>
          <p:cNvPicPr/>
          <p:nvPr/>
        </p:nvPicPr>
        <p:blipFill>
          <a:blip r:embed="rId1"/>
          <a:stretch/>
        </p:blipFill>
        <p:spPr>
          <a:xfrm>
            <a:off x="5257800" y="1973160"/>
            <a:ext cx="3581280" cy="45799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80880" y="4191120"/>
            <a:ext cx="4648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914400" y="3276720"/>
                <a:ext cx="37497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S</m:t>
                        </m:r>
                      </m:sub>
                    </m:sSub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S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914400" y="3809880"/>
                <a:ext cx="370512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W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S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380880" y="3886200"/>
            <a:ext cx="4648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gión lineal o triodo: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pequ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mpos eléctricos en aislante y canal son ~ unifor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 / 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157400" y="5629320"/>
                <a:ext cx="337032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≈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S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n Región Lineal: Análisis Cuantitativ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4648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mportamiento zona line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MOSFET%20cuantitativo%20coordenadas" descr=""/>
          <p:cNvPicPr/>
          <p:nvPr/>
        </p:nvPicPr>
        <p:blipFill>
          <a:blip r:embed="rId1"/>
          <a:stretch/>
        </p:blipFill>
        <p:spPr>
          <a:xfrm>
            <a:off x="5257800" y="1973160"/>
            <a:ext cx="3581280" cy="45799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80880" y="4191120"/>
            <a:ext cx="4648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976320" y="2276640"/>
                <a:ext cx="341640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S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380880" y="2743200"/>
            <a:ext cx="46483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 debe ser &g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defin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l Voltaje Umbral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arámetro 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(Notar que C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x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x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/ 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x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143000" y="4876920"/>
                <a:ext cx="305928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K</m:t>
                    </m:r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066680" y="5715000"/>
                <a:ext cx="310356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2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  <m:r>
                              <m:t xml:space="preserve">)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n Región Lineal: Análisis Cuantitativo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5410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-198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mportamiento zona linea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920" indent="-165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debe ser mayor a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para que se forme capa de inversión (canal 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920" indent="-165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sistencia de encendido Drenaje-Fu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62760" indent="-132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finido por el voltaje de encendido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62760" indent="-132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stante K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MOSFET%20cuantitativo%20coordenadas" descr=""/>
          <p:cNvPicPr/>
          <p:nvPr/>
        </p:nvPicPr>
        <p:blipFill>
          <a:blip r:embed="rId1"/>
          <a:stretch/>
        </p:blipFill>
        <p:spPr>
          <a:xfrm>
            <a:off x="5724360" y="1973160"/>
            <a:ext cx="3343320" cy="4275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447920" y="5181480"/>
                <a:ext cx="30589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K</m:t>
                    </m:r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447920" y="4267080"/>
                <a:ext cx="310356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2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  <m:r>
                              <m:t xml:space="preserve">)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aso General: Análisis Cuantitativ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153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sin restricción provoca Potencial V(x) en el canal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Hipótesis de Campos Eléctricos Uniformes ya no es váli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mpo Eléctrico en el aislante: E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– V(x)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)/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x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mpo Eléctrico en el canal: E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dV(x)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MOSFET%20cuantitativo%20general%20coordenadas" descr=""/>
          <p:cNvPicPr/>
          <p:nvPr/>
        </p:nvPicPr>
        <p:blipFill>
          <a:blip r:embed="rId1"/>
          <a:stretch/>
        </p:blipFill>
        <p:spPr>
          <a:xfrm>
            <a:off x="762120" y="4191120"/>
            <a:ext cx="5851440" cy="245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177920" y="3276720"/>
                <a:ext cx="613728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Wμ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Wμ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V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den>
                        </m:f>
                      </m:e>
                    </m:d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aso General: Análisis Cuantitativ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ero el canal es un “circuito serie”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(x)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MOSFET%20cuantitativo%20general%20coordenadas" descr=""/>
          <p:cNvPicPr/>
          <p:nvPr/>
        </p:nvPicPr>
        <p:blipFill>
          <a:blip r:embed="rId1"/>
          <a:stretch/>
        </p:blipFill>
        <p:spPr>
          <a:xfrm>
            <a:off x="1447920" y="4114800"/>
            <a:ext cx="5867280" cy="246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590920" y="2438280"/>
                <a:ext cx="388440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Wμ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d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467000" y="3276720"/>
                <a:ext cx="56019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Wμ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S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V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aso General: Análisis Cuantitativ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or lo tanto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para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&gt;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 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iene dado por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923760" y="2362320"/>
                <a:ext cx="660744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r>
                              <m:t xml:space="preserve">W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den>
                        </m:f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S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K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S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380880" y="2895480"/>
            <a:ext cx="7620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lt;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 Zona Lin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cuación predice un máximo en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para 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3200400" y="4191120"/>
                <a:ext cx="20098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380880" y="4343400"/>
            <a:ext cx="7620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 la ecuación no es válida: el voltaje en la juntura drenaje-compuerta sería menor que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 por lo que desaparece la zona de inversión en ese extr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o que sucede es que ocurre Pinch-O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ienza la zona de “Saturación” MOSF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aso General: Análisis Cuantitativo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inch Off ocurre para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–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2240" indent="-108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l largo efectivo de l canal es L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ff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L -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82240" indent="-108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os portadores al llegar a x=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on acelerados hacia el drenaje debido a la existencia de la capa de agotamient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MOSFET%20cuantitativo%20general%20pinchoff" descr=""/>
          <p:cNvPicPr/>
          <p:nvPr/>
        </p:nvPicPr>
        <p:blipFill>
          <a:blip r:embed="rId1"/>
          <a:stretch/>
        </p:blipFill>
        <p:spPr>
          <a:xfrm>
            <a:off x="1295280" y="4046400"/>
            <a:ext cx="5761080" cy="2583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814400" y="3124080"/>
                <a:ext cx="479916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r>
                              <m:t xml:space="preserve">W</m:t>
                            </m:r>
                          </m:num>
                          <m:den>
                            <m:r>
                              <m:t xml:space="preserve">L</m:t>
                            </m:r>
                            <m:r>
                              <m:t xml:space="preserve">−</m:t>
                            </m:r>
                            <m:r>
                              <m:t xml:space="preserve">δ</m:t>
                            </m:r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x</m:t>
                                </m:r>
                              </m:sub>
                            </m:sSub>
                          </m:den>
                        </m:f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δ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Dispositivos Electrónicos Básic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10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Dispositivos MOSFE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aso General: Análisis Cuantitativo (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5000"/>
          </a:bodyPr>
          <a:p>
            <a:pPr marL="119880" indent="-119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e incrementa más allá del Pinch Off (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–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 en zona de Saturación MOSFE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9880" indent="-119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 corriente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aumentará levemente respecto a su valor en Pinch Off (Correcciones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/L &lt;&lt;1 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9880" indent="-119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milar al efecto Early en Transistores BJ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2190600" y="3657600"/>
                <a:ext cx="36403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δ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80880" y="4343400"/>
                <a:ext cx="363708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δ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δ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δ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4983120" y="4191120"/>
                <a:ext cx="303552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δ</m:t>
                        </m:r>
                      </m:e>
                    </m:d>
                    <m:r>
                      <m:t xml:space="preserve">=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δ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O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δ</m:t>
                                    </m:r>
                                  </m:num>
                                  <m:den>
                                    <m:r>
                                      <m:t xml:space="preserve">L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362320" y="5334120"/>
                <a:ext cx="50212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2</m:t>
                    </m:r>
                    <m:r>
                      <m:t xml:space="preserve">K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δ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S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cuaciones MOSFET de Canal 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28840" y="1828440"/>
            <a:ext cx="39625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arámetr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oltaje Threshold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[V]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OSFET Enhancement: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T 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&gt; 0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OSFET Depletion: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T 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&lt; 0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Zona Saturación K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K &gt; 0 (canal tipo n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152280" y="1828800"/>
            <a:ext cx="4724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Zon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te :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lt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ineal o triode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y  0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lt;&lt;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Zona “Intermedia”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y  0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lt;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Zona de Saturación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y 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79840" indent="-17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Existe pendiente no nula por la modulación del largo del canal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5932440" y="3809880"/>
                <a:ext cx="26020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; </m:t>
                    </m:r>
                    <m:r>
                      <m:t xml:space="preserve">K</m:t>
                    </m:r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98280" y="4648320"/>
                <a:ext cx="5845320" cy="17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S</m:t>
                                  </m:r>
                                </m:sub>
                              </m:sSub>
                              <m:r>
                                <m:t xml:space="preserve">&lt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K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G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</m:e>
                              </m:d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S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S</m:t>
                                  </m:r>
                                </m:sub>
                              </m:sSub>
                              <m:r>
                                <m:t xml:space="preserve">&gt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  <m:r>
                                <m:t xml:space="preserve">;</m:t>
                              </m:r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S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&lt;&lt;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G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K</m:t>
                              </m:r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GS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t xml:space="preserve">T</m:t>
                                          </m:r>
                                        </m:sub>
                                      </m:sSub>
                                    </m:e>
                                  </m:d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D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f>
                                    <m:num>
                                      <m:sSubSup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DS</m:t>
                                          </m:r>
                                        </m:sub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bSup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e>
                              </m:d>
                            </m:e>
                            <m:e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S</m:t>
                                  </m:r>
                                </m:sub>
                              </m:sSub>
                              <m:r>
                                <m:t xml:space="preserve">&gt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  <m:r>
                                <m:t xml:space="preserve">;</m:t>
                              </m:r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S</m:t>
                                  </m:r>
                                </m:sub>
                              </m:sSub>
                              <m:r>
                                <m:t xml:space="preserve">&lt;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G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K</m:t>
                              </m:r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GS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t xml:space="preserve">T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S</m:t>
                                  </m:r>
                                </m:sub>
                              </m:sSub>
                              <m:r>
                                <m:t xml:space="preserve">&gt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  <m:r>
                                <m:t xml:space="preserve">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S</m:t>
                                  </m:r>
                                </m:sub>
                              </m:sSub>
                              <m:r>
                                <m:t xml:space="preserve">≥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GS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: Zona Lineal o Triode y Cor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5486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Transistor MOSFET de potenci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2309760"/>
            <a:ext cx="7848720" cy="4273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914400" y="3048120"/>
            <a:ext cx="3375000" cy="20541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5486400" y="54864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248520" y="26668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3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34320" y="36576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1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733920" y="6324480"/>
            <a:ext cx="761760" cy="19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618660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320" y="27432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74674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19920" y="57913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705720" y="2971800"/>
            <a:ext cx="3045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57400" y="5334120"/>
            <a:ext cx="10666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= 3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568152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5334120"/>
            <a:ext cx="10666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457200" y="5715000"/>
            <a:ext cx="53352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1978200"/>
            <a:ext cx="8458200" cy="45986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: Zona Lineal o Triode y Cor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548640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OSFET de potenci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/s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on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omo parámetr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914400" y="3048120"/>
            <a:ext cx="3375000" cy="20541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5486400" y="54864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00800" y="21337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&gt; 7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29600" y="228600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6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962520" y="6354720"/>
            <a:ext cx="76176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81280" y="618660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6320" y="23623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8077320" y="2514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19920" y="57913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480" y="236232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54320" y="5257800"/>
            <a:ext cx="10666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= 3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787480" y="56055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" y="5334120"/>
            <a:ext cx="10666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S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457200" y="5715000"/>
            <a:ext cx="53352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153280" y="312408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7696080" y="3276720"/>
            <a:ext cx="5335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153280" y="373392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3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772400" y="388620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077320" y="457200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2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7619760" y="4571640"/>
            <a:ext cx="53316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077320" y="541008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1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7619760" y="5257440"/>
            <a:ext cx="53316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Enhancement de Canal n: Curvas de Salid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543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Zona Lineal o triodo: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lt; (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Zona Saturación (Fuente Corriente):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 (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2435400"/>
            <a:ext cx="7620120" cy="41479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5715000" y="3889440"/>
            <a:ext cx="3375000" cy="20541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5257800" y="6248520"/>
            <a:ext cx="1066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2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56386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50292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6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38862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8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7432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1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581280" y="6354720"/>
            <a:ext cx="76212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581280" y="618660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320" y="27432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81080" y="5638680"/>
            <a:ext cx="13716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1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= 1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1143000" y="5867280"/>
            <a:ext cx="9907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666880" y="4952880"/>
            <a:ext cx="13716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1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= 3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2514600" y="525780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8120" y="3733920"/>
            <a:ext cx="13716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1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= 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4038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09680" y="2666880"/>
            <a:ext cx="13716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1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= 7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505320" y="2666880"/>
            <a:ext cx="17524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9480" y="3429000"/>
            <a:ext cx="1828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1.6 A/V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Depletion de Canal n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Zona Lineal o Triode y Cor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2017800"/>
            <a:ext cx="8153280" cy="452124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685800" y="2895480"/>
            <a:ext cx="3711600" cy="22021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74600" y="5257800"/>
            <a:ext cx="137160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= - 3.5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60400" y="56055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86400" y="54864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172200" y="22860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14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7695720" y="2742840"/>
            <a:ext cx="38124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19920" y="57150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86600" y="243828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77320" y="327672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8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 flipV="1">
            <a:off x="7619760" y="3124080"/>
            <a:ext cx="60948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077320" y="373392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6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7162560" y="388620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077320" y="457200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 flipV="1">
            <a:off x="7315200" y="4419720"/>
            <a:ext cx="83808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077320" y="5257800"/>
            <a:ext cx="9144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2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7619760" y="5105520"/>
            <a:ext cx="53316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924680" y="2743200"/>
            <a:ext cx="1067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1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924680" y="2286000"/>
            <a:ext cx="1067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12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777204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657600" y="6354720"/>
            <a:ext cx="76212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581280" y="618660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320" y="25909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OSFET Depletion de Canal n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urvas de Salid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0" y="2135160"/>
            <a:ext cx="7924680" cy="440388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6019920" y="6172200"/>
            <a:ext cx="1066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 4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257800" y="50292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2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867280" y="457200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772400" y="22096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1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581280" y="6354720"/>
            <a:ext cx="76212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581280" y="6186600"/>
            <a:ext cx="106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6320" y="27432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981080" y="6248520"/>
            <a:ext cx="13716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1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= 3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1828800" y="579096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971800" y="5029200"/>
            <a:ext cx="13716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1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= 5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2514600" y="525780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191120" y="3657600"/>
            <a:ext cx="13716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1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= 9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3962520" y="38862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86400" y="2743200"/>
            <a:ext cx="160020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1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= 11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9480" y="2666880"/>
            <a:ext cx="2514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0.0111 mA/V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6400800" y="6095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001000" y="5791320"/>
            <a:ext cx="1066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- 2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7695720" y="6019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924680" y="5486400"/>
            <a:ext cx="1067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7543800" y="5638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943600" y="38098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6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772400" y="320040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8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723920" y="2971800"/>
            <a:ext cx="838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Transistores MOSFET: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lta impedancia en la compuert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trol de corriente mediante voltaje en la compuert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xiste umbral de activación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Umbral positivo o negativo dependiendo de si el dispositivo es Enhancement/Depletion ó tipo n / tipo p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Zonas de Oper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ine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tur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studiar los modos de operación de los MOSFE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Características MOS (Metal-Oxido-Semiconductor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Incrementales (NMOS, PMOS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Comprender los modelos y sus limitacion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Polarización de los FET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es MOSFET: Definicione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ransistor MOSFE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uatro terminal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Usualmente Cuerpo (Body) conectado a Fuente (Source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MOSFET%20Canal%20n%20vista%20general" descr=""/>
          <p:cNvPicPr/>
          <p:nvPr/>
        </p:nvPicPr>
        <p:blipFill>
          <a:blip r:embed="rId1"/>
          <a:stretch/>
        </p:blipFill>
        <p:spPr>
          <a:xfrm>
            <a:off x="76320" y="2895480"/>
            <a:ext cx="6705360" cy="30657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105520" y="4495680"/>
            <a:ext cx="3962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br>
              <a:rPr sz="1600"/>
            </a:b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i el substrato es tipo p el MOSFET será de canal n y vice-versa.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- Existen de tipo “enhancement” (como el de la figura) y “depletion” (donde se ha dopado el semiconductor bajo la capa aislant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594360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osfet enhancement de Canal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es MOSFET: Definicione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nal Bajo Compuert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ecesidad de sobrepasar voltaje umbral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para formar el can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hancement o Increment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xistencia de canal sin voltaje en compuert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pletion o Decrement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xiste un dopado adicional por debaj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opado del Substrat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ubstrato tipo p: MOSFET de canal n (mismo tipo que la fuente y el drenaje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ubstrato tipo n: MOSFET de canal p (mismo tipo que la fuente y el drenaje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4495680"/>
            <a:ext cx="38098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erminal del Substrato o “Cuerpo” (Bod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i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ectado a la Fu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es MOSFET: Símbol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1828800"/>
          <a:ext cx="6095880" cy="430992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  <a:gridCol w="1219320"/>
                <a:gridCol w="1218960"/>
              </a:tblGrid>
              <a:tr h="609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hanc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le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90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erpo lib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erpo conectado a Fu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erpo lib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erpo conectado a Fu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800"/>
                      </a:br>
                      <a:r>
                        <a:rPr b="0" i="1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 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800"/>
                      </a:br>
                      <a:r>
                        <a:rPr b="0" i="1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 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523880" y="3581280"/>
            <a:ext cx="1051200" cy="1089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819520" y="3581280"/>
            <a:ext cx="1006200" cy="10670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523880" y="4876920"/>
            <a:ext cx="1067040" cy="10508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2819520" y="4876920"/>
            <a:ext cx="1006200" cy="1006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3962520" y="3581280"/>
            <a:ext cx="1006200" cy="10065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5257800" y="3581280"/>
            <a:ext cx="952560" cy="1089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7"/>
          <a:stretch/>
        </p:blipFill>
        <p:spPr>
          <a:xfrm>
            <a:off x="3962520" y="4952880"/>
            <a:ext cx="1104840" cy="1051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8"/>
          <a:stretch/>
        </p:blipFill>
        <p:spPr>
          <a:xfrm>
            <a:off x="5181480" y="4952880"/>
            <a:ext cx="968400" cy="10288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477120" y="2527200"/>
            <a:ext cx="2514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Nota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xisten en la literatura otros símbolos para representar los dispositivos MOSFET indica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MOSFET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Se estudiarán los MOSFET de canal n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Tanto Enhacement como Depletion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Propuesto: Análisis y generalización para los MOSFET de canal p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es MOSFET: Característica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320" y="1905120"/>
            <a:ext cx="40384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ructura M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etal-Oxide-Semiconduct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 estructura existente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e la compuerta (Gate)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y el cuerpo (Body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uerta define conduc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oltaje en la compuerta respecto al cuerp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mienza a “atraer” portadores minoritarios (n) a la capa aisla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MOSFET%20Canal%20n%20vista%20Transversal" descr=""/>
          <p:cNvPicPr/>
          <p:nvPr/>
        </p:nvPicPr>
        <p:blipFill>
          <a:blip r:embed="rId1"/>
          <a:stretch/>
        </p:blipFill>
        <p:spPr>
          <a:xfrm>
            <a:off x="4114800" y="1905120"/>
            <a:ext cx="5029200" cy="32511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6320" y="4724280"/>
            <a:ext cx="86104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 voltaje suficientemente alto se forma un canal de tipo n (Capa de Inversión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dición: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gt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(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“Voltaje Threshold”, no confundir con el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de BJ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 voltajes de compuerta más grandes el canal será may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nsistores MOSFET: Característica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960" y="1904760"/>
            <a:ext cx="4343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pa de Óxido es Aisla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sistencia (DC) Compuerta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uy alt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rriente (DC) Compuerta despreciabl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trol del “encendido” del transistor: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usualmente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porque vienen conectados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forma natural el Transistor MOSFET es un amplificador de Transconductanci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xisten comportamientos capacitiv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 frecuencias “altas” la impedancia puede ser baj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s señales de alta frecuencia pueden “evitar” la alta resistencia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MOSFET%20Canal%20n%20vista%20Transversal" descr=""/>
          <p:cNvPicPr/>
          <p:nvPr/>
        </p:nvPicPr>
        <p:blipFill>
          <a:blip r:embed="rId1"/>
          <a:stretch/>
        </p:blipFill>
        <p:spPr>
          <a:xfrm>
            <a:off x="4343400" y="2052720"/>
            <a:ext cx="48006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9T15:02:40Z</dcterms:created>
  <dc:creator>Domingo Morales Lizama</dc:creator>
  <dc:description/>
  <dc:language>en-US</dc:language>
  <cp:lastModifiedBy>Leszek Szczecinski</cp:lastModifiedBy>
  <dcterms:modified xsi:type="dcterms:W3CDTF">2003-08-05T22:02:15Z</dcterms:modified>
  <cp:revision>439</cp:revision>
  <dc:subject>Dispositivos MOSFET</dc:subject>
  <dc:title>Clase 10</dc:title>
</cp:coreProperties>
</file>