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5.png" ContentType="image/png"/>
  <Override PartName="/ppt/media/image28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24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32AA-9B13-4ECE-8352-FC6E7DE93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9C7F-F106-4017-AC02-D7CA06845A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357D4-A73C-4233-A58F-8955DDDAB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B3D6-3829-4500-BBB2-2636D950A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85A4-D9B1-4CEC-B180-5C6E7ABB2B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469-40AD-4A5B-AE5A-83CAEF3FB9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B41E-9AA5-4856-B187-F377119923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DD5-7E92-4E34-A3AC-A08961430D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84B-2D90-44BB-8C0C-D9E0DBFCC2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CE3-38F8-4A20-ABB6-D8029C05E6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A4CA-06C4-4363-9120-523FD2C15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5D1C-89ED-4CFE-A6BA-7519302D6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A06E-373F-4CF0-980F-69A08C4AC8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BDF-B671-40E9-9C76-AC72B1E5D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A50-6313-491F-BA1D-10E2F5E07B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13B-7363-4415-8676-9087957DAD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C9A-615C-4BF5-A28C-489D4F5889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C62F-E466-4006-A305-49D999B0E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6F3-91BE-47E1-BBC3-2B96F913F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2B61-1F2D-48A7-A2A7-97D4E584B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A77B-358D-45D0-B3F2-020404DA62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0EE8-B70E-4E8F-BFD0-EEA5B7B32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70EF-0066-4006-BE9D-AEB4FFF1D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B024-B228-46D0-B350-D53E4EE56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321-2ACC-415C-9FC1-319C45DE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72F-076C-4F16-B597-35658C272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2077920"/>
            <a:ext cx="7848720" cy="4467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2735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os interruptores en paralel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conecta un inversor a la salida y se obtiene una compuerta N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352680"/>
            <a:ext cx="5372280" cy="317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6553080" y="2209680"/>
          <a:ext cx="2057400" cy="182556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477120" y="4495680"/>
            <a:ext cx="2149200" cy="1684440"/>
            <a:chOff x="6477120" y="4495680"/>
            <a:chExt cx="2149200" cy="1684440"/>
          </a:xfrm>
        </p:grpSpPr>
        <p:grpSp>
          <p:nvGrpSpPr>
            <p:cNvPr id="153" name=""/>
            <p:cNvGrpSpPr/>
            <p:nvPr/>
          </p:nvGrpSpPr>
          <p:grpSpPr>
            <a:xfrm>
              <a:off x="6477120" y="4495680"/>
              <a:ext cx="2149200" cy="1684440"/>
              <a:chOff x="6477120" y="4495680"/>
              <a:chExt cx="2149200" cy="1684440"/>
            </a:xfrm>
          </p:grpSpPr>
          <p:pic>
            <p:nvPicPr>
              <p:cNvPr id="1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477120" y="4495680"/>
                <a:ext cx="2149200" cy="1684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6792840" y="4910040"/>
                <a:ext cx="15264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815160" y="5345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63080" y="5129280"/>
                <a:ext cx="15228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6477120" y="49528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77120" y="54244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5328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NOR Básica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122560"/>
            <a:ext cx="7772400" cy="442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374184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Transistor (configuración inversor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aso desde corte a saturación y vice-versa </a:t>
            </a:r>
            <a:br>
              <a:rPr sz="2400"/>
            </a:b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(pasa por zona activa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importantes en la conmuta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istencia de colector “pull-up”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ermite que el voltaje “suba” al nivel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 la fu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69712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Retraso en la conmutación </a:t>
            </a:r>
            <a:br>
              <a:rPr sz="2800"/>
            </a:b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(tiempo de propagación)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almacenamien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High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Low (corte a saturación) rápida: deben removerse portadores minoritarios que son muy poc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(saturación a corte) lenta: exceso de portadores en la base inyectados desde la juntura emisor y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iempo de tránsit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ortadores inyectados tardan un tiempo finito en atravesar la base y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6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racterística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 : Característica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traso en la Conmut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Retraso(Direct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Inversa) &gt; Retraso(Inversa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irecta)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retraso (delay): remover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subida (rise): Constante de tiemp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2681280"/>
            <a:ext cx="7010640" cy="39481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730520" y="551664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19360" y="586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5486400"/>
            <a:ext cx="685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84280" y="5867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943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ones: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 de “tránsito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ortadores inyectados tardan tiempo finito en atravesar la base para alcanzar el colecto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o es capaz de “seguir” variaciones “rápidas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factor de transi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e reduc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mutación: Conviene np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Mejoras: Dopado asimétrico en la base: Genera la existencia de un campo que acelera los portadores (por ejemplo dopado lineal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en exceso en la base Q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Hay que remover Gran cantidad de portadore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a primer orden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orden 2 en x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(x)  lineal en x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477120" y="2712960"/>
                <a:ext cx="20001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f>
                      <m:num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657840" y="4568760"/>
                <a:ext cx="18194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rt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496200" y="3632040"/>
                <a:ext cx="19000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rte</m:t>
                        </m:r>
                      </m:sub>
                    </m:sSub>
                    <m:r>
                      <m:t xml:space="preserve">≈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Análisis Dinámico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licancias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retraso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gue conduciendo por un tiempo t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durante el cual remueve la carga en exceso en la base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Luego de esto entra en acción la capacidad de difusión que intenta descargarse con constante de tiempo impuesta p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iempo de subida: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atura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asi no existe retraso en la respuest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iempo de bajada menor por capacidad de transición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492880" y="2514600"/>
                <a:ext cx="33462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5305320" y="4900680"/>
                <a:ext cx="3638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RTE</m:t>
                                        </m:r>
                                      </m:e>
                                    </m:d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AT</m:t>
                                        </m:r>
                                      </m:e>
                                    </m:d>
                                  </m:sub>
                                </m:sSub>
                              </m:den>
                            </m:f>
                          </m:e>
                        </m:d>
                      </m:e>
                    </m:d>
                    <m:r>
                      <m:t xml:space="preserve">≈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par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724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ondensador Speed-Up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mueve portadores en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(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486040" y="19810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Simp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334120" y="3154320"/>
            <a:ext cx="3489120" cy="3322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320" y="3160800"/>
            <a:ext cx="5105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Dispositivos Electrónicos Bás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9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Transistores de Juntura Bipolar (BJT)</a:t>
            </a:r>
            <a:br>
              <a:rPr sz="3200"/>
            </a:b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Inversor Simp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991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ndensador Speed-Up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1698480"/>
            <a:ext cx="883908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Ejemplo: Comentari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densador Speed-Up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yuda a remover rápidamente de la base los portadores en exces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 se utiliza en la actualidad por cuanto existen mejores alternativas (etapas de entrada TTL, las veremos más adelante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odo Schottky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juntura base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ja al transistor “justo antes” de saturars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importancia radica en que la identificación de la causa de un problema genera la posibilidad de una solución prác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: Conectiv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mpuertas Lógicas se interconectan entre sí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 esta forma se pueden crear funciones booleanas, registros, memorias, etc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etapa siguiente presenta una capacidad equivalente a la salida de la etapa en cuest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voca retras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Fan-in y Fan-ou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xisten restricciones al número de compuertas que pueden ser conectadas a la entrada y salida de una compuer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nmutación: Capacitanci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334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tancia de Carga: Etapas siguient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troduce constante de tiempo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en la 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 (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saturado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trata de pasar a cor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carga exponencialmente con constante de tiempo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dea: “achica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: Gran corriente cuando Q1 está satura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ransición High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Low (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pasa de Corte 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lta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ndensador se descarga a corriente constante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uy Rápid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en 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~ 10pF (“más parecido a capacidad de transición que capacidad dinámica”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562720" y="2209680"/>
            <a:ext cx="3429000" cy="2212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15000" y="5105520"/>
                <a:ext cx="29718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rg</m:t>
                            </m:r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543800" y="2209680"/>
            <a:ext cx="533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119320" y="2438280"/>
            <a:ext cx="4815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70488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27160" y="2514600"/>
            <a:ext cx="695016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6933960" cy="3986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315200" y="2133720"/>
            <a:ext cx="167652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1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arámetros del modelo “híbrido” del transistor para operación en zona activa a pequeña señ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5200" y="4130640"/>
            <a:ext cx="167652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 2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Otro modelo es el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que además sirve para alta 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Datasheets Transistor 2N2222 (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6912000" cy="1485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6781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el comportamiento de un inversor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stático: Transistor como switch o interrupt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Estudiar compuertas lógicas básic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entarios sobre consumos/velocidad/fan-ou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námico: Transistor en la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Hojas de datos Transist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 como conmutad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 y corte defin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quivalentes a “baja resistencia” y “alta resistencia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terpretación como interrup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físicos: tiempo de almacenamiento (crítico el de transición saturació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rte debido al exceso de portadores en la base); tiempo de tránsi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oluciones apuntan a extraer rápidamente los portadores en exceso. Ejemplo: Condensador Speed-Up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ectividad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fine retrasos por condensador equivalente en la sal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ímites al número de compuertas conectadas: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6324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stores como conmutadores ó switch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peran en dos estados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bierto: alta resistencia (cort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errado: baja resistencia (saturació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429000" cy="3165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6320" y="327024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0" y="3733920"/>
            <a:ext cx="2133720" cy="228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nceptualizar al transistor como un interruptor permite analizar fácilmente las configuraciones en </a:t>
            </a:r>
            <a:r>
              <a:rPr b="0" i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régimen permanent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, en otras palabras luego de la 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292880" y="1360440"/>
            <a:ext cx="1317600" cy="2296800"/>
            <a:chOff x="7292880" y="1360440"/>
            <a:chExt cx="1317600" cy="2296800"/>
          </a:xfrm>
        </p:grpSpPr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292880" y="2743200"/>
                  <a:ext cx="222480" cy="2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8055000" y="2210040"/>
                  <a:ext cx="555480" cy="27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750080" y="1360440"/>
                  <a:ext cx="37152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7674120" y="1524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67640" y="26370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7472520" y="3233520"/>
              <a:ext cx="380880" cy="423720"/>
              <a:chOff x="7472520" y="3233520"/>
              <a:chExt cx="380880" cy="42372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7472520" y="3435480"/>
                <a:ext cx="380880" cy="221760"/>
                <a:chOff x="7472520" y="3435480"/>
                <a:chExt cx="380880" cy="2217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7472520" y="3568680"/>
                  <a:ext cx="380880" cy="88560"/>
                  <a:chOff x="7472520" y="3568680"/>
                  <a:chExt cx="380880" cy="885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7472520" y="356868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7548480" y="361296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7624800" y="365724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 flipV="1">
                  <a:off x="7666200" y="3435480"/>
                  <a:ext cx="0" cy="132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12" name=""/>
              <p:cNvCxnSpPr>
                <a:stCxn id="104" idx="0"/>
                <a:endCxn id="111" idx="0"/>
              </p:cNvCxnSpPr>
              <p:nvPr/>
            </p:nvCxnSpPr>
            <p:spPr>
              <a:xfrm flipH="1">
                <a:off x="7665840" y="3233520"/>
                <a:ext cx="2160" cy="202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113" name=""/>
            <p:cNvSpPr/>
            <p:nvPr/>
          </p:nvSpPr>
          <p:spPr>
            <a:xfrm>
              <a:off x="7674120" y="2508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4400" y="2221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1480" y="1828800"/>
              <a:ext cx="3049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sumo de Potencia Estát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: mínimo, circulan corrientes de saturación invers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: alto, en el circuito base y en el colect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uente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P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AT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17,25mW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29000" y="3317760"/>
            <a:ext cx="3505320" cy="3235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320" y="3319560"/>
            <a:ext cx="3352680" cy="3211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934320" y="3367080"/>
            <a:ext cx="2133360" cy="24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ambién existe consumo de potencia dinámico, es decir cuando el transistor esta conmutando desde uno de los  estados (corte/saturación)  al ot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uede estar encendida. Tiene un pequeño potencial producto de la corriente de saturación que circula por la resistencia base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stor se encuentra en corte o invers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y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orman un divisor de tensión (juntura np en serie con R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) para voltaje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–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laramente gana la resistencia equivalente de una juntura en inversa, quedando los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 la juntura. Por lo tanto no circula corriente por el colector del transistor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mportante: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debe presentar breakdown 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, pues en caso contrario la juntura conducirá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562720" y="2590920"/>
            <a:ext cx="35049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960" y="1676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ado Juntu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activa, transistor estará en zona activa o saturado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Si estuviese en activa, suponiendo el peor caso con h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FEmi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 se tendría en el colector 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30*I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0mA. En la resistencia de colector caerían 150V, lo cual no es posible. Por lo tanto se encuentra en saturación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581280" y="3325680"/>
            <a:ext cx="3497400" cy="3227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6320" y="3313080"/>
            <a:ext cx="3504960" cy="3240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162920" y="3351240"/>
            <a:ext cx="1828800" cy="272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Resistencia de Saturación R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br>
              <a:rPr sz="1600"/>
            </a:b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Notar q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 mayor corriente de colector en saturación, menor R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ES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menor voltaje colector-emisor (por el divisor de tensió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: Estado Saturación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saturación se debe tener que la corriente de base es mayor a la corriente de base mín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rriente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 el Transistor no se encuentra saturad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hace muy pequeña entonces no será posible entregar la corriente de base mínima para saturar al transistor.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el ejemplo: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sat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50mA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m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.7mA, pero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1mA que no es sufic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356544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ompuertas Lógicas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quitectur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rga “pull-up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abla de verdad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iveles de voltaje para corte y saturación equivalentes a valores booleanos “0” y “1”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ó valores lógicos V o F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3170160"/>
            <a:ext cx="3276720" cy="338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6858000" y="4495680"/>
          <a:ext cx="1447920" cy="1041480"/>
        </p:xfrm>
        <a:graphic>
          <a:graphicData uri="http://schemas.openxmlformats.org/drawingml/2006/table">
            <a:tbl>
              <a:tblPr/>
              <a:tblGrid>
                <a:gridCol w="762120"/>
                <a:gridCol w="685800"/>
              </a:tblGrid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"/>
          <p:cNvGrpSpPr/>
          <p:nvPr/>
        </p:nvGrpSpPr>
        <p:grpSpPr>
          <a:xfrm>
            <a:off x="4114800" y="5710320"/>
            <a:ext cx="1989000" cy="690120"/>
            <a:chOff x="4114800" y="5710320"/>
            <a:chExt cx="1989000" cy="690120"/>
          </a:xfrm>
        </p:grpSpPr>
        <p:sp>
          <p:nvSpPr>
            <p:cNvPr id="138" name=""/>
            <p:cNvSpPr/>
            <p:nvPr/>
          </p:nvSpPr>
          <p:spPr>
            <a:xfrm rot="5400000">
              <a:off x="4692600" y="5841720"/>
              <a:ext cx="620640" cy="4968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51320" y="6021360"/>
              <a:ext cx="142920" cy="137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27560" y="6089400"/>
              <a:ext cx="426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94240" y="6089400"/>
              <a:ext cx="42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14800" y="5710320"/>
              <a:ext cx="4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51320" y="5710320"/>
              <a:ext cx="8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400" spc="-1" strike="noStrike">
                  <a:solidFill>
                    <a:srgbClr val="000000"/>
                  </a:solidFill>
                  <a:latin typeface="Times New Roman"/>
                </a:rPr>
                <a:t>Y = ~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4861080"/>
            <a:ext cx="26668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bstracción: no se mira la constitución  inte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7T02:28:57Z</dcterms:created>
  <dc:creator>Domingo Morales Lizama</dc:creator>
  <dc:description/>
  <dc:language>en-US</dc:language>
  <cp:lastModifiedBy>Leszek Szczecinski</cp:lastModifiedBy>
  <dcterms:modified xsi:type="dcterms:W3CDTF">2003-08-06T13:40:35Z</dcterms:modified>
  <cp:revision>1121</cp:revision>
  <dc:subject>Transistores de Juntura Bipolar (BJT). Conmutación</dc:subject>
  <dc:title>Clase 9</dc:title>
</cp:coreProperties>
</file>