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5.png" ContentType="image/png"/>
  <Override PartName="/ppt/media/image28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png" ContentType="image/png"/>
  <Override PartName="/ppt/media/image19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4.png" ContentType="image/png"/>
  <Override PartName="/ppt/media/image27.png" ContentType="image/png"/>
  <Override PartName="/ppt/media/image1.png" ContentType="image/png"/>
  <Override PartName="/ppt/media/image24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13932-0C6E-4DED-8A26-F561406EDC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52D66-E937-4494-8DE8-4C7BFE8432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3FE5E-4220-479E-B6FB-6250E561D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F6456-02D8-4F91-9F31-A225CB3CD5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4743-81F1-4F58-8CD4-C3EB1597D7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CA42-CD47-467F-AFAF-AABCEE6FA6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EA82-4C78-4C07-9108-01518E09DA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C776-2017-4491-82D9-02A1FD1935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E66F-C6E5-41BF-BD6B-DF9F4E5EEF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7D31-72B5-42FC-BD70-F9D20E82AC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5A84-EAA8-4A75-9653-C5A0F96E78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08F0A-8AE2-46D9-AF9A-10EC2C0FCB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1F3B-FFFF-4B14-9CC9-FCE21C221C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CF2E-26AE-49DA-9E84-7F9B82F864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0959-A789-47B3-A643-AE57838DCF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C89A-BF53-4DA0-B9C2-866299A059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AAE8-C9D6-424A-9EBC-EE913CC6FB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0BC2F-899B-4A54-BDCA-6B091DF15B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4E9B1-DDBA-4C5A-8C04-F686E2AE49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AFDD9-A353-4BBB-BC05-FA0EEEF53B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C5965-28AA-441F-8C4F-C06C588500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0FA6E-7EEE-4894-B8B0-6FEAAE7C92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A065B-A323-480E-AEEC-F94BA4418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A889C-C3F5-40A0-918A-4BC3DCE169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E0CA-D555-4198-AA3B-D452A820D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4B71-094E-405C-B330-A7A49ED32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 Lógicas: Invers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2077920"/>
            <a:ext cx="7848720" cy="44672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172200" y="2209680"/>
            <a:ext cx="27352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 Lógicas: NOR Básic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105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bla de Ver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os interruptores en paralel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conecta un inversor a la salida y se obtiene una compuerta N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5372280" cy="317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6553080" y="2209680"/>
          <a:ext cx="2057400" cy="182556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2" name=""/>
          <p:cNvGrpSpPr/>
          <p:nvPr/>
        </p:nvGrpSpPr>
        <p:grpSpPr>
          <a:xfrm>
            <a:off x="6477120" y="4495680"/>
            <a:ext cx="2149200" cy="1684440"/>
            <a:chOff x="6477120" y="4495680"/>
            <a:chExt cx="2149200" cy="1684440"/>
          </a:xfrm>
        </p:grpSpPr>
        <p:grpSp>
          <p:nvGrpSpPr>
            <p:cNvPr id="153" name=""/>
            <p:cNvGrpSpPr/>
            <p:nvPr/>
          </p:nvGrpSpPr>
          <p:grpSpPr>
            <a:xfrm>
              <a:off x="6477120" y="4495680"/>
              <a:ext cx="2149200" cy="1684440"/>
              <a:chOff x="6477120" y="4495680"/>
              <a:chExt cx="2149200" cy="1684440"/>
            </a:xfrm>
          </p:grpSpPr>
          <p:pic>
            <p:nvPicPr>
              <p:cNvPr id="1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477120" y="4495680"/>
                <a:ext cx="2149200" cy="168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6792840" y="4910040"/>
                <a:ext cx="15264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815160" y="5345280"/>
                <a:ext cx="1522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63080" y="5129280"/>
                <a:ext cx="1522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6477120" y="4952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77120" y="5424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53280" y="5105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 Lógicas: NOR Básic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2122560"/>
            <a:ext cx="7772400" cy="4422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257800" y="2438280"/>
            <a:ext cx="37418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Característic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ransistor (configuración inversor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so desde corte a saturación y vice-versa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(pasa por zona activa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 importantes en la conmutación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de pot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 de colector “pull-up”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que el voltaje “suba” al nivel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 la fu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324480" y="3276720"/>
            <a:ext cx="269712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Característic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traso en la conmutación 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(tiempo de propagación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iempo de almacenamien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High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Low (corte a saturación) rápida: deben removerse portadores minoritarios que son muy poc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 (saturación a corte) lenta: exceso de portadores en la base inyectados desde la juntura emisor y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iempo de tránsi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rtadores inyectados tardan un tiempo finito en atravesar la base y el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172200" y="2743200"/>
            <a:ext cx="269712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Característica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2475000"/>
            <a:ext cx="7543800" cy="4093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391520" y="3429000"/>
            <a:ext cx="0" cy="2438280"/>
          </a:xfrm>
          <a:prstGeom prst="line">
            <a:avLst/>
          </a:prstGeom>
          <a:ln w="1908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57200" y="4648320"/>
            <a:ext cx="6934320" cy="0"/>
          </a:xfrm>
          <a:prstGeom prst="line">
            <a:avLst/>
          </a:prstGeom>
          <a:ln w="1908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848720" y="3429000"/>
            <a:ext cx="0" cy="26668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33520" y="4800600"/>
            <a:ext cx="73152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48769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4952880"/>
            <a:ext cx="9144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H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52880" y="4876920"/>
            <a:ext cx="9144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L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315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asos de propag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en transición High-Low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HL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 y Low-High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LH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miden con respecto al 50% de las máximas excursion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 : Características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aso en la Conmu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traso(Directa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nversa) &gt; Retraso(Inversa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Directa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iempo de retraso (delay): remover portadores en exces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iempo de subida (rise): Constante de tiemp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52280" y="2681280"/>
            <a:ext cx="7010640" cy="39481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730520" y="5516640"/>
            <a:ext cx="685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Times New Roman"/>
              </a:rPr>
              <a:t>D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19360" y="5867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90920" y="5486400"/>
            <a:ext cx="685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Times New Roman"/>
              </a:rPr>
              <a:t>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84280" y="5867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Análisis Dinámic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943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mitaciones: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iempo de “tránsito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rtadores inyectados tardan tiempo finito en atravesar la base para alcanzar el colec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es capaz de “seguir” variaciones “rápidas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factor de transi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se reduc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mutación: Conviene np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joras: Dopado asimétrico en la base: Genera la existencia de un campo que acelera los portadores (por ejemplo dopado lineal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ga en exceso en la base Q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ción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r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Hay que remover Gran cantidad de portado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a primer orden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x) orden 2 en x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x)  lineal en x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477120" y="2712960"/>
                <a:ext cx="200016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657840" y="4568760"/>
                <a:ext cx="18194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ω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t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6496200" y="3632040"/>
                <a:ext cx="19000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rt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Análisis Dinámic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licancias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iempo de retraso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gue conduciendo por un tiempo t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durante el cual remueve la carga en exceso en la base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uego de esto entra en acción la capacidad de difusión que intenta descargarse con constante de tiempo impuesta por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iempo de subida: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nsición Corte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aturación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asi no existe retraso en la respuest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iempo de bajada menor por capacidad de transición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492880" y="2514600"/>
                <a:ext cx="33462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r>
                      <m:t xml:space="preserve">≡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AT</m:t>
                                        </m:r>
                                      </m:e>
                                    </m:d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ORTE</m:t>
                                        </m:r>
                                      </m:e>
                                    </m:d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305320" y="4900680"/>
                <a:ext cx="36385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r>
                      <m:t xml:space="preserve">≡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ORTE</m:t>
                                        </m:r>
                                      </m:e>
                                    </m:d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AT</m:t>
                                        </m:r>
                                      </m:e>
                                    </m:d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  <m:r>
                      <m:t xml:space="preserve">≈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Compar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724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condensador Speed-U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mueve portadores en transición Satur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rte (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86040" y="198108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Simp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34120" y="3154320"/>
            <a:ext cx="3489120" cy="3322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6320" y="3160800"/>
            <a:ext cx="51051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9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Transistores de Juntura Bipolar (BJT)</a:t>
            </a:r>
            <a:br>
              <a:rPr sz="3200"/>
            </a:b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onmutació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Inversor Simp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8991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Condensador Speed-Up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698480"/>
            <a:ext cx="883908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Comentari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densador Speed-Up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yuda a remover rápidamente de la base los portadores en exces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 se utiliza en la actualidad por cuanto existen mejores alternativas (etapas de entrada TTL, las veremos más adelante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odo Schottky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la juntura base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ja al transistor “justo antes” de saturars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 importancia radica en que la identificación de la causa de un problema genera la posibilidad de una solución práct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: Conectividad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mpuertas Lógicas se interconectan entre sí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 esta forma se pueden crear funciones booleanas, registros, memorias, etc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mutació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 etapa siguiente presenta una capacidad equivalente a la salida de la etapa en cuest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voca retras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an-in y Fan-o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n restricciones al número de compuertas que pueden ser conectadas a la entrada y salida de una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Capacitancia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533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citancia de Carga: Etapas siguient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troduce constante de tiempo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la transición Low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High (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r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ción Low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High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 saturado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trata de pasar a corte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ndensador se carga exponencialmente con constante de tiempo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dea: “achicar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blema: Gran corriente cuando Q1 está saturad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ción High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Low (Cor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tur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 pasa de Corte a Activ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lt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lt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ndensador se descarga a corriente constante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Muy Rápid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n transición 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~ 10pF (“más parecido a capacidad de transición que capacidad dinámica”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562720" y="2209680"/>
            <a:ext cx="3429000" cy="2212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715000" y="5105520"/>
                <a:ext cx="297180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7543800" y="220968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119320" y="2438280"/>
            <a:ext cx="481500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70488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27160" y="2514600"/>
            <a:ext cx="695016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6933960" cy="39862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315200" y="2133720"/>
            <a:ext cx="1676520" cy="179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 1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arámetros del modelo “híbrido” del transistor para operación en zona activa a pequeña señ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5200" y="4130640"/>
            <a:ext cx="167652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 2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Otro modelo es el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que además sirve para alta frecu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6912000" cy="1485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143000" y="3733920"/>
            <a:ext cx="6781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studiar el comportamiento de un inverso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tático: Transistor como switch o interrupt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studiar compuertas lógicas bás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entarios sobre consumos/velocidad/fan-ou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mutació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námico: Transistor en la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Hojas de datos Transist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stor como conmutad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 y corte definen dos estado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quivalentes a “baja resistencia” y “alta resistenci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terpretación como interrup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elocidad de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físicos: tiempo de almacenamiento (crítico el de transición satur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rte debido al exceso de portadores en la base); tiempo de tránsi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oluciones apuntan a extraer rápidamente los portadores en exceso. Ejemplo: Condensador Speed-U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ectividad de compuert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fine retrasos por condensador equivalente en la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ímites al número de compuertas conectadas: Fan-Ou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6324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stores como conmutadores ó switch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peran en dos estado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bierto: alta resistencia (cor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errado: baja resistencia (satur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429000" y="3276720"/>
            <a:ext cx="3429000" cy="3165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6320" y="3270240"/>
            <a:ext cx="3352680" cy="3211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58000" y="3733920"/>
            <a:ext cx="213372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ceptualizar al transistor como un interruptor permite analizar fácilmente las configuraciones en </a:t>
            </a:r>
            <a:r>
              <a:rPr b="0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régimen permanent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, en otras palabras luego de la conmu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292880" y="1360440"/>
            <a:ext cx="1317600" cy="2296800"/>
            <a:chOff x="7292880" y="1360440"/>
            <a:chExt cx="1317600" cy="2296800"/>
          </a:xfrm>
        </p:grpSpPr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7292880" y="2743200"/>
                  <a:ext cx="222480" cy="2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8055000" y="2210040"/>
                  <a:ext cx="555480" cy="27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7750080" y="1360440"/>
                  <a:ext cx="37152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3" name=""/>
            <p:cNvSpPr/>
            <p:nvPr/>
          </p:nvSpPr>
          <p:spPr>
            <a:xfrm flipV="1">
              <a:off x="7674120" y="1524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67640" y="26370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7472520" y="3233520"/>
              <a:ext cx="380880" cy="423720"/>
              <a:chOff x="7472520" y="3233520"/>
              <a:chExt cx="380880" cy="42372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7472520" y="3435480"/>
                <a:ext cx="380880" cy="221760"/>
                <a:chOff x="7472520" y="3435480"/>
                <a:chExt cx="380880" cy="2217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7472520" y="3568680"/>
                  <a:ext cx="380880" cy="88560"/>
                  <a:chOff x="7472520" y="3568680"/>
                  <a:chExt cx="380880" cy="885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7472520" y="356868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7548480" y="3612960"/>
                    <a:ext cx="228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7624800" y="3657240"/>
                    <a:ext cx="75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" name=""/>
                <p:cNvSpPr/>
                <p:nvPr/>
              </p:nvSpPr>
              <p:spPr>
                <a:xfrm flipV="1">
                  <a:off x="7666200" y="3435480"/>
                  <a:ext cx="0" cy="132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12" name=""/>
              <p:cNvCxnSpPr>
                <a:stCxn id="104" idx="0"/>
                <a:endCxn id="111" idx="0"/>
              </p:cNvCxnSpPr>
              <p:nvPr/>
            </p:nvCxnSpPr>
            <p:spPr>
              <a:xfrm flipH="1">
                <a:off x="7665840" y="3233520"/>
                <a:ext cx="2160" cy="202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</a:ln>
            </p:spPr>
          </p:cxnSp>
        </p:grpSp>
        <p:sp>
          <p:nvSpPr>
            <p:cNvPr id="113" name=""/>
            <p:cNvSpPr/>
            <p:nvPr/>
          </p:nvSpPr>
          <p:spPr>
            <a:xfrm>
              <a:off x="7674120" y="2508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64400" y="2221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21480" y="1828800"/>
              <a:ext cx="304920" cy="51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sumo de Potencia Estát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te: mínimo, circulan corrientes de saturación invers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: alto, en el circuito base y en el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fuente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AT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7,25mW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429000" y="3317760"/>
            <a:ext cx="3505320" cy="3235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6320" y="3319560"/>
            <a:ext cx="3352680" cy="3211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934320" y="3367080"/>
            <a:ext cx="2133360" cy="24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ambién existe consumo de potencia dinámico, es decir cuando el transistor esta conmutando desde uno de los  estados (corte/saturación)  al otr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do juntur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puede estar encendida. Tiene un pequeño potencial producto de la corriente de saturación que circula por la resistencia bas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nsistor se encuentra en corte o inversa activ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 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orman un divisor de tensión (juntura np en serie con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para voltaj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–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laramente gana la resistencia equivalente de una juntura en inversa, quedando los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la juntura. Por lo tanto no circula corriente por el colector del transistor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ortante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debe presentar breakdown par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, pues en caso contrario la juntura conducirá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562720" y="2590920"/>
            <a:ext cx="35049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 Satura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96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do Juntur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ctiva, transistor estará en zona activa o saturad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estuviese en activa, suponiendo el peor caso con h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FEmi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30 se tendría en el colector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30*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30mA. En la resistencia de colector caerían 150V, lo cual no es posible. Por lo tanto se encuentra en satu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581280" y="3325680"/>
            <a:ext cx="3497400" cy="3227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6320" y="3313080"/>
            <a:ext cx="3504960" cy="3240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162920" y="3351240"/>
            <a:ext cx="1828800" cy="272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esistencia de Saturación R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ES</a:t>
            </a:r>
            <a:br>
              <a:rPr sz="1600"/>
            </a:b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r q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 mayor corriente de colector en saturación, menor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E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enor voltaje colector-emisor (por el divisor de tensión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 Satura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saturación se debe tener que la corriente de base es mayor a la corriente de base mínim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rriente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mi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el ejemplo el Transistor no se encuentra saturad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hace muy pequeña entonces no será posible entregar la corriente de base mínima para saturar al transistor.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el ejemplo: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sat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50m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mi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1.7mA, pero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1mA que no es sufic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356544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 Lógicas: Invers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rquitec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Drive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ga “pull-up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bla de ver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iveles de voltaje para corte y saturación equivalentes a valores booleanos “0” y “1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ó valores lógicos V o F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8600" y="3170160"/>
            <a:ext cx="3276720" cy="338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6858000" y="4495680"/>
          <a:ext cx="1447920" cy="1041480"/>
        </p:xfrm>
        <a:graphic>
          <a:graphicData uri="http://schemas.openxmlformats.org/drawingml/2006/table">
            <a:tbl>
              <a:tblPr/>
              <a:tblGrid>
                <a:gridCol w="762120"/>
                <a:gridCol w="685800"/>
              </a:tblGrid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114800" y="5710320"/>
            <a:ext cx="1989000" cy="690120"/>
            <a:chOff x="4114800" y="5710320"/>
            <a:chExt cx="1989000" cy="690120"/>
          </a:xfrm>
        </p:grpSpPr>
        <p:sp>
          <p:nvSpPr>
            <p:cNvPr id="138" name=""/>
            <p:cNvSpPr/>
            <p:nvPr/>
          </p:nvSpPr>
          <p:spPr>
            <a:xfrm rot="5400000">
              <a:off x="4692600" y="5841720"/>
              <a:ext cx="620640" cy="4968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51320" y="6021360"/>
              <a:ext cx="142920" cy="137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27560" y="6089400"/>
              <a:ext cx="42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94240" y="6089400"/>
              <a:ext cx="425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14800" y="5710320"/>
              <a:ext cx="4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51320" y="5710320"/>
              <a:ext cx="8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Y = ~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733920" y="4861080"/>
            <a:ext cx="26668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bstracción: no se mira la constitución  in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8-06T13:40:35Z</dcterms:modified>
  <cp:revision>1121</cp:revision>
  <dc:subject>Transistores de Juntura Bipolar (BJT). Conmutación</dc:subject>
  <dc:title>Clase 9</dc:title>
</cp:coreProperties>
</file>