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E1A6-B5AC-4587-B975-A7EE5BE87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0DF3-D3A6-4640-81FB-D2EA46674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575E-7680-44D0-B3FF-7921E14A4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53D0-BD5A-4B59-B070-735D93CA9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BE6-1F9C-4BDD-A1C2-06F57569DE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888-1AB0-47DF-847F-F1678C31DE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37D-43AC-4C9B-88B5-4F3D2F0E92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D56-74D4-4D30-AD77-B39EC715C5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E2A-4797-478F-B5E2-EF30F846D4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57C-C3D6-4F29-9418-137791775D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866-AA16-43A1-85F7-58FDC32C65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80F2-6BBE-4574-A5BC-AFE97DF54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DA6-FC75-4D3A-A7CA-E5DA224164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1D3-25FC-408E-ADF2-9D1455FC8A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054-5F66-49BD-9A25-89E501021C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92E-601E-4F36-AB3F-261CB3338D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F33-2DD3-4968-8559-F105A4D353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CB80-59F0-4BB9-9EAA-EDC4EC341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18EF-79F8-4E39-BB85-8DFF79B31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44C9-1239-4D99-8368-61012CA0A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0AF1-0D4E-46F4-ABCA-1BD349903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ACEC-7EBB-4BD7-8674-12F94DC91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4D67-FB7E-4F02-890A-40FB34786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6D3D-535F-4F5C-93CF-84C47C1FE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39F2-D00C-49F5-B94F-6F895C2B0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A221-25CF-4A40-B976-1F6F3166A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553080" y="1752480"/>
            <a:ext cx="2438640" cy="2895840"/>
            <a:chOff x="6553080" y="1752480"/>
            <a:chExt cx="2438640" cy="28958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6553080" y="1752480"/>
              <a:ext cx="24386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081920" y="3223800"/>
              <a:ext cx="46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36800" y="3565440"/>
                <a:ext cx="5290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52480" y="2971800"/>
                <a:ext cx="3373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562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deal como buffer de Voltaje: ¡¡¡La fuente puede alimentar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na carga con impedancia comparable a la propi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584600"/>
            <a:ext cx="411480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(B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(E)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está en paralelo con la resistencia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pero esta última es, en un buen diseño, mucho mayor que la prim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1905120"/>
                <a:ext cx="38862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720" y="4529160"/>
                <a:ext cx="4170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 a tierra (elimino A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0.7 V;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l seguidor de emisor npn sólo puede ser “fuente” (no sumidero)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6172200" cy="34876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685440" y="4898880"/>
            <a:ext cx="4513680" cy="1229760"/>
            <a:chOff x="685440" y="4898880"/>
            <a:chExt cx="4513680" cy="1229760"/>
          </a:xfrm>
        </p:grpSpPr>
        <p:sp>
          <p:nvSpPr>
            <p:cNvPr id="148" name=""/>
            <p:cNvSpPr/>
            <p:nvPr/>
          </p:nvSpPr>
          <p:spPr>
            <a:xfrm>
              <a:off x="3048120" y="5791320"/>
              <a:ext cx="21510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oltaje Polar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85440" y="4898880"/>
              <a:ext cx="3429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5334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20" y="2819520"/>
            <a:ext cx="6705360" cy="3639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 flipV="1">
            <a:off x="838080" y="4495320"/>
            <a:ext cx="5943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334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ciones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1V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 mA) /2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0.5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olariz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m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2.7 mW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centaje de la Potencia de Polarización que es entregada a la 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19%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consume potencia aún cuando no hay señal de entrada (Amplificador “Clase 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715000" y="1801800"/>
            <a:ext cx="3352680" cy="3254400"/>
            <a:chOff x="5715000" y="1801800"/>
            <a:chExt cx="3352680" cy="32544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76108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55308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416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5328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200" y="507204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lpable: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stor npn sólo puede “suplir” corriente es necesario “subir” la señal de entrada (Aplicar voltaje negativo e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que en sus excursiones no corten al transi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5850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545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4935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320" y="2421000"/>
            <a:ext cx="7619760" cy="42847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6858000" y="2743200"/>
            <a:ext cx="2209680" cy="2209680"/>
            <a:chOff x="6858000" y="2743200"/>
            <a:chExt cx="2209680" cy="220968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886440" y="27432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91520" y="38494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34520" y="28191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9600" y="45716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8652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67480" y="52401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67524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680" y="4284720"/>
            <a:ext cx="533520" cy="82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4952880"/>
            <a:ext cx="213372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218960" y="3123720"/>
            <a:ext cx="327636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">
            <a:off x="1828080" y="3580920"/>
            <a:ext cx="2590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">
            <a:off x="4876200" y="511920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4008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429000"/>
            <a:ext cx="5331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001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áxima excursión señal de entrada sin disto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Polarización en el Centro” (Importante Polarización estable (Temperatura, reemplazo, vejez,... )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r que en la zona activa la amplificación es (para variaciones pequeñas de la señal) lineal (la separación entre las curvas parámetro se mantiene constante)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">
            <a:off x="2133000" y="4876560"/>
            <a:ext cx="2590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066680" y="3580920"/>
            <a:ext cx="5029200" cy="2590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81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Consumo de Potencia sin señal de entrada (Pensar en una aplicación para satélites o remota ..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evitarlo habría que “correr” la polarización a un extremo (en el caso np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0) pero eso implicaría que sólo estarían permitidas excursiones positivas (las otras provocarían corte). Solución: 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5240" y="59151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1.7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15240" y="56595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15240" y="5149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320" y="3048120"/>
            <a:ext cx="7049880" cy="3581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915240" y="54054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i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94280" y="4208400"/>
            <a:ext cx="11984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165200" y="4718160"/>
            <a:ext cx="352440" cy="55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35400" y="5213520"/>
            <a:ext cx="2044800" cy="955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991800" y="3747600"/>
            <a:ext cx="3173400" cy="1465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">
            <a:off x="1556640" y="413064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posi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">
            <a:off x="4376160" y="5416200"/>
            <a:ext cx="2396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xcursiones neg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0680" y="6377040"/>
            <a:ext cx="49392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3890880"/>
            <a:ext cx="4935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">
            <a:off x="1978920" y="5100480"/>
            <a:ext cx="2397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peración “casi” li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991800" y="4017600"/>
            <a:ext cx="4653000" cy="2165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629400" y="2971800"/>
            <a:ext cx="2209680" cy="2209680"/>
            <a:chOff x="6629400" y="2971800"/>
            <a:chExt cx="2209680" cy="220968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6657840" y="2971800"/>
              <a:ext cx="205596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62920" y="40780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05920" y="304776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1000" y="480024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29400" y="3093840"/>
              <a:ext cx="1406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cia: Si se sale de la región activa hay gran distorsión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4767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2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527220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472428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5257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055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Ejemplo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: Zona Ac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rriente de base aumenta considerablemente. Polarización Zona Activa define límites: -1V &lt;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1.5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6320" y="307800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5791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3048120"/>
            <a:ext cx="1067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562720" y="1801800"/>
            <a:ext cx="3352680" cy="3254400"/>
            <a:chOff x="5562720" y="1801800"/>
            <a:chExt cx="3352680" cy="3254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5608800" y="1801800"/>
              <a:ext cx="32302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00800" y="342900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1880" y="1981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1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1000" y="45720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1.7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62720" y="1981080"/>
              <a:ext cx="22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Amplitud 1 V, f=1k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86000" y="35812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5791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uelve problema de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utilizado como etap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np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fuente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posi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 de Emisor pn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ólo puede ser “reservori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e sólo en ciclos negativ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señal de entrada hay consumo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48320" y="2917800"/>
            <a:ext cx="2187360" cy="2492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967440" y="2917800"/>
            <a:ext cx="2024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 Seguidor de Emis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spreciable sin señal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positivos conduce Q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iclos negativos conduce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ucción ocurre después del encendido de las junturas base-emisor (~ 0.6V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257800" y="2438280"/>
            <a:ext cx="3505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8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920" y="2484360"/>
            <a:ext cx="7010280" cy="3963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23888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cc=1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6576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30481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orsión Cross-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019920" y="206532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7543800" cy="4095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9113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Cross-Ove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R1 entrega corriente de activación a los diodos y juntura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s ayudan al encendido de las junturas base-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estable ante cambios de temperatu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s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Push-Pull (V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mbio Tempera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 Q1 y Q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or de los cas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odos D1, D2 y D3 no sufren cambi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“toman” el aum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R2=R3=1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30ºC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70 m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 Resistencias: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ón es un compromis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s grande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mayor estabilidad pero también mayor consumo sin señ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444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ush-Pull (V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 Opti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Emisor Común (Q3) con fuente de corriente como “Carga Ac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Q5 present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u colector una alta 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ejora Ganancia del emisor comú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necesario tener resistencia R1 baja (ejemplo anterior) minimizando el consumo y maximizando l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018040" y="457200"/>
            <a:ext cx="41259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Emisor Comú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Base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alta (idéntica a la del seguidor de emisor, amplifica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32480" y="1752480"/>
            <a:ext cx="3611520" cy="339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4114800"/>
                <a:ext cx="1981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0880" y="5638680"/>
                <a:ext cx="3079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76560" y="5638680"/>
                <a:ext cx="1538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5791320" y="56991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990880" y="4114800"/>
                <a:ext cx="2190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048040" y="4800600"/>
                <a:ext cx="1761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5790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: Emisor; Salida: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: Voltaje y “Seguidor”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: Baja (divid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p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: altísima (“mirando” por el colector hay fuente de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lta impeda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“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255680" y="4105440"/>
                <a:ext cx="16398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84120" y="5629320"/>
                <a:ext cx="4568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257800" y="5653080"/>
                <a:ext cx="2209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791320" y="5181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4080" y="3962520"/>
                <a:ext cx="154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85800" y="4648320"/>
                <a:ext cx="326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Base Comú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783400" y="1676520"/>
            <a:ext cx="3284280" cy="3352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5562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“mirando”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grande pues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”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ue está en paralel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imación de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(C )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 considerar 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: Cambi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parece casi íntegramente com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doptan los cambios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447920" y="4422600"/>
                <a:ext cx="2985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3520" y="5410080"/>
                <a:ext cx="3181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886200" y="5261040"/>
                <a:ext cx="15415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19920" y="5257800"/>
                <a:ext cx="2203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ones Adi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arlingt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ayor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ción de los encendidos y 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Szikla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ocido como Darlington Complementario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346480" cy="2400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24163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figuración Darlingt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arlington 2N6059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05m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238880" y="2558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0.25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3124080"/>
            <a:ext cx="1600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aturación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el comportamiento de un Transistor Bipolar como amplificad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nálisis de pequeña señ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nfiguraciones estánd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 amplifica pote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para pequeñas variaciones en torno a punto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cursiones mayores son amplificadas con distors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-Común (seguidor de emiso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de voltaje unitaria; amplifica corrien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 impedancia de salida baj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etapa de salida, “Buffer de Voltaje”. Mejora: Push-Pul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 y corriente. Cambio de fase en voltaj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alt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se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 voltaje; ganancia en corriente unitar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mpedancia de entrada baja;impedancia de salida altísi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Útil como “Buffer de Corriente”. Aplicación más famosa: Cascod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figuraciones Especiales: Darlington, Szikla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1960" y="2057400"/>
            <a:ext cx="5342040" cy="3444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Emisor Comú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sistencias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efinen 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densadores de bloqueo: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islan polarización del transistor de las etapas de entrada y sali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finen filtro pasaaltos para señal pequeñ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en continu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ción de la señ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Condensadores de bloqueo (circuito de señal pequeña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mplificación (Divisores de tens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Notar que a frecuencias de operación (no bloquedas) la resistencia de carga es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arga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quivalente de Thèveni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uen diseñ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&lt;(1+h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en Zona Activ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amplitudes máximas para permanecer en Zona Ac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álido para Entrada/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054320" y="1676520"/>
            <a:ext cx="2171880" cy="352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83400" y="1676520"/>
            <a:ext cx="2460600" cy="326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5680" y="5334120"/>
                <a:ext cx="1905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781680" y="5410080"/>
                <a:ext cx="1140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‖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099120" y="3124080"/>
                <a:ext cx="6606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11400" y="3962520"/>
            <a:ext cx="5432400" cy="2590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de los condensadores en variaciones de la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 útil notar que variación en torno a punto de oper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liminar fuentes continu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ircuito de señal pequeña: fácil “visión” de constantes de tiemp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ensadores de bloqueo implican filtros pasaal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Buen diseño: Frecuencias de operación &gt;&gt; frecuencia de cort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es son “corto-circuito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olvidar que el colector de un transistor en activa es una fuente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cedimiento” de Análisi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cáracter de “buen diseño”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rificar zona activa y máxima excursión de señ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erminar frecuencias de 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ar “buen diseño” (Trade-Off con buen diseño del punto de operació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ulta práctico pensar en “eliminar fuentes continua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s e 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: Análisis de “transmisión de variacione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: Diviso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5562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guidor:“Sigue a la fuente de ent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f &gt;&gt;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no hay atenu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direc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so contrario el transistor está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hay corriente en el emisor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er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ortante la polarización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Definen la zona de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1752480"/>
            <a:ext cx="3162240" cy="3299040"/>
            <a:chOff x="5791320" y="1752480"/>
            <a:chExt cx="3162240" cy="32990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1752480"/>
              <a:ext cx="316224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477120" y="34290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16160" y="3949560"/>
                <a:ext cx="1365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3880" y="4398840"/>
                <a:ext cx="2971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66960" y="4917960"/>
                <a:ext cx="151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71600" y="4937040"/>
                <a:ext cx="1676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920" y="5410080"/>
            <a:ext cx="6248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de señ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larización define punto de ope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ciones de señal pequeña en torno a la pola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5029200"/>
            <a:ext cx="2666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bs: Se ha omitido por simplicidad la polarización de la base. Siempre debe haber un retorno a tierra para continu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eguidor de Emisor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562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Voltaje y Corriente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9920" y="1752480"/>
            <a:ext cx="2933640" cy="3048120"/>
            <a:chOff x="6019920" y="1752480"/>
            <a:chExt cx="2933640" cy="30481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6019920" y="1752480"/>
              <a:ext cx="29336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656040" y="3301200"/>
              <a:ext cx="56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560" y="3720960"/>
                <a:ext cx="3081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56120" y="3589200"/>
                <a:ext cx="16588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85800" y="4211640"/>
                <a:ext cx="38862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35200" y="5170320"/>
                <a:ext cx="39351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2514600"/>
                <a:ext cx="1441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38080" y="3048120"/>
                <a:ext cx="4103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823000" y="5181480"/>
                <a:ext cx="2025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276720" y="6095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Ganancia en Potencia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5T21:13:09Z</dcterms:modified>
  <cp:revision>1078</cp:revision>
  <dc:subject>Transistores de Juntura Bipolar (BJT). Amplificación</dc:subject>
  <dc:title>Clase 8</dc:title>
</cp:coreProperties>
</file>