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7410-BE97-41BC-B870-758BA7B4A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A314-85A2-4BA2-BE22-9B7FCB90B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711F-1350-42FA-85E3-255C89BE0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AE59-DC1D-4AA8-8051-C3A4CFABA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4BB-DFE8-427C-90B9-C4B97FE42F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6CB-7E88-4A5A-BDB4-9EF5127C29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334-D936-4820-9D64-9CCDDA78B1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D0A-716D-4581-8BB0-10302FBCF5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B09-E9FE-4FE8-88B3-69F85F0949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F7D-9C36-492B-A2F1-367C726816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D2A-7445-40E3-9AE2-5FA7D3F65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3AD6-EAC9-4ECB-8D86-AC4E07572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294-36CF-43BD-BBCD-CA97DCD206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919-E256-43A9-903E-D61E0FDDFB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438-A746-4913-8802-19DDFF0CAE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EC1-D8A4-446F-9E77-AA67E252BA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E04-49D2-4DF0-8C74-4F25AE86AC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FB42-826A-4574-9EF5-167360B25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1F6D-5914-4C1E-ADD8-533181C6F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1EFC-599C-44E8-8A8F-5B5D568F7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E1B2-6F91-4347-BBBE-260930659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278D-384B-4D1F-8896-4A3899ED9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4F2F-B1D9-4691-9B48-2D3878FBF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DF08-2189-4D42-BBDA-84DEFEE41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8682-68A5-4A7A-B797-E689C9B39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B429-1D92-4006-BD9D-19BEF8797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7696080" cy="434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uestra el comportamiento de la corriente en el circu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2209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rtadores inyectados por difusión (en exceso) deben “volver”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86200" y="3352680"/>
                <a:ext cx="731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02920" y="5759280"/>
            <a:ext cx="242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791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7520" y="4419720"/>
            <a:ext cx="2900160" cy="113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ortamiento RC: predomin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n serie con R=1k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ns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41972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26120" y="1928880"/>
            <a:ext cx="294156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irecta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irecta en régimen permanente t&lt;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 se conmuta la fuente de potencial quedando ahora el diodo en re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eso de carga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alcanzar en forma inmediata la situación de “corte” (Corriente de Saturación Invers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almacenamiento”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 la transi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ransitorio-diodo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4132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 análisis de huecos en región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rgo del diodo” 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ancia dónde se alcanza nivel de equilibri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nul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cripción de un diodo por Control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que describe la corriente en un diodo en función de la carga almacen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76920" y="2160720"/>
                <a:ext cx="3733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019400" y="2895480"/>
                <a:ext cx="4940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65640" y="3733920"/>
                <a:ext cx="2644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q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43560" y="4457880"/>
                <a:ext cx="3889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1480" y="5334120"/>
                <a:ext cx="17874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i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lt;0 : 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condición inicial para t &gt;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gt; 0 : régimen transito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almacenada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ermite alcanzar el corte inmediat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tiempo de almacenamient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obtiene d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=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91240" y="2209680"/>
                <a:ext cx="2001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16520" y="3048120"/>
                <a:ext cx="1963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86280" y="3657600"/>
                <a:ext cx="3808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10080" y="4724280"/>
                <a:ext cx="276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81640" y="5302080"/>
                <a:ext cx="28195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umbral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 rompen enlaces covalent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 por avalancha: mediante choques con la estructura cristali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uptura Zener: mediante el campo eléctrico exist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50080" y="4375080"/>
                <a:ext cx="2273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50080" y="5213520"/>
                <a:ext cx="2401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5791320"/>
                <a:ext cx="3335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87360" y="4054320"/>
            <a:ext cx="6705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implica campo eléctrico en la ju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4527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juntura pn abrupta (tarea 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360" y="4892760"/>
            <a:ext cx="594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rup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257800"/>
            <a:ext cx="5943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juntura abrupt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52736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Gráfica Obtenida con función “DC Sweep”, para fuente de corriente en el rango [-30, 30]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1768320"/>
            <a:ext cx="3733920" cy="22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2920" y="4076640"/>
            <a:ext cx="167616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abric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reakdown 1N7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.7 V y 20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3762360"/>
            <a:ext cx="6919920" cy="2943360"/>
            <a:chOff x="76320" y="3762360"/>
            <a:chExt cx="6919920" cy="294336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6320" y="3762360"/>
              <a:ext cx="69199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5486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Activ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4343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Ruptur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fere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 se mantiene para un amplio rango de corrien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ricción dada por la disipación de potencia o máxim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mpcos positivos y negativos (coeficiente de temperatura, como cambia la referencia cuando cambia la temperatur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s de referencia típicos entre 3 y 100 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57150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abrupt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ruptur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ruptur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3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8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]~ Cte.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 la ruptura viene dado por el dopado del lado menos dopado 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dopados lineales se obtienen resultados simila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9880" y="1752480"/>
                <a:ext cx="3375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238880" y="1752480"/>
                <a:ext cx="15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ε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Campo_Ruptura_Diodos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90760" cy="2803320"/>
          </a:xfrm>
          <a:prstGeom prst="rect">
            <a:avLst/>
          </a:prstGeom>
          <a:ln w="0">
            <a:noFill/>
          </a:ln>
        </p:spPr>
      </p:pic>
      <p:pic>
        <p:nvPicPr>
          <p:cNvPr id="203" name="Voltaje_Ruptura_Diodos" descr=""/>
          <p:cNvPicPr/>
          <p:nvPr/>
        </p:nvPicPr>
        <p:blipFill>
          <a:blip r:embed="rId2"/>
          <a:stretch/>
        </p:blipFill>
        <p:spPr>
          <a:xfrm>
            <a:off x="4743360" y="3470400"/>
            <a:ext cx="3867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Generales de Disposi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riaciones con Tempera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penden de punto de operación (polariz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mentos pas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ecisión en sus valores” (Resistencias con 1%,5%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es discreto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ma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ímites de potencia, voltaje y corrientes máxim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lementos no Line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hevèn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t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rv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estát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 (Curva) de transfer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visor de tens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R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: Constantes de tiemp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: Tipo de filtro y frecuencias de 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de señal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álido en torno a 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calculan los valores de los parámetr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orpo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seri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ontact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dinám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en la juntura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ramente el dispositivo presentará comportamiento de filtr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Diagramadiodo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62160" cy="1676160"/>
          </a:xfrm>
          <a:prstGeom prst="rect">
            <a:avLst/>
          </a:prstGeom>
          <a:ln w="0">
            <a:noFill/>
          </a:ln>
        </p:spPr>
      </p:pic>
      <p:pic>
        <p:nvPicPr>
          <p:cNvPr id="211" name="Equivalentediodo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0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Dinámicas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: Modelo PSP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odo 1N400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edita el mod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Equivalentediodo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30516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715000" y="1828800"/>
            <a:ext cx="3124080" cy="211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*** Power Diod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.MODEL D1N4002-X 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S=14.11E-9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=1.984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S=33.89E-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KF=94.8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XTI=3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G=1.1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JO=51.17E-1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=.276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J=.3905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C=.5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SR=100.0E-1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R=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V=100.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BV=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T=4.761E-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8456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ortamiento “pasabaj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ircuito abier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rrelevant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al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orto circui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bra importa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álculo de los 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SPICE también entrega los parámetros de señal pequeñ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Equivalentediodo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5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Simplific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naliza según 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inámica en serie con fuente (Voltaje cut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e alto valor (saturación) (~ 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ircuito abierto” siempre que no existan resistencias del orden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3726000"/>
            <a:ext cx="2103480" cy="26748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410080" y="1644480"/>
            <a:ext cx="3657600" cy="2123280"/>
            <a:chOff x="5410080" y="1644480"/>
            <a:chExt cx="3657600" cy="2123280"/>
          </a:xfrm>
        </p:grpSpPr>
        <p:sp>
          <p:nvSpPr>
            <p:cNvPr id="224" name=""/>
            <p:cNvSpPr/>
            <p:nvPr/>
          </p:nvSpPr>
          <p:spPr>
            <a:xfrm>
              <a:off x="7010280" y="16444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0080" y="332064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9760" y="324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619760" y="179640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62360" y="332064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160" y="3320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4160" y="33206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9040" y="1720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76960" y="2177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339696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5800" y="19810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puede simplificar 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limina conden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elo lineal a tra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utlineDiodo" descr=""/>
          <p:cNvPicPr/>
          <p:nvPr/>
        </p:nvPicPr>
        <p:blipFill>
          <a:blip r:embed="rId1"/>
          <a:stretch/>
        </p:blipFill>
        <p:spPr>
          <a:xfrm>
            <a:off x="6183360" y="1600200"/>
            <a:ext cx="2884320" cy="1154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2870280"/>
            <a:ext cx="27432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tros Fabricantes (Phill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Recurrent Peak Forward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S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Peak Forward Su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aximum-Thermal" descr=""/>
          <p:cNvPicPr/>
          <p:nvPr/>
        </p:nvPicPr>
        <p:blipFill>
          <a:blip r:embed="rId2"/>
          <a:stretch/>
        </p:blipFill>
        <p:spPr>
          <a:xfrm>
            <a:off x="76320" y="2460600"/>
            <a:ext cx="6019560" cy="40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ower%20Derating" descr=""/>
          <p:cNvPicPr/>
          <p:nvPr/>
        </p:nvPicPr>
        <p:blipFill>
          <a:blip r:embed="rId3"/>
          <a:stretch/>
        </p:blipFill>
        <p:spPr>
          <a:xfrm>
            <a:off x="6213600" y="3916440"/>
            <a:ext cx="285408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ectrical" descr=""/>
          <p:cNvPicPr/>
          <p:nvPr/>
        </p:nvPicPr>
        <p:blipFill>
          <a:blip r:embed="rId1"/>
          <a:stretch/>
        </p:blipFill>
        <p:spPr>
          <a:xfrm>
            <a:off x="1211400" y="2819520"/>
            <a:ext cx="6637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lores Máximos Absolu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Datasheet%20Zener%20Absolute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5833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Eléctr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atasheet%20Zener%20Electrical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4640" y="220968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Típ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Datasheet%20Zener%20Typical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19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Capacitivos afecta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eados por inyección de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ptura y avalancha en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enera fuentes de tensión “con capacidad de regul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 la temperatur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mportamiento del diodo también (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uti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C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ispositivos son “variabl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lores discretos, precisión,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bricante (Datasheets), conmutación (efectos capacitiv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fectos capacitivos en tiempos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los diodos de ruptura (Zen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pasar técnicas de análisis de circu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ducir y analizar modelos simplificados para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visar parámetros de las hojas de 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racterísticas Gener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ambio en la cantidad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 importante en labores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es función del tipo de dopad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3429000"/>
                <a:ext cx="1979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51055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29718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320" y="333684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xtrae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o agotamiento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320" y="5013360"/>
            <a:ext cx="586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recomb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70480" y="4267080"/>
                <a:ext cx="1565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62720" y="2209680"/>
                <a:ext cx="20318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7200" y="274968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13056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plicando la defin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19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tarea 1.1 recordam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95680" y="2971800"/>
                <a:ext cx="42465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6920" y="4281480"/>
                <a:ext cx="4076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47920" y="5160960"/>
                <a:ext cx="1981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33920" y="5175360"/>
                <a:ext cx="37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A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22840"/>
                <a:ext cx="2384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57200" y="38098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en una de las “placas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y voltaje juntur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directa V &g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inversa V &l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órmula “ideal” para model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638680" y="3124080"/>
                <a:ext cx="243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90920" y="4979880"/>
                <a:ext cx="471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o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nde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sub>
                    </m:sSub>
                    <m:r>
                      <m:t xml:space="preserve">≡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Difus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yecta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24160" y="2133720"/>
                <a:ext cx="4737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895480"/>
                <a:ext cx="340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05520" y="3809880"/>
                <a:ext cx="21668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16360" y="4648320"/>
                <a:ext cx="5208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11760" y="5589720"/>
                <a:ext cx="3713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80880" y="3352680"/>
            <a:ext cx="38102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vid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condensadores en paral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n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p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total: s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4120"/>
            <a:ext cx="38102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amente proporcional a la resistenci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Capacit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ponsables de tiempos de respues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te e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s en defecto (exceso) no permiten una rápida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00800" y="40384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24480" y="4952880"/>
                <a:ext cx="20574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4114800"/>
            <a:ext cx="5410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revers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: No es tan importante (poca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52880"/>
            <a:ext cx="5410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direct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versa: Importante (“gran” cantidad de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s de entrada, diodo y resis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320" y="3057480"/>
                <a:ext cx="12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04920" y="2362320"/>
            <a:ext cx="7315200" cy="4133880"/>
            <a:chOff x="304920" y="2362320"/>
            <a:chExt cx="7315200" cy="41338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73152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flipH="1">
              <a:off x="28195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55888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12408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13372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4197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13372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18040" y="3086280"/>
                <a:ext cx="135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54720" y="1905120"/>
            <a:ext cx="2789280" cy="21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19720" y="5486400"/>
            <a:ext cx="2057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ráfic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 proporcional a la d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15:17:42Z</dcterms:modified>
  <cp:revision>896</cp:revision>
  <dc:subject>Características Dinámicas de los Diodos de Juntura</dc:subject>
  <dc:title>Clase 3</dc:title>
</cp:coreProperties>
</file>