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2.jpeg" ContentType="image/jpeg"/>
  <Override PartName="/ppt/media/image10.wmf" ContentType="image/x-wmf"/>
  <Override PartName="/ppt/media/image2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15.png" ContentType="image/png"/>
  <Override PartName="/ppt/media/image14.jpeg" ContentType="image/jpeg"/>
  <Override PartName="/ppt/media/image1.png" ContentType="image/png"/>
  <Override PartName="/ppt/media/image7.png" ContentType="image/png"/>
  <Override PartName="/ppt/media/image22.jpeg" ContentType="image/jpeg"/>
  <Override PartName="/ppt/media/image17.jpeg" ContentType="image/jpeg"/>
  <Override PartName="/ppt/media/image3.png" ContentType="image/png"/>
  <Override PartName="/ppt/media/image4.wmf" ContentType="image/x-wmf"/>
  <Override PartName="/ppt/media/image6.wmf" ContentType="image/x-wmf"/>
  <Override PartName="/ppt/media/image19.jpeg" ContentType="image/jpe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556A9-D0A0-44FD-AA62-CEE61D98AB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76088-6352-4FC9-846E-AABB4F05DF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2C6E8-E92C-457E-95C7-DF30131337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4FE92-08ED-414C-8E8E-46630D1C2C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C12A-97DF-425B-9EEA-4B913F8E94D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812A-CC79-40AA-A6F1-C967C114226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EAD5-E5E6-42F2-96BA-BCDA1AA5912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83DD-0C30-40A7-8B9A-39EA5C0CF80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3BFF-069A-4405-B62F-735669B416B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6754-3E80-42B0-B9D7-80FC2AF01C9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9370-A47C-4654-922E-DD89D1DE32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CF556-1840-4725-B211-F54BF05C7D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A39B-A2B7-4DEB-BABB-121E8D9AB85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5D1C-98A6-4728-8533-A5BE26FF837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1A04-EF92-40BF-9E7E-15A3ED7C0BC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607A-2387-4A6B-8ADF-38130CDEF2D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F197-D18F-47FD-B7E9-265FB006BE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4A271-1D83-4A2D-AD92-7656C5127A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3B3F5-70BC-4C83-BF5E-C43CC1D8FC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FB2DE-32A7-4A24-BC93-79123D66E1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B9DCB-53CA-4375-B687-103DE05013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7D3D1-A771-4CAB-B4AA-87071A77FE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8AAA5-8321-47DE-A9E5-CAA3EBF9E4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18CB0-B4D0-410D-A330-70EFD7EAE7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87545-C7C6-432F-AB4F-C26688D656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B298F-EA23-4099-AF90-697136741A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iempos de Conmutación Diodo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e Juntura: Características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2300400"/>
            <a:ext cx="7696080" cy="434484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6019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urva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muestra el comportamiento de la corriente en el circuit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971800" y="2895480"/>
            <a:ext cx="220968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Portadores inyectados por difusión (en exceso) deben “volver”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3886200" y="3352680"/>
                <a:ext cx="73188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3202920" y="5759280"/>
            <a:ext cx="2427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iempo de almacen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579132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167520" y="4419720"/>
            <a:ext cx="2900160" cy="113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mportamiento RC: predomina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 en serie con R=1k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= RC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3ns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3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724280" y="4419720"/>
            <a:ext cx="19051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126120" y="1928880"/>
            <a:ext cx="2941560" cy="23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Conmutación: Juntura p</a:t>
            </a:r>
            <a:r>
              <a:rPr b="0" i="1" lang="es-ES_tradnl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n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jemplo Conmu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Juntura p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 (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directa)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olarización directa en régimen permanente t&lt;0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t=0 se conmuta la fuente de potencial quedando ahora el diodo en revers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xceso de carga Q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no permite alcanzar en forma inmediata la situación de “corte” (Corriente de Saturación Inversa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iempo de almacenamiento” t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define la transi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transitorio-diodo" descr=""/>
          <p:cNvPicPr/>
          <p:nvPr/>
        </p:nvPicPr>
        <p:blipFill>
          <a:blip r:embed="rId1"/>
          <a:stretch/>
        </p:blipFill>
        <p:spPr>
          <a:xfrm>
            <a:off x="4730760" y="1752480"/>
            <a:ext cx="441324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Conmutación: Juntura p</a:t>
            </a:r>
            <a:r>
              <a:rPr b="0" i="1" lang="es-ES_tradnl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n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Juntura p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lica análisis de huecos en región 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rgo del diodo” X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istancia dónde se alcanza nivel de equilibrio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riente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s nul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scripción de un diodo por Control de Carg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cuación que describe la corriente en un diodo en función de la carga almacena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4876920" y="2160720"/>
                <a:ext cx="3733560" cy="69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019400" y="2895480"/>
                <a:ext cx="49402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o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5165640" y="3733920"/>
                <a:ext cx="264492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≡</m:t>
                    </m:r>
                    <m:r>
                      <m:rPr>
                        <m:lit/>
                        <m:nor/>
                      </m:rPr>
                      <m:t xml:space="preserve">qA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4543560" y="4457880"/>
                <a:ext cx="388908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qA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n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qA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5721480" y="5334120"/>
                <a:ext cx="178740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Conmutación: Juntura p</a:t>
            </a:r>
            <a:r>
              <a:rPr b="0" i="1" lang="es-ES_tradnl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n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ndicion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 &lt;0 : régimen permanen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fine condición inicial para t &gt; 0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 &gt; 0 : régimen transitori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 carga almacenada Q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no permite alcanzar el corte inmediatam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l tiempo de almacenamiento 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e obtiene de Q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(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)= 0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5691240" y="2209680"/>
                <a:ext cx="200196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5816520" y="3048120"/>
                <a:ext cx="196380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4886280" y="3657600"/>
                <a:ext cx="380844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sup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t</m:t>
                                    </m:r>
                                  </m:e>
                                </m:d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τ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5410080" y="4724280"/>
                <a:ext cx="276084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381640" y="5302080"/>
                <a:ext cx="281952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d>
                    <m:r>
                      <m:t xml:space="preserve">≡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uptura y Avalancha en Diodos: Características Generale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78487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olarización invers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oltaje umbral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se rompen enlaces covalentes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ultiplicación por avalancha: mediante choques con la estructura cristalin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uptura Zener: mediante el campo eléctrico exist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5950080" y="4375080"/>
                <a:ext cx="227304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ε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950080" y="5213520"/>
                <a:ext cx="2401920" cy="46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D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≥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uptur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2895480" y="5791320"/>
                <a:ext cx="333540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≈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ε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387360" y="4054320"/>
            <a:ext cx="670572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oltaje implica campo eléctrico en la jun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7360" y="452772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ara juntura pn abrupta (tarea 1.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7360" y="4892760"/>
            <a:ext cx="5943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dición de rup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5257800"/>
            <a:ext cx="59436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so juntura abrupta p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(N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&gt; N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uptura y Avalancha en Diodos: Características Generale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86600" y="527364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Gráfica Obtenida con función “DC Sweep”, para fuente de corriente en el rango [-30, 30] 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00600" y="220968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410080" y="1768320"/>
            <a:ext cx="3733920" cy="2241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7162920" y="4076640"/>
            <a:ext cx="1676160" cy="95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Fabrican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Breakdown 1N75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4.7 V y 20 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6320" y="3762360"/>
            <a:ext cx="6919920" cy="2943360"/>
            <a:chOff x="76320" y="3762360"/>
            <a:chExt cx="6919920" cy="2943360"/>
          </a:xfrm>
        </p:grpSpPr>
        <p:pic>
          <p:nvPicPr>
            <p:cNvPr id="192" name="" descr=""/>
            <p:cNvPicPr/>
            <p:nvPr/>
          </p:nvPicPr>
          <p:blipFill>
            <a:blip r:embed="rId2"/>
            <a:stretch/>
          </p:blipFill>
          <p:spPr>
            <a:xfrm>
              <a:off x="76320" y="3762360"/>
              <a:ext cx="6919920" cy="294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990720" y="5486400"/>
              <a:ext cx="19051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Zona Activa Dio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343400" y="4343400"/>
              <a:ext cx="19051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Zona Ruptura Dio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51051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ferencia de Voltaj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 se mantiene para un amplio rango de corriente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estricción dada por la disipación de potencia o máxima corrient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empcos positivos y negativos (coeficiente de temperatura, como cambia la referencia cuando cambia la temperatura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oltajes de referencia típicos entre 3 y 100 V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" y="3886200"/>
            <a:ext cx="1143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olta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86200" y="5715000"/>
            <a:ext cx="13716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uptura y Avalancha en Diodos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untura abrupta p</a:t>
            </a:r>
            <a:r>
              <a:rPr b="0" i="1" lang="es-ES_tradnl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7315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trol ruptura: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mpo ruptur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[3x10</a:t>
            </a:r>
            <a:r>
              <a:rPr b="0" i="1" lang="es-ES_tradnl" sz="18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, 8x10</a:t>
            </a:r>
            <a:r>
              <a:rPr b="0" i="1" lang="es-ES_tradnl" sz="18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]~ Cte.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trol de la ruptura viene dado por el dopado del lado menos dopado N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 dopados lineales se obtienen resultados similar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809880" y="1752480"/>
                <a:ext cx="337500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uptura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≈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ε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7238880" y="1752480"/>
                <a:ext cx="15732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Sup>
                          <m:e>
                            <m:r>
                              <m:t xml:space="preserve">ε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uptura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N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02" name="Campo_Ruptura_Diodos" descr=""/>
          <p:cNvPicPr/>
          <p:nvPr/>
        </p:nvPicPr>
        <p:blipFill>
          <a:blip r:embed="rId1"/>
          <a:stretch/>
        </p:blipFill>
        <p:spPr>
          <a:xfrm>
            <a:off x="304920" y="3733920"/>
            <a:ext cx="4190760" cy="2803320"/>
          </a:xfrm>
          <a:prstGeom prst="rect">
            <a:avLst/>
          </a:prstGeom>
          <a:ln w="0">
            <a:noFill/>
          </a:ln>
        </p:spPr>
      </p:pic>
      <p:pic>
        <p:nvPicPr>
          <p:cNvPr id="203" name="Voltaje_Ruptura_Diodos" descr=""/>
          <p:cNvPicPr/>
          <p:nvPr/>
        </p:nvPicPr>
        <p:blipFill>
          <a:blip r:embed="rId2"/>
          <a:stretch/>
        </p:blipFill>
        <p:spPr>
          <a:xfrm>
            <a:off x="4743360" y="3470400"/>
            <a:ext cx="386712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aracterísticas Generales de Disposi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Variaciones con Temperatur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Dependen de punto de operación (polarización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lementos pasivo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ecisión en sus valores” (Resistencias con 1%,5%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alores discretos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amañ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Límites de potencia, voltaje y corrientes máximo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Respuesta en frecuenci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de Elementos no Lineal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quivalent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hevèni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rto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urva de carg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racterística estátic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racterística dinámic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racterística (Curva) de transferenci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ivisor de tens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ircuitos RC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iempo: Constantes de tiempo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iltro: Tipo de filtro y frecuencias de cor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iodo de Juntura pn: Model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odelo de señal pequeñ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álido en torno a punto de oper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calculan los valores de los parámetro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ncorpora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sistencia serie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(contactos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sistencia dinámica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pacidad en la juntura C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apacidad de transición C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apacidad de difusión C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laramente el dispositivo presentará comportamiento de filtr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Diagramadiodo" descr=""/>
          <p:cNvPicPr/>
          <p:nvPr/>
        </p:nvPicPr>
        <p:blipFill>
          <a:blip r:embed="rId1"/>
          <a:stretch/>
        </p:blipFill>
        <p:spPr>
          <a:xfrm>
            <a:off x="6248520" y="1905120"/>
            <a:ext cx="2162160" cy="1676160"/>
          </a:xfrm>
          <a:prstGeom prst="rect">
            <a:avLst/>
          </a:prstGeom>
          <a:ln w="0">
            <a:noFill/>
          </a:ln>
        </p:spPr>
      </p:pic>
      <p:pic>
        <p:nvPicPr>
          <p:cNvPr id="211" name="Equivalentediodo" descr=""/>
          <p:cNvPicPr/>
          <p:nvPr/>
        </p:nvPicPr>
        <p:blipFill>
          <a:blip r:embed="rId2"/>
          <a:stretch/>
        </p:blipFill>
        <p:spPr>
          <a:xfrm>
            <a:off x="5562720" y="3886200"/>
            <a:ext cx="33051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Dispositivos Electrónicos Básic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010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3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aracterísticas Dinámicas</a:t>
            </a:r>
            <a:br>
              <a:rPr sz="3200"/>
            </a:b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de los Diodos de Juntura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iodo de Juntura pn: Model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5257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jemplo: Modelo PSPIC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iodo 1N4002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edita el model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Equivalentediodo" descr=""/>
          <p:cNvPicPr/>
          <p:nvPr/>
        </p:nvPicPr>
        <p:blipFill>
          <a:blip r:embed="rId1"/>
          <a:stretch/>
        </p:blipFill>
        <p:spPr>
          <a:xfrm>
            <a:off x="5638680" y="4114800"/>
            <a:ext cx="3305160" cy="1905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5715000" y="1828800"/>
            <a:ext cx="3124080" cy="211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*** Power Diode 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.MODEL D1N4002-X D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(IS=14.11E-9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N=1.984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RS=33.89E-3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KF=94.81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XTI=3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G=1.110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JO=51.17E-12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=.2762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VJ=.3905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C=.5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SR=100.0E-12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NR=2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BV=100.1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BV=10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T=4.761E-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*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5800" y="3184560"/>
            <a:ext cx="52578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mportamiento “pasabajo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 frecuencias “baja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densador es “circuito abierto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rrelevante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 frecuencias “alta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densador es “corto circuito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bra importancia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iodo de Juntura pn: Model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4876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álculo de los parámetro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sistencia seri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sistencia dinámic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pacidad juntur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SPICE también entrega los parámetros de señal pequeñ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Equivalentediodo" descr=""/>
          <p:cNvPicPr/>
          <p:nvPr/>
        </p:nvPicPr>
        <p:blipFill>
          <a:blip r:embed="rId1"/>
          <a:stretch/>
        </p:blipFill>
        <p:spPr>
          <a:xfrm>
            <a:off x="5486400" y="1905120"/>
            <a:ext cx="33051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iodo de Juntura pn: Modelo Simplificad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44956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analiza según polariz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 &gt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Resistencia dinámica en serie con fuente (Voltaje cutin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 &lt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Resistencia de alto valor (saturación) (~ M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ircuito abierto” siempre que no existan resistencias del orden de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410080" y="3726000"/>
            <a:ext cx="2103480" cy="2674800"/>
          </a:xfrm>
          <a:prstGeom prst="rect">
            <a:avLst/>
          </a:prstGeom>
          <a:ln w="0">
            <a:noFill/>
          </a:ln>
        </p:spPr>
      </p:pic>
      <p:grpSp>
        <p:nvGrpSpPr>
          <p:cNvPr id="223" name=""/>
          <p:cNvGrpSpPr/>
          <p:nvPr/>
        </p:nvGrpSpPr>
        <p:grpSpPr>
          <a:xfrm>
            <a:off x="5410080" y="1644480"/>
            <a:ext cx="3657600" cy="2123280"/>
            <a:chOff x="5410080" y="1644480"/>
            <a:chExt cx="3657600" cy="2123280"/>
          </a:xfrm>
        </p:grpSpPr>
        <p:sp>
          <p:nvSpPr>
            <p:cNvPr id="224" name=""/>
            <p:cNvSpPr/>
            <p:nvPr/>
          </p:nvSpPr>
          <p:spPr>
            <a:xfrm>
              <a:off x="7010280" y="1644480"/>
              <a:ext cx="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410080" y="332064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619760" y="32446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7619760" y="1796400"/>
              <a:ext cx="60948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5562360" y="3320640"/>
              <a:ext cx="20574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391160" y="3320640"/>
              <a:ext cx="533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534160" y="332064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629040" y="172044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076960" y="2177640"/>
              <a:ext cx="533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095880" y="3396960"/>
              <a:ext cx="5331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85800" y="1981080"/>
            <a:ext cx="44956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ara frecuencias “baja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puede simplificar el mod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elimina condens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odelo lineal a tramo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iodos de Juntura: Datasheet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airchild Datasheet </a:t>
            </a:r>
            <a:br>
              <a:rPr sz="2400"/>
            </a:b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High-Speed Diode 4148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outlineDiodo" descr=""/>
          <p:cNvPicPr/>
          <p:nvPr/>
        </p:nvPicPr>
        <p:blipFill>
          <a:blip r:embed="rId1"/>
          <a:stretch/>
        </p:blipFill>
        <p:spPr>
          <a:xfrm>
            <a:off x="6183360" y="1600200"/>
            <a:ext cx="2884320" cy="11541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2870280"/>
            <a:ext cx="2743200" cy="91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Otros Fabricantes (Phillip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ES_tradnl" sz="1200" spc="-1" strike="noStrike" baseline="-25000">
                <a:solidFill>
                  <a:srgbClr val="000000"/>
                </a:solidFill>
                <a:latin typeface="Times New Roman"/>
              </a:rPr>
              <a:t>FRM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= Recurrent Peak Forward 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ES_tradnl" sz="1200" spc="-1" strike="noStrike" baseline="-25000">
                <a:solidFill>
                  <a:srgbClr val="000000"/>
                </a:solidFill>
                <a:latin typeface="Times New Roman"/>
              </a:rPr>
              <a:t>FSM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= Peak Forward Surge 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Maximum-Thermal" descr=""/>
          <p:cNvPicPr/>
          <p:nvPr/>
        </p:nvPicPr>
        <p:blipFill>
          <a:blip r:embed="rId2"/>
          <a:stretch/>
        </p:blipFill>
        <p:spPr>
          <a:xfrm>
            <a:off x="76320" y="2460600"/>
            <a:ext cx="6019560" cy="4092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0" name="Power%20Derating" descr=""/>
          <p:cNvPicPr/>
          <p:nvPr/>
        </p:nvPicPr>
        <p:blipFill>
          <a:blip r:embed="rId3"/>
          <a:stretch/>
        </p:blipFill>
        <p:spPr>
          <a:xfrm>
            <a:off x="6213600" y="3916440"/>
            <a:ext cx="2854080" cy="2263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iodos de Juntura: Datasheet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airchild Datasheet High-Speed Diode 4148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Electrical" descr=""/>
          <p:cNvPicPr/>
          <p:nvPr/>
        </p:nvPicPr>
        <p:blipFill>
          <a:blip r:embed="rId1"/>
          <a:stretch/>
        </p:blipFill>
        <p:spPr>
          <a:xfrm>
            <a:off x="1211400" y="2819520"/>
            <a:ext cx="66373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iodos de Juntura: Datasheets Zener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5867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Valores Máximos Absoluto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Datasheet%20Zener%20Absolute" descr=""/>
          <p:cNvPicPr/>
          <p:nvPr/>
        </p:nvPicPr>
        <p:blipFill>
          <a:blip r:embed="rId1"/>
          <a:stretch/>
        </p:blipFill>
        <p:spPr>
          <a:xfrm>
            <a:off x="914400" y="2362320"/>
            <a:ext cx="6583320" cy="41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iodos de Juntura: Datasheets Zeners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aracterísticas Eléctrica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Datasheet%20Zener%20Electrical" descr=""/>
          <p:cNvPicPr/>
          <p:nvPr/>
        </p:nvPicPr>
        <p:blipFill>
          <a:blip r:embed="rId1"/>
          <a:stretch/>
        </p:blipFill>
        <p:spPr>
          <a:xfrm>
            <a:off x="838080" y="2514600"/>
            <a:ext cx="731520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iodos de Juntura: Datasheets Zeners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714640" y="2209680"/>
            <a:ext cx="2895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aracterísticas Típica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Datasheet%20Zener%20Typical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521964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fectos Capacitivos afectan conmu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reados por inyección de portador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uptura y avalancha en diod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enera fuentes de tensión “con capacidad de regulación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arámetros dependen de la temperatura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Comportamiento del diodo también (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sa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,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cutin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, C)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arámetros dispositivos son “variables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alores discretos, precisión, temperatur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imitaciones diod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abricante (Datasheets), conmutación (efectos capacitivos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Analizar efectos capacitivos en tiempos de conmu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Estudiar los diodos de ruptura (Zener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Repasar técnicas de análisis de circuit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ducir y analizar modelos simplificados para diod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Revisar parámetros de las hojas de característic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mportamiento Capacitivo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untura pn: Características General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olarizació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cambio en la cantidad de carg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fecto capacitivo importante en labores de conmut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pacidad es función del tipo de dopado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867280" y="3429000"/>
                <a:ext cx="197964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riva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</m:e>
                          </m:mr>
                        </m:m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riva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5867280" y="5105520"/>
                <a:ext cx="205740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fusión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fusión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685800" y="297180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rever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46483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direc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9320" y="3336840"/>
            <a:ext cx="5867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umenta barrera de pote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extraen port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redomina la gen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pacidad de Transición o agotamiento C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9320" y="5013360"/>
            <a:ext cx="58676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duce barrera de pote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inyectan port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redomina la recombin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pacidad de difusión C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6270480" y="4267080"/>
                <a:ext cx="156528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∝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n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mportamiento Capacitivo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untura pn: Capacidad de Transición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5029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pacidad de transición 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562720" y="2209680"/>
                <a:ext cx="203184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den>
                        </m:f>
                      </m:e>
                    </m:d>
                    <m:r>
                      <m:t xml:space="preserve">⇒</m:t>
                    </m:r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457200" y="2749680"/>
            <a:ext cx="5029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Juntura pn abrup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313056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plicando la defini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441972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 la tarea 1.1 recordamos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495680" y="2971800"/>
                <a:ext cx="424656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r>
                              <m:t xml:space="preserve">d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V</m:t>
                                </m:r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876920" y="4281480"/>
                <a:ext cx="407664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ε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ε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e>
                    </m:rad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447920" y="5160960"/>
                <a:ext cx="198108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W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3733920" y="5175360"/>
                <a:ext cx="37335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qε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</m:e>
                    </m:rad>
                    <m:f>
                      <m:num>
                        <m:r>
                          <m:t xml:space="preserve">A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εA</m:t>
                        </m:r>
                      </m:num>
                      <m:den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952880" y="3822840"/>
                <a:ext cx="2384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A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457200" y="3809880"/>
            <a:ext cx="4419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 carga en una de las “placas”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mportamiento Capacitivo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untura pn: Capacidad de Transición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5029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apacidad de transición C</a:t>
            </a:r>
            <a:r>
              <a:rPr b="0" i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olarización y voltaje juntura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– V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ara directa V &gt;0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ara inversa V &lt;0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órmula “ideal” para model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638680" y="3124080"/>
                <a:ext cx="24321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qε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</m:e>
                    </m:rad>
                    <m:f>
                      <m:num>
                        <m:r>
                          <m:t xml:space="preserve">A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590920" y="4979880"/>
                <a:ext cx="4713120" cy="104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o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V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rad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donde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o</m:t>
                        </m:r>
                      </m:sub>
                    </m:sSub>
                    <m:r>
                      <m:t xml:space="preserve">≡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qε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</m:e>
                    </m:rad>
                    <m:f>
                      <m:num>
                        <m:r>
                          <m:t xml:space="preserve">A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mportamiento Capacitivo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untura pn: Capacidad de Difus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38102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olarización direct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nyecta portador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fecto capacitiv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124160" y="2133720"/>
                <a:ext cx="473724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A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o</m:t>
                                </m:r>
                              </m:sub>
                            </m:sSub>
                          </m:e>
                        </m:d>
                      </m:e>
                    </m:nary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sup>
                    </m:sSup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191120" y="2895480"/>
                <a:ext cx="340992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qA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5105520" y="3809880"/>
                <a:ext cx="216684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3816360" y="4648320"/>
                <a:ext cx="52084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n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n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A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V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ηV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η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811760" y="5589720"/>
                <a:ext cx="371304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sub>
                        </m:sSub>
                      </m:e>
                    </m:d>
                    <m:r>
                      <m:t xml:space="preserve">/</m:t>
                    </m:r>
                    <m:sSub>
                      <m:e>
                        <m:r>
                          <m:t xml:space="preserve">η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380880" y="3352680"/>
            <a:ext cx="3810240" cy="22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iempos de vida med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os condensadores en paralel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nyección lado n: C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nyección lado p: C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pacidad total: su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5334120"/>
            <a:ext cx="3810240" cy="12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nversamente proporcional a la resistencia dinám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iempos de Conmutación Diodo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e Juntura: Característica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1722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fectos Capacitivo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sponsables de tiempos de respuest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mportante en conmu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rgas en defecto (exceso) no permiten una rápida conmut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6400800" y="4038480"/>
                <a:ext cx="197964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riva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</m:e>
                          </m:mr>
                        </m:m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riva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6324480" y="4952880"/>
                <a:ext cx="205740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fusión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fusión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685800" y="4114800"/>
            <a:ext cx="54100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traso en cambio reversa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irecta: No es tan importante (poca carg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4952880"/>
            <a:ext cx="541008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traso en cambio directa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reversa: Importante (“gran” cantidad de carg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iempos de Conmutación Diodo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e Juntura: Característica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5105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mulación PSPICE: Conmu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oltajes de entrada, diodo y resiste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43800" y="457200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Simulación: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rans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76320" y="3057480"/>
                <a:ext cx="121896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ausa</m:t>
                        </m:r>
                        <m:r>
                          <m:t xml:space="preserve">: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riva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</m:e>
                          </m:mr>
                        </m:m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riva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38" name=""/>
          <p:cNvGrpSpPr/>
          <p:nvPr/>
        </p:nvGrpSpPr>
        <p:grpSpPr>
          <a:xfrm>
            <a:off x="304920" y="2362320"/>
            <a:ext cx="7315200" cy="4133880"/>
            <a:chOff x="304920" y="2362320"/>
            <a:chExt cx="7315200" cy="4133880"/>
          </a:xfrm>
        </p:grpSpPr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>
              <a:off x="304920" y="2362320"/>
              <a:ext cx="7315200" cy="413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 flipH="1">
              <a:off x="2819520" y="2666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00400" y="2558880"/>
              <a:ext cx="16002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oltaje entra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76520" y="3124080"/>
              <a:ext cx="9144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 en R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2133720" y="28191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6520" y="4419720"/>
              <a:ext cx="9144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 en 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2133720" y="41144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3218040" y="3086280"/>
                <a:ext cx="135396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ausa</m:t>
                        </m:r>
                        <m:r>
                          <m:t xml:space="preserve">: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fusión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fusión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354720" y="1905120"/>
            <a:ext cx="2789280" cy="2185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419720" y="5486400"/>
            <a:ext cx="2057400" cy="61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Gráfica de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es proporcional a la de 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24080" y="5638680"/>
            <a:ext cx="1143000" cy="76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7T02:28:57Z</dcterms:created>
  <dc:creator>Domingo Morales Lizama</dc:creator>
  <dc:description/>
  <dc:language>en-US</dc:language>
  <cp:lastModifiedBy>Leszek Szczecinski</cp:lastModifiedBy>
  <dcterms:modified xsi:type="dcterms:W3CDTF">2003-07-30T15:17:42Z</dcterms:modified>
  <cp:revision>896</cp:revision>
  <dc:subject>Características Dinámicas de los Diodos de Juntura</dc:subject>
  <dc:title>Clase 3</dc:title>
</cp:coreProperties>
</file>