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7AC3-0807-47AA-AE03-87C36E366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3CAD-B234-45C3-9F7D-D88A0C43F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47DE-2DED-4518-96CE-CC466A823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3EA3-B85F-453A-9B33-7E162AE97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205-DC53-43B3-B238-7F6A2423A9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327-CA66-4B37-816D-8E238A6967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18A-4EB8-4B83-BFD6-E1C97D1F81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CD7-ED72-4F9A-A35B-27926DC2B0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375-F1C1-4221-97D0-000F1010DF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BF1-62AE-4746-A0C6-EBC2FF8748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2E1-FB77-49FC-8B63-7BE5DE4D44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ED35-D7B0-48E2-A7D8-C545FEC68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BE7-7572-4749-B640-EA7E8DCD85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E3B-9BB0-4DA1-A1F2-68BC37DD52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6ED-3178-428A-B7FF-69F5BC909F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899-869E-482D-8008-6EB764FD6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A27-EA52-49E5-A12F-7CC014906C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DB9E-D737-4CD1-BA68-42477B308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2A4E-B0F4-433A-B0BF-95549CA6D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E4F8-400A-4EC0-B174-65FA07703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E058-9879-47B7-9886-863D7E86E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BC29-824C-47B6-A992-3F50D3350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D268-D83A-4913-95AF-EBC02DBEA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AD9D-9EF6-4968-9878-709C54382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84E2-0FAF-4E64-9600-ACB985D8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A9CE-12F0-4530-A6BF-824268CD3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2133720"/>
            <a:ext cx="51055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aídas de tens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óh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uerpo”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Región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tactos óh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-rectificadores: mantienen potencial independiente del sentido y magnitud de la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bajas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caídas de voltaje en el cuerpo son desprec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33720" y="594360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724280" y="2514600"/>
            <a:ext cx="4165200" cy="2556720"/>
            <a:chOff x="4724280" y="2514600"/>
            <a:chExt cx="4165200" cy="2556720"/>
          </a:xfrm>
        </p:grpSpPr>
        <p:grpSp>
          <p:nvGrpSpPr>
            <p:cNvPr id="620" name=""/>
            <p:cNvGrpSpPr/>
            <p:nvPr/>
          </p:nvGrpSpPr>
          <p:grpSpPr>
            <a:xfrm>
              <a:off x="4724280" y="2514600"/>
              <a:ext cx="4165200" cy="2556720"/>
              <a:chOff x="4724280" y="2514600"/>
              <a:chExt cx="4165200" cy="2556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973840" y="3180240"/>
                <a:ext cx="2572560" cy="443880"/>
                <a:chOff x="5973840" y="3180240"/>
                <a:chExt cx="2572560" cy="4438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128640" y="3180240"/>
                  <a:ext cx="1131480" cy="443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260480" y="3180240"/>
                  <a:ext cx="1131120" cy="44388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7384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39160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7044480" y="3180240"/>
                <a:ext cx="22032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23760" y="3180240"/>
                <a:ext cx="44100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3080" y="303264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8240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o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2428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ta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65280" y="2958480"/>
                <a:ext cx="808200" cy="37008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2480" y="2514600"/>
                <a:ext cx="3357000" cy="739800"/>
              </a:xfrm>
              <a:custGeom>
                <a:avLst/>
                <a:gdLst/>
                <a:ahLst/>
                <a:rect l="l" t="t" r="r" b="b"/>
                <a:pathLst>
                  <a:path w="2192" h="480">
                    <a:moveTo>
                      <a:pt x="0" y="144"/>
                    </a:moveTo>
                    <a:cubicBezTo>
                      <a:pt x="244" y="72"/>
                      <a:pt x="488" y="0"/>
                      <a:pt x="816" y="0"/>
                    </a:cubicBezTo>
                    <a:cubicBezTo>
                      <a:pt x="1144" y="0"/>
                      <a:pt x="1744" y="96"/>
                      <a:pt x="1968" y="144"/>
                    </a:cubicBezTo>
                    <a:cubicBezTo>
                      <a:pt x="2192" y="192"/>
                      <a:pt x="2160" y="232"/>
                      <a:pt x="2160" y="288"/>
                    </a:cubicBezTo>
                    <a:cubicBezTo>
                      <a:pt x="2160" y="344"/>
                      <a:pt x="2064" y="412"/>
                      <a:pt x="1968" y="4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76520" y="412848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2400" y="3698280"/>
                <a:ext cx="1249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=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753160" y="4372920"/>
                <a:ext cx="3013560" cy="370440"/>
                <a:chOff x="5753160" y="4372920"/>
                <a:chExt cx="3013560" cy="370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7007040" y="4372920"/>
                  <a:ext cx="766080" cy="370440"/>
                  <a:chOff x="7007040" y="4372920"/>
                  <a:chExt cx="766080" cy="370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564320" y="4447080"/>
                    <a:ext cx="0" cy="296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633800" y="4521240"/>
                    <a:ext cx="0" cy="147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33800" y="4595400"/>
                    <a:ext cx="13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285680" y="4595400"/>
                    <a:ext cx="27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flipV="1">
                    <a:off x="7007040" y="4372920"/>
                    <a:ext cx="278280" cy="22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5753160" y="4595040"/>
                  <a:ext cx="118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721640" y="4595040"/>
                  <a:ext cx="10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44" name=""/>
              <p:cNvCxnSpPr>
                <a:stCxn id="624" idx="1"/>
                <a:endCxn id="642" idx="0"/>
              </p:cNvCxnSpPr>
              <p:nvPr/>
            </p:nvCxnSpPr>
            <p:spPr>
              <a:xfrm flipV="1" rot="10800000">
                <a:off x="5752440" y="3402000"/>
                <a:ext cx="221040" cy="119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"/>
              <p:cNvCxnSpPr>
                <a:stCxn id="625" idx="3"/>
                <a:endCxn id="643" idx="0"/>
              </p:cNvCxnSpPr>
              <p:nvPr/>
            </p:nvCxnSpPr>
            <p:spPr>
              <a:xfrm>
                <a:off x="8546760" y="3402360"/>
                <a:ext cx="221040" cy="1193760"/>
              </a:xfrm>
              <a:prstGeom prst="bentConnector4">
                <a:avLst>
                  <a:gd name="adj1" fmla="val 100000"/>
                  <a:gd name="adj2" fmla="val 3719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929640" y="473400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5943600" y="2819520"/>
                  <a:ext cx="2430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8" name=""/>
                <p:cNvSpPr txBox="1"/>
                <p:nvPr/>
              </p:nvSpPr>
              <p:spPr>
                <a:xfrm>
                  <a:off x="8358120" y="2819520"/>
                  <a:ext cx="2635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tocircuito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2578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directa (forward bias): V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inversa (reverse bias): V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429000" y="220968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670040" y="2971800"/>
                <a:ext cx="171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666960" y="2971800"/>
                <a:ext cx="1838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"/>
          <p:cNvGrpSpPr/>
          <p:nvPr/>
        </p:nvGrpSpPr>
        <p:grpSpPr>
          <a:xfrm>
            <a:off x="5486400" y="2057400"/>
            <a:ext cx="3505320" cy="2159640"/>
            <a:chOff x="5486400" y="2057400"/>
            <a:chExt cx="3505320" cy="2159640"/>
          </a:xfrm>
        </p:grpSpPr>
        <p:grpSp>
          <p:nvGrpSpPr>
            <p:cNvPr id="656" name=""/>
            <p:cNvGrpSpPr/>
            <p:nvPr/>
          </p:nvGrpSpPr>
          <p:grpSpPr>
            <a:xfrm>
              <a:off x="6662880" y="2604960"/>
              <a:ext cx="2053800" cy="363240"/>
              <a:chOff x="6662880" y="2604960"/>
              <a:chExt cx="2053800" cy="36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786360" y="2604960"/>
                <a:ext cx="903600" cy="363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89960" y="2604960"/>
                <a:ext cx="903240" cy="363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66288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59320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516800" y="2604960"/>
              <a:ext cx="17640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1520" y="2604960"/>
              <a:ext cx="35244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85120" y="24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86600" y="21794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2179440"/>
              <a:ext cx="11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6680" y="2422440"/>
              <a:ext cx="646200" cy="3027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10440" y="2057400"/>
              <a:ext cx="2681280" cy="60768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3800" y="33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09080" y="3030120"/>
              <a:ext cx="99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86480" y="3583800"/>
              <a:ext cx="2406600" cy="303120"/>
              <a:chOff x="6486480" y="3583800"/>
              <a:chExt cx="2406600" cy="30312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7488000" y="3583800"/>
                <a:ext cx="611640" cy="303120"/>
                <a:chOff x="7488000" y="3583800"/>
                <a:chExt cx="611640" cy="3031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7932960" y="3644280"/>
                  <a:ext cx="0" cy="2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988400" y="370512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988400" y="376596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10480" y="3765960"/>
                  <a:ext cx="22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>
                  <a:off x="7488000" y="3583800"/>
                  <a:ext cx="222480" cy="18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6486480" y="3765960"/>
                <a:ext cx="9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58600" y="37659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9" name=""/>
            <p:cNvCxnSpPr>
              <a:stCxn id="659" idx="1"/>
              <a:endCxn id="677" idx="0"/>
            </p:cNvCxnSpPr>
            <p:nvPr/>
          </p:nvCxnSpPr>
          <p:spPr>
            <a:xfrm flipV="1" rot="10800000">
              <a:off x="6485760" y="2784600"/>
              <a:ext cx="177120" cy="98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60" idx="3"/>
              <a:endCxn id="678" idx="0"/>
            </p:cNvCxnSpPr>
            <p:nvPr/>
          </p:nvCxnSpPr>
          <p:spPr>
            <a:xfrm>
              <a:off x="8717040" y="2785320"/>
              <a:ext cx="177120" cy="981720"/>
            </a:xfrm>
            <a:prstGeom prst="bentConnector4">
              <a:avLst>
                <a:gd name="adj1" fmla="val 100000"/>
                <a:gd name="adj2" fmla="val 3719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1" name=""/>
            <p:cNvSpPr/>
            <p:nvPr/>
          </p:nvSpPr>
          <p:spPr>
            <a:xfrm>
              <a:off x="7426440" y="3879720"/>
              <a:ext cx="9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6637320" y="2307960"/>
                  <a:ext cx="19548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8566200" y="2307960"/>
                  <a:ext cx="2113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685800" y="3438360"/>
            <a:ext cx="8153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(0)? (cortocircu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quilibrio Termodinámico. Si existiese corriente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se calentarían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nergía la provee la barr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barra se enfrí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no hay equilibrio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rriente debe ser nul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0) =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built-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129200" y="4950000"/>
                <a:ext cx="1312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Direct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19720" y="1600200"/>
            <a:ext cx="4317840" cy="2623320"/>
            <a:chOff x="4419720" y="1600200"/>
            <a:chExt cx="4317840" cy="2623320"/>
          </a:xfrm>
        </p:grpSpPr>
        <p:grpSp>
          <p:nvGrpSpPr>
            <p:cNvPr id="689" name=""/>
            <p:cNvGrpSpPr/>
            <p:nvPr/>
          </p:nvGrpSpPr>
          <p:grpSpPr>
            <a:xfrm>
              <a:off x="5715000" y="2286000"/>
              <a:ext cx="2667240" cy="457200"/>
              <a:chOff x="5715000" y="2286000"/>
              <a:chExt cx="2667240" cy="45720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560" y="22860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48800" y="2286000"/>
                <a:ext cx="117288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1500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2168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6824880" y="22860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0640" y="22860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820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5344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76920" y="2057400"/>
              <a:ext cx="83808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57800" y="16002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8000" y="32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440" y="28195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86400" y="3514320"/>
              <a:ext cx="3124080" cy="381240"/>
              <a:chOff x="5486400" y="3514320"/>
              <a:chExt cx="3124080" cy="3812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786360" y="3514320"/>
                <a:ext cx="793800" cy="381240"/>
                <a:chOff x="6786360" y="3514320"/>
                <a:chExt cx="793800" cy="3812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63800" y="35906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35800" y="3666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35800" y="3743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75080" y="37432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6786360" y="35143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5486400" y="3743280"/>
                <a:ext cx="122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27240" y="3743280"/>
                <a:ext cx="10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12" name=""/>
            <p:cNvCxnSpPr>
              <a:stCxn id="692" idx="1"/>
              <a:endCxn id="710" idx="0"/>
            </p:cNvCxnSpPr>
            <p:nvPr/>
          </p:nvCxnSpPr>
          <p:spPr>
            <a:xfrm flipV="1" rot="10800000">
              <a:off x="5485680" y="25135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693" idx="3"/>
              <a:endCxn id="711" idx="0"/>
            </p:cNvCxnSpPr>
            <p:nvPr/>
          </p:nvCxnSpPr>
          <p:spPr>
            <a:xfrm>
              <a:off x="8381880" y="25142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6705720" y="3886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705720" y="3490920"/>
            <a:ext cx="380880" cy="252360"/>
            <a:chOff x="6705720" y="3490920"/>
            <a:chExt cx="380880" cy="252360"/>
          </a:xfrm>
        </p:grpSpPr>
        <p:sp>
          <p:nvSpPr>
            <p:cNvPr id="716" name=""/>
            <p:cNvSpPr/>
            <p:nvPr/>
          </p:nvSpPr>
          <p:spPr>
            <a:xfrm>
              <a:off x="6782040" y="34909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743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553080" y="281952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-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280" y="28195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direc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3200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44197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inyección por difusión de portadores minoritarios (comportamiento capacitivo “de difusión”) y la aparición de corrient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80" y="5334120"/>
            <a:ext cx="4953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dismin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867280" y="5257800"/>
                <a:ext cx="3094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24" name=""/>
          <p:cNvGrpSpPr/>
          <p:nvPr/>
        </p:nvGrpSpPr>
        <p:grpSpPr>
          <a:xfrm>
            <a:off x="5881680" y="2286000"/>
            <a:ext cx="2328840" cy="457200"/>
            <a:chOff x="5881680" y="2286000"/>
            <a:chExt cx="2328840" cy="457200"/>
          </a:xfrm>
        </p:grpSpPr>
        <p:sp>
          <p:nvSpPr>
            <p:cNvPr id="725" name=""/>
            <p:cNvSpPr/>
            <p:nvPr/>
          </p:nvSpPr>
          <p:spPr>
            <a:xfrm>
              <a:off x="5881680" y="2286000"/>
              <a:ext cx="1086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2286000"/>
              <a:ext cx="10382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200400"/>
            <a:ext cx="914400" cy="152280"/>
            <a:chOff x="6705720" y="3200400"/>
            <a:chExt cx="914400" cy="152280"/>
          </a:xfrm>
        </p:grpSpPr>
        <p:sp>
          <p:nvSpPr>
            <p:cNvPr id="728" name=""/>
            <p:cNvSpPr/>
            <p:nvPr/>
          </p:nvSpPr>
          <p:spPr>
            <a:xfrm>
              <a:off x="6705720" y="3200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640" y="3276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591240" y="2057400"/>
            <a:ext cx="914400" cy="152280"/>
            <a:chOff x="6591240" y="2057400"/>
            <a:chExt cx="914400" cy="152280"/>
          </a:xfrm>
        </p:grpSpPr>
        <p:sp>
          <p:nvSpPr>
            <p:cNvPr id="731" name=""/>
            <p:cNvSpPr/>
            <p:nvPr/>
          </p:nvSpPr>
          <p:spPr>
            <a:xfrm>
              <a:off x="6591240" y="2057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95800" y="2133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6248520" y="44053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52280" y="38098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rompe equilibrio Difusión-Deriva: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Invers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419720" y="1828800"/>
            <a:ext cx="4317840" cy="2623320"/>
            <a:chOff x="4419720" y="1828800"/>
            <a:chExt cx="4317840" cy="2623320"/>
          </a:xfrm>
        </p:grpSpPr>
        <p:grpSp>
          <p:nvGrpSpPr>
            <p:cNvPr id="738" name=""/>
            <p:cNvGrpSpPr/>
            <p:nvPr/>
          </p:nvGrpSpPr>
          <p:grpSpPr>
            <a:xfrm>
              <a:off x="5715000" y="2514600"/>
              <a:ext cx="2666880" cy="457200"/>
              <a:chOff x="5715000" y="2514600"/>
              <a:chExt cx="2666880" cy="457200"/>
            </a:xfrm>
          </p:grpSpPr>
          <p:sp>
            <p:nvSpPr>
              <p:cNvPr id="739" name=""/>
              <p:cNvSpPr/>
              <p:nvPr/>
            </p:nvSpPr>
            <p:spPr>
              <a:xfrm>
                <a:off x="5875200" y="25146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48440" y="2514600"/>
                <a:ext cx="11732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1500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2168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4520" y="25146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10280" y="25146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81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1981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19810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6920" y="2286000"/>
              <a:ext cx="83808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57800" y="18288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34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53080" y="3048120"/>
              <a:ext cx="129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86400" y="3742920"/>
              <a:ext cx="3124080" cy="381240"/>
              <a:chOff x="5486400" y="3742920"/>
              <a:chExt cx="3124080" cy="3812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6786720" y="3742920"/>
                <a:ext cx="795240" cy="381240"/>
                <a:chOff x="6786720" y="3742920"/>
                <a:chExt cx="795240" cy="3812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435800" y="38196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61280" y="3895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37600" y="39718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075440" y="39718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6786720" y="37429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86400" y="3971880"/>
                <a:ext cx="12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26160" y="3971880"/>
                <a:ext cx="10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1" name=""/>
            <p:cNvCxnSpPr>
              <a:stCxn id="741" idx="1"/>
              <a:endCxn id="759" idx="0"/>
            </p:cNvCxnSpPr>
            <p:nvPr/>
          </p:nvCxnSpPr>
          <p:spPr>
            <a:xfrm flipV="1" rot="10800000">
              <a:off x="5485680" y="27421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42" idx="3"/>
              <a:endCxn id="760" idx="0"/>
            </p:cNvCxnSpPr>
            <p:nvPr/>
          </p:nvCxnSpPr>
          <p:spPr>
            <a:xfrm>
              <a:off x="8381520" y="27428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3" name=""/>
            <p:cNvSpPr/>
            <p:nvPr/>
          </p:nvSpPr>
          <p:spPr>
            <a:xfrm>
              <a:off x="6705720" y="41148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691320" y="3719520"/>
            <a:ext cx="380880" cy="252360"/>
            <a:chOff x="6691320" y="3719520"/>
            <a:chExt cx="380880" cy="252360"/>
          </a:xfrm>
        </p:grpSpPr>
        <p:sp>
          <p:nvSpPr>
            <p:cNvPr id="765" name=""/>
            <p:cNvSpPr/>
            <p:nvPr/>
          </p:nvSpPr>
          <p:spPr>
            <a:xfrm>
              <a:off x="6767640" y="37195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1320" y="39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539040" y="3048120"/>
            <a:ext cx="12952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–(-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27432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inver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3048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657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extracción por deriva de portadores minoritarios (comportamiento capacitivo “de transició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rriente muy pequeña: portadores minoritarios “descienden” barrera, Corriente de Saturación In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56386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a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5791320" y="5410080"/>
                <a:ext cx="3093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73" name=""/>
          <p:cNvGrpSpPr/>
          <p:nvPr/>
        </p:nvGrpSpPr>
        <p:grpSpPr>
          <a:xfrm>
            <a:off x="6691320" y="3429000"/>
            <a:ext cx="1081080" cy="152280"/>
            <a:chOff x="6691320" y="3429000"/>
            <a:chExt cx="1081080" cy="152280"/>
          </a:xfrm>
        </p:grpSpPr>
        <p:sp>
          <p:nvSpPr>
            <p:cNvPr id="774" name=""/>
            <p:cNvSpPr/>
            <p:nvPr/>
          </p:nvSpPr>
          <p:spPr>
            <a:xfrm>
              <a:off x="6691320" y="3429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16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576840" y="2286000"/>
            <a:ext cx="1195560" cy="152280"/>
            <a:chOff x="6576840" y="2286000"/>
            <a:chExt cx="1195560" cy="152280"/>
          </a:xfrm>
        </p:grpSpPr>
        <p:sp>
          <p:nvSpPr>
            <p:cNvPr id="777" name=""/>
            <p:cNvSpPr/>
            <p:nvPr/>
          </p:nvSpPr>
          <p:spPr>
            <a:xfrm>
              <a:off x="6576840" y="2286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9400" y="2362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629400" y="2514600"/>
            <a:ext cx="1219320" cy="457200"/>
            <a:chOff x="6629400" y="2514600"/>
            <a:chExt cx="1219320" cy="457200"/>
          </a:xfrm>
        </p:grpSpPr>
        <p:sp>
          <p:nvSpPr>
            <p:cNvPr id="780" name=""/>
            <p:cNvSpPr/>
            <p:nvPr/>
          </p:nvSpPr>
          <p:spPr>
            <a:xfrm>
              <a:off x="6629400" y="2514600"/>
              <a:ext cx="42372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10280" y="2514600"/>
              <a:ext cx="83844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91240" y="44956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Hipótesis de inyección “Low-Leve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181480" y="22860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wLevel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45240" y="2971800"/>
                <a:ext cx="2147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94480" y="3657600"/>
                <a:ext cx="2342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508720" y="4506840"/>
                <a:ext cx="2908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685800" y="243828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in polarización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ifusión en equilibrio con 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Prevalece difusión ó deriva según sea la polarización directa o inversa, respec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Bajo condición de inyección “Low-Level” la variación en la corriente de difusión ó deriva es pequeña comparada con el nivel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ey de la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stima (Bajo inyección Low-Level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densidad de portadores minoritarios justo después de la capa de agotamiento como función del nivel de equilibrio de los portadores minoritarios en esa región y del voltaje externo aplic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553080" y="2133720"/>
                <a:ext cx="1409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6205680" y="2819520"/>
                <a:ext cx="201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78520" y="3971880"/>
                <a:ext cx="329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68580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ero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295360" y="4495680"/>
                <a:ext cx="4330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36560" y="5410080"/>
                <a:ext cx="2745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3994200" y="5410080"/>
                <a:ext cx="439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ógamente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Distribuciones de Portadores Minoritarios en Juntura pn Polariz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23640" y="2538360"/>
            <a:ext cx="3962880" cy="1123920"/>
            <a:chOff x="1223640" y="2538360"/>
            <a:chExt cx="3962880" cy="1123920"/>
          </a:xfrm>
        </p:grpSpPr>
        <p:sp>
          <p:nvSpPr>
            <p:cNvPr id="801" name=""/>
            <p:cNvSpPr/>
            <p:nvPr/>
          </p:nvSpPr>
          <p:spPr>
            <a:xfrm>
              <a:off x="3052800" y="2538360"/>
              <a:ext cx="2133720" cy="8856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223280" y="2776320"/>
              <a:ext cx="2133720" cy="88596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28954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52480" y="31240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819440" y="4710240"/>
            <a:ext cx="3057480" cy="1521360"/>
            <a:chOff x="1819440" y="4710240"/>
            <a:chExt cx="3057480" cy="1521360"/>
          </a:xfrm>
        </p:grpSpPr>
        <p:sp>
          <p:nvSpPr>
            <p:cNvPr id="806" name=""/>
            <p:cNvSpPr/>
            <p:nvPr/>
          </p:nvSpPr>
          <p:spPr>
            <a:xfrm>
              <a:off x="3048120" y="4710240"/>
              <a:ext cx="1752480" cy="1385640"/>
            </a:xfrm>
            <a:custGeom>
              <a:avLst/>
              <a:gdLst/>
              <a:ahLst/>
              <a:rect l="l" t="t" r="r" b="b"/>
              <a:pathLst>
                <a:path w="1432" h="874">
                  <a:moveTo>
                    <a:pt x="0" y="24"/>
                  </a:moveTo>
                  <a:cubicBezTo>
                    <a:pt x="11" y="39"/>
                    <a:pt x="27" y="0"/>
                    <a:pt x="67" y="116"/>
                  </a:cubicBezTo>
                  <a:cubicBezTo>
                    <a:pt x="107" y="232"/>
                    <a:pt x="192" y="598"/>
                    <a:pt x="237" y="722"/>
                  </a:cubicBezTo>
                  <a:cubicBezTo>
                    <a:pt x="282" y="847"/>
                    <a:pt x="298" y="846"/>
                    <a:pt x="339" y="859"/>
                  </a:cubicBezTo>
                  <a:cubicBezTo>
                    <a:pt x="379" y="874"/>
                    <a:pt x="418" y="841"/>
                    <a:pt x="481" y="806"/>
                  </a:cubicBezTo>
                  <a:cubicBezTo>
                    <a:pt x="543" y="773"/>
                    <a:pt x="556" y="693"/>
                    <a:pt x="714" y="655"/>
                  </a:cubicBezTo>
                  <a:cubicBezTo>
                    <a:pt x="873" y="617"/>
                    <a:pt x="1152" y="597"/>
                    <a:pt x="1432" y="578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19440" y="4976640"/>
              <a:ext cx="1562040" cy="1128240"/>
            </a:xfrm>
            <a:custGeom>
              <a:avLst/>
              <a:gdLst/>
              <a:ahLst/>
              <a:rect l="l" t="t" r="r" b="b"/>
              <a:pathLst>
                <a:path w="984" h="711">
                  <a:moveTo>
                    <a:pt x="984" y="0"/>
                  </a:moveTo>
                  <a:cubicBezTo>
                    <a:pt x="976" y="17"/>
                    <a:pt x="957" y="8"/>
                    <a:pt x="931" y="105"/>
                  </a:cubicBezTo>
                  <a:cubicBezTo>
                    <a:pt x="905" y="202"/>
                    <a:pt x="856" y="485"/>
                    <a:pt x="829" y="583"/>
                  </a:cubicBezTo>
                  <a:cubicBezTo>
                    <a:pt x="800" y="682"/>
                    <a:pt x="789" y="683"/>
                    <a:pt x="761" y="696"/>
                  </a:cubicBezTo>
                  <a:cubicBezTo>
                    <a:pt x="734" y="711"/>
                    <a:pt x="706" y="688"/>
                    <a:pt x="662" y="667"/>
                  </a:cubicBezTo>
                  <a:cubicBezTo>
                    <a:pt x="618" y="645"/>
                    <a:pt x="608" y="586"/>
                    <a:pt x="497" y="568"/>
                  </a:cubicBezTo>
                  <a:cubicBezTo>
                    <a:pt x="387" y="551"/>
                    <a:pt x="193" y="557"/>
                    <a:pt x="0" y="563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8480" y="571500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579096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04800" y="1905120"/>
            <a:ext cx="5549760" cy="2423520"/>
            <a:chOff x="604800" y="1905120"/>
            <a:chExt cx="5549760" cy="2423520"/>
          </a:xfrm>
        </p:grpSpPr>
        <p:grpSp>
          <p:nvGrpSpPr>
            <p:cNvPr id="811" name=""/>
            <p:cNvGrpSpPr/>
            <p:nvPr/>
          </p:nvGrpSpPr>
          <p:grpSpPr>
            <a:xfrm>
              <a:off x="604800" y="1905120"/>
              <a:ext cx="5549760" cy="2423520"/>
              <a:chOff x="604800" y="1905120"/>
              <a:chExt cx="5549760" cy="242352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04800" y="1905120"/>
                <a:ext cx="5257800" cy="2423520"/>
                <a:chOff x="604800" y="1905120"/>
                <a:chExt cx="5257800" cy="2423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200400" y="341928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590920" y="190512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"/>
                <p:cNvGrpSpPr/>
                <p:nvPr/>
              </p:nvGrpSpPr>
              <p:grpSpPr>
                <a:xfrm>
                  <a:off x="604800" y="2209320"/>
                  <a:ext cx="5257800" cy="2119320"/>
                  <a:chOff x="604800" y="2209320"/>
                  <a:chExt cx="5257800" cy="21193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604800" y="396180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3195720" y="220932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241960" y="396036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57440" y="365724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57440" y="2437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195720" y="26665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1347840" y="242856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 flipH="1">
                  <a:off x="1146960" y="266688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24" name=""/>
                  <p:cNvSpPr txBox="1"/>
                  <p:nvPr/>
                </p:nvSpPr>
                <p:spPr>
                  <a:xfrm>
                    <a:off x="990720" y="213840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5" name=""/>
                  <p:cNvSpPr txBox="1"/>
                  <p:nvPr/>
                </p:nvSpPr>
                <p:spPr>
                  <a:xfrm>
                    <a:off x="5707080" y="251460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6" name=""/>
                  <p:cNvSpPr txBox="1"/>
                  <p:nvPr/>
                </p:nvSpPr>
                <p:spPr>
                  <a:xfrm>
                    <a:off x="762120" y="304776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7" name=""/>
                  <p:cNvSpPr txBox="1"/>
                  <p:nvPr/>
                </p:nvSpPr>
                <p:spPr>
                  <a:xfrm>
                    <a:off x="5783400" y="304776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28" name=""/>
            <p:cNvSpPr/>
            <p:nvPr/>
          </p:nvSpPr>
          <p:spPr>
            <a:xfrm>
              <a:off x="3429000" y="259056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243828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09480" y="4114800"/>
            <a:ext cx="5549760" cy="2423520"/>
            <a:chOff x="609480" y="4114800"/>
            <a:chExt cx="5549760" cy="2423520"/>
          </a:xfrm>
        </p:grpSpPr>
        <p:grpSp>
          <p:nvGrpSpPr>
            <p:cNvPr id="831" name=""/>
            <p:cNvGrpSpPr/>
            <p:nvPr/>
          </p:nvGrpSpPr>
          <p:grpSpPr>
            <a:xfrm>
              <a:off x="609480" y="4114800"/>
              <a:ext cx="5549760" cy="2423520"/>
              <a:chOff x="609480" y="4114800"/>
              <a:chExt cx="5549760" cy="242352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609480" y="4114800"/>
                <a:ext cx="5257800" cy="2423520"/>
                <a:chOff x="609480" y="4114800"/>
                <a:chExt cx="5257800" cy="24235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205080" y="56289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595600" y="41148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5" name=""/>
                <p:cNvGrpSpPr/>
                <p:nvPr/>
              </p:nvGrpSpPr>
              <p:grpSpPr>
                <a:xfrm>
                  <a:off x="609480" y="4419000"/>
                  <a:ext cx="5257800" cy="2119320"/>
                  <a:chOff x="609480" y="4419000"/>
                  <a:chExt cx="5257800" cy="211932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09480" y="617148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V="1">
                    <a:off x="3200400" y="441900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246640" y="617004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762120" y="5866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62120" y="46476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200400" y="48762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352520" y="463824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 flipH="1">
                  <a:off x="1151640" y="487656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4" name=""/>
                  <p:cNvSpPr txBox="1"/>
                  <p:nvPr/>
                </p:nvSpPr>
                <p:spPr>
                  <a:xfrm>
                    <a:off x="995400" y="434808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5" name=""/>
                  <p:cNvSpPr txBox="1"/>
                  <p:nvPr/>
                </p:nvSpPr>
                <p:spPr>
                  <a:xfrm>
                    <a:off x="5711760" y="472428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6" name=""/>
                  <p:cNvSpPr txBox="1"/>
                  <p:nvPr/>
                </p:nvSpPr>
                <p:spPr>
                  <a:xfrm>
                    <a:off x="766800" y="525744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7" name=""/>
                  <p:cNvSpPr txBox="1"/>
                  <p:nvPr/>
                </p:nvSpPr>
                <p:spPr>
                  <a:xfrm>
                    <a:off x="5788080" y="525744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48" name=""/>
            <p:cNvSpPr/>
            <p:nvPr/>
          </p:nvSpPr>
          <p:spPr>
            <a:xfrm>
              <a:off x="1905120" y="45720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48006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780960" y="2438280"/>
            <a:ext cx="1986480" cy="1623240"/>
            <a:chOff x="6780960" y="2438280"/>
            <a:chExt cx="1986480" cy="1623240"/>
          </a:xfrm>
        </p:grpSpPr>
        <p:grpSp>
          <p:nvGrpSpPr>
            <p:cNvPr id="851" name=""/>
            <p:cNvGrpSpPr/>
            <p:nvPr/>
          </p:nvGrpSpPr>
          <p:grpSpPr>
            <a:xfrm>
              <a:off x="6926760" y="2438280"/>
              <a:ext cx="1694880" cy="367920"/>
              <a:chOff x="6926760" y="2438280"/>
              <a:chExt cx="1694880" cy="36792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8640" y="2438280"/>
                <a:ext cx="745560" cy="367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74560" y="2438280"/>
                <a:ext cx="745200" cy="367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26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19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7632720" y="2438280"/>
              <a:ext cx="14436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50080" y="2438280"/>
              <a:ext cx="29052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6781680" y="3426840"/>
              <a:ext cx="1985760" cy="306000"/>
              <a:chOff x="6781680" y="3426840"/>
              <a:chExt cx="1985760" cy="306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08240" y="3426840"/>
                <a:ext cx="504720" cy="306000"/>
                <a:chOff x="7608240" y="3426840"/>
                <a:chExt cx="504720" cy="306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975440" y="3487680"/>
                  <a:ext cx="0" cy="24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21160" y="3549240"/>
                  <a:ext cx="0" cy="12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21160" y="3610440"/>
                  <a:ext cx="9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791840" y="361044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7608240" y="3426840"/>
                  <a:ext cx="183600" cy="18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6781680" y="3610440"/>
                <a:ext cx="78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078760" y="36104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67" name=""/>
            <p:cNvCxnSpPr>
              <a:stCxn id="854" idx="1"/>
              <a:endCxn id="865" idx="0"/>
            </p:cNvCxnSpPr>
            <p:nvPr/>
          </p:nvCxnSpPr>
          <p:spPr>
            <a:xfrm flipV="1" rot="10800000">
              <a:off x="6780960" y="2622240"/>
              <a:ext cx="145800" cy="98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8" name=""/>
            <p:cNvCxnSpPr>
              <a:stCxn id="855" idx="3"/>
              <a:endCxn id="866" idx="0"/>
            </p:cNvCxnSpPr>
            <p:nvPr/>
          </p:nvCxnSpPr>
          <p:spPr>
            <a:xfrm>
              <a:off x="8622000" y="2622240"/>
              <a:ext cx="145800" cy="988920"/>
            </a:xfrm>
            <a:prstGeom prst="bentConnector4">
              <a:avLst>
                <a:gd name="adj1" fmla="val 100000"/>
                <a:gd name="adj2" fmla="val 372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9" name=""/>
            <p:cNvSpPr/>
            <p:nvPr/>
          </p:nvSpPr>
          <p:spPr>
            <a:xfrm>
              <a:off x="7556400" y="372420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871680" y="4572000"/>
            <a:ext cx="1986480" cy="1623240"/>
            <a:chOff x="6871680" y="4572000"/>
            <a:chExt cx="1986480" cy="1623240"/>
          </a:xfrm>
        </p:grpSpPr>
        <p:grpSp>
          <p:nvGrpSpPr>
            <p:cNvPr id="871" name=""/>
            <p:cNvGrpSpPr/>
            <p:nvPr/>
          </p:nvGrpSpPr>
          <p:grpSpPr>
            <a:xfrm>
              <a:off x="7018200" y="4572000"/>
              <a:ext cx="1694160" cy="368280"/>
              <a:chOff x="7018200" y="4572000"/>
              <a:chExt cx="1694160" cy="368280"/>
            </a:xfrm>
          </p:grpSpPr>
          <p:sp>
            <p:nvSpPr>
              <p:cNvPr id="872" name=""/>
              <p:cNvSpPr/>
              <p:nvPr/>
            </p:nvSpPr>
            <p:spPr>
              <a:xfrm>
                <a:off x="7120080" y="4572000"/>
                <a:ext cx="7452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5280" y="4572000"/>
                <a:ext cx="74484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1820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1048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7723080" y="4572000"/>
              <a:ext cx="1447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40800" y="4572000"/>
              <a:ext cx="2905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99320" y="5560560"/>
              <a:ext cx="504720" cy="306720"/>
              <a:chOff x="7699320" y="5560560"/>
              <a:chExt cx="504720" cy="306720"/>
            </a:xfrm>
          </p:grpSpPr>
          <p:sp>
            <p:nvSpPr>
              <p:cNvPr id="879" name=""/>
              <p:cNvSpPr/>
              <p:nvPr/>
            </p:nvSpPr>
            <p:spPr>
              <a:xfrm>
                <a:off x="8109000" y="562284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69400" y="56829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12240" y="574488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3640" y="5744880"/>
                <a:ext cx="18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7699320" y="5560560"/>
                <a:ext cx="18432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872400" y="5744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169120" y="574488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6" name=""/>
            <p:cNvCxnSpPr>
              <a:stCxn id="874" idx="1"/>
              <a:endCxn id="884" idx="0"/>
            </p:cNvCxnSpPr>
            <p:nvPr/>
          </p:nvCxnSpPr>
          <p:spPr>
            <a:xfrm flipV="1" rot="10800000">
              <a:off x="6871680" y="4754520"/>
              <a:ext cx="146520" cy="98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75" idx="3"/>
              <a:endCxn id="885" idx="0"/>
            </p:cNvCxnSpPr>
            <p:nvPr/>
          </p:nvCxnSpPr>
          <p:spPr>
            <a:xfrm>
              <a:off x="8712000" y="4755600"/>
              <a:ext cx="146520" cy="989280"/>
            </a:xfrm>
            <a:prstGeom prst="bentConnector4">
              <a:avLst>
                <a:gd name="adj1" fmla="val 96551"/>
                <a:gd name="adj2" fmla="val 417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7647120" y="5857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567560" y="3352680"/>
            <a:ext cx="228600" cy="257040"/>
            <a:chOff x="7567560" y="3352680"/>
            <a:chExt cx="228600" cy="257040"/>
          </a:xfrm>
        </p:grpSpPr>
        <p:sp>
          <p:nvSpPr>
            <p:cNvPr id="890" name=""/>
            <p:cNvSpPr/>
            <p:nvPr/>
          </p:nvSpPr>
          <p:spPr>
            <a:xfrm>
              <a:off x="7596360" y="335268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7560" y="360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662960" y="5486400"/>
            <a:ext cx="228600" cy="257040"/>
            <a:chOff x="7662960" y="5486400"/>
            <a:chExt cx="228600" cy="257040"/>
          </a:xfrm>
        </p:grpSpPr>
        <p:sp>
          <p:nvSpPr>
            <p:cNvPr id="893" name=""/>
            <p:cNvSpPr/>
            <p:nvPr/>
          </p:nvSpPr>
          <p:spPr>
            <a:xfrm>
              <a:off x="7691760" y="548640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62960" y="5743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086600" y="2819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62920" y="4952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cuación de continuidad Bajo inyección Low-Level y equilib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5257800" y="2133720"/>
                <a:ext cx="3733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407200" y="3352680"/>
                <a:ext cx="306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5721480" y="4724280"/>
                <a:ext cx="2747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682560" y="2708280"/>
            <a:ext cx="4114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diciones de borde dadas por la ley de la juntura p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2560" y="3308400"/>
            <a:ext cx="4114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de portadores minoritarios se deben principalmente a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4191120"/>
            <a:ext cx="41148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 ecuación de continuidad y la expresión para la densidad de corriente entregan, para régimen permanente, la ecuación que describe las corrientes de un diodo de jun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oluciones ecu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319720" y="2057400"/>
                <a:ext cx="2352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4730760" y="3276720"/>
                <a:ext cx="4060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o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e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135160" y="4246560"/>
                <a:ext cx="5330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≈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a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lt;&lt;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334120" y="5410080"/>
                <a:ext cx="2414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228600" y="2057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oluciones con interés tecnológ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lt;&l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Base de un Transistor p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gt;&g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: Diodo 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4952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 la definición de corriente de difu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Tare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2: Demuestre que las corrientes de difusión en un diodo pn polarizado con una fuente externa de voltaje V están dadas por 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5181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nsidere el origen de coordenadas x en la juntura. Adicionalmente asuma que el ancho de las regiones tipo p y n es mucho mayor que el camino libre medio de los portadores iny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3352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ya que la corriente total en un diodo está dada por I=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¿por qué se evalúa justo en los bordes?. Refiérase en particular a las corrientes de portadores mayoritario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838080" y="2592360"/>
                <a:ext cx="3353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419720" y="25686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981080" y="4338720"/>
                <a:ext cx="4876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Estáticas 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area 1.3 (*): (a)Demuestre que la corriente 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x) para x &lt;&lt; L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(Inyección de e’s desde el emisor tipo n, a la base tipo p) está dada por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828800" y="2286000"/>
                <a:ext cx="5913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B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L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nB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 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y  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181480" y="5029200"/>
                <a:ext cx="2367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ciones de Borde: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838080" y="37339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Un transistor es un “arreglo” npn. Por lo tanto posee dos junturas. Resuelva la ecuación de continuidad para los portadores minoritarios n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(x) aplicando dos condiciones de borde: La primera en x=0 que es justo donde termina la zona de agotamiento emisor-base y la otra es en x=W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 que es justo donde comienza la zona de agotamiento base-col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903320" y="4952880"/>
            <a:ext cx="2670120" cy="1590120"/>
            <a:chOff x="1903320" y="4952880"/>
            <a:chExt cx="2670120" cy="1590120"/>
          </a:xfrm>
        </p:grpSpPr>
        <p:sp>
          <p:nvSpPr>
            <p:cNvPr id="926" name=""/>
            <p:cNvSpPr/>
            <p:nvPr/>
          </p:nvSpPr>
          <p:spPr>
            <a:xfrm>
              <a:off x="21333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1800" y="525780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049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7400" y="617220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0" name=""/>
            <p:cNvCxnSpPr>
              <a:stCxn id="931" idx="0"/>
              <a:endCxn id="926" idx="1"/>
            </p:cNvCxnSpPr>
            <p:nvPr/>
          </p:nvCxnSpPr>
          <p:spPr>
            <a:xfrm flipV="1" rot="16200000">
              <a:off x="1844280" y="5774760"/>
              <a:ext cx="654840" cy="76680"/>
            </a:xfrm>
            <a:prstGeom prst="bentConnector4">
              <a:avLst>
                <a:gd name="adj1" fmla="val -220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32" name=""/>
            <p:cNvGrpSpPr/>
            <p:nvPr/>
          </p:nvGrpSpPr>
          <p:grpSpPr>
            <a:xfrm>
              <a:off x="2209320" y="6013080"/>
              <a:ext cx="650880" cy="244440"/>
              <a:chOff x="2209320" y="6013080"/>
              <a:chExt cx="650880" cy="24444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2554200" y="601308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2514600" y="60735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255528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20932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37" name=""/>
            <p:cNvCxnSpPr>
              <a:stCxn id="935" idx="0"/>
              <a:endCxn id="927" idx="2"/>
            </p:cNvCxnSpPr>
            <p:nvPr/>
          </p:nvCxnSpPr>
          <p:spPr>
            <a:xfrm flipH="1" flipV="1" rot="5400000">
              <a:off x="2836440" y="5738400"/>
              <a:ext cx="426240" cy="37872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8" name=""/>
            <p:cNvSpPr/>
            <p:nvPr/>
          </p:nvSpPr>
          <p:spPr>
            <a:xfrm flipH="1">
              <a:off x="3504240" y="617220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9" name=""/>
            <p:cNvCxnSpPr>
              <a:stCxn id="940" idx="0"/>
              <a:endCxn id="928" idx="3"/>
            </p:cNvCxnSpPr>
            <p:nvPr/>
          </p:nvCxnSpPr>
          <p:spPr>
            <a:xfrm flipH="1" flipV="1" rot="5400000">
              <a:off x="3976200" y="5776560"/>
              <a:ext cx="658080" cy="76680"/>
            </a:xfrm>
            <a:prstGeom prst="bentConnector4">
              <a:avLst>
                <a:gd name="adj1" fmla="val -218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41" name=""/>
            <p:cNvGrpSpPr/>
            <p:nvPr/>
          </p:nvGrpSpPr>
          <p:grpSpPr>
            <a:xfrm>
              <a:off x="3615840" y="6019560"/>
              <a:ext cx="650880" cy="244440"/>
              <a:chOff x="3615840" y="6019560"/>
              <a:chExt cx="650880" cy="244440"/>
            </a:xfrm>
          </p:grpSpPr>
          <p:sp>
            <p:nvSpPr>
              <p:cNvPr id="942" name=""/>
              <p:cNvSpPr/>
              <p:nvPr/>
            </p:nvSpPr>
            <p:spPr>
              <a:xfrm flipV="1">
                <a:off x="3960720" y="601956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921120" y="608004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3961800" y="6143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361584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6" name=""/>
            <p:cNvCxnSpPr>
              <a:stCxn id="945" idx="0"/>
              <a:endCxn id="927" idx="2"/>
            </p:cNvCxnSpPr>
            <p:nvPr/>
          </p:nvCxnSpPr>
          <p:spPr>
            <a:xfrm flipV="1" rot="16200000">
              <a:off x="3214080" y="5738400"/>
              <a:ext cx="426240" cy="37836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7" name=""/>
            <p:cNvSpPr/>
            <p:nvPr/>
          </p:nvSpPr>
          <p:spPr>
            <a:xfrm>
              <a:off x="205740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526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o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3 (*): (b) A partir del resultado anterior (y bajo los mismas hipótesis) muestre que el factor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, que representa la fracción de los portadores inyectados desde el emisor que alcanzan el colector, está dado por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133720" y="2362320"/>
                <a:ext cx="513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1066680" y="32004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Obtenga la expresión general para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  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y aproxime la expresión mediante desarrollos en serie de Tay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Un transistor npn en su “zona activa” tien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(juntura emisor-base en directa) y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juntura base-colector en inversa). Muestre que para estas condiciones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114800" y="4572000"/>
                <a:ext cx="1406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7621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n un transistor es deseable tener este factor lo más cercano posible a 1. Esto puede lograrse achicando el ancho de la bas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 Proponga alguna forma de lograr es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 juntura pn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modelo difusión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295800" y="1676520"/>
                <a:ext cx="5341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523880" y="4495680"/>
                <a:ext cx="221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</m:d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04920" y="22860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prác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5029200"/>
            <a:ext cx="44193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ara polariz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&lt;&lt;-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~26mV a T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 ~ -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, corriente de saturación inversa, para el Si es del orden de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os nA a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920" y="259092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xiste recombinación en la zona de agotamiento: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[1, 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 todo el voltaje V aparece en la zona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Resistencia cuerpo R </a:t>
            </a:r>
            <a:br>
              <a:rPr sz="1600"/>
            </a:b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“pequeña” (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 - 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419720" y="2438280"/>
            <a:ext cx="4723920" cy="4054680"/>
            <a:chOff x="4419720" y="2438280"/>
            <a:chExt cx="4723920" cy="4054680"/>
          </a:xfrm>
        </p:grpSpPr>
        <p:grpSp>
          <p:nvGrpSpPr>
            <p:cNvPr id="965" name=""/>
            <p:cNvGrpSpPr/>
            <p:nvPr/>
          </p:nvGrpSpPr>
          <p:grpSpPr>
            <a:xfrm>
              <a:off x="4419720" y="2743200"/>
              <a:ext cx="4723920" cy="3749760"/>
              <a:chOff x="4419720" y="2743200"/>
              <a:chExt cx="4723920" cy="3749760"/>
            </a:xfrm>
          </p:grpSpPr>
          <p:pic>
            <p:nvPicPr>
              <p:cNvPr id="966" name="Diodo_IV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720" y="2743200"/>
                <a:ext cx="3391560" cy="37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7544520" y="32274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esistencia Serie (cuerp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4520" y="41958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difu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2160" y="5440680"/>
                <a:ext cx="1671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Recombin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495680" y="2438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áfica log I  v/s V polarización direc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iciones: Tamb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10nA,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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5452920" y="1981080"/>
                <a:ext cx="342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226200" cy="35082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6400800" y="2743200"/>
            <a:ext cx="274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R no es alta para un diodo, sí para un transistor. En este caso el rango de operación típic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Activa e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[0,5; 0,8]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Voltaje “umbral”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cu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prox. 0,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3657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ída en el cuer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6095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ltajes externos necesarios para obtener la corriente ind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 V/I Diodo de Juntur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838080" y="2895480"/>
                <a:ext cx="32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449440" y="3352680"/>
                <a:ext cx="1676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º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685800" y="1828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30481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s curvas características se desplazan ante 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30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152800" y="5943600"/>
                <a:ext cx="379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685800" y="45720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encendido: si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rgumento de la exponencial aumenta en ln(10)~ 2.3 entonces la corriente a través del diodo aumentará en un facto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27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0.5V, I=241.62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5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2 (corrientes pequeñ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60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miento curva:-120 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=120mV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4.8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/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.4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n(10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 aumenta en factor 1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98560" y="3886200"/>
            <a:ext cx="3444840" cy="2209680"/>
            <a:chOff x="898560" y="3886200"/>
            <a:chExt cx="3444840" cy="2209680"/>
          </a:xfrm>
        </p:grpSpPr>
        <p:pic>
          <p:nvPicPr>
            <p:cNvPr id="992" name="" descr=""/>
            <p:cNvPicPr/>
            <p:nvPr/>
          </p:nvPicPr>
          <p:blipFill>
            <a:blip r:embed="rId1"/>
            <a:stretch/>
          </p:blipFill>
          <p:spPr>
            <a:xfrm>
              <a:off x="898560" y="3886200"/>
              <a:ext cx="34448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1660680" y="3908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2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808520" y="3863880"/>
            <a:ext cx="3421080" cy="2232000"/>
            <a:chOff x="4808520" y="3863880"/>
            <a:chExt cx="3421080" cy="2232000"/>
          </a:xfrm>
        </p:grpSpPr>
        <p:pic>
          <p:nvPicPr>
            <p:cNvPr id="995" name="" descr=""/>
            <p:cNvPicPr/>
            <p:nvPr/>
          </p:nvPicPr>
          <p:blipFill>
            <a:blip r:embed="rId2"/>
            <a:stretch/>
          </p:blipFill>
          <p:spPr>
            <a:xfrm>
              <a:off x="4808520" y="3863880"/>
              <a:ext cx="34210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8000" y="388584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8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blema retroalimentado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hermal runaway: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..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ace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 quede en la resistencia provocando un aumento lineal de la corriente y no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Equival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Estát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álida sólo para el punto de operación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l punto de operación, permite análisis en la vecin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luye efectos capacitivos de las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4691160" y="2590920"/>
                <a:ext cx="3843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496880" y="2560680"/>
                <a:ext cx="2237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externa sobre jun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r barrera de pot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fácil” conducción (Baja impedancia para voltajes superiores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ut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vers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Alta impedancia, corriente casi nula (Saturación invers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 Di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 de la temperatura (corrimien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s aumentan en factor 10 para cambios en el argumento de la exponencial de ln(10)~ 2.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l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a electrostática de una juntura p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ducir el efecto de una fuente externa en el equilibrio de una juntura aislada ant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btener la característica estática de un diodo </a:t>
            </a:r>
            <a:br>
              <a:rPr sz="2800"/>
            </a:b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 juntura consideran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fectos de grandes corrient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Potencial de Contac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 particular de dopado no-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Región tipo-p en contacto con región tipo-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n equilibri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“potencial de contacto” (Built-In)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juntu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1676520"/>
            <a:ext cx="2590560" cy="1671120"/>
            <a:chOff x="6172200" y="1676520"/>
            <a:chExt cx="2590560" cy="1671120"/>
          </a:xfrm>
        </p:grpSpPr>
        <p:sp>
          <p:nvSpPr>
            <p:cNvPr id="97" name=""/>
            <p:cNvSpPr/>
            <p:nvPr/>
          </p:nvSpPr>
          <p:spPr>
            <a:xfrm>
              <a:off x="631188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256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6216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248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244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23560" y="2475720"/>
              <a:ext cx="908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9232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64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560" y="16765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440" y="16765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2640" y="2475720"/>
              <a:ext cx="90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8600" y="3591000"/>
                <a:ext cx="2924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1880" y="3591000"/>
                <a:ext cx="273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79720" y="4429080"/>
                <a:ext cx="477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⇔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348080" y="5257800"/>
                <a:ext cx="2351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5410080"/>
                <a:ext cx="2212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440" y="1981080"/>
            <a:ext cx="7705800" cy="2293920"/>
            <a:chOff x="685440" y="1981080"/>
            <a:chExt cx="7705800" cy="2293920"/>
          </a:xfrm>
        </p:grpSpPr>
        <p:sp>
          <p:nvSpPr>
            <p:cNvPr id="116" name=""/>
            <p:cNvSpPr/>
            <p:nvPr/>
          </p:nvSpPr>
          <p:spPr>
            <a:xfrm flipH="1" rot="5400000">
              <a:off x="153828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243360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7280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7748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06840" y="1984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2824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8040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706840" y="24210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754280" y="214776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0900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329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809000" y="2421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5400000">
              <a:off x="153756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5400000">
              <a:off x="243288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7280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7280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7748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7748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706840" y="28494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2968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804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06840" y="3286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54280" y="3013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80900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329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0900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706840" y="3724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92824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480400" y="39434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706840" y="416088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754280" y="3889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80900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0329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09000" y="416232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67040" y="214776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767040" y="3889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767040" y="301320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6236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6236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6236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5400000">
              <a:off x="4222080" y="2582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9352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71744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26816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3520" y="242100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5400000">
              <a:off x="4221000" y="3448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37000" y="30132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9352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71744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6816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9352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9352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17440" y="394344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26816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493520" y="416088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5400000">
              <a:off x="3329640" y="2581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44920" y="214776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00360" y="1984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2500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775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00360" y="24210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3328920" y="3448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600360" y="2849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250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3775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600360" y="3286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600360" y="3724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2500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775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00360" y="416232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09904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400000">
              <a:off x="599436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43356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53824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210360" y="21528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67600" y="19875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489000" y="220680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04116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267600" y="242424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15040" y="21528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6976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5936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45840" y="22068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69760" y="2425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5400000">
              <a:off x="509832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5400000">
              <a:off x="599364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3356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3356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3824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53824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267600" y="28526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904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0411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267600" y="3289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1504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6976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936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458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36976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10360" y="389268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267600" y="37274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8900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4116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67600" y="416412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15040" y="389268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976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5936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45840" y="39466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69760" y="4165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11040" y="3726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327800" y="21528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7800" y="38926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327800" y="301608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92200" y="24289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00640" y="30272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7782840" y="258588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98840" y="215280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05428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27820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82892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54280" y="242424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5400000">
              <a:off x="7781760" y="345204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997760" y="301608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05428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27820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2892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5428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05428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27820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82892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54280" y="416412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779600" y="24890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6890400" y="258480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105680" y="21528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61120" y="1987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38576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9382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161120" y="24256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6889680" y="345132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161120" y="285264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857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382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1120" y="3289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105680" y="389268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161120" y="3727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38576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9382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161120" y="4165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49280" y="279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107120" y="30272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433040" y="212724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652120" y="389736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4636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52120" y="213516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419000" y="389556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5400000">
              <a:off x="637920" y="2579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07784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80400" y="2200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09720" y="1981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31120" y="220032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5080" y="2200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09720" y="24192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5400000">
              <a:off x="636840" y="3445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784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07784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8040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3920" y="300996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909720" y="28465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31120" y="3065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8508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9720" y="3282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580400" y="3940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53920" y="388620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909720" y="372096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131120" y="39402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5080" y="3940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909720" y="4159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645640" y="301140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45280" y="214164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09640" y="391176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531600" y="388944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867280" y="16002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495680"/>
            <a:ext cx="563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= 0 : izquierda tipo P, derecha tipo N. (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~ 2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sta región presenta un campo eléctrico que provoca una deriva en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l sentido contrario a la difusión: se alcanza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mienza proceso de Di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334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provoca recombinación y se crea una región “sin portadores libr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85440" y="2166840"/>
            <a:ext cx="7705800" cy="2293920"/>
            <a:chOff x="685440" y="2166840"/>
            <a:chExt cx="7705800" cy="2293920"/>
          </a:xfrm>
        </p:grpSpPr>
        <p:sp>
          <p:nvSpPr>
            <p:cNvPr id="303" name=""/>
            <p:cNvSpPr/>
            <p:nvPr/>
          </p:nvSpPr>
          <p:spPr>
            <a:xfrm flipH="1" rot="5400000">
              <a:off x="153828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5400000">
              <a:off x="243360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7280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7748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06840" y="2170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2824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8040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06840" y="26067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754280" y="233352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80900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329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09000" y="2606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5400000">
              <a:off x="153756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5400000">
              <a:off x="243288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7280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87280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7748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7748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706840" y="30351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2968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4804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706840" y="34718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54280" y="31989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80900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0329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80900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706840" y="39099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92824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480400" y="4129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706840" y="434664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754280" y="4075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0900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329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809000" y="434808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67040" y="233352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767040" y="4075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767040" y="3198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66236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66236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6236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5400000">
              <a:off x="4222080" y="276840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352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1744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26816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93520" y="260676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5400000">
              <a:off x="4221000" y="363456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437000" y="31989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352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71744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816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9352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352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717440" y="412920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26816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493520" y="434664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5400000">
              <a:off x="3329640" y="276732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544920" y="233352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600360" y="2170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82500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75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0360" y="26067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5400000">
              <a:off x="3328920" y="363384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00360" y="303516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250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775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0360" y="34718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600360" y="39099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82500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3775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600360" y="434808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509904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00000">
              <a:off x="599436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43356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53824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210360" y="233856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267600" y="2173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489000" y="239256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04116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267600" y="261000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315040" y="23385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976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5936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145840" y="23925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9760" y="2611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5400000">
              <a:off x="509832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99364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356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43356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53824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3824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267600" y="30384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4904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411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67600" y="3475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31504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36976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936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1458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36976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210360" y="40784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67600" y="3913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48900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04116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267600" y="434988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15040" y="4078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36976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5936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145840" y="413244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369760" y="4351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11040" y="3911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327800" y="23385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327800" y="4078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327800" y="320184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992200" y="26146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00640" y="321300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5400000">
              <a:off x="7782840" y="2771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98840" y="233856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05428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27820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82892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054280" y="261000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5400000">
              <a:off x="7781760" y="3637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997760" y="320184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05428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27820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2892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5428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05428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27820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2892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054280" y="434988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779600" y="26748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5400000">
              <a:off x="6890400" y="2770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105680" y="23385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1120" y="2173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38576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9382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61120" y="2611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rot="5400000">
              <a:off x="6889680" y="3637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1120" y="3038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857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382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161120" y="3475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05680" y="407844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161120" y="3913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8576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9382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161120" y="4351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49280" y="298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107120" y="32130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433040" y="231300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652120" y="408312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4636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652120" y="232092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19000" y="408132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5400000">
              <a:off x="637920" y="276480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07784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580400" y="23860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909720" y="2166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131120" y="23860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85080" y="23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909720" y="26049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00000">
              <a:off x="636840" y="363132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07784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07784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8040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3920" y="319572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909720" y="30322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131120" y="32511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8508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09720" y="34686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80400" y="41259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53920" y="407196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909720" y="390672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131120" y="41259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5080" y="4125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909720" y="4344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645640" y="319716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45280" y="232740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8009640" y="409752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531600" y="407520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54100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&gt;  max(tA, tN) Implica Barrera de Potencial y Deriva de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94600" y="2378160"/>
            <a:ext cx="347400" cy="331200"/>
            <a:chOff x="4494600" y="2378160"/>
            <a:chExt cx="347400" cy="331200"/>
          </a:xfrm>
        </p:grpSpPr>
        <p:sp>
          <p:nvSpPr>
            <p:cNvPr id="487" name=""/>
            <p:cNvSpPr/>
            <p:nvPr/>
          </p:nvSpPr>
          <p:spPr>
            <a:xfrm flipH="1">
              <a:off x="4701600" y="237816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494600" y="26013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08280" y="3035160"/>
            <a:ext cx="785520" cy="328320"/>
            <a:chOff x="2708280" y="3035160"/>
            <a:chExt cx="785520" cy="328320"/>
          </a:xfrm>
        </p:grpSpPr>
        <p:sp>
          <p:nvSpPr>
            <p:cNvPr id="490" name=""/>
            <p:cNvSpPr/>
            <p:nvPr/>
          </p:nvSpPr>
          <p:spPr>
            <a:xfrm flipH="1">
              <a:off x="2708280" y="30351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380760" y="325548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367760" y="2612880"/>
            <a:ext cx="593280" cy="295200"/>
            <a:chOff x="7367760" y="2612880"/>
            <a:chExt cx="593280" cy="295200"/>
          </a:xfrm>
        </p:grpSpPr>
        <p:sp>
          <p:nvSpPr>
            <p:cNvPr id="493" name=""/>
            <p:cNvSpPr/>
            <p:nvPr/>
          </p:nvSpPr>
          <p:spPr>
            <a:xfrm flipH="1">
              <a:off x="7367760" y="2799360"/>
              <a:ext cx="111600" cy="10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686000" y="2612880"/>
              <a:ext cx="275040" cy="24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94720" y="3727440"/>
            <a:ext cx="798120" cy="318240"/>
            <a:chOff x="5994720" y="3727440"/>
            <a:chExt cx="798120" cy="318240"/>
          </a:xfrm>
        </p:grpSpPr>
        <p:sp>
          <p:nvSpPr>
            <p:cNvPr id="496" name=""/>
            <p:cNvSpPr/>
            <p:nvPr/>
          </p:nvSpPr>
          <p:spPr>
            <a:xfrm flipH="1" flipV="1">
              <a:off x="5994720" y="3727440"/>
              <a:ext cx="111600" cy="10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518520" y="3799440"/>
              <a:ext cx="27432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994360" y="2908440"/>
            <a:ext cx="934560" cy="247680"/>
            <a:chOff x="5994360" y="2908440"/>
            <a:chExt cx="934560" cy="247680"/>
          </a:xfrm>
        </p:grpSpPr>
        <p:sp>
          <p:nvSpPr>
            <p:cNvPr id="499" name=""/>
            <p:cNvSpPr/>
            <p:nvPr/>
          </p:nvSpPr>
          <p:spPr>
            <a:xfrm flipH="1" flipV="1">
              <a:off x="5994000" y="29858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654600" y="2908440"/>
              <a:ext cx="274320" cy="24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582160" y="2590920"/>
            <a:ext cx="591480" cy="293400"/>
            <a:chOff x="5582160" y="2590920"/>
            <a:chExt cx="591480" cy="293400"/>
          </a:xfrm>
        </p:grpSpPr>
        <p:sp>
          <p:nvSpPr>
            <p:cNvPr id="502" name=""/>
            <p:cNvSpPr/>
            <p:nvPr/>
          </p:nvSpPr>
          <p:spPr>
            <a:xfrm flipH="1">
              <a:off x="5581800" y="277632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99320" y="2590920"/>
              <a:ext cx="274320" cy="24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713480" y="3911760"/>
            <a:ext cx="772920" cy="321840"/>
            <a:chOff x="4713480" y="3911760"/>
            <a:chExt cx="772920" cy="321840"/>
          </a:xfrm>
        </p:grpSpPr>
        <p:sp>
          <p:nvSpPr>
            <p:cNvPr id="505" name=""/>
            <p:cNvSpPr/>
            <p:nvPr/>
          </p:nvSpPr>
          <p:spPr>
            <a:xfrm flipH="1">
              <a:off x="5354640" y="3911760"/>
              <a:ext cx="131760" cy="1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713480" y="412524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906480" y="2612880"/>
            <a:ext cx="1018800" cy="533160"/>
            <a:chOff x="906480" y="2612880"/>
            <a:chExt cx="1018800" cy="533160"/>
          </a:xfrm>
        </p:grpSpPr>
        <p:sp>
          <p:nvSpPr>
            <p:cNvPr id="508" name=""/>
            <p:cNvSpPr/>
            <p:nvPr/>
          </p:nvSpPr>
          <p:spPr>
            <a:xfrm flipH="1">
              <a:off x="9064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01440" y="3035160"/>
              <a:ext cx="12348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714920" y="2378160"/>
            <a:ext cx="1072800" cy="582120"/>
            <a:chOff x="4714920" y="2378160"/>
            <a:chExt cx="1072800" cy="582120"/>
          </a:xfrm>
        </p:grpSpPr>
        <p:sp>
          <p:nvSpPr>
            <p:cNvPr id="511" name=""/>
            <p:cNvSpPr/>
            <p:nvPr/>
          </p:nvSpPr>
          <p:spPr>
            <a:xfrm flipH="1">
              <a:off x="4714560" y="2378160"/>
              <a:ext cx="1400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57320" y="2737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346720" y="3664080"/>
            <a:ext cx="826560" cy="374040"/>
            <a:chOff x="5346720" y="3664080"/>
            <a:chExt cx="826560" cy="374040"/>
          </a:xfrm>
        </p:grpSpPr>
        <p:sp>
          <p:nvSpPr>
            <p:cNvPr id="514" name=""/>
            <p:cNvSpPr/>
            <p:nvPr/>
          </p:nvSpPr>
          <p:spPr>
            <a:xfrm flipH="1">
              <a:off x="5346360" y="3911760"/>
              <a:ext cx="14004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942880" y="366408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26160" y="2860560"/>
            <a:ext cx="1347120" cy="285840"/>
            <a:chOff x="4826160" y="2860560"/>
            <a:chExt cx="1347120" cy="285840"/>
          </a:xfrm>
        </p:grpSpPr>
        <p:sp>
          <p:nvSpPr>
            <p:cNvPr id="517" name=""/>
            <p:cNvSpPr/>
            <p:nvPr/>
          </p:nvSpPr>
          <p:spPr>
            <a:xfrm flipH="1">
              <a:off x="4825800" y="2860560"/>
              <a:ext cx="11124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42880" y="2922480"/>
              <a:ext cx="230040" cy="22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543720" y="2736720"/>
            <a:ext cx="1030320" cy="355320"/>
            <a:chOff x="6543720" y="2736720"/>
            <a:chExt cx="1030320" cy="355320"/>
          </a:xfrm>
        </p:grpSpPr>
        <p:sp>
          <p:nvSpPr>
            <p:cNvPr id="520" name=""/>
            <p:cNvSpPr/>
            <p:nvPr/>
          </p:nvSpPr>
          <p:spPr>
            <a:xfrm flipH="1">
              <a:off x="6543720" y="298404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43640" y="273672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81480" y="3254400"/>
            <a:ext cx="331200" cy="764640"/>
            <a:chOff x="3381480" y="3254400"/>
            <a:chExt cx="331200" cy="764640"/>
          </a:xfrm>
        </p:grpSpPr>
        <p:sp>
          <p:nvSpPr>
            <p:cNvPr id="523" name=""/>
            <p:cNvSpPr/>
            <p:nvPr/>
          </p:nvSpPr>
          <p:spPr>
            <a:xfrm flipH="1">
              <a:off x="3381480" y="32544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599640" y="3911040"/>
              <a:ext cx="1130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14760" y="2602080"/>
            <a:ext cx="1004760" cy="540720"/>
            <a:chOff x="1814760" y="2602080"/>
            <a:chExt cx="1004760" cy="540720"/>
          </a:xfrm>
        </p:grpSpPr>
        <p:sp>
          <p:nvSpPr>
            <p:cNvPr id="526" name=""/>
            <p:cNvSpPr/>
            <p:nvPr/>
          </p:nvSpPr>
          <p:spPr>
            <a:xfrm flipH="1">
              <a:off x="1814760" y="30348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706480" y="2602080"/>
              <a:ext cx="11268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62440" y="2800440"/>
            <a:ext cx="1142640" cy="231840"/>
            <a:chOff x="3862440" y="2800440"/>
            <a:chExt cx="1142640" cy="231840"/>
          </a:xfrm>
        </p:grpSpPr>
        <p:sp>
          <p:nvSpPr>
            <p:cNvPr id="529" name=""/>
            <p:cNvSpPr/>
            <p:nvPr/>
          </p:nvSpPr>
          <p:spPr>
            <a:xfrm flipH="1">
              <a:off x="3862440" y="292392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774680" y="2800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720040" y="2922480"/>
            <a:ext cx="1004760" cy="974520"/>
            <a:chOff x="5720040" y="2922480"/>
            <a:chExt cx="1004760" cy="974520"/>
          </a:xfrm>
        </p:grpSpPr>
        <p:sp>
          <p:nvSpPr>
            <p:cNvPr id="532" name=""/>
            <p:cNvSpPr/>
            <p:nvPr/>
          </p:nvSpPr>
          <p:spPr>
            <a:xfrm flipH="1">
              <a:off x="5720040" y="37890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94400" y="292248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3880" y="2612880"/>
            <a:ext cx="1349280" cy="471240"/>
            <a:chOff x="2693880" y="2612880"/>
            <a:chExt cx="1349280" cy="471240"/>
          </a:xfrm>
        </p:grpSpPr>
        <p:sp>
          <p:nvSpPr>
            <p:cNvPr id="535" name=""/>
            <p:cNvSpPr/>
            <p:nvPr/>
          </p:nvSpPr>
          <p:spPr>
            <a:xfrm flipH="1">
              <a:off x="26938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812760" y="286092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87760" y="3468600"/>
            <a:ext cx="1017360" cy="550440"/>
            <a:chOff x="3587760" y="3468600"/>
            <a:chExt cx="1017360" cy="550440"/>
          </a:xfrm>
        </p:grpSpPr>
        <p:sp>
          <p:nvSpPr>
            <p:cNvPr id="538" name=""/>
            <p:cNvSpPr/>
            <p:nvPr/>
          </p:nvSpPr>
          <p:spPr>
            <a:xfrm flipH="1">
              <a:off x="3587760" y="3911400"/>
              <a:ext cx="1116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464720" y="346860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466160" y="3468600"/>
            <a:ext cx="1433160" cy="479160"/>
            <a:chOff x="4466160" y="3468600"/>
            <a:chExt cx="1433160" cy="479160"/>
          </a:xfrm>
        </p:grpSpPr>
        <p:sp>
          <p:nvSpPr>
            <p:cNvPr id="541" name=""/>
            <p:cNvSpPr/>
            <p:nvPr/>
          </p:nvSpPr>
          <p:spPr>
            <a:xfrm flipH="1">
              <a:off x="5668920" y="3726000"/>
              <a:ext cx="230400" cy="22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465800" y="3468600"/>
              <a:ext cx="14004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5029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 0 Implica Difusión de port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5791320"/>
            <a:ext cx="693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quilibrio se alcanza entre las corrientes de Difusión y de Deriva: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Notar qu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, debido a que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17859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324480" y="170964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14800" y="46483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60548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178596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438280" y="4300560"/>
            <a:ext cx="5948640" cy="901440"/>
            <a:chOff x="2438280" y="4300560"/>
            <a:chExt cx="5948640" cy="901440"/>
          </a:xfrm>
        </p:grpSpPr>
        <p:sp>
          <p:nvSpPr>
            <p:cNvPr id="551" name=""/>
            <p:cNvSpPr/>
            <p:nvPr/>
          </p:nvSpPr>
          <p:spPr>
            <a:xfrm>
              <a:off x="7696080" y="437688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8280" y="430056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15238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814320" y="1676520"/>
            <a:ext cx="39211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7200" y="5105520"/>
            <a:ext cx="4800600" cy="825480"/>
            <a:chOff x="457200" y="5105520"/>
            <a:chExt cx="4800600" cy="825480"/>
          </a:xfrm>
        </p:grpSpPr>
        <p:sp>
          <p:nvSpPr>
            <p:cNvPr id="557" name=""/>
            <p:cNvSpPr/>
            <p:nvPr/>
          </p:nvSpPr>
          <p:spPr>
            <a:xfrm>
              <a:off x="2057400" y="5129280"/>
              <a:ext cx="13716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86080" y="51498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51814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90720" y="5562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67040" y="5133960"/>
              <a:ext cx="163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5562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57200" y="5867280"/>
            <a:ext cx="4800600" cy="457200"/>
            <a:chOff x="457200" y="5867280"/>
            <a:chExt cx="4800600" cy="457200"/>
          </a:xfrm>
        </p:grpSpPr>
        <p:sp>
          <p:nvSpPr>
            <p:cNvPr id="565" name=""/>
            <p:cNvSpPr/>
            <p:nvPr/>
          </p:nvSpPr>
          <p:spPr>
            <a:xfrm flipH="1">
              <a:off x="2056680" y="5883120"/>
              <a:ext cx="11430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2480" y="5867280"/>
              <a:ext cx="1635120" cy="3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3960" y="5904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4080" y="59436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= q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90720" y="6324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57200" y="4191120"/>
            <a:ext cx="4800600" cy="685800"/>
            <a:chOff x="457200" y="4191120"/>
            <a:chExt cx="4800600" cy="685800"/>
          </a:xfrm>
        </p:grpSpPr>
        <p:sp>
          <p:nvSpPr>
            <p:cNvPr id="572" name=""/>
            <p:cNvSpPr/>
            <p:nvPr/>
          </p:nvSpPr>
          <p:spPr>
            <a:xfrm>
              <a:off x="990720" y="4419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00600" y="4419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9680" y="4419720"/>
              <a:ext cx="63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846160" y="4420080"/>
              <a:ext cx="3290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320040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 , pues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200" y="3124080"/>
            <a:ext cx="4800600" cy="1074960"/>
            <a:chOff x="457200" y="3124080"/>
            <a:chExt cx="4800600" cy="1074960"/>
          </a:xfrm>
        </p:grpSpPr>
        <p:sp>
          <p:nvSpPr>
            <p:cNvPr id="579" name=""/>
            <p:cNvSpPr/>
            <p:nvPr/>
          </p:nvSpPr>
          <p:spPr>
            <a:xfrm>
              <a:off x="990720" y="3807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200" y="3425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37306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7680" y="331956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95440" y="3657600"/>
              <a:ext cx="2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647720" y="3476520"/>
                  <a:ext cx="533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243240" y="3476520"/>
                  <a:ext cx="3286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86" name=""/>
            <p:cNvGrpSpPr/>
            <p:nvPr/>
          </p:nvGrpSpPr>
          <p:grpSpPr>
            <a:xfrm>
              <a:off x="2209680" y="3809520"/>
              <a:ext cx="634680" cy="305280"/>
              <a:chOff x="2209680" y="3809520"/>
              <a:chExt cx="634680" cy="305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209680" y="3809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09680" y="411480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2844360" y="3809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43280" y="3196080"/>
              <a:ext cx="328680" cy="606240"/>
              <a:chOff x="2843280" y="3196080"/>
              <a:chExt cx="328680" cy="60624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2843280" y="319608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3280" y="3196080"/>
                <a:ext cx="3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71960" y="319644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200400" y="3124080"/>
                  <a:ext cx="492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523880" y="3886200"/>
                  <a:ext cx="6573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"/>
          <p:cNvSpPr/>
          <p:nvPr/>
        </p:nvSpPr>
        <p:spPr>
          <a:xfrm>
            <a:off x="5181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943600" y="4114800"/>
                <a:ext cx="1676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019920" y="5127480"/>
                <a:ext cx="1676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51814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eutralidad de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5680" y="2666880"/>
                <a:ext cx="1928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H="1">
            <a:off x="2847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171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area 1.1: Demuestre que para una juntura pn abrupt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09480" y="2581200"/>
                <a:ext cx="74376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838080" y="3429000"/>
                <a:ext cx="441972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530680" y="3798720"/>
                <a:ext cx="2273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533520" y="5562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Recuerde que la barrera de potencial en una juntura abrupta esta dada por el potencial de contacto o built-in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, además, que el medio es lineal, isotrópico y homogéneo con una permitividad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5181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ond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s la diferencia de potencial existente en la juntur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so de interé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untura con dopado altamente asimétrico ( p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diodos de jun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Transistores Bipola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l control de la electrostática pertenece al lado menos dop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W~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/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|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| ~ 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129360" y="4332240"/>
                <a:ext cx="2031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870520" y="3265560"/>
                <a:ext cx="2589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W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705720" y="2666880"/>
                <a:ext cx="1174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20:41:59Z</dcterms:modified>
  <cp:revision>790</cp:revision>
  <dc:subject>Características Estáticas de los Diodos de Juntura</dc:subject>
  <dc:title>Clase 2</dc:title>
</cp:coreProperties>
</file>