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0A7FA-E49F-4B3F-94E6-DE67173B8B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3CDE2-E9BA-4807-901A-7756AC0915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F6529-6C95-4F45-8E3E-22FB649E90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F25EE-4F23-4D28-BF11-4A7837EC0D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8D55-CC35-4E6F-8F35-F338A0E2C8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4E3F-D283-4498-9F66-2635D1D9402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767E-6EB2-4B13-87C1-606D5737FCC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B933-369B-4164-8487-CBB84F2A140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CD5D-D1FF-48DC-B16E-05E34349E4A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743E-84C5-43B7-BB7D-F60D987C9CF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C455-2DF7-4682-9D66-11D99BB612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2D9BF-4B29-41FB-9105-8E9542448B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946B-AD81-4462-942D-8B609EF09EC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DC8F-DCBD-479B-BEEE-B7D7B2854EB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2280-A0C4-41B9-AB62-2ED719EC2FE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74AE-56D3-4382-B586-7629C56185C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46D0-8CC1-4025-8FD2-7861AA537C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FF684-F57A-41A7-A0B7-4E971DA922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C7BA3-B0E9-46F6-B0C3-D8395AC198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C8DA1-324B-4240-95D3-6880ED3B6B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7A4A7-6F53-43D4-82DA-3ADD3E9B69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AD721-ACCF-4C44-A88C-BC6E34E1F5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49D1E-DBA3-4F4D-9E35-44E9EE1940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8133F-EA59-4173-8395-46701FDD9C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3A7BF-137C-4180-A150-8A8EDF8B9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A0BBF-39B9-4440-9FDD-E1BBF7EDB1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Juntura pn bajo Polarización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¿Equilibrio de una juntura pn con voltaje externo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85800" y="2133720"/>
            <a:ext cx="5105520" cy="36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Caídas de tensión 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Contactos óhm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Cuerpo” semicondu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Región de agot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Contactos óhmic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No-rectificadores: mantienen potencial independiente del sentido y magnitud de la corr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Corrientes bajas </a:t>
            </a:r>
            <a:r>
              <a:rPr b="0" i="1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 caídas de voltaje en el cuerpo son desprec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8" name=""/>
              <p:cNvSpPr txBox="1"/>
              <p:nvPr/>
            </p:nvSpPr>
            <p:spPr>
              <a:xfrm>
                <a:off x="2133720" y="5943600"/>
                <a:ext cx="16556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≈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V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619" name=""/>
          <p:cNvGrpSpPr/>
          <p:nvPr/>
        </p:nvGrpSpPr>
        <p:grpSpPr>
          <a:xfrm>
            <a:off x="4724280" y="2514600"/>
            <a:ext cx="4165200" cy="2556720"/>
            <a:chOff x="4724280" y="2514600"/>
            <a:chExt cx="4165200" cy="2556720"/>
          </a:xfrm>
        </p:grpSpPr>
        <p:grpSp>
          <p:nvGrpSpPr>
            <p:cNvPr id="620" name=""/>
            <p:cNvGrpSpPr/>
            <p:nvPr/>
          </p:nvGrpSpPr>
          <p:grpSpPr>
            <a:xfrm>
              <a:off x="4724280" y="2514600"/>
              <a:ext cx="4165200" cy="2556720"/>
              <a:chOff x="4724280" y="2514600"/>
              <a:chExt cx="4165200" cy="2556720"/>
            </a:xfrm>
          </p:grpSpPr>
          <p:grpSp>
            <p:nvGrpSpPr>
              <p:cNvPr id="621" name=""/>
              <p:cNvGrpSpPr/>
              <p:nvPr/>
            </p:nvGrpSpPr>
            <p:grpSpPr>
              <a:xfrm>
                <a:off x="5973840" y="3180240"/>
                <a:ext cx="2572560" cy="443880"/>
                <a:chOff x="5973840" y="3180240"/>
                <a:chExt cx="2572560" cy="443880"/>
              </a:xfrm>
            </p:grpSpPr>
            <p:sp>
              <p:nvSpPr>
                <p:cNvPr id="622" name=""/>
                <p:cNvSpPr/>
                <p:nvPr/>
              </p:nvSpPr>
              <p:spPr>
                <a:xfrm>
                  <a:off x="6128640" y="3180240"/>
                  <a:ext cx="1131480" cy="44388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MX" sz="1800" spc="-1" strike="noStrike">
                      <a:solidFill>
                        <a:srgbClr val="000000"/>
                      </a:solidFill>
                      <a:latin typeface="Times New Roman"/>
                    </a:rPr>
                    <a:t>   </a:t>
                  </a:r>
                  <a:r>
                    <a:rPr b="0" i="1" lang="es-MX" sz="18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7260480" y="3180240"/>
                  <a:ext cx="1131120" cy="443880"/>
                </a:xfrm>
                <a:prstGeom prst="rect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MX" sz="1800" spc="-1" strike="noStrike">
                      <a:solidFill>
                        <a:srgbClr val="000000"/>
                      </a:solidFill>
                      <a:latin typeface="Times New Roman"/>
                    </a:rPr>
                    <a:t>         </a:t>
                  </a:r>
                  <a:r>
                    <a:rPr b="0" i="1" lang="es-MX" sz="18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5973840" y="3180240"/>
                  <a:ext cx="154800" cy="443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8391600" y="3180240"/>
                  <a:ext cx="154800" cy="443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6" name=""/>
              <p:cNvSpPr/>
              <p:nvPr/>
            </p:nvSpPr>
            <p:spPr>
              <a:xfrm>
                <a:off x="7044480" y="3180240"/>
                <a:ext cx="220320" cy="44388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223760" y="3180240"/>
                <a:ext cx="441000" cy="44388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003080" y="3032640"/>
                <a:ext cx="66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782400" y="2662560"/>
                <a:ext cx="1249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Agotamient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724280" y="2662560"/>
                <a:ext cx="1249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Contact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165280" y="2958480"/>
                <a:ext cx="808200" cy="370080"/>
              </a:xfrm>
              <a:custGeom>
                <a:avLst/>
                <a:gdLst/>
                <a:ahLst/>
                <a:rect l="l" t="t" r="r" b="b"/>
                <a:pathLst>
                  <a:path w="528" h="240">
                    <a:moveTo>
                      <a:pt x="0" y="0"/>
                    </a:moveTo>
                    <a:cubicBezTo>
                      <a:pt x="52" y="52"/>
                      <a:pt x="104" y="104"/>
                      <a:pt x="192" y="144"/>
                    </a:cubicBezTo>
                    <a:cubicBezTo>
                      <a:pt x="280" y="184"/>
                      <a:pt x="404" y="212"/>
                      <a:pt x="528" y="24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532480" y="2514600"/>
                <a:ext cx="3357000" cy="739800"/>
              </a:xfrm>
              <a:custGeom>
                <a:avLst/>
                <a:gdLst/>
                <a:ahLst/>
                <a:rect l="l" t="t" r="r" b="b"/>
                <a:pathLst>
                  <a:path w="2192" h="480">
                    <a:moveTo>
                      <a:pt x="0" y="144"/>
                    </a:moveTo>
                    <a:cubicBezTo>
                      <a:pt x="244" y="72"/>
                      <a:pt x="488" y="0"/>
                      <a:pt x="816" y="0"/>
                    </a:cubicBezTo>
                    <a:cubicBezTo>
                      <a:pt x="1144" y="0"/>
                      <a:pt x="1744" y="96"/>
                      <a:pt x="1968" y="144"/>
                    </a:cubicBezTo>
                    <a:cubicBezTo>
                      <a:pt x="2192" y="192"/>
                      <a:pt x="2160" y="232"/>
                      <a:pt x="2160" y="288"/>
                    </a:cubicBezTo>
                    <a:cubicBezTo>
                      <a:pt x="2160" y="344"/>
                      <a:pt x="2064" y="412"/>
                      <a:pt x="1968" y="4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076520" y="4128480"/>
                <a:ext cx="66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782400" y="3698280"/>
                <a:ext cx="12495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i="1" lang="es-MX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j</a:t>
                </a:r>
                <a:r>
                  <a:rPr b="0" i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 =V</a:t>
                </a:r>
                <a:r>
                  <a:rPr b="0" i="1" lang="es-MX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5" name=""/>
              <p:cNvGrpSpPr/>
              <p:nvPr/>
            </p:nvGrpSpPr>
            <p:grpSpPr>
              <a:xfrm>
                <a:off x="5753160" y="4372920"/>
                <a:ext cx="3013560" cy="370440"/>
                <a:chOff x="5753160" y="4372920"/>
                <a:chExt cx="3013560" cy="370440"/>
              </a:xfrm>
            </p:grpSpPr>
            <p:grpSp>
              <p:nvGrpSpPr>
                <p:cNvPr id="636" name=""/>
                <p:cNvGrpSpPr/>
                <p:nvPr/>
              </p:nvGrpSpPr>
              <p:grpSpPr>
                <a:xfrm>
                  <a:off x="7007040" y="4372920"/>
                  <a:ext cx="766080" cy="370440"/>
                  <a:chOff x="7007040" y="4372920"/>
                  <a:chExt cx="766080" cy="370440"/>
                </a:xfrm>
              </p:grpSpPr>
              <p:sp>
                <p:nvSpPr>
                  <p:cNvPr id="637" name=""/>
                  <p:cNvSpPr/>
                  <p:nvPr/>
                </p:nvSpPr>
                <p:spPr>
                  <a:xfrm>
                    <a:off x="7564320" y="4447080"/>
                    <a:ext cx="0" cy="296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7633800" y="4521240"/>
                    <a:ext cx="0" cy="147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>
                    <a:off x="7633800" y="4595400"/>
                    <a:ext cx="139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>
                    <a:off x="7285680" y="4595400"/>
                    <a:ext cx="27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med" type="oval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 flipH="1" flipV="1">
                    <a:off x="7007040" y="4372920"/>
                    <a:ext cx="278280" cy="222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42" name=""/>
                <p:cNvSpPr/>
                <p:nvPr/>
              </p:nvSpPr>
              <p:spPr>
                <a:xfrm>
                  <a:off x="5753160" y="4595040"/>
                  <a:ext cx="118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7721640" y="4595040"/>
                  <a:ext cx="1045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644" name=""/>
              <p:cNvCxnSpPr>
                <a:stCxn id="624" idx="1"/>
                <a:endCxn id="642" idx="0"/>
              </p:cNvCxnSpPr>
              <p:nvPr/>
            </p:nvCxnSpPr>
            <p:spPr>
              <a:xfrm flipV="1" rot="10800000">
                <a:off x="5752440" y="3402000"/>
                <a:ext cx="221040" cy="119376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45" name=""/>
              <p:cNvCxnSpPr>
                <a:stCxn id="625" idx="3"/>
                <a:endCxn id="643" idx="0"/>
              </p:cNvCxnSpPr>
              <p:nvPr/>
            </p:nvCxnSpPr>
            <p:spPr>
              <a:xfrm>
                <a:off x="8546760" y="3402360"/>
                <a:ext cx="221040" cy="1193760"/>
              </a:xfrm>
              <a:prstGeom prst="bentConnector4">
                <a:avLst>
                  <a:gd name="adj1" fmla="val 100000"/>
                  <a:gd name="adj2" fmla="val 37194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646" name=""/>
              <p:cNvSpPr/>
              <p:nvPr/>
            </p:nvSpPr>
            <p:spPr>
              <a:xfrm>
                <a:off x="6929640" y="4734000"/>
                <a:ext cx="1249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47" name=""/>
                <p:cNvSpPr txBox="1"/>
                <p:nvPr/>
              </p:nvSpPr>
              <p:spPr>
                <a:xfrm>
                  <a:off x="5943600" y="2819520"/>
                  <a:ext cx="24300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48" name=""/>
                <p:cNvSpPr txBox="1"/>
                <p:nvPr/>
              </p:nvSpPr>
              <p:spPr>
                <a:xfrm>
                  <a:off x="8358120" y="2819520"/>
                  <a:ext cx="26352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Juntura pn bajo Polarización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¿Equilibrio de una juntura pn con voltaje externo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Comportamient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8600" indent="-156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Cortocircuito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85800" y="5257800"/>
            <a:ext cx="6172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Cas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Polarización directa (forward bias): V &g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Polarización inversa (reverse bias): V &l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429000" y="2209680"/>
                <a:ext cx="16556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≈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V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1670040" y="2971800"/>
                <a:ext cx="171756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666960" y="2971800"/>
                <a:ext cx="183852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V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−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55" name=""/>
          <p:cNvGrpSpPr/>
          <p:nvPr/>
        </p:nvGrpSpPr>
        <p:grpSpPr>
          <a:xfrm>
            <a:off x="5486400" y="2057400"/>
            <a:ext cx="3505320" cy="2159640"/>
            <a:chOff x="5486400" y="2057400"/>
            <a:chExt cx="3505320" cy="2159640"/>
          </a:xfrm>
        </p:grpSpPr>
        <p:grpSp>
          <p:nvGrpSpPr>
            <p:cNvPr id="656" name=""/>
            <p:cNvGrpSpPr/>
            <p:nvPr/>
          </p:nvGrpSpPr>
          <p:grpSpPr>
            <a:xfrm>
              <a:off x="6662880" y="2604960"/>
              <a:ext cx="2053800" cy="363240"/>
              <a:chOff x="6662880" y="2604960"/>
              <a:chExt cx="2053800" cy="363240"/>
            </a:xfrm>
          </p:grpSpPr>
          <p:sp>
            <p:nvSpPr>
              <p:cNvPr id="657" name=""/>
              <p:cNvSpPr/>
              <p:nvPr/>
            </p:nvSpPr>
            <p:spPr>
              <a:xfrm>
                <a:off x="6786360" y="2604960"/>
                <a:ext cx="903600" cy="3632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4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i="1" lang="es-MX" sz="1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7689960" y="2604960"/>
                <a:ext cx="903240" cy="36324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400" spc="-1" strike="noStrike">
                    <a:solidFill>
                      <a:srgbClr val="000000"/>
                    </a:solidFill>
                    <a:latin typeface="Times New Roman"/>
                  </a:rPr>
                  <a:t>         </a:t>
                </a:r>
                <a:r>
                  <a:rPr b="0" i="1" lang="es-MX" sz="1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662880" y="2604960"/>
                <a:ext cx="123480" cy="36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8593200" y="2604960"/>
                <a:ext cx="123480" cy="36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1" name=""/>
            <p:cNvSpPr/>
            <p:nvPr/>
          </p:nvSpPr>
          <p:spPr>
            <a:xfrm>
              <a:off x="7516800" y="2604960"/>
              <a:ext cx="176400" cy="3632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661520" y="2604960"/>
              <a:ext cx="352440" cy="3632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485120" y="2482560"/>
              <a:ext cx="52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086600" y="2179440"/>
              <a:ext cx="137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Agotamien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486400" y="2179440"/>
              <a:ext cx="117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Contact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016680" y="2422440"/>
              <a:ext cx="646200" cy="30276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0"/>
                  </a:moveTo>
                  <a:cubicBezTo>
                    <a:pt x="52" y="52"/>
                    <a:pt x="104" y="104"/>
                    <a:pt x="192" y="144"/>
                  </a:cubicBezTo>
                  <a:cubicBezTo>
                    <a:pt x="280" y="184"/>
                    <a:pt x="404" y="212"/>
                    <a:pt x="528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310440" y="2057400"/>
              <a:ext cx="2681280" cy="607680"/>
            </a:xfrm>
            <a:custGeom>
              <a:avLst/>
              <a:gdLst/>
              <a:ahLst/>
              <a:rect l="l" t="t" r="r" b="b"/>
              <a:pathLst>
                <a:path w="2192" h="480">
                  <a:moveTo>
                    <a:pt x="0" y="144"/>
                  </a:moveTo>
                  <a:cubicBezTo>
                    <a:pt x="244" y="72"/>
                    <a:pt x="488" y="0"/>
                    <a:pt x="816" y="0"/>
                  </a:cubicBezTo>
                  <a:cubicBezTo>
                    <a:pt x="1144" y="0"/>
                    <a:pt x="1744" y="96"/>
                    <a:pt x="1968" y="144"/>
                  </a:cubicBezTo>
                  <a:cubicBezTo>
                    <a:pt x="2192" y="192"/>
                    <a:pt x="2160" y="232"/>
                    <a:pt x="2160" y="288"/>
                  </a:cubicBezTo>
                  <a:cubicBezTo>
                    <a:pt x="2160" y="344"/>
                    <a:pt x="2064" y="412"/>
                    <a:pt x="1968" y="4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543800" y="3382560"/>
              <a:ext cx="52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309080" y="3030120"/>
              <a:ext cx="996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MX" sz="16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 =V</a:t>
              </a:r>
              <a:r>
                <a:rPr b="0" i="1" lang="es-MX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6486480" y="3583800"/>
              <a:ext cx="2406600" cy="303120"/>
              <a:chOff x="6486480" y="3583800"/>
              <a:chExt cx="2406600" cy="303120"/>
            </a:xfrm>
          </p:grpSpPr>
          <p:grpSp>
            <p:nvGrpSpPr>
              <p:cNvPr id="671" name=""/>
              <p:cNvGrpSpPr/>
              <p:nvPr/>
            </p:nvGrpSpPr>
            <p:grpSpPr>
              <a:xfrm>
                <a:off x="7488000" y="3583800"/>
                <a:ext cx="611640" cy="303120"/>
                <a:chOff x="7488000" y="3583800"/>
                <a:chExt cx="611640" cy="303120"/>
              </a:xfrm>
            </p:grpSpPr>
            <p:sp>
              <p:nvSpPr>
                <p:cNvPr id="672" name=""/>
                <p:cNvSpPr/>
                <p:nvPr/>
              </p:nvSpPr>
              <p:spPr>
                <a:xfrm>
                  <a:off x="7932960" y="3644280"/>
                  <a:ext cx="0" cy="24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7988400" y="3705120"/>
                  <a:ext cx="0" cy="120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7988400" y="3765960"/>
                  <a:ext cx="11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7710480" y="3765960"/>
                  <a:ext cx="222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 flipH="1" flipV="1">
                  <a:off x="7488000" y="3583800"/>
                  <a:ext cx="222480" cy="18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7" name=""/>
              <p:cNvSpPr/>
              <p:nvPr/>
            </p:nvSpPr>
            <p:spPr>
              <a:xfrm>
                <a:off x="6486480" y="3765960"/>
                <a:ext cx="945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058600" y="3765960"/>
                <a:ext cx="834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79" name=""/>
            <p:cNvCxnSpPr>
              <a:stCxn id="659" idx="1"/>
              <a:endCxn id="677" idx="0"/>
            </p:cNvCxnSpPr>
            <p:nvPr/>
          </p:nvCxnSpPr>
          <p:spPr>
            <a:xfrm flipV="1" rot="10800000">
              <a:off x="6485760" y="2784600"/>
              <a:ext cx="177120" cy="9817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80" name=""/>
            <p:cNvCxnSpPr>
              <a:stCxn id="660" idx="3"/>
              <a:endCxn id="678" idx="0"/>
            </p:cNvCxnSpPr>
            <p:nvPr/>
          </p:nvCxnSpPr>
          <p:spPr>
            <a:xfrm>
              <a:off x="8717040" y="2785320"/>
              <a:ext cx="177120" cy="981720"/>
            </a:xfrm>
            <a:prstGeom prst="bentConnector4">
              <a:avLst>
                <a:gd name="adj1" fmla="val 100000"/>
                <a:gd name="adj2" fmla="val 37197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81" name=""/>
            <p:cNvSpPr/>
            <p:nvPr/>
          </p:nvSpPr>
          <p:spPr>
            <a:xfrm>
              <a:off x="7426440" y="3879720"/>
              <a:ext cx="99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2" name=""/>
                <p:cNvSpPr txBox="1"/>
                <p:nvPr/>
              </p:nvSpPr>
              <p:spPr>
                <a:xfrm>
                  <a:off x="6637320" y="2307960"/>
                  <a:ext cx="195480" cy="28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83" name=""/>
                <p:cNvSpPr txBox="1"/>
                <p:nvPr/>
              </p:nvSpPr>
              <p:spPr>
                <a:xfrm>
                  <a:off x="8566200" y="2307960"/>
                  <a:ext cx="211320" cy="28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84" name=""/>
          <p:cNvSpPr/>
          <p:nvPr/>
        </p:nvSpPr>
        <p:spPr>
          <a:xfrm>
            <a:off x="685800" y="3438360"/>
            <a:ext cx="815328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¿V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(0)? (cortocircui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Equilibrio Termodinámico. Si existiese corriente </a:t>
            </a:r>
            <a:r>
              <a:rPr b="0" i="1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Contactos se calentarían </a:t>
            </a:r>
            <a:r>
              <a:rPr b="0" i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energía la provee la barra </a:t>
            </a:r>
            <a:r>
              <a:rPr b="0" i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barra se enfría </a:t>
            </a:r>
            <a:r>
              <a:rPr b="0" i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no hay equilibrio </a:t>
            </a:r>
            <a:r>
              <a:rPr b="0" i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Corriente debe ser nula </a:t>
            </a:r>
            <a:r>
              <a:rPr b="0" i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(0) = V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(built-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5" name=""/>
              <p:cNvSpPr txBox="1"/>
              <p:nvPr/>
            </p:nvSpPr>
            <p:spPr>
              <a:xfrm>
                <a:off x="4129200" y="4950000"/>
                <a:ext cx="131292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V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Juntura pn bajo Polarización Direct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52280" y="198072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Fuente externa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¿Características del equilibrio?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4419720" y="1600200"/>
            <a:ext cx="4317840" cy="2623320"/>
            <a:chOff x="4419720" y="1600200"/>
            <a:chExt cx="4317840" cy="2623320"/>
          </a:xfrm>
        </p:grpSpPr>
        <p:grpSp>
          <p:nvGrpSpPr>
            <p:cNvPr id="689" name=""/>
            <p:cNvGrpSpPr/>
            <p:nvPr/>
          </p:nvGrpSpPr>
          <p:grpSpPr>
            <a:xfrm>
              <a:off x="5715000" y="2286000"/>
              <a:ext cx="2667240" cy="457200"/>
              <a:chOff x="5715000" y="2286000"/>
              <a:chExt cx="2667240" cy="457200"/>
            </a:xfrm>
          </p:grpSpPr>
          <p:sp>
            <p:nvSpPr>
              <p:cNvPr id="690" name=""/>
              <p:cNvSpPr/>
              <p:nvPr/>
            </p:nvSpPr>
            <p:spPr>
              <a:xfrm>
                <a:off x="5875560" y="2286000"/>
                <a:ext cx="1173240" cy="4572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048800" y="2286000"/>
                <a:ext cx="1172880" cy="4572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         </a:t>
                </a: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715000" y="2286000"/>
                <a:ext cx="16056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221680" y="2286000"/>
                <a:ext cx="16056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4" name=""/>
            <p:cNvSpPr/>
            <p:nvPr/>
          </p:nvSpPr>
          <p:spPr>
            <a:xfrm>
              <a:off x="6824880" y="2286000"/>
              <a:ext cx="228600" cy="457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010640" y="2286000"/>
              <a:ext cx="457200" cy="457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782040" y="2133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553440" y="175284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Agotamien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419720" y="175284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Contact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876920" y="2057400"/>
              <a:ext cx="838080" cy="38124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0"/>
                  </a:moveTo>
                  <a:cubicBezTo>
                    <a:pt x="52" y="52"/>
                    <a:pt x="104" y="104"/>
                    <a:pt x="192" y="144"/>
                  </a:cubicBezTo>
                  <a:cubicBezTo>
                    <a:pt x="280" y="184"/>
                    <a:pt x="404" y="212"/>
                    <a:pt x="528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257800" y="1600200"/>
              <a:ext cx="3479760" cy="762120"/>
            </a:xfrm>
            <a:custGeom>
              <a:avLst/>
              <a:gdLst/>
              <a:ahLst/>
              <a:rect l="l" t="t" r="r" b="b"/>
              <a:pathLst>
                <a:path w="2192" h="480">
                  <a:moveTo>
                    <a:pt x="0" y="144"/>
                  </a:moveTo>
                  <a:cubicBezTo>
                    <a:pt x="244" y="72"/>
                    <a:pt x="488" y="0"/>
                    <a:pt x="816" y="0"/>
                  </a:cubicBezTo>
                  <a:cubicBezTo>
                    <a:pt x="1144" y="0"/>
                    <a:pt x="1744" y="96"/>
                    <a:pt x="1968" y="144"/>
                  </a:cubicBezTo>
                  <a:cubicBezTo>
                    <a:pt x="2192" y="192"/>
                    <a:pt x="2160" y="232"/>
                    <a:pt x="2160" y="288"/>
                  </a:cubicBezTo>
                  <a:cubicBezTo>
                    <a:pt x="2160" y="344"/>
                    <a:pt x="2064" y="412"/>
                    <a:pt x="1968" y="4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858000" y="32623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553440" y="2819520"/>
              <a:ext cx="12952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MX" sz="16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 =V</a:t>
              </a:r>
              <a:r>
                <a:rPr b="0" i="1" lang="es-MX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3" name=""/>
            <p:cNvGrpSpPr/>
            <p:nvPr/>
          </p:nvGrpSpPr>
          <p:grpSpPr>
            <a:xfrm>
              <a:off x="5486400" y="3514320"/>
              <a:ext cx="3124080" cy="381240"/>
              <a:chOff x="5486400" y="3514320"/>
              <a:chExt cx="3124080" cy="381240"/>
            </a:xfrm>
          </p:grpSpPr>
          <p:grpSp>
            <p:nvGrpSpPr>
              <p:cNvPr id="704" name=""/>
              <p:cNvGrpSpPr/>
              <p:nvPr/>
            </p:nvGrpSpPr>
            <p:grpSpPr>
              <a:xfrm>
                <a:off x="6786360" y="3514320"/>
                <a:ext cx="793800" cy="381240"/>
                <a:chOff x="6786360" y="3514320"/>
                <a:chExt cx="793800" cy="381240"/>
              </a:xfrm>
            </p:grpSpPr>
            <p:sp>
              <p:nvSpPr>
                <p:cNvPr id="705" name=""/>
                <p:cNvSpPr/>
                <p:nvPr/>
              </p:nvSpPr>
              <p:spPr>
                <a:xfrm>
                  <a:off x="7363800" y="35906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7435800" y="366696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7435800" y="3743280"/>
                  <a:ext cx="144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7075080" y="3743280"/>
                  <a:ext cx="288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 flipH="1" flipV="1">
                  <a:off x="6786360" y="3514320"/>
                  <a:ext cx="28872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0" name=""/>
              <p:cNvSpPr/>
              <p:nvPr/>
            </p:nvSpPr>
            <p:spPr>
              <a:xfrm>
                <a:off x="5486400" y="3743280"/>
                <a:ext cx="122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527240" y="3743280"/>
                <a:ext cx="1083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712" name=""/>
            <p:cNvCxnSpPr>
              <a:stCxn id="692" idx="1"/>
              <a:endCxn id="710" idx="0"/>
            </p:cNvCxnSpPr>
            <p:nvPr/>
          </p:nvCxnSpPr>
          <p:spPr>
            <a:xfrm flipV="1" rot="10800000">
              <a:off x="5485680" y="2513520"/>
              <a:ext cx="229320" cy="12294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13" name=""/>
            <p:cNvCxnSpPr>
              <a:stCxn id="693" idx="3"/>
              <a:endCxn id="711" idx="0"/>
            </p:cNvCxnSpPr>
            <p:nvPr/>
          </p:nvCxnSpPr>
          <p:spPr>
            <a:xfrm>
              <a:off x="8381880" y="2514240"/>
              <a:ext cx="229320" cy="1229400"/>
            </a:xfrm>
            <a:prstGeom prst="bentConnector4">
              <a:avLst>
                <a:gd name="adj1" fmla="val 100000"/>
                <a:gd name="adj2" fmla="val 37199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14" name=""/>
            <p:cNvSpPr/>
            <p:nvPr/>
          </p:nvSpPr>
          <p:spPr>
            <a:xfrm>
              <a:off x="6705720" y="388620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V &gt;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6705720" y="3490920"/>
            <a:ext cx="380880" cy="252360"/>
            <a:chOff x="6705720" y="3490920"/>
            <a:chExt cx="380880" cy="252360"/>
          </a:xfrm>
        </p:grpSpPr>
        <p:sp>
          <p:nvSpPr>
            <p:cNvPr id="716" name=""/>
            <p:cNvSpPr/>
            <p:nvPr/>
          </p:nvSpPr>
          <p:spPr>
            <a:xfrm>
              <a:off x="6782040" y="3490920"/>
              <a:ext cx="26676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705720" y="3743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6553080" y="2819520"/>
            <a:ext cx="129564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MX" sz="16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 =V</a:t>
            </a:r>
            <a:r>
              <a:rPr b="0" i="1" lang="es-MX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 - 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52280" y="2819520"/>
            <a:ext cx="4572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Al aplicar voltaje V “en direct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52280" y="3200400"/>
            <a:ext cx="457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La mayor parte aparece en la jun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52280" y="4419720"/>
            <a:ext cx="6096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Implica inyección por difusión de portadores minoritarios (comportamiento capacitivo “de difusión”) y la aparición de corrientes import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52280" y="5334120"/>
            <a:ext cx="4953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Implica modulación del ancho de la región de agotamiento: dismin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3" name=""/>
              <p:cNvSpPr txBox="1"/>
              <p:nvPr/>
            </p:nvSpPr>
            <p:spPr>
              <a:xfrm>
                <a:off x="5867280" y="5257800"/>
                <a:ext cx="30942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ε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724" name=""/>
          <p:cNvGrpSpPr/>
          <p:nvPr/>
        </p:nvGrpSpPr>
        <p:grpSpPr>
          <a:xfrm>
            <a:off x="5881680" y="2286000"/>
            <a:ext cx="2328840" cy="457200"/>
            <a:chOff x="5881680" y="2286000"/>
            <a:chExt cx="2328840" cy="457200"/>
          </a:xfrm>
        </p:grpSpPr>
        <p:sp>
          <p:nvSpPr>
            <p:cNvPr id="725" name=""/>
            <p:cNvSpPr/>
            <p:nvPr/>
          </p:nvSpPr>
          <p:spPr>
            <a:xfrm>
              <a:off x="5881680" y="2286000"/>
              <a:ext cx="1086120" cy="457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172280" y="2286000"/>
              <a:ext cx="1038240" cy="4572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7" name=""/>
          <p:cNvGrpSpPr/>
          <p:nvPr/>
        </p:nvGrpSpPr>
        <p:grpSpPr>
          <a:xfrm>
            <a:off x="6705720" y="3200400"/>
            <a:ext cx="914400" cy="152280"/>
            <a:chOff x="6705720" y="3200400"/>
            <a:chExt cx="914400" cy="152280"/>
          </a:xfrm>
        </p:grpSpPr>
        <p:sp>
          <p:nvSpPr>
            <p:cNvPr id="728" name=""/>
            <p:cNvSpPr/>
            <p:nvPr/>
          </p:nvSpPr>
          <p:spPr>
            <a:xfrm>
              <a:off x="6705720" y="3200400"/>
              <a:ext cx="91440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010640" y="32763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6591240" y="2057400"/>
            <a:ext cx="914400" cy="152280"/>
            <a:chOff x="6591240" y="2057400"/>
            <a:chExt cx="914400" cy="152280"/>
          </a:xfrm>
        </p:grpSpPr>
        <p:sp>
          <p:nvSpPr>
            <p:cNvPr id="731" name=""/>
            <p:cNvSpPr/>
            <p:nvPr/>
          </p:nvSpPr>
          <p:spPr>
            <a:xfrm>
              <a:off x="6591240" y="2057400"/>
              <a:ext cx="91440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895800" y="2133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33" name=""/>
              <p:cNvSpPr txBox="1"/>
              <p:nvPr/>
            </p:nvSpPr>
            <p:spPr>
              <a:xfrm>
                <a:off x="6248520" y="4405320"/>
                <a:ext cx="205740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fusión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fusión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34" name=""/>
          <p:cNvSpPr/>
          <p:nvPr/>
        </p:nvSpPr>
        <p:spPr>
          <a:xfrm>
            <a:off x="152280" y="3809880"/>
            <a:ext cx="6096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Se rompe equilibrio Difusión-Deriva: </a:t>
            </a:r>
            <a:br>
              <a:rPr sz="1800"/>
            </a:b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decrece barrera de pote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Juntura pn bajo Polarización Invers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Fuente externa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¿Características del equilibrio?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4419720" y="1828800"/>
            <a:ext cx="4317840" cy="2623320"/>
            <a:chOff x="4419720" y="1828800"/>
            <a:chExt cx="4317840" cy="2623320"/>
          </a:xfrm>
        </p:grpSpPr>
        <p:grpSp>
          <p:nvGrpSpPr>
            <p:cNvPr id="738" name=""/>
            <p:cNvGrpSpPr/>
            <p:nvPr/>
          </p:nvGrpSpPr>
          <p:grpSpPr>
            <a:xfrm>
              <a:off x="5715000" y="2514600"/>
              <a:ext cx="2666880" cy="457200"/>
              <a:chOff x="5715000" y="2514600"/>
              <a:chExt cx="2666880" cy="457200"/>
            </a:xfrm>
          </p:grpSpPr>
          <p:sp>
            <p:nvSpPr>
              <p:cNvPr id="739" name=""/>
              <p:cNvSpPr/>
              <p:nvPr/>
            </p:nvSpPr>
            <p:spPr>
              <a:xfrm>
                <a:off x="5875200" y="2514600"/>
                <a:ext cx="1173240" cy="4572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048440" y="2514600"/>
                <a:ext cx="1173240" cy="4572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               </a:t>
                </a: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715000" y="2514600"/>
                <a:ext cx="1602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8221680" y="2514600"/>
                <a:ext cx="1602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3" name=""/>
            <p:cNvSpPr/>
            <p:nvPr/>
          </p:nvSpPr>
          <p:spPr>
            <a:xfrm>
              <a:off x="6824520" y="2514600"/>
              <a:ext cx="228600" cy="457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010280" y="2514600"/>
              <a:ext cx="457200" cy="457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781680" y="23623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553080" y="1981080"/>
              <a:ext cx="129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Agotamien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419720" y="198108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Contact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876920" y="2286000"/>
              <a:ext cx="838080" cy="38088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0"/>
                  </a:moveTo>
                  <a:cubicBezTo>
                    <a:pt x="52" y="52"/>
                    <a:pt x="104" y="104"/>
                    <a:pt x="192" y="144"/>
                  </a:cubicBezTo>
                  <a:cubicBezTo>
                    <a:pt x="280" y="184"/>
                    <a:pt x="404" y="212"/>
                    <a:pt x="528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257800" y="1828800"/>
              <a:ext cx="3479760" cy="762120"/>
            </a:xfrm>
            <a:custGeom>
              <a:avLst/>
              <a:gdLst/>
              <a:ahLst/>
              <a:rect l="l" t="t" r="r" b="b"/>
              <a:pathLst>
                <a:path w="2192" h="480">
                  <a:moveTo>
                    <a:pt x="0" y="144"/>
                  </a:moveTo>
                  <a:cubicBezTo>
                    <a:pt x="244" y="72"/>
                    <a:pt x="488" y="0"/>
                    <a:pt x="816" y="0"/>
                  </a:cubicBezTo>
                  <a:cubicBezTo>
                    <a:pt x="1144" y="0"/>
                    <a:pt x="1744" y="96"/>
                    <a:pt x="1968" y="144"/>
                  </a:cubicBezTo>
                  <a:cubicBezTo>
                    <a:pt x="2192" y="192"/>
                    <a:pt x="2160" y="232"/>
                    <a:pt x="2160" y="288"/>
                  </a:cubicBezTo>
                  <a:cubicBezTo>
                    <a:pt x="2160" y="344"/>
                    <a:pt x="2064" y="412"/>
                    <a:pt x="1968" y="4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858000" y="34909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553080" y="3048120"/>
              <a:ext cx="1295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MX" sz="16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 =V</a:t>
              </a:r>
              <a:r>
                <a:rPr b="0" i="1" lang="es-MX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2" name=""/>
            <p:cNvGrpSpPr/>
            <p:nvPr/>
          </p:nvGrpSpPr>
          <p:grpSpPr>
            <a:xfrm>
              <a:off x="5486400" y="3742920"/>
              <a:ext cx="3124080" cy="381240"/>
              <a:chOff x="5486400" y="3742920"/>
              <a:chExt cx="3124080" cy="381240"/>
            </a:xfrm>
          </p:grpSpPr>
          <p:grpSp>
            <p:nvGrpSpPr>
              <p:cNvPr id="753" name=""/>
              <p:cNvGrpSpPr/>
              <p:nvPr/>
            </p:nvGrpSpPr>
            <p:grpSpPr>
              <a:xfrm>
                <a:off x="6786720" y="3742920"/>
                <a:ext cx="795240" cy="381240"/>
                <a:chOff x="6786720" y="3742920"/>
                <a:chExt cx="795240" cy="381240"/>
              </a:xfrm>
            </p:grpSpPr>
            <p:sp>
              <p:nvSpPr>
                <p:cNvPr id="754" name=""/>
                <p:cNvSpPr/>
                <p:nvPr/>
              </p:nvSpPr>
              <p:spPr>
                <a:xfrm>
                  <a:off x="7435800" y="3819600"/>
                  <a:ext cx="0" cy="30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7361280" y="389556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7437600" y="3971880"/>
                  <a:ext cx="144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7075440" y="3971880"/>
                  <a:ext cx="289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 flipH="1" flipV="1">
                  <a:off x="6786720" y="3742920"/>
                  <a:ext cx="28872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9" name=""/>
              <p:cNvSpPr/>
              <p:nvPr/>
            </p:nvSpPr>
            <p:spPr>
              <a:xfrm>
                <a:off x="5486400" y="3971880"/>
                <a:ext cx="1228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7526160" y="3971880"/>
                <a:ext cx="1084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761" name=""/>
            <p:cNvCxnSpPr>
              <a:stCxn id="741" idx="1"/>
              <a:endCxn id="759" idx="0"/>
            </p:cNvCxnSpPr>
            <p:nvPr/>
          </p:nvCxnSpPr>
          <p:spPr>
            <a:xfrm flipV="1" rot="10800000">
              <a:off x="5485680" y="2742120"/>
              <a:ext cx="229320" cy="12294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62" name=""/>
            <p:cNvCxnSpPr>
              <a:stCxn id="742" idx="3"/>
              <a:endCxn id="760" idx="0"/>
            </p:cNvCxnSpPr>
            <p:nvPr/>
          </p:nvCxnSpPr>
          <p:spPr>
            <a:xfrm>
              <a:off x="8381520" y="2742840"/>
              <a:ext cx="229320" cy="1229400"/>
            </a:xfrm>
            <a:prstGeom prst="bentConnector4">
              <a:avLst>
                <a:gd name="adj1" fmla="val 100000"/>
                <a:gd name="adj2" fmla="val 37199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63" name=""/>
            <p:cNvSpPr/>
            <p:nvPr/>
          </p:nvSpPr>
          <p:spPr>
            <a:xfrm>
              <a:off x="6705720" y="411480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V &gt;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4" name=""/>
          <p:cNvGrpSpPr/>
          <p:nvPr/>
        </p:nvGrpSpPr>
        <p:grpSpPr>
          <a:xfrm>
            <a:off x="6691320" y="3719520"/>
            <a:ext cx="380880" cy="252360"/>
            <a:chOff x="6691320" y="3719520"/>
            <a:chExt cx="380880" cy="252360"/>
          </a:xfrm>
        </p:grpSpPr>
        <p:sp>
          <p:nvSpPr>
            <p:cNvPr id="765" name=""/>
            <p:cNvSpPr/>
            <p:nvPr/>
          </p:nvSpPr>
          <p:spPr>
            <a:xfrm>
              <a:off x="6767640" y="3719520"/>
              <a:ext cx="26676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691320" y="39718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"/>
          <p:cNvSpPr/>
          <p:nvPr/>
        </p:nvSpPr>
        <p:spPr>
          <a:xfrm>
            <a:off x="6539040" y="3048120"/>
            <a:ext cx="129528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MX" sz="16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 =V</a:t>
            </a:r>
            <a:r>
              <a:rPr b="0" i="1" lang="es-MX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 –(- 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57200" y="2743200"/>
            <a:ext cx="4572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Al aplicar voltaje V “en invers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57200" y="304812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La mayor parte aparece en la jun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57200" y="3657600"/>
            <a:ext cx="58672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Crece barrera de pote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Implica extracción por deriva de portadores minoritarios (comportamiento capacitivo “de transición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Corriente muy pequeña: portadores minoritarios “descienden” barrera, Corriente de Saturación Inver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57200" y="5638680"/>
            <a:ext cx="4572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Implica modulación del ancho de la región de agotamiento: au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5791320" y="5410080"/>
                <a:ext cx="309384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ε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773" name=""/>
          <p:cNvGrpSpPr/>
          <p:nvPr/>
        </p:nvGrpSpPr>
        <p:grpSpPr>
          <a:xfrm>
            <a:off x="6691320" y="3429000"/>
            <a:ext cx="1081080" cy="152280"/>
            <a:chOff x="6691320" y="3429000"/>
            <a:chExt cx="1081080" cy="152280"/>
          </a:xfrm>
        </p:grpSpPr>
        <p:sp>
          <p:nvSpPr>
            <p:cNvPr id="774" name=""/>
            <p:cNvSpPr/>
            <p:nvPr/>
          </p:nvSpPr>
          <p:spPr>
            <a:xfrm>
              <a:off x="6691320" y="3429000"/>
              <a:ext cx="91440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781680" y="350532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6" name=""/>
          <p:cNvGrpSpPr/>
          <p:nvPr/>
        </p:nvGrpSpPr>
        <p:grpSpPr>
          <a:xfrm>
            <a:off x="6576840" y="2286000"/>
            <a:ext cx="1195560" cy="152280"/>
            <a:chOff x="6576840" y="2286000"/>
            <a:chExt cx="1195560" cy="152280"/>
          </a:xfrm>
        </p:grpSpPr>
        <p:sp>
          <p:nvSpPr>
            <p:cNvPr id="777" name=""/>
            <p:cNvSpPr/>
            <p:nvPr/>
          </p:nvSpPr>
          <p:spPr>
            <a:xfrm>
              <a:off x="6576840" y="2286000"/>
              <a:ext cx="91440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629400" y="23623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9" name=""/>
          <p:cNvGrpSpPr/>
          <p:nvPr/>
        </p:nvGrpSpPr>
        <p:grpSpPr>
          <a:xfrm>
            <a:off x="6629400" y="2514600"/>
            <a:ext cx="1219320" cy="457200"/>
            <a:chOff x="6629400" y="2514600"/>
            <a:chExt cx="1219320" cy="457200"/>
          </a:xfrm>
        </p:grpSpPr>
        <p:sp>
          <p:nvSpPr>
            <p:cNvPr id="780" name=""/>
            <p:cNvSpPr/>
            <p:nvPr/>
          </p:nvSpPr>
          <p:spPr>
            <a:xfrm>
              <a:off x="6629400" y="2514600"/>
              <a:ext cx="423720" cy="457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010280" y="2514600"/>
              <a:ext cx="838440" cy="457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6591240" y="4495680"/>
                <a:ext cx="197964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riva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</m:e>
                          </m:mr>
                        </m:m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riva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Ley de la Juntura pn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562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Hipótesis de inyección “Low-Level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5" name=""/>
              <p:cNvSpPr txBox="1"/>
              <p:nvPr/>
            </p:nvSpPr>
            <p:spPr>
              <a:xfrm>
                <a:off x="5181480" y="2286000"/>
                <a:ext cx="32767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J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p</m:t>
                            </m:r>
                          </m:sub>
                        </m:sSub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LowLevel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qp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E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D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6" name=""/>
              <p:cNvSpPr txBox="1"/>
              <p:nvPr/>
            </p:nvSpPr>
            <p:spPr>
              <a:xfrm>
                <a:off x="5745240" y="2971800"/>
                <a:ext cx="21477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qp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E</m:t>
                    </m:r>
                    <m:r>
                      <m:t xml:space="preserve">≈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D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7" name=""/>
              <p:cNvSpPr txBox="1"/>
              <p:nvPr/>
            </p:nvSpPr>
            <p:spPr>
              <a:xfrm>
                <a:off x="5694480" y="3657600"/>
                <a:ext cx="23428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μ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≈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8" name=""/>
              <p:cNvSpPr txBox="1"/>
              <p:nvPr/>
            </p:nvSpPr>
            <p:spPr>
              <a:xfrm>
                <a:off x="5508720" y="4506840"/>
                <a:ext cx="290808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≈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9" name=""/>
          <p:cNvSpPr/>
          <p:nvPr/>
        </p:nvSpPr>
        <p:spPr>
          <a:xfrm>
            <a:off x="685800" y="2438280"/>
            <a:ext cx="44956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Sin polarización exte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Difusión en equilibrio con Der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Con polar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Prevalece difusión ó deriva según sea la polarización directa o inversa, respectivam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Bajo condición de inyección “Low-Level” la variación en la corriente de difusión ó deriva es pequeña comparada con el nivel de equilib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Ley de la Juntura pn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56272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Ley de la juntur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Estima (Bajo inyección Low-Level)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La densidad de portadores minoritarios justo después de la capa de agotamiento como función del nivel de equilibrio de los portadores minoritarios en esa región y del voltaje externo aplicad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2" name=""/>
              <p:cNvSpPr txBox="1"/>
              <p:nvPr/>
            </p:nvSpPr>
            <p:spPr>
              <a:xfrm>
                <a:off x="6553080" y="2133720"/>
                <a:ext cx="14097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≈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3" name=""/>
              <p:cNvSpPr txBox="1"/>
              <p:nvPr/>
            </p:nvSpPr>
            <p:spPr>
              <a:xfrm>
                <a:off x="6205680" y="2819520"/>
                <a:ext cx="201600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≈</m:t>
                    </m:r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5078520" y="3971880"/>
                <a:ext cx="3297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≈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V</m:t>
                                </m:r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sup>
                    </m:sSup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</m:t>
                        </m:r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95" name=""/>
          <p:cNvSpPr/>
          <p:nvPr/>
        </p:nvSpPr>
        <p:spPr>
          <a:xfrm>
            <a:off x="685800" y="3962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Pero V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 V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6" name=""/>
              <p:cNvSpPr txBox="1"/>
              <p:nvPr/>
            </p:nvSpPr>
            <p:spPr>
              <a:xfrm>
                <a:off x="2295360" y="4495680"/>
                <a:ext cx="433080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≈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V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sup>
                    </m:sSup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7" name=""/>
              <p:cNvSpPr txBox="1"/>
              <p:nvPr/>
            </p:nvSpPr>
            <p:spPr>
              <a:xfrm>
                <a:off x="736560" y="5410080"/>
                <a:ext cx="27450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≈</m:t>
                    </m:r>
                    <m:f>
                      <m:num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V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sup>
                    </m:sSup>
                    <m:r>
                      <m:t xml:space="preserve">≈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V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8" name=""/>
              <p:cNvSpPr txBox="1"/>
              <p:nvPr/>
            </p:nvSpPr>
            <p:spPr>
              <a:xfrm>
                <a:off x="3994200" y="5410080"/>
                <a:ext cx="43927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alógamente,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d>
                    <m:r>
                      <m:t xml:space="preserve">≈</m:t>
                    </m:r>
                    <m:f>
                      <m:num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V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sup>
                    </m:sSup>
                    <m:r>
                      <m:t xml:space="preserve">≈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V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Distribuciones de Portadores Minoritarios en Juntura pn Polarizad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0" name=""/>
          <p:cNvGrpSpPr/>
          <p:nvPr/>
        </p:nvGrpSpPr>
        <p:grpSpPr>
          <a:xfrm>
            <a:off x="1223640" y="2538360"/>
            <a:ext cx="3962880" cy="1123920"/>
            <a:chOff x="1223640" y="2538360"/>
            <a:chExt cx="3962880" cy="1123920"/>
          </a:xfrm>
        </p:grpSpPr>
        <p:sp>
          <p:nvSpPr>
            <p:cNvPr id="801" name=""/>
            <p:cNvSpPr/>
            <p:nvPr/>
          </p:nvSpPr>
          <p:spPr>
            <a:xfrm>
              <a:off x="3052800" y="2538360"/>
              <a:ext cx="2133720" cy="885600"/>
            </a:xfrm>
            <a:custGeom>
              <a:avLst/>
              <a:gdLst/>
              <a:ahLst/>
              <a:rect l="l" t="t" r="r" b="b"/>
              <a:pathLst>
                <a:path w="1344" h="576">
                  <a:moveTo>
                    <a:pt x="0" y="0"/>
                  </a:moveTo>
                  <a:cubicBezTo>
                    <a:pt x="4" y="0"/>
                    <a:pt x="8" y="0"/>
                    <a:pt x="48" y="48"/>
                  </a:cubicBezTo>
                  <a:cubicBezTo>
                    <a:pt x="88" y="96"/>
                    <a:pt x="184" y="224"/>
                    <a:pt x="240" y="288"/>
                  </a:cubicBezTo>
                  <a:cubicBezTo>
                    <a:pt x="296" y="352"/>
                    <a:pt x="328" y="400"/>
                    <a:pt x="384" y="432"/>
                  </a:cubicBezTo>
                  <a:cubicBezTo>
                    <a:pt x="440" y="464"/>
                    <a:pt x="416" y="456"/>
                    <a:pt x="576" y="480"/>
                  </a:cubicBezTo>
                  <a:cubicBezTo>
                    <a:pt x="736" y="504"/>
                    <a:pt x="1040" y="540"/>
                    <a:pt x="1344" y="576"/>
                  </a:cubicBezTo>
                </a:path>
              </a:pathLst>
            </a:custGeom>
            <a:noFill/>
            <a:ln w="25560">
              <a:solidFill>
                <a:srgbClr val="96969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1223280" y="2776320"/>
              <a:ext cx="2133720" cy="885960"/>
            </a:xfrm>
            <a:custGeom>
              <a:avLst/>
              <a:gdLst/>
              <a:ahLst/>
              <a:rect l="l" t="t" r="r" b="b"/>
              <a:pathLst>
                <a:path w="1344" h="576">
                  <a:moveTo>
                    <a:pt x="0" y="0"/>
                  </a:moveTo>
                  <a:cubicBezTo>
                    <a:pt x="4" y="0"/>
                    <a:pt x="8" y="0"/>
                    <a:pt x="48" y="48"/>
                  </a:cubicBezTo>
                  <a:cubicBezTo>
                    <a:pt x="88" y="96"/>
                    <a:pt x="184" y="224"/>
                    <a:pt x="240" y="288"/>
                  </a:cubicBezTo>
                  <a:cubicBezTo>
                    <a:pt x="296" y="352"/>
                    <a:pt x="328" y="400"/>
                    <a:pt x="384" y="432"/>
                  </a:cubicBezTo>
                  <a:cubicBezTo>
                    <a:pt x="440" y="464"/>
                    <a:pt x="416" y="456"/>
                    <a:pt x="576" y="480"/>
                  </a:cubicBezTo>
                  <a:cubicBezTo>
                    <a:pt x="736" y="504"/>
                    <a:pt x="1040" y="540"/>
                    <a:pt x="1344" y="576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809880" y="2895480"/>
              <a:ext cx="838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808080"/>
                  </a:solidFill>
                  <a:latin typeface="Times New Roman"/>
                </a:rPr>
                <a:t>p</a:t>
              </a:r>
              <a:r>
                <a:rPr b="0" i="1" lang="es-MX" sz="2000" spc="-1" strike="noStrike" baseline="-25000">
                  <a:solidFill>
                    <a:srgbClr val="80808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752480" y="3124080"/>
              <a:ext cx="838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0" i="1" lang="es-MX" sz="2000" spc="-1" strike="noStrike" baseline="-25000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5" name=""/>
          <p:cNvGrpSpPr/>
          <p:nvPr/>
        </p:nvGrpSpPr>
        <p:grpSpPr>
          <a:xfrm>
            <a:off x="1819440" y="4710240"/>
            <a:ext cx="3057480" cy="1521360"/>
            <a:chOff x="1819440" y="4710240"/>
            <a:chExt cx="3057480" cy="1521360"/>
          </a:xfrm>
        </p:grpSpPr>
        <p:sp>
          <p:nvSpPr>
            <p:cNvPr id="806" name=""/>
            <p:cNvSpPr/>
            <p:nvPr/>
          </p:nvSpPr>
          <p:spPr>
            <a:xfrm>
              <a:off x="3048120" y="4710240"/>
              <a:ext cx="1752480" cy="1385640"/>
            </a:xfrm>
            <a:custGeom>
              <a:avLst/>
              <a:gdLst/>
              <a:ahLst/>
              <a:rect l="l" t="t" r="r" b="b"/>
              <a:pathLst>
                <a:path w="1432" h="874">
                  <a:moveTo>
                    <a:pt x="0" y="24"/>
                  </a:moveTo>
                  <a:cubicBezTo>
                    <a:pt x="11" y="39"/>
                    <a:pt x="27" y="0"/>
                    <a:pt x="67" y="116"/>
                  </a:cubicBezTo>
                  <a:cubicBezTo>
                    <a:pt x="107" y="232"/>
                    <a:pt x="192" y="598"/>
                    <a:pt x="237" y="722"/>
                  </a:cubicBezTo>
                  <a:cubicBezTo>
                    <a:pt x="282" y="847"/>
                    <a:pt x="298" y="846"/>
                    <a:pt x="339" y="859"/>
                  </a:cubicBezTo>
                  <a:cubicBezTo>
                    <a:pt x="379" y="874"/>
                    <a:pt x="418" y="841"/>
                    <a:pt x="481" y="806"/>
                  </a:cubicBezTo>
                  <a:cubicBezTo>
                    <a:pt x="543" y="773"/>
                    <a:pt x="556" y="693"/>
                    <a:pt x="714" y="655"/>
                  </a:cubicBezTo>
                  <a:cubicBezTo>
                    <a:pt x="873" y="617"/>
                    <a:pt x="1152" y="597"/>
                    <a:pt x="1432" y="578"/>
                  </a:cubicBezTo>
                </a:path>
              </a:pathLst>
            </a:custGeom>
            <a:noFill/>
            <a:ln w="25560">
              <a:solidFill>
                <a:srgbClr val="96969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819440" y="4976640"/>
              <a:ext cx="1562040" cy="1128240"/>
            </a:xfrm>
            <a:custGeom>
              <a:avLst/>
              <a:gdLst/>
              <a:ahLst/>
              <a:rect l="l" t="t" r="r" b="b"/>
              <a:pathLst>
                <a:path w="984" h="711">
                  <a:moveTo>
                    <a:pt x="984" y="0"/>
                  </a:moveTo>
                  <a:cubicBezTo>
                    <a:pt x="976" y="17"/>
                    <a:pt x="957" y="8"/>
                    <a:pt x="931" y="105"/>
                  </a:cubicBezTo>
                  <a:cubicBezTo>
                    <a:pt x="905" y="202"/>
                    <a:pt x="856" y="485"/>
                    <a:pt x="829" y="583"/>
                  </a:cubicBezTo>
                  <a:cubicBezTo>
                    <a:pt x="800" y="682"/>
                    <a:pt x="789" y="683"/>
                    <a:pt x="761" y="696"/>
                  </a:cubicBezTo>
                  <a:cubicBezTo>
                    <a:pt x="734" y="711"/>
                    <a:pt x="706" y="688"/>
                    <a:pt x="662" y="667"/>
                  </a:cubicBezTo>
                  <a:cubicBezTo>
                    <a:pt x="618" y="645"/>
                    <a:pt x="608" y="586"/>
                    <a:pt x="497" y="568"/>
                  </a:cubicBezTo>
                  <a:cubicBezTo>
                    <a:pt x="387" y="551"/>
                    <a:pt x="193" y="557"/>
                    <a:pt x="0" y="563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038480" y="5715000"/>
              <a:ext cx="838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808080"/>
                  </a:solidFill>
                  <a:latin typeface="Times New Roman"/>
                </a:rPr>
                <a:t>p</a:t>
              </a:r>
              <a:r>
                <a:rPr b="0" i="1" lang="es-MX" sz="2000" spc="-1" strike="noStrike" baseline="-25000">
                  <a:solidFill>
                    <a:srgbClr val="80808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209680" y="5790960"/>
              <a:ext cx="838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0" i="1" lang="es-MX" sz="2000" spc="-1" strike="noStrike" baseline="-25000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0" name=""/>
          <p:cNvGrpSpPr/>
          <p:nvPr/>
        </p:nvGrpSpPr>
        <p:grpSpPr>
          <a:xfrm>
            <a:off x="604800" y="1905120"/>
            <a:ext cx="5549760" cy="2423520"/>
            <a:chOff x="604800" y="1905120"/>
            <a:chExt cx="5549760" cy="2423520"/>
          </a:xfrm>
        </p:grpSpPr>
        <p:grpSp>
          <p:nvGrpSpPr>
            <p:cNvPr id="811" name=""/>
            <p:cNvGrpSpPr/>
            <p:nvPr/>
          </p:nvGrpSpPr>
          <p:grpSpPr>
            <a:xfrm>
              <a:off x="604800" y="1905120"/>
              <a:ext cx="5549760" cy="2423520"/>
              <a:chOff x="604800" y="1905120"/>
              <a:chExt cx="5549760" cy="2423520"/>
            </a:xfrm>
          </p:grpSpPr>
          <p:grpSp>
            <p:nvGrpSpPr>
              <p:cNvPr id="812" name=""/>
              <p:cNvGrpSpPr/>
              <p:nvPr/>
            </p:nvGrpSpPr>
            <p:grpSpPr>
              <a:xfrm>
                <a:off x="604800" y="1905120"/>
                <a:ext cx="5257800" cy="2423520"/>
                <a:chOff x="604800" y="1905120"/>
                <a:chExt cx="5257800" cy="2423520"/>
              </a:xfrm>
            </p:grpSpPr>
            <p:sp>
              <p:nvSpPr>
                <p:cNvPr id="813" name=""/>
                <p:cNvSpPr/>
                <p:nvPr/>
              </p:nvSpPr>
              <p:spPr>
                <a:xfrm>
                  <a:off x="3200400" y="3419280"/>
                  <a:ext cx="2438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2590920" y="1905120"/>
                  <a:ext cx="99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MX" sz="1800" spc="-1" strike="noStrike">
                      <a:solidFill>
                        <a:srgbClr val="000000"/>
                      </a:solidFill>
                      <a:latin typeface="Times New Roman"/>
                    </a:rPr>
                    <a:t>log p, 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15" name=""/>
                <p:cNvGrpSpPr/>
                <p:nvPr/>
              </p:nvGrpSpPr>
              <p:grpSpPr>
                <a:xfrm>
                  <a:off x="604800" y="2209320"/>
                  <a:ext cx="5257800" cy="2119320"/>
                  <a:chOff x="604800" y="2209320"/>
                  <a:chExt cx="5257800" cy="2119320"/>
                </a:xfrm>
              </p:grpSpPr>
              <p:sp>
                <p:nvSpPr>
                  <p:cNvPr id="816" name=""/>
                  <p:cNvSpPr/>
                  <p:nvPr/>
                </p:nvSpPr>
                <p:spPr>
                  <a:xfrm>
                    <a:off x="604800" y="3961800"/>
                    <a:ext cx="5257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7" name=""/>
                  <p:cNvSpPr/>
                  <p:nvPr/>
                </p:nvSpPr>
                <p:spPr>
                  <a:xfrm flipV="1">
                    <a:off x="3195720" y="2209320"/>
                    <a:ext cx="0" cy="1752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>
                    <a:off x="5241960" y="3960360"/>
                    <a:ext cx="5637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s-MX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9" name=""/>
                  <p:cNvSpPr/>
                  <p:nvPr/>
                </p:nvSpPr>
                <p:spPr>
                  <a:xfrm>
                    <a:off x="757440" y="3657240"/>
                    <a:ext cx="243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0" name=""/>
                  <p:cNvSpPr/>
                  <p:nvPr/>
                </p:nvSpPr>
                <p:spPr>
                  <a:xfrm>
                    <a:off x="757440" y="2437920"/>
                    <a:ext cx="243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1" name=""/>
                  <p:cNvSpPr/>
                  <p:nvPr/>
                </p:nvSpPr>
                <p:spPr>
                  <a:xfrm>
                    <a:off x="3195720" y="2666520"/>
                    <a:ext cx="243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2" name=""/>
                  <p:cNvSpPr/>
                  <p:nvPr/>
                </p:nvSpPr>
                <p:spPr>
                  <a:xfrm>
                    <a:off x="1347840" y="2428560"/>
                    <a:ext cx="4267080" cy="9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0" h="628">
                        <a:moveTo>
                          <a:pt x="0" y="0"/>
                        </a:moveTo>
                        <a:cubicBezTo>
                          <a:pt x="12" y="1"/>
                          <a:pt x="10" y="2"/>
                          <a:pt x="75" y="3"/>
                        </a:cubicBezTo>
                        <a:cubicBezTo>
                          <a:pt x="140" y="4"/>
                          <a:pt x="261" y="4"/>
                          <a:pt x="393" y="6"/>
                        </a:cubicBezTo>
                        <a:cubicBezTo>
                          <a:pt x="525" y="8"/>
                          <a:pt x="740" y="4"/>
                          <a:pt x="867" y="15"/>
                        </a:cubicBezTo>
                        <a:cubicBezTo>
                          <a:pt x="994" y="26"/>
                          <a:pt x="1093" y="34"/>
                          <a:pt x="1156" y="74"/>
                        </a:cubicBezTo>
                        <a:cubicBezTo>
                          <a:pt x="1219" y="114"/>
                          <a:pt x="1222" y="197"/>
                          <a:pt x="1245" y="258"/>
                        </a:cubicBezTo>
                        <a:cubicBezTo>
                          <a:pt x="1268" y="319"/>
                          <a:pt x="1274" y="386"/>
                          <a:pt x="1296" y="438"/>
                        </a:cubicBezTo>
                        <a:cubicBezTo>
                          <a:pt x="1318" y="490"/>
                          <a:pt x="1333" y="540"/>
                          <a:pt x="1376" y="570"/>
                        </a:cubicBezTo>
                        <a:cubicBezTo>
                          <a:pt x="1419" y="600"/>
                          <a:pt x="1475" y="612"/>
                          <a:pt x="1557" y="620"/>
                        </a:cubicBezTo>
                        <a:cubicBezTo>
                          <a:pt x="1639" y="628"/>
                          <a:pt x="1648" y="620"/>
                          <a:pt x="1868" y="620"/>
                        </a:cubicBezTo>
                        <a:cubicBezTo>
                          <a:pt x="2089" y="620"/>
                          <a:pt x="2484" y="620"/>
                          <a:pt x="2880" y="62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23" name=""/>
                <p:cNvSpPr/>
                <p:nvPr/>
              </p:nvSpPr>
              <p:spPr>
                <a:xfrm flipH="1">
                  <a:off x="1146960" y="2666880"/>
                  <a:ext cx="3676680" cy="996480"/>
                </a:xfrm>
                <a:custGeom>
                  <a:avLst/>
                  <a:gdLst/>
                  <a:ahLst/>
                  <a:rect l="l" t="t" r="r" b="b"/>
                  <a:pathLst>
                    <a:path w="2880" h="628">
                      <a:moveTo>
                        <a:pt x="0" y="0"/>
                      </a:moveTo>
                      <a:cubicBezTo>
                        <a:pt x="12" y="1"/>
                        <a:pt x="10" y="2"/>
                        <a:pt x="75" y="3"/>
                      </a:cubicBezTo>
                      <a:cubicBezTo>
                        <a:pt x="140" y="4"/>
                        <a:pt x="261" y="4"/>
                        <a:pt x="393" y="6"/>
                      </a:cubicBezTo>
                      <a:cubicBezTo>
                        <a:pt x="525" y="8"/>
                        <a:pt x="740" y="4"/>
                        <a:pt x="867" y="15"/>
                      </a:cubicBezTo>
                      <a:cubicBezTo>
                        <a:pt x="994" y="26"/>
                        <a:pt x="1093" y="34"/>
                        <a:pt x="1156" y="74"/>
                      </a:cubicBezTo>
                      <a:cubicBezTo>
                        <a:pt x="1219" y="114"/>
                        <a:pt x="1222" y="197"/>
                        <a:pt x="1245" y="258"/>
                      </a:cubicBezTo>
                      <a:cubicBezTo>
                        <a:pt x="1268" y="319"/>
                        <a:pt x="1274" y="386"/>
                        <a:pt x="1296" y="438"/>
                      </a:cubicBezTo>
                      <a:cubicBezTo>
                        <a:pt x="1318" y="490"/>
                        <a:pt x="1333" y="540"/>
                        <a:pt x="1376" y="570"/>
                      </a:cubicBezTo>
                      <a:cubicBezTo>
                        <a:pt x="1419" y="600"/>
                        <a:pt x="1475" y="612"/>
                        <a:pt x="1557" y="620"/>
                      </a:cubicBezTo>
                      <a:cubicBezTo>
                        <a:pt x="1639" y="628"/>
                        <a:pt x="1648" y="620"/>
                        <a:pt x="1868" y="620"/>
                      </a:cubicBezTo>
                      <a:cubicBezTo>
                        <a:pt x="2089" y="620"/>
                        <a:pt x="2484" y="620"/>
                        <a:pt x="2880" y="62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824" name=""/>
                  <p:cNvSpPr txBox="1"/>
                  <p:nvPr/>
                </p:nvSpPr>
                <p:spPr>
                  <a:xfrm>
                    <a:off x="990720" y="2138400"/>
                    <a:ext cx="304560" cy="286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825" name=""/>
                  <p:cNvSpPr txBox="1"/>
                  <p:nvPr/>
                </p:nvSpPr>
                <p:spPr>
                  <a:xfrm>
                    <a:off x="5707080" y="2514600"/>
                    <a:ext cx="322200" cy="286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826" name=""/>
                  <p:cNvSpPr txBox="1"/>
                  <p:nvPr/>
                </p:nvSpPr>
                <p:spPr>
                  <a:xfrm>
                    <a:off x="762120" y="3047760"/>
                    <a:ext cx="355320" cy="607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827" name=""/>
                  <p:cNvSpPr txBox="1"/>
                  <p:nvPr/>
                </p:nvSpPr>
                <p:spPr>
                  <a:xfrm>
                    <a:off x="5783400" y="3047760"/>
                    <a:ext cx="371160" cy="607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828" name=""/>
            <p:cNvSpPr/>
            <p:nvPr/>
          </p:nvSpPr>
          <p:spPr>
            <a:xfrm>
              <a:off x="3429000" y="2590560"/>
              <a:ext cx="838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057400" y="2438280"/>
              <a:ext cx="838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0" name=""/>
          <p:cNvGrpSpPr/>
          <p:nvPr/>
        </p:nvGrpSpPr>
        <p:grpSpPr>
          <a:xfrm>
            <a:off x="609480" y="4114800"/>
            <a:ext cx="5549760" cy="2423520"/>
            <a:chOff x="609480" y="4114800"/>
            <a:chExt cx="5549760" cy="2423520"/>
          </a:xfrm>
        </p:grpSpPr>
        <p:grpSp>
          <p:nvGrpSpPr>
            <p:cNvPr id="831" name=""/>
            <p:cNvGrpSpPr/>
            <p:nvPr/>
          </p:nvGrpSpPr>
          <p:grpSpPr>
            <a:xfrm>
              <a:off x="609480" y="4114800"/>
              <a:ext cx="5549760" cy="2423520"/>
              <a:chOff x="609480" y="4114800"/>
              <a:chExt cx="5549760" cy="2423520"/>
            </a:xfrm>
          </p:grpSpPr>
          <p:grpSp>
            <p:nvGrpSpPr>
              <p:cNvPr id="832" name=""/>
              <p:cNvGrpSpPr/>
              <p:nvPr/>
            </p:nvGrpSpPr>
            <p:grpSpPr>
              <a:xfrm>
                <a:off x="609480" y="4114800"/>
                <a:ext cx="5257800" cy="2423520"/>
                <a:chOff x="609480" y="4114800"/>
                <a:chExt cx="5257800" cy="2423520"/>
              </a:xfrm>
            </p:grpSpPr>
            <p:sp>
              <p:nvSpPr>
                <p:cNvPr id="833" name=""/>
                <p:cNvSpPr/>
                <p:nvPr/>
              </p:nvSpPr>
              <p:spPr>
                <a:xfrm>
                  <a:off x="3205080" y="5628960"/>
                  <a:ext cx="2438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2595600" y="4114800"/>
                  <a:ext cx="99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MX" sz="1800" spc="-1" strike="noStrike">
                      <a:solidFill>
                        <a:srgbClr val="000000"/>
                      </a:solidFill>
                      <a:latin typeface="Times New Roman"/>
                    </a:rPr>
                    <a:t>log p, 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35" name=""/>
                <p:cNvGrpSpPr/>
                <p:nvPr/>
              </p:nvGrpSpPr>
              <p:grpSpPr>
                <a:xfrm>
                  <a:off x="609480" y="4419000"/>
                  <a:ext cx="5257800" cy="2119320"/>
                  <a:chOff x="609480" y="4419000"/>
                  <a:chExt cx="5257800" cy="2119320"/>
                </a:xfrm>
              </p:grpSpPr>
              <p:sp>
                <p:nvSpPr>
                  <p:cNvPr id="836" name=""/>
                  <p:cNvSpPr/>
                  <p:nvPr/>
                </p:nvSpPr>
                <p:spPr>
                  <a:xfrm>
                    <a:off x="609480" y="6171480"/>
                    <a:ext cx="5257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7" name=""/>
                  <p:cNvSpPr/>
                  <p:nvPr/>
                </p:nvSpPr>
                <p:spPr>
                  <a:xfrm flipV="1">
                    <a:off x="3200400" y="4419000"/>
                    <a:ext cx="0" cy="1752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8" name=""/>
                  <p:cNvSpPr/>
                  <p:nvPr/>
                </p:nvSpPr>
                <p:spPr>
                  <a:xfrm>
                    <a:off x="5246640" y="6170040"/>
                    <a:ext cx="5637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s-MX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9" name=""/>
                  <p:cNvSpPr/>
                  <p:nvPr/>
                </p:nvSpPr>
                <p:spPr>
                  <a:xfrm>
                    <a:off x="762120" y="5866920"/>
                    <a:ext cx="243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>
                    <a:off x="762120" y="4647600"/>
                    <a:ext cx="243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1" name=""/>
                  <p:cNvSpPr/>
                  <p:nvPr/>
                </p:nvSpPr>
                <p:spPr>
                  <a:xfrm>
                    <a:off x="3200400" y="4876200"/>
                    <a:ext cx="243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2" name=""/>
                  <p:cNvSpPr/>
                  <p:nvPr/>
                </p:nvSpPr>
                <p:spPr>
                  <a:xfrm>
                    <a:off x="1352520" y="4638240"/>
                    <a:ext cx="4267080" cy="9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0" h="628">
                        <a:moveTo>
                          <a:pt x="0" y="0"/>
                        </a:moveTo>
                        <a:cubicBezTo>
                          <a:pt x="12" y="1"/>
                          <a:pt x="10" y="2"/>
                          <a:pt x="75" y="3"/>
                        </a:cubicBezTo>
                        <a:cubicBezTo>
                          <a:pt x="140" y="4"/>
                          <a:pt x="261" y="4"/>
                          <a:pt x="393" y="6"/>
                        </a:cubicBezTo>
                        <a:cubicBezTo>
                          <a:pt x="525" y="8"/>
                          <a:pt x="740" y="4"/>
                          <a:pt x="867" y="15"/>
                        </a:cubicBezTo>
                        <a:cubicBezTo>
                          <a:pt x="994" y="26"/>
                          <a:pt x="1093" y="34"/>
                          <a:pt x="1156" y="74"/>
                        </a:cubicBezTo>
                        <a:cubicBezTo>
                          <a:pt x="1219" y="114"/>
                          <a:pt x="1222" y="197"/>
                          <a:pt x="1245" y="258"/>
                        </a:cubicBezTo>
                        <a:cubicBezTo>
                          <a:pt x="1268" y="319"/>
                          <a:pt x="1274" y="386"/>
                          <a:pt x="1296" y="438"/>
                        </a:cubicBezTo>
                        <a:cubicBezTo>
                          <a:pt x="1318" y="490"/>
                          <a:pt x="1333" y="540"/>
                          <a:pt x="1376" y="570"/>
                        </a:cubicBezTo>
                        <a:cubicBezTo>
                          <a:pt x="1419" y="600"/>
                          <a:pt x="1475" y="612"/>
                          <a:pt x="1557" y="620"/>
                        </a:cubicBezTo>
                        <a:cubicBezTo>
                          <a:pt x="1639" y="628"/>
                          <a:pt x="1648" y="620"/>
                          <a:pt x="1868" y="620"/>
                        </a:cubicBezTo>
                        <a:cubicBezTo>
                          <a:pt x="2089" y="620"/>
                          <a:pt x="2484" y="620"/>
                          <a:pt x="2880" y="62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43" name=""/>
                <p:cNvSpPr/>
                <p:nvPr/>
              </p:nvSpPr>
              <p:spPr>
                <a:xfrm flipH="1">
                  <a:off x="1151640" y="4876560"/>
                  <a:ext cx="3676680" cy="996480"/>
                </a:xfrm>
                <a:custGeom>
                  <a:avLst/>
                  <a:gdLst/>
                  <a:ahLst/>
                  <a:rect l="l" t="t" r="r" b="b"/>
                  <a:pathLst>
                    <a:path w="2880" h="628">
                      <a:moveTo>
                        <a:pt x="0" y="0"/>
                      </a:moveTo>
                      <a:cubicBezTo>
                        <a:pt x="12" y="1"/>
                        <a:pt x="10" y="2"/>
                        <a:pt x="75" y="3"/>
                      </a:cubicBezTo>
                      <a:cubicBezTo>
                        <a:pt x="140" y="4"/>
                        <a:pt x="261" y="4"/>
                        <a:pt x="393" y="6"/>
                      </a:cubicBezTo>
                      <a:cubicBezTo>
                        <a:pt x="525" y="8"/>
                        <a:pt x="740" y="4"/>
                        <a:pt x="867" y="15"/>
                      </a:cubicBezTo>
                      <a:cubicBezTo>
                        <a:pt x="994" y="26"/>
                        <a:pt x="1093" y="34"/>
                        <a:pt x="1156" y="74"/>
                      </a:cubicBezTo>
                      <a:cubicBezTo>
                        <a:pt x="1219" y="114"/>
                        <a:pt x="1222" y="197"/>
                        <a:pt x="1245" y="258"/>
                      </a:cubicBezTo>
                      <a:cubicBezTo>
                        <a:pt x="1268" y="319"/>
                        <a:pt x="1274" y="386"/>
                        <a:pt x="1296" y="438"/>
                      </a:cubicBezTo>
                      <a:cubicBezTo>
                        <a:pt x="1318" y="490"/>
                        <a:pt x="1333" y="540"/>
                        <a:pt x="1376" y="570"/>
                      </a:cubicBezTo>
                      <a:cubicBezTo>
                        <a:pt x="1419" y="600"/>
                        <a:pt x="1475" y="612"/>
                        <a:pt x="1557" y="620"/>
                      </a:cubicBezTo>
                      <a:cubicBezTo>
                        <a:pt x="1639" y="628"/>
                        <a:pt x="1648" y="620"/>
                        <a:pt x="1868" y="620"/>
                      </a:cubicBezTo>
                      <a:cubicBezTo>
                        <a:pt x="2089" y="620"/>
                        <a:pt x="2484" y="620"/>
                        <a:pt x="2880" y="62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844" name=""/>
                  <p:cNvSpPr txBox="1"/>
                  <p:nvPr/>
                </p:nvSpPr>
                <p:spPr>
                  <a:xfrm>
                    <a:off x="995400" y="4348080"/>
                    <a:ext cx="304560" cy="286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845" name=""/>
                  <p:cNvSpPr txBox="1"/>
                  <p:nvPr/>
                </p:nvSpPr>
                <p:spPr>
                  <a:xfrm>
                    <a:off x="5711760" y="4724280"/>
                    <a:ext cx="322200" cy="286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846" name=""/>
                  <p:cNvSpPr txBox="1"/>
                  <p:nvPr/>
                </p:nvSpPr>
                <p:spPr>
                  <a:xfrm>
                    <a:off x="766800" y="5257440"/>
                    <a:ext cx="355320" cy="607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847" name=""/>
                  <p:cNvSpPr txBox="1"/>
                  <p:nvPr/>
                </p:nvSpPr>
                <p:spPr>
                  <a:xfrm>
                    <a:off x="5788080" y="5257440"/>
                    <a:ext cx="371160" cy="607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848" name=""/>
            <p:cNvSpPr/>
            <p:nvPr/>
          </p:nvSpPr>
          <p:spPr>
            <a:xfrm>
              <a:off x="1905120" y="4572000"/>
              <a:ext cx="838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733920" y="4800600"/>
              <a:ext cx="838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0" name=""/>
          <p:cNvGrpSpPr/>
          <p:nvPr/>
        </p:nvGrpSpPr>
        <p:grpSpPr>
          <a:xfrm>
            <a:off x="6780960" y="2438280"/>
            <a:ext cx="1986480" cy="1623240"/>
            <a:chOff x="6780960" y="2438280"/>
            <a:chExt cx="1986480" cy="1623240"/>
          </a:xfrm>
        </p:grpSpPr>
        <p:grpSp>
          <p:nvGrpSpPr>
            <p:cNvPr id="851" name=""/>
            <p:cNvGrpSpPr/>
            <p:nvPr/>
          </p:nvGrpSpPr>
          <p:grpSpPr>
            <a:xfrm>
              <a:off x="6926760" y="2438280"/>
              <a:ext cx="1694880" cy="367920"/>
              <a:chOff x="6926760" y="2438280"/>
              <a:chExt cx="1694880" cy="367920"/>
            </a:xfrm>
          </p:grpSpPr>
          <p:sp>
            <p:nvSpPr>
              <p:cNvPr id="852" name=""/>
              <p:cNvSpPr/>
              <p:nvPr/>
            </p:nvSpPr>
            <p:spPr>
              <a:xfrm>
                <a:off x="7028640" y="2438280"/>
                <a:ext cx="745560" cy="3679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774560" y="2438280"/>
                <a:ext cx="745200" cy="36792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         </a:t>
                </a: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6926760" y="2438280"/>
                <a:ext cx="101880" cy="367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8519760" y="2438280"/>
                <a:ext cx="101880" cy="367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6" name=""/>
            <p:cNvSpPr/>
            <p:nvPr/>
          </p:nvSpPr>
          <p:spPr>
            <a:xfrm>
              <a:off x="7632720" y="2438280"/>
              <a:ext cx="144360" cy="3679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750080" y="2438280"/>
              <a:ext cx="290520" cy="3679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8" name=""/>
            <p:cNvGrpSpPr/>
            <p:nvPr/>
          </p:nvGrpSpPr>
          <p:grpSpPr>
            <a:xfrm>
              <a:off x="6781680" y="3426840"/>
              <a:ext cx="1985760" cy="306000"/>
              <a:chOff x="6781680" y="3426840"/>
              <a:chExt cx="1985760" cy="306000"/>
            </a:xfrm>
          </p:grpSpPr>
          <p:grpSp>
            <p:nvGrpSpPr>
              <p:cNvPr id="859" name=""/>
              <p:cNvGrpSpPr/>
              <p:nvPr/>
            </p:nvGrpSpPr>
            <p:grpSpPr>
              <a:xfrm>
                <a:off x="7608240" y="3426840"/>
                <a:ext cx="504720" cy="306000"/>
                <a:chOff x="7608240" y="3426840"/>
                <a:chExt cx="504720" cy="306000"/>
              </a:xfrm>
            </p:grpSpPr>
            <p:sp>
              <p:nvSpPr>
                <p:cNvPr id="860" name=""/>
                <p:cNvSpPr/>
                <p:nvPr/>
              </p:nvSpPr>
              <p:spPr>
                <a:xfrm>
                  <a:off x="7975440" y="3487680"/>
                  <a:ext cx="0" cy="245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8021160" y="3549240"/>
                  <a:ext cx="0" cy="122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8021160" y="3610440"/>
                  <a:ext cx="91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7791840" y="3610440"/>
                  <a:ext cx="183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 flipH="1" flipV="1">
                  <a:off x="7608240" y="3426840"/>
                  <a:ext cx="183600" cy="183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5" name=""/>
              <p:cNvSpPr/>
              <p:nvPr/>
            </p:nvSpPr>
            <p:spPr>
              <a:xfrm>
                <a:off x="6781680" y="3610440"/>
                <a:ext cx="780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8078760" y="3610440"/>
                <a:ext cx="688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867" name=""/>
            <p:cNvCxnSpPr>
              <a:stCxn id="854" idx="1"/>
              <a:endCxn id="865" idx="0"/>
            </p:cNvCxnSpPr>
            <p:nvPr/>
          </p:nvCxnSpPr>
          <p:spPr>
            <a:xfrm flipV="1" rot="10800000">
              <a:off x="6780960" y="2622240"/>
              <a:ext cx="145800" cy="9889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68" name=""/>
            <p:cNvCxnSpPr>
              <a:stCxn id="855" idx="3"/>
              <a:endCxn id="866" idx="0"/>
            </p:cNvCxnSpPr>
            <p:nvPr/>
          </p:nvCxnSpPr>
          <p:spPr>
            <a:xfrm>
              <a:off x="8622000" y="2622240"/>
              <a:ext cx="145800" cy="988920"/>
            </a:xfrm>
            <a:prstGeom prst="bentConnector4">
              <a:avLst>
                <a:gd name="adj1" fmla="val 100000"/>
                <a:gd name="adj2" fmla="val 37217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69" name=""/>
            <p:cNvSpPr/>
            <p:nvPr/>
          </p:nvSpPr>
          <p:spPr>
            <a:xfrm>
              <a:off x="7556400" y="3724200"/>
              <a:ext cx="82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0" name=""/>
          <p:cNvGrpSpPr/>
          <p:nvPr/>
        </p:nvGrpSpPr>
        <p:grpSpPr>
          <a:xfrm>
            <a:off x="6871680" y="4572000"/>
            <a:ext cx="1986480" cy="1623240"/>
            <a:chOff x="6871680" y="4572000"/>
            <a:chExt cx="1986480" cy="1623240"/>
          </a:xfrm>
        </p:grpSpPr>
        <p:grpSp>
          <p:nvGrpSpPr>
            <p:cNvPr id="871" name=""/>
            <p:cNvGrpSpPr/>
            <p:nvPr/>
          </p:nvGrpSpPr>
          <p:grpSpPr>
            <a:xfrm>
              <a:off x="7018200" y="4572000"/>
              <a:ext cx="1694160" cy="368280"/>
              <a:chOff x="7018200" y="4572000"/>
              <a:chExt cx="1694160" cy="368280"/>
            </a:xfrm>
          </p:grpSpPr>
          <p:sp>
            <p:nvSpPr>
              <p:cNvPr id="872" name=""/>
              <p:cNvSpPr/>
              <p:nvPr/>
            </p:nvSpPr>
            <p:spPr>
              <a:xfrm>
                <a:off x="7120080" y="4572000"/>
                <a:ext cx="745200" cy="368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865280" y="4572000"/>
                <a:ext cx="744840" cy="36828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         </a:t>
                </a: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018200" y="4572000"/>
                <a:ext cx="10188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8610480" y="4572000"/>
                <a:ext cx="10188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6" name=""/>
            <p:cNvSpPr/>
            <p:nvPr/>
          </p:nvSpPr>
          <p:spPr>
            <a:xfrm>
              <a:off x="7723080" y="4572000"/>
              <a:ext cx="144720" cy="368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840800" y="4572000"/>
              <a:ext cx="290520" cy="368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8" name=""/>
            <p:cNvGrpSpPr/>
            <p:nvPr/>
          </p:nvGrpSpPr>
          <p:grpSpPr>
            <a:xfrm>
              <a:off x="7699320" y="5560560"/>
              <a:ext cx="504720" cy="306720"/>
              <a:chOff x="7699320" y="5560560"/>
              <a:chExt cx="504720" cy="306720"/>
            </a:xfrm>
          </p:grpSpPr>
          <p:sp>
            <p:nvSpPr>
              <p:cNvPr id="879" name=""/>
              <p:cNvSpPr/>
              <p:nvPr/>
            </p:nvSpPr>
            <p:spPr>
              <a:xfrm>
                <a:off x="8109000" y="5622840"/>
                <a:ext cx="0" cy="24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8069400" y="5682960"/>
                <a:ext cx="0" cy="12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8112240" y="5744880"/>
                <a:ext cx="91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7883640" y="5744880"/>
                <a:ext cx="18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flipH="1" flipV="1">
                <a:off x="7699320" y="5560560"/>
                <a:ext cx="184320" cy="18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4" name=""/>
            <p:cNvSpPr/>
            <p:nvPr/>
          </p:nvSpPr>
          <p:spPr>
            <a:xfrm>
              <a:off x="6872400" y="5744880"/>
              <a:ext cx="780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8169120" y="5744880"/>
              <a:ext cx="68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6" name=""/>
            <p:cNvCxnSpPr>
              <a:stCxn id="874" idx="1"/>
              <a:endCxn id="884" idx="0"/>
            </p:cNvCxnSpPr>
            <p:nvPr/>
          </p:nvCxnSpPr>
          <p:spPr>
            <a:xfrm flipV="1" rot="10800000">
              <a:off x="6871680" y="4754520"/>
              <a:ext cx="146520" cy="989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7" name=""/>
            <p:cNvCxnSpPr>
              <a:stCxn id="875" idx="3"/>
              <a:endCxn id="885" idx="0"/>
            </p:cNvCxnSpPr>
            <p:nvPr/>
          </p:nvCxnSpPr>
          <p:spPr>
            <a:xfrm>
              <a:off x="8712000" y="4755600"/>
              <a:ext cx="146520" cy="989280"/>
            </a:xfrm>
            <a:prstGeom prst="bentConnector4">
              <a:avLst>
                <a:gd name="adj1" fmla="val 96551"/>
                <a:gd name="adj2" fmla="val 41718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88" name=""/>
            <p:cNvSpPr/>
            <p:nvPr/>
          </p:nvSpPr>
          <p:spPr>
            <a:xfrm>
              <a:off x="7647120" y="5857920"/>
              <a:ext cx="82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7567560" y="3352680"/>
            <a:ext cx="228600" cy="257040"/>
            <a:chOff x="7567560" y="3352680"/>
            <a:chExt cx="228600" cy="257040"/>
          </a:xfrm>
        </p:grpSpPr>
        <p:sp>
          <p:nvSpPr>
            <p:cNvPr id="890" name=""/>
            <p:cNvSpPr/>
            <p:nvPr/>
          </p:nvSpPr>
          <p:spPr>
            <a:xfrm>
              <a:off x="7596360" y="3352680"/>
              <a:ext cx="1616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567560" y="36097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7662960" y="5486400"/>
            <a:ext cx="228600" cy="257040"/>
            <a:chOff x="7662960" y="5486400"/>
            <a:chExt cx="228600" cy="257040"/>
          </a:xfrm>
        </p:grpSpPr>
        <p:sp>
          <p:nvSpPr>
            <p:cNvPr id="893" name=""/>
            <p:cNvSpPr/>
            <p:nvPr/>
          </p:nvSpPr>
          <p:spPr>
            <a:xfrm>
              <a:off x="7691760" y="5486400"/>
              <a:ext cx="1616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662960" y="574344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5" name=""/>
          <p:cNvSpPr/>
          <p:nvPr/>
        </p:nvSpPr>
        <p:spPr>
          <a:xfrm>
            <a:off x="7086600" y="281952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Polarización direc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162920" y="49528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Polarización inver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orrientes en Juntura pn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648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Ecuación de continuidad Bajo inyección Low-Level y equilibri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9" name=""/>
              <p:cNvSpPr txBox="1"/>
              <p:nvPr/>
            </p:nvSpPr>
            <p:spPr>
              <a:xfrm>
                <a:off x="5257800" y="2133720"/>
                <a:ext cx="3733920" cy="75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5407200" y="3352680"/>
                <a:ext cx="306036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d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1" name=""/>
              <p:cNvSpPr txBox="1"/>
              <p:nvPr/>
            </p:nvSpPr>
            <p:spPr>
              <a:xfrm>
                <a:off x="5721480" y="4724280"/>
                <a:ext cx="2747880" cy="12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o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onde 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02" name=""/>
          <p:cNvSpPr/>
          <p:nvPr/>
        </p:nvSpPr>
        <p:spPr>
          <a:xfrm>
            <a:off x="682560" y="2708280"/>
            <a:ext cx="411480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Condiciones de borde dadas por la ley de la juntura p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(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682560" y="3308400"/>
            <a:ext cx="411480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Corrientes de portadores minoritarios se deben principalmente a difu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85800" y="4191120"/>
            <a:ext cx="4114800" cy="20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La ecuación de continuidad y la expresión para la densidad de corriente entregan, para régimen permanente, la ecuación que describe las corrientes de un diodo de juntu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orrientes en Juntura pn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4419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Soluciones ecuació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7" name=""/>
              <p:cNvSpPr txBox="1"/>
              <p:nvPr/>
            </p:nvSpPr>
            <p:spPr>
              <a:xfrm>
                <a:off x="5319720" y="2057400"/>
                <a:ext cx="235260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8" name=""/>
              <p:cNvSpPr txBox="1"/>
              <p:nvPr/>
            </p:nvSpPr>
            <p:spPr>
              <a:xfrm>
                <a:off x="4730760" y="3276720"/>
                <a:ext cx="406080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Cos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Sen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e>
                          <m:sup>
                            <m:r>
                              <m:t xml:space="preserve">x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9" name=""/>
              <p:cNvSpPr txBox="1"/>
              <p:nvPr/>
            </p:nvSpPr>
            <p:spPr>
              <a:xfrm>
                <a:off x="2135160" y="4246560"/>
                <a:ext cx="533088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t xml:space="preserve">≈</m:t>
                            </m:r>
                            <m:r>
                              <m:t xml:space="preserve">A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x</m:t>
                                        </m:r>
                                        <m:r>
                                          <m:t xml:space="preserve">/</m:t>
                                        </m:r>
                                        <m:sSub>
                                          <m:e>
                                            <m:r>
                                              <m:t xml:space="preserve">L</m:t>
                                            </m:r>
                                          </m:e>
                                          <m:sub>
                                            <m:r>
                                              <m:t xml:space="preserve">p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para 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&lt;&lt;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0" name=""/>
              <p:cNvSpPr txBox="1"/>
              <p:nvPr/>
            </p:nvSpPr>
            <p:spPr>
              <a:xfrm>
                <a:off x="5334120" y="5410080"/>
                <a:ext cx="241452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A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1" name=""/>
          <p:cNvSpPr/>
          <p:nvPr/>
        </p:nvSpPr>
        <p:spPr>
          <a:xfrm>
            <a:off x="228600" y="2057400"/>
            <a:ext cx="4952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Soluciones con interés tecnológic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x &lt;&lt;L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p 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: Base de un Transistor pn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x &gt;&gt;L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: Diodo p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228600" y="4952880"/>
            <a:ext cx="4419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De la definición de corriente de difusió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orrientes en Juntura pn (Tarea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Tarea 1.2: Demuestre que las corrientes de difusión en un diodo pn polarizado con una fuente externa de voltaje V están dadas por :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914400" y="518148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Times New Roman"/>
              </a:rPr>
              <a:t>Indicación: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Considere el origen de coordenadas x en la juntura. Adicionalmente asuma que el ancho de las regiones tipo p y n es mucho mayor que el camino libre medio de los portadores inyecta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85800" y="3352680"/>
            <a:ext cx="7696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ya que la corriente total en un diodo está dada por I=I</a:t>
            </a:r>
            <a:r>
              <a:rPr b="0" i="1" lang="es-C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n</a:t>
            </a:r>
            <a:r>
              <a:rPr b="0" i="1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W</a:t>
            </a:r>
            <a:r>
              <a:rPr b="0" i="1" lang="es-C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+I</a:t>
            </a:r>
            <a:r>
              <a:rPr b="0" i="1" lang="es-C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p</a:t>
            </a:r>
            <a:r>
              <a:rPr b="0" i="1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-W</a:t>
            </a:r>
            <a:r>
              <a:rPr b="0" i="1" lang="es-C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¿por qué se evalúa justo en los bordes?. Refiérase en particular a las corrientes de portadores mayoritarios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7" name=""/>
              <p:cNvSpPr txBox="1"/>
              <p:nvPr/>
            </p:nvSpPr>
            <p:spPr>
              <a:xfrm>
                <a:off x="838080" y="2592360"/>
                <a:ext cx="335304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qA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V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sup>
                    </m:sSup>
                    <m:r>
                      <m:t xml:space="preserve">;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8" name=""/>
              <p:cNvSpPr txBox="1"/>
              <p:nvPr/>
            </p:nvSpPr>
            <p:spPr>
              <a:xfrm>
                <a:off x="4419720" y="2568600"/>
                <a:ext cx="365760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qA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V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p>
                    </m:sSup>
                    <m:r>
                      <m:t xml:space="preserve">;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9" name=""/>
              <p:cNvSpPr txBox="1"/>
              <p:nvPr/>
            </p:nvSpPr>
            <p:spPr>
              <a:xfrm>
                <a:off x="1981080" y="4338720"/>
                <a:ext cx="487692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qA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qA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V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Dispositivos Electrónicos Básic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010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2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aracterísticas Estáticas </a:t>
            </a:r>
            <a:br>
              <a:rPr sz="3200"/>
            </a:b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de los Diodos de Juntura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orrientes en Juntura pn (Comentario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Tarea 1.3 (*): (a)Demuestre que la corriente I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np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(x) para x &lt;&lt; L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nB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 (Inyección de e’s desde el emisor tipo n, a la base tipo p) está dada por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2" name=""/>
              <p:cNvSpPr txBox="1"/>
              <p:nvPr/>
            </p:nvSpPr>
            <p:spPr>
              <a:xfrm>
                <a:off x="1828800" y="2286000"/>
                <a:ext cx="5913360" cy="13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A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B</m:t>
                            </m:r>
                          </m:sub>
                        </m:sSub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γ</m:t>
                            </m:r>
                            <m:f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B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den>
                            </m:f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δ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γ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f>
                                              <m:num>
                                                <m:sSub>
                                                  <m:e>
                                                    <m:r>
                                                      <m:t xml:space="preserve">W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t xml:space="preserve">B</m:t>
                                                    </m:r>
                                                  </m:sub>
                                                </m:sSub>
                                              </m:num>
                                              <m:den>
                                                <m:sSub>
                                                  <m:e>
                                                    <m:r>
                                                      <m:t xml:space="preserve">L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rPr>
                                                        <m:lit/>
                                                        <m:nor/>
                                                      </m:rPr>
                                                      <m:t xml:space="preserve">nB</m:t>
                                                    </m:r>
                                                  </m:sub>
                                                </m:sSub>
                                              </m:den>
                                            </m:f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</m:d>
                          </m:e>
                        </m:d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0</m:t>
                        </m:r>
                        <m:r>
                          <m:t xml:space="preserve">&lt;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onde   </m:t>
                        </m:r>
                        <m:r>
                          <m:t xml:space="preserve">γ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sub>
                                </m:sSub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y   </m:t>
                        </m:r>
                        <m:r>
                          <m:t xml:space="preserve">δ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B</m:t>
                                    </m:r>
                                  </m:sub>
                                </m:sSub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3" name=""/>
              <p:cNvSpPr txBox="1"/>
              <p:nvPr/>
            </p:nvSpPr>
            <p:spPr>
              <a:xfrm>
                <a:off x="5181480" y="5029200"/>
                <a:ext cx="236700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diciones de Borde: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B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24" name=""/>
          <p:cNvSpPr/>
          <p:nvPr/>
        </p:nvSpPr>
        <p:spPr>
          <a:xfrm>
            <a:off x="838080" y="3733920"/>
            <a:ext cx="76964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00"/>
                </a:solidFill>
                <a:latin typeface="Times New Roman"/>
              </a:rPr>
              <a:t>Indicación: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 Un transistor es un “arreglo” npn. Por lo tanto posee dos junturas. Resuelva la ecuación de continuidad para los portadores minoritarios n</a:t>
            </a:r>
            <a:r>
              <a:rPr b="0" i="1" lang="es-MX" sz="16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(x) aplicando dos condiciones de borde: La primera en x=0 que es justo donde termina la zona de agotamiento emisor-base y la otra es en x=W</a:t>
            </a:r>
            <a:r>
              <a:rPr b="0" i="1" lang="es-MX" sz="1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  que es justo donde comienza la zona de agotamiento base-colecto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5" name=""/>
          <p:cNvGrpSpPr/>
          <p:nvPr/>
        </p:nvGrpSpPr>
        <p:grpSpPr>
          <a:xfrm>
            <a:off x="1903320" y="4952880"/>
            <a:ext cx="2670120" cy="1590120"/>
            <a:chOff x="1903320" y="4952880"/>
            <a:chExt cx="2670120" cy="1590120"/>
          </a:xfrm>
        </p:grpSpPr>
        <p:sp>
          <p:nvSpPr>
            <p:cNvPr id="926" name=""/>
            <p:cNvSpPr/>
            <p:nvPr/>
          </p:nvSpPr>
          <p:spPr>
            <a:xfrm>
              <a:off x="2133360" y="5257800"/>
              <a:ext cx="838440" cy="4572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971800" y="5257800"/>
              <a:ext cx="53316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504960" y="5257800"/>
              <a:ext cx="838440" cy="4572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057400" y="6172200"/>
              <a:ext cx="823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MX" sz="16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30" name=""/>
            <p:cNvCxnSpPr>
              <a:stCxn id="931" idx="0"/>
              <a:endCxn id="926" idx="1"/>
            </p:cNvCxnSpPr>
            <p:nvPr/>
          </p:nvCxnSpPr>
          <p:spPr>
            <a:xfrm flipV="1" rot="16200000">
              <a:off x="1844280" y="5774760"/>
              <a:ext cx="654840" cy="76680"/>
            </a:xfrm>
            <a:prstGeom prst="bentConnector4">
              <a:avLst>
                <a:gd name="adj1" fmla="val -220"/>
                <a:gd name="adj2" fmla="val 401415"/>
              </a:avLst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932" name=""/>
            <p:cNvGrpSpPr/>
            <p:nvPr/>
          </p:nvGrpSpPr>
          <p:grpSpPr>
            <a:xfrm>
              <a:off x="2209320" y="6013080"/>
              <a:ext cx="650880" cy="244440"/>
              <a:chOff x="2209320" y="6013080"/>
              <a:chExt cx="650880" cy="244440"/>
            </a:xfrm>
          </p:grpSpPr>
          <p:sp>
            <p:nvSpPr>
              <p:cNvPr id="933" name=""/>
              <p:cNvSpPr/>
              <p:nvPr/>
            </p:nvSpPr>
            <p:spPr>
              <a:xfrm flipV="1">
                <a:off x="2554200" y="6013080"/>
                <a:ext cx="0" cy="24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 flipV="1">
                <a:off x="2514600" y="6073560"/>
                <a:ext cx="0" cy="12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flipH="1">
                <a:off x="2555280" y="614052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flipH="1">
                <a:off x="2209320" y="614052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937" name=""/>
            <p:cNvCxnSpPr>
              <a:stCxn id="935" idx="0"/>
              <a:endCxn id="927" idx="2"/>
            </p:cNvCxnSpPr>
            <p:nvPr/>
          </p:nvCxnSpPr>
          <p:spPr>
            <a:xfrm flipH="1" flipV="1" rot="5400000">
              <a:off x="2836440" y="5738400"/>
              <a:ext cx="426240" cy="378720"/>
            </a:xfrm>
            <a:prstGeom prst="bentConnector3">
              <a:avLst>
                <a:gd name="adj1" fmla="val -338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38" name=""/>
            <p:cNvSpPr/>
            <p:nvPr/>
          </p:nvSpPr>
          <p:spPr>
            <a:xfrm flipH="1">
              <a:off x="3504240" y="6172200"/>
              <a:ext cx="824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MX" sz="1600" spc="-1" strike="noStrike" baseline="-25000">
                  <a:solidFill>
                    <a:srgbClr val="000000"/>
                  </a:solidFill>
                  <a:latin typeface="Times New Roman"/>
                </a:rPr>
                <a:t>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39" name=""/>
            <p:cNvCxnSpPr>
              <a:stCxn id="940" idx="0"/>
              <a:endCxn id="928" idx="3"/>
            </p:cNvCxnSpPr>
            <p:nvPr/>
          </p:nvCxnSpPr>
          <p:spPr>
            <a:xfrm flipH="1" flipV="1" rot="5400000">
              <a:off x="3976200" y="5776560"/>
              <a:ext cx="658080" cy="76680"/>
            </a:xfrm>
            <a:prstGeom prst="bentConnector4">
              <a:avLst>
                <a:gd name="adj1" fmla="val -218"/>
                <a:gd name="adj2" fmla="val 401415"/>
              </a:avLst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941" name=""/>
            <p:cNvGrpSpPr/>
            <p:nvPr/>
          </p:nvGrpSpPr>
          <p:grpSpPr>
            <a:xfrm>
              <a:off x="3615840" y="6019560"/>
              <a:ext cx="650880" cy="244440"/>
              <a:chOff x="3615840" y="6019560"/>
              <a:chExt cx="650880" cy="244440"/>
            </a:xfrm>
          </p:grpSpPr>
          <p:sp>
            <p:nvSpPr>
              <p:cNvPr id="942" name=""/>
              <p:cNvSpPr/>
              <p:nvPr/>
            </p:nvSpPr>
            <p:spPr>
              <a:xfrm flipV="1">
                <a:off x="3960720" y="6019560"/>
                <a:ext cx="0" cy="24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flipV="1">
                <a:off x="3921120" y="6080040"/>
                <a:ext cx="0" cy="12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flipH="1">
                <a:off x="3961800" y="614376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 flipH="1">
                <a:off x="3615840" y="614052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946" name=""/>
            <p:cNvCxnSpPr>
              <a:stCxn id="945" idx="0"/>
              <a:endCxn id="927" idx="2"/>
            </p:cNvCxnSpPr>
            <p:nvPr/>
          </p:nvCxnSpPr>
          <p:spPr>
            <a:xfrm flipV="1" rot="16200000">
              <a:off x="3214080" y="5738400"/>
              <a:ext cx="426240" cy="378360"/>
            </a:xfrm>
            <a:prstGeom prst="bentConnector3">
              <a:avLst>
                <a:gd name="adj1" fmla="val -338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47" name=""/>
            <p:cNvSpPr/>
            <p:nvPr/>
          </p:nvSpPr>
          <p:spPr>
            <a:xfrm>
              <a:off x="2057400" y="4952880"/>
              <a:ext cx="106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Emis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666880" y="4952880"/>
              <a:ext cx="106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Ba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352680" y="4952880"/>
              <a:ext cx="106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Colec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orrientes en Juntura pn (Comentario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Tarea 1.3 (*): (b) A partir del resultado anterior (y bajo los mismas hipótesis) muestre que el factor </a:t>
            </a:r>
            <a:r>
              <a:rPr b="0" i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, que representa la fracción de los portadores inyectados desde el emisor que alcanzan el colector, está dado por: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2" name=""/>
              <p:cNvSpPr txBox="1"/>
              <p:nvPr/>
            </p:nvSpPr>
            <p:spPr>
              <a:xfrm>
                <a:off x="2133720" y="2362320"/>
                <a:ext cx="513720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</m:den>
                    </m:f>
                    <m:r>
                      <m:t xml:space="preserve">≈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δ</m:t>
                            </m:r>
                            <m:r>
                              <m:t xml:space="preserve">−</m:t>
                            </m:r>
                            <m:r>
                              <m:t xml:space="preserve">γ</m:t>
                            </m:r>
                          </m:e>
                        </m:d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B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sub>
                                </m:sSub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B</m:t>
                                    </m:r>
                                  </m:sub>
                                </m:sSub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sub>
                                </m:sSub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sup>
                            </m:sSup>
                          </m:e>
                        </m:d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B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53" name=""/>
          <p:cNvSpPr/>
          <p:nvPr/>
        </p:nvSpPr>
        <p:spPr>
          <a:xfrm>
            <a:off x="1066680" y="320040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00"/>
                </a:solidFill>
                <a:latin typeface="Times New Roman"/>
              </a:rPr>
              <a:t>Indicación: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 Obtenga la expresión general para </a:t>
            </a:r>
            <a:r>
              <a:rPr b="0" i="1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s-MX" sz="1600" spc="-1" strike="noStrike" baseline="-25000">
                <a:solidFill>
                  <a:srgbClr val="000000"/>
                </a:solidFill>
                <a:latin typeface="Times New Roman"/>
              </a:rPr>
              <a:t>T   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y aproxime la expresión mediante desarrollos en serie de Taylo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85800" y="3809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Un transistor npn en su “zona activa” tiene V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&gt;&gt; V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 (juntura emisor-base en directa) y V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CB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&gt;&gt; V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(juntura base-colector en inversa). Muestre que para estas condiciones se tiene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5" name=""/>
              <p:cNvSpPr txBox="1"/>
              <p:nvPr/>
            </p:nvSpPr>
            <p:spPr>
              <a:xfrm>
                <a:off x="4114800" y="4572000"/>
                <a:ext cx="140652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B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56" name=""/>
          <p:cNvSpPr/>
          <p:nvPr/>
        </p:nvSpPr>
        <p:spPr>
          <a:xfrm>
            <a:off x="762120" y="54100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En un transistor es deseable tener este factor lo más cercano posible a 1. Esto puede lograrse achicando el ancho de la base W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. Proponga alguna forma de lograr es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orrientes en Juntura pn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373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Corriente juntura pn </a:t>
            </a:r>
            <a:br>
              <a:rPr sz="2000"/>
            </a:b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(modelo difusión)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9" name=""/>
              <p:cNvSpPr txBox="1"/>
              <p:nvPr/>
            </p:nvSpPr>
            <p:spPr>
              <a:xfrm>
                <a:off x="3295800" y="1676520"/>
                <a:ext cx="53416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V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qA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qA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0" name=""/>
              <p:cNvSpPr txBox="1"/>
              <p:nvPr/>
            </p:nvSpPr>
            <p:spPr>
              <a:xfrm>
                <a:off x="1523880" y="4495680"/>
                <a:ext cx="221004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V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RI</m:t>
                                </m:r>
                              </m:e>
                            </m:d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η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61" name=""/>
          <p:cNvSpPr/>
          <p:nvPr/>
        </p:nvSpPr>
        <p:spPr>
          <a:xfrm>
            <a:off x="304920" y="2286000"/>
            <a:ext cx="441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En la práct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304920" y="5029200"/>
            <a:ext cx="4419360" cy="14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Para polarización invers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V&lt;&lt;-V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(~26mV a T ambien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I ~ -I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, corriente de saturación inversa, para el Si es del orden de </a:t>
            </a:r>
            <a:br>
              <a:rPr sz="1800"/>
            </a:b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los nA a Temperatura amb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304920" y="2590920"/>
            <a:ext cx="44193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Existe recombinación en la zona de agotamiento: 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MX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MX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 ; </a:t>
            </a:r>
            <a:r>
              <a:rPr b="0" i="1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 [1, 2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No todo el voltaje V aparece en la zona de agot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Resistencia cuerpo R </a:t>
            </a:r>
            <a:br>
              <a:rPr sz="1600"/>
            </a:b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“pequeña” (1</a:t>
            </a:r>
            <a:r>
              <a:rPr b="0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i="1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 V - R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4" name=""/>
          <p:cNvGrpSpPr/>
          <p:nvPr/>
        </p:nvGrpSpPr>
        <p:grpSpPr>
          <a:xfrm>
            <a:off x="4419720" y="2438280"/>
            <a:ext cx="4723920" cy="4054680"/>
            <a:chOff x="4419720" y="2438280"/>
            <a:chExt cx="4723920" cy="4054680"/>
          </a:xfrm>
        </p:grpSpPr>
        <p:grpSp>
          <p:nvGrpSpPr>
            <p:cNvPr id="965" name=""/>
            <p:cNvGrpSpPr/>
            <p:nvPr/>
          </p:nvGrpSpPr>
          <p:grpSpPr>
            <a:xfrm>
              <a:off x="4419720" y="2743200"/>
              <a:ext cx="4723920" cy="3749760"/>
              <a:chOff x="4419720" y="2743200"/>
              <a:chExt cx="4723920" cy="3749760"/>
            </a:xfrm>
          </p:grpSpPr>
          <p:pic>
            <p:nvPicPr>
              <p:cNvPr id="966" name="Diodo_IV" descr=""/>
              <p:cNvPicPr/>
              <p:nvPr/>
            </p:nvPicPr>
            <p:blipFill>
              <a:blip r:embed="rId1"/>
              <a:stretch/>
            </p:blipFill>
            <p:spPr>
              <a:xfrm>
                <a:off x="4419720" y="2743200"/>
                <a:ext cx="3391560" cy="3749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7" name=""/>
              <p:cNvSpPr/>
              <p:nvPr/>
            </p:nvSpPr>
            <p:spPr>
              <a:xfrm>
                <a:off x="7544520" y="3227400"/>
                <a:ext cx="13809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Resistencia Serie (cuerpo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7544520" y="4195800"/>
                <a:ext cx="13809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orrientes de difusió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7472160" y="5440680"/>
                <a:ext cx="1671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orrientes de Recombinació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0" name=""/>
            <p:cNvSpPr/>
            <p:nvPr/>
          </p:nvSpPr>
          <p:spPr>
            <a:xfrm>
              <a:off x="4495680" y="2438280"/>
              <a:ext cx="411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Gráfica log I  v/s V polarización direc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orrientes en Juntura pn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diciones: Tamb,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=10nA,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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3" name=""/>
              <p:cNvSpPr txBox="1"/>
              <p:nvPr/>
            </p:nvSpPr>
            <p:spPr>
              <a:xfrm>
                <a:off x="5452920" y="1981080"/>
                <a:ext cx="342108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η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t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74" name="" descr=""/>
          <p:cNvPicPr/>
          <p:nvPr/>
        </p:nvPicPr>
        <p:blipFill>
          <a:blip r:embed="rId1"/>
          <a:stretch/>
        </p:blipFill>
        <p:spPr>
          <a:xfrm>
            <a:off x="228600" y="2590920"/>
            <a:ext cx="6226200" cy="3508200"/>
          </a:xfrm>
          <a:prstGeom prst="rect">
            <a:avLst/>
          </a:prstGeom>
          <a:ln w="0">
            <a:noFill/>
          </a:ln>
        </p:spPr>
      </p:pic>
      <p:sp>
        <p:nvSpPr>
          <p:cNvPr id="975" name=""/>
          <p:cNvSpPr/>
          <p:nvPr/>
        </p:nvSpPr>
        <p:spPr>
          <a:xfrm>
            <a:off x="6400800" y="2743200"/>
            <a:ext cx="27432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sistencia R no es alta para un diodo, sí para un transistor. En este caso el rango de operación típico 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Zona Activa en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[0,5; 0,8] 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xiste Voltaje “umbral”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cut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prox. 0,5 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2590920" y="3505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2590920" y="365760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aída en el cuer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28600" y="6095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Voltajes externos necesarios para obtener la corriente indic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aracterística V/I Diodo de Juntur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4495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pendencia de la temperatur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1" name=""/>
              <p:cNvSpPr txBox="1"/>
              <p:nvPr/>
            </p:nvSpPr>
            <p:spPr>
              <a:xfrm>
                <a:off x="838080" y="2895480"/>
                <a:ext cx="32767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sSup>
                      <m:e>
                        <m:r>
                          <m:t xml:space="preserve">2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p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en</m:t>
                    </m:r>
                    <m:r>
                      <m:rPr>
                        <m:lit/>
                        <m:nor/>
                      </m:rPr>
                      <m:t xml:space="preserve">º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2" name=""/>
              <p:cNvSpPr txBox="1"/>
              <p:nvPr/>
            </p:nvSpPr>
            <p:spPr>
              <a:xfrm>
                <a:off x="2449440" y="3352680"/>
                <a:ext cx="167652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,1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num>
                      <m:den>
                        <m:r>
                          <m:t xml:space="preserve">º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3" name=""/>
          <p:cNvSpPr/>
          <p:nvPr/>
        </p:nvSpPr>
        <p:spPr>
          <a:xfrm>
            <a:off x="685800" y="1828800"/>
            <a:ext cx="3809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 de saturación invers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85800" y="3048120"/>
            <a:ext cx="3657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oltaje: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s curvas características se desplazan ante cambios en la tempera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5" name="" descr=""/>
          <p:cNvPicPr/>
          <p:nvPr/>
        </p:nvPicPr>
        <p:blipFill>
          <a:blip r:embed="rId1"/>
          <a:stretch/>
        </p:blipFill>
        <p:spPr>
          <a:xfrm>
            <a:off x="4267080" y="2362320"/>
            <a:ext cx="4876920" cy="3004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86" name=""/>
              <p:cNvSpPr txBox="1"/>
              <p:nvPr/>
            </p:nvSpPr>
            <p:spPr>
              <a:xfrm>
                <a:off x="2152800" y="5943600"/>
                <a:ext cx="37908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η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sup>
                    </m:sSup>
                    <m:r>
                      <m:t xml:space="preserve">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η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7" name=""/>
          <p:cNvSpPr/>
          <p:nvPr/>
        </p:nvSpPr>
        <p:spPr>
          <a:xfrm>
            <a:off x="685800" y="457200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iodo encendido: si el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rgumento de la exponencial aumenta en ln(10)~ 2.3 entonces la corriente a través del diodo aumentará en un factor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fecto de la Temperatura: Ejempl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=27ºC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 0.5V, I=241.62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25mV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2 (corrientes pequeñas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495680" y="1981080"/>
            <a:ext cx="4114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mbio de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=60ºC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miento curva:-120 mV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=120mV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4.8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/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2.4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 ln(10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 aumenta en factor 10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1" name=""/>
          <p:cNvGrpSpPr/>
          <p:nvPr/>
        </p:nvGrpSpPr>
        <p:grpSpPr>
          <a:xfrm>
            <a:off x="898560" y="3886200"/>
            <a:ext cx="3444840" cy="2209680"/>
            <a:chOff x="898560" y="3886200"/>
            <a:chExt cx="3444840" cy="2209680"/>
          </a:xfrm>
        </p:grpSpPr>
        <p:pic>
          <p:nvPicPr>
            <p:cNvPr id="992" name="" descr=""/>
            <p:cNvPicPr/>
            <p:nvPr/>
          </p:nvPicPr>
          <p:blipFill>
            <a:blip r:embed="rId1"/>
            <a:stretch/>
          </p:blipFill>
          <p:spPr>
            <a:xfrm>
              <a:off x="898560" y="3886200"/>
              <a:ext cx="344484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3" name=""/>
            <p:cNvSpPr/>
            <p:nvPr/>
          </p:nvSpPr>
          <p:spPr>
            <a:xfrm>
              <a:off x="1660680" y="390816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T = 27º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4" name=""/>
          <p:cNvGrpSpPr/>
          <p:nvPr/>
        </p:nvGrpSpPr>
        <p:grpSpPr>
          <a:xfrm>
            <a:off x="4808520" y="3863880"/>
            <a:ext cx="3421080" cy="2232000"/>
            <a:chOff x="4808520" y="3863880"/>
            <a:chExt cx="3421080" cy="2232000"/>
          </a:xfrm>
        </p:grpSpPr>
        <p:pic>
          <p:nvPicPr>
            <p:cNvPr id="995" name="" descr=""/>
            <p:cNvPicPr/>
            <p:nvPr/>
          </p:nvPicPr>
          <p:blipFill>
            <a:blip r:embed="rId2"/>
            <a:stretch/>
          </p:blipFill>
          <p:spPr>
            <a:xfrm>
              <a:off x="4808520" y="3863880"/>
              <a:ext cx="3421080" cy="22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6" name=""/>
            <p:cNvSpPr/>
            <p:nvPr/>
          </p:nvSpPr>
          <p:spPr>
            <a:xfrm>
              <a:off x="5418000" y="388584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T = 87º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fecto de la Temperatura: Ejempl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Problema retroalimentado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Thermal runaway: </a:t>
            </a:r>
            <a:r>
              <a:rPr b="0" i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 T </a:t>
            </a:r>
            <a:r>
              <a:rPr b="0" i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 P </a:t>
            </a:r>
            <a:r>
              <a:rPr b="0" i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 T ..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Solución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Resistencia seri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Hace que </a:t>
            </a:r>
            <a:r>
              <a:rPr b="0" i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V quede en la resistencia provocando un aumento lineal de la corriente y no exponencia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mpedancia Equivalen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Resistencia Estátic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álida sólo para el punto de operación</a:t>
            </a:r>
            <a:br>
              <a:rPr sz="2400"/>
            </a:b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sistencia Dinámic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pende del punto de operación, permite análisis en la vecindad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mpedanci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ncluye efectos capacitivos de las juntur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2" name=""/>
              <p:cNvSpPr txBox="1"/>
              <p:nvPr/>
            </p:nvSpPr>
            <p:spPr>
              <a:xfrm>
                <a:off x="4691160" y="2590920"/>
                <a:ext cx="3843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V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η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η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η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η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3" name=""/>
              <p:cNvSpPr txBox="1"/>
              <p:nvPr/>
            </p:nvSpPr>
            <p:spPr>
              <a:xfrm>
                <a:off x="1496880" y="2560680"/>
                <a:ext cx="22370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≡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V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ηV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olarización externa sobre juntur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lterar barrera de potenci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irecta”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“fácil” conducción (Baja impedancia para voltajes superiores a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uti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versa”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 Alta impedancia, corriente casi nula (Saturación invers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aracterística Diod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pende de la temperatura (corrimiento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rrientes aumentan en factor 10 para cambios en el argumento de la exponencial de ln(10)~ 2.3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arámetros dependen del punto de oper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Estudiar la electrostática de una juntura p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Deducir el efecto de una fuente externa en el equilibrio de una juntura aislada ante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Polarización direct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Polarización invers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Obtener la característica estática de un diodo </a:t>
            </a:r>
            <a:br>
              <a:rPr sz="2800"/>
            </a:b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de juntura considerand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Efectos de grandes corrientes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Temperatur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Juntura pn: Potencial de Contact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5943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Caso particular de dopado no-uniform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Región tipo-p en contacto con región tipo-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En equilibrio: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Aparece “potencial de contacto” (Built-In) </a:t>
            </a:r>
            <a:br>
              <a:rPr sz="2000"/>
            </a:b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1  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en la juntura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6172200" y="1676520"/>
            <a:ext cx="2590560" cy="1671120"/>
            <a:chOff x="6172200" y="1676520"/>
            <a:chExt cx="2590560" cy="1671120"/>
          </a:xfrm>
        </p:grpSpPr>
        <p:sp>
          <p:nvSpPr>
            <p:cNvPr id="97" name=""/>
            <p:cNvSpPr/>
            <p:nvPr/>
          </p:nvSpPr>
          <p:spPr>
            <a:xfrm>
              <a:off x="6311880" y="2142720"/>
              <a:ext cx="1330200" cy="799200"/>
            </a:xfrm>
            <a:prstGeom prst="cube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432560" y="2142720"/>
              <a:ext cx="1330200" cy="7992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662160" y="1876320"/>
              <a:ext cx="0" cy="1265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782480" y="1876320"/>
              <a:ext cx="0" cy="1265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172200" y="2941920"/>
              <a:ext cx="559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s-MX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642440" y="2941920"/>
              <a:ext cx="559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s-MX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523560" y="2475720"/>
              <a:ext cx="908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s-MX" sz="1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592320" y="2542320"/>
              <a:ext cx="139680" cy="13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12640" y="2542320"/>
              <a:ext cx="139680" cy="13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23560" y="1676520"/>
              <a:ext cx="558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MX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42440" y="1676520"/>
              <a:ext cx="559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MX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712640" y="2475720"/>
              <a:ext cx="909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s-MX" sz="1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128600" y="3591000"/>
                <a:ext cx="292428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;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871880" y="3591000"/>
                <a:ext cx="273060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079720" y="4429080"/>
                <a:ext cx="477180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sup>
                    </m:sSup>
                    <m:r>
                      <m:t xml:space="preserve">⇔</m:t>
                    </m:r>
                    <m:f>
                      <m:num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348080" y="5257800"/>
                <a:ext cx="235116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828800" y="5410080"/>
                <a:ext cx="221292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sup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Juntura pn: Equilibrio y Región de Agotamiento (Depletion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85440" y="1981080"/>
            <a:ext cx="7705800" cy="2293920"/>
            <a:chOff x="685440" y="1981080"/>
            <a:chExt cx="7705800" cy="2293920"/>
          </a:xfrm>
        </p:grpSpPr>
        <p:sp>
          <p:nvSpPr>
            <p:cNvPr id="116" name=""/>
            <p:cNvSpPr/>
            <p:nvPr/>
          </p:nvSpPr>
          <p:spPr>
            <a:xfrm flipH="1" rot="5400000">
              <a:off x="1538280" y="2582280"/>
              <a:ext cx="6555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rot="5400000">
              <a:off x="2433600" y="2582280"/>
              <a:ext cx="6555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2872800" y="2147760"/>
              <a:ext cx="671400" cy="2192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1977480" y="2147760"/>
              <a:ext cx="671400" cy="2192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2706840" y="198432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2928240" y="2203560"/>
              <a:ext cx="11412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2480400" y="220356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2706840" y="242100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1754280" y="2147760"/>
              <a:ext cx="22392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1809000" y="198432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2032920" y="22035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1809000" y="24210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 rot="5400000">
              <a:off x="1537560" y="3448800"/>
              <a:ext cx="6573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 rot="5400000">
              <a:off x="2432880" y="3448800"/>
              <a:ext cx="6573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2872800" y="3889440"/>
              <a:ext cx="67140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2872800" y="3013200"/>
              <a:ext cx="671400" cy="21888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1977480" y="3889440"/>
              <a:ext cx="67140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1977480" y="3013200"/>
              <a:ext cx="671400" cy="21888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706840" y="2849400"/>
              <a:ext cx="110880" cy="10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2929680" y="306864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2480400" y="306864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2706840" y="328608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754280" y="3013200"/>
              <a:ext cx="22392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1809000" y="2849400"/>
              <a:ext cx="1112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2032920" y="306864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1809000" y="328608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2706840" y="372420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2928240" y="3943440"/>
              <a:ext cx="11412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2480400" y="394344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2706840" y="4160880"/>
              <a:ext cx="110880" cy="11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1754280" y="3889440"/>
              <a:ext cx="22392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1809000" y="37242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2032920" y="394344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1809000" y="4162320"/>
              <a:ext cx="1112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3767040" y="2147760"/>
              <a:ext cx="671760" cy="2192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3767040" y="388944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3767040" y="3013200"/>
              <a:ext cx="671760" cy="21888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4662360" y="214632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4662360" y="388620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4662360" y="3009960"/>
              <a:ext cx="671760" cy="21888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rot="5400000">
              <a:off x="4222080" y="2582640"/>
              <a:ext cx="655560" cy="2235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4493520" y="198432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4717440" y="220356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4268160" y="2203560"/>
              <a:ext cx="11412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4493520" y="2421000"/>
              <a:ext cx="111240" cy="10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 rot="5400000">
              <a:off x="4221000" y="3448800"/>
              <a:ext cx="657360" cy="2235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4437000" y="3013200"/>
              <a:ext cx="22536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4493520" y="2849400"/>
              <a:ext cx="1112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4717440" y="306864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4268160" y="306864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4493520" y="328608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4493520" y="37242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4717440" y="3943440"/>
              <a:ext cx="112680" cy="10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4268160" y="3943440"/>
              <a:ext cx="11412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4493520" y="4160880"/>
              <a:ext cx="111240" cy="11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rot="5400000">
              <a:off x="3329640" y="2581560"/>
              <a:ext cx="655560" cy="2253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3544920" y="2147760"/>
              <a:ext cx="22536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3600360" y="198432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3825000" y="22035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3377520" y="22035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3600360" y="242100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rot="5400000">
              <a:off x="3328920" y="3448080"/>
              <a:ext cx="657360" cy="2253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3600360" y="2849400"/>
              <a:ext cx="1144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3825000" y="306864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3377520" y="306864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600360" y="328608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3600360" y="372420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825000" y="394344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3377520" y="394344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00360" y="4162320"/>
              <a:ext cx="1144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 rot="5400000">
              <a:off x="5099040" y="2585520"/>
              <a:ext cx="6555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400000">
              <a:off x="5994360" y="2585520"/>
              <a:ext cx="6555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6433560" y="2152800"/>
              <a:ext cx="67140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5538240" y="2152800"/>
              <a:ext cx="67140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6210360" y="2152800"/>
              <a:ext cx="223920" cy="2174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6267600" y="198756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6489000" y="2206800"/>
              <a:ext cx="11412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6041160" y="2206800"/>
              <a:ext cx="11268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6267600" y="2424240"/>
              <a:ext cx="110880" cy="11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5315040" y="2152800"/>
              <a:ext cx="22392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369760" y="19875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5593680" y="22068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5145840" y="2206800"/>
              <a:ext cx="1126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5369760" y="242568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rot="5400000">
              <a:off x="5098320" y="3452040"/>
              <a:ext cx="6573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rot="5400000">
              <a:off x="5993640" y="3452040"/>
              <a:ext cx="6573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6433560" y="3892680"/>
              <a:ext cx="67140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433560" y="3016080"/>
              <a:ext cx="671400" cy="2192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5538240" y="3892680"/>
              <a:ext cx="67140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5538240" y="3016080"/>
              <a:ext cx="671400" cy="2192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6267600" y="2852640"/>
              <a:ext cx="1108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6490440" y="307188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6041160" y="307188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6267600" y="328932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5315040" y="3016080"/>
              <a:ext cx="22392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5369760" y="2852640"/>
              <a:ext cx="1112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5593680" y="307188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5145840" y="307188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5369760" y="328932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6210360" y="3892680"/>
              <a:ext cx="223920" cy="2174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6267600" y="372744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6489000" y="3946680"/>
              <a:ext cx="11412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6041160" y="3946680"/>
              <a:ext cx="11268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6267600" y="4164120"/>
              <a:ext cx="110880" cy="11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5315040" y="3892680"/>
              <a:ext cx="22392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5369760" y="372744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5593680" y="394668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5145840" y="3946680"/>
              <a:ext cx="1126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5369760" y="41655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611040" y="37260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7327800" y="215280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7327800" y="389268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7327800" y="3016080"/>
              <a:ext cx="671760" cy="2192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5992200" y="242892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6200640" y="3027240"/>
              <a:ext cx="22392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 rot="5400000">
              <a:off x="7782840" y="2585880"/>
              <a:ext cx="655560" cy="2235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7998840" y="2152800"/>
              <a:ext cx="222120" cy="2174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8054280" y="19875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8278200" y="2206800"/>
              <a:ext cx="11268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7828920" y="2206800"/>
              <a:ext cx="11268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8054280" y="2424240"/>
              <a:ext cx="111240" cy="11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 rot="5400000">
              <a:off x="7781760" y="3452040"/>
              <a:ext cx="657360" cy="2235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7997760" y="3016080"/>
              <a:ext cx="22536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8054280" y="2852640"/>
              <a:ext cx="1112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8278200" y="307188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7828920" y="307188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8054280" y="328932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8054280" y="372744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8278200" y="3946680"/>
              <a:ext cx="11268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7828920" y="3946680"/>
              <a:ext cx="11412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8054280" y="4164120"/>
              <a:ext cx="111240" cy="11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7779600" y="2489040"/>
              <a:ext cx="1112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 rot="5400000">
              <a:off x="6890400" y="2584800"/>
              <a:ext cx="655560" cy="2253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7105680" y="2152800"/>
              <a:ext cx="22536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7161120" y="198756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7385760" y="22068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6938280" y="22068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7161120" y="242568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 rot="5400000">
              <a:off x="6889680" y="3451320"/>
              <a:ext cx="657360" cy="2253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7161120" y="2852640"/>
              <a:ext cx="1144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7385760" y="307188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6938280" y="307188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7161120" y="328932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7105680" y="3892680"/>
              <a:ext cx="22536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7161120" y="372744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7385760" y="394668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6938280" y="394668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7161120" y="416556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6749280" y="279864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7107120" y="3027240"/>
              <a:ext cx="223920" cy="2174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433040" y="2127240"/>
              <a:ext cx="228600" cy="2127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2652120" y="3897360"/>
              <a:ext cx="22356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3546360" y="3016080"/>
              <a:ext cx="22392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2652120" y="2135160"/>
              <a:ext cx="22356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4419000" y="3895560"/>
              <a:ext cx="228600" cy="2127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 rot="5400000">
              <a:off x="637920" y="2579040"/>
              <a:ext cx="6555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1077840" y="214632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1580400" y="220032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909720" y="1981080"/>
              <a:ext cx="1108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1131120" y="2200320"/>
              <a:ext cx="1126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685080" y="220032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909720" y="2419200"/>
              <a:ext cx="110880" cy="10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 rot="5400000">
              <a:off x="636840" y="3445560"/>
              <a:ext cx="6573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1077840" y="388620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1077840" y="3009960"/>
              <a:ext cx="671760" cy="21888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1580400" y="306540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853920" y="3009960"/>
              <a:ext cx="22248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909720" y="284652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1131120" y="306540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685080" y="306540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909720" y="3282840"/>
              <a:ext cx="1108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580400" y="394020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853920" y="3886200"/>
              <a:ext cx="22248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909720" y="3720960"/>
              <a:ext cx="1108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131120" y="3940200"/>
              <a:ext cx="1126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685080" y="39402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909720" y="4159080"/>
              <a:ext cx="1108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2645640" y="3011400"/>
              <a:ext cx="228600" cy="2113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845280" y="2141640"/>
              <a:ext cx="228600" cy="2109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8009640" y="3911760"/>
              <a:ext cx="22572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3531600" y="3889440"/>
              <a:ext cx="22356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5867280" y="1600200"/>
            <a:ext cx="0" cy="281952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" y="4495680"/>
            <a:ext cx="5638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t = 0 : izquierda tipo P, derecha tipo N. (N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~ 2 N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" y="57150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Esta región presenta un campo eléctrico que provoca una deriva en </a:t>
            </a:r>
            <a:br>
              <a:rPr sz="1800"/>
            </a:b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el sentido contrario a la difusión: se alcanza el equilib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57200" y="495288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Comienza proceso de Difu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533412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Se provoca recombinación y se crea una región “sin portadores libre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"/>
          <p:cNvGrpSpPr/>
          <p:nvPr/>
        </p:nvGrpSpPr>
        <p:grpSpPr>
          <a:xfrm>
            <a:off x="685440" y="2166840"/>
            <a:ext cx="7705800" cy="2293920"/>
            <a:chOff x="685440" y="2166840"/>
            <a:chExt cx="7705800" cy="2293920"/>
          </a:xfrm>
        </p:grpSpPr>
        <p:sp>
          <p:nvSpPr>
            <p:cNvPr id="303" name=""/>
            <p:cNvSpPr/>
            <p:nvPr/>
          </p:nvSpPr>
          <p:spPr>
            <a:xfrm flipH="1" rot="5400000">
              <a:off x="1538280" y="2768040"/>
              <a:ext cx="6555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 rot="5400000">
              <a:off x="2433600" y="2768040"/>
              <a:ext cx="6555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2872800" y="2333520"/>
              <a:ext cx="671400" cy="2192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1977480" y="2333520"/>
              <a:ext cx="671400" cy="2192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2706840" y="217008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2928240" y="2389320"/>
              <a:ext cx="11412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2480400" y="238932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2706840" y="260676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1754280" y="2333520"/>
              <a:ext cx="22392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1809000" y="217008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2032920" y="238932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1809000" y="26067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 rot="5400000">
              <a:off x="1537560" y="3634560"/>
              <a:ext cx="6573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 rot="5400000">
              <a:off x="2432880" y="3634560"/>
              <a:ext cx="6573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2872800" y="4075200"/>
              <a:ext cx="67140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2872800" y="3198960"/>
              <a:ext cx="671400" cy="21888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977480" y="4075200"/>
              <a:ext cx="67140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1977480" y="3198960"/>
              <a:ext cx="671400" cy="21888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2706840" y="3035160"/>
              <a:ext cx="110880" cy="10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2929680" y="325440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2480400" y="325440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2706840" y="347184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1754280" y="3198960"/>
              <a:ext cx="22392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1809000" y="3035160"/>
              <a:ext cx="1112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2032920" y="325440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1809000" y="347184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2706840" y="390996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2928240" y="4129200"/>
              <a:ext cx="11412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2480400" y="412920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2706840" y="4346640"/>
              <a:ext cx="110880" cy="11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1754280" y="4075200"/>
              <a:ext cx="22392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1809000" y="39099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2032920" y="41292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1809000" y="4348080"/>
              <a:ext cx="1112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3767040" y="2333520"/>
              <a:ext cx="671760" cy="2192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3767040" y="407520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3767040" y="3198960"/>
              <a:ext cx="671760" cy="21888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4662360" y="233208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4662360" y="407196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4662360" y="3195720"/>
              <a:ext cx="671760" cy="21888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 rot="5400000">
              <a:off x="4222080" y="2768400"/>
              <a:ext cx="655560" cy="2235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4493520" y="217008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4717440" y="238932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4268160" y="2389320"/>
              <a:ext cx="11412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4493520" y="2606760"/>
              <a:ext cx="111240" cy="10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 rot="5400000">
              <a:off x="4221000" y="3634560"/>
              <a:ext cx="657360" cy="2235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4437000" y="3198960"/>
              <a:ext cx="22536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4493520" y="3035160"/>
              <a:ext cx="1112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4717440" y="325440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4268160" y="325440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4493520" y="347184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4493520" y="39099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4717440" y="4129200"/>
              <a:ext cx="112680" cy="10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4268160" y="4129200"/>
              <a:ext cx="11412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4493520" y="4346640"/>
              <a:ext cx="111240" cy="11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 rot="5400000">
              <a:off x="3329640" y="2767320"/>
              <a:ext cx="655560" cy="2253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3544920" y="2333520"/>
              <a:ext cx="22536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600360" y="217008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3825000" y="238932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3377520" y="238932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3600360" y="260676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 rot="5400000">
              <a:off x="3328920" y="3633840"/>
              <a:ext cx="657360" cy="2253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3600360" y="3035160"/>
              <a:ext cx="1144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3825000" y="325440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3377520" y="325440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3600360" y="347184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3600360" y="390996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3825000" y="41292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3377520" y="41292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3600360" y="4348080"/>
              <a:ext cx="1144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rot="5400000">
              <a:off x="5099040" y="2771280"/>
              <a:ext cx="6555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 rot="5400000">
              <a:off x="5994360" y="2771280"/>
              <a:ext cx="6555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6433560" y="2338560"/>
              <a:ext cx="67140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5538240" y="2338560"/>
              <a:ext cx="67140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6210360" y="2338560"/>
              <a:ext cx="223920" cy="2174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6267600" y="217332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6489000" y="2392560"/>
              <a:ext cx="11412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6041160" y="2392560"/>
              <a:ext cx="11268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6267600" y="2610000"/>
              <a:ext cx="110880" cy="11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5315040" y="2338560"/>
              <a:ext cx="22392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5369760" y="217332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5593680" y="23925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5145840" y="2392560"/>
              <a:ext cx="1126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5369760" y="261144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 rot="5400000">
              <a:off x="5098320" y="3637800"/>
              <a:ext cx="6573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rot="5400000">
              <a:off x="5993640" y="3637800"/>
              <a:ext cx="6573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6433560" y="4078440"/>
              <a:ext cx="67140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6433560" y="3201840"/>
              <a:ext cx="671400" cy="2192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5538240" y="4078440"/>
              <a:ext cx="67140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5538240" y="3201840"/>
              <a:ext cx="671400" cy="2192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6267600" y="3038400"/>
              <a:ext cx="1108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6490440" y="325764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6041160" y="325764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6267600" y="347508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5315040" y="3201840"/>
              <a:ext cx="22392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5369760" y="3038400"/>
              <a:ext cx="1112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5593680" y="325764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5145840" y="325764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5369760" y="347508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6210360" y="4078440"/>
              <a:ext cx="223920" cy="2174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6267600" y="391320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6489000" y="4132440"/>
              <a:ext cx="11412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6041160" y="4132440"/>
              <a:ext cx="11268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6267600" y="4349880"/>
              <a:ext cx="110880" cy="11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5315040" y="4078440"/>
              <a:ext cx="22392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5369760" y="39132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5593680" y="413244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5145840" y="4132440"/>
              <a:ext cx="1126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5369760" y="435132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6611040" y="39117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7327800" y="233856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7327800" y="407844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7327800" y="3201840"/>
              <a:ext cx="671760" cy="2192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5992200" y="261468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6200640" y="3213000"/>
              <a:ext cx="22392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 rot="5400000">
              <a:off x="7782840" y="2771640"/>
              <a:ext cx="655560" cy="2235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7998840" y="2338560"/>
              <a:ext cx="222120" cy="2174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8054280" y="217332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8278200" y="2392560"/>
              <a:ext cx="11268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7828920" y="2392560"/>
              <a:ext cx="11268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8054280" y="2610000"/>
              <a:ext cx="111240" cy="11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 rot="5400000">
              <a:off x="7781760" y="3637800"/>
              <a:ext cx="657360" cy="2235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7997760" y="3201840"/>
              <a:ext cx="22536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8054280" y="3038400"/>
              <a:ext cx="1112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8278200" y="325764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7828920" y="325764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8054280" y="347508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8054280" y="39132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8278200" y="4132440"/>
              <a:ext cx="11268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7828920" y="4132440"/>
              <a:ext cx="11412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8054280" y="4349880"/>
              <a:ext cx="111240" cy="11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779600" y="2674800"/>
              <a:ext cx="1112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 rot="5400000">
              <a:off x="6890400" y="2770560"/>
              <a:ext cx="655560" cy="2253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105680" y="2338560"/>
              <a:ext cx="22536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7161120" y="217332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7385760" y="23925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6938280" y="23925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7161120" y="261144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 rot="5400000">
              <a:off x="6889680" y="3637080"/>
              <a:ext cx="657360" cy="2253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7161120" y="3038400"/>
              <a:ext cx="1144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7385760" y="325764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6938280" y="325764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7161120" y="347508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7105680" y="4078440"/>
              <a:ext cx="22536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7161120" y="391320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7385760" y="413244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6938280" y="413244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7161120" y="435132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749280" y="298440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7107120" y="3213000"/>
              <a:ext cx="223920" cy="2174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4433040" y="2313000"/>
              <a:ext cx="228600" cy="2127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2652120" y="4083120"/>
              <a:ext cx="22356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3546360" y="3201840"/>
              <a:ext cx="22392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2652120" y="2320920"/>
              <a:ext cx="22356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4419000" y="4081320"/>
              <a:ext cx="228600" cy="2127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 rot="5400000">
              <a:off x="637920" y="2764800"/>
              <a:ext cx="6555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1077840" y="233208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1580400" y="238608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909720" y="2166840"/>
              <a:ext cx="1108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1131120" y="2386080"/>
              <a:ext cx="1126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685080" y="238608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909720" y="2604960"/>
              <a:ext cx="110880" cy="10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 rot="5400000">
              <a:off x="636840" y="3631320"/>
              <a:ext cx="6573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1077840" y="407196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1077840" y="3195720"/>
              <a:ext cx="671760" cy="21888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1580400" y="325116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853920" y="3195720"/>
              <a:ext cx="22248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909720" y="303228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>
              <a:off x="1131120" y="325116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685080" y="325116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909720" y="3468600"/>
              <a:ext cx="1108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1580400" y="412596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853920" y="4071960"/>
              <a:ext cx="22248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909720" y="3906720"/>
              <a:ext cx="1108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1131120" y="4125960"/>
              <a:ext cx="1126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685080" y="41259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909720" y="4344840"/>
              <a:ext cx="1108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2645640" y="3197160"/>
              <a:ext cx="228600" cy="2113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845280" y="2327400"/>
              <a:ext cx="228600" cy="2109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8009640" y="4097520"/>
              <a:ext cx="22572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3531600" y="4075200"/>
              <a:ext cx="22356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Juntura pn: Equilibrio y Región de Agotamiento (Depletion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57200" y="541008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t &gt;&gt;  max(tA, tN) Implica Barrera de Potencial y Deriva de port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4494600" y="2378160"/>
            <a:ext cx="347400" cy="331200"/>
            <a:chOff x="4494600" y="2378160"/>
            <a:chExt cx="347400" cy="331200"/>
          </a:xfrm>
        </p:grpSpPr>
        <p:sp>
          <p:nvSpPr>
            <p:cNvPr id="487" name=""/>
            <p:cNvSpPr/>
            <p:nvPr/>
          </p:nvSpPr>
          <p:spPr>
            <a:xfrm flipH="1">
              <a:off x="4701600" y="2378160"/>
              <a:ext cx="140040" cy="125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4494600" y="2601360"/>
              <a:ext cx="1116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2708280" y="3035160"/>
            <a:ext cx="785520" cy="328320"/>
            <a:chOff x="2708280" y="3035160"/>
            <a:chExt cx="785520" cy="328320"/>
          </a:xfrm>
        </p:grpSpPr>
        <p:sp>
          <p:nvSpPr>
            <p:cNvPr id="490" name=""/>
            <p:cNvSpPr/>
            <p:nvPr/>
          </p:nvSpPr>
          <p:spPr>
            <a:xfrm flipH="1">
              <a:off x="2708280" y="3035160"/>
              <a:ext cx="1116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3380760" y="3255480"/>
              <a:ext cx="112680" cy="10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7367760" y="2612880"/>
            <a:ext cx="593280" cy="295200"/>
            <a:chOff x="7367760" y="2612880"/>
            <a:chExt cx="593280" cy="295200"/>
          </a:xfrm>
        </p:grpSpPr>
        <p:sp>
          <p:nvSpPr>
            <p:cNvPr id="493" name=""/>
            <p:cNvSpPr/>
            <p:nvPr/>
          </p:nvSpPr>
          <p:spPr>
            <a:xfrm flipH="1">
              <a:off x="7367760" y="2799360"/>
              <a:ext cx="111600" cy="108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7686000" y="2612880"/>
              <a:ext cx="275040" cy="249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5994720" y="3727440"/>
            <a:ext cx="798120" cy="318240"/>
            <a:chOff x="5994720" y="3727440"/>
            <a:chExt cx="798120" cy="318240"/>
          </a:xfrm>
        </p:grpSpPr>
        <p:sp>
          <p:nvSpPr>
            <p:cNvPr id="496" name=""/>
            <p:cNvSpPr/>
            <p:nvPr/>
          </p:nvSpPr>
          <p:spPr>
            <a:xfrm flipH="1" flipV="1">
              <a:off x="5994720" y="3727440"/>
              <a:ext cx="111600" cy="107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 flipV="1">
              <a:off x="6518520" y="3799440"/>
              <a:ext cx="274320" cy="245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5994360" y="2908440"/>
            <a:ext cx="934560" cy="247680"/>
            <a:chOff x="5994360" y="2908440"/>
            <a:chExt cx="934560" cy="247680"/>
          </a:xfrm>
        </p:grpSpPr>
        <p:sp>
          <p:nvSpPr>
            <p:cNvPr id="499" name=""/>
            <p:cNvSpPr/>
            <p:nvPr/>
          </p:nvSpPr>
          <p:spPr>
            <a:xfrm flipH="1" flipV="1">
              <a:off x="5994000" y="298584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 flipV="1">
              <a:off x="6654600" y="2908440"/>
              <a:ext cx="274320" cy="247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5582160" y="2590920"/>
            <a:ext cx="591480" cy="293400"/>
            <a:chOff x="5582160" y="2590920"/>
            <a:chExt cx="591480" cy="293400"/>
          </a:xfrm>
        </p:grpSpPr>
        <p:sp>
          <p:nvSpPr>
            <p:cNvPr id="502" name=""/>
            <p:cNvSpPr/>
            <p:nvPr/>
          </p:nvSpPr>
          <p:spPr>
            <a:xfrm flipH="1">
              <a:off x="5581800" y="277632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5899320" y="2590920"/>
              <a:ext cx="274320" cy="247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4713480" y="3911760"/>
            <a:ext cx="772920" cy="321840"/>
            <a:chOff x="4713480" y="3911760"/>
            <a:chExt cx="772920" cy="321840"/>
          </a:xfrm>
        </p:grpSpPr>
        <p:sp>
          <p:nvSpPr>
            <p:cNvPr id="505" name=""/>
            <p:cNvSpPr/>
            <p:nvPr/>
          </p:nvSpPr>
          <p:spPr>
            <a:xfrm flipH="1">
              <a:off x="5354640" y="3911760"/>
              <a:ext cx="131760" cy="119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4713480" y="4125240"/>
              <a:ext cx="111600" cy="108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906480" y="2612880"/>
            <a:ext cx="1018800" cy="533160"/>
            <a:chOff x="906480" y="2612880"/>
            <a:chExt cx="1018800" cy="533160"/>
          </a:xfrm>
        </p:grpSpPr>
        <p:sp>
          <p:nvSpPr>
            <p:cNvPr id="508" name=""/>
            <p:cNvSpPr/>
            <p:nvPr/>
          </p:nvSpPr>
          <p:spPr>
            <a:xfrm flipH="1">
              <a:off x="906480" y="2612880"/>
              <a:ext cx="111600" cy="108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1801440" y="3035160"/>
              <a:ext cx="123480" cy="11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4714920" y="2378160"/>
            <a:ext cx="1072800" cy="582120"/>
            <a:chOff x="4714920" y="2378160"/>
            <a:chExt cx="1072800" cy="582120"/>
          </a:xfrm>
        </p:grpSpPr>
        <p:sp>
          <p:nvSpPr>
            <p:cNvPr id="511" name=""/>
            <p:cNvSpPr/>
            <p:nvPr/>
          </p:nvSpPr>
          <p:spPr>
            <a:xfrm flipH="1">
              <a:off x="4714560" y="2378160"/>
              <a:ext cx="140040" cy="12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5557320" y="2737440"/>
              <a:ext cx="230400" cy="222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5346720" y="3664080"/>
            <a:ext cx="826560" cy="374040"/>
            <a:chOff x="5346720" y="3664080"/>
            <a:chExt cx="826560" cy="374040"/>
          </a:xfrm>
        </p:grpSpPr>
        <p:sp>
          <p:nvSpPr>
            <p:cNvPr id="514" name=""/>
            <p:cNvSpPr/>
            <p:nvPr/>
          </p:nvSpPr>
          <p:spPr>
            <a:xfrm flipH="1">
              <a:off x="5346360" y="3911760"/>
              <a:ext cx="140040" cy="12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5942880" y="3664080"/>
              <a:ext cx="230400" cy="223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826160" y="2860560"/>
            <a:ext cx="1347120" cy="285840"/>
            <a:chOff x="4826160" y="2860560"/>
            <a:chExt cx="1347120" cy="285840"/>
          </a:xfrm>
        </p:grpSpPr>
        <p:sp>
          <p:nvSpPr>
            <p:cNvPr id="517" name=""/>
            <p:cNvSpPr/>
            <p:nvPr/>
          </p:nvSpPr>
          <p:spPr>
            <a:xfrm flipH="1">
              <a:off x="4825800" y="2860560"/>
              <a:ext cx="111240" cy="108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5942880" y="2922480"/>
              <a:ext cx="230040" cy="223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6543720" y="2736720"/>
            <a:ext cx="1030320" cy="355320"/>
            <a:chOff x="6543720" y="2736720"/>
            <a:chExt cx="1030320" cy="355320"/>
          </a:xfrm>
        </p:grpSpPr>
        <p:sp>
          <p:nvSpPr>
            <p:cNvPr id="520" name=""/>
            <p:cNvSpPr/>
            <p:nvPr/>
          </p:nvSpPr>
          <p:spPr>
            <a:xfrm flipH="1">
              <a:off x="6543720" y="2984040"/>
              <a:ext cx="1116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7343640" y="2736720"/>
              <a:ext cx="230400" cy="222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3381480" y="3254400"/>
            <a:ext cx="331200" cy="764640"/>
            <a:chOff x="3381480" y="3254400"/>
            <a:chExt cx="331200" cy="764640"/>
          </a:xfrm>
        </p:grpSpPr>
        <p:sp>
          <p:nvSpPr>
            <p:cNvPr id="523" name=""/>
            <p:cNvSpPr/>
            <p:nvPr/>
          </p:nvSpPr>
          <p:spPr>
            <a:xfrm flipH="1">
              <a:off x="3381480" y="3254400"/>
              <a:ext cx="1116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>
              <a:off x="3599640" y="3911040"/>
              <a:ext cx="113040" cy="10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1814760" y="2602080"/>
            <a:ext cx="1004760" cy="540720"/>
            <a:chOff x="1814760" y="2602080"/>
            <a:chExt cx="1004760" cy="540720"/>
          </a:xfrm>
        </p:grpSpPr>
        <p:sp>
          <p:nvSpPr>
            <p:cNvPr id="526" name=""/>
            <p:cNvSpPr/>
            <p:nvPr/>
          </p:nvSpPr>
          <p:spPr>
            <a:xfrm flipH="1">
              <a:off x="1814760" y="3034800"/>
              <a:ext cx="1116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>
              <a:off x="2706480" y="2602080"/>
              <a:ext cx="112680" cy="10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3862440" y="2800440"/>
            <a:ext cx="1142640" cy="231840"/>
            <a:chOff x="3862440" y="2800440"/>
            <a:chExt cx="1142640" cy="231840"/>
          </a:xfrm>
        </p:grpSpPr>
        <p:sp>
          <p:nvSpPr>
            <p:cNvPr id="529" name=""/>
            <p:cNvSpPr/>
            <p:nvPr/>
          </p:nvSpPr>
          <p:spPr>
            <a:xfrm flipH="1">
              <a:off x="3862440" y="2923920"/>
              <a:ext cx="111600" cy="108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>
              <a:off x="4774680" y="2800440"/>
              <a:ext cx="230400" cy="222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5720040" y="2922480"/>
            <a:ext cx="1004760" cy="974520"/>
            <a:chOff x="5720040" y="2922480"/>
            <a:chExt cx="1004760" cy="974520"/>
          </a:xfrm>
        </p:grpSpPr>
        <p:sp>
          <p:nvSpPr>
            <p:cNvPr id="532" name=""/>
            <p:cNvSpPr/>
            <p:nvPr/>
          </p:nvSpPr>
          <p:spPr>
            <a:xfrm flipH="1">
              <a:off x="5720040" y="3789000"/>
              <a:ext cx="1116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6494400" y="2922480"/>
              <a:ext cx="230400" cy="222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93880" y="2612880"/>
            <a:ext cx="1349280" cy="471240"/>
            <a:chOff x="2693880" y="2612880"/>
            <a:chExt cx="1349280" cy="471240"/>
          </a:xfrm>
        </p:grpSpPr>
        <p:sp>
          <p:nvSpPr>
            <p:cNvPr id="535" name=""/>
            <p:cNvSpPr/>
            <p:nvPr/>
          </p:nvSpPr>
          <p:spPr>
            <a:xfrm flipH="1">
              <a:off x="2693880" y="2612880"/>
              <a:ext cx="111600" cy="108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3812760" y="2860920"/>
              <a:ext cx="230400" cy="223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3587760" y="3468600"/>
            <a:ext cx="1017360" cy="550440"/>
            <a:chOff x="3587760" y="3468600"/>
            <a:chExt cx="1017360" cy="550440"/>
          </a:xfrm>
        </p:grpSpPr>
        <p:sp>
          <p:nvSpPr>
            <p:cNvPr id="538" name=""/>
            <p:cNvSpPr/>
            <p:nvPr/>
          </p:nvSpPr>
          <p:spPr>
            <a:xfrm flipH="1">
              <a:off x="3587760" y="3911400"/>
              <a:ext cx="11160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4464720" y="3468600"/>
              <a:ext cx="140040" cy="125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4466160" y="3468600"/>
            <a:ext cx="1433160" cy="479160"/>
            <a:chOff x="4466160" y="3468600"/>
            <a:chExt cx="1433160" cy="479160"/>
          </a:xfrm>
        </p:grpSpPr>
        <p:sp>
          <p:nvSpPr>
            <p:cNvPr id="541" name=""/>
            <p:cNvSpPr/>
            <p:nvPr/>
          </p:nvSpPr>
          <p:spPr>
            <a:xfrm flipH="1">
              <a:off x="5668920" y="3726000"/>
              <a:ext cx="230400" cy="221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>
              <a:off x="4465800" y="3468600"/>
              <a:ext cx="140040" cy="125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3" name=""/>
          <p:cNvSpPr/>
          <p:nvPr/>
        </p:nvSpPr>
        <p:spPr>
          <a:xfrm>
            <a:off x="457200" y="502920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t &gt; 0 Implica Difusión de portador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57200" y="5791320"/>
            <a:ext cx="69343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Equilibrio se alcanza entre las corrientes de Difusión y de Deriva:</a:t>
            </a:r>
            <a:br>
              <a:rPr sz="1800"/>
            </a:b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(Notar que W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&lt; W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 , debido a que N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&gt; N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038480" y="1785960"/>
            <a:ext cx="1447920" cy="228600"/>
          </a:xfrm>
          <a:prstGeom prst="rightArrow">
            <a:avLst>
              <a:gd name="adj1" fmla="val 50000"/>
              <a:gd name="adj2" fmla="val 1583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Difu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6324480" y="1709640"/>
            <a:ext cx="1905120" cy="304920"/>
          </a:xfrm>
          <a:prstGeom prst="rightArrow">
            <a:avLst>
              <a:gd name="adj1" fmla="val 50000"/>
              <a:gd name="adj2" fmla="val 1561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Difu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4114800" y="4648320"/>
            <a:ext cx="1447920" cy="228600"/>
          </a:xfrm>
          <a:prstGeom prst="rightArrow">
            <a:avLst>
              <a:gd name="adj1" fmla="val 50000"/>
              <a:gd name="adj2" fmla="val 1583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Der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019920" y="4605480"/>
            <a:ext cx="1752480" cy="304560"/>
          </a:xfrm>
          <a:prstGeom prst="rightArrow">
            <a:avLst>
              <a:gd name="adj1" fmla="val 50000"/>
              <a:gd name="adj2" fmla="val 14385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Der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867280" y="1785960"/>
            <a:ext cx="0" cy="281952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2438280" y="4300560"/>
            <a:ext cx="5948640" cy="901440"/>
            <a:chOff x="2438280" y="4300560"/>
            <a:chExt cx="5948640" cy="901440"/>
          </a:xfrm>
        </p:grpSpPr>
        <p:sp>
          <p:nvSpPr>
            <p:cNvPr id="551" name=""/>
            <p:cNvSpPr/>
            <p:nvPr/>
          </p:nvSpPr>
          <p:spPr>
            <a:xfrm>
              <a:off x="7696080" y="4376880"/>
              <a:ext cx="690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4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438280" y="4300560"/>
              <a:ext cx="690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4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ectrostática Región de Agotamient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2209320" y="152388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814320" y="1676520"/>
            <a:ext cx="3921120" cy="1460520"/>
          </a:xfrm>
          <a:prstGeom prst="rect">
            <a:avLst/>
          </a:prstGeom>
          <a:ln w="0">
            <a:noFill/>
          </a:ln>
        </p:spPr>
      </p:pic>
      <p:grpSp>
        <p:nvGrpSpPr>
          <p:cNvPr id="556" name=""/>
          <p:cNvGrpSpPr/>
          <p:nvPr/>
        </p:nvGrpSpPr>
        <p:grpSpPr>
          <a:xfrm>
            <a:off x="457200" y="5105520"/>
            <a:ext cx="4800600" cy="825480"/>
            <a:chOff x="457200" y="5105520"/>
            <a:chExt cx="4800600" cy="825480"/>
          </a:xfrm>
        </p:grpSpPr>
        <p:sp>
          <p:nvSpPr>
            <p:cNvPr id="557" name=""/>
            <p:cNvSpPr/>
            <p:nvPr/>
          </p:nvSpPr>
          <p:spPr>
            <a:xfrm>
              <a:off x="2057400" y="5129280"/>
              <a:ext cx="1371600" cy="433440"/>
            </a:xfrm>
            <a:custGeom>
              <a:avLst/>
              <a:gdLst/>
              <a:ahLst/>
              <a:rect l="l" t="t" r="r" b="b"/>
              <a:pathLst>
                <a:path w="1545" h="405">
                  <a:moveTo>
                    <a:pt x="0" y="405"/>
                  </a:moveTo>
                  <a:cubicBezTo>
                    <a:pt x="51" y="401"/>
                    <a:pt x="224" y="397"/>
                    <a:pt x="306" y="379"/>
                  </a:cubicBezTo>
                  <a:cubicBezTo>
                    <a:pt x="388" y="361"/>
                    <a:pt x="433" y="327"/>
                    <a:pt x="491" y="298"/>
                  </a:cubicBezTo>
                  <a:cubicBezTo>
                    <a:pt x="549" y="269"/>
                    <a:pt x="594" y="241"/>
                    <a:pt x="654" y="206"/>
                  </a:cubicBezTo>
                  <a:cubicBezTo>
                    <a:pt x="714" y="171"/>
                    <a:pt x="770" y="119"/>
                    <a:pt x="848" y="88"/>
                  </a:cubicBezTo>
                  <a:cubicBezTo>
                    <a:pt x="926" y="57"/>
                    <a:pt x="1006" y="37"/>
                    <a:pt x="1122" y="22"/>
                  </a:cubicBezTo>
                  <a:cubicBezTo>
                    <a:pt x="1238" y="7"/>
                    <a:pt x="1457" y="5"/>
                    <a:pt x="1545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286080" y="5149800"/>
              <a:ext cx="0" cy="41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76720" y="5181480"/>
              <a:ext cx="5331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MX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990720" y="5562720"/>
              <a:ext cx="426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967040" y="5133960"/>
              <a:ext cx="1636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57200" y="510552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800600" y="5562720"/>
              <a:ext cx="44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457200" y="5867280"/>
            <a:ext cx="4800600" cy="457200"/>
            <a:chOff x="457200" y="5867280"/>
            <a:chExt cx="4800600" cy="457200"/>
          </a:xfrm>
        </p:grpSpPr>
        <p:sp>
          <p:nvSpPr>
            <p:cNvPr id="565" name=""/>
            <p:cNvSpPr/>
            <p:nvPr/>
          </p:nvSpPr>
          <p:spPr>
            <a:xfrm flipH="1">
              <a:off x="2056680" y="5883120"/>
              <a:ext cx="1143000" cy="433440"/>
            </a:xfrm>
            <a:custGeom>
              <a:avLst/>
              <a:gdLst/>
              <a:ahLst/>
              <a:rect l="l" t="t" r="r" b="b"/>
              <a:pathLst>
                <a:path w="1545" h="405">
                  <a:moveTo>
                    <a:pt x="0" y="405"/>
                  </a:moveTo>
                  <a:cubicBezTo>
                    <a:pt x="51" y="401"/>
                    <a:pt x="224" y="397"/>
                    <a:pt x="306" y="379"/>
                  </a:cubicBezTo>
                  <a:cubicBezTo>
                    <a:pt x="388" y="361"/>
                    <a:pt x="433" y="327"/>
                    <a:pt x="491" y="298"/>
                  </a:cubicBezTo>
                  <a:cubicBezTo>
                    <a:pt x="549" y="269"/>
                    <a:pt x="594" y="241"/>
                    <a:pt x="654" y="206"/>
                  </a:cubicBezTo>
                  <a:cubicBezTo>
                    <a:pt x="714" y="171"/>
                    <a:pt x="770" y="119"/>
                    <a:pt x="848" y="88"/>
                  </a:cubicBezTo>
                  <a:cubicBezTo>
                    <a:pt x="926" y="57"/>
                    <a:pt x="1006" y="37"/>
                    <a:pt x="1122" y="22"/>
                  </a:cubicBezTo>
                  <a:cubicBezTo>
                    <a:pt x="1238" y="7"/>
                    <a:pt x="1457" y="5"/>
                    <a:pt x="1545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752480" y="5867280"/>
              <a:ext cx="1635120" cy="32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063960" y="5904000"/>
              <a:ext cx="0" cy="41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124080" y="5943600"/>
              <a:ext cx="914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i="1" lang="es-MX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= qV</a:t>
              </a:r>
              <a:r>
                <a:rPr b="0" i="1" lang="es-MX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990720" y="6324480"/>
              <a:ext cx="426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57200" y="586728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457200" y="4191120"/>
            <a:ext cx="4800600" cy="685800"/>
            <a:chOff x="457200" y="4191120"/>
            <a:chExt cx="4800600" cy="685800"/>
          </a:xfrm>
        </p:grpSpPr>
        <p:sp>
          <p:nvSpPr>
            <p:cNvPr id="572" name=""/>
            <p:cNvSpPr/>
            <p:nvPr/>
          </p:nvSpPr>
          <p:spPr>
            <a:xfrm>
              <a:off x="990720" y="4419720"/>
              <a:ext cx="426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57200" y="419112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800600" y="4419720"/>
              <a:ext cx="44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209680" y="4419720"/>
              <a:ext cx="6303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2846160" y="4420080"/>
              <a:ext cx="32904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5486400" y="3200400"/>
            <a:ext cx="2971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 &lt; W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  , pues N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 &gt; N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457200" y="3124080"/>
            <a:ext cx="4800600" cy="1074960"/>
            <a:chOff x="457200" y="3124080"/>
            <a:chExt cx="4800600" cy="1074960"/>
          </a:xfrm>
        </p:grpSpPr>
        <p:sp>
          <p:nvSpPr>
            <p:cNvPr id="579" name=""/>
            <p:cNvSpPr/>
            <p:nvPr/>
          </p:nvSpPr>
          <p:spPr>
            <a:xfrm>
              <a:off x="990720" y="3807000"/>
              <a:ext cx="426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57200" y="342576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800600" y="3730680"/>
              <a:ext cx="44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857680" y="3319560"/>
              <a:ext cx="23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395440" y="3657600"/>
              <a:ext cx="2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_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4" name=""/>
                <p:cNvSpPr txBox="1"/>
                <p:nvPr/>
              </p:nvSpPr>
              <p:spPr>
                <a:xfrm>
                  <a:off x="1647720" y="3476520"/>
                  <a:ext cx="533520" cy="35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85" name=""/>
                <p:cNvSpPr txBox="1"/>
                <p:nvPr/>
              </p:nvSpPr>
              <p:spPr>
                <a:xfrm>
                  <a:off x="3243240" y="3476520"/>
                  <a:ext cx="328680" cy="33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pSp>
          <p:nvGrpSpPr>
            <p:cNvPr id="586" name=""/>
            <p:cNvGrpSpPr/>
            <p:nvPr/>
          </p:nvGrpSpPr>
          <p:grpSpPr>
            <a:xfrm>
              <a:off x="2209680" y="3809520"/>
              <a:ext cx="634680" cy="305280"/>
              <a:chOff x="2209680" y="3809520"/>
              <a:chExt cx="634680" cy="305280"/>
            </a:xfrm>
          </p:grpSpPr>
          <p:sp>
            <p:nvSpPr>
              <p:cNvPr id="587" name=""/>
              <p:cNvSpPr/>
              <p:nvPr/>
            </p:nvSpPr>
            <p:spPr>
              <a:xfrm>
                <a:off x="2209680" y="380988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209680" y="4114800"/>
                <a:ext cx="63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V="1">
                <a:off x="2844360" y="38095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2843280" y="3196080"/>
              <a:ext cx="328680" cy="606240"/>
              <a:chOff x="2843280" y="3196080"/>
              <a:chExt cx="328680" cy="606240"/>
            </a:xfrm>
          </p:grpSpPr>
          <p:sp>
            <p:nvSpPr>
              <p:cNvPr id="591" name=""/>
              <p:cNvSpPr/>
              <p:nvPr/>
            </p:nvSpPr>
            <p:spPr>
              <a:xfrm flipV="1">
                <a:off x="2843280" y="3196080"/>
                <a:ext cx="0" cy="605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843280" y="3196080"/>
                <a:ext cx="328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3171960" y="3196440"/>
                <a:ext cx="0" cy="605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94" name=""/>
                <p:cNvSpPr txBox="1"/>
                <p:nvPr/>
              </p:nvSpPr>
              <p:spPr>
                <a:xfrm>
                  <a:off x="3200400" y="3124080"/>
                  <a:ext cx="492120" cy="31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qN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5" name=""/>
                <p:cNvSpPr txBox="1"/>
                <p:nvPr/>
              </p:nvSpPr>
              <p:spPr>
                <a:xfrm>
                  <a:off x="1523880" y="3886200"/>
                  <a:ext cx="657360" cy="31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qN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96" name=""/>
          <p:cNvSpPr/>
          <p:nvPr/>
        </p:nvSpPr>
        <p:spPr>
          <a:xfrm>
            <a:off x="5181480" y="16765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Juntura pn abrup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5943600" y="4114800"/>
                <a:ext cx="167652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∇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=</m:t>
                    </m:r>
                    <m:r>
                      <m:t xml:space="preserve">ρ</m:t>
                    </m:r>
                    <m:r>
                      <m:t xml:space="preserve">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6019920" y="5127480"/>
                <a:ext cx="167616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∇</m:t>
                        </m:r>
                      </m:e>
                    </m:acc>
                    <m:r>
                      <m:t xml:space="preserve">V</m:t>
                    </m:r>
                    <m:r>
                      <m:t xml:space="preserve">⇒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9" name=""/>
          <p:cNvSpPr/>
          <p:nvPr/>
        </p:nvSpPr>
        <p:spPr>
          <a:xfrm>
            <a:off x="5181480" y="220968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Neutralidad de carg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0" name=""/>
              <p:cNvSpPr txBox="1"/>
              <p:nvPr/>
            </p:nvSpPr>
            <p:spPr>
              <a:xfrm>
                <a:off x="5665680" y="2666880"/>
                <a:ext cx="192888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01" name=""/>
          <p:cNvSpPr/>
          <p:nvPr/>
        </p:nvSpPr>
        <p:spPr>
          <a:xfrm flipH="1">
            <a:off x="2847960" y="15238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171960" y="15238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ectrostática Región de Agotamient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Tarea 1.1: Demuestre que para una juntura pn abrupta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5" name=""/>
              <p:cNvSpPr txBox="1"/>
              <p:nvPr/>
            </p:nvSpPr>
            <p:spPr>
              <a:xfrm>
                <a:off x="609480" y="2581200"/>
                <a:ext cx="743760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ε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</m:e>
                    </m:rad>
                    <m:r>
                      <m:t xml:space="preserve">;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ε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e>
                    </m:rad>
                    <m:r>
                      <m:t xml:space="preserve">;</m:t>
                    </m:r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ε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6" name=""/>
              <p:cNvSpPr txBox="1"/>
              <p:nvPr/>
            </p:nvSpPr>
            <p:spPr>
              <a:xfrm>
                <a:off x="838080" y="3429000"/>
                <a:ext cx="4419720" cy="17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,</m:t>
                              </m:r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qN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2</m:t>
                                  </m:r>
                                  <m:r>
                                    <m:t xml:space="preserve">ε</m:t>
                                  </m:r>
                                </m:den>
                              </m:f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x</m:t>
                                      </m:r>
                                      <m:r>
                                        <m:t xml:space="preserve">+</m:t>
                                      </m:r>
                                      <m:sSub>
                                        <m:e>
                                          <m:r>
                                            <m:t xml:space="preserve">W</m:t>
                                          </m:r>
                                        </m:e>
                                        <m:sub>
                                          <m:r>
                                            <m:t xml:space="preserve">p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,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  <m:r>
                                <m:t xml:space="preserve">≤</m:t>
                              </m:r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qN</m:t>
                                      </m:r>
                                    </m:e>
                                    <m:sub>
                                      <m:r>
                                        <m:t xml:space="preserve">D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2</m:t>
                                  </m:r>
                                  <m:r>
                                    <m:t xml:space="preserve">ε</m:t>
                                  </m:r>
                                </m:den>
                              </m:f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x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W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,</m:t>
                              </m:r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≤</m:t>
                              </m:r>
                              <m:r>
                                <m:t xml:space="preserve">x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5530680" y="3798720"/>
                <a:ext cx="227340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ε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08" name=""/>
          <p:cNvSpPr/>
          <p:nvPr/>
        </p:nvSpPr>
        <p:spPr>
          <a:xfrm>
            <a:off x="533520" y="5562720"/>
            <a:ext cx="7848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Times New Roman"/>
              </a:rPr>
              <a:t>Indicación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: Recuerde que la barrera de potencial en una juntura abrupta esta dada por el potencial de contacto o built-in V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. </a:t>
            </a:r>
            <a:r>
              <a:rPr b="0" i="1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onga, además, que el medio es lineal, isotrópico y homogéneo con una permitividad </a:t>
            </a:r>
            <a:r>
              <a:rPr b="0" i="1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33520" y="518148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Donde V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es la diferencia de potencial existente en la juntur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ectrostática Región de Agotamient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Caso de interés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Juntura con dopado altamente asimétrico ( p</a:t>
            </a:r>
            <a:r>
              <a:rPr b="0" i="1" lang="es-MX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n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Aparece en diodos de juntur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Aparece en Transistores Bipolar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El control de la electrostática pertenece al lado menos dopad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Notar que W~(V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 /N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s-MX" sz="2000" spc="-1" strike="noStrike" baseline="30000">
                <a:solidFill>
                  <a:srgbClr val="000000"/>
                </a:solidFill>
                <a:latin typeface="Times New Roman"/>
              </a:rPr>
              <a:t>-1/2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Notar que |E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| ~ (V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s-MX" sz="2000" spc="-1" strike="noStrike" baseline="30000">
                <a:solidFill>
                  <a:srgbClr val="000000"/>
                </a:solidFill>
                <a:latin typeface="Times New Roman"/>
              </a:rPr>
              <a:t> 1/2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6129360" y="4332240"/>
                <a:ext cx="203184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ε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3" name=""/>
              <p:cNvSpPr txBox="1"/>
              <p:nvPr/>
            </p:nvSpPr>
            <p:spPr>
              <a:xfrm>
                <a:off x="5870520" y="3265560"/>
                <a:ext cx="258912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&lt;&lt;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W</m:t>
                    </m:r>
                    <m:r>
                      <m:t xml:space="preserve">≈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ε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4" name=""/>
              <p:cNvSpPr txBox="1"/>
              <p:nvPr/>
            </p:nvSpPr>
            <p:spPr>
              <a:xfrm>
                <a:off x="6705720" y="2666880"/>
                <a:ext cx="117468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&gt;&gt;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7T02:28:57Z</dcterms:created>
  <dc:creator>Domingo Morales Lizama</dc:creator>
  <dc:description/>
  <dc:language>en-US</dc:language>
  <cp:lastModifiedBy>Leszek Szczecinski</cp:lastModifiedBy>
  <dcterms:modified xsi:type="dcterms:W3CDTF">2003-07-30T20:41:59Z</dcterms:modified>
  <cp:revision>790</cp:revision>
  <dc:subject>Características Estáticas de los Diodos de Juntura</dc:subject>
  <dc:title>Clase 2</dc:title>
</cp:coreProperties>
</file>