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C100-82C6-4A6C-9CF3-52499CE76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F20B-E7BE-4CAD-9F6D-C86B99D05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AA43-A896-47D1-9752-BDA22FB03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76812-890D-4F21-B2DC-B5693C3ED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0F7D-E94A-455D-8F6D-021769C4B7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C5D-8426-4286-801D-DF2AC67BD5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24D-3DE6-4485-8AEA-51701985AC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B2D9-F626-4D73-A4F8-EFAC2908F4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3635-9180-46AE-BD3D-920EC37987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8FD-D858-4084-A9A2-38E7E4C70E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9EB-2738-43C5-94E4-F510184C8B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80D6-26C3-46A0-9A55-7E8F17302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333D-72C7-40C1-9652-BE13400829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B1CE-AE89-4450-9689-A8244387DB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7F8-8293-4C51-90CD-E2CBBF5A30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066-2D78-4BB5-93A6-A3186AE7B6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1E2B-C116-4A7C-8A46-3F7A15F68A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B7D1-2BC7-4C06-8F5D-0DE736973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4A80F-5510-4C46-A101-E6BCC6BE4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4D13-31DE-4831-94FC-43011E020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3322-B9BB-483E-9948-F5338F12B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D488-E5C6-4FAD-A855-AD1B6A443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757C-2CA0-4563-AD72-079B5BB14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FEA85-44F7-4E46-8655-E012E81B3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36E1-85F5-4BF9-BED6-47E649AB0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92AF-74D5-4272-B9A2-6EBC55403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¿Equilibrio de una juntura pn con voltaje externo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2133720"/>
            <a:ext cx="5105520" cy="36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aídas de tensió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ntactos óh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uerpo” semico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Región de ago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ntactos óhm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No-rectificadores: mantienen potencial independiente del sentido y magnitud de la corr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entes bajas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caídas de voltaje en el cuerpo son desprec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133720" y="5943600"/>
                <a:ext cx="16556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19" name=""/>
          <p:cNvGrpSpPr/>
          <p:nvPr/>
        </p:nvGrpSpPr>
        <p:grpSpPr>
          <a:xfrm>
            <a:off x="4724280" y="2514600"/>
            <a:ext cx="4165200" cy="2556720"/>
            <a:chOff x="4724280" y="2514600"/>
            <a:chExt cx="4165200" cy="2556720"/>
          </a:xfrm>
        </p:grpSpPr>
        <p:grpSp>
          <p:nvGrpSpPr>
            <p:cNvPr id="620" name=""/>
            <p:cNvGrpSpPr/>
            <p:nvPr/>
          </p:nvGrpSpPr>
          <p:grpSpPr>
            <a:xfrm>
              <a:off x="4724280" y="2514600"/>
              <a:ext cx="4165200" cy="2556720"/>
              <a:chOff x="4724280" y="2514600"/>
              <a:chExt cx="4165200" cy="255672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5973840" y="3180240"/>
                <a:ext cx="2572560" cy="443880"/>
                <a:chOff x="5973840" y="3180240"/>
                <a:chExt cx="2572560" cy="44388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6128640" y="3180240"/>
                  <a:ext cx="1131480" cy="4438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7260480" y="3180240"/>
                  <a:ext cx="1131120" cy="44388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</a:t>
                  </a: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973840" y="3180240"/>
                  <a:ext cx="154800" cy="44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391600" y="3180240"/>
                  <a:ext cx="154800" cy="44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"/>
              <p:cNvSpPr/>
              <p:nvPr/>
            </p:nvSpPr>
            <p:spPr>
              <a:xfrm>
                <a:off x="7044480" y="3180240"/>
                <a:ext cx="220320" cy="4438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223760" y="3180240"/>
                <a:ext cx="441000" cy="4438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003080" y="3032640"/>
                <a:ext cx="66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782400" y="2662560"/>
                <a:ext cx="12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got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724280" y="2662560"/>
                <a:ext cx="12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ntac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165280" y="2958480"/>
                <a:ext cx="808200" cy="37008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2480" y="2514600"/>
                <a:ext cx="3357000" cy="739800"/>
              </a:xfrm>
              <a:custGeom>
                <a:avLst/>
                <a:gdLst/>
                <a:ahLst/>
                <a:rect l="l" t="t" r="r" b="b"/>
                <a:pathLst>
                  <a:path w="2192" h="480">
                    <a:moveTo>
                      <a:pt x="0" y="144"/>
                    </a:moveTo>
                    <a:cubicBezTo>
                      <a:pt x="244" y="72"/>
                      <a:pt x="488" y="0"/>
                      <a:pt x="816" y="0"/>
                    </a:cubicBezTo>
                    <a:cubicBezTo>
                      <a:pt x="1144" y="0"/>
                      <a:pt x="1744" y="96"/>
                      <a:pt x="1968" y="144"/>
                    </a:cubicBezTo>
                    <a:cubicBezTo>
                      <a:pt x="2192" y="192"/>
                      <a:pt x="2160" y="232"/>
                      <a:pt x="2160" y="288"/>
                    </a:cubicBezTo>
                    <a:cubicBezTo>
                      <a:pt x="2160" y="344"/>
                      <a:pt x="2064" y="412"/>
                      <a:pt x="1968" y="4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076520" y="4128480"/>
                <a:ext cx="66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82400" y="3698280"/>
                <a:ext cx="1249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MX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=V</a:t>
                </a:r>
                <a:r>
                  <a:rPr b="0" i="1" lang="es-MX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5753160" y="4372920"/>
                <a:ext cx="3013560" cy="370440"/>
                <a:chOff x="5753160" y="4372920"/>
                <a:chExt cx="3013560" cy="37044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7007040" y="4372920"/>
                  <a:ext cx="766080" cy="370440"/>
                  <a:chOff x="7007040" y="4372920"/>
                  <a:chExt cx="766080" cy="37044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>
                    <a:off x="7564320" y="4447080"/>
                    <a:ext cx="0" cy="296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7633800" y="4521240"/>
                    <a:ext cx="0" cy="147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7633800" y="4595400"/>
                    <a:ext cx="139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7285680" y="4595400"/>
                    <a:ext cx="27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 flipV="1">
                    <a:off x="7007040" y="4372920"/>
                    <a:ext cx="278280" cy="22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2" name=""/>
                <p:cNvSpPr/>
                <p:nvPr/>
              </p:nvSpPr>
              <p:spPr>
                <a:xfrm>
                  <a:off x="5753160" y="4595040"/>
                  <a:ext cx="118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7721640" y="4595040"/>
                  <a:ext cx="1045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44" name=""/>
              <p:cNvCxnSpPr>
                <a:stCxn id="624" idx="1"/>
                <a:endCxn id="642" idx="0"/>
              </p:cNvCxnSpPr>
              <p:nvPr/>
            </p:nvCxnSpPr>
            <p:spPr>
              <a:xfrm flipV="1" rot="10800000">
                <a:off x="5752440" y="3402000"/>
                <a:ext cx="221040" cy="11937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5" name=""/>
              <p:cNvCxnSpPr>
                <a:stCxn id="625" idx="3"/>
                <a:endCxn id="643" idx="0"/>
              </p:cNvCxnSpPr>
              <p:nvPr/>
            </p:nvCxnSpPr>
            <p:spPr>
              <a:xfrm>
                <a:off x="8546760" y="3402360"/>
                <a:ext cx="221040" cy="1193760"/>
              </a:xfrm>
              <a:prstGeom prst="bentConnector4">
                <a:avLst>
                  <a:gd name="adj1" fmla="val 100000"/>
                  <a:gd name="adj2" fmla="val 3719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46" name=""/>
              <p:cNvSpPr/>
              <p:nvPr/>
            </p:nvSpPr>
            <p:spPr>
              <a:xfrm>
                <a:off x="6929640" y="4734000"/>
                <a:ext cx="12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5943600" y="2819520"/>
                  <a:ext cx="24300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8" name=""/>
                <p:cNvSpPr txBox="1"/>
                <p:nvPr/>
              </p:nvSpPr>
              <p:spPr>
                <a:xfrm>
                  <a:off x="8358120" y="2819520"/>
                  <a:ext cx="2635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¿Equilibrio de una juntura pn con voltaje externo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tocircuito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5257800"/>
            <a:ext cx="6172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olarización directa (forward bias): V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olarización inversa (reverse bias): V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429000" y="2209680"/>
                <a:ext cx="16556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670040" y="2971800"/>
                <a:ext cx="1717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666960" y="2971800"/>
                <a:ext cx="18385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5" name=""/>
          <p:cNvGrpSpPr/>
          <p:nvPr/>
        </p:nvGrpSpPr>
        <p:grpSpPr>
          <a:xfrm>
            <a:off x="5486400" y="2057400"/>
            <a:ext cx="3505320" cy="2159640"/>
            <a:chOff x="5486400" y="2057400"/>
            <a:chExt cx="3505320" cy="2159640"/>
          </a:xfrm>
        </p:grpSpPr>
        <p:grpSp>
          <p:nvGrpSpPr>
            <p:cNvPr id="656" name=""/>
            <p:cNvGrpSpPr/>
            <p:nvPr/>
          </p:nvGrpSpPr>
          <p:grpSpPr>
            <a:xfrm>
              <a:off x="6662880" y="2604960"/>
              <a:ext cx="2053800" cy="363240"/>
              <a:chOff x="6662880" y="2604960"/>
              <a:chExt cx="2053800" cy="363240"/>
            </a:xfrm>
          </p:grpSpPr>
          <p:sp>
            <p:nvSpPr>
              <p:cNvPr id="657" name=""/>
              <p:cNvSpPr/>
              <p:nvPr/>
            </p:nvSpPr>
            <p:spPr>
              <a:xfrm>
                <a:off x="6786360" y="2604960"/>
                <a:ext cx="903600" cy="363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689960" y="2604960"/>
                <a:ext cx="903240" cy="3632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662880" y="2604960"/>
                <a:ext cx="123480" cy="36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593200" y="2604960"/>
                <a:ext cx="123480" cy="36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7516800" y="2604960"/>
              <a:ext cx="176400" cy="363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61520" y="2604960"/>
              <a:ext cx="352440" cy="363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85120" y="2482560"/>
              <a:ext cx="5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86600" y="217944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Agot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486400" y="2179440"/>
              <a:ext cx="11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Conta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16680" y="2422440"/>
              <a:ext cx="646200" cy="30276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310440" y="2057400"/>
              <a:ext cx="2681280" cy="607680"/>
            </a:xfrm>
            <a:custGeom>
              <a:avLst/>
              <a:gdLst/>
              <a:ahLst/>
              <a:rect l="l" t="t" r="r" b="b"/>
              <a:pathLst>
                <a:path w="2192" h="480">
                  <a:moveTo>
                    <a:pt x="0" y="144"/>
                  </a:moveTo>
                  <a:cubicBezTo>
                    <a:pt x="244" y="72"/>
                    <a:pt x="488" y="0"/>
                    <a:pt x="816" y="0"/>
                  </a:cubicBezTo>
                  <a:cubicBezTo>
                    <a:pt x="1144" y="0"/>
                    <a:pt x="1744" y="96"/>
                    <a:pt x="1968" y="144"/>
                  </a:cubicBezTo>
                  <a:cubicBezTo>
                    <a:pt x="2192" y="192"/>
                    <a:pt x="2160" y="232"/>
                    <a:pt x="2160" y="288"/>
                  </a:cubicBezTo>
                  <a:cubicBezTo>
                    <a:pt x="2160" y="344"/>
                    <a:pt x="2064" y="412"/>
                    <a:pt x="1968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43800" y="3382560"/>
              <a:ext cx="5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09080" y="3030120"/>
              <a:ext cx="996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 =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6486480" y="3583800"/>
              <a:ext cx="2406600" cy="303120"/>
              <a:chOff x="6486480" y="3583800"/>
              <a:chExt cx="2406600" cy="303120"/>
            </a:xfrm>
          </p:grpSpPr>
          <p:grpSp>
            <p:nvGrpSpPr>
              <p:cNvPr id="671" name=""/>
              <p:cNvGrpSpPr/>
              <p:nvPr/>
            </p:nvGrpSpPr>
            <p:grpSpPr>
              <a:xfrm>
                <a:off x="7488000" y="3583800"/>
                <a:ext cx="611640" cy="303120"/>
                <a:chOff x="7488000" y="3583800"/>
                <a:chExt cx="611640" cy="30312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7932960" y="3644280"/>
                  <a:ext cx="0" cy="24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7988400" y="3705120"/>
                  <a:ext cx="0" cy="120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7988400" y="3765960"/>
                  <a:ext cx="11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710480" y="3765960"/>
                  <a:ext cx="222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 flipV="1">
                  <a:off x="7488000" y="3583800"/>
                  <a:ext cx="222480" cy="18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7" name=""/>
              <p:cNvSpPr/>
              <p:nvPr/>
            </p:nvSpPr>
            <p:spPr>
              <a:xfrm>
                <a:off x="6486480" y="3765960"/>
                <a:ext cx="94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058600" y="3765960"/>
                <a:ext cx="83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79" name=""/>
            <p:cNvCxnSpPr>
              <a:stCxn id="659" idx="1"/>
              <a:endCxn id="677" idx="0"/>
            </p:cNvCxnSpPr>
            <p:nvPr/>
          </p:nvCxnSpPr>
          <p:spPr>
            <a:xfrm flipV="1" rot="10800000">
              <a:off x="6485760" y="2784600"/>
              <a:ext cx="177120" cy="981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0" name=""/>
            <p:cNvCxnSpPr>
              <a:stCxn id="660" idx="3"/>
              <a:endCxn id="678" idx="0"/>
            </p:cNvCxnSpPr>
            <p:nvPr/>
          </p:nvCxnSpPr>
          <p:spPr>
            <a:xfrm>
              <a:off x="8717040" y="2785320"/>
              <a:ext cx="177120" cy="981720"/>
            </a:xfrm>
            <a:prstGeom prst="bentConnector4">
              <a:avLst>
                <a:gd name="adj1" fmla="val 100000"/>
                <a:gd name="adj2" fmla="val 3719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1" name=""/>
            <p:cNvSpPr/>
            <p:nvPr/>
          </p:nvSpPr>
          <p:spPr>
            <a:xfrm>
              <a:off x="7426440" y="3879720"/>
              <a:ext cx="99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6637320" y="2307960"/>
                  <a:ext cx="19548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8566200" y="2307960"/>
                  <a:ext cx="21132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4" name=""/>
          <p:cNvSpPr/>
          <p:nvPr/>
        </p:nvSpPr>
        <p:spPr>
          <a:xfrm>
            <a:off x="685800" y="3438360"/>
            <a:ext cx="81532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¿V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(0)? (cortocircu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quilibrio Termodinámico. Si existiese corriente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ntactos se calentarían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energía la provee la barra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barra se enfría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no hay equilibrio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Corriente debe ser nula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(0) =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(built-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4129200" y="4950000"/>
                <a:ext cx="13129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Direct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 extern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¿Características del equilibri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4419720" y="1600200"/>
            <a:ext cx="4317840" cy="2623320"/>
            <a:chOff x="4419720" y="1600200"/>
            <a:chExt cx="4317840" cy="2623320"/>
          </a:xfrm>
        </p:grpSpPr>
        <p:grpSp>
          <p:nvGrpSpPr>
            <p:cNvPr id="689" name=""/>
            <p:cNvGrpSpPr/>
            <p:nvPr/>
          </p:nvGrpSpPr>
          <p:grpSpPr>
            <a:xfrm>
              <a:off x="5715000" y="2286000"/>
              <a:ext cx="2667240" cy="457200"/>
              <a:chOff x="5715000" y="2286000"/>
              <a:chExt cx="2667240" cy="457200"/>
            </a:xfrm>
          </p:grpSpPr>
          <p:sp>
            <p:nvSpPr>
              <p:cNvPr id="690" name=""/>
              <p:cNvSpPr/>
              <p:nvPr/>
            </p:nvSpPr>
            <p:spPr>
              <a:xfrm>
                <a:off x="5875560" y="2286000"/>
                <a:ext cx="117324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48800" y="2286000"/>
                <a:ext cx="117288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715000" y="2286000"/>
                <a:ext cx="16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221680" y="2286000"/>
                <a:ext cx="16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6824880" y="2286000"/>
              <a:ext cx="2286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010640" y="2286000"/>
              <a:ext cx="4572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82040" y="2133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553440" y="175284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Agot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19720" y="175284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Conta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876920" y="2057400"/>
              <a:ext cx="838080" cy="3812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57800" y="1600200"/>
              <a:ext cx="3479760" cy="762120"/>
            </a:xfrm>
            <a:custGeom>
              <a:avLst/>
              <a:gdLst/>
              <a:ahLst/>
              <a:rect l="l" t="t" r="r" b="b"/>
              <a:pathLst>
                <a:path w="2192" h="480">
                  <a:moveTo>
                    <a:pt x="0" y="144"/>
                  </a:moveTo>
                  <a:cubicBezTo>
                    <a:pt x="244" y="72"/>
                    <a:pt x="488" y="0"/>
                    <a:pt x="816" y="0"/>
                  </a:cubicBezTo>
                  <a:cubicBezTo>
                    <a:pt x="1144" y="0"/>
                    <a:pt x="1744" y="96"/>
                    <a:pt x="1968" y="144"/>
                  </a:cubicBezTo>
                  <a:cubicBezTo>
                    <a:pt x="2192" y="192"/>
                    <a:pt x="2160" y="232"/>
                    <a:pt x="2160" y="288"/>
                  </a:cubicBezTo>
                  <a:cubicBezTo>
                    <a:pt x="2160" y="344"/>
                    <a:pt x="2064" y="412"/>
                    <a:pt x="1968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858000" y="32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53440" y="2819520"/>
              <a:ext cx="1295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 =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5486400" y="3514320"/>
              <a:ext cx="3124080" cy="381240"/>
              <a:chOff x="5486400" y="3514320"/>
              <a:chExt cx="3124080" cy="38124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6786360" y="3514320"/>
                <a:ext cx="793800" cy="381240"/>
                <a:chOff x="6786360" y="3514320"/>
                <a:chExt cx="793800" cy="38124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7363800" y="35906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435800" y="36669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7435800" y="3743280"/>
                  <a:ext cx="14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075080" y="3743280"/>
                  <a:ext cx="28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H="1" flipV="1">
                  <a:off x="6786360" y="3514320"/>
                  <a:ext cx="288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>
                <a:off x="5486400" y="3743280"/>
                <a:ext cx="122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527240" y="3743280"/>
                <a:ext cx="108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12" name=""/>
            <p:cNvCxnSpPr>
              <a:stCxn id="692" idx="1"/>
              <a:endCxn id="710" idx="0"/>
            </p:cNvCxnSpPr>
            <p:nvPr/>
          </p:nvCxnSpPr>
          <p:spPr>
            <a:xfrm flipV="1" rot="10800000">
              <a:off x="5485680" y="2513520"/>
              <a:ext cx="229320" cy="1229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693" idx="3"/>
              <a:endCxn id="711" idx="0"/>
            </p:cNvCxnSpPr>
            <p:nvPr/>
          </p:nvCxnSpPr>
          <p:spPr>
            <a:xfrm>
              <a:off x="8381880" y="2514240"/>
              <a:ext cx="229320" cy="1229400"/>
            </a:xfrm>
            <a:prstGeom prst="bentConnector4">
              <a:avLst>
                <a:gd name="adj1" fmla="val 100000"/>
                <a:gd name="adj2" fmla="val 3719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6705720" y="38862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 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6705720" y="3490920"/>
            <a:ext cx="380880" cy="252360"/>
            <a:chOff x="6705720" y="3490920"/>
            <a:chExt cx="380880" cy="252360"/>
          </a:xfrm>
        </p:grpSpPr>
        <p:sp>
          <p:nvSpPr>
            <p:cNvPr id="716" name=""/>
            <p:cNvSpPr/>
            <p:nvPr/>
          </p:nvSpPr>
          <p:spPr>
            <a:xfrm>
              <a:off x="6782040" y="3490920"/>
              <a:ext cx="2667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705720" y="3743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6553080" y="281952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=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-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52280" y="281952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l aplicar voltaje V “en direc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52280" y="320040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a mayor parte aparece en la jun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52280" y="4419720"/>
            <a:ext cx="6096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inyección por difusión de portadores minoritarios (comportamiento capacitivo “de difusión”) y la aparición de corrientes imp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52280" y="5334120"/>
            <a:ext cx="4953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modulación del ancho de la región de agotamiento: dismin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5867280" y="5257800"/>
                <a:ext cx="30942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24" name=""/>
          <p:cNvGrpSpPr/>
          <p:nvPr/>
        </p:nvGrpSpPr>
        <p:grpSpPr>
          <a:xfrm>
            <a:off x="5881680" y="2286000"/>
            <a:ext cx="2328840" cy="457200"/>
            <a:chOff x="5881680" y="2286000"/>
            <a:chExt cx="2328840" cy="457200"/>
          </a:xfrm>
        </p:grpSpPr>
        <p:sp>
          <p:nvSpPr>
            <p:cNvPr id="725" name=""/>
            <p:cNvSpPr/>
            <p:nvPr/>
          </p:nvSpPr>
          <p:spPr>
            <a:xfrm>
              <a:off x="5881680" y="2286000"/>
              <a:ext cx="10861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72280" y="2286000"/>
              <a:ext cx="1038240" cy="457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705720" y="3200400"/>
            <a:ext cx="914400" cy="152280"/>
            <a:chOff x="6705720" y="3200400"/>
            <a:chExt cx="914400" cy="152280"/>
          </a:xfrm>
        </p:grpSpPr>
        <p:sp>
          <p:nvSpPr>
            <p:cNvPr id="728" name=""/>
            <p:cNvSpPr/>
            <p:nvPr/>
          </p:nvSpPr>
          <p:spPr>
            <a:xfrm>
              <a:off x="6705720" y="32004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10640" y="3276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591240" y="2057400"/>
            <a:ext cx="914400" cy="152280"/>
            <a:chOff x="6591240" y="2057400"/>
            <a:chExt cx="914400" cy="152280"/>
          </a:xfrm>
        </p:grpSpPr>
        <p:sp>
          <p:nvSpPr>
            <p:cNvPr id="731" name=""/>
            <p:cNvSpPr/>
            <p:nvPr/>
          </p:nvSpPr>
          <p:spPr>
            <a:xfrm>
              <a:off x="6591240" y="20574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895800" y="2133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6248520" y="4405320"/>
                <a:ext cx="2057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4" name=""/>
          <p:cNvSpPr/>
          <p:nvPr/>
        </p:nvSpPr>
        <p:spPr>
          <a:xfrm>
            <a:off x="152280" y="3809880"/>
            <a:ext cx="6096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Se rompe equilibrio Difusión-Deriva: 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ecrece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Invers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 extern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¿Características del equilibri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419720" y="1828800"/>
            <a:ext cx="4317840" cy="2623320"/>
            <a:chOff x="4419720" y="1828800"/>
            <a:chExt cx="4317840" cy="2623320"/>
          </a:xfrm>
        </p:grpSpPr>
        <p:grpSp>
          <p:nvGrpSpPr>
            <p:cNvPr id="738" name=""/>
            <p:cNvGrpSpPr/>
            <p:nvPr/>
          </p:nvGrpSpPr>
          <p:grpSpPr>
            <a:xfrm>
              <a:off x="5715000" y="2514600"/>
              <a:ext cx="2666880" cy="457200"/>
              <a:chOff x="5715000" y="2514600"/>
              <a:chExt cx="2666880" cy="457200"/>
            </a:xfrm>
          </p:grpSpPr>
          <p:sp>
            <p:nvSpPr>
              <p:cNvPr id="739" name=""/>
              <p:cNvSpPr/>
              <p:nvPr/>
            </p:nvSpPr>
            <p:spPr>
              <a:xfrm>
                <a:off x="5875200" y="2514600"/>
                <a:ext cx="117324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048440" y="2514600"/>
                <a:ext cx="117324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715000" y="2514600"/>
                <a:ext cx="160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221680" y="2514600"/>
                <a:ext cx="160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6824520" y="2514600"/>
              <a:ext cx="2286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010280" y="2514600"/>
              <a:ext cx="4572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78168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553080" y="198108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Agot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419720" y="198108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Conta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76920" y="2286000"/>
              <a:ext cx="838080" cy="38088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57800" y="1828800"/>
              <a:ext cx="3479760" cy="762120"/>
            </a:xfrm>
            <a:custGeom>
              <a:avLst/>
              <a:gdLst/>
              <a:ahLst/>
              <a:rect l="l" t="t" r="r" b="b"/>
              <a:pathLst>
                <a:path w="2192" h="480">
                  <a:moveTo>
                    <a:pt x="0" y="144"/>
                  </a:moveTo>
                  <a:cubicBezTo>
                    <a:pt x="244" y="72"/>
                    <a:pt x="488" y="0"/>
                    <a:pt x="816" y="0"/>
                  </a:cubicBezTo>
                  <a:cubicBezTo>
                    <a:pt x="1144" y="0"/>
                    <a:pt x="1744" y="96"/>
                    <a:pt x="1968" y="144"/>
                  </a:cubicBezTo>
                  <a:cubicBezTo>
                    <a:pt x="2192" y="192"/>
                    <a:pt x="2160" y="232"/>
                    <a:pt x="2160" y="288"/>
                  </a:cubicBezTo>
                  <a:cubicBezTo>
                    <a:pt x="2160" y="344"/>
                    <a:pt x="2064" y="412"/>
                    <a:pt x="1968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858000" y="3490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553080" y="3048120"/>
              <a:ext cx="1295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 =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5486400" y="3742920"/>
              <a:ext cx="3124080" cy="381240"/>
              <a:chOff x="5486400" y="3742920"/>
              <a:chExt cx="3124080" cy="381240"/>
            </a:xfrm>
          </p:grpSpPr>
          <p:grpSp>
            <p:nvGrpSpPr>
              <p:cNvPr id="753" name=""/>
              <p:cNvGrpSpPr/>
              <p:nvPr/>
            </p:nvGrpSpPr>
            <p:grpSpPr>
              <a:xfrm>
                <a:off x="6786720" y="3742920"/>
                <a:ext cx="795240" cy="381240"/>
                <a:chOff x="6786720" y="3742920"/>
                <a:chExt cx="795240" cy="38124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7435800" y="381960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361280" y="389556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37600" y="3971880"/>
                  <a:ext cx="14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7075440" y="3971880"/>
                  <a:ext cx="28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flipV="1">
                  <a:off x="6786720" y="3742920"/>
                  <a:ext cx="288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5486400" y="3971880"/>
                <a:ext cx="122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526160" y="3971880"/>
                <a:ext cx="108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61" name=""/>
            <p:cNvCxnSpPr>
              <a:stCxn id="741" idx="1"/>
              <a:endCxn id="759" idx="0"/>
            </p:cNvCxnSpPr>
            <p:nvPr/>
          </p:nvCxnSpPr>
          <p:spPr>
            <a:xfrm flipV="1" rot="10800000">
              <a:off x="5485680" y="2742120"/>
              <a:ext cx="229320" cy="1229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2" name=""/>
            <p:cNvCxnSpPr>
              <a:stCxn id="742" idx="3"/>
              <a:endCxn id="760" idx="0"/>
            </p:cNvCxnSpPr>
            <p:nvPr/>
          </p:nvCxnSpPr>
          <p:spPr>
            <a:xfrm>
              <a:off x="8381520" y="2742840"/>
              <a:ext cx="229320" cy="1229400"/>
            </a:xfrm>
            <a:prstGeom prst="bentConnector4">
              <a:avLst>
                <a:gd name="adj1" fmla="val 100000"/>
                <a:gd name="adj2" fmla="val 3719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63" name=""/>
            <p:cNvSpPr/>
            <p:nvPr/>
          </p:nvSpPr>
          <p:spPr>
            <a:xfrm>
              <a:off x="6705720" y="41148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 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6691320" y="3719520"/>
            <a:ext cx="380880" cy="252360"/>
            <a:chOff x="6691320" y="3719520"/>
            <a:chExt cx="380880" cy="252360"/>
          </a:xfrm>
        </p:grpSpPr>
        <p:sp>
          <p:nvSpPr>
            <p:cNvPr id="765" name=""/>
            <p:cNvSpPr/>
            <p:nvPr/>
          </p:nvSpPr>
          <p:spPr>
            <a:xfrm>
              <a:off x="6767640" y="3719520"/>
              <a:ext cx="2667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91320" y="3971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6539040" y="3048120"/>
            <a:ext cx="12952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=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–(-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57200" y="274320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l aplicar voltaje V “en invers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7200" y="30481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a mayor parte aparece en la jun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" y="3657600"/>
            <a:ext cx="5867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rece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extracción por deriva de portadores minoritarios (comportamiento capacitivo “de transición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rriente muy pequeña: portadores minoritarios “descienden” barrera, Corriente de Saturación In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7200" y="563868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modulación del ancho de la región de agotamiento: au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5791320" y="5410080"/>
                <a:ext cx="30938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73" name=""/>
          <p:cNvGrpSpPr/>
          <p:nvPr/>
        </p:nvGrpSpPr>
        <p:grpSpPr>
          <a:xfrm>
            <a:off x="6691320" y="3429000"/>
            <a:ext cx="1081080" cy="152280"/>
            <a:chOff x="6691320" y="3429000"/>
            <a:chExt cx="1081080" cy="152280"/>
          </a:xfrm>
        </p:grpSpPr>
        <p:sp>
          <p:nvSpPr>
            <p:cNvPr id="774" name=""/>
            <p:cNvSpPr/>
            <p:nvPr/>
          </p:nvSpPr>
          <p:spPr>
            <a:xfrm>
              <a:off x="6691320" y="34290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81680" y="3505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6576840" y="2286000"/>
            <a:ext cx="1195560" cy="152280"/>
            <a:chOff x="6576840" y="2286000"/>
            <a:chExt cx="1195560" cy="152280"/>
          </a:xfrm>
        </p:grpSpPr>
        <p:sp>
          <p:nvSpPr>
            <p:cNvPr id="777" name=""/>
            <p:cNvSpPr/>
            <p:nvPr/>
          </p:nvSpPr>
          <p:spPr>
            <a:xfrm>
              <a:off x="6576840" y="22860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29400" y="2362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6629400" y="2514600"/>
            <a:ext cx="1219320" cy="457200"/>
            <a:chOff x="6629400" y="2514600"/>
            <a:chExt cx="1219320" cy="457200"/>
          </a:xfrm>
        </p:grpSpPr>
        <p:sp>
          <p:nvSpPr>
            <p:cNvPr id="780" name=""/>
            <p:cNvSpPr/>
            <p:nvPr/>
          </p:nvSpPr>
          <p:spPr>
            <a:xfrm>
              <a:off x="6629400" y="2514600"/>
              <a:ext cx="42372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10280" y="2514600"/>
              <a:ext cx="83844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6591240" y="4495680"/>
                <a:ext cx="19796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Ley de la Juntura p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Hipótesis de inyección “Low-Level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5181480" y="2286000"/>
                <a:ext cx="3276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J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owLevel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5745240" y="2971800"/>
                <a:ext cx="2147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≈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694480" y="3657600"/>
                <a:ext cx="2342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508720" y="4506840"/>
                <a:ext cx="2908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685800" y="2438280"/>
            <a:ext cx="44956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Sin polarización 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ifusión en equilibrio con Der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n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Prevalece difusión ó deriva según sea la polarización directa o inversa, respectiv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Bajo condición de inyección “Low-Level” la variación en la corriente de difusión ó deriva es pequeña comparada con el nivel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Ley de la Juntura p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Ley de la jun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stima (Bajo inyección Low-Level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a densidad de portadores minoritarios justo después de la capa de agotamiento como función del nivel de equilibrio de los portadores minoritarios en esa región y del voltaje externo aplic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6553080" y="2133720"/>
                <a:ext cx="1409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6205680" y="2819520"/>
                <a:ext cx="20160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≈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5078520" y="3971880"/>
                <a:ext cx="329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685800" y="3962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ero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V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2295360" y="4495680"/>
                <a:ext cx="43308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736560" y="5410080"/>
                <a:ext cx="2745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≈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3994200" y="5410080"/>
                <a:ext cx="4392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alógamente,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Distribuciones de Portadores Minoritarios en Juntura pn Polariz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1223640" y="2538360"/>
            <a:ext cx="3962880" cy="1123920"/>
            <a:chOff x="1223640" y="2538360"/>
            <a:chExt cx="3962880" cy="1123920"/>
          </a:xfrm>
        </p:grpSpPr>
        <p:sp>
          <p:nvSpPr>
            <p:cNvPr id="801" name=""/>
            <p:cNvSpPr/>
            <p:nvPr/>
          </p:nvSpPr>
          <p:spPr>
            <a:xfrm>
              <a:off x="3052800" y="2538360"/>
              <a:ext cx="2133720" cy="8856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0"/>
                  </a:moveTo>
                  <a:cubicBezTo>
                    <a:pt x="4" y="0"/>
                    <a:pt x="8" y="0"/>
                    <a:pt x="48" y="48"/>
                  </a:cubicBezTo>
                  <a:cubicBezTo>
                    <a:pt x="88" y="96"/>
                    <a:pt x="184" y="224"/>
                    <a:pt x="240" y="288"/>
                  </a:cubicBezTo>
                  <a:cubicBezTo>
                    <a:pt x="296" y="352"/>
                    <a:pt x="328" y="400"/>
                    <a:pt x="384" y="432"/>
                  </a:cubicBezTo>
                  <a:cubicBezTo>
                    <a:pt x="440" y="464"/>
                    <a:pt x="416" y="456"/>
                    <a:pt x="576" y="480"/>
                  </a:cubicBezTo>
                  <a:cubicBezTo>
                    <a:pt x="736" y="504"/>
                    <a:pt x="1040" y="540"/>
                    <a:pt x="1344" y="576"/>
                  </a:cubicBezTo>
                </a:path>
              </a:pathLst>
            </a:custGeom>
            <a:noFill/>
            <a:ln w="2556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1223280" y="2776320"/>
              <a:ext cx="2133720" cy="88596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0"/>
                  </a:moveTo>
                  <a:cubicBezTo>
                    <a:pt x="4" y="0"/>
                    <a:pt x="8" y="0"/>
                    <a:pt x="48" y="48"/>
                  </a:cubicBezTo>
                  <a:cubicBezTo>
                    <a:pt x="88" y="96"/>
                    <a:pt x="184" y="224"/>
                    <a:pt x="240" y="288"/>
                  </a:cubicBezTo>
                  <a:cubicBezTo>
                    <a:pt x="296" y="352"/>
                    <a:pt x="328" y="400"/>
                    <a:pt x="384" y="432"/>
                  </a:cubicBezTo>
                  <a:cubicBezTo>
                    <a:pt x="440" y="464"/>
                    <a:pt x="416" y="456"/>
                    <a:pt x="576" y="480"/>
                  </a:cubicBezTo>
                  <a:cubicBezTo>
                    <a:pt x="736" y="504"/>
                    <a:pt x="1040" y="540"/>
                    <a:pt x="1344" y="576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09880" y="289548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80808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752480" y="312408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1819440" y="4710240"/>
            <a:ext cx="3057480" cy="1521360"/>
            <a:chOff x="1819440" y="4710240"/>
            <a:chExt cx="3057480" cy="1521360"/>
          </a:xfrm>
        </p:grpSpPr>
        <p:sp>
          <p:nvSpPr>
            <p:cNvPr id="806" name=""/>
            <p:cNvSpPr/>
            <p:nvPr/>
          </p:nvSpPr>
          <p:spPr>
            <a:xfrm>
              <a:off x="3048120" y="4710240"/>
              <a:ext cx="1752480" cy="1385640"/>
            </a:xfrm>
            <a:custGeom>
              <a:avLst/>
              <a:gdLst/>
              <a:ahLst/>
              <a:rect l="l" t="t" r="r" b="b"/>
              <a:pathLst>
                <a:path w="1432" h="874">
                  <a:moveTo>
                    <a:pt x="0" y="24"/>
                  </a:moveTo>
                  <a:cubicBezTo>
                    <a:pt x="11" y="39"/>
                    <a:pt x="27" y="0"/>
                    <a:pt x="67" y="116"/>
                  </a:cubicBezTo>
                  <a:cubicBezTo>
                    <a:pt x="107" y="232"/>
                    <a:pt x="192" y="598"/>
                    <a:pt x="237" y="722"/>
                  </a:cubicBezTo>
                  <a:cubicBezTo>
                    <a:pt x="282" y="847"/>
                    <a:pt x="298" y="846"/>
                    <a:pt x="339" y="859"/>
                  </a:cubicBezTo>
                  <a:cubicBezTo>
                    <a:pt x="379" y="874"/>
                    <a:pt x="418" y="841"/>
                    <a:pt x="481" y="806"/>
                  </a:cubicBezTo>
                  <a:cubicBezTo>
                    <a:pt x="543" y="773"/>
                    <a:pt x="556" y="693"/>
                    <a:pt x="714" y="655"/>
                  </a:cubicBezTo>
                  <a:cubicBezTo>
                    <a:pt x="873" y="617"/>
                    <a:pt x="1152" y="597"/>
                    <a:pt x="1432" y="578"/>
                  </a:cubicBezTo>
                </a:path>
              </a:pathLst>
            </a:custGeom>
            <a:noFill/>
            <a:ln w="2556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819440" y="4976640"/>
              <a:ext cx="1562040" cy="1128240"/>
            </a:xfrm>
            <a:custGeom>
              <a:avLst/>
              <a:gdLst/>
              <a:ahLst/>
              <a:rect l="l" t="t" r="r" b="b"/>
              <a:pathLst>
                <a:path w="984" h="711">
                  <a:moveTo>
                    <a:pt x="984" y="0"/>
                  </a:moveTo>
                  <a:cubicBezTo>
                    <a:pt x="976" y="17"/>
                    <a:pt x="957" y="8"/>
                    <a:pt x="931" y="105"/>
                  </a:cubicBezTo>
                  <a:cubicBezTo>
                    <a:pt x="905" y="202"/>
                    <a:pt x="856" y="485"/>
                    <a:pt x="829" y="583"/>
                  </a:cubicBezTo>
                  <a:cubicBezTo>
                    <a:pt x="800" y="682"/>
                    <a:pt x="789" y="683"/>
                    <a:pt x="761" y="696"/>
                  </a:cubicBezTo>
                  <a:cubicBezTo>
                    <a:pt x="734" y="711"/>
                    <a:pt x="706" y="688"/>
                    <a:pt x="662" y="667"/>
                  </a:cubicBezTo>
                  <a:cubicBezTo>
                    <a:pt x="618" y="645"/>
                    <a:pt x="608" y="586"/>
                    <a:pt x="497" y="568"/>
                  </a:cubicBezTo>
                  <a:cubicBezTo>
                    <a:pt x="387" y="551"/>
                    <a:pt x="193" y="557"/>
                    <a:pt x="0" y="563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38480" y="571500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80808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209680" y="579096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604800" y="1905120"/>
            <a:ext cx="5549760" cy="2423520"/>
            <a:chOff x="604800" y="1905120"/>
            <a:chExt cx="5549760" cy="2423520"/>
          </a:xfrm>
        </p:grpSpPr>
        <p:grpSp>
          <p:nvGrpSpPr>
            <p:cNvPr id="811" name=""/>
            <p:cNvGrpSpPr/>
            <p:nvPr/>
          </p:nvGrpSpPr>
          <p:grpSpPr>
            <a:xfrm>
              <a:off x="604800" y="1905120"/>
              <a:ext cx="5549760" cy="2423520"/>
              <a:chOff x="604800" y="1905120"/>
              <a:chExt cx="5549760" cy="2423520"/>
            </a:xfrm>
          </p:grpSpPr>
          <p:grpSp>
            <p:nvGrpSpPr>
              <p:cNvPr id="812" name=""/>
              <p:cNvGrpSpPr/>
              <p:nvPr/>
            </p:nvGrpSpPr>
            <p:grpSpPr>
              <a:xfrm>
                <a:off x="604800" y="1905120"/>
                <a:ext cx="5257800" cy="2423520"/>
                <a:chOff x="604800" y="1905120"/>
                <a:chExt cx="5257800" cy="242352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3200400" y="341928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590920" y="1905120"/>
                  <a:ext cx="99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log p, 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5" name=""/>
                <p:cNvGrpSpPr/>
                <p:nvPr/>
              </p:nvGrpSpPr>
              <p:grpSpPr>
                <a:xfrm>
                  <a:off x="604800" y="2209320"/>
                  <a:ext cx="5257800" cy="2119320"/>
                  <a:chOff x="604800" y="2209320"/>
                  <a:chExt cx="5257800" cy="2119320"/>
                </a:xfrm>
              </p:grpSpPr>
              <p:sp>
                <p:nvSpPr>
                  <p:cNvPr id="816" name=""/>
                  <p:cNvSpPr/>
                  <p:nvPr/>
                </p:nvSpPr>
                <p:spPr>
                  <a:xfrm>
                    <a:off x="604800" y="3961800"/>
                    <a:ext cx="5257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V="1">
                    <a:off x="3195720" y="2209320"/>
                    <a:ext cx="0" cy="175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5241960" y="3960360"/>
                    <a:ext cx="563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MX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757440" y="365724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757440" y="243792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3195720" y="266652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1347840" y="2428560"/>
                    <a:ext cx="4267080" cy="9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0" h="628">
                        <a:moveTo>
                          <a:pt x="0" y="0"/>
                        </a:moveTo>
                        <a:cubicBezTo>
                          <a:pt x="12" y="1"/>
                          <a:pt x="10" y="2"/>
                          <a:pt x="75" y="3"/>
                        </a:cubicBezTo>
                        <a:cubicBezTo>
                          <a:pt x="140" y="4"/>
                          <a:pt x="261" y="4"/>
                          <a:pt x="393" y="6"/>
                        </a:cubicBezTo>
                        <a:cubicBezTo>
                          <a:pt x="525" y="8"/>
                          <a:pt x="740" y="4"/>
                          <a:pt x="867" y="15"/>
                        </a:cubicBezTo>
                        <a:cubicBezTo>
                          <a:pt x="994" y="26"/>
                          <a:pt x="1093" y="34"/>
                          <a:pt x="1156" y="74"/>
                        </a:cubicBezTo>
                        <a:cubicBezTo>
                          <a:pt x="1219" y="114"/>
                          <a:pt x="1222" y="197"/>
                          <a:pt x="1245" y="258"/>
                        </a:cubicBezTo>
                        <a:cubicBezTo>
                          <a:pt x="1268" y="319"/>
                          <a:pt x="1274" y="386"/>
                          <a:pt x="1296" y="438"/>
                        </a:cubicBezTo>
                        <a:cubicBezTo>
                          <a:pt x="1318" y="490"/>
                          <a:pt x="1333" y="540"/>
                          <a:pt x="1376" y="570"/>
                        </a:cubicBezTo>
                        <a:cubicBezTo>
                          <a:pt x="1419" y="600"/>
                          <a:pt x="1475" y="612"/>
                          <a:pt x="1557" y="620"/>
                        </a:cubicBezTo>
                        <a:cubicBezTo>
                          <a:pt x="1639" y="628"/>
                          <a:pt x="1648" y="620"/>
                          <a:pt x="1868" y="620"/>
                        </a:cubicBezTo>
                        <a:cubicBezTo>
                          <a:pt x="2089" y="620"/>
                          <a:pt x="2484" y="620"/>
                          <a:pt x="2880" y="6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3" name=""/>
                <p:cNvSpPr/>
                <p:nvPr/>
              </p:nvSpPr>
              <p:spPr>
                <a:xfrm flipH="1">
                  <a:off x="1146960" y="2666880"/>
                  <a:ext cx="3676680" cy="996480"/>
                </a:xfrm>
                <a:custGeom>
                  <a:avLst/>
                  <a:gdLst/>
                  <a:ahLst/>
                  <a:rect l="l" t="t" r="r" b="b"/>
                  <a:pathLst>
                    <a:path w="2880" h="628">
                      <a:moveTo>
                        <a:pt x="0" y="0"/>
                      </a:moveTo>
                      <a:cubicBezTo>
                        <a:pt x="12" y="1"/>
                        <a:pt x="10" y="2"/>
                        <a:pt x="75" y="3"/>
                      </a:cubicBezTo>
                      <a:cubicBezTo>
                        <a:pt x="140" y="4"/>
                        <a:pt x="261" y="4"/>
                        <a:pt x="393" y="6"/>
                      </a:cubicBezTo>
                      <a:cubicBezTo>
                        <a:pt x="525" y="8"/>
                        <a:pt x="740" y="4"/>
                        <a:pt x="867" y="15"/>
                      </a:cubicBezTo>
                      <a:cubicBezTo>
                        <a:pt x="994" y="26"/>
                        <a:pt x="1093" y="34"/>
                        <a:pt x="1156" y="74"/>
                      </a:cubicBezTo>
                      <a:cubicBezTo>
                        <a:pt x="1219" y="114"/>
                        <a:pt x="1222" y="197"/>
                        <a:pt x="1245" y="258"/>
                      </a:cubicBezTo>
                      <a:cubicBezTo>
                        <a:pt x="1268" y="319"/>
                        <a:pt x="1274" y="386"/>
                        <a:pt x="1296" y="438"/>
                      </a:cubicBezTo>
                      <a:cubicBezTo>
                        <a:pt x="1318" y="490"/>
                        <a:pt x="1333" y="540"/>
                        <a:pt x="1376" y="570"/>
                      </a:cubicBezTo>
                      <a:cubicBezTo>
                        <a:pt x="1419" y="600"/>
                        <a:pt x="1475" y="612"/>
                        <a:pt x="1557" y="620"/>
                      </a:cubicBezTo>
                      <a:cubicBezTo>
                        <a:pt x="1639" y="628"/>
                        <a:pt x="1648" y="620"/>
                        <a:pt x="1868" y="620"/>
                      </a:cubicBezTo>
                      <a:cubicBezTo>
                        <a:pt x="2089" y="620"/>
                        <a:pt x="2484" y="620"/>
                        <a:pt x="2880" y="6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824" name=""/>
                  <p:cNvSpPr txBox="1"/>
                  <p:nvPr/>
                </p:nvSpPr>
                <p:spPr>
                  <a:xfrm>
                    <a:off x="990720" y="2138400"/>
                    <a:ext cx="30456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5" name=""/>
                  <p:cNvSpPr txBox="1"/>
                  <p:nvPr/>
                </p:nvSpPr>
                <p:spPr>
                  <a:xfrm>
                    <a:off x="5707080" y="2514600"/>
                    <a:ext cx="32220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6" name=""/>
                  <p:cNvSpPr txBox="1"/>
                  <p:nvPr/>
                </p:nvSpPr>
                <p:spPr>
                  <a:xfrm>
                    <a:off x="762120" y="3047760"/>
                    <a:ext cx="35532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7" name=""/>
                  <p:cNvSpPr txBox="1"/>
                  <p:nvPr/>
                </p:nvSpPr>
                <p:spPr>
                  <a:xfrm>
                    <a:off x="5783400" y="3047760"/>
                    <a:ext cx="37116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28" name=""/>
            <p:cNvSpPr/>
            <p:nvPr/>
          </p:nvSpPr>
          <p:spPr>
            <a:xfrm>
              <a:off x="3429000" y="259056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57400" y="243828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609480" y="4114800"/>
            <a:ext cx="5549760" cy="2423520"/>
            <a:chOff x="609480" y="4114800"/>
            <a:chExt cx="5549760" cy="2423520"/>
          </a:xfrm>
        </p:grpSpPr>
        <p:grpSp>
          <p:nvGrpSpPr>
            <p:cNvPr id="831" name=""/>
            <p:cNvGrpSpPr/>
            <p:nvPr/>
          </p:nvGrpSpPr>
          <p:grpSpPr>
            <a:xfrm>
              <a:off x="609480" y="4114800"/>
              <a:ext cx="5549760" cy="2423520"/>
              <a:chOff x="609480" y="4114800"/>
              <a:chExt cx="5549760" cy="2423520"/>
            </a:xfrm>
          </p:grpSpPr>
          <p:grpSp>
            <p:nvGrpSpPr>
              <p:cNvPr id="832" name=""/>
              <p:cNvGrpSpPr/>
              <p:nvPr/>
            </p:nvGrpSpPr>
            <p:grpSpPr>
              <a:xfrm>
                <a:off x="609480" y="4114800"/>
                <a:ext cx="5257800" cy="2423520"/>
                <a:chOff x="609480" y="4114800"/>
                <a:chExt cx="5257800" cy="24235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3205080" y="562896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595600" y="4114800"/>
                  <a:ext cx="99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log p, 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5" name=""/>
                <p:cNvGrpSpPr/>
                <p:nvPr/>
              </p:nvGrpSpPr>
              <p:grpSpPr>
                <a:xfrm>
                  <a:off x="609480" y="4419000"/>
                  <a:ext cx="5257800" cy="2119320"/>
                  <a:chOff x="609480" y="4419000"/>
                  <a:chExt cx="5257800" cy="2119320"/>
                </a:xfrm>
              </p:grpSpPr>
              <p:sp>
                <p:nvSpPr>
                  <p:cNvPr id="836" name=""/>
                  <p:cNvSpPr/>
                  <p:nvPr/>
                </p:nvSpPr>
                <p:spPr>
                  <a:xfrm>
                    <a:off x="609480" y="6171480"/>
                    <a:ext cx="5257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flipV="1">
                    <a:off x="3200400" y="4419000"/>
                    <a:ext cx="0" cy="175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5246640" y="6170040"/>
                    <a:ext cx="563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MX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762120" y="586692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762120" y="464760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3200400" y="487620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1352520" y="4638240"/>
                    <a:ext cx="4267080" cy="9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0" h="628">
                        <a:moveTo>
                          <a:pt x="0" y="0"/>
                        </a:moveTo>
                        <a:cubicBezTo>
                          <a:pt x="12" y="1"/>
                          <a:pt x="10" y="2"/>
                          <a:pt x="75" y="3"/>
                        </a:cubicBezTo>
                        <a:cubicBezTo>
                          <a:pt x="140" y="4"/>
                          <a:pt x="261" y="4"/>
                          <a:pt x="393" y="6"/>
                        </a:cubicBezTo>
                        <a:cubicBezTo>
                          <a:pt x="525" y="8"/>
                          <a:pt x="740" y="4"/>
                          <a:pt x="867" y="15"/>
                        </a:cubicBezTo>
                        <a:cubicBezTo>
                          <a:pt x="994" y="26"/>
                          <a:pt x="1093" y="34"/>
                          <a:pt x="1156" y="74"/>
                        </a:cubicBezTo>
                        <a:cubicBezTo>
                          <a:pt x="1219" y="114"/>
                          <a:pt x="1222" y="197"/>
                          <a:pt x="1245" y="258"/>
                        </a:cubicBezTo>
                        <a:cubicBezTo>
                          <a:pt x="1268" y="319"/>
                          <a:pt x="1274" y="386"/>
                          <a:pt x="1296" y="438"/>
                        </a:cubicBezTo>
                        <a:cubicBezTo>
                          <a:pt x="1318" y="490"/>
                          <a:pt x="1333" y="540"/>
                          <a:pt x="1376" y="570"/>
                        </a:cubicBezTo>
                        <a:cubicBezTo>
                          <a:pt x="1419" y="600"/>
                          <a:pt x="1475" y="612"/>
                          <a:pt x="1557" y="620"/>
                        </a:cubicBezTo>
                        <a:cubicBezTo>
                          <a:pt x="1639" y="628"/>
                          <a:pt x="1648" y="620"/>
                          <a:pt x="1868" y="620"/>
                        </a:cubicBezTo>
                        <a:cubicBezTo>
                          <a:pt x="2089" y="620"/>
                          <a:pt x="2484" y="620"/>
                          <a:pt x="2880" y="6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3" name=""/>
                <p:cNvSpPr/>
                <p:nvPr/>
              </p:nvSpPr>
              <p:spPr>
                <a:xfrm flipH="1">
                  <a:off x="1151640" y="4876560"/>
                  <a:ext cx="3676680" cy="996480"/>
                </a:xfrm>
                <a:custGeom>
                  <a:avLst/>
                  <a:gdLst/>
                  <a:ahLst/>
                  <a:rect l="l" t="t" r="r" b="b"/>
                  <a:pathLst>
                    <a:path w="2880" h="628">
                      <a:moveTo>
                        <a:pt x="0" y="0"/>
                      </a:moveTo>
                      <a:cubicBezTo>
                        <a:pt x="12" y="1"/>
                        <a:pt x="10" y="2"/>
                        <a:pt x="75" y="3"/>
                      </a:cubicBezTo>
                      <a:cubicBezTo>
                        <a:pt x="140" y="4"/>
                        <a:pt x="261" y="4"/>
                        <a:pt x="393" y="6"/>
                      </a:cubicBezTo>
                      <a:cubicBezTo>
                        <a:pt x="525" y="8"/>
                        <a:pt x="740" y="4"/>
                        <a:pt x="867" y="15"/>
                      </a:cubicBezTo>
                      <a:cubicBezTo>
                        <a:pt x="994" y="26"/>
                        <a:pt x="1093" y="34"/>
                        <a:pt x="1156" y="74"/>
                      </a:cubicBezTo>
                      <a:cubicBezTo>
                        <a:pt x="1219" y="114"/>
                        <a:pt x="1222" y="197"/>
                        <a:pt x="1245" y="258"/>
                      </a:cubicBezTo>
                      <a:cubicBezTo>
                        <a:pt x="1268" y="319"/>
                        <a:pt x="1274" y="386"/>
                        <a:pt x="1296" y="438"/>
                      </a:cubicBezTo>
                      <a:cubicBezTo>
                        <a:pt x="1318" y="490"/>
                        <a:pt x="1333" y="540"/>
                        <a:pt x="1376" y="570"/>
                      </a:cubicBezTo>
                      <a:cubicBezTo>
                        <a:pt x="1419" y="600"/>
                        <a:pt x="1475" y="612"/>
                        <a:pt x="1557" y="620"/>
                      </a:cubicBezTo>
                      <a:cubicBezTo>
                        <a:pt x="1639" y="628"/>
                        <a:pt x="1648" y="620"/>
                        <a:pt x="1868" y="620"/>
                      </a:cubicBezTo>
                      <a:cubicBezTo>
                        <a:pt x="2089" y="620"/>
                        <a:pt x="2484" y="620"/>
                        <a:pt x="2880" y="6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844" name=""/>
                  <p:cNvSpPr txBox="1"/>
                  <p:nvPr/>
                </p:nvSpPr>
                <p:spPr>
                  <a:xfrm>
                    <a:off x="995400" y="4348080"/>
                    <a:ext cx="30456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5" name=""/>
                  <p:cNvSpPr txBox="1"/>
                  <p:nvPr/>
                </p:nvSpPr>
                <p:spPr>
                  <a:xfrm>
                    <a:off x="5711760" y="4724280"/>
                    <a:ext cx="32220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6" name=""/>
                  <p:cNvSpPr txBox="1"/>
                  <p:nvPr/>
                </p:nvSpPr>
                <p:spPr>
                  <a:xfrm>
                    <a:off x="766800" y="5257440"/>
                    <a:ext cx="35532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7" name=""/>
                  <p:cNvSpPr txBox="1"/>
                  <p:nvPr/>
                </p:nvSpPr>
                <p:spPr>
                  <a:xfrm>
                    <a:off x="5788080" y="5257440"/>
                    <a:ext cx="37116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48" name=""/>
            <p:cNvSpPr/>
            <p:nvPr/>
          </p:nvSpPr>
          <p:spPr>
            <a:xfrm>
              <a:off x="1905120" y="457200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33920" y="480060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780960" y="2438280"/>
            <a:ext cx="1986480" cy="1623240"/>
            <a:chOff x="6780960" y="2438280"/>
            <a:chExt cx="1986480" cy="1623240"/>
          </a:xfrm>
        </p:grpSpPr>
        <p:grpSp>
          <p:nvGrpSpPr>
            <p:cNvPr id="851" name=""/>
            <p:cNvGrpSpPr/>
            <p:nvPr/>
          </p:nvGrpSpPr>
          <p:grpSpPr>
            <a:xfrm>
              <a:off x="6926760" y="2438280"/>
              <a:ext cx="1694880" cy="367920"/>
              <a:chOff x="6926760" y="2438280"/>
              <a:chExt cx="1694880" cy="367920"/>
            </a:xfrm>
          </p:grpSpPr>
          <p:sp>
            <p:nvSpPr>
              <p:cNvPr id="852" name=""/>
              <p:cNvSpPr/>
              <p:nvPr/>
            </p:nvSpPr>
            <p:spPr>
              <a:xfrm>
                <a:off x="7028640" y="2438280"/>
                <a:ext cx="745560" cy="3679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774560" y="2438280"/>
                <a:ext cx="745200" cy="367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926760" y="2438280"/>
                <a:ext cx="101880" cy="36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519760" y="2438280"/>
                <a:ext cx="101880" cy="36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7632720" y="2438280"/>
              <a:ext cx="144360" cy="367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750080" y="2438280"/>
              <a:ext cx="290520" cy="367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6781680" y="3426840"/>
              <a:ext cx="1985760" cy="306000"/>
              <a:chOff x="6781680" y="3426840"/>
              <a:chExt cx="1985760" cy="30600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7608240" y="3426840"/>
                <a:ext cx="504720" cy="306000"/>
                <a:chOff x="7608240" y="3426840"/>
                <a:chExt cx="504720" cy="3060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7975440" y="3487680"/>
                  <a:ext cx="0" cy="245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021160" y="3549240"/>
                  <a:ext cx="0" cy="122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8021160" y="3610440"/>
                  <a:ext cx="91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7791840" y="3610440"/>
                  <a:ext cx="183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 flipV="1">
                  <a:off x="7608240" y="3426840"/>
                  <a:ext cx="183600" cy="18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5" name=""/>
              <p:cNvSpPr/>
              <p:nvPr/>
            </p:nvSpPr>
            <p:spPr>
              <a:xfrm>
                <a:off x="6781680" y="3610440"/>
                <a:ext cx="78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078760" y="3610440"/>
                <a:ext cx="68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67" name=""/>
            <p:cNvCxnSpPr>
              <a:stCxn id="854" idx="1"/>
              <a:endCxn id="865" idx="0"/>
            </p:cNvCxnSpPr>
            <p:nvPr/>
          </p:nvCxnSpPr>
          <p:spPr>
            <a:xfrm flipV="1" rot="10800000">
              <a:off x="6780960" y="2622240"/>
              <a:ext cx="145800" cy="988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8" name=""/>
            <p:cNvCxnSpPr>
              <a:stCxn id="855" idx="3"/>
              <a:endCxn id="866" idx="0"/>
            </p:cNvCxnSpPr>
            <p:nvPr/>
          </p:nvCxnSpPr>
          <p:spPr>
            <a:xfrm>
              <a:off x="8622000" y="2622240"/>
              <a:ext cx="145800" cy="988920"/>
            </a:xfrm>
            <a:prstGeom prst="bentConnector4">
              <a:avLst>
                <a:gd name="adj1" fmla="val 100000"/>
                <a:gd name="adj2" fmla="val 3721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9" name=""/>
            <p:cNvSpPr/>
            <p:nvPr/>
          </p:nvSpPr>
          <p:spPr>
            <a:xfrm>
              <a:off x="7556400" y="3724200"/>
              <a:ext cx="82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871680" y="4572000"/>
            <a:ext cx="1986480" cy="1623240"/>
            <a:chOff x="6871680" y="4572000"/>
            <a:chExt cx="1986480" cy="1623240"/>
          </a:xfrm>
        </p:grpSpPr>
        <p:grpSp>
          <p:nvGrpSpPr>
            <p:cNvPr id="871" name=""/>
            <p:cNvGrpSpPr/>
            <p:nvPr/>
          </p:nvGrpSpPr>
          <p:grpSpPr>
            <a:xfrm>
              <a:off x="7018200" y="4572000"/>
              <a:ext cx="1694160" cy="368280"/>
              <a:chOff x="7018200" y="4572000"/>
              <a:chExt cx="1694160" cy="368280"/>
            </a:xfrm>
          </p:grpSpPr>
          <p:sp>
            <p:nvSpPr>
              <p:cNvPr id="872" name=""/>
              <p:cNvSpPr/>
              <p:nvPr/>
            </p:nvSpPr>
            <p:spPr>
              <a:xfrm>
                <a:off x="7120080" y="4572000"/>
                <a:ext cx="745200" cy="368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865280" y="4572000"/>
                <a:ext cx="744840" cy="368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018200" y="4572000"/>
                <a:ext cx="10188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610480" y="4572000"/>
                <a:ext cx="10188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>
              <a:off x="7723080" y="4572000"/>
              <a:ext cx="144720" cy="368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840800" y="4572000"/>
              <a:ext cx="290520" cy="368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7699320" y="5560560"/>
              <a:ext cx="504720" cy="306720"/>
              <a:chOff x="7699320" y="5560560"/>
              <a:chExt cx="504720" cy="306720"/>
            </a:xfrm>
          </p:grpSpPr>
          <p:sp>
            <p:nvSpPr>
              <p:cNvPr id="879" name=""/>
              <p:cNvSpPr/>
              <p:nvPr/>
            </p:nvSpPr>
            <p:spPr>
              <a:xfrm>
                <a:off x="8109000" y="562284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069400" y="568296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112240" y="5744880"/>
                <a:ext cx="9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883640" y="5744880"/>
                <a:ext cx="18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 flipV="1">
                <a:off x="7699320" y="5560560"/>
                <a:ext cx="184320" cy="18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6872400" y="5744880"/>
              <a:ext cx="78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169120" y="5744880"/>
              <a:ext cx="68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6" name=""/>
            <p:cNvCxnSpPr>
              <a:stCxn id="874" idx="1"/>
              <a:endCxn id="884" idx="0"/>
            </p:cNvCxnSpPr>
            <p:nvPr/>
          </p:nvCxnSpPr>
          <p:spPr>
            <a:xfrm flipV="1" rot="10800000">
              <a:off x="6871680" y="4754520"/>
              <a:ext cx="146520" cy="989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7" name=""/>
            <p:cNvCxnSpPr>
              <a:stCxn id="875" idx="3"/>
              <a:endCxn id="885" idx="0"/>
            </p:cNvCxnSpPr>
            <p:nvPr/>
          </p:nvCxnSpPr>
          <p:spPr>
            <a:xfrm>
              <a:off x="8712000" y="4755600"/>
              <a:ext cx="146520" cy="989280"/>
            </a:xfrm>
            <a:prstGeom prst="bentConnector4">
              <a:avLst>
                <a:gd name="adj1" fmla="val 96551"/>
                <a:gd name="adj2" fmla="val 4171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88" name=""/>
            <p:cNvSpPr/>
            <p:nvPr/>
          </p:nvSpPr>
          <p:spPr>
            <a:xfrm>
              <a:off x="7647120" y="585792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567560" y="3352680"/>
            <a:ext cx="228600" cy="257040"/>
            <a:chOff x="7567560" y="3352680"/>
            <a:chExt cx="228600" cy="257040"/>
          </a:xfrm>
        </p:grpSpPr>
        <p:sp>
          <p:nvSpPr>
            <p:cNvPr id="890" name=""/>
            <p:cNvSpPr/>
            <p:nvPr/>
          </p:nvSpPr>
          <p:spPr>
            <a:xfrm>
              <a:off x="7596360" y="3352680"/>
              <a:ext cx="161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567560" y="3609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662960" y="5486400"/>
            <a:ext cx="228600" cy="257040"/>
            <a:chOff x="7662960" y="5486400"/>
            <a:chExt cx="228600" cy="257040"/>
          </a:xfrm>
        </p:grpSpPr>
        <p:sp>
          <p:nvSpPr>
            <p:cNvPr id="893" name=""/>
            <p:cNvSpPr/>
            <p:nvPr/>
          </p:nvSpPr>
          <p:spPr>
            <a:xfrm>
              <a:off x="7691760" y="5486400"/>
              <a:ext cx="161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662960" y="5743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7086600" y="28195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olarización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162920" y="4952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olarización in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cuación de continuidad Bajo inyección Low-Level y equilibri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5257800" y="2133720"/>
                <a:ext cx="37339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5407200" y="3352680"/>
                <a:ext cx="3060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5721480" y="4724280"/>
                <a:ext cx="27478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682560" y="2708280"/>
            <a:ext cx="41148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ndiciones de borde dadas por la ley de la juntura p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82560" y="3308400"/>
            <a:ext cx="4114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entes de portadores minoritarios se deben principalmente a dif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4191120"/>
            <a:ext cx="41148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La ecuación de continuidad y la expresión para la densidad de corriente entregan, para régimen permanente, la ecuación que describe las corrientes de un diodo de junt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oluciones ecu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5319720" y="2057400"/>
                <a:ext cx="2352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4730760" y="3276720"/>
                <a:ext cx="4060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os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Sen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2135160" y="4246560"/>
                <a:ext cx="53308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≈</m:t>
                            </m:r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p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para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&lt;&lt;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5334120" y="5410080"/>
                <a:ext cx="24145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A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1" name=""/>
          <p:cNvSpPr/>
          <p:nvPr/>
        </p:nvSpPr>
        <p:spPr>
          <a:xfrm>
            <a:off x="228600" y="205740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Soluciones con interés tecnológ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x &lt;&lt;L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: Base de un Transistor p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x &gt;&gt;L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: Diodo 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28600" y="495288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e la definición de corriente de difus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Tarea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area 1.2: Demuestre que las corrientes de difusión en un diodo pn polarizado con una fuente externa de voltaje V están dadas por 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914400" y="51814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Considere el origen de coordenadas x en la juntura. Adicionalmente asuma que el ancho de las regiones tipo p y n es mucho mayor que el camino libre medio de los portadores inyect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" y="3352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ya que la corriente total en un diodo está dada por I=I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n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I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W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¿por qué se evalúa justo en los bordes?. Refiérase en particular a las corrientes de portadores mayoritarios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838080" y="2592360"/>
                <a:ext cx="3353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p>
                    </m:sSup>
                    <m:r>
                      <m:t xml:space="preserve">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4419720" y="2568600"/>
                <a:ext cx="3657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</m:sSup>
                    <m:r>
                      <m:t xml:space="preserve">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1981080" y="4338720"/>
                <a:ext cx="48769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aracterísticas Estáticas 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e los Diodos de Juntur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Comentario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Tarea 1.3 (*): (a)Demuestre que la corriente I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(x) para x &lt;&lt; L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B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(Inyección de e’s desde el emisor tipo n, a la base tipo p) está dada por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1828800" y="2286000"/>
                <a:ext cx="591336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A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B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γ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sSub>
                                                  <m:e>
                                                    <m:r>
                                                      <m:t xml:space="preserve">W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B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sSub>
                                                  <m:e>
                                                    <m:r>
                                                      <m:t xml:space="preserve">L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nB</m:t>
                                                    </m:r>
                                                  </m:sub>
                                                </m:sSub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  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y  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B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5181480" y="5029200"/>
                <a:ext cx="23670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ciones de Borde: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4" name=""/>
          <p:cNvSpPr/>
          <p:nvPr/>
        </p:nvSpPr>
        <p:spPr>
          <a:xfrm>
            <a:off x="838080" y="3733920"/>
            <a:ext cx="7696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Un transistor es un “arreglo” npn. Por lo tanto posee dos junturas. Resuelva la ecuación de continuidad para los portadores minoritarios n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(x) aplicando dos condiciones de borde: La primera en x=0 que es justo donde termina la zona de agotamiento emisor-base y la otra es en x=W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 que es justo donde comienza la zona de agotamiento base-cole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1903320" y="4952880"/>
            <a:ext cx="2670120" cy="1590120"/>
            <a:chOff x="1903320" y="4952880"/>
            <a:chExt cx="2670120" cy="1590120"/>
          </a:xfrm>
        </p:grpSpPr>
        <p:sp>
          <p:nvSpPr>
            <p:cNvPr id="926" name=""/>
            <p:cNvSpPr/>
            <p:nvPr/>
          </p:nvSpPr>
          <p:spPr>
            <a:xfrm>
              <a:off x="2133360" y="5257800"/>
              <a:ext cx="83844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971800" y="525780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04960" y="5257800"/>
              <a:ext cx="83844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057400" y="6172200"/>
              <a:ext cx="823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0" name=""/>
            <p:cNvCxnSpPr>
              <a:stCxn id="931" idx="0"/>
              <a:endCxn id="926" idx="1"/>
            </p:cNvCxnSpPr>
            <p:nvPr/>
          </p:nvCxnSpPr>
          <p:spPr>
            <a:xfrm flipV="1" rot="16200000">
              <a:off x="1844280" y="5774760"/>
              <a:ext cx="654840" cy="76680"/>
            </a:xfrm>
            <a:prstGeom prst="bentConnector4">
              <a:avLst>
                <a:gd name="adj1" fmla="val -220"/>
                <a:gd name="adj2" fmla="val 401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932" name=""/>
            <p:cNvGrpSpPr/>
            <p:nvPr/>
          </p:nvGrpSpPr>
          <p:grpSpPr>
            <a:xfrm>
              <a:off x="2209320" y="6013080"/>
              <a:ext cx="650880" cy="244440"/>
              <a:chOff x="2209320" y="6013080"/>
              <a:chExt cx="650880" cy="244440"/>
            </a:xfrm>
          </p:grpSpPr>
          <p:sp>
            <p:nvSpPr>
              <p:cNvPr id="933" name=""/>
              <p:cNvSpPr/>
              <p:nvPr/>
            </p:nvSpPr>
            <p:spPr>
              <a:xfrm flipV="1">
                <a:off x="2554200" y="601308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>
                <a:off x="2514600" y="607356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2555280" y="6140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2209320" y="6140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37" name=""/>
            <p:cNvCxnSpPr>
              <a:stCxn id="935" idx="0"/>
              <a:endCxn id="927" idx="2"/>
            </p:cNvCxnSpPr>
            <p:nvPr/>
          </p:nvCxnSpPr>
          <p:spPr>
            <a:xfrm flipH="1" flipV="1" rot="5400000">
              <a:off x="2836440" y="5738400"/>
              <a:ext cx="426240" cy="378720"/>
            </a:xfrm>
            <a:prstGeom prst="bentConnector3">
              <a:avLst>
                <a:gd name="adj1" fmla="val -33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38" name=""/>
            <p:cNvSpPr/>
            <p:nvPr/>
          </p:nvSpPr>
          <p:spPr>
            <a:xfrm flipH="1">
              <a:off x="3504240" y="6172200"/>
              <a:ext cx="82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9" name=""/>
            <p:cNvCxnSpPr>
              <a:stCxn id="940" idx="0"/>
              <a:endCxn id="928" idx="3"/>
            </p:cNvCxnSpPr>
            <p:nvPr/>
          </p:nvCxnSpPr>
          <p:spPr>
            <a:xfrm flipH="1" flipV="1" rot="5400000">
              <a:off x="3976200" y="5776560"/>
              <a:ext cx="658080" cy="76680"/>
            </a:xfrm>
            <a:prstGeom prst="bentConnector4">
              <a:avLst>
                <a:gd name="adj1" fmla="val -218"/>
                <a:gd name="adj2" fmla="val 401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941" name=""/>
            <p:cNvGrpSpPr/>
            <p:nvPr/>
          </p:nvGrpSpPr>
          <p:grpSpPr>
            <a:xfrm>
              <a:off x="3615840" y="6019560"/>
              <a:ext cx="650880" cy="244440"/>
              <a:chOff x="3615840" y="6019560"/>
              <a:chExt cx="650880" cy="244440"/>
            </a:xfrm>
          </p:grpSpPr>
          <p:sp>
            <p:nvSpPr>
              <p:cNvPr id="942" name=""/>
              <p:cNvSpPr/>
              <p:nvPr/>
            </p:nvSpPr>
            <p:spPr>
              <a:xfrm flipV="1">
                <a:off x="3960720" y="601956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3921120" y="608004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3961800" y="61437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>
                <a:off x="3615840" y="6140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46" name=""/>
            <p:cNvCxnSpPr>
              <a:stCxn id="945" idx="0"/>
              <a:endCxn id="927" idx="2"/>
            </p:cNvCxnSpPr>
            <p:nvPr/>
          </p:nvCxnSpPr>
          <p:spPr>
            <a:xfrm flipV="1" rot="16200000">
              <a:off x="3214080" y="5738400"/>
              <a:ext cx="426240" cy="378360"/>
            </a:xfrm>
            <a:prstGeom prst="bentConnector3">
              <a:avLst>
                <a:gd name="adj1" fmla="val -33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47" name=""/>
            <p:cNvSpPr/>
            <p:nvPr/>
          </p:nvSpPr>
          <p:spPr>
            <a:xfrm>
              <a:off x="2057400" y="49528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Emi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666880" y="49528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352680" y="49528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Cole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Comentario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area 1.3 (*): (b) A partir del resultado anterior (y bajo los mismas hipótesis) muestre que el factor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, que representa la fracción de los portadores inyectados desde el emisor que alcanzan el colector, está dado por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133720" y="2362320"/>
                <a:ext cx="5137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r>
                              <m:t xml:space="preserve">−</m:t>
                            </m:r>
                            <m:r>
                              <m:t xml:space="preserve">γ</m:t>
                            </m:r>
                          </m:e>
                        </m:d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B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1066680" y="320040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Obtenga la expresión general para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T  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y aproxime la expresión mediante desarrollos en serie de Tayl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Un transistor npn en su “zona activa” tiene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 (juntura emisor-base en directa) y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(juntura base-colector en inversa). Muestre que para estas condiciones se tien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114800" y="4572000"/>
                <a:ext cx="1406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6" name=""/>
          <p:cNvSpPr/>
          <p:nvPr/>
        </p:nvSpPr>
        <p:spPr>
          <a:xfrm>
            <a:off x="762120" y="5410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n un transistor es deseable tener este factor lo más cercano posible a 1. Esto puede lograrse achicando el ancho de la base W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. Proponga alguna forma de lograr es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373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ente juntura pn </a:t>
            </a:r>
            <a:br>
              <a:rPr sz="2000"/>
            </a:b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(modelo difusión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3295800" y="1676520"/>
                <a:ext cx="53416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1523880" y="4495680"/>
                <a:ext cx="22100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I</m:t>
                                </m:r>
                              </m:e>
                            </m:d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61" name=""/>
          <p:cNvSpPr/>
          <p:nvPr/>
        </p:nvSpPr>
        <p:spPr>
          <a:xfrm>
            <a:off x="304920" y="228600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n la prác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04920" y="5029200"/>
            <a:ext cx="441936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ara polarización inver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V&lt;&lt;-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(~26mV a T ambi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 ~ -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, corriente de saturación inversa, para el Si es del orden de 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os nA a Temperatura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4920" y="2590920"/>
            <a:ext cx="4419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xiste recombinación en la zona de agotamiento: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[1, 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No todo el voltaje V aparece en la zona de ago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Resistencia cuerpo R </a:t>
            </a:r>
            <a:br>
              <a:rPr sz="1600"/>
            </a:b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“pequeña” (1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V - R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4419720" y="2438280"/>
            <a:ext cx="4723920" cy="4054680"/>
            <a:chOff x="4419720" y="2438280"/>
            <a:chExt cx="4723920" cy="4054680"/>
          </a:xfrm>
        </p:grpSpPr>
        <p:grpSp>
          <p:nvGrpSpPr>
            <p:cNvPr id="965" name=""/>
            <p:cNvGrpSpPr/>
            <p:nvPr/>
          </p:nvGrpSpPr>
          <p:grpSpPr>
            <a:xfrm>
              <a:off x="4419720" y="2743200"/>
              <a:ext cx="4723920" cy="3749760"/>
              <a:chOff x="4419720" y="2743200"/>
              <a:chExt cx="4723920" cy="3749760"/>
            </a:xfrm>
          </p:grpSpPr>
          <p:pic>
            <p:nvPicPr>
              <p:cNvPr id="966" name="Diodo_IV" descr=""/>
              <p:cNvPicPr/>
              <p:nvPr/>
            </p:nvPicPr>
            <p:blipFill>
              <a:blip r:embed="rId1"/>
              <a:stretch/>
            </p:blipFill>
            <p:spPr>
              <a:xfrm>
                <a:off x="4419720" y="2743200"/>
                <a:ext cx="3391560" cy="374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7" name=""/>
              <p:cNvSpPr/>
              <p:nvPr/>
            </p:nvSpPr>
            <p:spPr>
              <a:xfrm>
                <a:off x="7544520" y="3227400"/>
                <a:ext cx="1380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Resistencia Serie (cuerpo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544520" y="4195800"/>
                <a:ext cx="1380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orrientes de difus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472160" y="5440680"/>
                <a:ext cx="1671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orrientes de Recombinac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4495680" y="243828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Gráfica log I  v/s V polarización direc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diciones: Tamb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10nA,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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5452920" y="1981080"/>
                <a:ext cx="342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6226200" cy="350820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6400800" y="2743200"/>
            <a:ext cx="2743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R no es alta para un diodo, sí para un transistor. En este caso el rango de operación típic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Activa en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[0,5; 0,8]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Voltaje “umbral”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cut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prox. 0,5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59092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590920" y="36576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ída en el cuer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28600" y="6095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oltajes externos necesarios para obtener la corriente ind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racterística V/I Diodo de Juntur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4495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pendencia de la 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838080" y="2895480"/>
                <a:ext cx="3276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rPr>
                        <m:lit/>
                        <m:nor/>
                      </m:rPr>
                      <m:t xml:space="preserve">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2449440" y="3352680"/>
                <a:ext cx="16765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,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num>
                      <m:den>
                        <m:r>
                          <m:t xml:space="preserve">º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3" name=""/>
          <p:cNvSpPr/>
          <p:nvPr/>
        </p:nvSpPr>
        <p:spPr>
          <a:xfrm>
            <a:off x="685800" y="182880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 saturación inver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85800" y="3048120"/>
            <a:ext cx="3657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s curvas características se desplazan ante cambios en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4267080" y="2362320"/>
            <a:ext cx="4876920" cy="30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152800" y="5943600"/>
                <a:ext cx="3790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685800" y="45720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 encendido: si el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rgumento de la exponencial aumenta en ln(10)~ 2.3 entonces la corriente a través del diodo aumentará en un factor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fecto de la Temperatura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=27º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 0.5V, I=241.62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25m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2 (corrientes pequeña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mbio de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=60º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miento curva:-120 m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=120mV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4.8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/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2.4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n(10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 aumenta en factor 1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898560" y="3886200"/>
            <a:ext cx="3444840" cy="2209680"/>
            <a:chOff x="898560" y="3886200"/>
            <a:chExt cx="3444840" cy="2209680"/>
          </a:xfrm>
        </p:grpSpPr>
        <p:pic>
          <p:nvPicPr>
            <p:cNvPr id="992" name="" descr=""/>
            <p:cNvPicPr/>
            <p:nvPr/>
          </p:nvPicPr>
          <p:blipFill>
            <a:blip r:embed="rId1"/>
            <a:stretch/>
          </p:blipFill>
          <p:spPr>
            <a:xfrm>
              <a:off x="898560" y="3886200"/>
              <a:ext cx="344484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>
              <a:off x="1660680" y="39081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 = 27º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4808520" y="3863880"/>
            <a:ext cx="3421080" cy="2232000"/>
            <a:chOff x="4808520" y="3863880"/>
            <a:chExt cx="3421080" cy="2232000"/>
          </a:xfrm>
        </p:grpSpPr>
        <p:pic>
          <p:nvPicPr>
            <p:cNvPr id="995" name="" descr=""/>
            <p:cNvPicPr/>
            <p:nvPr/>
          </p:nvPicPr>
          <p:blipFill>
            <a:blip r:embed="rId2"/>
            <a:stretch/>
          </p:blipFill>
          <p:spPr>
            <a:xfrm>
              <a:off x="4808520" y="3863880"/>
              <a:ext cx="342108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5418000" y="388584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 = 87º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fecto de la Temperatura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roblema retroalimentado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hermal runaway: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T ..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sistencia seri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Hace que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 quede en la resistencia provocando un aumento lineal de la corriente y no exponenc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mpedancia Equival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sistencia Estát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álida sólo para el punto de operación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 del punto de operación, permite análisis en la vecin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cluye efectos capacitivos de las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4691160" y="2590920"/>
                <a:ext cx="3843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1496880" y="2560680"/>
                <a:ext cx="2237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V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η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olarización externa sobre juntur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r barrera de potenc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recta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fácil” conducción (Baja impedancia para voltajes superiores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ut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versa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Alta impedancia, corriente casi nula (Saturación invers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 Dio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pende de la temperatura (corrimient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s aumentan en factor 10 para cambios en el argumento de la exponencial de ln(10)~ 2.3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ámetros dependen del 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la electrostática de una juntura p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educir el efecto de una fuente externa en el equilibrio de una juntura aislada ante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olarización direc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olarización invers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btener la característica estática de un diodo </a:t>
            </a:r>
            <a:br>
              <a:rPr sz="2800"/>
            </a:b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e juntura consideran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fectos de grandes corrient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: Potencial de Contac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so particular de dopado no-uniform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Región tipo-p en contacto con región tipo-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n equilibrio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parece “potencial de contacto” (Built-In) </a:t>
            </a:r>
            <a:br>
              <a:rPr sz="2000"/>
            </a:b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n la juntur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172200" y="1676520"/>
            <a:ext cx="2590560" cy="1671120"/>
            <a:chOff x="6172200" y="1676520"/>
            <a:chExt cx="2590560" cy="1671120"/>
          </a:xfrm>
        </p:grpSpPr>
        <p:sp>
          <p:nvSpPr>
            <p:cNvPr id="97" name=""/>
            <p:cNvSpPr/>
            <p:nvPr/>
          </p:nvSpPr>
          <p:spPr>
            <a:xfrm>
              <a:off x="6311880" y="2142720"/>
              <a:ext cx="1330200" cy="7992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2560" y="2142720"/>
              <a:ext cx="1330200" cy="7992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62160" y="1876320"/>
              <a:ext cx="0" cy="1265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82480" y="1876320"/>
              <a:ext cx="0" cy="1265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72200" y="2941920"/>
              <a:ext cx="55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42440" y="2941920"/>
              <a:ext cx="55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23560" y="2475720"/>
              <a:ext cx="908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92320" y="2542320"/>
              <a:ext cx="139680" cy="13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12640" y="2542320"/>
              <a:ext cx="139680" cy="13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23560" y="1676520"/>
              <a:ext cx="55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42440" y="1676520"/>
              <a:ext cx="55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12640" y="2475720"/>
              <a:ext cx="909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28600" y="3591000"/>
                <a:ext cx="2924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871880" y="3591000"/>
                <a:ext cx="27306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079720" y="4429080"/>
                <a:ext cx="4771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⇔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348080" y="5257800"/>
                <a:ext cx="23511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28800" y="5410080"/>
                <a:ext cx="22129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: Equilibrio y Región de Agotamiento (Depletio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440" y="1981080"/>
            <a:ext cx="7705800" cy="2293920"/>
            <a:chOff x="685440" y="1981080"/>
            <a:chExt cx="7705800" cy="2293920"/>
          </a:xfrm>
        </p:grpSpPr>
        <p:sp>
          <p:nvSpPr>
            <p:cNvPr id="116" name=""/>
            <p:cNvSpPr/>
            <p:nvPr/>
          </p:nvSpPr>
          <p:spPr>
            <a:xfrm flipH="1" rot="5400000">
              <a:off x="1538280" y="2582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rot="5400000">
              <a:off x="2433600" y="2582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872800" y="214776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977480" y="214776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706840" y="19843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928240" y="220356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480400" y="22035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706840" y="242100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754280" y="214776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809000" y="1984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032920" y="2203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809000" y="24210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rot="5400000">
              <a:off x="1537560" y="3448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rot="5400000">
              <a:off x="2432880" y="3448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872800" y="3889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872800" y="301320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977480" y="3889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977480" y="301320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706840" y="284940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29680" y="3068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48040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706840" y="32860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754280" y="301320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809000" y="2849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03292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809000" y="3286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706840" y="372420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928240" y="394344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480400" y="39434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706840" y="4160880"/>
              <a:ext cx="11088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754280" y="388944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809000" y="3724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032920" y="3943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809000" y="416232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767040" y="214776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767040" y="388944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767040" y="301320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662360" y="214632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662360" y="38862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662360" y="300996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rot="5400000">
              <a:off x="4222080" y="258264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493520" y="1984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717440" y="22035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268160" y="220356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493520" y="2421000"/>
              <a:ext cx="111240" cy="10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rot="5400000">
              <a:off x="4221000" y="344880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37000" y="301320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493520" y="2849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717440" y="3068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268160" y="3068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493520" y="3286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493520" y="3724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717440" y="3943440"/>
              <a:ext cx="1126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268160" y="394344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493520" y="4160880"/>
              <a:ext cx="1112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rot="5400000">
              <a:off x="3329640" y="258156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544920" y="214776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600360" y="1984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825000" y="2203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377520" y="2203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600360" y="242100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rot="5400000">
              <a:off x="3328920" y="344808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600360" y="284940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82500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37752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600360" y="32860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600360" y="372420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825000" y="3943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377520" y="3943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00360" y="416232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5400000">
              <a:off x="5099040" y="258552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400000">
              <a:off x="5994360" y="258552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433560" y="21528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538240" y="21528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210360" y="215280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267600" y="198756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6489000" y="220680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041160" y="220680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267600" y="242424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315040" y="215280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369760" y="1987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593680" y="22068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145840" y="220680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369760" y="2425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rot="5400000">
              <a:off x="5098320" y="345204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rot="5400000">
              <a:off x="5993640" y="345204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433560" y="389268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433560" y="301608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538240" y="389268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538240" y="301608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267600" y="28526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49044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04116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267600" y="32893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315040" y="301608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369760" y="285264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59368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514584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369760" y="32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210360" y="389268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267600" y="372744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489000" y="394668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041160" y="394668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267600" y="416412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315040" y="389268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369760" y="3727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593680" y="3946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145840" y="394668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369760" y="4165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611040" y="37260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327800" y="21528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327800" y="389268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327800" y="301608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992200" y="24289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200640" y="302724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rot="5400000">
              <a:off x="7782840" y="258588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998840" y="2152800"/>
              <a:ext cx="2221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8054280" y="1987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8278200" y="220680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828920" y="220680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054280" y="242424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rot="5400000">
              <a:off x="7781760" y="345204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997760" y="301608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8054280" y="285264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827820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82892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8054280" y="32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8054280" y="3727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8278200" y="394668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828920" y="394668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8054280" y="416412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779600" y="248904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rot="5400000">
              <a:off x="6890400" y="258480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105680" y="215280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161120" y="19875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385760" y="22068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938280" y="22068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161120" y="24256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rot="5400000">
              <a:off x="6889680" y="345132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161120" y="285264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38576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93828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161120" y="3289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105680" y="389268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161120" y="372744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7385760" y="3946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6938280" y="3946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7161120" y="41655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6749280" y="279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107120" y="302724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433040" y="212724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652120" y="389736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546360" y="301608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652120" y="2135160"/>
              <a:ext cx="2235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419000" y="389556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5400000">
              <a:off x="637920" y="257904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077840" y="214632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580400" y="22003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909720" y="198108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131120" y="220032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85080" y="2200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909720" y="241920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5400000">
              <a:off x="636840" y="344556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077840" y="38862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077840" y="300996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80400" y="3065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853920" y="3009960"/>
              <a:ext cx="22248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909720" y="28465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131120" y="3065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85080" y="3065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909720" y="32828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580400" y="39402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853920" y="3886200"/>
              <a:ext cx="22248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909720" y="372096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131120" y="394020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85080" y="3940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909720" y="415908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645640" y="3011400"/>
              <a:ext cx="228600" cy="211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845280" y="2141640"/>
              <a:ext cx="228600" cy="21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8009640" y="3911760"/>
              <a:ext cx="2257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531600" y="388944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867280" y="160020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4495680"/>
            <a:ext cx="5638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 = 0 : izquierda tipo P, derecha tipo N. (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~ 2 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5715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sta región presenta un campo eléctrico que provoca una deriva en 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l sentido contrario a la difusión: se alcanza el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49528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mienza proceso de Di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53341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Se provoca recombinación y se crea una región “sin portadores libr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685440" y="2166840"/>
            <a:ext cx="7705800" cy="2293920"/>
            <a:chOff x="685440" y="2166840"/>
            <a:chExt cx="7705800" cy="2293920"/>
          </a:xfrm>
        </p:grpSpPr>
        <p:sp>
          <p:nvSpPr>
            <p:cNvPr id="303" name=""/>
            <p:cNvSpPr/>
            <p:nvPr/>
          </p:nvSpPr>
          <p:spPr>
            <a:xfrm flipH="1" rot="5400000">
              <a:off x="1538280" y="276804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rot="5400000">
              <a:off x="2433600" y="276804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2872800" y="233352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977480" y="233352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706840" y="21700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928240" y="238932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480400" y="23893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706840" y="260676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754280" y="233352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809000" y="2170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032920" y="23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1809000" y="26067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rot="5400000">
              <a:off x="1537560" y="363456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rot="5400000">
              <a:off x="2432880" y="363456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872800" y="40752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872800" y="319896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77480" y="40752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977480" y="319896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706840" y="303516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929680" y="3254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248040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706840" y="347184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754280" y="319896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1809000" y="303516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03292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809000" y="34718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706840" y="390996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928240" y="412920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480400" y="41292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706840" y="4346640"/>
              <a:ext cx="11088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754280" y="407520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809000" y="3909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032920" y="4129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1809000" y="434808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767040" y="233352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767040" y="40752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767040" y="319896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4662360" y="233208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4662360" y="407196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62360" y="319572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rot="5400000">
              <a:off x="4222080" y="276840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493520" y="2170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4717440" y="23893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4268160" y="238932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4493520" y="2606760"/>
              <a:ext cx="111240" cy="10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rot="5400000">
              <a:off x="4221000" y="363456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437000" y="319896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493520" y="303516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717440" y="3254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268160" y="3254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493520" y="34718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493520" y="3909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717440" y="4129200"/>
              <a:ext cx="1126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4268160" y="412920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493520" y="4346640"/>
              <a:ext cx="1112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rot="5400000">
              <a:off x="3329640" y="276732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544920" y="233352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600360" y="21700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825000" y="23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3377520" y="23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600360" y="26067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rot="5400000">
              <a:off x="3328920" y="363384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600360" y="303516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82500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37752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600360" y="347184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600360" y="39099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825000" y="4129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3377520" y="4129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3600360" y="434808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rot="5400000">
              <a:off x="5099040" y="2771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rot="5400000">
              <a:off x="5994360" y="2771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433560" y="233856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5538240" y="233856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6210360" y="233856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267600" y="21733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6489000" y="239256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041160" y="239256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267600" y="261000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5315040" y="233856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369760" y="2173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593680" y="2392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145840" y="239256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5369760" y="2611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rot="5400000">
              <a:off x="5098320" y="3637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rot="5400000">
              <a:off x="5993640" y="3637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433560" y="4078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433560" y="320184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538240" y="4078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5538240" y="320184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267600" y="303840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49044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604116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267600" y="34750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5315040" y="320184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369760" y="3038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59368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514584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5369760" y="3475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210360" y="407844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6267600" y="391320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6489000" y="413244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041160" y="413244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6267600" y="434988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315040" y="407844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5369760" y="3913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5593680" y="4132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5145840" y="413244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369760" y="4351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6611040" y="39117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327800" y="233856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7327800" y="407844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327800" y="320184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992200" y="26146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200640" y="321300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5400000">
              <a:off x="7782840" y="277164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7998840" y="2338560"/>
              <a:ext cx="2221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8054280" y="2173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8278200" y="239256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828920" y="239256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8054280" y="261000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rot="5400000">
              <a:off x="7781760" y="363780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7997760" y="320184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8054280" y="3038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827820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782892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8054280" y="3475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054280" y="3913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8278200" y="413244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828920" y="413244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8054280" y="434988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779600" y="26748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rot="5400000">
              <a:off x="6890400" y="277056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105680" y="233856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7161120" y="2173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385760" y="2392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6938280" y="2392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161120" y="261144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rot="5400000">
              <a:off x="6889680" y="363708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1120" y="303840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38576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93828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161120" y="34750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105680" y="407844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7161120" y="391320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385760" y="4132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938280" y="4132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161120" y="4351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749280" y="298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107120" y="321300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4433040" y="231300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652120" y="408312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3546360" y="320184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2652120" y="2320920"/>
              <a:ext cx="2235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419000" y="408132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rot="5400000">
              <a:off x="637920" y="276480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1077840" y="233208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1580400" y="23860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909720" y="21668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131120" y="238608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85080" y="2386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909720" y="260496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rot="5400000">
              <a:off x="636840" y="363132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077840" y="407196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1077840" y="319572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1580400" y="325116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853920" y="3195720"/>
              <a:ext cx="22248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909720" y="30322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1131120" y="32511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85080" y="325116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909720" y="346860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1580400" y="41259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853920" y="4071960"/>
              <a:ext cx="22248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909720" y="390672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1131120" y="412596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685080" y="4125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909720" y="43448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2645640" y="3197160"/>
              <a:ext cx="228600" cy="211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845280" y="2327400"/>
              <a:ext cx="228600" cy="21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8009640" y="4097520"/>
              <a:ext cx="2257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3531600" y="407520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: Equilibrio y Región de Agotamiento (Depletio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" y="54100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 &gt;&gt;  max(tA, tN) Implica Barrera de Potencial y Deriva de por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94600" y="2378160"/>
            <a:ext cx="347400" cy="331200"/>
            <a:chOff x="4494600" y="2378160"/>
            <a:chExt cx="347400" cy="331200"/>
          </a:xfrm>
        </p:grpSpPr>
        <p:sp>
          <p:nvSpPr>
            <p:cNvPr id="487" name=""/>
            <p:cNvSpPr/>
            <p:nvPr/>
          </p:nvSpPr>
          <p:spPr>
            <a:xfrm flipH="1">
              <a:off x="4701600" y="2378160"/>
              <a:ext cx="140040" cy="12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4494600" y="260136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708280" y="3035160"/>
            <a:ext cx="785520" cy="328320"/>
            <a:chOff x="2708280" y="3035160"/>
            <a:chExt cx="785520" cy="328320"/>
          </a:xfrm>
        </p:grpSpPr>
        <p:sp>
          <p:nvSpPr>
            <p:cNvPr id="490" name=""/>
            <p:cNvSpPr/>
            <p:nvPr/>
          </p:nvSpPr>
          <p:spPr>
            <a:xfrm flipH="1">
              <a:off x="2708280" y="303516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380760" y="3255480"/>
              <a:ext cx="1126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7367760" y="2612880"/>
            <a:ext cx="593280" cy="295200"/>
            <a:chOff x="7367760" y="2612880"/>
            <a:chExt cx="593280" cy="295200"/>
          </a:xfrm>
        </p:grpSpPr>
        <p:sp>
          <p:nvSpPr>
            <p:cNvPr id="493" name=""/>
            <p:cNvSpPr/>
            <p:nvPr/>
          </p:nvSpPr>
          <p:spPr>
            <a:xfrm flipH="1">
              <a:off x="7367760" y="2799360"/>
              <a:ext cx="111600" cy="10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686000" y="2612880"/>
              <a:ext cx="275040" cy="24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5994720" y="3727440"/>
            <a:ext cx="798120" cy="318240"/>
            <a:chOff x="5994720" y="3727440"/>
            <a:chExt cx="798120" cy="318240"/>
          </a:xfrm>
        </p:grpSpPr>
        <p:sp>
          <p:nvSpPr>
            <p:cNvPr id="496" name=""/>
            <p:cNvSpPr/>
            <p:nvPr/>
          </p:nvSpPr>
          <p:spPr>
            <a:xfrm flipH="1" flipV="1">
              <a:off x="5994720" y="3727440"/>
              <a:ext cx="111600" cy="10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6518520" y="3799440"/>
              <a:ext cx="274320" cy="245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994360" y="2908440"/>
            <a:ext cx="934560" cy="247680"/>
            <a:chOff x="5994360" y="2908440"/>
            <a:chExt cx="934560" cy="247680"/>
          </a:xfrm>
        </p:grpSpPr>
        <p:sp>
          <p:nvSpPr>
            <p:cNvPr id="499" name=""/>
            <p:cNvSpPr/>
            <p:nvPr/>
          </p:nvSpPr>
          <p:spPr>
            <a:xfrm flipH="1" flipV="1">
              <a:off x="5994000" y="29858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6654600" y="2908440"/>
              <a:ext cx="274320" cy="24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582160" y="2590920"/>
            <a:ext cx="591480" cy="293400"/>
            <a:chOff x="5582160" y="2590920"/>
            <a:chExt cx="591480" cy="293400"/>
          </a:xfrm>
        </p:grpSpPr>
        <p:sp>
          <p:nvSpPr>
            <p:cNvPr id="502" name=""/>
            <p:cNvSpPr/>
            <p:nvPr/>
          </p:nvSpPr>
          <p:spPr>
            <a:xfrm flipH="1">
              <a:off x="5581800" y="277632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899320" y="2590920"/>
              <a:ext cx="274320" cy="247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713480" y="3911760"/>
            <a:ext cx="772920" cy="321840"/>
            <a:chOff x="4713480" y="3911760"/>
            <a:chExt cx="772920" cy="321840"/>
          </a:xfrm>
        </p:grpSpPr>
        <p:sp>
          <p:nvSpPr>
            <p:cNvPr id="505" name=""/>
            <p:cNvSpPr/>
            <p:nvPr/>
          </p:nvSpPr>
          <p:spPr>
            <a:xfrm flipH="1">
              <a:off x="5354640" y="3911760"/>
              <a:ext cx="131760" cy="11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713480" y="412524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906480" y="2612880"/>
            <a:ext cx="1018800" cy="533160"/>
            <a:chOff x="906480" y="2612880"/>
            <a:chExt cx="1018800" cy="533160"/>
          </a:xfrm>
        </p:grpSpPr>
        <p:sp>
          <p:nvSpPr>
            <p:cNvPr id="508" name=""/>
            <p:cNvSpPr/>
            <p:nvPr/>
          </p:nvSpPr>
          <p:spPr>
            <a:xfrm flipH="1">
              <a:off x="906480" y="261288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1801440" y="3035160"/>
              <a:ext cx="123480" cy="11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714920" y="2378160"/>
            <a:ext cx="1072800" cy="582120"/>
            <a:chOff x="4714920" y="2378160"/>
            <a:chExt cx="1072800" cy="582120"/>
          </a:xfrm>
        </p:grpSpPr>
        <p:sp>
          <p:nvSpPr>
            <p:cNvPr id="511" name=""/>
            <p:cNvSpPr/>
            <p:nvPr/>
          </p:nvSpPr>
          <p:spPr>
            <a:xfrm flipH="1">
              <a:off x="4714560" y="2378160"/>
              <a:ext cx="140040" cy="12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57320" y="273744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346720" y="3664080"/>
            <a:ext cx="826560" cy="374040"/>
            <a:chOff x="5346720" y="3664080"/>
            <a:chExt cx="826560" cy="374040"/>
          </a:xfrm>
        </p:grpSpPr>
        <p:sp>
          <p:nvSpPr>
            <p:cNvPr id="514" name=""/>
            <p:cNvSpPr/>
            <p:nvPr/>
          </p:nvSpPr>
          <p:spPr>
            <a:xfrm flipH="1">
              <a:off x="5346360" y="3911760"/>
              <a:ext cx="140040" cy="12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5942880" y="3664080"/>
              <a:ext cx="230400" cy="22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826160" y="2860560"/>
            <a:ext cx="1347120" cy="285840"/>
            <a:chOff x="4826160" y="2860560"/>
            <a:chExt cx="1347120" cy="285840"/>
          </a:xfrm>
        </p:grpSpPr>
        <p:sp>
          <p:nvSpPr>
            <p:cNvPr id="517" name=""/>
            <p:cNvSpPr/>
            <p:nvPr/>
          </p:nvSpPr>
          <p:spPr>
            <a:xfrm flipH="1">
              <a:off x="4825800" y="2860560"/>
              <a:ext cx="11124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942880" y="2922480"/>
              <a:ext cx="230040" cy="223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543720" y="2736720"/>
            <a:ext cx="1030320" cy="355320"/>
            <a:chOff x="6543720" y="2736720"/>
            <a:chExt cx="1030320" cy="355320"/>
          </a:xfrm>
        </p:grpSpPr>
        <p:sp>
          <p:nvSpPr>
            <p:cNvPr id="520" name=""/>
            <p:cNvSpPr/>
            <p:nvPr/>
          </p:nvSpPr>
          <p:spPr>
            <a:xfrm flipH="1">
              <a:off x="6543720" y="298404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343640" y="273672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381480" y="3254400"/>
            <a:ext cx="331200" cy="764640"/>
            <a:chOff x="3381480" y="3254400"/>
            <a:chExt cx="331200" cy="764640"/>
          </a:xfrm>
        </p:grpSpPr>
        <p:sp>
          <p:nvSpPr>
            <p:cNvPr id="523" name=""/>
            <p:cNvSpPr/>
            <p:nvPr/>
          </p:nvSpPr>
          <p:spPr>
            <a:xfrm flipH="1">
              <a:off x="3381480" y="325440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3599640" y="3911040"/>
              <a:ext cx="11304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814760" y="2602080"/>
            <a:ext cx="1004760" cy="540720"/>
            <a:chOff x="1814760" y="2602080"/>
            <a:chExt cx="1004760" cy="540720"/>
          </a:xfrm>
        </p:grpSpPr>
        <p:sp>
          <p:nvSpPr>
            <p:cNvPr id="526" name=""/>
            <p:cNvSpPr/>
            <p:nvPr/>
          </p:nvSpPr>
          <p:spPr>
            <a:xfrm flipH="1">
              <a:off x="1814760" y="303480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2706480" y="2602080"/>
              <a:ext cx="11268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862440" y="2800440"/>
            <a:ext cx="1142640" cy="231840"/>
            <a:chOff x="3862440" y="2800440"/>
            <a:chExt cx="1142640" cy="231840"/>
          </a:xfrm>
        </p:grpSpPr>
        <p:sp>
          <p:nvSpPr>
            <p:cNvPr id="529" name=""/>
            <p:cNvSpPr/>
            <p:nvPr/>
          </p:nvSpPr>
          <p:spPr>
            <a:xfrm flipH="1">
              <a:off x="3862440" y="292392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4774680" y="280044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5720040" y="2922480"/>
            <a:ext cx="1004760" cy="974520"/>
            <a:chOff x="5720040" y="2922480"/>
            <a:chExt cx="1004760" cy="974520"/>
          </a:xfrm>
        </p:grpSpPr>
        <p:sp>
          <p:nvSpPr>
            <p:cNvPr id="532" name=""/>
            <p:cNvSpPr/>
            <p:nvPr/>
          </p:nvSpPr>
          <p:spPr>
            <a:xfrm flipH="1">
              <a:off x="5720040" y="378900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494400" y="292248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93880" y="2612880"/>
            <a:ext cx="1349280" cy="471240"/>
            <a:chOff x="2693880" y="2612880"/>
            <a:chExt cx="1349280" cy="471240"/>
          </a:xfrm>
        </p:grpSpPr>
        <p:sp>
          <p:nvSpPr>
            <p:cNvPr id="535" name=""/>
            <p:cNvSpPr/>
            <p:nvPr/>
          </p:nvSpPr>
          <p:spPr>
            <a:xfrm flipH="1">
              <a:off x="2693880" y="261288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3812760" y="2860920"/>
              <a:ext cx="230400" cy="22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587760" y="3468600"/>
            <a:ext cx="1017360" cy="550440"/>
            <a:chOff x="3587760" y="3468600"/>
            <a:chExt cx="1017360" cy="550440"/>
          </a:xfrm>
        </p:grpSpPr>
        <p:sp>
          <p:nvSpPr>
            <p:cNvPr id="538" name=""/>
            <p:cNvSpPr/>
            <p:nvPr/>
          </p:nvSpPr>
          <p:spPr>
            <a:xfrm flipH="1">
              <a:off x="3587760" y="3911400"/>
              <a:ext cx="11160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4464720" y="3468600"/>
              <a:ext cx="140040" cy="12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4466160" y="3468600"/>
            <a:ext cx="1433160" cy="479160"/>
            <a:chOff x="4466160" y="3468600"/>
            <a:chExt cx="1433160" cy="479160"/>
          </a:xfrm>
        </p:grpSpPr>
        <p:sp>
          <p:nvSpPr>
            <p:cNvPr id="541" name=""/>
            <p:cNvSpPr/>
            <p:nvPr/>
          </p:nvSpPr>
          <p:spPr>
            <a:xfrm flipH="1">
              <a:off x="5668920" y="3726000"/>
              <a:ext cx="230400" cy="22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4465800" y="3468600"/>
              <a:ext cx="140040" cy="125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457200" y="50292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 &gt; 0 Implica Difusión de porta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7200" y="5791320"/>
            <a:ext cx="6934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quilibrio se alcanza entre las corrientes de Difusión y de Deriva: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(Notar que W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lt; W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 , debido a que 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gt; 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38480" y="178596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if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6324480" y="1709640"/>
            <a:ext cx="1905120" cy="304920"/>
          </a:xfrm>
          <a:prstGeom prst="rightArrow">
            <a:avLst>
              <a:gd name="adj1" fmla="val 50000"/>
              <a:gd name="adj2" fmla="val 1561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Dif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4114800" y="464832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er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19920" y="4605480"/>
            <a:ext cx="1752480" cy="304560"/>
          </a:xfrm>
          <a:prstGeom prst="rightArrow">
            <a:avLst>
              <a:gd name="adj1" fmla="val 50000"/>
              <a:gd name="adj2" fmla="val 14385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Der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67280" y="178596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438280" y="4300560"/>
            <a:ext cx="5948640" cy="901440"/>
            <a:chOff x="2438280" y="4300560"/>
            <a:chExt cx="5948640" cy="901440"/>
          </a:xfrm>
        </p:grpSpPr>
        <p:sp>
          <p:nvSpPr>
            <p:cNvPr id="551" name=""/>
            <p:cNvSpPr/>
            <p:nvPr/>
          </p:nvSpPr>
          <p:spPr>
            <a:xfrm>
              <a:off x="7696080" y="4376880"/>
              <a:ext cx="690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38280" y="4300560"/>
              <a:ext cx="690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ostática Región de Agotamien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209320" y="15238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814320" y="1676520"/>
            <a:ext cx="3921120" cy="1460520"/>
          </a:xfrm>
          <a:prstGeom prst="rect">
            <a:avLst/>
          </a:prstGeom>
          <a:ln w="0">
            <a:noFill/>
          </a:ln>
        </p:spPr>
      </p:pic>
      <p:grpSp>
        <p:nvGrpSpPr>
          <p:cNvPr id="556" name=""/>
          <p:cNvGrpSpPr/>
          <p:nvPr/>
        </p:nvGrpSpPr>
        <p:grpSpPr>
          <a:xfrm>
            <a:off x="457200" y="5105520"/>
            <a:ext cx="4800600" cy="825480"/>
            <a:chOff x="457200" y="5105520"/>
            <a:chExt cx="4800600" cy="825480"/>
          </a:xfrm>
        </p:grpSpPr>
        <p:sp>
          <p:nvSpPr>
            <p:cNvPr id="557" name=""/>
            <p:cNvSpPr/>
            <p:nvPr/>
          </p:nvSpPr>
          <p:spPr>
            <a:xfrm>
              <a:off x="2057400" y="5129280"/>
              <a:ext cx="1371600" cy="433440"/>
            </a:xfrm>
            <a:custGeom>
              <a:avLst/>
              <a:gdLst/>
              <a:ahLst/>
              <a:rect l="l" t="t" r="r" b="b"/>
              <a:pathLst>
                <a:path w="1545" h="405">
                  <a:moveTo>
                    <a:pt x="0" y="405"/>
                  </a:moveTo>
                  <a:cubicBezTo>
                    <a:pt x="51" y="401"/>
                    <a:pt x="224" y="397"/>
                    <a:pt x="306" y="379"/>
                  </a:cubicBezTo>
                  <a:cubicBezTo>
                    <a:pt x="388" y="361"/>
                    <a:pt x="433" y="327"/>
                    <a:pt x="491" y="298"/>
                  </a:cubicBezTo>
                  <a:cubicBezTo>
                    <a:pt x="549" y="269"/>
                    <a:pt x="594" y="241"/>
                    <a:pt x="654" y="206"/>
                  </a:cubicBezTo>
                  <a:cubicBezTo>
                    <a:pt x="714" y="171"/>
                    <a:pt x="770" y="119"/>
                    <a:pt x="848" y="88"/>
                  </a:cubicBezTo>
                  <a:cubicBezTo>
                    <a:pt x="926" y="57"/>
                    <a:pt x="1006" y="37"/>
                    <a:pt x="1122" y="22"/>
                  </a:cubicBezTo>
                  <a:cubicBezTo>
                    <a:pt x="1238" y="7"/>
                    <a:pt x="1457" y="5"/>
                    <a:pt x="154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86080" y="51498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76720" y="51814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90720" y="556272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67040" y="5133960"/>
              <a:ext cx="1636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7200" y="5105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00600" y="556272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57200" y="5867280"/>
            <a:ext cx="4800600" cy="457200"/>
            <a:chOff x="457200" y="5867280"/>
            <a:chExt cx="4800600" cy="457200"/>
          </a:xfrm>
        </p:grpSpPr>
        <p:sp>
          <p:nvSpPr>
            <p:cNvPr id="565" name=""/>
            <p:cNvSpPr/>
            <p:nvPr/>
          </p:nvSpPr>
          <p:spPr>
            <a:xfrm flipH="1">
              <a:off x="2056680" y="5883120"/>
              <a:ext cx="1143000" cy="433440"/>
            </a:xfrm>
            <a:custGeom>
              <a:avLst/>
              <a:gdLst/>
              <a:ahLst/>
              <a:rect l="l" t="t" r="r" b="b"/>
              <a:pathLst>
                <a:path w="1545" h="405">
                  <a:moveTo>
                    <a:pt x="0" y="405"/>
                  </a:moveTo>
                  <a:cubicBezTo>
                    <a:pt x="51" y="401"/>
                    <a:pt x="224" y="397"/>
                    <a:pt x="306" y="379"/>
                  </a:cubicBezTo>
                  <a:cubicBezTo>
                    <a:pt x="388" y="361"/>
                    <a:pt x="433" y="327"/>
                    <a:pt x="491" y="298"/>
                  </a:cubicBezTo>
                  <a:cubicBezTo>
                    <a:pt x="549" y="269"/>
                    <a:pt x="594" y="241"/>
                    <a:pt x="654" y="206"/>
                  </a:cubicBezTo>
                  <a:cubicBezTo>
                    <a:pt x="714" y="171"/>
                    <a:pt x="770" y="119"/>
                    <a:pt x="848" y="88"/>
                  </a:cubicBezTo>
                  <a:cubicBezTo>
                    <a:pt x="926" y="57"/>
                    <a:pt x="1006" y="37"/>
                    <a:pt x="1122" y="22"/>
                  </a:cubicBezTo>
                  <a:cubicBezTo>
                    <a:pt x="1238" y="7"/>
                    <a:pt x="1457" y="5"/>
                    <a:pt x="154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52480" y="5867280"/>
              <a:ext cx="1635120" cy="3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63960" y="5904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124080" y="594360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= q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990720" y="632448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7200" y="58672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57200" y="4191120"/>
            <a:ext cx="4800600" cy="685800"/>
            <a:chOff x="457200" y="4191120"/>
            <a:chExt cx="4800600" cy="685800"/>
          </a:xfrm>
        </p:grpSpPr>
        <p:sp>
          <p:nvSpPr>
            <p:cNvPr id="572" name=""/>
            <p:cNvSpPr/>
            <p:nvPr/>
          </p:nvSpPr>
          <p:spPr>
            <a:xfrm>
              <a:off x="990720" y="441972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7200" y="41911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00600" y="441972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09680" y="4419720"/>
              <a:ext cx="63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2846160" y="4420080"/>
              <a:ext cx="32904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5486400" y="3200400"/>
            <a:ext cx="297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&lt; W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 , pues 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&gt; 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457200" y="3124080"/>
            <a:ext cx="4800600" cy="1074960"/>
            <a:chOff x="457200" y="3124080"/>
            <a:chExt cx="4800600" cy="1074960"/>
          </a:xfrm>
        </p:grpSpPr>
        <p:sp>
          <p:nvSpPr>
            <p:cNvPr id="579" name=""/>
            <p:cNvSpPr/>
            <p:nvPr/>
          </p:nvSpPr>
          <p:spPr>
            <a:xfrm>
              <a:off x="990720" y="380700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7200" y="34257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00600" y="373068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57680" y="3319560"/>
              <a:ext cx="23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95440" y="3657600"/>
              <a:ext cx="2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1647720" y="3476520"/>
                  <a:ext cx="53352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3243240" y="3476520"/>
                  <a:ext cx="32868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586" name=""/>
            <p:cNvGrpSpPr/>
            <p:nvPr/>
          </p:nvGrpSpPr>
          <p:grpSpPr>
            <a:xfrm>
              <a:off x="2209680" y="3809520"/>
              <a:ext cx="634680" cy="305280"/>
              <a:chOff x="2209680" y="3809520"/>
              <a:chExt cx="634680" cy="305280"/>
            </a:xfrm>
          </p:grpSpPr>
          <p:sp>
            <p:nvSpPr>
              <p:cNvPr id="587" name=""/>
              <p:cNvSpPr/>
              <p:nvPr/>
            </p:nvSpPr>
            <p:spPr>
              <a:xfrm>
                <a:off x="2209680" y="38098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209680" y="4114800"/>
                <a:ext cx="63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2844360" y="38095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843280" y="3196080"/>
              <a:ext cx="328680" cy="606240"/>
              <a:chOff x="2843280" y="3196080"/>
              <a:chExt cx="328680" cy="606240"/>
            </a:xfrm>
          </p:grpSpPr>
          <p:sp>
            <p:nvSpPr>
              <p:cNvPr id="591" name=""/>
              <p:cNvSpPr/>
              <p:nvPr/>
            </p:nvSpPr>
            <p:spPr>
              <a:xfrm flipV="1">
                <a:off x="2843280" y="3196080"/>
                <a:ext cx="0" cy="60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43280" y="3196080"/>
                <a:ext cx="32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171960" y="3196440"/>
                <a:ext cx="0" cy="60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94" name=""/>
                <p:cNvSpPr txBox="1"/>
                <p:nvPr/>
              </p:nvSpPr>
              <p:spPr>
                <a:xfrm>
                  <a:off x="3200400" y="3124080"/>
                  <a:ext cx="49212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N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1523880" y="3886200"/>
                  <a:ext cx="65736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N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6" name=""/>
          <p:cNvSpPr/>
          <p:nvPr/>
        </p:nvSpPr>
        <p:spPr>
          <a:xfrm>
            <a:off x="5181480" y="1676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Juntura pn abrup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943600" y="4114800"/>
                <a:ext cx="1676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6019920" y="5127480"/>
                <a:ext cx="16761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V</m:t>
                    </m:r>
                    <m:r>
                      <m:t xml:space="preserve">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5181480" y="22096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Neutralidad de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5665680" y="2666880"/>
                <a:ext cx="1928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 flipH="1">
            <a:off x="2847960" y="15238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171960" y="15238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ostática Región de Agotamien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area 1.1: Demuestre que para una juntura pn abrupt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609480" y="2581200"/>
                <a:ext cx="74376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838080" y="3429000"/>
                <a:ext cx="4419720" cy="17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qN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ε</m:t>
                                  </m:r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+</m:t>
                                      </m:r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qN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ε</m:t>
                                  </m:r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5530680" y="3798720"/>
                <a:ext cx="22734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533520" y="5562720"/>
            <a:ext cx="784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Indicación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: Recuerde que la barrera de potencial en una juntura abrupta esta dada por el potencial de contacto o built-in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ga, además, que el medio es lineal, isotrópico y homogéneo con una permitividad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3520" y="51814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onde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es la diferencia de potencial existente en la juntur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ostática Región de Agotamien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aso de interé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Juntura con dopado altamente asimétrico ( p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parece en diodos de jun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parece en Transistores Bipola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l control de la electrostática pertenece al lado menos dop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Notar que W~(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/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Times New Roman"/>
              </a:rPr>
              <a:t>-1/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Notar que |E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| ~ (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Times New Roman"/>
              </a:rPr>
              <a:t> 1/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6129360" y="4332240"/>
                <a:ext cx="20318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870520" y="3265560"/>
                <a:ext cx="25891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W</m:t>
                    </m:r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6705720" y="2666880"/>
                <a:ext cx="11746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7-30T20:41:59Z</dcterms:modified>
  <cp:revision>790</cp:revision>
  <dc:subject>Características Estáticas de los Diodos de Juntura</dc:subject>
  <dc:title>Clase 2</dc:title>
</cp:coreProperties>
</file>