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37A7-D005-4B9F-8B82-7FF2956BE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3BBE-A318-4491-941E-A9B8BB336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CD45-0A6A-4CD4-B690-96640FAF1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232B-1995-4EBF-AB4F-01102D832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C0B-D735-46C9-A2EB-6B783F4542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F8B-6DA7-4937-A955-957A3F7A72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E41-40FD-4820-A9DA-01FF84AA00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8DF-06CA-4E4A-A2B9-499EB49284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443-84C7-4E26-9432-C9FC6D0440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2AF-D8DD-492C-B5D6-53C2F8E128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A96-E6D1-4AB8-B06A-C66F834CD5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FE4E-1D7A-42D0-98EA-A85D43B35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8CB-ADCB-44CD-A51A-40B483745C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7CE-D70C-46A4-9B0E-FF506CECC1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907-105C-41DB-B472-E38B847CBB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7B7-AD25-43C9-8C39-1A0E9D3AAD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568-3B45-4B37-A437-2AD01AFEC6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A7B4-5CF1-45F3-B5E8-62BED996D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93C3-4624-4D8C-8F24-894EE02E1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9E50-9311-4904-A1C5-DA3B76C89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596D-CDD0-40F3-859A-E938FFA77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0752-A551-4610-BAA2-4303D5A97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2843-D8AA-4695-9539-84969F94E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DE71-B390-4215-A87C-BEE4C24EB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574A-56CE-4D75-A436-0F9963EEA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1E31-B2F8-4328-9515-60D80EE8B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“arriba” (Q8+Q9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Activa “abajo” (Q5+Q6+Q7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Miller mínim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1 y Q2 “fijos” a 15-0.7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+Q3 y Q2+Q4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rmite gran impedancia de Salida (colectores de Q4 y Q6 en parale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114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rantizar que los Transistores se encuentre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rmina valores de impedancias y 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será 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baja frecue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ntroduce filtro pasabajos, por lo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mplificación dependerá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la frecuenci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49600" y="1523880"/>
            <a:ext cx="4694400" cy="4640400"/>
            <a:chOff x="4449600" y="1523880"/>
            <a:chExt cx="4694400" cy="46404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44960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496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47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35800" y="41148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70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5472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lector de Q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114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3090960"/>
                <a:ext cx="137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1814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87400" y="3471840"/>
                <a:ext cx="26478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76240" y="3929040"/>
                <a:ext cx="2724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4314960"/>
                <a:ext cx="268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y 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638680"/>
                <a:ext cx="1803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5240" y="4924440"/>
                <a:ext cx="2386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648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540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343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84280" y="2286000"/>
                <a:ext cx="3417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297320" y="1523880"/>
            <a:ext cx="4694400" cy="4640400"/>
            <a:chOff x="4297320" y="1523880"/>
            <a:chExt cx="4694400" cy="46404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29732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2973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61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83520" y="411480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472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244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64000" y="35812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0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30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3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73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3840" y="4540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0320" y="43434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9480" y="5257800"/>
                <a:ext cx="32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3336840"/>
                <a:ext cx="26211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03040" y="4059360"/>
                <a:ext cx="4054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049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(Q4//Q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76520" y="5638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60958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endo estricto debería considerarse una correc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retroalimentación, pero es desprec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ganancia implica impedancia de carga al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0.18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4044960"/>
            <a:ext cx="5867640" cy="1720800"/>
            <a:chOff x="838080" y="4044960"/>
            <a:chExt cx="5867640" cy="1720800"/>
          </a:xfrm>
        </p:grpSpPr>
        <p:cxnSp>
          <p:nvCxnSpPr>
            <p:cNvPr id="204" name=""/>
            <p:cNvCxnSpPr>
              <a:stCxn id="205" idx="6"/>
              <a:endCxn id="206" idx="0"/>
            </p:cNvCxnSpPr>
            <p:nvPr/>
          </p:nvCxnSpPr>
          <p:spPr>
            <a:xfrm>
              <a:off x="1398600" y="4106520"/>
              <a:ext cx="705240" cy="631080"/>
            </a:xfrm>
            <a:prstGeom prst="bentConnector3">
              <a:avLst>
                <a:gd name="adj1" fmla="val 100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07" name=""/>
            <p:cNvGrpSpPr/>
            <p:nvPr/>
          </p:nvGrpSpPr>
          <p:grpSpPr>
            <a:xfrm>
              <a:off x="1996920" y="4740120"/>
              <a:ext cx="204480" cy="455040"/>
              <a:chOff x="1996920" y="4740120"/>
              <a:chExt cx="204480" cy="455040"/>
            </a:xfrm>
          </p:grpSpPr>
          <p:sp>
            <p:nvSpPr>
              <p:cNvPr id="206" name=""/>
              <p:cNvSpPr/>
              <p:nvPr/>
            </p:nvSpPr>
            <p:spPr>
              <a:xfrm rot="5400000">
                <a:off x="2137320" y="4705920"/>
                <a:ext cx="29880" cy="97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996920" y="47696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96920" y="4847760"/>
                <a:ext cx="2044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96920" y="49244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96920" y="500220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996920" y="50792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2027160" y="5127120"/>
                <a:ext cx="38160" cy="97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4" name=""/>
            <p:cNvCxnSpPr>
              <a:stCxn id="213" idx="0"/>
              <a:endCxn id="215" idx="6"/>
            </p:cNvCxnSpPr>
            <p:nvPr/>
          </p:nvCxnSpPr>
          <p:spPr>
            <a:xfrm flipH="1">
              <a:off x="1398240" y="5192640"/>
              <a:ext cx="695520" cy="510480"/>
            </a:xfrm>
            <a:prstGeom prst="bentConnector3">
              <a:avLst>
                <a:gd name="adj1" fmla="val -1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>
              <a:off x="2133720" y="4724280"/>
              <a:ext cx="121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1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400" y="43275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400" y="50515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6440" y="4638600"/>
              <a:ext cx="615960" cy="61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9" idx="0"/>
              <a:endCxn id="221" idx="2"/>
            </p:cNvCxnSpPr>
            <p:nvPr/>
          </p:nvCxnSpPr>
          <p:spPr>
            <a:xfrm flipH="1" flipV="1" rot="5400000">
              <a:off x="4869360" y="2926080"/>
              <a:ext cx="527760" cy="289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23" idx="3"/>
              <a:endCxn id="219" idx="4"/>
            </p:cNvCxnSpPr>
            <p:nvPr/>
          </p:nvCxnSpPr>
          <p:spPr>
            <a:xfrm flipV="1" rot="16200000">
              <a:off x="4894920" y="4043880"/>
              <a:ext cx="494640" cy="2914920"/>
            </a:xfrm>
            <a:prstGeom prst="bentConnector3">
              <a:avLst>
                <a:gd name="adj1" fmla="val 866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3341520" y="47847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181840" y="4740120"/>
              <a:ext cx="206640" cy="455040"/>
              <a:chOff x="5181840" y="4740120"/>
              <a:chExt cx="206640" cy="455040"/>
            </a:xfrm>
          </p:grpSpPr>
          <p:sp>
            <p:nvSpPr>
              <p:cNvPr id="226" name=""/>
              <p:cNvSpPr/>
              <p:nvPr/>
            </p:nvSpPr>
            <p:spPr>
              <a:xfrm rot="5400000">
                <a:off x="5323680" y="4705560"/>
                <a:ext cx="29880" cy="990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182200" y="47696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82200" y="4847760"/>
                <a:ext cx="2062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182200" y="49244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82200" y="500220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182200" y="50792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5212080" y="5126400"/>
                <a:ext cx="38160" cy="990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3" name=""/>
            <p:cNvCxnSpPr>
              <a:stCxn id="226" idx="0"/>
            </p:cNvCxnSpPr>
            <p:nvPr/>
          </p:nvCxnSpPr>
          <p:spPr>
            <a:xfrm flipV="1">
              <a:off x="5287680" y="412200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5284800" y="51814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0120" y="4768920"/>
              <a:ext cx="142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8M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3920" y="4419720"/>
              <a:ext cx="137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(-1/5)mA/V 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40449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6200" y="564048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1880" y="5641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81880" y="4049640"/>
              <a:ext cx="1238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474012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requiere alta impedanci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baj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“alta” (para tener gran voltaje de entrada) pero “pequeña” comparada con la de salida de la etapa diferencial (para no cargar la fu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en voltaje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7 Emisor Común con carg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ablemente cumplirá con los requisi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3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paralelo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7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rando” por la base de Q1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“grande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7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“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c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ificación de Respuesta en frecuenci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écnica de separación de polos para brindar estabilidad en lazo cerrado 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 de Ganancia Intermed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43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Q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5440" y="3191040"/>
                <a:ext cx="3806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1360" y="3657600"/>
                <a:ext cx="4406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μ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44640" y="4481640"/>
                <a:ext cx="3384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 Salida Q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27240" y="5410080"/>
                <a:ext cx="2693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492200" y="5943600"/>
                <a:ext cx="2147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90920" y="3200400"/>
                <a:ext cx="1531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320" y="189396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8600" y="2362320"/>
                <a:ext cx="3564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68920" y="2498760"/>
                <a:ext cx="747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87760" y="1876320"/>
                <a:ext cx="174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‖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63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Q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60520" y="5429160"/>
                <a:ext cx="3062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3809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96880" y="4343400"/>
                <a:ext cx="311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 del conju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en Casc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00920" y="551988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781680" y="4114800"/>
                <a:ext cx="1400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00080" y="6137280"/>
                <a:ext cx="1386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457200" y="4437000"/>
            <a:ext cx="3733920" cy="1700280"/>
            <a:chOff x="457200" y="4437000"/>
            <a:chExt cx="3733920" cy="1700280"/>
          </a:xfrm>
        </p:grpSpPr>
        <p:cxnSp>
          <p:nvCxnSpPr>
            <p:cNvPr id="271" name=""/>
            <p:cNvCxnSpPr>
              <a:endCxn id="272" idx="0"/>
            </p:cNvCxnSpPr>
            <p:nvPr/>
          </p:nvCxnSpPr>
          <p:spPr>
            <a:xfrm flipH="1" rot="16200000">
              <a:off x="92556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73" name=""/>
            <p:cNvGrpSpPr/>
            <p:nvPr/>
          </p:nvGrpSpPr>
          <p:grpSpPr>
            <a:xfrm>
              <a:off x="1551600" y="5126040"/>
              <a:ext cx="187200" cy="433080"/>
              <a:chOff x="1551600" y="5126040"/>
              <a:chExt cx="187200" cy="433080"/>
            </a:xfrm>
          </p:grpSpPr>
          <p:sp>
            <p:nvSpPr>
              <p:cNvPr id="272" name=""/>
              <p:cNvSpPr/>
              <p:nvPr/>
            </p:nvSpPr>
            <p:spPr>
              <a:xfrm rot="5400000">
                <a:off x="167940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55196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5196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5196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5196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5196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157824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</p:cNvCxnSpPr>
            <p:nvPr/>
          </p:nvCxnSpPr>
          <p:spPr>
            <a:xfrm flipH="1">
              <a:off x="76140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1600200" y="514656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732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5419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51228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13360" y="4437000"/>
              <a:ext cx="415440" cy="196560"/>
              <a:chOff x="3213360" y="4437000"/>
              <a:chExt cx="41544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21336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2407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31128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381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45240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522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388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9560" y="5027400"/>
              <a:ext cx="56340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3" idx="0"/>
              <a:endCxn id="286" idx="0"/>
            </p:cNvCxnSpPr>
            <p:nvPr/>
          </p:nvCxnSpPr>
          <p:spPr>
            <a:xfrm flipH="1" flipV="1" rot="5400000">
              <a:off x="270900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"/>
            <p:cNvCxnSpPr>
              <a:stCxn id="292" idx="0"/>
            </p:cNvCxnSpPr>
            <p:nvPr/>
          </p:nvCxnSpPr>
          <p:spPr>
            <a:xfrm flipH="1" flipV="1" rot="5400000">
              <a:off x="3870000" y="4295160"/>
              <a:ext cx="3600" cy="486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endCxn id="293" idx="4"/>
            </p:cNvCxnSpPr>
            <p:nvPr/>
          </p:nvCxnSpPr>
          <p:spPr>
            <a:xfrm rot="10800000">
              <a:off x="2701440" y="5615640"/>
              <a:ext cx="141336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2982960" y="5084640"/>
              <a:ext cx="97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!6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71680" y="4929120"/>
              <a:ext cx="65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6560" y="4592520"/>
              <a:ext cx="88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4460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" y="59846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84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84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49640" y="4125960"/>
                <a:ext cx="2398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02240" y="6157800"/>
                <a:ext cx="2396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419720" y="5122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~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95680" y="4437000"/>
            <a:ext cx="3733560" cy="1700280"/>
            <a:chOff x="4495680" y="4437000"/>
            <a:chExt cx="3733560" cy="1700280"/>
          </a:xfrm>
        </p:grpSpPr>
        <p:cxnSp>
          <p:nvCxnSpPr>
            <p:cNvPr id="309" name=""/>
            <p:cNvCxnSpPr>
              <a:endCxn id="310" idx="0"/>
            </p:cNvCxnSpPr>
            <p:nvPr/>
          </p:nvCxnSpPr>
          <p:spPr>
            <a:xfrm flipH="1" rot="16200000">
              <a:off x="496368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11" name=""/>
            <p:cNvGrpSpPr/>
            <p:nvPr/>
          </p:nvGrpSpPr>
          <p:grpSpPr>
            <a:xfrm>
              <a:off x="5589720" y="5126040"/>
              <a:ext cx="187200" cy="433080"/>
              <a:chOff x="5589720" y="5126040"/>
              <a:chExt cx="187200" cy="4330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571752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59008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9008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59008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9008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59008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561636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17" idx="0"/>
            </p:cNvCxnSpPr>
            <p:nvPr/>
          </p:nvCxnSpPr>
          <p:spPr>
            <a:xfrm flipH="1">
              <a:off x="479952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5638680" y="514656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5680" y="4732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419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251480" y="4437000"/>
              <a:ext cx="415440" cy="196560"/>
              <a:chOff x="7251480" y="4437000"/>
              <a:chExt cx="415440" cy="19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25148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7278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34940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419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4905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56108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3200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457680" y="5027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0" idx="0"/>
              <a:endCxn id="323" idx="0"/>
            </p:cNvCxnSpPr>
            <p:nvPr/>
          </p:nvCxnSpPr>
          <p:spPr>
            <a:xfrm flipH="1" flipV="1" rot="5400000">
              <a:off x="674712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29" idx="0"/>
            </p:cNvCxnSpPr>
            <p:nvPr/>
          </p:nvCxnSpPr>
          <p:spPr>
            <a:xfrm flipH="1" flipV="1" rot="5400000">
              <a:off x="7908480" y="4295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endCxn id="330" idx="4"/>
            </p:cNvCxnSpPr>
            <p:nvPr/>
          </p:nvCxnSpPr>
          <p:spPr>
            <a:xfrm rot="10800000">
              <a:off x="6739560" y="5615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4" name=""/>
            <p:cNvSpPr/>
            <p:nvPr/>
          </p:nvSpPr>
          <p:spPr>
            <a:xfrm>
              <a:off x="7021440" y="5084640"/>
              <a:ext cx="97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17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0160" y="4929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628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5040" y="4592520"/>
              <a:ext cx="88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2428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7696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696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103560" y="5527800"/>
                <a:ext cx="676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4572000" y="2728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48320" y="2043000"/>
            <a:ext cx="3733560" cy="1700280"/>
            <a:chOff x="4648320" y="2043000"/>
            <a:chExt cx="3733560" cy="1700280"/>
          </a:xfrm>
        </p:grpSpPr>
        <p:cxnSp>
          <p:nvCxnSpPr>
            <p:cNvPr id="345" name=""/>
            <p:cNvCxnSpPr>
              <a:endCxn id="346" idx="0"/>
            </p:cNvCxnSpPr>
            <p:nvPr/>
          </p:nvCxnSpPr>
          <p:spPr>
            <a:xfrm flipH="1" rot="16200000">
              <a:off x="5116320" y="2010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47" name=""/>
            <p:cNvGrpSpPr/>
            <p:nvPr/>
          </p:nvGrpSpPr>
          <p:grpSpPr>
            <a:xfrm>
              <a:off x="5742360" y="2732040"/>
              <a:ext cx="187200" cy="433080"/>
              <a:chOff x="5742360" y="2732040"/>
              <a:chExt cx="187200" cy="433080"/>
            </a:xfrm>
          </p:grpSpPr>
          <p:sp>
            <p:nvSpPr>
              <p:cNvPr id="346" name=""/>
              <p:cNvSpPr/>
              <p:nvPr/>
            </p:nvSpPr>
            <p:spPr>
              <a:xfrm rot="5400000">
                <a:off x="5870160" y="2701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742720" y="2760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42720" y="2834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742720" y="2907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42720" y="2981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742720" y="3054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769000" y="3102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4" name=""/>
            <p:cNvCxnSpPr>
              <a:stCxn id="353" idx="0"/>
            </p:cNvCxnSpPr>
            <p:nvPr/>
          </p:nvCxnSpPr>
          <p:spPr>
            <a:xfrm flipH="1">
              <a:off x="4952160" y="3163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5791320" y="27525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.5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8320" y="2338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48320" y="302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404120" y="2043000"/>
              <a:ext cx="415440" cy="196560"/>
              <a:chOff x="7404120" y="2043000"/>
              <a:chExt cx="415440" cy="19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7404120" y="2043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743148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7502040" y="2043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757260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764316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771372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84640" y="2145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610320" y="2633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0"/>
              <a:endCxn id="359" idx="0"/>
            </p:cNvCxnSpPr>
            <p:nvPr/>
          </p:nvCxnSpPr>
          <p:spPr>
            <a:xfrm flipH="1" flipV="1" rot="5400000">
              <a:off x="6899760" y="2129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8" name=""/>
            <p:cNvCxnSpPr>
              <a:stCxn id="365" idx="0"/>
            </p:cNvCxnSpPr>
            <p:nvPr/>
          </p:nvCxnSpPr>
          <p:spPr>
            <a:xfrm flipH="1" flipV="1" rot="5400000">
              <a:off x="8061120" y="1901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>
              <a:endCxn id="366" idx="4"/>
            </p:cNvCxnSpPr>
            <p:nvPr/>
          </p:nvCxnSpPr>
          <p:spPr>
            <a:xfrm rot="10800000">
              <a:off x="6892200" y="3221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0" name=""/>
            <p:cNvSpPr/>
            <p:nvPr/>
          </p:nvSpPr>
          <p:spPr>
            <a:xfrm>
              <a:off x="7174080" y="26906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-0.7k V/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62800" y="2535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8920" y="2831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67680" y="2198520"/>
              <a:ext cx="8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00k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692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2960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960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7339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Operacionales (OPAMP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: Seguid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sumamos Q14 activo (Q20 cortad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22 multiemisor, sirve de buffer entre etapa intermedia y etap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27) ~ 500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25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int)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~ 7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El Buffer de Voltaje es vital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quivalente Total DC (Baja frecuenci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catenación de Etap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 Tot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Ganancia (~103dB), e Impedancia de Salida Baja (~ 70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040" y="3552840"/>
            <a:ext cx="8173800" cy="1171440"/>
            <a:chOff x="284040" y="3552840"/>
            <a:chExt cx="8173800" cy="1171440"/>
          </a:xfrm>
        </p:grpSpPr>
        <p:grpSp>
          <p:nvGrpSpPr>
            <p:cNvPr id="386" name=""/>
            <p:cNvGrpSpPr/>
            <p:nvPr/>
          </p:nvGrpSpPr>
          <p:grpSpPr>
            <a:xfrm>
              <a:off x="5835240" y="3552840"/>
              <a:ext cx="2622600" cy="1166760"/>
              <a:chOff x="5835240" y="3552840"/>
              <a:chExt cx="2622600" cy="1166760"/>
            </a:xfrm>
          </p:grpSpPr>
          <p:cxnSp>
            <p:nvCxnSpPr>
              <p:cNvPr id="387" name=""/>
              <p:cNvCxnSpPr>
                <a:stCxn id="388" idx="6"/>
                <a:endCxn id="389" idx="0"/>
              </p:cNvCxnSpPr>
              <p:nvPr/>
            </p:nvCxnSpPr>
            <p:spPr>
              <a:xfrm>
                <a:off x="6130440" y="362088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90" name=""/>
              <p:cNvGrpSpPr/>
              <p:nvPr/>
            </p:nvGrpSpPr>
            <p:grpSpPr>
              <a:xfrm>
                <a:off x="6410160" y="4025880"/>
                <a:ext cx="145800" cy="296280"/>
                <a:chOff x="6410160" y="4025880"/>
                <a:chExt cx="145800" cy="296280"/>
              </a:xfrm>
            </p:grpSpPr>
            <p:sp>
              <p:nvSpPr>
                <p:cNvPr id="389" name=""/>
                <p:cNvSpPr/>
                <p:nvPr/>
              </p:nvSpPr>
              <p:spPr>
                <a:xfrm rot="5400000">
                  <a:off x="6510960" y="400068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410160" y="40453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10160" y="409572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410160" y="41461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10160" y="41965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410160" y="42469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5400000">
                  <a:off x="6432480" y="427464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97" name=""/>
              <p:cNvCxnSpPr>
                <a:stCxn id="396" idx="0"/>
                <a:endCxn id="398" idx="6"/>
              </p:cNvCxnSpPr>
              <p:nvPr/>
            </p:nvCxnSpPr>
            <p:spPr>
              <a:xfrm flipV="1" rot="10800000">
                <a:off x="6130080" y="431892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"/>
              <p:cNvSpPr/>
              <p:nvPr/>
            </p:nvSpPr>
            <p:spPr>
              <a:xfrm>
                <a:off x="6448320" y="403992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500k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35240" y="37558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35240" y="42274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698960" y="3552840"/>
                <a:ext cx="322200" cy="134640"/>
                <a:chOff x="7698960" y="3552840"/>
                <a:chExt cx="322200" cy="1346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98960" y="355284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772020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774920" y="355284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82964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88436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>
                  <a:off x="793908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94160" y="362268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7084800" y="395748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10" idx="0"/>
                <a:endCxn id="403" idx="0"/>
              </p:cNvCxnSpPr>
              <p:nvPr/>
            </p:nvCxnSpPr>
            <p:spPr>
              <a:xfrm flipH="1" flipV="1" rot="5400000">
                <a:off x="7330320" y="358884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09" idx="0"/>
              </p:cNvCxnSpPr>
              <p:nvPr/>
            </p:nvCxnSpPr>
            <p:spPr>
              <a:xfrm flipH="1" flipV="1" rot="5400000">
                <a:off x="8208360" y="343152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"/>
              <p:cNvCxnSpPr>
                <a:endCxn id="410" idx="4"/>
              </p:cNvCxnSpPr>
              <p:nvPr/>
            </p:nvCxnSpPr>
            <p:spPr>
              <a:xfrm rot="10800000">
                <a:off x="7302960" y="436176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4" name=""/>
              <p:cNvSpPr/>
              <p:nvPr/>
            </p:nvSpPr>
            <p:spPr>
              <a:xfrm>
                <a:off x="7521480" y="399708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46640" y="389088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51320" y="409392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94200" y="365904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70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3080" y="356868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3080" y="461484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40480" y="356868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40480" y="461484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84040" y="3578040"/>
              <a:ext cx="3504960" cy="1143000"/>
              <a:chOff x="284040" y="3578040"/>
              <a:chExt cx="3504960" cy="1143000"/>
            </a:xfrm>
          </p:grpSpPr>
          <p:cxnSp>
            <p:nvCxnSpPr>
              <p:cNvPr id="421" name=""/>
              <p:cNvCxnSpPr>
                <a:stCxn id="422" idx="6"/>
                <a:endCxn id="423" idx="0"/>
              </p:cNvCxnSpPr>
              <p:nvPr/>
            </p:nvCxnSpPr>
            <p:spPr>
              <a:xfrm>
                <a:off x="705960" y="3619440"/>
                <a:ext cx="531000" cy="419760"/>
              </a:xfrm>
              <a:prstGeom prst="bentConnector3">
                <a:avLst>
                  <a:gd name="adj1" fmla="val 1008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24" name=""/>
              <p:cNvGrpSpPr/>
              <p:nvPr/>
            </p:nvGrpSpPr>
            <p:grpSpPr>
              <a:xfrm>
                <a:off x="1157400" y="4040280"/>
                <a:ext cx="154080" cy="302760"/>
                <a:chOff x="1157400" y="4040280"/>
                <a:chExt cx="154080" cy="302760"/>
              </a:xfrm>
            </p:grpSpPr>
            <p:sp>
              <p:nvSpPr>
                <p:cNvPr id="423" name=""/>
                <p:cNvSpPr/>
                <p:nvPr/>
              </p:nvSpPr>
              <p:spPr>
                <a:xfrm rot="5400000">
                  <a:off x="1264320" y="4013280"/>
                  <a:ext cx="19800" cy="7380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1157760" y="40597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57760" y="4111920"/>
                  <a:ext cx="1537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157760" y="416268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57760" y="42145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1157760" y="426564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5400000">
                  <a:off x="1181520" y="4293360"/>
                  <a:ext cx="25560" cy="7380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31" name=""/>
              <p:cNvCxnSpPr>
                <a:stCxn id="430" idx="0"/>
                <a:endCxn id="432" idx="6"/>
              </p:cNvCxnSpPr>
              <p:nvPr/>
            </p:nvCxnSpPr>
            <p:spPr>
              <a:xfrm flipH="1">
                <a:off x="705960" y="4339800"/>
                <a:ext cx="524160" cy="338760"/>
              </a:xfrm>
              <a:prstGeom prst="bentConnector3">
                <a:avLst>
                  <a:gd name="adj1" fmla="val -130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1045800" y="4029120"/>
                <a:ext cx="91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376560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0880" y="424656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38080" y="3971880"/>
                <a:ext cx="465120" cy="409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36" idx="0"/>
                <a:endCxn id="438" idx="2"/>
              </p:cNvCxnSpPr>
              <p:nvPr/>
            </p:nvCxnSpPr>
            <p:spPr>
              <a:xfrm flipH="1" flipV="1" rot="5400000">
                <a:off x="2658240" y="2934720"/>
                <a:ext cx="349920" cy="1724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9" name=""/>
              <p:cNvCxnSpPr>
                <a:stCxn id="440" idx="3"/>
                <a:endCxn id="436" idx="4"/>
              </p:cNvCxnSpPr>
              <p:nvPr/>
            </p:nvCxnSpPr>
            <p:spPr>
              <a:xfrm flipV="1" rot="16200000">
                <a:off x="2676600" y="3675240"/>
                <a:ext cx="327600" cy="1739160"/>
              </a:xfrm>
              <a:prstGeom prst="bentConnector3">
                <a:avLst>
                  <a:gd name="adj1" fmla="val 72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1" name=""/>
              <p:cNvSpPr/>
              <p:nvPr/>
            </p:nvSpPr>
            <p:spPr>
              <a:xfrm>
                <a:off x="1712520" y="4070160"/>
                <a:ext cx="54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2951280" y="4040280"/>
                <a:ext cx="155520" cy="302760"/>
                <a:chOff x="2951280" y="4040280"/>
                <a:chExt cx="155520" cy="302760"/>
              </a:xfrm>
            </p:grpSpPr>
            <p:sp>
              <p:nvSpPr>
                <p:cNvPr id="443" name=""/>
                <p:cNvSpPr/>
                <p:nvPr/>
              </p:nvSpPr>
              <p:spPr>
                <a:xfrm rot="5400000">
                  <a:off x="3059280" y="4012920"/>
                  <a:ext cx="19800" cy="7452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2951640" y="40597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951640" y="4111920"/>
                  <a:ext cx="15516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951640" y="416268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951640" y="42145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951640" y="426564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5400000">
                  <a:off x="2975760" y="4293000"/>
                  <a:ext cx="25560" cy="7452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0" name=""/>
              <p:cNvCxnSpPr>
                <a:stCxn id="443" idx="0"/>
              </p:cNvCxnSpPr>
              <p:nvPr/>
            </p:nvCxnSpPr>
            <p:spPr>
              <a:xfrm flipV="1">
                <a:off x="3029760" y="3629880"/>
                <a:ext cx="1080" cy="40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1" name=""/>
              <p:cNvSpPr/>
              <p:nvPr/>
            </p:nvSpPr>
            <p:spPr>
              <a:xfrm>
                <a:off x="3028680" y="4333680"/>
                <a:ext cx="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0920" y="4059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8M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68200" y="4065480"/>
                <a:ext cx="103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(-1/5) mA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4160" y="357804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4160" y="463860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95400" y="4638600"/>
                <a:ext cx="93600" cy="82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95400" y="3581280"/>
                <a:ext cx="93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4040" y="4040280"/>
                <a:ext cx="745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517560" y="3557520"/>
              <a:ext cx="2622600" cy="1166760"/>
              <a:chOff x="3517560" y="3557520"/>
              <a:chExt cx="2622600" cy="1166760"/>
            </a:xfrm>
          </p:grpSpPr>
          <p:cxnSp>
            <p:nvCxnSpPr>
              <p:cNvPr id="456" name=""/>
              <p:cNvCxnSpPr>
                <a:stCxn id="457" idx="6"/>
                <a:endCxn id="458" idx="0"/>
              </p:cNvCxnSpPr>
              <p:nvPr/>
            </p:nvCxnSpPr>
            <p:spPr>
              <a:xfrm>
                <a:off x="3812760" y="362556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59" name=""/>
              <p:cNvGrpSpPr/>
              <p:nvPr/>
            </p:nvGrpSpPr>
            <p:grpSpPr>
              <a:xfrm>
                <a:off x="4092480" y="4030560"/>
                <a:ext cx="145800" cy="296280"/>
                <a:chOff x="4092480" y="4030560"/>
                <a:chExt cx="145800" cy="296280"/>
              </a:xfrm>
            </p:grpSpPr>
            <p:sp>
              <p:nvSpPr>
                <p:cNvPr id="458" name=""/>
                <p:cNvSpPr/>
                <p:nvPr/>
              </p:nvSpPr>
              <p:spPr>
                <a:xfrm rot="5400000">
                  <a:off x="4193280" y="400536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4092480" y="40500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092480" y="410040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092480" y="41508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092480" y="42012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4092480" y="42516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400000">
                  <a:off x="4114800" y="427932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66" name=""/>
              <p:cNvCxnSpPr>
                <a:stCxn id="465" idx="0"/>
                <a:endCxn id="467" idx="6"/>
              </p:cNvCxnSpPr>
              <p:nvPr/>
            </p:nvCxnSpPr>
            <p:spPr>
              <a:xfrm flipV="1" rot="10800000">
                <a:off x="3812400" y="432360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8" name=""/>
              <p:cNvSpPr/>
              <p:nvPr/>
            </p:nvSpPr>
            <p:spPr>
              <a:xfrm>
                <a:off x="4130640" y="404460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.5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517560" y="37605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17560" y="42321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5381280" y="3557520"/>
                <a:ext cx="322200" cy="134640"/>
                <a:chOff x="5381280" y="3557520"/>
                <a:chExt cx="322200" cy="13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381280" y="355752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40252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457240" y="355752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51196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6668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562140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76480" y="362736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4767120" y="396216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0" name=""/>
              <p:cNvCxnSpPr>
                <a:stCxn id="479" idx="0"/>
                <a:endCxn id="472" idx="0"/>
              </p:cNvCxnSpPr>
              <p:nvPr/>
            </p:nvCxnSpPr>
            <p:spPr>
              <a:xfrm flipH="1" flipV="1" rot="5400000">
                <a:off x="5012640" y="359352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1" name=""/>
              <p:cNvCxnSpPr>
                <a:stCxn id="478" idx="0"/>
              </p:cNvCxnSpPr>
              <p:nvPr/>
            </p:nvCxnSpPr>
            <p:spPr>
              <a:xfrm flipH="1" flipV="1" rot="5400000">
                <a:off x="5890680" y="343620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2" name=""/>
              <p:cNvCxnSpPr>
                <a:endCxn id="479" idx="4"/>
              </p:cNvCxnSpPr>
              <p:nvPr/>
            </p:nvCxnSpPr>
            <p:spPr>
              <a:xfrm rot="10800000">
                <a:off x="4985280" y="436644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"/>
              <p:cNvSpPr/>
              <p:nvPr/>
            </p:nvSpPr>
            <p:spPr>
              <a:xfrm>
                <a:off x="5203800" y="400176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-0.7k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8960" y="389556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33640" y="409860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76520" y="36637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00k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5400" y="357336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95400" y="461952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22800" y="357336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22800" y="461952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048120" y="5081760"/>
            <a:ext cx="2622600" cy="1166760"/>
            <a:chOff x="3048120" y="5081760"/>
            <a:chExt cx="2622600" cy="1166760"/>
          </a:xfrm>
        </p:grpSpPr>
        <p:cxnSp>
          <p:nvCxnSpPr>
            <p:cNvPr id="490" name=""/>
            <p:cNvCxnSpPr>
              <a:stCxn id="491" idx="6"/>
              <a:endCxn id="492" idx="0"/>
            </p:cNvCxnSpPr>
            <p:nvPr/>
          </p:nvCxnSpPr>
          <p:spPr>
            <a:xfrm>
              <a:off x="3343320" y="5149800"/>
              <a:ext cx="353160" cy="402480"/>
            </a:xfrm>
            <a:prstGeom prst="bentConnector3">
              <a:avLst>
                <a:gd name="adj1" fmla="val 9908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93" name=""/>
            <p:cNvGrpSpPr/>
            <p:nvPr/>
          </p:nvGrpSpPr>
          <p:grpSpPr>
            <a:xfrm>
              <a:off x="3623040" y="5554800"/>
              <a:ext cx="145800" cy="296280"/>
              <a:chOff x="3623040" y="5554800"/>
              <a:chExt cx="145800" cy="296280"/>
            </a:xfrm>
          </p:grpSpPr>
          <p:sp>
            <p:nvSpPr>
              <p:cNvPr id="492" name=""/>
              <p:cNvSpPr/>
              <p:nvPr/>
            </p:nvSpPr>
            <p:spPr>
              <a:xfrm rot="5400000">
                <a:off x="3723840" y="552960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623040" y="55742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3040" y="5624640"/>
                <a:ext cx="1458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23040" y="56750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23040" y="57254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23040" y="57758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5400000">
                <a:off x="3645360" y="5803560"/>
                <a:ext cx="24840" cy="698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0" name=""/>
            <p:cNvCxnSpPr>
              <a:stCxn id="499" idx="0"/>
              <a:endCxn id="501" idx="6"/>
            </p:cNvCxnSpPr>
            <p:nvPr/>
          </p:nvCxnSpPr>
          <p:spPr>
            <a:xfrm flipV="1" rot="10800000">
              <a:off x="3342960" y="5847840"/>
              <a:ext cx="346680" cy="347760"/>
            </a:xfrm>
            <a:prstGeom prst="bentConnector3">
              <a:avLst>
                <a:gd name="adj1" fmla="val 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2" name=""/>
            <p:cNvSpPr/>
            <p:nvPr/>
          </p:nvSpPr>
          <p:spPr>
            <a:xfrm>
              <a:off x="3661200" y="5568840"/>
              <a:ext cx="63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8120" y="52848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8120" y="57564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911840" y="5081760"/>
              <a:ext cx="322200" cy="134640"/>
              <a:chOff x="4911840" y="5081760"/>
              <a:chExt cx="322200" cy="134640"/>
            </a:xfrm>
          </p:grpSpPr>
          <p:sp>
            <p:nvSpPr>
              <p:cNvPr id="506" name=""/>
              <p:cNvSpPr/>
              <p:nvPr/>
            </p:nvSpPr>
            <p:spPr>
              <a:xfrm>
                <a:off x="4911840" y="5081760"/>
                <a:ext cx="21240" cy="644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493308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4987800" y="5081760"/>
                <a:ext cx="5436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04252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09724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515196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07040" y="5151600"/>
                <a:ext cx="27000" cy="644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297680" y="5486400"/>
              <a:ext cx="436680" cy="40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3" idx="0"/>
              <a:endCxn id="506" idx="0"/>
            </p:cNvCxnSpPr>
            <p:nvPr/>
          </p:nvCxnSpPr>
          <p:spPr>
            <a:xfrm flipH="1" flipV="1" rot="5400000">
              <a:off x="4543200" y="5117760"/>
              <a:ext cx="342000" cy="396000"/>
            </a:xfrm>
            <a:prstGeom prst="bentConnector3">
              <a:avLst>
                <a:gd name="adj1" fmla="val 98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0"/>
            </p:cNvCxnSpPr>
            <p:nvPr/>
          </p:nvCxnSpPr>
          <p:spPr>
            <a:xfrm flipH="1" flipV="1" rot="5400000">
              <a:off x="5421240" y="4960440"/>
              <a:ext cx="396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endCxn id="513" idx="4"/>
            </p:cNvCxnSpPr>
            <p:nvPr/>
          </p:nvCxnSpPr>
          <p:spPr>
            <a:xfrm rot="10800000">
              <a:off x="4515840" y="5890680"/>
              <a:ext cx="109620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4734360" y="5526000"/>
              <a:ext cx="75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47k V/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9520" y="541980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4200" y="562284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7080" y="5187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5960" y="509760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960" y="614376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3360" y="509760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53360" y="614376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971800" y="5486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“Re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ideal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y Offset Nu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Offset Nu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rivas térmicas nulas (parámetros anteriores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ce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 (Slew Rate)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cho de Banda infin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máxima de sali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s real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n estas características, sin embargo, dependiendo de la aplicación, pueden acercarse ba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oltaje Offset: Asimetrías Intern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576600" y="3352680"/>
            <a:ext cx="3287880" cy="2884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895840" cy="18129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920" y="5943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Input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juste con potenciómetro en terminales de Offse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320" y="2133720"/>
            <a:ext cx="3500280" cy="3855960"/>
            <a:chOff x="76320" y="2133720"/>
            <a:chExt cx="3500280" cy="3855960"/>
          </a:xfrm>
        </p:grpSpPr>
        <p:grpSp>
          <p:nvGrpSpPr>
            <p:cNvPr id="532" name=""/>
            <p:cNvGrpSpPr/>
            <p:nvPr/>
          </p:nvGrpSpPr>
          <p:grpSpPr>
            <a:xfrm>
              <a:off x="76320" y="2133720"/>
              <a:ext cx="3500280" cy="3855960"/>
              <a:chOff x="76320" y="2133720"/>
              <a:chExt cx="3500280" cy="385596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0" y="2133720"/>
                <a:ext cx="350028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6320" y="33526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71800" y="33526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1800" y="45720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19520" y="49528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rriente B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Inp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(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Offset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asimetría en red externa DC (resistencias). Provocan aparición de voltaj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entrada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: “Simetriza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empre debe existir retorno a tierra para DC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34120" y="1523880"/>
            <a:ext cx="3352680" cy="2286000"/>
            <a:chOff x="5334120" y="1523880"/>
            <a:chExt cx="3352680" cy="2286000"/>
          </a:xfrm>
        </p:grpSpPr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5334120" y="1523880"/>
              <a:ext cx="33526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34160" y="185508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34160" y="152388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4160" y="278244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4160" y="24512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3504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661000" y="3809880"/>
            <a:ext cx="3025800" cy="2325960"/>
            <a:chOff x="5661000" y="3809880"/>
            <a:chExt cx="3025800" cy="232596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5661000" y="3809880"/>
              <a:ext cx="3025800" cy="23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491520" y="5314320"/>
              <a:ext cx="1661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=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||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4890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ga “estabilidad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iene tasa de cambio máxima: Slew Ra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ndo la entra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ferencial es “grande”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~ 60mV) la corriente de polarización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rga el condensador C y hace que la salida no cambie más rápid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ue una ramp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LM741 (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5410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ructura de OPAMP típica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, polarización con fuentes de corriente, espejo como carga, etapa de ganancia intermedia, etapa de salida “seguidor de voltaje” y condensador de “estabil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019920" y="508644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μ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p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67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μ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76320" y="1600200"/>
            <a:ext cx="5333760" cy="3890880"/>
            <a:chOff x="76320" y="1600200"/>
            <a:chExt cx="5333760" cy="3890880"/>
          </a:xfrm>
        </p:grpSpPr>
        <p:pic>
          <p:nvPicPr>
            <p:cNvPr id="557" name="" descr=""/>
            <p:cNvPicPr/>
            <p:nvPr/>
          </p:nvPicPr>
          <p:blipFill>
            <a:blip r:embed="rId1"/>
            <a:stretch/>
          </p:blipFill>
          <p:spPr>
            <a:xfrm>
              <a:off x="76320" y="1600200"/>
              <a:ext cx="533376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438280" y="42670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38862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4284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tección de cortocircuito a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n máxima corriente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salida en el OPAMP ~ 0.6V/25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24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empeños OPAM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FE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Bias y Offs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de polarización (impedancia DC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ayor Slew Rate (útil como comparador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OPAMP gran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debe estar “casi” al mismo voltaje para que el OPAMP opere en la zona 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uando no se cumple la condición anterior, la salida del OPAMP tratará de “saturarse” a casi el voltaje de alimentación, con una velocidad máxima dada por la Slew Rate del disposi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2748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191120" y="4754520"/>
                <a:ext cx="30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cia del Análisis por Bloqu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 de entrada y salida definen “nivel de carga” a las etapas interconectad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, Bloques Funcionales, propagación de var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impedancia de entrada, Alta Ganancia,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a 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reales: desvío de la condición ideal en dise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Bias,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, Corriente máxim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en zona lineal (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scutir la estructura interna de un OPAM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conocer la importancia del análisis por bloques funcion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en detalle la estructura interna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l funcionamiento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visar características no-ideales de los OPAMPs “real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 de Voltaje Difer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spositivo Integr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celente Matching entre transist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s no deben superar los 100k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: Anális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 de los transis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, impedancias, etc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(Alta Impedancia de 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termedia (Gran Gananci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(Baja Impedancia de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ve del 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r bloques funcio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alizar cada bloque por separado y después “juntarl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acción será dada por la carga entre etapas (impedancia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tallado: OPAMP LM74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AMP de propósito Gene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comunes a otros OPAM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o que sigue se asumi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100 (representa condición norma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hará distinción entre e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un transistor pnp o de un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de Earl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50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ción a Temperatura Amb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Bloques Fun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1149480"/>
            <a:ext cx="856908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1120" y="2514600"/>
            <a:ext cx="2210040" cy="3733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1447920"/>
            <a:ext cx="3276360" cy="4809600"/>
            <a:chOff x="990720" y="1447920"/>
            <a:chExt cx="3276360" cy="4809600"/>
          </a:xfrm>
        </p:grpSpPr>
        <p:sp>
          <p:nvSpPr>
            <p:cNvPr id="104" name=""/>
            <p:cNvSpPr/>
            <p:nvPr/>
          </p:nvSpPr>
          <p:spPr>
            <a:xfrm>
              <a:off x="990720" y="1447920"/>
              <a:ext cx="0" cy="96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1447920"/>
              <a:ext cx="0" cy="4809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409480"/>
              <a:ext cx="1572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3200" y="2409480"/>
              <a:ext cx="0" cy="38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63200" y="6243120"/>
              <a:ext cx="170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454760"/>
              <a:ext cx="32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92880" y="1828800"/>
            <a:ext cx="1165320" cy="441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743200"/>
            <a:ext cx="1600200" cy="3505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2164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216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24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Inter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6216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13240" y="1720080"/>
            <a:ext cx="1905120" cy="2289240"/>
            <a:chOff x="5313240" y="1720080"/>
            <a:chExt cx="1905120" cy="2289240"/>
          </a:xfrm>
        </p:grpSpPr>
        <p:sp>
          <p:nvSpPr>
            <p:cNvPr id="118" name=""/>
            <p:cNvSpPr/>
            <p:nvPr/>
          </p:nvSpPr>
          <p:spPr>
            <a:xfrm>
              <a:off x="5313240" y="2557440"/>
              <a:ext cx="96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0" y="172008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13240" y="17254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9040" y="255672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560" y="4005000"/>
              <a:ext cx="9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21160" y="1720080"/>
              <a:ext cx="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squemático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1143000"/>
            <a:ext cx="8839440" cy="5356080"/>
            <a:chOff x="152280" y="1143000"/>
            <a:chExt cx="8839440" cy="5356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52280" y="1143000"/>
              <a:ext cx="84582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22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3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287680"/>
              <a:ext cx="762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5257800"/>
              <a:ext cx="76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7320" y="28954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6: </a:t>
              </a:r>
              <a:br>
                <a:rPr sz="1200"/>
              </a:b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9880" y="12189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7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6095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4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4832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5-Q21-Q24-Q23: protección cortocirc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781680" y="41144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876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vita satura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Q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punto de operación (impedancias, ganancias, etc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MRR elev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Ganancia Intermed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ganancia de la etapa difer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10-06T14:07:04Z</dcterms:modified>
  <cp:revision>1232</cp:revision>
  <dc:subject>Amplificadores Operacionales (OPAMPs)</dc:subject>
  <dc:title>Clase 17</dc:title>
</cp:coreProperties>
</file>