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630B-761B-4561-8204-3282379F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8BC8-D4D9-4BD5-97F3-007D9909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0826-7C96-469E-8EAB-73605C6E2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7CA5-86B0-48A3-A049-240E72CD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36A2-059B-4B27-A056-CE0D68042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F179-E88A-492E-8684-58AB4ED5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9E2D-17DE-4B3F-829A-E0183E11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3516-822C-4BA0-8D3F-C9206028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1515-293B-46FD-A674-613FD39C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DE8E-EB9A-4355-B083-180671C8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4632-4C1D-474A-AFEB-6D2C1269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74F3-0832-4C5F-A7C7-46243DCF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5AC9-80FB-4B16-A4F7-4CA69292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BC91-4EEC-457B-940A-08CFAC2E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1058-85EF-4035-B062-2D527025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B3DA-5A60-482A-97B7-A6BD9C8A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2D76-02C0-47D3-BDB1-56DBEFBFF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6985-2D87-4C9B-AB0A-647984C6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7B86-FBD9-4285-A959-155443BB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DF7E-84D9-47B8-8399-5EC83A6A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53CE-F43B-4EDB-8FE5-3A7A7A5D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F4D2-336E-406E-914A-84133DD2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2CF2-BCE5-45DA-A79D-5AE85ECF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BC14-2065-4737-B0FB-E4FB2C84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132B-6E34-4429-B020-22514FC43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F403-309D-4F1B-96A7-D27E76A24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3366"/>
                </a:solidFill>
                <a:latin typeface="Times New Roman"/>
              </a:rPr>
              <a:t>CI43A </a:t>
            </a:r>
            <a:r>
              <a:rPr b="0" lang="es-CL" sz="4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CL" sz="4800" spc="-1" strike="noStrike">
                <a:solidFill>
                  <a:srgbClr val="003366"/>
                </a:solidFill>
                <a:latin typeface="Times New Roman"/>
              </a:rPr>
              <a:t>Taller IX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42640" y="5486400"/>
            <a:ext cx="6224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ordinador Tall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drigo Henríquez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i43a@chil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3657600"/>
            <a:ext cx="6400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odelos de Asignación: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Asignación Increm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3366"/>
                </a:solidFill>
                <a:latin typeface="Arial"/>
              </a:rPr>
              <a:t>Problem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5105520"/>
            <a:ext cx="32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manda de viajes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260960" y="5257800"/>
                <a:ext cx="11113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267080" y="5638680"/>
                <a:ext cx="12193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3220920" y="15681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54520" y="2361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2920" y="25905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01840" y="2666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3600" y="2285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25520" y="3504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8840" y="2361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6600" y="1599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830960" y="1294200"/>
            <a:ext cx="5200920" cy="3660120"/>
            <a:chOff x="1830960" y="1294200"/>
            <a:chExt cx="5200920" cy="3660120"/>
          </a:xfrm>
        </p:grpSpPr>
        <p:grpSp>
          <p:nvGrpSpPr>
            <p:cNvPr id="144" name=""/>
            <p:cNvGrpSpPr/>
            <p:nvPr/>
          </p:nvGrpSpPr>
          <p:grpSpPr>
            <a:xfrm>
              <a:off x="1830960" y="1294200"/>
              <a:ext cx="5200920" cy="3660120"/>
              <a:chOff x="1830960" y="1294200"/>
              <a:chExt cx="5200920" cy="3660120"/>
            </a:xfrm>
          </p:grpSpPr>
          <p:sp>
            <p:nvSpPr>
              <p:cNvPr id="145" name=""/>
              <p:cNvSpPr/>
              <p:nvPr/>
            </p:nvSpPr>
            <p:spPr>
              <a:xfrm>
                <a:off x="2035800" y="12942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830960" y="44946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326280" y="13705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631560" y="44946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2286000" y="1828800"/>
                <a:ext cx="4267080" cy="3048120"/>
                <a:chOff x="2286000" y="1828800"/>
                <a:chExt cx="4267080" cy="304812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4191120" y="1828800"/>
                  <a:ext cx="152280" cy="15228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286000" y="1828800"/>
                  <a:ext cx="152280" cy="15228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400800" y="1828800"/>
                  <a:ext cx="152280" cy="15228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286000" y="3124080"/>
                  <a:ext cx="152280" cy="15264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286000" y="4648320"/>
                  <a:ext cx="152280" cy="15228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191120" y="3124080"/>
                  <a:ext cx="152280" cy="15264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114800" y="4648320"/>
                  <a:ext cx="152280" cy="15228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400800" y="3124080"/>
                  <a:ext cx="152280" cy="15264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400800" y="4724280"/>
                  <a:ext cx="152280" cy="15264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9" name=""/>
            <p:cNvGrpSpPr/>
            <p:nvPr/>
          </p:nvGrpSpPr>
          <p:grpSpPr>
            <a:xfrm>
              <a:off x="2362320" y="1905120"/>
              <a:ext cx="4114800" cy="2895480"/>
              <a:chOff x="2362320" y="1905120"/>
              <a:chExt cx="4114800" cy="2895480"/>
            </a:xfrm>
          </p:grpSpPr>
          <p:sp>
            <p:nvSpPr>
              <p:cNvPr id="160" name=""/>
              <p:cNvSpPr/>
              <p:nvPr/>
            </p:nvSpPr>
            <p:spPr>
              <a:xfrm>
                <a:off x="2666880" y="190512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495680" y="1905120"/>
                <a:ext cx="1752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362320" y="205740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362320" y="342900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514600" y="480060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19720" y="480060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477120" y="21337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477120" y="3352680"/>
                <a:ext cx="0" cy="129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2438280" y="2870280"/>
                <a:ext cx="1752840" cy="253800"/>
                <a:chOff x="2438280" y="2870280"/>
                <a:chExt cx="1752840" cy="253800"/>
              </a:xfrm>
            </p:grpSpPr>
            <p:sp>
              <p:nvSpPr>
                <p:cNvPr id="169" name=""/>
                <p:cNvSpPr/>
                <p:nvPr/>
              </p:nvSpPr>
              <p:spPr>
                <a:xfrm flipH="1">
                  <a:off x="2438280" y="3048120"/>
                  <a:ext cx="763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514600" y="2870280"/>
                  <a:ext cx="1676520" cy="253800"/>
                </a:xfrm>
                <a:custGeom>
                  <a:avLst/>
                  <a:gdLst/>
                  <a:ahLst/>
                  <a:rect l="l" t="t" r="r" b="b"/>
                  <a:pathLst>
                    <a:path w="1056" h="160">
                      <a:moveTo>
                        <a:pt x="0" y="112"/>
                      </a:moveTo>
                      <a:cubicBezTo>
                        <a:pt x="72" y="96"/>
                        <a:pt x="144" y="80"/>
                        <a:pt x="240" y="64"/>
                      </a:cubicBezTo>
                      <a:cubicBezTo>
                        <a:pt x="336" y="48"/>
                        <a:pt x="440" y="0"/>
                        <a:pt x="576" y="16"/>
                      </a:cubicBezTo>
                      <a:cubicBezTo>
                        <a:pt x="712" y="32"/>
                        <a:pt x="884" y="96"/>
                        <a:pt x="1056" y="16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514600" y="3276360"/>
                <a:ext cx="1828800" cy="241560"/>
                <a:chOff x="2514600" y="3276360"/>
                <a:chExt cx="1828800" cy="24156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514600" y="3276720"/>
                  <a:ext cx="1676520" cy="241200"/>
                </a:xfrm>
                <a:custGeom>
                  <a:avLst/>
                  <a:gdLst/>
                  <a:ahLst/>
                  <a:rect l="l" t="t" r="r" b="b"/>
                  <a:pathLst>
                    <a:path w="1056" h="152">
                      <a:moveTo>
                        <a:pt x="0" y="0"/>
                      </a:moveTo>
                      <a:cubicBezTo>
                        <a:pt x="72" y="36"/>
                        <a:pt x="144" y="72"/>
                        <a:pt x="240" y="96"/>
                      </a:cubicBezTo>
                      <a:cubicBezTo>
                        <a:pt x="336" y="120"/>
                        <a:pt x="440" y="152"/>
                        <a:pt x="576" y="144"/>
                      </a:cubicBezTo>
                      <a:cubicBezTo>
                        <a:pt x="712" y="136"/>
                        <a:pt x="984" y="40"/>
                        <a:pt x="1056" y="4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V="1">
                  <a:off x="4191120" y="3276360"/>
                  <a:ext cx="15228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4419720" y="3276360"/>
                <a:ext cx="1828800" cy="241560"/>
                <a:chOff x="4419720" y="3276360"/>
                <a:chExt cx="1828800" cy="2415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419720" y="3276720"/>
                  <a:ext cx="1676160" cy="241200"/>
                </a:xfrm>
                <a:custGeom>
                  <a:avLst/>
                  <a:gdLst/>
                  <a:ahLst/>
                  <a:rect l="l" t="t" r="r" b="b"/>
                  <a:pathLst>
                    <a:path w="1056" h="152">
                      <a:moveTo>
                        <a:pt x="0" y="0"/>
                      </a:moveTo>
                      <a:cubicBezTo>
                        <a:pt x="72" y="36"/>
                        <a:pt x="144" y="72"/>
                        <a:pt x="240" y="96"/>
                      </a:cubicBezTo>
                      <a:cubicBezTo>
                        <a:pt x="336" y="120"/>
                        <a:pt x="440" y="152"/>
                        <a:pt x="576" y="144"/>
                      </a:cubicBezTo>
                      <a:cubicBezTo>
                        <a:pt x="712" y="136"/>
                        <a:pt x="984" y="40"/>
                        <a:pt x="1056" y="4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>
                  <a:off x="6095880" y="3276360"/>
                  <a:ext cx="1526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419360" y="2819520"/>
                <a:ext cx="1752840" cy="253800"/>
                <a:chOff x="4419360" y="2819520"/>
                <a:chExt cx="1752840" cy="253800"/>
              </a:xfrm>
            </p:grpSpPr>
            <p:sp>
              <p:nvSpPr>
                <p:cNvPr id="178" name=""/>
                <p:cNvSpPr/>
                <p:nvPr/>
              </p:nvSpPr>
              <p:spPr>
                <a:xfrm flipH="1">
                  <a:off x="4419360" y="2997360"/>
                  <a:ext cx="7596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495680" y="2819520"/>
                  <a:ext cx="1676520" cy="253800"/>
                </a:xfrm>
                <a:custGeom>
                  <a:avLst/>
                  <a:gdLst/>
                  <a:ahLst/>
                  <a:rect l="l" t="t" r="r" b="b"/>
                  <a:pathLst>
                    <a:path w="1056" h="160">
                      <a:moveTo>
                        <a:pt x="0" y="112"/>
                      </a:moveTo>
                      <a:cubicBezTo>
                        <a:pt x="72" y="96"/>
                        <a:pt x="144" y="80"/>
                        <a:pt x="240" y="64"/>
                      </a:cubicBezTo>
                      <a:cubicBezTo>
                        <a:pt x="336" y="48"/>
                        <a:pt x="440" y="0"/>
                        <a:pt x="576" y="16"/>
                      </a:cubicBezTo>
                      <a:cubicBezTo>
                        <a:pt x="712" y="32"/>
                        <a:pt x="884" y="96"/>
                        <a:pt x="1056" y="16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 flipV="1">
                <a:off x="4267080" y="21337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4267080" y="342864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2" name=""/>
          <p:cNvSpPr/>
          <p:nvPr/>
        </p:nvSpPr>
        <p:spPr>
          <a:xfrm>
            <a:off x="2966400" y="4723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27440" y="3809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84040" y="3809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2920" y="3504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06600" y="4723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12840" y="3809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264200" y="6095880"/>
                <a:ext cx="9936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892840" y="5257800"/>
                <a:ext cx="9698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791320" y="5715000"/>
                <a:ext cx="12189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7531200" y="5257800"/>
                <a:ext cx="9698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467480" y="5638680"/>
                <a:ext cx="12193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Taller 9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3000" y="1066680"/>
            <a:ext cx="77724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gunta 1: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uentre el equilibrio o el óptimo del sistema para la red  mostrada en la figura anterior, usando el método de asignación incremental, con N=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incrementos a utilizar pueden ser constantes, es decir, iguales para todas las iteraciones, mayores al principio y menores al final, o viceversa. La elección de una estrategia para definir los incrementos es libre. Se premiará con puntaje adicional al grupo que logre mejor preci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uego de realizada la asignación, verifique la precisión obtenida comparando los costos o costos marginales por ruta según corresponda. Comente. Calcule los costos to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340000" y="1781280"/>
                <a:ext cx="20653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268360" y="2565360"/>
                <a:ext cx="22989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268360" y="3500280"/>
                <a:ext cx="19796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268360" y="4508640"/>
                <a:ext cx="19796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284560" y="5445000"/>
                <a:ext cx="20001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5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22880" y="1779480"/>
                <a:ext cx="21942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6122880" y="2571840"/>
                <a:ext cx="19796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7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124680" y="3436920"/>
                <a:ext cx="21924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8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6141960" y="4437000"/>
                <a:ext cx="19591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9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6084720" y="5373720"/>
                <a:ext cx="22989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1258920" y="692280"/>
            <a:ext cx="66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Funciones de Costo de los arcos presentes en el problema s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03280" y="19828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03280" y="28465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05080" y="37162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3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05080" y="47242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05080" y="56545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5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30920" y="19828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6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30920" y="27748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7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32360" y="36496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8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32360" y="46576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9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55879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0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084480" y="844560"/>
                <a:ext cx="20638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071880" y="1628640"/>
                <a:ext cx="21081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051000" y="2492280"/>
                <a:ext cx="23860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062160" y="3500280"/>
                <a:ext cx="22147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4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1763640" y="1052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63640" y="1844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65440" y="2719440"/>
            <a:ext cx="10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3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65440" y="3727440"/>
            <a:ext cx="12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4:12:32Z</dcterms:created>
  <dc:creator>F M</dc:creator>
  <dc:description/>
  <dc:language>en-US</dc:language>
  <cp:lastModifiedBy>Marcela Munizaga</cp:lastModifiedBy>
  <dcterms:modified xsi:type="dcterms:W3CDTF">2003-10-17T13:57:50Z</dcterms:modified>
  <cp:revision>30</cp:revision>
  <dc:subject/>
  <dc:title>CI 43A Análisis de Sistemas de Transporte </dc:title>
</cp:coreProperties>
</file>