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CEAB-ECF6-4595-A1CE-4754FE2BD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C736-AD00-4F8F-8E04-30E81F54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DA7E-F480-4FD9-BCD2-2DBECED7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9A07-0CE0-4F29-9B27-951C6CEC6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568AE-47EA-464B-927C-61F3D9E67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EB34-0EC1-4FDF-BE06-2351B985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7DD9-E6E1-4622-8AF5-1014C5EA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6DD9-653D-4F80-AE53-366CFB67D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0F68F-F1FB-48E1-AD07-34CD78CC4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601B8-AA21-464F-A5FE-F9A8AC9B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7E50-1AD0-4D34-87F6-4BC8DAC85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C5C3-4616-4F7F-8CC1-2BDD56E79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BB75B-9BE6-4BB6-B4F2-4A0D2364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7BCE1-ADEF-4BED-AB75-AC66E2C0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FAFD3-64DD-448E-9B0D-2E948213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B5213-549D-422B-865D-698215F7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CE09-38E1-4928-9D10-4C1E07689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19AC-1875-4BA6-AB1D-AC9D1E234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BA98-E046-4821-B9CC-9B4F7062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AAD4-E970-439C-989B-CCDD4714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9FA3-11DC-44C3-B1FF-1014D8F15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4C9-6633-4393-A635-4932FF933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4002-212F-4AFD-88B2-499BF152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007-4687-4AF5-ABC0-8DA1E866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3AF8-A0DA-400C-8E5C-C9039AAF31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87571-ABA8-4C34-9EB3-A71B2655C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CI43A 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0" lang="es-CL" sz="4800" spc="-1" strike="noStrike">
                <a:solidFill>
                  <a:srgbClr val="003366"/>
                </a:solidFill>
                <a:latin typeface="Times New Roman"/>
              </a:rPr>
              <a:t>Taller IX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42640" y="5486400"/>
            <a:ext cx="62247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ordinador Tall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odrigo Henríquez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i43a@chil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371600" y="3657600"/>
            <a:ext cx="6400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delos de Asignación: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Asignación Incre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3366"/>
                </a:solidFill>
                <a:latin typeface="Arial"/>
              </a:rPr>
              <a:t>Problema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105520"/>
            <a:ext cx="327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manda de viajes</a:t>
            </a: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4260960" y="5257800"/>
                <a:ext cx="1111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42670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3220920" y="1568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5452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82920" y="25905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01840" y="26665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3600" y="22856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1255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8840" y="2361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106600" y="159984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830960" y="1294200"/>
            <a:ext cx="5200920" cy="3660120"/>
            <a:chOff x="1830960" y="1294200"/>
            <a:chExt cx="5200920" cy="3660120"/>
          </a:xfrm>
        </p:grpSpPr>
        <p:grpSp>
          <p:nvGrpSpPr>
            <p:cNvPr id="144" name=""/>
            <p:cNvGrpSpPr/>
            <p:nvPr/>
          </p:nvGrpSpPr>
          <p:grpSpPr>
            <a:xfrm>
              <a:off x="1830960" y="1294200"/>
              <a:ext cx="5200920" cy="3660120"/>
              <a:chOff x="1830960" y="1294200"/>
              <a:chExt cx="5200920" cy="3660120"/>
            </a:xfrm>
          </p:grpSpPr>
          <p:sp>
            <p:nvSpPr>
              <p:cNvPr id="145" name=""/>
              <p:cNvSpPr/>
              <p:nvPr/>
            </p:nvSpPr>
            <p:spPr>
              <a:xfrm>
                <a:off x="2035800" y="12942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8309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326280" y="137052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31560" y="449460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2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286000" y="1828800"/>
                <a:ext cx="4267080" cy="3048120"/>
                <a:chOff x="2286000" y="1828800"/>
                <a:chExt cx="4267080" cy="304812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419112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2860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400800" y="182880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2860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2860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419112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4114800" y="4648320"/>
                  <a:ext cx="152280" cy="15228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400800" y="31240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6400800" y="4724280"/>
                  <a:ext cx="152280" cy="152640"/>
                </a:xfrm>
                <a:prstGeom prst="octagon">
                  <a:avLst>
                    <a:gd name="adj" fmla="val 29287"/>
                  </a:avLst>
                </a:prstGeom>
                <a:solidFill>
                  <a:srgbClr val="0099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9" name=""/>
            <p:cNvGrpSpPr/>
            <p:nvPr/>
          </p:nvGrpSpPr>
          <p:grpSpPr>
            <a:xfrm>
              <a:off x="2362320" y="1905120"/>
              <a:ext cx="4114800" cy="2895480"/>
              <a:chOff x="2362320" y="1905120"/>
              <a:chExt cx="4114800" cy="2895480"/>
            </a:xfrm>
          </p:grpSpPr>
          <p:sp>
            <p:nvSpPr>
              <p:cNvPr id="160" name=""/>
              <p:cNvSpPr/>
              <p:nvPr/>
            </p:nvSpPr>
            <p:spPr>
              <a:xfrm>
                <a:off x="2666880" y="190512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495680" y="1905120"/>
                <a:ext cx="1752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362320" y="20574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2362320" y="342900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2514600" y="4800600"/>
                <a:ext cx="144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419720" y="4800600"/>
                <a:ext cx="182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47712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477120" y="3352680"/>
                <a:ext cx="0" cy="129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2438280" y="2870280"/>
                <a:ext cx="1752840" cy="253800"/>
                <a:chOff x="2438280" y="2870280"/>
                <a:chExt cx="1752840" cy="253800"/>
              </a:xfrm>
            </p:grpSpPr>
            <p:sp>
              <p:nvSpPr>
                <p:cNvPr id="169" name=""/>
                <p:cNvSpPr/>
                <p:nvPr/>
              </p:nvSpPr>
              <p:spPr>
                <a:xfrm flipH="1">
                  <a:off x="2438280" y="3048120"/>
                  <a:ext cx="763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14600" y="287028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514600" y="3276360"/>
                <a:ext cx="1828800" cy="241560"/>
                <a:chOff x="2514600" y="3276360"/>
                <a:chExt cx="1828800" cy="2415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514600" y="3276720"/>
                  <a:ext cx="167652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4191120" y="3276360"/>
                  <a:ext cx="15228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419720" y="3276360"/>
                <a:ext cx="1828800" cy="241560"/>
                <a:chOff x="4419720" y="3276360"/>
                <a:chExt cx="1828800" cy="2415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419720" y="3276720"/>
                  <a:ext cx="1676160" cy="241200"/>
                </a:xfrm>
                <a:custGeom>
                  <a:avLst/>
                  <a:gdLst/>
                  <a:ahLst/>
                  <a:rect l="l" t="t" r="r" b="b"/>
                  <a:pathLst>
                    <a:path w="1056" h="152">
                      <a:moveTo>
                        <a:pt x="0" y="0"/>
                      </a:moveTo>
                      <a:cubicBezTo>
                        <a:pt x="72" y="36"/>
                        <a:pt x="144" y="72"/>
                        <a:pt x="240" y="96"/>
                      </a:cubicBezTo>
                      <a:cubicBezTo>
                        <a:pt x="336" y="120"/>
                        <a:pt x="440" y="152"/>
                        <a:pt x="576" y="144"/>
                      </a:cubicBezTo>
                      <a:cubicBezTo>
                        <a:pt x="712" y="136"/>
                        <a:pt x="984" y="40"/>
                        <a:pt x="1056" y="4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 flipV="1">
                  <a:off x="6095880" y="3276360"/>
                  <a:ext cx="1526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419360" y="2819520"/>
                <a:ext cx="1752840" cy="253800"/>
                <a:chOff x="4419360" y="2819520"/>
                <a:chExt cx="1752840" cy="2538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>
                  <a:off x="4419360" y="2997360"/>
                  <a:ext cx="7596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495680" y="2819520"/>
                  <a:ext cx="1676520" cy="253800"/>
                </a:xfrm>
                <a:custGeom>
                  <a:avLst/>
                  <a:gdLst/>
                  <a:ahLst/>
                  <a:rect l="l" t="t" r="r" b="b"/>
                  <a:pathLst>
                    <a:path w="1056" h="160">
                      <a:moveTo>
                        <a:pt x="0" y="112"/>
                      </a:moveTo>
                      <a:cubicBezTo>
                        <a:pt x="72" y="96"/>
                        <a:pt x="144" y="80"/>
                        <a:pt x="240" y="64"/>
                      </a:cubicBezTo>
                      <a:cubicBezTo>
                        <a:pt x="336" y="48"/>
                        <a:pt x="440" y="0"/>
                        <a:pt x="576" y="16"/>
                      </a:cubicBezTo>
                      <a:cubicBezTo>
                        <a:pt x="712" y="32"/>
                        <a:pt x="884" y="96"/>
                        <a:pt x="1056" y="1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0" name=""/>
              <p:cNvSpPr/>
              <p:nvPr/>
            </p:nvSpPr>
            <p:spPr>
              <a:xfrm flipV="1">
                <a:off x="4267080" y="2133720"/>
                <a:ext cx="0" cy="9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4267080" y="342864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9664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4274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840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2920" y="35049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06600" y="47239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12840" y="3809520"/>
            <a:ext cx="38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264200" y="6095880"/>
                <a:ext cx="99360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89284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5791320" y="5715000"/>
                <a:ext cx="121896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531200" y="5257800"/>
                <a:ext cx="9698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b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467480" y="5638680"/>
                <a:ext cx="1219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Taller 9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43000" y="1066680"/>
            <a:ext cx="7772400" cy="502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99cc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gunta 1:</a:t>
            </a: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cuentre el equilibrio o el óptimo del sistema para la red  mostrada en la figura anterior, usando el método de asignación incremental, con N=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os incrementos a utilizar pueden ser constantes, es decir, iguales para todas las iteraciones, mayores al principio y menores al final, o viceversa. La elección de una estrategia para definir los incrementos es libre. Se premiará con puntaje adicional al grupo que logre mejor precis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uego de realizada la asignación, verifique la precisión obtenida comparando los costos o costos marginales por ruta según corresponda. Comente. Calcule los costos to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2340000" y="1781280"/>
                <a:ext cx="206532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2268360" y="2565360"/>
                <a:ext cx="22989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268360" y="3500280"/>
                <a:ext cx="1979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268360" y="45086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284560" y="5445000"/>
                <a:ext cx="2000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5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122880" y="1779480"/>
                <a:ext cx="219420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6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6122880" y="2571840"/>
                <a:ext cx="19796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7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124680" y="3436920"/>
                <a:ext cx="2192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6141960" y="4437000"/>
                <a:ext cx="19591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9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6084720" y="5373720"/>
                <a:ext cx="229896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258920" y="692280"/>
            <a:ext cx="66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Funciones de Costo de los arcos presentes en el problema s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03280" y="198288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03280" y="284652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05080" y="3716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405080" y="4724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405080" y="56545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30920" y="1982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30920" y="27748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32360" y="3649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32360" y="46576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9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932360" y="5587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0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3084480" y="844560"/>
                <a:ext cx="20638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1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3071880" y="1628640"/>
                <a:ext cx="21081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2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051000" y="2492280"/>
                <a:ext cx="238608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3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062160" y="3500280"/>
                <a:ext cx="22147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1763640" y="1052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18446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65440" y="2719440"/>
            <a:ext cx="10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765440" y="3727440"/>
            <a:ext cx="122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o 1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14:12:32Z</dcterms:created>
  <dc:creator>F M</dc:creator>
  <dc:description/>
  <dc:language>en-US</dc:language>
  <cp:lastModifiedBy>Marcela Munizaga</cp:lastModifiedBy>
  <dcterms:modified xsi:type="dcterms:W3CDTF">2003-10-17T13:57:50Z</dcterms:modified>
  <cp:revision>30</cp:revision>
  <dc:subject/>
  <dc:title>CI 43A Análisis de Sistemas de Transporte </dc:title>
</cp:coreProperties>
</file>