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C19-5ADB-4BF0-8CCA-A57B352E9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38E-D0EC-4B10-8E57-43821911A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AC87-1992-4648-A7C3-60A18244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E9B-3A6A-4F6D-8853-92CD91094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A5F12-193A-47AE-9001-E5C924762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20EFB-A000-4C02-B21E-60C4D2D75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0EBD3-981A-4EBD-90EF-E6379E46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5813-A48E-4D53-B449-EF1C205A3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6A82C-57C6-41C7-B54D-E9EBD0323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7F099-6B38-43C6-8F5D-984F08B9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C6DFA-0F7E-4D3B-ACA4-669B7AAA9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B6A4-8140-4E47-9CB2-5D7C7DD1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00DEF-7C1C-4FCF-A6A8-7539E0F44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F019-338D-4722-8B00-1F9EA78A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82D78-760F-4D81-B10B-9C9A2BCA3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0C9B2-5832-49A9-8705-7635CECAF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C5FB2-533F-4AE2-A6DD-044382D7E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A3D0-9877-4EC1-AFCC-7DC970EB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83A7-EAA9-4829-BBBF-A73064FD7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330-208B-4E43-A904-2331C9C5E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FF26-06E3-4CAA-9D77-B8E09493C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FD0D-5027-4CBD-B2C2-29BBCF3E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054E-820F-46A1-B46F-8AB8B3B9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A0AC-CAF6-4604-AA1F-4BE9B926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1BB4-A9CD-4B99-9C83-62955254A3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A434-1803-4629-A242-C1A66C5EC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5400" spc="-1" strike="noStrike">
                <a:solidFill>
                  <a:srgbClr val="003366"/>
                </a:solidFill>
                <a:latin typeface="Times New Roman"/>
              </a:rPr>
              <a:t>Taller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i43a@chil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CI43A Taller  I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l Sistema de Transporte Urba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upos de 2 a 5 person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510552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3366"/>
                </a:solidFill>
                <a:latin typeface="Times New Roman"/>
              </a:rPr>
              <a:t>Tarea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324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) Identificar 10 intervenciones sobre el Sist. de Actividades y sobre el Sist. de Transporte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15 mi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2) Navegar en la web revisando un proyecto o estudio por grupo. Enviar resumen a Coord. Tall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40 min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) Reportar a la sala (3 min por grupo).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CL" sz="2800" spc="-1" strike="noStrike">
                <a:solidFill>
                  <a:srgbClr val="000000"/>
                </a:solidFill>
                <a:latin typeface="Arial"/>
              </a:rPr>
              <a:t>30 min.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Tarea 1: Intervenciones identificada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143000" y="1793880"/>
          <a:ext cx="7211880" cy="45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93880"/>
                    <a:ext cx="721188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Times New Roman"/>
              </a:rPr>
              <a:t>Tarea 2: Contenido de Resumen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ombre, Ciudad y País del Proye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didas a Implemen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ón de Medidas Ya Implement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3366"/>
                </a:solidFill>
                <a:latin typeface="Times New Roman"/>
              </a:rPr>
              <a:t>Tarea 2: Links a proyectos de sistemas de transporte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2133720"/>
            <a:ext cx="6278400" cy="3400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ogotá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transmilenio.gov.co/index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oleys Quito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tramz.com/ec/q/00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Licitación: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publicpurpose.com/pp-ctut.htm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rificación vial Londres: </a:t>
            </a:r>
            <a:r>
              <a:rPr b="0" lang="es-ES_tradn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cclondon.com</a:t>
            </a:r>
            <a:r>
              <a:rPr b="0" lang="es-ES_tradnl" sz="2400" spc="-1" strike="noStrike">
                <a:solidFill>
                  <a:srgbClr val="99ccff"/>
                </a:solidFill>
                <a:latin typeface="Times New Roman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es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www.fta.dot.gov/brt/issues/pt3.html</a:t>
            </a:r>
            <a:br>
              <a:rPr sz="2400"/>
            </a:b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TUS: </a:t>
            </a:r>
            <a:r>
              <a:rPr b="0" lang="es-CL" sz="2400" spc="-1" strike="noStrike" u="sng">
                <a:solidFill>
                  <a:srgbClr val="99ccff"/>
                </a:solidFill>
                <a:uFillTx/>
                <a:latin typeface="Times New Roman"/>
              </a:rPr>
              <a:t>http://www.transantiago.c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8T21:18:51Z</dcterms:created>
  <dc:creator>F M</dc:creator>
  <dc:description/>
  <dc:language>en-US</dc:language>
  <cp:lastModifiedBy>Marcela Munizaga</cp:lastModifiedBy>
  <dcterms:modified xsi:type="dcterms:W3CDTF">2003-08-01T15:48:53Z</dcterms:modified>
  <cp:revision>12</cp:revision>
  <dc:subject/>
  <dc:title>Taller  I</dc:title>
</cp:coreProperties>
</file>