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E27-9BC3-47BC-B550-2E2A2C82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F3C-D676-4955-ABBB-05330A2D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CEF-9989-4C45-9328-C22CA84B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D0D-2682-4F73-83F8-40ED565D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A34E-A9C4-4D20-89D9-D68D92EA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5BFF-A038-4E6B-A2F3-5E78C5AA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8709-9773-4FD8-8D3F-831A502D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D3AC-2B9F-423E-B903-AD5863E6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2428-CD5B-46EF-AD82-6E2DB641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2E78-798C-49AA-9C08-F83CE4A7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6B59-C95D-424B-AC85-BAFC839D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7DA-C957-4903-B3CF-25DA1E8A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F18F-BF9A-40CE-A6E8-4D05C121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E777-BBE0-4A84-AD27-716574BF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0AA4-7D54-404F-A175-4A4AADEC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F63B-514B-4D35-896B-6266AA18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730F-1D8B-449A-B819-61CCCF8F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A25-2C10-44EE-9710-C55367DB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F79-6044-4FFE-92F6-688C7874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4AA-039C-4E52-98B3-39EB8B00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B2A-14F0-4410-BAE8-2698099B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ECC-1203-4439-B05D-75D28719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2E5-212B-42C0-9037-E0FB2D3C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8E2-6112-4DF9-BEB2-98E20EE7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249C-C63A-44C9-A176-AAFA1AB3C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6BDA-BE15-4C07-BDC3-31DDC4107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Tall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i43a@chi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upos de 2 a 5 pers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15 mi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 Coord. Tal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40 min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) Reportar a la sala (3 min por grupo)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30 min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Tarea 2: Links a proyectos de sistemas de transpo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133720"/>
            <a:ext cx="6278400" cy="34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ogotá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transmilenio.gov.co/index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oleys Quito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tramz.com/ec/q/00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publicpurpose.com/pp-ctut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rificación vial Londres: </a:t>
            </a:r>
            <a:r>
              <a:rPr b="0" lang="es-ES_tradn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cclondon.com</a:t>
            </a:r>
            <a:r>
              <a:rPr b="0" lang="es-ES_tradnl" sz="2400" spc="-1" strike="noStrike">
                <a:solidFill>
                  <a:srgbClr val="99ccff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es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fta.dot.gov/brt/issues/pt3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TUS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http://www.transantiago.c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Marcela Munizaga</cp:lastModifiedBy>
  <dcterms:modified xsi:type="dcterms:W3CDTF">2003-08-01T15:48:53Z</dcterms:modified>
  <cp:revision>12</cp:revision>
  <dc:subject/>
  <dc:title>Taller  I</dc:title>
</cp:coreProperties>
</file>