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7E3-CF75-4751-B39D-62E61A51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8BD-3904-4710-821A-C3DCAFE7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331-5907-40B0-A368-580E2C9C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852-E319-4E99-A0FA-672DCD8B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9AC4-18DE-4C76-9BD5-79755DD7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51D5-100C-4FC8-9675-F37EABF4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A88E-13E9-40EF-8AAB-C2C3873E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9B1-A8BF-4203-B9F8-842232FA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6F75-96B6-4C01-B040-9B8AAD0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B427-1A6B-438A-9FF3-2E3BA7B9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3AE7-6DFE-4FC2-954B-81BEB3D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F89-210C-45B9-8791-B448E36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524-60D1-42CB-88D9-A27A3AD1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0A5D-F42E-4399-A9C7-93C117A4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B801-81B8-438B-934A-4230567A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65EC-69EE-4321-862E-2FCD3FE3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03F5-8047-4C07-9664-809FDF1B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B67-330E-4009-B4A7-23482E9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310-A814-4055-9925-C4869DE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7F5-035E-45F0-99E7-682DD319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CF6-2952-4B23-BA47-843292C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415-B836-4DA5-BCB3-E7A8182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052-C621-421B-889A-A9F7107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B8B-B183-49F2-8CCE-F7DDF86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0A55-B87F-40C6-B6F7-5B0DA512D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42F7-2EB9-4563-BED4-9BF38B3A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Tall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upos de 2 a 5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15 mi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40 mi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) Reportar a la sala (3 min por grupo)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30 min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133720"/>
            <a:ext cx="6278400" cy="34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transmilenio.gov.co/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tramz.com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publicpurpose.com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e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fta.dot.gov/brt/issues/pt3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http://www.transantiago.c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3-08-01T15:48:53Z</dcterms:modified>
  <cp:revision>12</cp:revision>
  <dc:subject/>
  <dc:title>Taller  I</dc:title>
</cp:coreProperties>
</file>