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18CFC-074C-4CF2-84B3-39D18337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F8D5D-732F-44E0-A347-B6527DFF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5109-CC4A-4AC2-8100-CD51F4C8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3DBA4-418E-48E6-9EE1-88F0A2D0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31AA-4866-48C3-AEB0-DF382108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0D16-DA0F-490C-837F-58F37539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41B1-DF82-44FA-B3FA-C48A387B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67C3-DC4E-467E-810C-7B3DEF1C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0106-E61D-434B-BA3E-B86AC953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639D-3797-45E6-B40B-35EFB2FB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F7E7-7760-441F-8189-893290E0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20FAF-D3EE-4B33-80DA-0D465514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5CC4-800C-41CB-90F3-1D5609FF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2A88-E757-4D44-8929-6BE433DA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D7EC-B107-4015-AD49-31352D16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FC61-7DB4-436D-A84E-A898AF44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8F5D-258F-4214-90FD-F2785211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D221-933A-4B8F-B9B3-F762AAC1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02E37-296F-41A0-B231-907BF130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A208-D9EC-4261-AF36-BB5F3642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C903-46C5-4120-87B1-0378A91B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DB3FC-14C8-4BCE-B14B-DC25AC67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EC634-F168-4EF0-8636-E61362DE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BBDE1-C39B-4522-8D75-3ECCFAA0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8090-583C-4F7E-A4BC-181182F0F32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8D8D-A052-4FD9-AD4F-6D815A883E63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BABA-1E35-4516-AEA1-C31FE8B42B69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8401-137D-4DCA-A40D-6724168D1F8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oftkoan.virtualave.net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5120" y="2666880"/>
            <a:ext cx="5410080" cy="1600200"/>
          </a:xfrm>
          <a:prstGeom prst="rect">
            <a:avLst/>
          </a:prstGeom>
          <a:noFill/>
          <a:ln w="64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rebuchet MS"/>
              </a:rPr>
              <a:t>Procesos de Gestión: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Trebuchet MS"/>
              </a:rPr>
              <a:t>Planificación de proyectos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Trebuchet MS"/>
              </a:rPr>
              <a:t>Seguimiento y control de proyecto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rebuchet MS"/>
              </a:rPr>
              <a:t>CC31B: Desarrollo de Software de Aplicación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rebuchet MS"/>
              </a:rPr>
              <a:t>Profesor: Agustín Villena M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DF3802E-1728-45AE-8028-64EC10281ACF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2800"/>
            </a:b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Recolección de Riesgo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Identificar riesgos que puedan amenaza al proye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junto de requerimi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Observación directa del desarrollo del proy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Produce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istado de riesgos y sus cau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34961D-9463-48C8-A4D5-CB24E3C5C6BD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3200"/>
            </a:b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Análisis de Riesgo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Determin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probabilidad de que un riesgo se concretic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impacto posible dentro del proy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istado de riesgos y sus cau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Produ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edidas de conting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488FC8-FD47-425F-ADC6-D434F851636E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3200"/>
            </a:b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Medición de Actividade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: Evaluar continuament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Tiempo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utilizado en la ejecución de activ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Nivel de avance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de cada activ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Problemas detectado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n la ejecución de las activ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Requi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lan de Desarrollo del Proy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portes de avance de los miembros del equ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Resul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troalimentación para la planific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E2790B-E930-48B4-B08D-E4647F15EBC7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Herramientas para los procesos de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Planificación, Seguimiento y Contro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05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Verdana"/>
              </a:rPr>
              <a:t>Seguimiento y Contro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Planilla de Reporte de Estado de Proye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Planilla de Reporte de Utilización de Hor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Verdana"/>
              </a:rPr>
              <a:t>Estimación</a:t>
            </a: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Puntos de Casos de U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440400" y="4267080"/>
            <a:ext cx="1697040" cy="148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BDE916-26C1-4FA5-B49B-6B2C0EFCE9D1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Herramientas para…</a:t>
            </a:r>
            <a:br>
              <a:rPr sz="36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Reporte de Estado de Proyect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648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Orientado a llevar un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control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del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comienz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fin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avance real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avance esperado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e cada una de las actividades del proy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95640" y="3357720"/>
            <a:ext cx="6408720" cy="23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56D9F3-AF12-45FC-917C-D565C661F2C4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Herramientas para…</a:t>
            </a:r>
            <a:br>
              <a:rPr sz="36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Reporte de Riesgo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648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Orientado a llevar un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ontrol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del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los problemas y riesgos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que enfrenta el equipo, ayudando a definir medidas de contingencia que minimicen el impac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95280" y="3213000"/>
          <a:ext cx="8280360" cy="222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213000"/>
                    <a:ext cx="828036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C4F2FE-4C61-4DD9-8D85-C0E127A5AB98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Software Project Planner and Controller </a:t>
            </a:r>
            <a:r>
              <a:rPr b="0" lang="es-CL" sz="2400" spc="-1" strike="noStrike" u="sng">
                <a:solidFill>
                  <a:srgbClr val="663300"/>
                </a:solidFill>
                <a:uFillTx/>
                <a:latin typeface="Verdana"/>
                <a:hlinkClick r:id="rId1"/>
              </a:rPr>
              <a:t>http://softkoan.virtualave.net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Unified Software Development Process,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Jacobson et al. (El Libro de Iv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8B0F9D-6CD1-4E79-A309-C42C2186EE83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Agenda de hoy..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Para qué gestion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unas defin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tapas de los procesos de Planificación, Seguimiento y Control de un proy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rramientas para los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guimiento y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porte de Estado del 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porte de Utilización de H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i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untos de Caso de U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ferenc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sul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877915-BC72-4F18-8799-0DF54678E29A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¿Para qué Gestionar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n general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stablecer u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ivel mínim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isciplin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 todas la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vidades de desarrol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n lo específico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riquecer la comunicación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entre los miembros de un equipo de trabajo y el resto del mun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troalimenta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adecuadamente todas las actividades en ejecu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AD2F65-8E27-4B1C-B6A3-140C4EC18E0F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Algunas definiciones</a:t>
            </a:r>
            <a:br>
              <a:rPr sz="36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Planificació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lanific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regular un proceso productiv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conforme a un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pla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determin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una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organización de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actividades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iv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un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junto de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area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un</a:t>
            </a:r>
            <a:r>
              <a:rPr b="0" lang="es-ES_tradnl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rabaj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a realizar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un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iemp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determin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E4BC46-38FC-4476-8586-5995C79F25BE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rebuchet MS"/>
              </a:rPr>
              <a:t>Algunas definiciones</a:t>
            </a:r>
            <a:br>
              <a:rPr sz="3600"/>
            </a:b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Seguimiento y control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n las acciones orientadas 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copilar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ntrastar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formación sobre los avances del proyecto, con el objetivo 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veer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isibilidad adecuada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 todas la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ersonas involucrad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el proyecto acerca del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sto de actividade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que se estén desarrollan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troalimenta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la planificación origin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AE3708-C241-4237-9944-DD1F5A261F90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rebuchet MS"/>
              </a:rPr>
              <a:t>Etapas de los procesos de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rebuchet MS"/>
              </a:rPr>
              <a:t>Planificación, Seguimiento y Control de un proyect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1447920"/>
            <a:ext cx="6172200" cy="304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ahoma"/>
              </a:rPr>
              <a:t>Planificación 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1828800"/>
            <a:ext cx="6172200" cy="520200"/>
          </a:xfrm>
          <a:prstGeom prst="rect">
            <a:avLst/>
          </a:prstGeom>
          <a:solidFill>
            <a:srgbClr val="ffffcc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[</a:t>
            </a:r>
            <a:r>
              <a:rPr b="1" lang="es-ES_tradnl" sz="1400" spc="-1" strike="noStrike">
                <a:solidFill>
                  <a:srgbClr val="996633"/>
                </a:solidFill>
                <a:latin typeface="Tahoma"/>
              </a:rPr>
              <a:t>Jefe Proyecto</a:t>
            </a: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] Establecer y mantener planes adecuados y alcanzables para el desarrollo del proyec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95800" y="2795760"/>
            <a:ext cx="282600" cy="1951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70240" y="3467160"/>
            <a:ext cx="663840" cy="7160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41680" y="2778120"/>
            <a:ext cx="1366920" cy="6508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971800"/>
            <a:ext cx="1278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Determinación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276720"/>
            <a:ext cx="1413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Tamaño/Esfuerzo de Requer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033800" y="3497040"/>
            <a:ext cx="714240" cy="7794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1120" y="2784600"/>
            <a:ext cx="1366920" cy="6490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54840" y="2927520"/>
            <a:ext cx="12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Análisis de tamaño/esfuer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99360" y="5283360"/>
            <a:ext cx="1368360" cy="650880"/>
          </a:xfrm>
          <a:prstGeom prst="ellipse">
            <a:avLst/>
          </a:prstGeom>
          <a:solidFill>
            <a:srgbClr val="ffff99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62720" y="5425920"/>
            <a:ext cx="127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Arial"/>
              </a:rPr>
              <a:t>Medición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887640"/>
            <a:ext cx="1366920" cy="649440"/>
          </a:xfrm>
          <a:prstGeom prst="ellipse">
            <a:avLst/>
          </a:prstGeom>
          <a:solidFill>
            <a:srgbClr val="ffff99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4800" y="4030560"/>
            <a:ext cx="12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Arial"/>
              </a:rPr>
              <a:t>Análisi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Arial"/>
              </a:rPr>
              <a:t>ries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99160" y="3979800"/>
            <a:ext cx="1366560" cy="6494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4038480"/>
            <a:ext cx="1277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Construc./ Corrección de Plan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13240" y="5270400"/>
            <a:ext cx="1366560" cy="649440"/>
          </a:xfrm>
          <a:prstGeom prst="ellipse">
            <a:avLst/>
          </a:prstGeom>
          <a:solidFill>
            <a:srgbClr val="ffff99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76600" y="5413320"/>
            <a:ext cx="12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Arial"/>
              </a:rPr>
              <a:t>Recolección de ries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21200" y="2733840"/>
            <a:ext cx="282600" cy="1965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940280" y="3055680"/>
            <a:ext cx="996840" cy="111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6880" y="2840040"/>
            <a:ext cx="7970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57560" y="3176640"/>
            <a:ext cx="95724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3886200"/>
            <a:ext cx="9126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Incomplet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3809880"/>
            <a:ext cx="796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03720" y="3462480"/>
            <a:ext cx="447480" cy="5983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45280" y="3672000"/>
            <a:ext cx="1222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Tamaño/Esfuerzo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32080" y="5405400"/>
            <a:ext cx="284400" cy="1969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75280" y="4614840"/>
            <a:ext cx="665280" cy="71748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838840" y="4646160"/>
            <a:ext cx="714240" cy="7779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952880"/>
            <a:ext cx="698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Lap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ocup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53200" y="4786200"/>
            <a:ext cx="12142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Calendar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946760" y="5624640"/>
            <a:ext cx="1366560" cy="14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9800" y="5686560"/>
            <a:ext cx="15195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Lapsos ocupados, problemas detec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006720" y="4532040"/>
            <a:ext cx="714240" cy="7794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4876920"/>
            <a:ext cx="774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Riesgos detec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57560" y="3336840"/>
            <a:ext cx="554040" cy="6192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352680"/>
            <a:ext cx="900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Medidas de conting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637400" y="2525400"/>
            <a:ext cx="1800" cy="2825640"/>
          </a:xfrm>
          <a:prstGeom prst="line">
            <a:avLst/>
          </a:prstGeom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332240" y="2514600"/>
            <a:ext cx="3306960" cy="12600"/>
          </a:xfrm>
          <a:prstGeom prst="line">
            <a:avLst/>
          </a:prstGeom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169880" y="2530440"/>
            <a:ext cx="157320" cy="2304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3886200"/>
            <a:ext cx="77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Problemas detec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7661E3-63B3-4D28-9589-9B52D496EB21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28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Determinación de actividad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Identificar y describir todas las actividades requeridas para realizar el proye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junto de requerimi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troalimentación obten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nformación de Planificaciones anteri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5F76A6-1D2B-4F6C-8837-288662454437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28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Análisis de tamaño-esfuerz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Estimar el tamaño-esfuerzo necesario para completar cada una de las actividades planifica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junto de requerimi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istado de activ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E9632B-2504-400A-B1B2-99304F67174E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4000"/>
            </a:br>
            <a:r>
              <a:rPr b="0" lang="es-CL" sz="3200" spc="-1" strike="noStrike">
                <a:solidFill>
                  <a:srgbClr val="000000"/>
                </a:solidFill>
                <a:latin typeface="Trebuchet MS"/>
              </a:rPr>
              <a:t>Construcción/Corrección de la Planificació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Secuenciar lógicamente las actividades según precedencia y urg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ctividades con tiempos estim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efinición de medidas de conting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Produ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lan de Desarrollo de Proyecto (P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AF163A-F750-4C94-B1BF-FB80E39BCCAA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17:49:48Z</dcterms:created>
  <dc:creator>Verónica Achá Alvarez</dc:creator>
  <dc:description/>
  <dc:language>en-US</dc:language>
  <cp:lastModifiedBy>cucho</cp:lastModifiedBy>
  <cp:lastPrinted>2002-03-07T17:47:26Z</cp:lastPrinted>
  <dcterms:modified xsi:type="dcterms:W3CDTF">2003-10-22T01:21:49Z</dcterms:modified>
  <cp:revision>36</cp:revision>
  <dc:subject/>
  <dc:title>Quadratto: Investigación, Enseñanza, Aplicación y Transferencia en Ingeniería de Software</dc:title>
</cp:coreProperties>
</file>