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B872-7471-422A-887E-F4496A62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37B6-CE0B-4F6A-894B-7BCFC375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5BAA-27E8-4CC0-AF1F-C2AD79DD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EAC0-C229-46FC-8F9B-99CE385C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D372-9C11-4B69-857C-C5E33CAE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534B-F314-46F5-84A4-FD3332D7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ACF8-9A3A-4BA7-A49A-BDF6D82C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9D90-AF18-4596-A90E-160851ED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04CE-C3BF-4453-8E9B-A6B0F2FD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B5CE-DAEC-425A-910C-8A62E787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4332-D2F4-4E20-AB97-F8660EF0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9E8E-0275-4B2A-8D9D-37B60053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FF45-4027-436D-BC00-46FE7ABD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C212-CF9D-4E72-8AF3-31019C72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CD95-00C1-4BD9-922A-077FFC9A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5230-42B7-41AD-AF12-943BAC2E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5C6E-65C4-4834-8D23-F60842DD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C7A5B-EF88-4657-BA19-E02C46AF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A059-CA38-4224-A9A2-E91EE751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940BB-4DC6-449F-89B0-888599CE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AA95-14A8-4469-82BC-AE934D01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25003-0BFC-442A-89BC-BB138273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437B-F88B-4853-B763-207A84F3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94AD8-8A0C-4F9A-AA0F-947090A9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6FC1-717C-4ACE-A0BE-A3E9B9B280B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DA06-CE8E-4BB4-85AF-598575A85888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AB67-4EE6-4E5A-8125-03C6D12377FB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81E6-78C5-4961-B61B-6DB3FCB7890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oftkoan.virtualave.net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5120" y="2666880"/>
            <a:ext cx="5410080" cy="1600200"/>
          </a:xfrm>
          <a:prstGeom prst="rect">
            <a:avLst/>
          </a:prstGeom>
          <a:noFill/>
          <a:ln w="64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rebuchet MS"/>
              </a:rPr>
              <a:t>Procesos de Gestión: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Trebuchet MS"/>
              </a:rPr>
              <a:t>Planificación de proyectos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Trebuchet MS"/>
              </a:rPr>
              <a:t>Seguimiento y control de proyecto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rebuchet MS"/>
              </a:rPr>
              <a:t>CC31B: Desarrollo de Software de Aplicación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rebuchet MS"/>
              </a:rPr>
              <a:t>Profesor: Agustín Villena M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45C79AB-E503-4E4D-AC29-78E024C6E48E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2800"/>
            </a:b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Recolección de Riesgo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Identificar riesgos que puedan amenaza al 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junto de requerimi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Observación directa del desarrollo del proy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Produce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istado de riesgos y sus cau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4329FD-019A-4B0C-843E-D03959386ADA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3200"/>
            </a:b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Análisis de Riesgo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Determin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probabilidad de que un riesgo se concretic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impacto posible dentro del proy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istado de riesgos y sus cau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Produ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edidas de conting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BDE266-4BA3-45E8-A0A3-1B97A61DB9B3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3200"/>
            </a:b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Medición de Actividade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: Evaluar continuamen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Tiempo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utilizado en la ejecución de activ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Nivel de avance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de cada activ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Problemas detectado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n la ejecución de las activ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Requi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lan de Desarrollo del Proy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portes de avance de los miembros del equ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Resul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troalimentación para la planifi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D6B96A-0075-4301-BC3E-3887E6211823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Herramientas para los procesos de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Planificación, Seguimiento y Contro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05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Verdana"/>
              </a:rPr>
              <a:t>Seguimiento y Contro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Planilla de Reporte de Estado de Proye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Planilla de Reporte de Utilización de Hor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Verdana"/>
              </a:rPr>
              <a:t>Estimación</a:t>
            </a: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Puntos de Casos de U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440400" y="4267080"/>
            <a:ext cx="1697040" cy="148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850ABA-A1D3-46CC-835C-07D45BC921B4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Herramientas para…</a:t>
            </a:r>
            <a:br>
              <a:rPr sz="36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Reporte de Estado de Proyect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48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Orientado a llevar un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control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del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comienz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fin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avance real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avance esperado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e cada una de las actividades del proy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95640" y="3357720"/>
            <a:ext cx="6408720" cy="23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8E3321-0158-421E-8A91-83AE5DEBC6FD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Herramientas para…</a:t>
            </a:r>
            <a:br>
              <a:rPr sz="36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Reporte de Riesgo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48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Orientado a llevar un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ontrol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del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los problemas y riesgos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que enfrenta el equipo, ayudando a definir medidas de contingencia que minimicen el impac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95280" y="3213000"/>
          <a:ext cx="8280360" cy="222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213000"/>
                    <a:ext cx="828036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5636C8-11CB-4672-927C-1F5C55C550C0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Software Project Planner and Controller </a:t>
            </a:r>
            <a:r>
              <a:rPr b="0" lang="es-CL" sz="2400" spc="-1" strike="noStrike" u="sng">
                <a:solidFill>
                  <a:srgbClr val="663300"/>
                </a:solidFill>
                <a:uFillTx/>
                <a:latin typeface="Verdana"/>
                <a:hlinkClick r:id="rId1"/>
              </a:rPr>
              <a:t>http://softkoan.virtualave.net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Unified Software Development Process,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Jacobson et al. (El Libro de Iv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26C3B2-5588-4B5F-A861-BAD320CD4A3F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Agenda de hoy..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Para qué gestion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unas defin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tapas de los procesos de Planificación, Seguimiento y Control de un proy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rramientas para los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guimiento y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porte de Estado del 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porte de Utilización de H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i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untos de Caso de U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ferenc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sul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8FB95D-6703-420E-A75A-DE4CCD80A7E5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¿Para qué Gestionar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n general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stablecer u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ivel mínim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isciplin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 todas la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vidades de desarrol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n lo específico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riquecer la comunicació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entre los miembros de un equipo de trabajo y el resto del mun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troalimenta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adecuadamente todas las actividades en ejecu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BB47AF-6D82-454B-8AFF-6A9320428F9D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Algunas definiciones</a:t>
            </a:r>
            <a:br>
              <a:rPr sz="36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Planificació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nific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egular un proceso productiv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conforme a un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pla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determin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una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organización de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actividades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iv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un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junto de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area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un</a:t>
            </a:r>
            <a:r>
              <a:rPr b="0" lang="es-ES_tradnl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rabaj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a realizar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un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iemp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determin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733E46-D1E8-4C94-9481-9E154BA71931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rebuchet MS"/>
              </a:rPr>
              <a:t>Algunas definiciones</a:t>
            </a:r>
            <a:br>
              <a:rPr sz="3600"/>
            </a:b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Seguimiento y control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n las acciones orientadas 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copilar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trastar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formación sobre los avances del proyecto, con el objetivo 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veer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isibilidad adecuada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 todas la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ersonas involucrad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el proyecto acerca del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sto de actividade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que se estén desarrollan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troalimenta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la planificación origin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0D2709-D222-46C0-897B-1B90F48AE3FD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rebuchet MS"/>
              </a:rPr>
              <a:t>Etapas de los procesos de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rebuchet MS"/>
              </a:rPr>
              <a:t>Planificación, Seguimiento y Control de un proyec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1447920"/>
            <a:ext cx="6172200" cy="304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Planificación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182880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Jefe Proyecto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Establecer y mantener planes adecuados y alcanzables para el desarrollo del proyec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95800" y="2795760"/>
            <a:ext cx="282600" cy="1951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70240" y="3467160"/>
            <a:ext cx="663840" cy="7160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41680" y="2778120"/>
            <a:ext cx="1366920" cy="6508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971800"/>
            <a:ext cx="1278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Determinación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276720"/>
            <a:ext cx="1413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Tamaño/Esfuerzo de Requer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033800" y="3497040"/>
            <a:ext cx="714240" cy="7794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1120" y="2784600"/>
            <a:ext cx="1366920" cy="6490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54840" y="2927520"/>
            <a:ext cx="12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Análisis de tamaño/esfuer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99360" y="5283360"/>
            <a:ext cx="1368360" cy="650880"/>
          </a:xfrm>
          <a:prstGeom prst="ellipse">
            <a:avLst/>
          </a:prstGeom>
          <a:solidFill>
            <a:srgbClr val="ffff99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62720" y="5425920"/>
            <a:ext cx="127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Arial"/>
              </a:rPr>
              <a:t>Medición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887640"/>
            <a:ext cx="1366920" cy="649440"/>
          </a:xfrm>
          <a:prstGeom prst="ellipse">
            <a:avLst/>
          </a:prstGeom>
          <a:solidFill>
            <a:srgbClr val="ffff99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4800" y="4030560"/>
            <a:ext cx="12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Arial"/>
              </a:rPr>
              <a:t>Análisi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Arial"/>
              </a:rPr>
              <a:t>ries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99160" y="3979800"/>
            <a:ext cx="1366560" cy="6494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4038480"/>
            <a:ext cx="1277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Construc./ Corrección de Plan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13240" y="5270400"/>
            <a:ext cx="1366560" cy="649440"/>
          </a:xfrm>
          <a:prstGeom prst="ellipse">
            <a:avLst/>
          </a:prstGeom>
          <a:solidFill>
            <a:srgbClr val="ffff99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76600" y="5413320"/>
            <a:ext cx="12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Arial"/>
              </a:rPr>
              <a:t>Recolección de ries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21200" y="2733840"/>
            <a:ext cx="282600" cy="1965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940280" y="3055680"/>
            <a:ext cx="996840" cy="111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6880" y="2840040"/>
            <a:ext cx="7970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57560" y="3176640"/>
            <a:ext cx="95724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3886200"/>
            <a:ext cx="9126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Incomplet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3809880"/>
            <a:ext cx="796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03720" y="3462480"/>
            <a:ext cx="447480" cy="5983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45280" y="3672000"/>
            <a:ext cx="1222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Tamaño/Esfuerzo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32080" y="5405400"/>
            <a:ext cx="284400" cy="1969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75280" y="4614840"/>
            <a:ext cx="665280" cy="71748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838840" y="4646160"/>
            <a:ext cx="714240" cy="7779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952880"/>
            <a:ext cx="698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Lap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ocup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53200" y="4786200"/>
            <a:ext cx="12142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Calendar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946760" y="5624640"/>
            <a:ext cx="1366560" cy="14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9800" y="5686560"/>
            <a:ext cx="15195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Lapsos ocupados, problemas detec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006720" y="4532040"/>
            <a:ext cx="714240" cy="7794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4876920"/>
            <a:ext cx="774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Riesgos detec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57560" y="3336840"/>
            <a:ext cx="554040" cy="6192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352680"/>
            <a:ext cx="90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Medidas de conting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637400" y="2525400"/>
            <a:ext cx="1800" cy="2825640"/>
          </a:xfrm>
          <a:prstGeom prst="line">
            <a:avLst/>
          </a:prstGeom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332240" y="2514600"/>
            <a:ext cx="3306960" cy="12600"/>
          </a:xfrm>
          <a:prstGeom prst="line">
            <a:avLst/>
          </a:prstGeom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169880" y="2530440"/>
            <a:ext cx="157320" cy="2304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3886200"/>
            <a:ext cx="77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Problemas detec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CCD27E-B08B-42EF-B53B-44EB2F0BA3B3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28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Determinación de actividad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Identificar y describir todas las actividades requeridas para realizar el 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junto de requerimi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troalimentación obten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nformación de Planificaciones anteri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592964-2964-49B6-92D3-880F2794B829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28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Análisis de tamaño-esfuerz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Estimar el tamaño-esfuerzo necesario para completar cada una de las actividades planifica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junto de requerimi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istado de activ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587353-00F7-44F5-936B-9DDC4449AF9F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4000"/>
            </a:br>
            <a:r>
              <a:rPr b="0" lang="es-CL" sz="3200" spc="-1" strike="noStrike">
                <a:solidFill>
                  <a:srgbClr val="000000"/>
                </a:solidFill>
                <a:latin typeface="Trebuchet MS"/>
              </a:rPr>
              <a:t>Construcción/Corrección de la Planificació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Secuenciar lógicamente las actividades según precedencia y urg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ctividades con tiempos estim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efinición de medidas de conting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Produ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lan de Desarrollo de Proyecto (P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E4512B-C0D9-4D4E-A480-31CEBACF0A8F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17:49:48Z</dcterms:created>
  <dc:creator>Verónica Achá Alvarez</dc:creator>
  <dc:description/>
  <dc:language>en-US</dc:language>
  <cp:lastModifiedBy>cucho</cp:lastModifiedBy>
  <cp:lastPrinted>2002-03-07T17:47:26Z</cp:lastPrinted>
  <dcterms:modified xsi:type="dcterms:W3CDTF">2003-10-22T01:21:49Z</dcterms:modified>
  <cp:revision>36</cp:revision>
  <dc:subject/>
  <dc:title>Quadratto: Investigación, Enseñanza, Aplicación y Transferencia en Ingeniería de Software</dc:title>
</cp:coreProperties>
</file>