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7D20-CB91-4CA2-8DC4-DF2BD5F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4617-5A6D-43D4-96E3-6936E7B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9439-7D7C-471C-B81A-AFDC247F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22A8-22E2-474C-B0C9-4E377983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953-038C-4864-86D1-FD38718F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2F4-2FBA-4E1D-9C3F-DD8B35C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58D3-8281-45F2-82F6-E6A61957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5272-8D4F-4801-A536-3EAFC082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26D1-E546-4F0E-81E3-A3DE097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301-1F84-4CFA-8B9C-681CE3CF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A73A-BA92-421E-803E-D1FF86A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E11F-D8DD-423E-A340-1E12156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E86E-AAC1-40D9-9327-1E5983B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62F-045A-42DC-BF23-C8FA754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C142-1719-4C6B-98F9-D30B598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1054-41DC-4078-920B-E26D5CF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5C11-08BD-4C2A-BBBE-887CF47A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FADF-87E7-41AD-87E2-23E9C55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0EB4-14D6-4862-91E3-AF1F576A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B1BE-61A1-4917-BF0C-154E968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0882-1DD4-453B-BDA2-6DDA451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F70D-5645-4885-90B9-8188349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39C5-B868-4D8A-B320-33FF1F80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AD9E-F778-4102-8F0A-78F4000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0316-4BE2-4A9A-959A-8918C14C9C7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4471-1F59-4C9C-946F-645FBF7C4D65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1F01-4966-48EF-AFFD-F18CBC45DBFD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BD4-D7FB-4254-BB38-EE38195A64E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ftkoan.virtualav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rebuchet MS"/>
              </a:rPr>
              <a:t>Procesos de Gestión: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Planificación de proyecto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Seguimiento y control de proyecto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7C5A23-F139-4589-BB24-0FC1E219B8B8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Recolección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riesgos que puedan amenaza a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bservación directa del desarroll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A57EF-A362-4C34-9954-8E1D9FECD6A3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álisis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Determin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robabilidad de que un riesgo se concre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impacto posible dentr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23BC0B-55D9-4E3A-BA19-8EB591F34780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Medición de Actividad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 Evaluar continu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utilizado en la ejecución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ivel de avanc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 cada a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oblemas detectado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n la ejecución de las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lan de Desarrollo d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portes de avance de los miembros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l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troalimentación para la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E7B854-3F2D-4AAD-BD99-85E4DDDE513B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Herramientas para los procesos de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Planificación, Seguimiento y Contro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Estado de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Utilización de Hor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Estimación</a:t>
            </a: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untos de Casos de U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40400" y="4267080"/>
            <a:ext cx="169704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230AC-4FFB-434A-9126-286B4F5618FC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Estado de Proye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mienz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in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real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esper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 cada una de las actividades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64087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CA25B8-98EF-4F90-8EA0-E15473FD611B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Riesg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problemas y riesg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enfrenta el equipo, ayudando a definir medidas de contingencia que minimicen el impa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3213000"/>
          <a:ext cx="8280360" cy="22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82803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1B2024-8BAB-42FD-995A-1F383634C1A5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oftware Project Planner and Controller </a:t>
            </a:r>
            <a:r>
              <a:rPr b="0" lang="es-CL" sz="24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http://softkoan.virtualav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ified Software Development Process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acobson et al. (El Libro de Iv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40E50D-DC67-4E15-96B6-0088D9105FA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genda de hoy.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Para qué gestion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unas defin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tapas de los procesos de Planificación, Seguimiento y Control de un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rramientas para los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Estad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Utilización de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e Caso de 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u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F39E02-3D26-466A-9707-6E848F2BA29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Para qué Gestionar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general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stablecer u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ivel míni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cipli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vidades de desar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lo específic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riquecer la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entre los miembros de un equipo de trabajo y el resto del mu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adecuadamente todas las actividades en ejec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D34E7-418E-42F4-85CD-8C49032F314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gular un proceso productiv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onforme a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la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rganización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actividades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junto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area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</a:t>
            </a:r>
            <a:r>
              <a:rPr b="0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a realiz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iemp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EE6FAC-BDA1-495D-89BA-954EA790E3C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Seguimiento y contro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las acciones orientadas 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copil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trast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formación sobre los avances del proyecto, con el objetivo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isibilidad adecuada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ersonas involucrad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el proyecto acerca d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sto de 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se estén desarrolla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la planificación origi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3D8894-2D8B-4855-AE78-F732D6DFA99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Etapas de los procesos de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Planificación, Seguimiento y Control de un proyec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447920"/>
            <a:ext cx="6172200" cy="304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Planific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Jefe Proyecto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Establecer y mantener planes adecuados y alcanzables para el desarrollo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2795760"/>
            <a:ext cx="282600" cy="195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70240" y="3467160"/>
            <a:ext cx="663840" cy="7160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41680" y="2778120"/>
            <a:ext cx="1366920" cy="6508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1278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Determina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276720"/>
            <a:ext cx="141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33800" y="3497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1120" y="2784600"/>
            <a:ext cx="1366920" cy="649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54840" y="29275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 tamaño/esfuer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99360" y="5283360"/>
            <a:ext cx="1368360" cy="65088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62720" y="54259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Medi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887640"/>
            <a:ext cx="1366920" cy="649440"/>
          </a:xfrm>
          <a:prstGeom prst="ellipse">
            <a:avLst/>
          </a:prstGeom>
          <a:solidFill>
            <a:srgbClr val="ffff99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4800" y="403056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99160" y="3979800"/>
            <a:ext cx="1366560" cy="6494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038480"/>
            <a:ext cx="12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Construc./ Corrección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3240" y="5270400"/>
            <a:ext cx="1366560" cy="64944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6600" y="54133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ecolección de 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1200" y="2733840"/>
            <a:ext cx="282600" cy="19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940280" y="3055680"/>
            <a:ext cx="996840" cy="111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6880" y="2840040"/>
            <a:ext cx="797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7560" y="3176640"/>
            <a:ext cx="957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886200"/>
            <a:ext cx="91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Incomple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809880"/>
            <a:ext cx="796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03720" y="3462480"/>
            <a:ext cx="447480" cy="598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5280" y="3672000"/>
            <a:ext cx="1222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32080" y="5405400"/>
            <a:ext cx="284400" cy="196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5280" y="4614840"/>
            <a:ext cx="665280" cy="7174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38840" y="4646160"/>
            <a:ext cx="714240" cy="777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698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ocup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3200" y="4786200"/>
            <a:ext cx="1214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Calenda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46760" y="5624640"/>
            <a:ext cx="1366560" cy="14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9800" y="5686560"/>
            <a:ext cx="151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 ocupados, 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006720" y="4532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876920"/>
            <a:ext cx="77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Riesgo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57560" y="3336840"/>
            <a:ext cx="554040" cy="6192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352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Medidas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37400" y="2525400"/>
            <a:ext cx="1800" cy="2825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32240" y="2514600"/>
            <a:ext cx="3306960" cy="1260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69880" y="2530440"/>
            <a:ext cx="157320" cy="230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886200"/>
            <a:ext cx="77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0757A-4114-4732-8726-FFB8E8C392B5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Determinación de actividad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y describir todas las actividades requeridas para realizar e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troalimentación obten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formación de Planificacion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3D553-0096-47F8-900B-0EE19B0EA1A4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Análisis de tamaño-esfuerz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Estimar el tamaño-esfuerzo necesario para completar cada una de las actividades planifica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D6FD7-D037-4AF0-96AC-72F7F51CAA58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4000"/>
            </a:br>
            <a:r>
              <a:rPr b="0" lang="es-CL" sz="3200" spc="-1" strike="noStrike">
                <a:solidFill>
                  <a:srgbClr val="000000"/>
                </a:solidFill>
                <a:latin typeface="Trebuchet MS"/>
              </a:rPr>
              <a:t>Construcción/Corrección de la Planificació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Secuenciar lógicamente las actividades según precedencia y urg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tividades con tiempos estim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ción de 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lan de Desarrollo de Proyecto (P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707FD-38FB-4AE7-98D9-E6A1AEF30DA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cucho</cp:lastModifiedBy>
  <cp:lastPrinted>2002-03-07T17:47:26Z</cp:lastPrinted>
  <dcterms:modified xsi:type="dcterms:W3CDTF">2003-10-22T01:21:49Z</dcterms:modified>
  <cp:revision>36</cp:revision>
  <dc:subject/>
  <dc:title>Quadratto: Investigación, Enseñanza, Aplicación y Transferencia en Ingeniería de Software</dc:title>
</cp:coreProperties>
</file>