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0215-EF98-4D43-89C8-5C745D12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44F1-FF71-4448-8698-FBA7655E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0423-2CA2-4497-B131-9C1FEEA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62EC-5995-4D20-9A07-8B9DD70D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7BA-F90A-4A86-8FA0-8FFA94BF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F3AF-6828-45F2-8338-7134382B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E37A-7A8B-431E-93DB-1A5D875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129-8681-46AE-83A8-324B5799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BCF7-EFDF-474D-A24F-720C8AD1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E7E1-736A-4C61-823D-8D055DD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9F9E-AE9B-4D96-8389-E3768D1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8687-B35C-4860-A24C-28668F56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992D-54B7-4D77-90F0-3AC7EA2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0EB9-F85F-48C2-BD13-6711AB9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808-B247-48E0-8230-311D8DF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2A3-F3E8-4C18-BDC9-05F5077E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899C-EB5D-416C-8677-30DACF3A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967C-A33E-4C4C-B3A2-90958858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4A84-5344-4EF2-B706-C411597D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C5D8-A42C-4003-A761-694F7063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6E94-D70F-480B-B42A-3979F4B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8310-49EC-4E6B-B4AB-21E51288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8FEB-25D0-4591-8E89-1291A947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417B-9411-40A7-85D7-35ACB7D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A452-DEC5-44EA-AC72-AAC8343C52D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0775-C00B-48E0-8440-13106DC40FB3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AFE-C1D5-44FC-AEDD-719042F2E230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9B2-3EF2-4B7B-9808-25EE182F21E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ftkoan.virtualave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5120" y="2666880"/>
            <a:ext cx="5410080" cy="1600200"/>
          </a:xfrm>
          <a:prstGeom prst="rect">
            <a:avLst/>
          </a:prstGeom>
          <a:noFill/>
          <a:ln w="64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rebuchet MS"/>
              </a:rPr>
              <a:t>Procesos de Gestión: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Planificación de proyectos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rebuchet MS"/>
              </a:rPr>
              <a:t>Seguimiento y control de proyecto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BCB5CF3-7A7A-46EB-B6F7-BC78632977E6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Recolección de Riesgo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Identificar riesgos que puedan amenaza al 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Observación directa del desarrollo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riesgos y sus cau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F9F343-3889-4109-8979-39EB45B485AD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32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álisis de Riesgo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Determin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robabilidad de que un riesgo se concretic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impacto posible dentro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riesgos y sus cau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edidas de conting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248DC1-49DA-4452-8A58-7E09C0347120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3200"/>
            </a:b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Medición de Actividade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: Evaluar continuamen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utilizado en la ejecución de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Nivel de avanc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de cada a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oblemas detectado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n la ejecución de las activid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qui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lan de Desarrollo d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portes de avance de los miembros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Resul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troalimentación para la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4925E7-CE51-442B-893D-ED94AF92CCC0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Herramientas para los procesos de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Planificación, Seguimiento y Contro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05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Seguimiento y Contr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lanilla de Reporte de Estado de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lanilla de Reporte de Utilización de Hor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Estimación</a:t>
            </a: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Puntos de Casos de U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40400" y="4267080"/>
            <a:ext cx="169704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44E9F5-20B1-4DA6-B481-B896A50E5292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Herramientas para…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porte de Estado de Proye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Orientado a llevar un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comienz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in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avance real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avance esper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 cada una de las actividades del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640872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BA613F-9E5A-4F30-9BF4-4BFD4EC376CA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Herramientas para…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porte de Riesgo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Orientado a llevar un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del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los problemas y riesgos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que enfrenta el equipo, ayudando a definir medidas de contingencia que minimicen el impa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5280" y="3213000"/>
          <a:ext cx="8280360" cy="22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828036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95A295-8561-419C-A86B-47F08494E2FD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Software Project Planner and Controller </a:t>
            </a:r>
            <a:r>
              <a:rPr b="0" lang="es-CL" sz="24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http://softkoan.virtualave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Unified Software Development Process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Jacobson et al. (El Libro de Iv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F8FF32-D9E0-4E51-9072-097890DA935F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Agenda de hoy..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Para qué gestion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unas defin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tapas de los procesos de Planificación, Seguimiento y Control de un proye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rramientas para los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imiento 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porte de Estad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porte de Utilización de H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e Caso de 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ul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0E4A3A-B945-4BD5-99E1-A74DC83316A9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Para qué Gestionar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general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stablecer u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ivel mínim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sciplin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 todas la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vidades de desarr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lo específico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riquecer la comunicac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entre los miembros de un equipo de trabajo y el resto del mun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troaliment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adecuadamente todas las actividades en ejec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D2AC17-63B2-42BC-877D-2ABD3CA59C97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Algunas definiciones</a:t>
            </a:r>
            <a:br>
              <a:rPr sz="36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Planifica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ifi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egular un proceso productiv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conforme a un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pla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determin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a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organización de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actividades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junto de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area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un</a:t>
            </a:r>
            <a:r>
              <a:rPr b="0" lang="es-ES_tradnl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rabaj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a realiz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un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tiemp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determin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D4BED7-7DB4-4632-BB2D-3CC730997CEE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Algunas definiciones</a:t>
            </a:r>
            <a:br>
              <a:rPr sz="3600"/>
            </a:b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Seguimiento y control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las acciones orientadas 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copilar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trastar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formación sobre los avances del proyecto, con el objetivo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veer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isibilidad adecuada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 todas la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ersonas involucrad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el proyecto acerca del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sto de actividade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que se estén desarrollan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troaliment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la planificación origin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3235B3-C7A0-4D91-B9DF-0077E4C1544A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rebuchet MS"/>
              </a:rPr>
              <a:t>Etapas de los procesos de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rebuchet MS"/>
              </a:rPr>
              <a:t>Planificación, Seguimiento y Control de un proyec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1447920"/>
            <a:ext cx="6172200" cy="304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Planific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Jefe Proyecto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Establecer y mantener planes adecuados y alcanzables para el desarrollo del proye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95800" y="2795760"/>
            <a:ext cx="282600" cy="1951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70240" y="3467160"/>
            <a:ext cx="663840" cy="7160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41680" y="2778120"/>
            <a:ext cx="1366920" cy="6508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971800"/>
            <a:ext cx="1278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Determinación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276720"/>
            <a:ext cx="1413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033800" y="3497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1120" y="2784600"/>
            <a:ext cx="1366920" cy="6490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54840" y="29275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Análisis de tamaño/esfuer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99360" y="5283360"/>
            <a:ext cx="1368360" cy="65088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62720" y="5425920"/>
            <a:ext cx="127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Medición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887640"/>
            <a:ext cx="1366920" cy="649440"/>
          </a:xfrm>
          <a:prstGeom prst="ellipse">
            <a:avLst/>
          </a:prstGeom>
          <a:solidFill>
            <a:srgbClr val="ffff99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4800" y="403056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ries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99160" y="3979800"/>
            <a:ext cx="1366560" cy="6494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038480"/>
            <a:ext cx="1277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Construc./ Corrección de Plan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13240" y="5270400"/>
            <a:ext cx="1366560" cy="64944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76600" y="54133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Arial"/>
              </a:rPr>
              <a:t>Recolección de ries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1200" y="2733840"/>
            <a:ext cx="282600" cy="196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940280" y="3055680"/>
            <a:ext cx="996840" cy="111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6880" y="2840040"/>
            <a:ext cx="797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57560" y="3176640"/>
            <a:ext cx="9572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3886200"/>
            <a:ext cx="912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Incomple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3809880"/>
            <a:ext cx="796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03720" y="3462480"/>
            <a:ext cx="447480" cy="5983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5280" y="3672000"/>
            <a:ext cx="1222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32080" y="5405400"/>
            <a:ext cx="284400" cy="196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75280" y="4614840"/>
            <a:ext cx="665280" cy="7174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838840" y="4646160"/>
            <a:ext cx="714240" cy="777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952880"/>
            <a:ext cx="698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ocup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3200" y="4786200"/>
            <a:ext cx="12142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Calenda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46760" y="5624640"/>
            <a:ext cx="1366560" cy="14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9800" y="5686560"/>
            <a:ext cx="1519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 ocupados, problema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006720" y="4532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876920"/>
            <a:ext cx="77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Riesgo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57560" y="3336840"/>
            <a:ext cx="554040" cy="6192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352680"/>
            <a:ext cx="9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Medidas de contin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37400" y="2525400"/>
            <a:ext cx="1800" cy="282564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32240" y="2514600"/>
            <a:ext cx="3306960" cy="1260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169880" y="2530440"/>
            <a:ext cx="157320" cy="230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886200"/>
            <a:ext cx="77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Problemas detec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BB38A4-3F5F-4BE0-BC4C-880E38474C03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Determinación de actividad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Identificar y describir todas las actividades requeridas para realizar el 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troalimentación obten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nformación de Planificacion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A4BE0-32CC-4CD5-9BFF-491167277B2E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2800"/>
            </a:b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Análisis de tamaño-esfuerz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Estimar el tamaño-esfuerzo necesario para completar cada una de las actividades planifica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junto de requer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istado de activ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CC5E9B-EC6C-4453-BA50-945632D6A80B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rebuchet MS"/>
              </a:rPr>
              <a:t>Etapas de los procesos…</a:t>
            </a:r>
            <a:br>
              <a:rPr sz="4000"/>
            </a:br>
            <a:r>
              <a:rPr b="0" lang="es-CL" sz="3200" spc="-1" strike="noStrike">
                <a:solidFill>
                  <a:srgbClr val="000000"/>
                </a:solidFill>
                <a:latin typeface="Trebuchet MS"/>
              </a:rPr>
              <a:t>Construcción/Corrección de la Planificació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Objetiv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: Secuenciar lógicamente las actividades según precedencia y urg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Requiere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tividades con tiempos estim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finición de medidas de conting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Prod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lan de Desarrollo de Proyecto (P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C077B6-0972-4476-AD39-56DC1E3ADE93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7:49:48Z</dcterms:created>
  <dc:creator>Verónica Achá Alvarez</dc:creator>
  <dc:description/>
  <dc:language>en-US</dc:language>
  <cp:lastModifiedBy>cucho</cp:lastModifiedBy>
  <cp:lastPrinted>2002-03-07T17:47:26Z</cp:lastPrinted>
  <dcterms:modified xsi:type="dcterms:W3CDTF">2003-10-22T01:21:49Z</dcterms:modified>
  <cp:revision>36</cp:revision>
  <dc:subject/>
  <dc:title>Quadratto: Investigación, Enseñanza, Aplicación y Transferencia en Ingeniería de Software</dc:title>
</cp:coreProperties>
</file>