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3122D-DD2A-4D9A-9C50-A8A8311B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10AE-751E-4C94-8D54-B2BD62C4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28D6E-CF52-4E9E-8683-32937A48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4DDD-3418-45B5-91D4-B1976043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1265-0825-4970-BEE2-AB94BAF6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2538-3F0E-414D-B387-245F18F3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9314-29BB-4C3F-912E-F286F124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7522-3553-4D2A-97DD-BFA960F5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22BD-36FF-47A4-BB96-22A0FAC7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2D7C-2121-4776-AF03-E357E9C1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E536-3E77-43EB-A19A-946DD50E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F661-4E07-4724-AC0D-76D74B94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88DD-A4B0-472A-89B1-5CDA1998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0E94-F3D4-403F-AF69-780E1FDB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7CB3-43AC-43B9-96DD-99C21392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5A43-65CB-4B66-B855-113AF8A8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EAF3-09FB-46FF-A71F-FD1961EE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E4265-7ED0-48B7-B10B-1E278930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DB3C-681E-427D-A002-6EC2B894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7275-8C6C-421D-AA03-1D1FA7DF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372B-D02A-4360-A846-97D31603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9158C-7957-42BB-B600-177ED6F1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ACAE-6EAD-4A18-B73A-57ED313E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4BF39-D486-47BD-ADEF-80FAFE65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0F1B-0EB2-4C81-A0D3-5D5D146A0A2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06B1-7C27-41F7-AEED-FDB9AF0388C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3drealms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oelonsoftware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Trebuchet MS"/>
              </a:rPr>
              <a:t>Estimación y Planificación de Proyectos</a:t>
            </a: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rebuchet MS"/>
              </a:rPr>
              <a:t>CC31B: Desarrollo de Software de Aplicación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Profesor: Agustín Villena 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 (cont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or el contrario, si definimos tareas grandes (ej: “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programar la base de dat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”),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no hemos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almente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pensado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lo que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eberemos ha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gla general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da tarea debiera durar entre 2 y 16 ho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dura más: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ividir la t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nalmente: definir tareas detalladas ayuda a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iseñar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la característica dese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B7136-E384-4C89-A19C-D995F9384D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Mantener registro de la estimación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original</a:t>
            </a: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 y la </a:t>
            </a: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gregar la tarea, se ingresa una estimación de su du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vanzar, y descubrir diferencias entre lo estimado y lo real, anotamos la nueva esti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í se v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prendiendo de la experi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 s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jora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evas estim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sta forma, la planificación siempre servirá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ortar característ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alargar la estim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916360" y="5300640"/>
            <a:ext cx="5765760" cy="909720"/>
            <a:chOff x="2916360" y="5300640"/>
            <a:chExt cx="5765760" cy="9097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2916360" y="5300640"/>
              <a:ext cx="576576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643800" y="5345280"/>
              <a:ext cx="1511280" cy="86508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D03D-22E8-4DDD-A328-C98C3834E4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Actualizar el tiempo </a:t>
            </a: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transcurrido </a:t>
            </a: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cada dí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finalizar el dí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ir las tareas en que se trabaj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tribuir las horas trabajadas en las tareas detect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emp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tant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calculado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omáticament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por la planil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 mismo tiempo, actualizar la column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stimación actu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ando la tarea esté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aliz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imación Actual = Tiempo Transcurri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empo Restante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ocup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minut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 d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ige discipl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EB695-1FD8-4C51-904C-26AF7F2311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Recomendacione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o olvidar considerar tiempos p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Vacaciones o tiempo ocioso para el proy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Prueba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epu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Oj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s más fácil arreglar bugs el mismo día en que se escribió el códi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Menos bugs =&gt; más fácil predecir el término del 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ntegración con el resto del trabajo del equ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oner espacio en la planificación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ara errores en la esti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ara poner tareas no descubiertas hasta aho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22E1-FB9B-4B31-955B-72EC22F362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Finalmen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a planificación es como un conjunto de cubos de mad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los bloques no caben en una caj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consigue una caja más grande, 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sacan algunos bloq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no se pueden comprimir los cub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Hay que priorizar: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aquellas funcionaliodades más importantes para el cliente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van primero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00816-45D2-47CD-BC6D-8F0C408C1F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Para el bron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Verdana"/>
              </a:rPr>
              <a:t>Uno no suele planificar para fallar, pero suele fallar en planific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7621F-0A4B-4D21-9719-388A8C9613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La necesidad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Ingeniería de Software, como todas la ingenierías, necesita responder algunas pregunt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nto ocupará la construcción de un softwar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rectamente relacionado con el co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nto se ha avanzado en el desarroll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l es la productividad que el equipo ha logra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2812-907D-400A-953F-486CDFF692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Algunos ejemplos rea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uke Nuken Fore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gún </a:t>
            </a:r>
            <a:r>
              <a:rPr b="0" lang="es-ES" sz="2000" spc="-1" strike="noStrike" u="sng">
                <a:solidFill>
                  <a:srgbClr val="663300"/>
                </a:solidFill>
                <a:uFillTx/>
                <a:latin typeface="Verdana"/>
                <a:hlinkClick r:id="rId1"/>
              </a:rPr>
              <a:t>www.3drealms.com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estará listo “when it’s don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leva más de 5 año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tus 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primera planilla de cálculo de uso ma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ersion 3.0 fue escrita para un 286, cuando los 8088 eran comun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moraron 16 meses en adaptarlo aun 8088, que por entonces ya era obsoleto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icrosoft aprovechó el tiempo, y Excel tomó el primer lu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C514F-4CFC-47EA-985E-4624F699E8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Verdana"/>
              </a:rPr>
              <a:t>Planificación de Proyectos </a:t>
            </a:r>
            <a:r>
              <a:rPr b="0" i="1" lang="es-ES" sz="3200" spc="-1" strike="noStrike">
                <a:solidFill>
                  <a:srgbClr val="cc3300"/>
                </a:solidFill>
                <a:latin typeface="Verdana"/>
              </a:rPr>
              <a:t>Indolora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Un método práctico para estimar y planificar proyec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663300"/>
                </a:solidFill>
                <a:uFillTx/>
                <a:latin typeface="Verdana"/>
                <a:hlinkClick r:id="rId1"/>
              </a:rPr>
              <a:t>www.joelonsoftware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AED9-B040-4FEC-B5F7-355A157F7A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Un método simpl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usa un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lanilla de cálcul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comú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estructura es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cill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emoriz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a varios desarrollador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sar hojas separadas, ó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gregar una columna indicando el respon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4365720"/>
            <a:ext cx="6337440" cy="23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AEFA4-83DA-4605-9C07-3F8CA9602A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2800"/>
            </a:b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Características del Product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aracterístic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 descompone en varias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ar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ejemplo de característica: u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rrector ortográfic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nuestro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regarlo consiste de algun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cas tareas discret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que el desarrollador debe ha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 más importante de hacer una planific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ir l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a de t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22C6E-8369-45D4-86D9-321C094CBD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Regla de oro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ólo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quién va a desarrollar la tare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e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planificar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estima el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jef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el proyecto está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denad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empre va a sobreestimar la productiv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en que va a desarrollar, es quien sabe los pasos que hay que dar para llegar a dest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solo él puede estimar cuanto dura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A62D8-5D18-4E47-A8BC-20C5C33451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 tareas deben medirse e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as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o en d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está medido en días, o semanas, no está cerca de la rea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planificación construida así arroj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sultados distint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 sumar) que al definirla basadas en d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Por qué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B0E5-E27F-4A65-B102-82D5C23EBB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 (cont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 definir tareas detalladas, nos obligamos a definir lo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sos real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 debemos d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ribir subrutina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ar ventana de diálogo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bar archivo 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r se hace simple, porque antes ya hemos hecho tareas simila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si no, podemos hacer experimentos simpl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70B3F-3E06-415B-A2C0-C85DE755E2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Agustín Villena</cp:lastModifiedBy>
  <cp:lastPrinted>2003-05-13T17:22:15Z</cp:lastPrinted>
  <dcterms:modified xsi:type="dcterms:W3CDTF">2003-09-09T03:29:30Z</dcterms:modified>
  <cp:revision>39</cp:revision>
  <dc:subject/>
  <dc:title>CC31B: Desarrollo de Software de Aplicaciones</dc:title>
</cp:coreProperties>
</file>