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BEA8-1F08-48FE-9B7B-DA06FB62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8AF4-8203-4219-85BF-89DC72B4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F7CC-6B21-400F-9978-D7062995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6D4A-E335-4A69-BAAC-681C1AFA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9581-FF62-44D3-BE01-7D7941F3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142B-CB5E-4207-B7D2-76CBDFC7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C3AB-B7C4-4438-8636-40F9B948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3720-7E2E-488D-9441-75AFFB5F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3104-23B5-4E6E-AA5C-9127C1A6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0B45-CDBB-4B76-B3A7-5C5D4917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F400-A1C6-4041-B18D-DDF32A9B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AC3A-E3D9-40EB-B749-9D23E6E7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B2ED-D9FF-42CA-9DED-DC6E717A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AFF1-529E-4E4D-9797-BF96FD4A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674B-BFAD-4ADA-8DF8-EFBD6AAC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3093-2B83-44C7-BE71-F83521C9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4FD8-D4F2-4AF2-9054-262679F0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C2F4-EFD3-48B7-88E7-1CB34A87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51C5-7360-44CC-B85E-7520EA2D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714A-5574-450E-AC72-D690442E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003A-3868-48E9-A2B8-9D5E7F2C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A4B2-FB41-4916-9E4C-80FD3447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911C-4E64-41CB-8699-F601FBEE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6725-D3C9-4B5A-8C7D-7246F2F5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BBC0-FF04-44CD-A151-8672579024F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E527-806F-40DB-BB92-D4898C74301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3drealms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oelonsoftware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Trebuchet MS"/>
              </a:rPr>
              <a:t>Estimación y Planificación de Proyectos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CC31B: Desarrollo de Software de Aplicación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Profesor: Agustín Villena 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 (cont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r el contrario, si definimos tareas grandes (ej: “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programar la base de da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”)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no hemos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almente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ensado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lo que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eberemos ha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gla general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da tarea debiera durar entre 2 y 16 ho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dura más: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vidir la t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nalmente: definir tareas detalladas ayuda a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iseñar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la característica dese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5872-C781-49E1-A659-9F7022A90D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Mantener registro de la estimación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original</a:t>
            </a: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 y la </a:t>
            </a: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gregar la tarea, se ingresa una estimación de su du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vanzar, y descubrir diferencias entre lo estimado y lo real, anotamos la nueva 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í se v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prendiendo de la experi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 s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jora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evas estim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sta forma, la planificación siempre servirá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rtar caracterís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alargar la estim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916360" y="5300640"/>
            <a:ext cx="5765760" cy="909720"/>
            <a:chOff x="2916360" y="5300640"/>
            <a:chExt cx="5765760" cy="9097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2916360" y="5300640"/>
              <a:ext cx="576576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643800" y="5345280"/>
              <a:ext cx="1511280" cy="8650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830D-57A4-48A8-BC71-E46B61836D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Actualizar el tiempo </a:t>
            </a: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transcurrido </a:t>
            </a: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cada dí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finalizar el dí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ir las tareas en que se trabaj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ibuir las horas trabajadas en las tareas detect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mp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tant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calculad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omáticament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por la plani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 mismo tiempo, actualizar la colum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stimación actu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a tarea esté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liz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imación Actual = Tiempo Transcurr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empo Restante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ocup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minut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 d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ge discipl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DE04-590D-4847-9D4E-8D90D71A79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Recomendacion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o olvidar considerar tiempos p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Vacaciones o tiempo ocioso para el proy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rueb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epu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Oj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s más fácil arreglar bugs el mismo día en que se escribió el códi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Menos bugs =&gt; más fácil predecir el término del 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tegración con el resto del trabajo del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ner espacio en la planificación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errores en la 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poner tareas no descubiertas hasta ah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AB3F-36DC-4675-9EDA-1F50F9CC6E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Finalmen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a planificación es como un conjunto de cubos de mad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los bloques no caben en una ca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consigue una caja más grande, 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sacan algunos bloq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no se pueden comprimir los cub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Hay que priorizar: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aquellas funcionaliodades más importantes para el cliente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van primero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602B-4638-4F59-B825-D14CED76D3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Para el bro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Uno no suele planificar para fallar, pero suele fallar en planific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C779-CDF5-4639-9906-43F7BBD0DE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La necesidad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Ingeniería de Software, como todas la ingenierías, necesita responder algunas pregunt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nto ocupará la construcción de un softwa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rectamente relacionado con el co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nto se ha avanzado en el desarroll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l es la productividad que el equipo ha logra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1E8D-DBA0-4EFF-9516-E3BCEDD18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Algunos ejemplos rea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uke Nuken For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ún </a:t>
            </a:r>
            <a:r>
              <a:rPr b="0" lang="es-ES" sz="20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www.3drealms.com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estará listo “when it’s don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leva más de 5 año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tus 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primera planilla de cálculo de uso ma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rsion 3.0 fue escrita para un 286, cuando los 8088 eran comun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moraron 16 meses en adaptarlo aun 8088, que por entonces ya era obsoleto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icrosoft aprovechó el tiempo, y Excel tomó el primer lu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2A83-AA76-48E5-82F6-730AD79E5C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Planificación de Proyectos </a:t>
            </a:r>
            <a:r>
              <a:rPr b="0" i="1" lang="es-ES" sz="3200" spc="-1" strike="noStrike">
                <a:solidFill>
                  <a:srgbClr val="cc3300"/>
                </a:solidFill>
                <a:latin typeface="Verdana"/>
              </a:rPr>
              <a:t>Indolora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n método práctico para estimar y planificar proyec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www.joelonsoftware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F17B-75B6-408E-8073-9597D7B281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Un método simpl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usa un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lanilla de cálcul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comú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estructura es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cill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emoriz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varios desarrollador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ar hojas separadas, 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gregar una columna indicando el respon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6337440" cy="23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513D8-32B1-4FC2-BA27-17894E47D0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2800"/>
            </a:b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Características del Product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aracterístic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 descompone en varia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ejemplo de característica: u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rrector ortográfic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nuestro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egarlo consiste de algun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cas tareas discret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ue el desarrollador debe ha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 más importante de hacer una planific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ir l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a de t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F630A-12FC-471C-BA80-DF5436046C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Regla de oro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ólo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uién va a desarrollar la tare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lanificar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estima el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ef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el proyecto está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denad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empre va a sobreestimar la produ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en que va a desarrollar, es quien sabe los pasos que hay que dar para llegar a dest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solo él puede estimar cuanto dura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9A03-9533-4112-A6DC-FBB14DA2E2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 tareas deben medirse e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as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o en d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está medido en días, o semanas, no está cerca de la re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planificación construida así arroj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sultados distint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 sumar) que al definirla basadas en d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Por qué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963D-9AC6-45ED-B94A-4D60BA131A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 (cont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 definir tareas detalladas, nos obligamos a definir lo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sos real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 debemos d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ribir subrutina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ar ventana de diálogo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bar archivo 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r se hace simple, porque antes ya hemos hecho tareas simila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si no, podemos hacer experimentos simp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F838-1E74-4A63-B2EF-C6CC11445E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Agustín Villena</cp:lastModifiedBy>
  <cp:lastPrinted>2003-05-13T17:22:15Z</cp:lastPrinted>
  <dcterms:modified xsi:type="dcterms:W3CDTF">2003-09-09T03:29:30Z</dcterms:modified>
  <cp:revision>39</cp:revision>
  <dc:subject/>
  <dc:title>CC31B: Desarrollo de Software de Aplicaciones</dc:title>
</cp:coreProperties>
</file>