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2D72B-3AE7-44D6-BD39-C164E0F9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345A-1204-4E8B-8005-5CBD1B1A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9FD27-2A37-4BD7-8754-74309BB5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25DE-4299-43F7-AA16-257D3144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DD17-51DA-4B80-AF46-77D8BC93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9699-F0B1-4A9A-AA87-49D0D89A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CD5C-F1C9-4552-A78E-8BDC2AF8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196D-5A8B-4497-9B70-3C71BFF3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73DA-2D6B-4C33-A7E3-90F29DC8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1B79-F702-4B8A-AD51-ED7C288E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36E3-93D1-4005-86FA-B58CB8CE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3760-8E95-433E-96DE-69C14305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ECA6-01E2-4B08-9978-B314E92A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F746-F939-42AE-AA0F-0370CFB6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1F37-ABB7-49BB-88DF-F219B7A7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0B3B-8545-40CF-896D-33D0C68B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C7F2-E37C-4856-B91A-19E57175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37683-CB58-4722-9C6C-ADE71440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DCCF1-4508-40DF-9087-73150572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94A4-B245-4ABB-A0B3-852BB9A2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554E-F2E5-4F5A-AC42-7AC8A113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8435C-8B6B-4DA7-88AE-6FB79BE2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C6B74-141B-41ED-A306-7D04AB9B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9460-6A42-42ED-87CE-2FCFACFA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CB75-FDA8-4DBF-A769-BB93F4DB250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1EFD-0FF9-4C04-8ABB-BF3CCAFFB2B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3drealms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oelonsoftware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Trebuchet MS"/>
              </a:rPr>
              <a:t>Estimación y Planificación de Proyectos</a:t>
            </a: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rebuchet MS"/>
              </a:rPr>
              <a:t>CC31B: Desarrollo de Software de Aplicación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Profesor: Agustín Villena 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Definir tareas bien detalladas (cont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or el contrario, si definimos tareas grandes (ej: “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programar la base de dat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”),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no hemos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almente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pensado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lo que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deberemos hac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gla general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da tarea debiera durar entre 2 y 16 ho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dura más: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ividir la t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nalmente: definir tareas detalladas ayuda a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diseñar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la característica dese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8FCD-439A-46CC-B8E9-4856300CE3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Mantener registro de la estimación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original</a:t>
            </a: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 y la </a:t>
            </a: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actua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gregar la tarea, se ingresa una estimación de su dur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vanzar, y descubrir diferencias entre lo estimado y lo real, anotamos la nueva esti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í se v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prendiendo de la experi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 s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jora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evas estim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sta forma, la planificación siempre servirá p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ortar característ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alargar la estim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916360" y="5300640"/>
            <a:ext cx="5765760" cy="909720"/>
            <a:chOff x="2916360" y="5300640"/>
            <a:chExt cx="5765760" cy="9097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2916360" y="5300640"/>
              <a:ext cx="576576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643800" y="5345280"/>
              <a:ext cx="1511280" cy="86508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2CD7-AEFB-40A0-83C0-17D13AA368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Actualizar el tiempo </a:t>
            </a: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transcurrido </a:t>
            </a: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cada dí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finalizar el dí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ir las tareas en que se trabaj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tribuir las horas trabajadas en las tareas detecta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emp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stant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calculado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omáticament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por la planil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 mismo tiempo, actualizar la column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stimación actu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ando la tarea esté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aliz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imación Actual = Tiempo Transcurri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empo Restante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o ocup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 minut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 d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ige discipl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FF53-8568-4959-8974-9573508DA6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Recomendacione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o olvidar considerar tiempos p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Vacaciones o tiempo ocioso para el proy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Prueba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epur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Oj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s más fácil arreglar bugs el mismo día en que se escribió el códi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Menos bugs =&gt; más fácil predecir el término del proyec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Integración con el resto del trabajo del equi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oner espacio en la planificación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ara errores en la esti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ara poner tareas no descubiertas hasta aho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98F6-C738-456A-AE54-A2C5A239FD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Finalment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na planificación es como un conjunto de cubos de mad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los bloques no caben en una caj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consigue una caja más grande, 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sacan algunos bloq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no se pueden comprimir los cub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Hay que priorizar: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aquellas funcionaliodades más importantes para el cliente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van primero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8D0E-8BF6-41F6-9C0E-021FBA0BE5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Para el bronc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Verdana"/>
              </a:rPr>
              <a:t>Uno no suele planificar para fallar, pero suele fallar en planific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D522-3324-4EFB-A3C3-D94AFBB373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La necesidad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Ingeniería de Software, como todas la ingenierías, necesita responder algunas pregunt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uánto ocupará la construcción de un softwar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rectamente relacionado con el co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uánto se ha avanzado en el desarroll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uál es la productividad que el equipo ha logra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76D6E-7F8A-45AD-B4DD-1AFF26F41E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Algunos ejemplos rea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Duke Nuken Fore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gún </a:t>
            </a:r>
            <a:r>
              <a:rPr b="0" lang="es-ES" sz="2000" spc="-1" strike="noStrike" u="sng">
                <a:solidFill>
                  <a:srgbClr val="663300"/>
                </a:solidFill>
                <a:uFillTx/>
                <a:latin typeface="Verdana"/>
                <a:hlinkClick r:id="rId1"/>
              </a:rPr>
              <a:t>www.3drealms.com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estará listo “when it’s don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leva más de 5 año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tus 12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primera planilla de cálculo de uso ma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ersion 3.0 fue escrita para un 286, cuando los 8088 eran comun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moraron 16 meses en adaptarlo aun 8088, que por entonces ya era obsoleto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icrosoft aprovechó el tiempo, y Excel tomó el primer lu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25988-AB55-4E72-89D7-C8F1258CCD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Verdana"/>
              </a:rPr>
              <a:t>Planificación de Proyectos </a:t>
            </a:r>
            <a:r>
              <a:rPr b="0" i="1" lang="es-ES" sz="3200" spc="-1" strike="noStrike">
                <a:solidFill>
                  <a:srgbClr val="cc3300"/>
                </a:solidFill>
                <a:latin typeface="Verdana"/>
              </a:rPr>
              <a:t>Indolora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Un método práctico para estimar y planificar proyec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663300"/>
                </a:solidFill>
                <a:uFillTx/>
                <a:latin typeface="Verdana"/>
                <a:hlinkClick r:id="rId1"/>
              </a:rPr>
              <a:t>www.joelonsoftware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EBFD-1D3A-45D2-BC26-943540A8A4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Un método simpl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usa un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lanilla de cálcul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comú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estructura es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ncill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emoriz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ra varios desarrollador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sar hojas separadas, ó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gregar una columna indicando el respon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4365720"/>
            <a:ext cx="6337440" cy="232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8EC3-DF73-4618-B116-B40647C059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2800"/>
            </a:b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Características del Producto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característic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 descompone en varias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ar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ejemplo de característica: u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rrector ortográfic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nuestro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regarlo consiste de alguna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cas tareas discret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que el desarrollador debe hac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 más importante de hacer una planifica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ir l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a de t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B210-1C17-4B8A-A879-869EA49EB9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Regla de oro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ólo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quién va a desarrollar la tare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ed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planificar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estima el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jef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el proyecto está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denad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empre va a sobreestimar la productiv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en que va a desarrollar, es quien sabe los pasos que hay que dar para llegar a dest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solo él puede estimar cuanto dura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34F32-3E6D-4CED-BDB6-8D6AE3F7C5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Definir tareas bien detallada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 tareas deben medirse e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ras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o en dí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está medido en días, o semanas, no está cerca de la rea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 planificación construida así arroj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sultados distint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 sumar) que al definirla basadas en dí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Por qué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4EFA-10F8-4204-8051-F2545A2CBD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Definir tareas bien detalladas (cont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 definir tareas detalladas, nos obligamos a definir lo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sos real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 debemos d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cribir subrutina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ar ventana de diálogo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bar archivo 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r se hace simple, porque antes ya hemos hecho tareas simila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si no, podemos hacer experimentos simpl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C9A72-6D9B-4AA9-BC13-53A6CAA157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Agustín Villena</cp:lastModifiedBy>
  <cp:lastPrinted>2003-05-13T17:22:15Z</cp:lastPrinted>
  <dcterms:modified xsi:type="dcterms:W3CDTF">2003-09-09T03:29:30Z</dcterms:modified>
  <cp:revision>39</cp:revision>
  <dc:subject/>
  <dc:title>CC31B: Desarrollo de Software de Aplicaciones</dc:title>
</cp:coreProperties>
</file>