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3CB7-BFAB-4358-AAC9-42ADF745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579C-0DDD-479B-81F8-4266424E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5A26-9578-4206-BCEE-AA14488A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F73D-F1EE-47E5-A8E1-7A06C047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B43-261F-4935-B1D2-9513ABD4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F72-60E2-4D84-A943-CA26D40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9D8-2F5B-41C4-8FD3-5ED41190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C1A7-7E05-432E-9E11-F3D0113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CC1-8845-447D-8CE8-EDEFED0F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9FF-436A-48E0-BFC8-1331C555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5A6A-88E1-4E6A-9593-9CB4876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0C47-CB40-4B49-A7A5-AC04BB99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C00C-73AE-4482-A167-78BD0A4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3F3-0577-47B9-B6AA-9621913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A5B1-8D93-4B5B-BC80-1DEDA50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7FB-659E-4423-8FB9-F70EF1EF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7565-5B75-4269-BD51-6002783C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E2D4-F740-418B-8633-77798BDE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BB1E-2DE6-4502-ADBF-5C82F68F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1FA6-F815-4074-9D0B-4DFD968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5833-5EF1-4F01-B028-35B6F85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BAA0-38A3-46AE-9F15-74F3FB0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7E35-7368-45BA-96D6-32A1552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85E7-301C-4DD6-928C-C724B68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CB7-D12E-4FC1-A624-7EE627D036B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4C2-94EF-4E44-80C0-BC82B57D347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3drealm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elonsoftwar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Trebuchet MS"/>
              </a:rPr>
              <a:t>Estimación y Planificación de Proyectos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el contrario, si definimos tareas grandes (ej: “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ogramar la base de da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”)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no hemos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alment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ens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lo qu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beremos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gla general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da tarea debiera durar entre 2 y 16 ho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dura más: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vidir la t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lmente: definir tareas detalladas ayuda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iseñar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la característica dese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C433-C336-49AD-91D4-35C28BAD94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Mantener registro de la estimación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original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 y la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gregar la tarea, se ingresa una estimación de su d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vanzar, y descubrir diferencias entre lo estimado y lo real, anotamos la nuev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í se v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endiend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vas estim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sta forma, la planificación siempre servirá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tar caracterís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alargar la esti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16360" y="5300640"/>
            <a:ext cx="5765760" cy="909720"/>
            <a:chOff x="2916360" y="5300640"/>
            <a:chExt cx="5765760" cy="9097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916360" y="5300640"/>
              <a:ext cx="576576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643800" y="5345280"/>
              <a:ext cx="1511280" cy="865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3318-80B6-4358-962F-9410BC8AD4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Actualizar el tiempo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transcurrido 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cada dí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finalizar el dí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r las tareas en que se trabaj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r las horas trabajadas en las tareas detec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tan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alcula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áticamen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r la plan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 mismo tiempo, actualizar la colum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timación ac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a tarea esté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ción Actual = Tiempo Transcur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empo Restante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ocup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ut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d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ge discip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B3F5-59D8-48D5-91C2-676AC926B5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olvidar considerar tiempos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Vacaciones o tiempo ocioso para 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ueb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p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más fácil arreglar bugs el mismo día en que se escribió el códi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enos bugs =&gt; más fácil predecir el términ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tegración con el resto del trabajo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ner espacio en la planificació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rrores en l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poner tareas no descubiertas hasta ah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3DFB-DBBE-44B5-9232-BD2A8EC630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Finalmen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a planificación es como un conjunto de cubos de m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os bloques no caben en una 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consigue una caja más grande, 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sacan algunos blo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n comprimir los cub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Hay que priorizar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aquellas funcionaliodades más importantes para el cliente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van prime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CB7C-6186-4509-B7CB-90024A2884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ra el bro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Uno no suele planificar para fallar, pero suele fallar en plan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6408-9BAE-4925-923B-334EAB1CE1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La necesid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geniería de Software, como todas la ingenierías, necesita responder alguna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ocupará la construcción de un softwa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tamente relacionado con el co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se ha avanzado en el desarroll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l es la productividad que el equipo ha logr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D3C4-DCD2-48D7-8600-9E4A7501C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os ejemplos rea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uke Nuken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ún </a:t>
            </a:r>
            <a:r>
              <a:rPr b="0" lang="es-ES" sz="20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3drealms.c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estará listo “when it’s do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leva más de 5 añ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tus 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primera planilla de cálculo de uso m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rsion 3.0 fue escrita para un 286, cuando los 8088 eran comu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moraron 16 meses en adaptarlo aun 8088, que por entonces ya era obsole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rosoft aprovechó el tiempo, y Excel tomó el primer lu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19F6-00DB-4F33-9AE6-610060B0B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Planificación de Proyectos </a:t>
            </a:r>
            <a:r>
              <a:rPr b="0" i="1" lang="es-ES" sz="3200" spc="-1" strike="noStrike">
                <a:solidFill>
                  <a:srgbClr val="cc3300"/>
                </a:solidFill>
                <a:latin typeface="Verdana"/>
              </a:rPr>
              <a:t>Indolora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n método práctico para estimar y planificar proyec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joelonsoftware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6CF5-8662-4D4E-A65A-7A6312625F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Un método simp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usa un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nilla de cál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estructura es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cil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emor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varios desarrollad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hojas separadas, 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regar una columna indicando el respon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8899-6272-4E4E-BA01-20211A2AB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2800"/>
            </a:b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aracterísticas del Produ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aracteríst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descompone en vari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ejemplo de característica: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or ortográfic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nuestro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garlo consiste de algun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cas tareas discret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 el desarrollador debe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 más importante de hacer una planific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ir 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a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177B-5036-4579-B2FC-56686E87B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Regla de or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ól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ién va a desarrollar la tare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lanifica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estima el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e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l proyecto está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en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mpre va a sobreestimar la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en que va a desarrollar, es quien sabe los pasos que hay que dar para llegar a dest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olo él puede estimar cuanto dura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98D3-00E3-4320-AD70-3B5DFF06FA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tareas deben medirse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as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está medido en días, o semanas, no está cerca de l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planificación construida así arroj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dos distint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 sumar) que al definirla basadas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3D28-8383-4613-B524-CD7F22F17E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definir tareas detalladas, nos obligamos a definir lo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os rea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 debemos 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ibir subrutina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ar ventana de diálogo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bar archivo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r se hace simple, porque antes ya hemos hecho tareas simil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i no, podemos hacer experimentos simp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3F25-CC73-4F31-961B-8DAD892003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Agustín Villena</cp:lastModifiedBy>
  <cp:lastPrinted>2003-05-13T17:22:15Z</cp:lastPrinted>
  <dcterms:modified xsi:type="dcterms:W3CDTF">2003-09-09T03:29:30Z</dcterms:modified>
  <cp:revision>39</cp:revision>
  <dc:subject/>
  <dc:title>CC31B: Desarrollo de Software de Aplicaciones</dc:title>
</cp:coreProperties>
</file>