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3F0B-7956-40C9-9A55-71365FFD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1194-EF31-4BF3-9556-2314D3E9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0436A-D0AB-4224-94C1-5BB71E3F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25E3-F669-4A67-AE8C-E5F28079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23C-6A25-4534-B4D6-3ED793FE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917-1355-45F0-8CB6-EA2508A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1B4E-F8DC-417C-B76A-2AE4735E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C6E2-BBE9-4728-8C58-19D05A33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E88-9EA9-48A7-80B3-A17E313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D22-755F-4150-9CE1-8FD0E4FF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32AA-2A9C-46A2-A3C0-E626C7C2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7585-E529-40D6-9F8B-EAD6A6BD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6F5A-1DAF-4763-A374-67883E22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274-4CFC-4CA9-8257-98649CF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986-B316-4530-A5B5-C5339B7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B700-0344-4745-946B-A7560E55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C1B6-0623-4B42-AAF3-B4BEB573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DE14-7F01-4DFE-A147-2E0AADDB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5D4F-6C88-479B-B637-9CC11C01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FE04-1776-44B5-9A13-057FF7A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46B5-CBAC-4DAF-98EE-B0FF4DB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3CDC-E146-413C-A257-DC44F8E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86F7-F3D2-46FD-88F2-ADED932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25F7-12CC-4546-88D5-BE9E655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E3B-A371-47FF-AEE7-A9B01468DBC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84C1-A786-4522-AA01-4ACF294E8AD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3drealms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elonsoftwar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Trebuchet MS"/>
              </a:rPr>
              <a:t>Estimación y Planificación de Proyectos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rebuchet MS"/>
              </a:rPr>
              <a:t>CC31B: Desarrollo de Software de Aplicación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Profesor: Agustín Villena 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r el contrario, si definimos tareas grandes (ej: “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programar la base de da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”),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no hemos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alment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ensado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lo que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eberemos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gla general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da tarea debiera durar entre 2 y 16 hor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dura más: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vidir la t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lmente: definir tareas detalladas ayuda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diseñar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la característica dese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BFBAD-F473-4C42-8C30-5347E156C6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Mantener registro de la estimación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original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 y la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actu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gregar la tarea, se ingresa una estimación de su d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vanzar, y descubrir diferencias entre lo estimado y lo real, anotamos la nuev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í se v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rendiendo de la experi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jora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evas estima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sta forma, la planificación siempre servirá p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rtar caracterís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alargar la esti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916360" y="5300640"/>
            <a:ext cx="5765760" cy="909720"/>
            <a:chOff x="2916360" y="5300640"/>
            <a:chExt cx="5765760" cy="9097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2916360" y="5300640"/>
              <a:ext cx="576576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643800" y="5345280"/>
              <a:ext cx="1511280" cy="86508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3E863-6FFC-4DC5-B089-E9EDDDADE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Actualizar el tiempo </a:t>
            </a:r>
            <a:r>
              <a:rPr b="1" lang="es-ES" sz="3200" spc="-1" strike="noStrike">
                <a:solidFill>
                  <a:srgbClr val="000000"/>
                </a:solidFill>
                <a:latin typeface="Trebuchet MS"/>
              </a:rPr>
              <a:t>transcurrido </a:t>
            </a:r>
            <a:r>
              <a:rPr b="0" lang="es-ES" sz="3200" spc="-1" strike="noStrike">
                <a:solidFill>
                  <a:srgbClr val="000000"/>
                </a:solidFill>
                <a:latin typeface="Trebuchet MS"/>
              </a:rPr>
              <a:t>cada dí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finalizar el dí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r las tareas en que se trabaj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r las horas trabajadas en las tareas detect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iemp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tant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alculad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omáticamen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or la plan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 mismo tiempo, actualizar la colum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stimación actu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a tarea esté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l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imación Actual = Tiempo Transcurr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empo Restante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ocup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 minut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 d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ge discipl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E2C0-16F6-4450-9253-AD38B5EF40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Recomendacion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o olvidar considerar tiempos p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Vacaciones o tiempo ocioso para el proye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Prueb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epu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</a:rPr>
              <a:t>O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s más fácil arreglar bugs el mismo día en que se escribió el códi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Menos bugs =&gt; más fácil predecir el término del proyec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tegración con el resto del trabajo del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oner espacio en la planificación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errores en la esti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ara poner tareas no descubiertas hasta ah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9202-7560-480D-881C-39E268B48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Trebuchet MS"/>
              </a:rPr>
              <a:t>Finalment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Una planificación es como un conjunto de cubos de m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os bloques no caben en una ca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consigue una caja más grande, 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Se sacan algunos blo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no se pueden comprimir los cub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Hay que priorizar: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aquellas funcionaliodades más importantes para el cliente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van primero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AEA9-834A-465A-8926-0D93ADBF48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ra el bro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Uno no suele planificar para fallar, pero suele fallar en planific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2E0F-5F22-4CF4-BA82-2638A75946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La necesid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geniería de Software, como todas la ingenierías, necesita responder algunas pregunt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ocupará la construcción de un softwar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tamente relacionado con el co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nto se ha avanzado en el desarroll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uál es la productividad que el equipo ha logr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0A25-9274-4B28-9EBF-0009784DEA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os ejemplos rea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uke Nuken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ún </a:t>
            </a:r>
            <a:r>
              <a:rPr b="0" lang="es-ES" sz="20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3drealms.co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, estará listo “when it’s don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leva más de 5 años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tus 12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primera planilla de cálculo de uso ma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ersion 3.0 fue escrita para un 286, cuando los 8088 eran comu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moraron 16 meses en adaptarlo aun 8088, que por entonces ya era obsoleto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rosoft aprovechó el tiempo, y Excel tomó el primer lu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C07E-EECB-4F05-8DD4-0BA4DF132D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Planificación de Proyectos </a:t>
            </a:r>
            <a:r>
              <a:rPr b="0" i="1" lang="es-ES" sz="3200" spc="-1" strike="noStrike">
                <a:solidFill>
                  <a:srgbClr val="cc3300"/>
                </a:solidFill>
                <a:latin typeface="Verdana"/>
              </a:rPr>
              <a:t>Indolora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n método práctico para estimar y planificar proyec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663300"/>
                </a:solidFill>
                <a:uFillTx/>
                <a:latin typeface="Verdana"/>
                <a:hlinkClick r:id="rId1"/>
              </a:rPr>
              <a:t>www.joelonsoftware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3832-4038-4A93-AC92-A1A66CF5B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Un método simp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usa un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lanilla de cálcul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estructura es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ncill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emoriz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ara varios desarrollador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hojas separadas, 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gregar una columna indicando el respon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3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EFB8-2AE5-47F4-BD73-A43432828B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2800"/>
            </a:b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aracterísticas del Producto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aracteríst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 descompone en varias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ejemplo de característica: u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rrector ortográfic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nuestro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egarlo consiste de alguna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cas tareas discret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que el desarrollador debe ha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 más importante de hacer una planific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ir l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a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3C2F-CEF9-4EB7-9A30-818F5107B5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Regla de or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ól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uién va a desarrollar la tare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lanificar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estima el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ef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el proyecto está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dena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empre va a sobreestimar la productiv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en que va a desarrollar, es quien sabe los pasos que hay que dar para llegar a desti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olo él puede estimar cuanto dura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AB52-B0C2-4F7F-9575-6DFDA7527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tareas deben medirse e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as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o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está medido en días, o semanas, no está cerca de la re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planificación construida así arroj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sultados distinto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 sumar) que al definirla basadas en dí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Por qué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AB5E-C7E3-4B9F-AD0D-7E9478D34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inless Software Schedul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rebuchet MS"/>
              </a:rPr>
              <a:t>Definir tareas bien detalladas (cont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 definir tareas detalladas, nos obligamos a definir los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os rea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 debemos 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ribir subrutina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ar ventana de diálogo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bar archivo 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r se hace simple, porque antes ya hemos hecho tareas simila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si no, podemos hacer experimentos simp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8086-D319-4F60-B8C0-353B13A4E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Agustín Villena</cp:lastModifiedBy>
  <cp:lastPrinted>2003-05-13T17:22:15Z</cp:lastPrinted>
  <dcterms:modified xsi:type="dcterms:W3CDTF">2003-09-09T03:29:30Z</dcterms:modified>
  <cp:revision>39</cp:revision>
  <dc:subject/>
  <dc:title>CC31B: Desarrollo de Software de Aplicaciones</dc:title>
</cp:coreProperties>
</file>