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6824-0089-4C91-B474-436E0CC0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21EE4-F792-4AB8-AF28-EF5C9249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2198-0CB7-4DA5-84AA-2A53CF06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D0E9-3FA5-4E41-8F2E-938FC4E7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D78F-E85E-445F-BB0F-BC92316F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DB71-13F2-42A6-9CF4-C05C7D20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3F89-7D3F-4B55-B225-89B13DB9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90F6-245C-4F54-82AB-E98FBC56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5DD-BBD6-405D-A378-00AC8FE4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226A-FAD0-4040-A1BC-9EFC6D38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8F4F-3DBD-427B-B498-020385F8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D191-E3D3-48F9-9880-A010E2D3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D424-C47C-4845-8786-32AB671B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75A6-C520-4CAC-BE25-68E0A4B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1A68-23C4-4889-9AD7-5EB368A9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0D62-9C38-459F-94B6-5F2912EA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AF2D-994B-47D7-B43A-E7FECB5B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4423-31D1-4634-BF85-500A5242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24CB-F959-4A02-850C-1ED4FE4E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463C-8327-4D7C-B946-BCED7778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E622-74E3-471C-909A-A7D3E4BB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ECC0-F036-4E61-AAE9-68DCEF00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E366-BA4B-4045-A986-FD38F1B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E8A1-0DF0-44BC-88B1-BFD4754A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FAED-26F0-45A8-828D-4BADF917CF5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B95-40D2-4637-BD22-CFE46F37A14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3drealms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elonsoftwar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Trebuchet MS"/>
              </a:rPr>
              <a:t>Estimación y Planificación de Proyectos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CC31B: Desarrollo de Software de Aplicación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Profesor: Agustín Villena 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r el contrario, si definimos tareas grandes (ej: “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programar la base de da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”)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no hemos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alment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ensado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lo qu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beremos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gla general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da tarea debiera durar entre 2 y 16 ho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dura más: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vidir la t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nalmente: definir tareas detalladas ayuda a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iseñar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la característica dese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AE48-660B-4FBF-9164-DBFF8ACDF8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Mantener registro de la estimación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original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 y la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gregar la tarea, se ingresa una estimación de su d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vanzar, y descubrir diferencias entre lo estimado y lo real, anotamos la nuev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í se v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rendiendo de la experi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 s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jora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evas estim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sta forma, la planificación siempre servirá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rtar caracterís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alargar la estim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916360" y="5300640"/>
            <a:ext cx="5765760" cy="909720"/>
            <a:chOff x="2916360" y="5300640"/>
            <a:chExt cx="5765760" cy="9097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916360" y="5300640"/>
              <a:ext cx="576576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643800" y="5345280"/>
              <a:ext cx="1511280" cy="8650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2752-30F9-4158-8893-B13A5619B8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Actualizar el tiempo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transcurrido 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cada dí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finalizar el dí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r las tareas en que se trabaj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ir las horas trabajadas en las tareas detect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mp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tant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alculad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áticament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or la plani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 mismo tiempo, actualizar la colum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stimación act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a tarea esté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liz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imación Actual = Tiempo Transcurr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empo Restante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ocup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minut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 d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ge discipl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BE363-DBB4-46A4-B02D-4DC5E1FA0F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Recomendacion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olvidar considerar tiempos p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Vacaciones o tiempo ocioso para el proy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rueb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ep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Oj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 más fácil arreglar bugs el mismo día en que se escribió el códi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Menos bugs =&gt; más fácil predecir el término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tegración con el resto del trabajo del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ner espacio en la planificació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errores en l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poner tareas no descubiertas hasta ah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A14E-AE52-4F9E-A2F1-7F5B19C6CB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Finalmen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a planificación es como un conjunto de cubos de m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los bloques no caben en una ca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consigue una caja más grande, 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sacan algunos bloq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n comprimir los cub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Hay que priorizar: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aquellas funcionaliodades más importantes para el cliente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van primer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346D-BF0C-4197-A707-CD78AB7CDE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ra el bro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Uno no suele planificar para fallar, pero suele fallar en planific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277C-A4BA-43C7-9A0E-3A389BE0A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La necesidad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Ingeniería de Software, como todas la ingenierías, necesita responder algunas pregunt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ocupará la construcción de un softwa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rectamente relacionado con el co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se ha avanzado en el desarroll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l es la productividad que el equipo ha logr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C059-9182-4983-BA9F-13C4C8CFFE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Algunos ejemplos rea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uke Nuken For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ún </a:t>
            </a:r>
            <a:r>
              <a:rPr b="0" lang="es-ES" sz="20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3drealms.com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estará listo “when it’s don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leva más de 5 año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tus 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primera planilla de cálculo de uso ma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rsion 3.0 fue escrita para un 286, cuando los 8088 eran comu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moraron 16 meses en adaptarlo aun 8088, que por entonces ya era obsolet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crosoft aprovechó el tiempo, y Excel tomó el primer lu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BE89-A56E-4620-95D5-5F0575B696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Planificación de Proyectos </a:t>
            </a:r>
            <a:r>
              <a:rPr b="0" i="1" lang="es-ES" sz="3200" spc="-1" strike="noStrike">
                <a:solidFill>
                  <a:srgbClr val="cc3300"/>
                </a:solidFill>
                <a:latin typeface="Verdana"/>
              </a:rPr>
              <a:t>Indolora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n método práctico para estimar y planificar proyec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joelonsoftware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F3A2-C7C1-481F-8B0E-76204670D7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Un método simpl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usa un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lanilla de cálcul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comú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estructura es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cill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emoriz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varios desarrollador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ar hojas separadas, 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gregar una columna indicando el respon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63374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86A3-CC24-4FBA-9788-368CD5074F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2800"/>
            </a:b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Características del Product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aracterístic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 descompone en vari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ejemplo de característica: u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rrector ortográfic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nuestro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garlo consiste de algun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cas tareas discret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ue el desarrollador debe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 más importante de hacer una planific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ir l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a de t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FCAA-2F03-465B-8316-D7E70FD1F1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Regla de oro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ólo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uién va a desarrollar la tare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lanificar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estima el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ef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el proyecto está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dena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empre va a sobreestimar la produ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en que va a desarrollar, es quien sabe los pasos que hay que dar para llegar a dest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olo él puede estimar cuanto dura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32E2-F0AD-470C-BA65-D352C62E75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 tareas deben medirse e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as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está medido en días, o semanas, no está cerca de la re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planificación construida así arroj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sultados distint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 sumar) que al definirla basadas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Por qué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9748-BD41-402F-96B5-4D71EB4A0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 definir tareas detalladas, nos obligamos a definir lo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sos real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 debemos d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ribir subrutina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ar ventana de diálogo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bar archivo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r se hace simple, porque antes ya hemos hecho tareas simila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i no, podemos hacer experimentos simp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FC63-E0D7-4221-9C98-C3D20FE818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Agustín Villena</cp:lastModifiedBy>
  <cp:lastPrinted>2003-05-13T17:22:15Z</cp:lastPrinted>
  <dcterms:modified xsi:type="dcterms:W3CDTF">2003-09-09T03:29:30Z</dcterms:modified>
  <cp:revision>39</cp:revision>
  <dc:subject/>
  <dc:title>CC31B: Desarrollo de Software de Aplicaciones</dc:title>
</cp:coreProperties>
</file>