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734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73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996840" y="730080"/>
            <a:ext cx="4864320" cy="3649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624560"/>
            <a:ext cx="5486400" cy="437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9245520"/>
            <a:ext cx="297180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924552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EB860-C1BB-4253-A417-6761F840D23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6840" y="730080"/>
            <a:ext cx="4864320" cy="3649680"/>
          </a:xfrm>
          <a:prstGeom prst="rect">
            <a:avLst/>
          </a:prstGeom>
          <a:ln w="0">
            <a:noFill/>
          </a:ln>
        </p:spPr>
      </p:sp>
      <p:sp>
        <p:nvSpPr>
          <p:cNvPr id="274" name="PlaceHolder 2"/>
          <p:cNvSpPr>
            <a:spLocks noGrp="1"/>
          </p:cNvSpPr>
          <p:nvPr>
            <p:ph type="body"/>
          </p:nvPr>
        </p:nvSpPr>
        <p:spPr>
          <a:xfrm>
            <a:off x="685800" y="4624560"/>
            <a:ext cx="5486400" cy="437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5" name="3 Marcador de número de diapositiva"/>
          <p:cNvSpPr/>
          <p:nvPr/>
        </p:nvSpPr>
        <p:spPr>
          <a:xfrm>
            <a:off x="3884760" y="924552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4E18-4B45-430D-A2B9-1C99123AB65B}" type="slidenum">
              <a:rPr b="0" lang="es-CL"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0F796-766F-4188-894E-C741EA2DF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BECF6-FFC1-4F18-80F4-19233FDF6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B19CD-2ED2-4C55-8596-A91ECB355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CEA9D-F921-46D0-98FA-A9381B6A2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B1193-64C9-4CA2-87B8-5C052E675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F8742-B33B-4962-9CE2-C921E48D3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2D788-6A89-4932-A06B-353D45213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73057-BE96-42E9-91EF-537D92540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CD681-5656-43CA-B86D-77758A4A8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C9C54-B401-4A6B-8DF3-25F27CB2F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FDB4D-65F1-4896-AC51-178276110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73DF0-376B-46A5-BD52-0C4135885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D5F46-AEE5-40DC-8AF7-8198AE03B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B16FB-5C64-4E6F-9956-6C0FEC2CD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1700E-2C32-4C34-B530-B6E5B92B1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D0A7E-A3FA-4720-B445-20CC2C4A1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4BBF9-6C24-4329-8309-7F4085BFB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D17E4-BA15-4D8F-B5DC-261A94E0E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82BB2-86CF-4206-BD41-9DFBF8C41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3BE4B-74E5-4FDB-A310-3E38E7908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C7580-4276-491A-A6D2-641398892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4B36F-3881-44C9-A188-B22B0A07E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6C265-A6D3-4D22-834C-6EA3A54BF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9010-65C9-4C34-A9EB-CA988AE7B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0A75-5418-4478-8686-FC1AC3E4541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62BD-95C0-4713-8A54-C74BA7B4ED94}" type="slidenum">
              <a:rPr b="0" lang="es-E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ccecff"/>
                </a:solidFill>
                <a:latin typeface="Arial"/>
              </a:rPr>
              <a:t>Gestión del Conocimiento</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agíster en Gobierno y Gerencia Pública</a:t>
            </a:r>
            <a:endParaRPr b="0" lang="en-US" sz="2800" spc="-1" strike="noStrike">
              <a:solidFill>
                <a:srgbClr val="eaeaea"/>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Inap - U. de Chile</a:t>
            </a:r>
            <a:endParaRPr b="0" lang="en-US" sz="2800" spc="-1" strike="noStrike">
              <a:solidFill>
                <a:srgbClr val="eaeaea"/>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Aldo Meneses C. (Ph.D.)</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72880"/>
            <a:ext cx="9144000" cy="56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38"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Redundancia: 3 formas: </a:t>
            </a:r>
            <a:endParaRPr b="0" lang="en-US" sz="24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   </a:t>
            </a:r>
            <a:r>
              <a:rPr b="0" lang="es-ES" sz="2000" spc="-1" strike="noStrike">
                <a:solidFill>
                  <a:srgbClr val="eaeaea"/>
                </a:solidFill>
                <a:latin typeface="Arial"/>
              </a:rPr>
              <a:t>- dividir equipos de desarrollo de productos en grupos que compitan, </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estimulando la generación de diversas perspectivas para un mismo </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proceso,</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rotar el personal en diversas áreas tecnológicas y funcionales para</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favorecer la formación de una perspectiva multidisciplinar,</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diferentes departamentos funcionales trabajen juntos en un mismo</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producto o proyecto nuevo</a:t>
            </a:r>
            <a:endParaRPr b="0" lang="en-US" sz="2000" spc="-1" strike="noStrike">
              <a:solidFill>
                <a:srgbClr val="eaeaea"/>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Variedad requerida:</a:t>
            </a:r>
            <a:r>
              <a:rPr b="0" lang="es-ES" sz="1800" spc="-1" strike="noStrike">
                <a:solidFill>
                  <a:srgbClr val="eaeaea"/>
                </a:solidFill>
                <a:latin typeface="Arial"/>
              </a:rPr>
              <a:t> </a:t>
            </a:r>
            <a:r>
              <a:rPr b="0" lang="es-ES" sz="2000" spc="-1" strike="noStrike">
                <a:solidFill>
                  <a:srgbClr val="eaeaea"/>
                </a:solidFill>
                <a:latin typeface="Arial"/>
              </a:rPr>
              <a:t>diversidad de un sistema debe coincidir con la variedad y complejidad del entorno lo que supone una permanente readecuación (capacitación por ejemplo) de la empresa</a:t>
            </a:r>
            <a:endParaRPr b="0" lang="en-US" sz="2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133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0"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las Capacidades Básicas de Conocimiento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Dos elementos fundamental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 Capacidades básicas organizativas: están orientadas a </a:t>
            </a:r>
            <a:r>
              <a:rPr b="0" lang="es-ES" sz="2400" spc="-1" strike="noStrike">
                <a:solidFill>
                  <a:srgbClr val="eaeaea"/>
                </a:solidFill>
                <a:latin typeface="Arial"/>
              </a:rPr>
              <a:t>	</a:t>
            </a:r>
            <a:r>
              <a:rPr b="0" lang="es-ES" sz="2400" spc="-1" strike="noStrike">
                <a:solidFill>
                  <a:srgbClr val="eaeaea"/>
                </a:solidFill>
                <a:latin typeface="Arial"/>
              </a:rPr>
              <a:t>    facilitar actividades de </a:t>
            </a:r>
            <a:r>
              <a:rPr b="1" lang="es-ES" sz="2400" spc="-1" strike="noStrike">
                <a:solidFill>
                  <a:srgbClr val="eaeaea"/>
                </a:solidFill>
                <a:latin typeface="Arial"/>
              </a:rPr>
              <a:t>creación</a:t>
            </a:r>
            <a:r>
              <a:rPr b="0" lang="es-ES" sz="2400" spc="-1" strike="noStrike">
                <a:solidFill>
                  <a:srgbClr val="eaeaea"/>
                </a:solidFill>
                <a:latin typeface="Arial"/>
              </a:rPr>
              <a:t> de conocimiento como :</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sistemas físicos (bases de datos, software) = “memoria”</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conocimientos y aptitudes de los empleados = “memoria”</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sistemas de gestión (vías de acceso a stock de conocimientos)</a:t>
            </a:r>
            <a:endParaRPr b="0" lang="en-US" sz="2000" spc="-1" strike="noStrike">
              <a:solidFill>
                <a:srgbClr val="eaeaea"/>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ntrol”</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valores y normas culturales de la organización: “tipos” de</a:t>
            </a:r>
            <a:endParaRPr b="0" lang="en-US" sz="2000" spc="-1" strike="noStrike">
              <a:solidFill>
                <a:srgbClr val="eaeaea"/>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conocimientos incentivados/inhibidos. = “control”</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2" name="PlaceHolder 2"/>
          <p:cNvSpPr>
            <a:spLocks noGrp="1"/>
          </p:cNvSpPr>
          <p:nvPr>
            <p:ph/>
          </p:nvPr>
        </p:nvSpPr>
        <p:spPr>
          <a:xfrm>
            <a:off x="0" y="1052640"/>
            <a:ext cx="9144000" cy="58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b) </a:t>
            </a:r>
            <a:r>
              <a:rPr b="0" lang="es-ES" sz="2400" spc="-1" strike="noStrike">
                <a:solidFill>
                  <a:srgbClr val="eaeaea"/>
                </a:solidFill>
                <a:latin typeface="Arial"/>
              </a:rPr>
              <a:t>Actividades de creación de conocimiento</a:t>
            </a:r>
            <a:r>
              <a:rPr b="0" lang="es-E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000" spc="-1" strike="noStrike">
                <a:solidFill>
                  <a:srgbClr val="eaeaea"/>
                </a:solidFill>
                <a:latin typeface="Arial"/>
              </a:rPr>
              <a:t>Resolución de problemas : compartida? Por quienes?</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Implantación de nuevas metodologías para mejorar operaciones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internas.</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Experimentación e innovación para desarrollar capacidades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empresariales.</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Importación/absorción de conocimiento exterior de la empresa.</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272880"/>
            <a:ext cx="914400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4"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la Transferencia de Conocimiento: análisis de la estructura interna de la organización para ver aquello que provoca dificultad para transferir el conocimiento.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Dos component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1) Etapas de transferencia : </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nicio, donde se reconoce la necesidad de un conocimiento,</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mplantación, lugar donde se instalará,</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ncremento, donde/cómo afectará su aplicación,</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ntegración, formas de internalización/institucionalización del</a:t>
            </a:r>
            <a:endParaRPr b="0" lang="en-US" sz="2400" spc="-1" strike="noStrike">
              <a:solidFill>
                <a:srgbClr val="eaeaea"/>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onocimiento.</a:t>
            </a:r>
            <a:endParaRPr b="0" lang="en-US" sz="24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6"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2) Factores que influyen la transferenc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 la transferencia: ambigüedad causal y falta de comprobación,</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 la fuente de conocimiento: su motivación, inestabilidad,</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l destinatario del conocimiento: falta de motivación, capacidad de asimilación/retención,</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aracterísticas del contexto: tipos de relaciones interpersonale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4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l Proceso de Gestión del Conocimiento : (creación). Apoyo e intercambio del “saber-hacer”  intelectual de los empleados para mejorar la atención al cliente. Etapas del proceso:</a:t>
            </a:r>
            <a:endParaRPr b="0" lang="en-US" sz="28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spcBef>
                <a:spcPts val="499"/>
              </a:spcBef>
              <a:buClr>
                <a:srgbClr val="cce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aeaea"/>
                </a:solidFill>
                <a:uFillTx/>
                <a:latin typeface="Arial"/>
              </a:rPr>
              <a:t>Adquisición</a:t>
            </a:r>
            <a:r>
              <a:rPr b="0" lang="es-ES" sz="2000" spc="-1" strike="noStrike">
                <a:solidFill>
                  <a:srgbClr val="eaeaea"/>
                </a:solidFill>
                <a:latin typeface="Arial"/>
              </a:rPr>
              <a:t>: generación de conocimientos a partir de contenidos extraídos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de la experiencia y aprendizajes que emergen  al sintetizar e interpretar</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informaciones diversas.</a:t>
            </a:r>
            <a:endParaRPr b="0" lang="en-US" sz="2000" spc="-1" strike="noStrike">
              <a:solidFill>
                <a:srgbClr val="eaeaea"/>
              </a:solidFill>
              <a:latin typeface="Arial"/>
            </a:endParaRPr>
          </a:p>
          <a:p>
            <a:pPr marL="343080" indent="-343080">
              <a:spcBef>
                <a:spcPts val="499"/>
              </a:spcBef>
              <a:buClr>
                <a:srgbClr val="cce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aeaea"/>
                </a:solidFill>
                <a:uFillTx/>
                <a:latin typeface="Arial"/>
              </a:rPr>
              <a:t>Indización, filtrado y enlace</a:t>
            </a:r>
            <a:r>
              <a:rPr b="0" lang="es-ES" sz="2000" spc="-1" strike="noStrike">
                <a:solidFill>
                  <a:srgbClr val="eaeaea"/>
                </a:solidFill>
                <a:latin typeface="Arial"/>
              </a:rPr>
              <a:t>: organización del conocimiento en una base de</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datos o memoria organizativa (emisión, clasificación, ordenación).</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u="sng">
                <a:solidFill>
                  <a:srgbClr val="eaeaea"/>
                </a:solidFill>
                <a:uFillTx/>
                <a:latin typeface="Arial"/>
              </a:rPr>
              <a:t>Distribución</a:t>
            </a:r>
            <a:r>
              <a:rPr b="0" lang="es-ES" sz="2000" spc="-1" strike="noStrike">
                <a:solidFill>
                  <a:srgbClr val="eaeaea"/>
                </a:solidFill>
                <a:latin typeface="Arial"/>
              </a:rPr>
              <a:t>: entrega de conocimiento a quienes lo necesitan (intranet).</a:t>
            </a:r>
            <a:endParaRPr b="0" lang="en-US" sz="2000" spc="-1" strike="noStrike">
              <a:solidFill>
                <a:srgbClr val="eaeaea"/>
              </a:solidFill>
              <a:latin typeface="Arial"/>
            </a:endParaRPr>
          </a:p>
          <a:p>
            <a:pPr marL="343080" indent="-343080">
              <a:spcBef>
                <a:spcPts val="499"/>
              </a:spcBef>
              <a:buClr>
                <a:srgbClr val="cce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eaeaea"/>
                </a:solidFill>
                <a:uFillTx/>
                <a:latin typeface="Arial"/>
              </a:rPr>
              <a:t>Aplicación:</a:t>
            </a:r>
            <a:r>
              <a:rPr b="0" lang="es-ES" sz="2000" spc="-1" strike="noStrike">
                <a:solidFill>
                  <a:srgbClr val="eaeaea"/>
                </a:solidFill>
                <a:latin typeface="Arial"/>
              </a:rPr>
              <a:t> uso efectivo del conocimiento en la elaboración de productos y </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servicios con valor agregado.</a:t>
            </a:r>
            <a:endParaRPr b="0" lang="en-US" sz="2000" spc="-1" strike="noStrike">
              <a:solidFill>
                <a:srgbClr val="eaeae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72880"/>
            <a:ext cx="914400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50"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Etapas de la Gestión del Conocimiento: descansa en la existencia de 4 etapas orientadas a la resolución de problemas.</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Conceptualización: </a:t>
            </a:r>
            <a:r>
              <a:rPr b="0" lang="es-ES" sz="2400" spc="-1" strike="noStrike">
                <a:solidFill>
                  <a:srgbClr val="eaeaea"/>
                </a:solidFill>
                <a:latin typeface="Arial"/>
              </a:rPr>
              <a:t>inventario del conocimiento disponible y un análisis de los puntos fuertes y débiles que muestra su utilización.</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Reflexión</a:t>
            </a:r>
            <a:r>
              <a:rPr b="0" lang="es-ES" sz="2400" spc="-1" strike="noStrike">
                <a:solidFill>
                  <a:srgbClr val="eaeaea"/>
                </a:solidFill>
                <a:latin typeface="Arial"/>
              </a:rPr>
              <a:t>: el conocimiento se evalúa para establecer requisitos para su mejorí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Actuación: </a:t>
            </a:r>
            <a:r>
              <a:rPr b="0" lang="es-ES" sz="2400" spc="-1" strike="noStrike">
                <a:solidFill>
                  <a:srgbClr val="eaeaea"/>
                </a:solidFill>
                <a:latin typeface="Arial"/>
              </a:rPr>
              <a:t>se llevan a efecto las mejorías determinadas (desarrollar, distribuir, combinar conocimientos generados en la etapa)</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Retrospectiva:</a:t>
            </a:r>
            <a:r>
              <a:rPr b="0" lang="es-ES" sz="2400" spc="-1" strike="noStrike">
                <a:solidFill>
                  <a:srgbClr val="eaeaea"/>
                </a:solidFill>
                <a:latin typeface="Arial"/>
              </a:rPr>
              <a:t> se evalúa la aplicación y se comparan los resultados obtenidos con situaciones precedente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Gestión del Conocimiento</a:t>
            </a:r>
            <a:endParaRPr b="0" lang="en-US" sz="4400" spc="-1" strike="noStrike">
              <a:solidFill>
                <a:srgbClr val="ccecff"/>
              </a:solidFill>
              <a:latin typeface="Arial"/>
            </a:endParaRPr>
          </a:p>
        </p:txBody>
      </p:sp>
      <p:sp>
        <p:nvSpPr>
          <p:cNvPr id="252" name="PlaceHolder 2"/>
          <p:cNvSpPr>
            <a:spLocks noGrp="1"/>
          </p:cNvSpPr>
          <p:nvPr>
            <p:ph/>
          </p:nvPr>
        </p:nvSpPr>
        <p:spPr>
          <a:xfrm>
            <a:off x="0" y="1412640"/>
            <a:ext cx="9144000" cy="5445000"/>
          </a:xfrm>
          <a:prstGeom prst="rect">
            <a:avLst/>
          </a:prstGeom>
          <a:noFill/>
          <a:ln w="0">
            <a:noFill/>
          </a:ln>
        </p:spPr>
        <p:txBody>
          <a:bodyPr anchor="t">
            <a:normAutofit/>
          </a:bodyPr>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Síntesis de los modelo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rivilegian la asociación Conocimiento-intelect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Necesario incorporar la variable “emocional”</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vanzar la teoría hacia la integración d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66"/>
                </a:solidFill>
                <a:latin typeface="Arial"/>
              </a:rPr>
              <a:t>Gestión de la voluntad – </a:t>
            </a:r>
            <a:endParaRPr b="0" lang="en-US" sz="2800" spc="-1" strike="noStrike">
              <a:solidFill>
                <a:srgbClr val="eaeaea"/>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66"/>
                </a:solidFill>
                <a:latin typeface="Arial"/>
              </a:rPr>
              <a:t>gestión del conocimiento – </a:t>
            </a:r>
            <a:endParaRPr b="0" lang="en-US" sz="2800" spc="-1" strike="noStrike">
              <a:solidFill>
                <a:srgbClr val="eaeaea"/>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cc66"/>
                </a:solidFill>
                <a:latin typeface="Arial"/>
              </a:rPr>
              <a:t>gestión de los sentimientos/emociones</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54"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omponentes del Conocimiento</a:t>
            </a:r>
            <a:endParaRPr b="0" lang="en-US" sz="2400" spc="-1" strike="noStrike">
              <a:solidFill>
                <a:srgbClr val="eaeaea"/>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Lenguaje</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oncepto:</a:t>
            </a:r>
            <a:endParaRPr b="0" lang="en-US" sz="24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eaeaea"/>
                </a:solidFill>
                <a:latin typeface="Arial"/>
              </a:rPr>
              <a:t>	</a:t>
            </a:r>
            <a:r>
              <a:rPr b="0" lang="es-ES" sz="2000" spc="-1" strike="noStrike">
                <a:solidFill>
                  <a:srgbClr val="eaeaea"/>
                </a:solidFill>
                <a:latin typeface="Arial"/>
              </a:rPr>
              <a:t>Medio de comunicación que a través de sonidos, gestos, expresiones diversas, expresa significados específicos, organizados según determinadas reglas y que remiten a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66"/>
                </a:solidFill>
                <a:latin typeface="Arial"/>
              </a:rPr>
              <a:t>	</a:t>
            </a:r>
            <a:r>
              <a:rPr b="0" lang="es-ES" sz="2000" spc="-1" strike="noStrike">
                <a:solidFill>
                  <a:srgbClr val="00cc66"/>
                </a:solidFill>
                <a:latin typeface="Arial"/>
              </a:rPr>
              <a:t>	</a:t>
            </a:r>
            <a:r>
              <a:rPr b="0" lang="es-ES" sz="2000" spc="-1" strike="noStrike">
                <a:solidFill>
                  <a:srgbClr val="00cc66"/>
                </a:solidFill>
                <a:latin typeface="Arial"/>
              </a:rPr>
              <a:t>	</a:t>
            </a:r>
            <a:r>
              <a:rPr b="0" lang="es-ES" sz="2000" spc="-1" strike="noStrike">
                <a:solidFill>
                  <a:srgbClr val="00cc66"/>
                </a:solidFill>
                <a:latin typeface="Arial"/>
              </a:rPr>
              <a:t>significados, sonidos, estructuras.</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2000" spc="-1" strike="noStrike">
                <a:solidFill>
                  <a:srgbClr val="eaeaea"/>
                </a:solidFill>
                <a:latin typeface="Arial"/>
              </a:rPr>
              <a:t>Problematización del lenguaje:</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pensamiento hace el lenguaje o el lenguaje hace el pensamiento?</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Responde la hipótesis de la “relatividad lingüística”: </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cc66"/>
                </a:solidFill>
                <a:latin typeface="Arial"/>
              </a:rPr>
              <a:t>“</a:t>
            </a:r>
            <a:r>
              <a:rPr b="0" lang="es-ES" sz="2000" spc="-1" strike="noStrike">
                <a:solidFill>
                  <a:srgbClr val="00cc66"/>
                </a:solidFill>
                <a:latin typeface="Arial"/>
              </a:rPr>
              <a:t>lenguaje utilizado afecta nuestro modo de percibir y pensar</a:t>
            </a:r>
            <a:r>
              <a:rPr b="0" lang="es-ES" sz="2000" spc="-1" strike="noStrike">
                <a:solidFill>
                  <a:srgbClr val="eaeaea"/>
                </a:solidFill>
                <a:latin typeface="Arial"/>
              </a:rPr>
              <a:t>”.</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2000" spc="-1" strike="noStrike">
                <a:solidFill>
                  <a:srgbClr val="eaeaea"/>
                </a:solidFill>
                <a:latin typeface="Arial"/>
              </a:rPr>
              <a:t>en tanto éste no sólo suministra medios para expresar ideas sino que influye en la formación de las mismas. La estructura linguística forma la opinión sobre la manera en que la persona recibe la realidad.</a:t>
            </a:r>
            <a:endParaRPr b="0" lang="en-US" sz="2000" spc="-1" strike="noStrike">
              <a:solidFill>
                <a:srgbClr val="eaeaea"/>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2000" spc="-1" strike="noStrike">
                <a:solidFill>
                  <a:srgbClr val="eaeaea"/>
                </a:solidFill>
                <a:latin typeface="Arial"/>
              </a:rPr>
              <a:t>Ejemplo:  el discurso sexista “hombre público y mujer pública”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lavandero/lavander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56"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	</a:t>
            </a:r>
            <a:r>
              <a:rPr b="1" lang="es-ES" sz="2400" spc="-1" strike="noStrike" u="sng">
                <a:solidFill>
                  <a:srgbClr val="eaeaea"/>
                </a:solidFill>
                <a:uFillTx/>
                <a:latin typeface="Arial"/>
              </a:rPr>
              <a:t>Lenguaje</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Formación de concepto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Organización de una variedad de objetos, sucesos, individuos en diversas categorías a partir de rasgos en común que tienen dichos elemento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eaeaea"/>
                </a:solidFill>
                <a:latin typeface="Arial"/>
              </a:rPr>
              <a:t>Suponen contenidos muy específicos (camisa, calcetín),</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otros más amplios (ropa de vestir) o,</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más generales (ropa).</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Capacita para ordenar: objetos, sucesos aislados, experiencias, formular reglas para el pensamiento y la acción según la calidad de las definiciones construida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22" name="PlaceHolder 2"/>
          <p:cNvSpPr>
            <a:spLocks noGrp="1"/>
          </p:cNvSpPr>
          <p:nvPr>
            <p:ph/>
          </p:nvPr>
        </p:nvSpPr>
        <p:spPr>
          <a:xfrm>
            <a:off x="0" y="907920"/>
            <a:ext cx="9144000" cy="595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Contexto de una nueva política de la gestión:</a:t>
            </a:r>
            <a:endParaRPr b="0" lang="en-US" sz="32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La sociedad del conocimiento (Bell)</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Conceptos entrelazados: capital intelectual y emocional, procesos de aprendizaje, economía del pensamiento.</a:t>
            </a:r>
            <a:endParaRPr b="0" lang="en-US" sz="20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Corrientes principales: </a:t>
            </a:r>
            <a:endParaRPr b="0" lang="en-US" sz="3200" spc="-1" strike="noStrike">
              <a:solidFill>
                <a:srgbClr val="eaeaea"/>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Capital intelectual” (elementos que permiten ser medidos y valorizados,</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Organizaciones que aprenden” (unidades que aprenden de lo cotidiano)</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Sistemas de información y tecnologías” (almacenamiento y flujo del conocimiento) Importancia de la comunicación.</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a:t>
            </a:r>
            <a:r>
              <a:rPr b="0" lang="es-ES" sz="2000" spc="-1" strike="noStrike">
                <a:solidFill>
                  <a:srgbClr val="eaeaea"/>
                </a:solidFill>
                <a:latin typeface="Arial"/>
              </a:rPr>
              <a:t>Gestión por competencias” (</a:t>
            </a:r>
            <a:r>
              <a:rPr b="0" lang="es-CL" sz="2000" spc="-1" strike="noStrike">
                <a:solidFill>
                  <a:srgbClr val="eaeaea"/>
                </a:solidFill>
                <a:latin typeface="Arial"/>
              </a:rPr>
              <a:t>potenciar las características de la persona en función de los puestos y tareas que deberán cubrir, humanizar la gestión.)</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58" name="PlaceHolder 2"/>
          <p:cNvSpPr>
            <a:spLocks noGrp="1"/>
          </p:cNvSpPr>
          <p:nvPr>
            <p:ph/>
          </p:nvPr>
        </p:nvSpPr>
        <p:spPr>
          <a:xfrm>
            <a:off x="0" y="836640"/>
            <a:ext cx="9144000" cy="6021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	</a:t>
            </a:r>
            <a:r>
              <a:rPr b="1" lang="es-ES" sz="2400" spc="-1" strike="noStrike" u="sng">
                <a:solidFill>
                  <a:srgbClr val="eaeaea"/>
                </a:solidFill>
                <a:uFillTx/>
                <a:latin typeface="Arial"/>
              </a:rPr>
              <a:t>Lenguaje</a:t>
            </a:r>
            <a:endParaRPr b="0" lang="en-US" sz="24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Permite resolver problemas: disponiendo de adecuados conceptos para procesar las nuevas informaciones o datos que entran en la empresa es posible enfrentar en forma apropiada la resolución de problemas en sus tres etapas: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preparación o identificación del problem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producción de las soluciones e implementación,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evaluación y/o discernir si la solución es buena o mal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Discernir supone: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dificar en forma selectiva (relevante/irrelevante)</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mbinación selectiva (formas de combinar diversas a la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a:t>
            </a:r>
            <a:r>
              <a:rPr b="0" lang="es-ES" sz="2000" spc="-1" strike="noStrike">
                <a:solidFill>
                  <a:srgbClr val="eaeaea"/>
                </a:solidFill>
                <a:latin typeface="Arial"/>
              </a:rPr>
              <a:t>anteriore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	</a:t>
            </a:r>
            <a:r>
              <a:rPr b="0" lang="es-ES" sz="2000" spc="-1" strike="noStrike">
                <a:solidFill>
                  <a:srgbClr val="eaeaea"/>
                </a:solidFill>
                <a:latin typeface="Arial"/>
              </a:rPr>
              <a:t>- comparación selectiva (descubrir una relación poco obvi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60"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Componentes del Conocimiento</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1" lang="es-ES" sz="2800" spc="-1" strike="noStrike" u="sng">
                <a:solidFill>
                  <a:srgbClr val="eaeaea"/>
                </a:solidFill>
                <a:uFillTx/>
                <a:latin typeface="Arial"/>
              </a:rPr>
              <a:t>Memoria</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4 pasos fundamentales:</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1º Percepción: algo que se ve o escucha o que afecta o impresiona a cualquiera de nuestros sentido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2º Codifica lo que desea recordar: clasifica información que debe estar preparada organizándola de forma significativa a través de letras, sonidos, gustos.</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3º Almacena el material para que permanezca en la memori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Arial"/>
              </a:rPr>
              <a:t>4º Recuperación: extraer del almacén la información.</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62" name="PlaceHolder 2"/>
          <p:cNvSpPr>
            <a:spLocks noGrp="1"/>
          </p:cNvSpPr>
          <p:nvPr>
            <p:ph/>
          </p:nvPr>
        </p:nvSpPr>
        <p:spPr>
          <a:xfrm>
            <a:off x="455400" y="1052280"/>
            <a:ext cx="8226360" cy="50432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1" lang="es-ES" sz="2800" spc="-1" strike="noStrike" u="sng">
                <a:solidFill>
                  <a:srgbClr val="eaeaea"/>
                </a:solidFill>
                <a:uFillTx/>
                <a:latin typeface="Arial"/>
              </a:rPr>
              <a:t>Memoria</a:t>
            </a:r>
            <a:endParaRPr b="0" lang="en-US" sz="2800" spc="-1" strike="noStrike">
              <a:solidFill>
                <a:srgbClr val="eaeaea"/>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53352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Algunas formas de codificación: </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crear significados, </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identificar un aspecto, </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por sonido</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utilizando palabras para memorizar ideas</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utilizando imágenes: para memorizar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objetos y hechos.</a:t>
            </a: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64" name="PlaceHolder 2"/>
          <p:cNvSpPr>
            <a:spLocks noGrp="1"/>
          </p:cNvSpPr>
          <p:nvPr>
            <p:ph/>
          </p:nvPr>
        </p:nvSpPr>
        <p:spPr>
          <a:xfrm>
            <a:off x="0" y="907920"/>
            <a:ext cx="9144000" cy="5950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0" lang="es-ES" sz="1800" spc="-1" strike="noStrike">
                <a:solidFill>
                  <a:srgbClr val="eaeaea"/>
                </a:solidFill>
                <a:latin typeface="Arial"/>
              </a:rPr>
              <a:t>	</a:t>
            </a:r>
            <a:r>
              <a:rPr b="1" lang="es-ES" sz="2400" spc="-1" strike="noStrike" u="sng">
                <a:solidFill>
                  <a:srgbClr val="eaeaea"/>
                </a:solidFill>
                <a:uFillTx/>
                <a:latin typeface="Arial"/>
              </a:rPr>
              <a:t>Memoria</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o anterior permite reconocer tres tipos de memoria:</a:t>
            </a:r>
            <a:endParaRPr b="0" lang="en-US" sz="24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 Memoria sensorial: es el registro de lo que percibimos a través de nuestros sentidos.-</a:t>
            </a:r>
            <a:endParaRPr b="0" lang="en-US" sz="2400" spc="-1" strike="noStrike">
              <a:solidFill>
                <a:srgbClr val="eaeaea"/>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b) Memoria de corto plazo: memoria de trabajo, es activa, contiene la información que estamos utilizando en ese momento. Decae con rapidez (por ej. si no hay repetición) y el repaso ayuda a retener el dato. Su capacidad es reducida (máximo 7 datos), el fraccionamiento de unidades ayuda a su retención.-</a:t>
            </a:r>
            <a:endParaRPr b="0" lang="en-US" sz="2400" spc="-1" strike="noStrike">
              <a:solidFill>
                <a:srgbClr val="eaeaea"/>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 Memoria de largo plazo: “taller del carpintero” estanterías son memoria de largo plazo. Si pongo las herramientas en forma desordenada  (= no codificada) no las encuentro.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5400" y="1773000"/>
            <a:ext cx="8226360" cy="4322520"/>
          </a:xfrm>
          <a:prstGeom prst="rect">
            <a:avLst/>
          </a:prstGeom>
          <a:noFill/>
          <a:ln w="0">
            <a:noFill/>
          </a:ln>
        </p:spPr>
        <p:txBody>
          <a:bodyPr anchor="t">
            <a:normAutofit/>
          </a:bodyPr>
          <a:p>
            <a:pPr lvl="4" marL="1828800" indent="0" algn="just">
              <a:spcBef>
                <a:spcPts val="1001"/>
              </a:spcBef>
              <a:buNone/>
              <a:tabLst>
                <a:tab algn="l" pos="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aeaea"/>
                </a:solidFill>
                <a:latin typeface="Arial"/>
              </a:rPr>
              <a:t>Conciencia</a:t>
            </a:r>
            <a:endParaRPr b="0" lang="en-US" sz="4000" spc="-1" strike="noStrike">
              <a:solidFill>
                <a:srgbClr val="eaeaea"/>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El tomar conciencia implica el darse cuenta, el percatarse, ya sea de los estímulos del mundo, de la interioridad orgánica así como de los procesos cognitivo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5400" y="1598760"/>
            <a:ext cx="8226360" cy="449712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Desde una mirada psico biológica, se puede entender que el concienciar tiene distintos grados de Intensidad ( desde el máximo alerta, hasta la pérdida de conciencia, en el estado de com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68360" y="1125360"/>
            <a:ext cx="8229600" cy="514512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Desde una mirada cognitivista, la conciencia es el nivel más alto : complejo,</a:t>
            </a:r>
            <a:endParaRPr b="0" lang="en-US" sz="3200" spc="-1" strike="noStrike">
              <a:solidFill>
                <a:srgbClr val="eaeaea"/>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3200" spc="-1" strike="noStrike">
                <a:solidFill>
                  <a:srgbClr val="eaeaea"/>
                </a:solidFill>
                <a:latin typeface="Arial"/>
              </a:rPr>
              <a:t>simultáneo y diacrónico, y jerárquicamente organizado, de PROCESAMIENTO DE INFORMACIO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341360"/>
            <a:ext cx="8229600" cy="76320"/>
          </a:xfrm>
          <a:prstGeom prst="rect">
            <a:avLst/>
          </a:prstGeom>
          <a:noFill/>
          <a:ln w="0">
            <a:noFill/>
          </a:ln>
        </p:spPr>
        <p:txBody>
          <a:bodyPr tIns="30600" bIns="306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PENSAMIENTO</a:t>
            </a:r>
            <a:endParaRPr b="0" lang="en-US" sz="4000" spc="-1" strike="noStrike">
              <a:solidFill>
                <a:srgbClr val="ccecff"/>
              </a:solidFill>
              <a:latin typeface="Arial"/>
            </a:endParaRPr>
          </a:p>
        </p:txBody>
      </p:sp>
      <p:sp>
        <p:nvSpPr>
          <p:cNvPr id="269" name="PlaceHolder 2"/>
          <p:cNvSpPr>
            <a:spLocks noGrp="1"/>
          </p:cNvSpPr>
          <p:nvPr>
            <p:ph/>
          </p:nvPr>
        </p:nvSpPr>
        <p:spPr>
          <a:xfrm>
            <a:off x="457200" y="2060280"/>
            <a:ext cx="8229600" cy="406548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Actividad mental consistente en el uso de símbolos que permite la operación de conceptos e imágene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5400" y="1598760"/>
            <a:ext cx="8226360" cy="4497120"/>
          </a:xfrm>
          <a:prstGeom prst="rect">
            <a:avLst/>
          </a:prstGeom>
          <a:noFill/>
          <a:ln w="0">
            <a:noFill/>
          </a:ln>
        </p:spPr>
        <p:txBody>
          <a:bodyPr anchor="t">
            <a:normAutofit/>
          </a:bodyPr>
          <a:p>
            <a:pPr marL="343080" indent="-343080" algn="just">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El PENSAMIENTO se constituye sobre la </a:t>
            </a:r>
            <a:endParaRPr b="0" lang="en-US" sz="3200" spc="-1" strike="noStrike">
              <a:solidFill>
                <a:srgbClr val="eaeaea"/>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3200" spc="-1" strike="noStrike">
                <a:solidFill>
                  <a:srgbClr val="eaeaea"/>
                </a:solidFill>
                <a:latin typeface="Arial"/>
              </a:rPr>
              <a:t>base de tres elementos : lenguaje, </a:t>
            </a:r>
            <a:endParaRPr b="0" lang="en-US" sz="3200" spc="-1" strike="noStrike">
              <a:solidFill>
                <a:srgbClr val="eaeaea"/>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	</a:t>
            </a:r>
            <a:r>
              <a:rPr b="0" lang="es-ES" sz="3200" spc="-1" strike="noStrike">
                <a:solidFill>
                  <a:srgbClr val="eaeaea"/>
                </a:solidFill>
                <a:latin typeface="Arial"/>
              </a:rPr>
              <a:t>imágenes y concepto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Gestión del conocimiento</a:t>
            </a:r>
            <a:endParaRPr b="0" lang="en-US" sz="3200" spc="-1" strike="noStrike">
              <a:solidFill>
                <a:srgbClr val="ccecff"/>
              </a:solidFill>
              <a:latin typeface="Arial"/>
            </a:endParaRPr>
          </a:p>
        </p:txBody>
      </p:sp>
      <p:sp>
        <p:nvSpPr>
          <p:cNvPr id="272"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Ejercicio:</a:t>
            </a:r>
            <a:endParaRPr b="0" lang="en-US" sz="2400" spc="-1" strike="noStrike">
              <a:solidFill>
                <a:srgbClr val="eaeaea"/>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1º En grupos de 4 o 5 personas elija uno de los modelos  presentados.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2º Seleccione o identifique una experiencia que puedan compartir en el grupo, en relación con la gestión de conocimiento, vinculada con el ámbito laboral.</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3º Aplique los instrumentos o perspectivas del modelo escogido a la experiencia en cuestión.</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4º Haga un análisis crítico de al menos dos fortalezas y dos debilidades del modelo utilizado.</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Que es el conocimiento?</a:t>
            </a:r>
            <a:endParaRPr b="0" lang="en-US" sz="3200" spc="-1" strike="noStrike">
              <a:solidFill>
                <a:srgbClr val="ccecff"/>
              </a:solidFill>
              <a:latin typeface="Arial"/>
            </a:endParaRPr>
          </a:p>
        </p:txBody>
      </p:sp>
      <p:sp>
        <p:nvSpPr>
          <p:cNvPr id="224" name="PlaceHolder 2"/>
          <p:cNvSpPr>
            <a:spLocks noGrp="1"/>
          </p:cNvSpPr>
          <p:nvPr>
            <p:ph/>
          </p:nvPr>
        </p:nvSpPr>
        <p:spPr>
          <a:xfrm>
            <a:off x="0" y="1196640"/>
            <a:ext cx="9144000" cy="5661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onocimiento: “hacer conciencia”, comprensión (causas-efectos) a través de la experiencia. Es siempre resultado del procesamiento personal por uno o más individuos, por ello, está ligado al contexto. “No hay verdades completas, todas son verdades a medias”</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Se distingue de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eaeaea"/>
                </a:solidFill>
                <a:uFillTx/>
                <a:latin typeface="Arial"/>
              </a:rPr>
              <a:t>Datos:</a:t>
            </a:r>
            <a:r>
              <a:rPr b="0" lang="es-ES" sz="2400" spc="-1" strike="noStrike">
                <a:solidFill>
                  <a:srgbClr val="eaeaea"/>
                </a:solidFill>
                <a:latin typeface="Arial"/>
              </a:rPr>
              <a:t> hechos discretos, no estructurados, sin significado, descontextualizados.</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Información:</a:t>
            </a:r>
            <a:r>
              <a:rPr b="0" lang="es-ES" sz="2400" spc="-1" strike="noStrike">
                <a:solidFill>
                  <a:srgbClr val="eaeaea"/>
                </a:solidFill>
                <a:latin typeface="Arial"/>
              </a:rPr>
              <a:t> datos (interpretados, estructurados), enviados a un receptor. Apunta a modificar criterios o conductas de éste  en un cierto contexto (experiencias, conocimientos previos, emociones) que es lo que transforma el dato en información.</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Aprendizaje:</a:t>
            </a:r>
            <a:r>
              <a:rPr b="0" lang="es-ES" sz="2400" spc="-1" strike="noStrike">
                <a:solidFill>
                  <a:srgbClr val="eaeaea"/>
                </a:solidFill>
                <a:latin typeface="Arial"/>
              </a:rPr>
              <a:t> proceso por el cual se adquiere conocimiento, flujos que cambian esquemas, saberes, valores, creencia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Algunas consideraciones preliminares sobre el conocimiento</a:t>
            </a:r>
            <a:endParaRPr b="0" lang="en-US" sz="3200" spc="-1" strike="noStrike">
              <a:solidFill>
                <a:srgbClr val="ccecff"/>
              </a:solidFill>
              <a:latin typeface="Arial"/>
            </a:endParaRPr>
          </a:p>
        </p:txBody>
      </p:sp>
      <p:sp>
        <p:nvSpPr>
          <p:cNvPr id="226" name="PlaceHolder 2"/>
          <p:cNvSpPr>
            <a:spLocks noGrp="1"/>
          </p:cNvSpPr>
          <p:nvPr>
            <p:ph/>
          </p:nvPr>
        </p:nvSpPr>
        <p:spPr>
          <a:xfrm>
            <a:off x="0" y="1483920"/>
            <a:ext cx="9144000" cy="53737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El conocimiento se produce en cualquier lugar de la organización al interior de la jerarquía de funcione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El conocimiento en la organización se produce por la interacción de su personal, en la cultura de la unidad labora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No confundir conocimiento y gestión del mismo con tecnologías de información: estas almacenan y distribuyen pero no producen. Sólo las personas lo producen pues requiere interpretación, raciocinio.</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Importancia de difundir el conocimiento para modificar conducta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Tipologías de conocimiento en el ámbito laboral</a:t>
            </a:r>
            <a:br>
              <a:rPr sz="3200"/>
            </a:br>
            <a:endParaRPr b="0" lang="en-US" sz="3200" spc="-1" strike="noStrike">
              <a:solidFill>
                <a:srgbClr val="ccecff"/>
              </a:solidFill>
              <a:latin typeface="Arial"/>
            </a:endParaRPr>
          </a:p>
        </p:txBody>
      </p:sp>
      <p:sp>
        <p:nvSpPr>
          <p:cNvPr id="228" name="PlaceHolder 2"/>
          <p:cNvSpPr>
            <a:spLocks noGrp="1"/>
          </p:cNvSpPr>
          <p:nvPr>
            <p:ph/>
          </p:nvPr>
        </p:nvSpPr>
        <p:spPr>
          <a:xfrm>
            <a:off x="0" y="98064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1º Tácito, implícito o no codificable: saberes acumulados por los empleados.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Modalidad técnica (acción): se articula a través de actitudes, habilidades,  competencias personales</a:t>
            </a: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Modalidad cognitiva; creencias, ideales, valores que determinan la forma de ver el mundo.</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2º Explícito o codificable: puede ser expresado,  comunicado con precisión compartido.  Es impersonal, objetivo, formalizado, articulado.</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La gestión del conocimiento</a:t>
            </a:r>
            <a:endParaRPr b="0" lang="en-US" sz="3200" spc="-1" strike="noStrike">
              <a:solidFill>
                <a:srgbClr val="ccecff"/>
              </a:solidFill>
              <a:latin typeface="Arial"/>
            </a:endParaRPr>
          </a:p>
        </p:txBody>
      </p:sp>
      <p:sp>
        <p:nvSpPr>
          <p:cNvPr id="230"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t>
            </a:r>
            <a:r>
              <a:rPr b="0" lang="es-ES" sz="2400" spc="-1" strike="noStrike">
                <a:solidFill>
                  <a:srgbClr val="eaeaea"/>
                </a:solidFill>
                <a:latin typeface="Arial"/>
              </a:rPr>
              <a:t>Esfuerzo por desentrañar y afianzar el conocimiento individual para que esté disponible como recurso organizativo”. </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omprende: creación, adquisición, intercambio de conocimiento y que mejora el aprendizaje y rendimiento de las organizaciones.</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Función que planifica, coordina y controla los flujos de conocimiento en el interior como en la relación con el exterior de la organización para desarrollar competencias esenciales. Relevante en la actualidad dado la gran generación de conocimiento y la necesidad de la organización de crear conocimientos para disponer de ventajas comparativas.</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mportancia de “aprender a aprender”; = potenciar lo intangible.</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360"/>
            <a:ext cx="822636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La gestión del conocimiento</a:t>
            </a:r>
            <a:endParaRPr b="0" lang="en-US" sz="3200" spc="-1" strike="noStrike">
              <a:solidFill>
                <a:srgbClr val="ccecff"/>
              </a:solidFill>
              <a:latin typeface="Arial"/>
            </a:endParaRPr>
          </a:p>
        </p:txBody>
      </p:sp>
      <p:sp>
        <p:nvSpPr>
          <p:cNvPr id="232"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Valor del conocimiento: integración con actuaciones  cotidianas de la organización laboral.</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segurar disponibilidad del conocimiento para las personas correctas, en el momento oportuno, en el lugar adecuad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stá relacionada con el dominio de competencias organizativas: forma de combinar factores ( equipos multidisciplinarios, círculos de calidad y creatividad, políticas de motivación)</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stá relacionada con dominio de competencias personales: asegurar el máximo aprovechamiento de actitudes, aptitudes y capacidades de empleados.</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mbos dominios apuntan a una mirada introspectiva de la organización o servicio.</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72520"/>
            <a:ext cx="914400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34"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Modelo de los P</a:t>
            </a:r>
            <a:r>
              <a:rPr b="0" lang="es-ES" sz="3200" spc="-1" strike="noStrike">
                <a:solidFill>
                  <a:srgbClr val="eaeaea"/>
                </a:solidFill>
                <a:latin typeface="Arial"/>
              </a:rPr>
              <a:t>ilares del Conocimiento</a:t>
            </a:r>
            <a:r>
              <a:rPr b="0" lang="es-ES" sz="2800" spc="-1" strike="noStrike">
                <a:solidFill>
                  <a:srgbClr val="eaeaea"/>
                </a:solidFill>
                <a:latin typeface="Arial"/>
              </a:rPr>
              <a:t>: cada uno representa  funciones necesarias para la creación, expresión, uso y transmisión del conocimiento.</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 Exploración del conocimiento : estudio/clasificación/análisis y actividades relacionadas con su obtención, codificación y organización.</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B) Evaluación del valor del conocimiento: significación acordada a sus contenidos en función del contexto donde se encuentra.</a:t>
            </a:r>
            <a:endParaRPr b="0" lang="en-US" sz="2400" spc="-1" strike="noStrike">
              <a:solidFill>
                <a:srgbClr val="eaeaea"/>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lnSpc>
                <a:spcPct val="90000"/>
              </a:lnSpc>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 Gestión y utilización del conocimiento: manejo, uso, control, automatización del mismo.</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72520"/>
            <a:ext cx="9144000" cy="70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Modelos de gestión del conocimiento (Holsapple y Josti)</a:t>
            </a:r>
            <a:endParaRPr b="0" lang="en-US" sz="2800" spc="-1" strike="noStrike">
              <a:solidFill>
                <a:srgbClr val="ccecff"/>
              </a:solidFill>
              <a:latin typeface="Arial"/>
            </a:endParaRPr>
          </a:p>
        </p:txBody>
      </p:sp>
      <p:sp>
        <p:nvSpPr>
          <p:cNvPr id="236" name="PlaceHolder 2"/>
          <p:cNvSpPr>
            <a:spLocks noGrp="1"/>
          </p:cNvSpPr>
          <p:nvPr>
            <p:ph/>
          </p:nvPr>
        </p:nvSpPr>
        <p:spPr>
          <a:xfrm>
            <a:off x="0" y="1196640"/>
            <a:ext cx="9144000" cy="5661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eaeaea"/>
                </a:solidFill>
                <a:uFillTx/>
                <a:latin typeface="Arial"/>
              </a:rPr>
              <a:t>Modelo de la Conversión del Conocimiento:</a:t>
            </a:r>
            <a:r>
              <a:rPr b="0" lang="es-ES" sz="2400" spc="-1" strike="noStrike">
                <a:solidFill>
                  <a:srgbClr val="eaeaea"/>
                </a:solidFill>
                <a:latin typeface="Arial"/>
              </a:rPr>
              <a:t>  pone énfasis en el tipo de estructura organizacional adaptada a la creación de conocimiento y el tipo de prácticas que deben por tanto desarrollar para trasladar su visión a las nuevas tecnologías. </a:t>
            </a:r>
            <a:endParaRPr b="0" lang="en-US" sz="2400" spc="-1" strike="noStrike">
              <a:solidFill>
                <a:srgbClr val="eaeaea"/>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Factores que intervienen:</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Intención organizativa</a:t>
            </a:r>
            <a:r>
              <a:rPr b="0" lang="es-ES" sz="2400" spc="-1" strike="noStrike">
                <a:solidFill>
                  <a:srgbClr val="eaeaea"/>
                </a:solidFill>
                <a:latin typeface="Arial"/>
              </a:rPr>
              <a:t>: aspiraciones, metas y visión</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empresarial.</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Autonomía</a:t>
            </a:r>
            <a:r>
              <a:rPr b="0" lang="es-ES" sz="2400" spc="-1" strike="noStrike">
                <a:solidFill>
                  <a:srgbClr val="eaeaea"/>
                </a:solidFill>
                <a:latin typeface="Arial"/>
              </a:rPr>
              <a:t>: para la creación de conocimiento y compromiso</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personal.</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Caos creativo</a:t>
            </a:r>
            <a:r>
              <a:rPr b="0" lang="es-ES" sz="2400" spc="-1" strike="noStrike">
                <a:solidFill>
                  <a:srgbClr val="eaeaea"/>
                </a:solidFill>
                <a:latin typeface="Arial"/>
              </a:rPr>
              <a:t>: fuerza inherente capaz de impulsar los</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a:solidFill>
                  <a:srgbClr val="eaeaea"/>
                </a:solidFill>
                <a:latin typeface="Arial"/>
              </a:rPr>
              <a:t>procesos de la empresa en particular los de conocimient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0" lang="es-ES" sz="2400" spc="-1" strike="noStrike" u="sng">
                <a:solidFill>
                  <a:srgbClr val="eaeaea"/>
                </a:solidFill>
                <a:uFillTx/>
                <a:latin typeface="Arial"/>
              </a:rPr>
              <a:t>Redundancia</a:t>
            </a:r>
            <a:r>
              <a:rPr b="0" lang="es-ES" sz="2400" spc="-1" strike="noStrike">
                <a:solidFill>
                  <a:srgbClr val="eaeaea"/>
                </a:solidFill>
                <a:latin typeface="Arial"/>
              </a:rPr>
              <a:t>: superposición consciente de información.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20:07:58Z</dcterms:created>
  <dc:creator>Aldo</dc:creator>
  <dc:description/>
  <dc:language>en-US</dc:language>
  <cp:lastModifiedBy>Aldo Meneses</cp:lastModifiedBy>
  <dcterms:modified xsi:type="dcterms:W3CDTF">2015-10-23T18:09:57Z</dcterms:modified>
  <cp:revision>88</cp:revision>
  <dc:subject/>
  <dc:title>Gestión del Conocimiento</dc:title>
</cp:coreProperties>
</file>