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2F2-28C0-462E-966A-D2BC57F0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D1D-3B83-4A21-82B2-807EE74F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E71-FC06-4277-BE79-DD47418A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E8D-AC62-4AFB-A87E-69D7184E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0155-C90F-4FDE-B625-FF51050F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E8C0-CE9A-4310-895F-4AD00860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5DF1-E44B-46CA-8029-14A128F6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D1D7-6BAD-47CF-9A07-85B4D9A5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3D64-3752-4D78-BCD7-C0B3D876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93FF-340D-425D-9DD3-5250EF72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B9B3-D0D7-4528-B12A-89BCC292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1FD-00C5-4F65-B793-EC967FE4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C428-9DA5-4105-ABA1-75C75962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4C16-BBB2-49E1-917D-2F64E51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6433-55C7-4FC3-8DA3-21574961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7C0A-80DA-4387-BDA8-82FF6424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B68A-D928-46FE-8394-3C30CF8F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1AD-0A6C-4212-902A-3DD0E7E4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26C-DBCC-4595-8012-04F89848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637-BA90-4635-92FD-3CC4FC43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8EB-1878-4F5E-B96A-0AD84EEC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792-BF24-40D2-A029-CFCE77F9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011-B41E-4E9E-B885-92096E5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D00-3DE8-417B-9300-7A9DEBF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F6DB-AA98-4EFE-A59C-1EBB001CAC7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EA34-8BE8-4914-A696-D30F4A616197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Tahoma"/>
              </a:rPr>
              <a:t>MOTIVACION Y ETiOLOG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gíster en Gobierno y Gerencia Púb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ap-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unque la atracción puede estar fundada en operaciones distintas de la experiencia afectiva, no cabe duda que el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lacer y el dolor que experimentan los individuos en su interacción con las cosas forman una parte singularmente profunda de su conducta tanto apetitiva como evi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verdad indiscutible de que los organismos tienden en líneas generales 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onseguir placer y evitar el dolor han partido las interpretaciones hedonistas del incen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ro estas teorías también explican cómo algunos motivos pueden llegar a oponerse a la satisfacción de las necesidades orgánicas básicas e incluso desencadenan comportamientos perjudiciales para el organ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e tipo de motivación por la búsqueda del placer explicaría, por ejemplo, el consumo de tabaco, el consumo de drogas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os autores como Mc Clelland o James Olds también realizan sus aportaciones a este campo. Para Mc Clelland : "un motivo es una asociación afectiva intensa, caracterizada por una reacción anticipatoria de una meta, en base a la asociación previa de ciertos estímulos clave con reacciones afectivas de placer o dolor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otra part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lds estudia los centros de placer y dolor del cerebro confirmando el gran poder motivacional de las experiencias afectivas que no tienen más función inmediata que el goc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Éste puede funcionar como un fin en sí mismo disociado de toda utilidad homeostática o impulso-reducto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 latín, motus: movimiento; motivación: lo que muev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cho de otra forma,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motivación representa qué es lo que originariamente determina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que una persona inicie una acción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activ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se desplace hacia un objetiv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direc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y persista en sus tentativas para alcanzarl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mantenimiento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Motivació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una inferencia que hacemos a partir de las manifestaciones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diendo ser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acertada o equivocad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y no existiendo una explicación unánime a tal fenómeno, ya que en ello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están comprometidos valores sociales que afectan a la clase de personas y a su modelo de socie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Ball, 197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finición convencional: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conjunto de procesos implicados en la activación, dirección y mantenimiento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definición tiene el mérito de destacar sus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tres dimensiones esenciales: activadora, directiva y persiste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; pero también presenta algunas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limitacion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como su carácter de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constructo hipotético inferenc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or lo que resulta difícilmente observable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inclusión del self (sí mismo) y el establecimiento de interrelaciones entre la cognición, la afectividad y el comportamient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son los rasgos má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racterísticos  de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s modernas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teorí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sobre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tivació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latón: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“la motivación fluye desde el alma: tripartita, jerárquicamente constituida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 nivel: Prim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Aspecto apetitivo del alma: apetitos y deseos corporales (hambre, sed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 Nivel: Elemento Compet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Roles socialmente especificados, sentimientos de honor y vergüenz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I Nivel: Aspecto Calculado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Capacidad de toma de decisiones, de razón y ele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diversos aspectos del alma motivaban los diversos terrenos del comport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4343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cDougall (1908) el exponente más característico de las posiciones instintivist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a teoría de McDougall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resuelve el estatus del potencial motivador postulando que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os instintos no sólo impulsan la actividad humana sino que también fijan las metas hacia las que la actividad se diri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l instinto se define como una tendencia genéticamente programada, de carácter innato y univers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conductas instintivas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stán gobernadas por el sistema nervioso cent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estionamiento: tratar de explicar la enorme diversidad de conductas humanas con un número reducido de instint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instintos serían patrones innatos de conducta universales para la especie, independientes de la experiencia y provocados por estímulos o condiciones específicos. Las primeras teorías del instinto fueron duramente criticadas, una de las criticas era que implicaba un razonamiento circular; otra, que las teorías del instinto no explican la amplia variedad del comportamiento huma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Observ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Infe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ucha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Los seres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humanos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n un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stinto de exploración 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curios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Explicación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riosidad por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 un instinto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xploración o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4284720" y="256536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 rot="2443800">
            <a:off x="4858920" y="3789360"/>
            <a:ext cx="289080" cy="1152360"/>
          </a:xfrm>
          <a:prstGeom prst="downArrow">
            <a:avLst>
              <a:gd name="adj1" fmla="val 50000"/>
              <a:gd name="adj2" fmla="val 9965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2843280" y="2997360"/>
            <a:ext cx="288720" cy="934920"/>
          </a:xfrm>
          <a:prstGeom prst="upArrow">
            <a:avLst>
              <a:gd name="adj1" fmla="val 50000"/>
              <a:gd name="adj2" fmla="val 809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0:27:35Z</dcterms:created>
  <dc:creator>Edmundo Campusano</dc:creator>
  <dc:description/>
  <dc:language>en-US</dc:language>
  <cp:lastModifiedBy>Hewlett-Packard Company</cp:lastModifiedBy>
  <dcterms:modified xsi:type="dcterms:W3CDTF">2018-07-23T15:40:06Z</dcterms:modified>
  <cp:revision>23</cp:revision>
  <dc:subject/>
  <dc:title>Diapositiva 1</dc:title>
</cp:coreProperties>
</file>