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A04B8-592D-4DE4-8F5D-8399B856E4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0E853-E39E-4530-9783-2E1D4D9B6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96E44A-2EDD-413B-9891-D8F8E8764B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BDF954-3F8E-40F3-8FF5-7C7D29D57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0ED0F0-B4D6-44BB-AA87-B602348157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660677-19FF-4D8A-88C1-6416B3DFA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2AB309-E1A7-4BBE-812E-840B1D7E18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F71C11-CD58-42DD-86F9-B76A314E6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3BDABE-B3C6-4BEB-AC34-D7FB7AB125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104B7B-D246-4635-92EC-039AF3CFD7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66018-6544-48D2-96CF-FCA8F5E7C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5A8BE-E625-46A5-9644-8E92FCA66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496E7-8A95-4A8B-928D-2140AB036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4A831-846E-4DC2-BB42-553757B9D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5B82A-4308-4458-AB2D-2917466859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5E268B-6E89-4E5B-A479-B9BED4B8CD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E2FAE6-D399-406A-8600-C17AAE5777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A577C-289A-4E96-A238-4ED0E0D55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6EBAC-407E-479F-A497-93907BAD5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9042E-455F-420C-87FC-BD1C59962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1A679-F4DF-4945-916F-29DB52E52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9117A-90D5-483C-BC2A-00AD0118F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E45BB-E910-4322-A782-089408515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D24DB-9AAA-4FDC-9D68-8211655E7F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55370-F342-447A-AB63-61160641905B}"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ADDF5-D3EC-431E-9E5E-EB93E6E6C33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220968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Arial"/>
              </a:rPr>
              <a:t>TEORIA ATRIBUCIONAL</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5" descr="RELIEV1"/>
          <p:cNvPicPr/>
          <p:nvPr/>
        </p:nvPicPr>
        <p:blipFill>
          <a:blip r:embed="rId1"/>
          <a:stretch/>
        </p:blipFill>
        <p:spPr>
          <a:xfrm>
            <a:off x="685800" y="1752480"/>
            <a:ext cx="7777080" cy="316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uando un resultado es diferente al esperado inicialmente, el individuo trata de identificar la razón del  fallo.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la justificación hallada presenta las características de externalidad, estabilidad e incontrolabilidad, el individuo tenderá a evitar la tarea, puesto que está fuera de su alcance, o al menos tratar de realizarla tratando de evitar el fracaso; es decir motivado a evitar el fracaso más que a conseguir el logr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57200" y="1108080"/>
            <a:ext cx="8229600" cy="574992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cambio, la posibilidad de que el sujeto llegue a concebir que existen diferentes causas posibles al fallo, (por ejemplo en lectura: el texto era complejo, las letras no estaban bien definidas, desconocía el tema de la lectura, etc.) y que estas pueden modificarse (puedo consultar a alguien  lo que desconozco, voy a disminuir mi lectura para considerar si comprendo, voy a revisar en un diccionario, etc,) gracias a una actividad personal controlable por el propio actor, favorece que el individuo trate de reiniciar la tarea abordando los errores desde una perspectiva de mejora (Hacker, 1997). Atendiendo aquello que ha hecho mal, empleando nuevas estrategias, redibujando los objetivos, etc.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 suma, la capacidad para atender a las variables que intervienen en la solución de una tarea, y la opción a analizar la información que resulta de su estudio, puede hacer que el sujeto aprenda a ajustar sus atribuciones sobre las causas que han ocasionado el resultado obtenido. La autoobservación le permite una atribución adaptativa, y con ello, posibilita la motivación hacia la tare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57200" y="304560"/>
            <a:ext cx="8229600" cy="582588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nueva teoría atribucional de la motivación y la emoción </a:t>
            </a:r>
            <a:r>
              <a:rPr b="1" lang="es-ES" sz="2400" spc="-1" strike="noStrike">
                <a:solidFill>
                  <a:srgbClr val="ffffff"/>
                </a:solidFill>
                <a:latin typeface="Arial"/>
              </a:rPr>
              <a:t>considera las emociones como determinantes, directos o indirectos, de la conducta de los sujetos</a:t>
            </a:r>
            <a:r>
              <a:rPr b="0" lang="es-ES" sz="2400" spc="-1" strike="noStrike">
                <a:solidFill>
                  <a:srgbClr val="ffffff"/>
                </a:solidFill>
                <a:latin typeface="Arial"/>
              </a:rPr>
              <a:t> (Weiner, 1985, 1986).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ella se postula que, ante un suceso, lo primero que se produce es una reacción emotiva, denominada primitiva, dependiente del resultado e independiente de la atribución.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signo de esta emoción variará según lo deseado/indeseado o esperado/inesperado del resultado, surgiendo posteriormente las emociones dependientes de la atribución, que son determinadas por la percepción de la causa del resultado anterior y que, a su vez, influirán en la conducta posterior.</a:t>
            </a:r>
            <a:br>
              <a:rPr sz="2400"/>
            </a:b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380880"/>
            <a:ext cx="8229600" cy="574992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 acuerdo con la teoría de Weiner, las investigaciones indican que las diferencias individuales en atribuciones están correlacionadas con:</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rendimiento académic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n los afectos académicos, el autoconcepto y las expectativa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99"/>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y que la modificación de patrones atribucionales desadaptativos es una vía útil para mejorar las percepciones de competencia y control en las tareas académicas y, por tanto, para incrementar la motivación de aprendizaje y los éxitos académicos.</a:t>
            </a:r>
            <a:br>
              <a:rPr sz="2400"/>
            </a:br>
            <a:br>
              <a:rPr sz="2000"/>
            </a:br>
            <a:r>
              <a:rPr b="0" lang="es-E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Desde la perspectiva atribucional, el modelo motivacional cognición-afecto-acción de Weiner (Weiner, 1986a, 1986b) pretende incluir el rango completo de conductas humanas, y especialmente las estructuras y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procesos cognitivos que influyen sobre la conducta a través de la experiencia fenomenológica (consciente). Dentro de esta experiencia se subraya la importancia del yo (autopercepción, autoestima, autoconcepto, autoconsistencia, autoexpectativas), y las emociones, cuyo papel se deriva de su extraordinaria riqueza y varieda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suposición de que </a:t>
            </a:r>
            <a:r>
              <a:rPr b="1" lang="es-ES" sz="3200" spc="-1" strike="noStrike">
                <a:solidFill>
                  <a:srgbClr val="ffffff"/>
                </a:solidFill>
                <a:latin typeface="Arial"/>
              </a:rPr>
              <a:t>los individuos buscan activamente descubrir por qué los sucesos ocurren</a:t>
            </a:r>
            <a:r>
              <a:rPr b="0" lang="es-ES" sz="3200" spc="-1" strike="noStrike">
                <a:solidFill>
                  <a:srgbClr val="ffffff"/>
                </a:solidFill>
                <a:latin typeface="Arial"/>
              </a:rPr>
              <a:t>, principalmente de los éxitos y fracasos, es la base de la teoría de la atribu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457200"/>
            <a:ext cx="8229600" cy="5673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modelo de Weiner establece qu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 </a:t>
            </a:r>
            <a:r>
              <a:rPr b="0" lang="es-ES" sz="2000" spc="-1" strike="noStrike">
                <a:solidFill>
                  <a:srgbClr val="ffffff"/>
                </a:solidFill>
                <a:latin typeface="Arial"/>
              </a:rPr>
              <a:t>Una secuencia motivacional se inicia con un resultado conductual que la persona interpreta como éxito (meta alcanzada) o fracaso (meta no alcanzad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2.- y relaciona primariamente con sentimientos de felicidad y tristeza/frustración, respectivament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3.- Si el resultado es inesperado, negativo o importante el sujeto busca la causa de tal resultado (Hastie, 1984), teniendo en cuenta antecedentes de información (historia personal pasada, ejecución de otros), reglas causales, la perspectiva actor/observador, los sesgos atribucionales, etc.,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4.- que culmina en la decisión de atribuir el resultado a una causa singular.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Una vez que se han realizado, las atribuciones afectan a una gran variedad de estados motivacionales, com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lusión de control </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defensión aprendida </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presión </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terés intrínseco </a:t>
            </a:r>
            <a:endParaRPr b="0" lang="en-US" sz="24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Motivación de logro </a:t>
            </a:r>
            <a:endParaRPr b="0" lang="en-US" sz="2400" spc="-1" strike="noStrike">
              <a:solidFill>
                <a:srgbClr val="ffffff"/>
              </a:solidFill>
              <a:latin typeface="Arial"/>
            </a:endParaRPr>
          </a:p>
          <a:p>
            <a:pPr marL="343080" indent="-343080">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ersistencia </a:t>
            </a:r>
            <a:endParaRPr b="0" lang="en-US" sz="2400" spc="-1" strike="noStrike">
              <a:solidFill>
                <a:srgbClr val="ffffff"/>
              </a:solidFill>
              <a:latin typeface="Arial"/>
            </a:endParaRPr>
          </a:p>
          <a:p>
            <a:pPr marL="343080" indent="-343080">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moción.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7200" y="457200"/>
            <a:ext cx="8229600" cy="56736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creación de esta teoría se debe a Weiner (1974)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u valor reside en presentar la motivación de logro desde el punto de vista cognitivo y en haber impulsado numerosísimos estudios acerca de la motivación.</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Su centro de interés radica en la búsqueda de explicación, la causa, de los resultados al realizar una tarea o conseguir una meta. Evidentemente, éstas pueden ser innumerables, pero todas ellas son acoplables dentro de tres campos o dimensiones causales: internalidad, estabilidad y controlabilidad (Weiner, 1979).</a:t>
            </a:r>
            <a:br>
              <a:rPr sz="2400"/>
            </a:br>
            <a:br>
              <a:rPr sz="2400"/>
            </a:b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333000"/>
            <a:ext cx="8229600" cy="6264360"/>
          </a:xfrm>
          <a:prstGeom prst="rect">
            <a:avLst/>
          </a:prstGeom>
          <a:noFill/>
          <a:ln w="0">
            <a:noFill/>
          </a:ln>
        </p:spPr>
        <p:txBody>
          <a:bodyPr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ocalización del control</a:t>
            </a:r>
            <a:r>
              <a:rPr b="0" lang="es-ES" sz="2400" spc="-1" strike="noStrike">
                <a:solidFill>
                  <a:srgbClr val="ffffff"/>
                </a:solidFill>
                <a:latin typeface="Arial"/>
              </a:rPr>
              <a:t> (es decir la percepción que el sujeto posee en torno a qué o quién controla la actividad),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relación entre las fuerza personales (motivación y capacidad) y ambientales (atendiendo al nivel de </a:t>
            </a:r>
            <a:r>
              <a:rPr b="1" lang="es-ES" sz="2400" spc="-1" strike="noStrike">
                <a:solidFill>
                  <a:srgbClr val="ffffff"/>
                </a:solidFill>
                <a:latin typeface="Arial"/>
              </a:rPr>
              <a:t>estabilidad</a:t>
            </a:r>
            <a:r>
              <a:rPr b="0" lang="es-ES" sz="2400" spc="-1" strike="noStrike">
                <a:solidFill>
                  <a:srgbClr val="ffffff"/>
                </a:solidFill>
                <a:latin typeface="Arial"/>
              </a:rPr>
              <a:t>) a la hora de actuar.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Navas, Sampascual &amp; Castejón (1991), analizaron la evolución del modelo de Weiner, y consideraron la existencia de dos momentos en el desarrollo de esta teoría. En el primero, establecido a lo largo de la década de los 70, emplea dos dimensiones, el locus de la causalidad y la estabilidad, en 1978 añade la dimensión de la </a:t>
            </a:r>
            <a:r>
              <a:rPr b="1" lang="es-ES" sz="2400" spc="-1" strike="noStrike">
                <a:solidFill>
                  <a:srgbClr val="ffffff"/>
                </a:solidFill>
                <a:latin typeface="Arial"/>
              </a:rPr>
              <a:t>intencionalidad</a:t>
            </a:r>
            <a:r>
              <a:rPr b="0" lang="es-ES" sz="2400" spc="-1" strike="noStrike">
                <a:solidFill>
                  <a:srgbClr val="ffffff"/>
                </a:solidFill>
                <a:latin typeface="Arial"/>
              </a:rPr>
              <a:t>. De este modo podemos establecer este esquem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4"/>
          <p:cNvSpPr/>
          <p:nvPr/>
        </p:nvSpPr>
        <p:spPr>
          <a:xfrm>
            <a:off x="0" y="2606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69" name=""/>
          <p:cNvGraphicFramePr/>
          <p:nvPr/>
        </p:nvGraphicFramePr>
        <p:xfrm>
          <a:off x="900000" y="1557360"/>
          <a:ext cx="7201080" cy="3159000"/>
        </p:xfrm>
        <a:graphic>
          <a:graphicData uri="http://schemas.openxmlformats.org/drawingml/2006/table">
            <a:tbl>
              <a:tblPr/>
              <a:tblGrid>
                <a:gridCol w="2603520"/>
                <a:gridCol w="2239920"/>
                <a:gridCol w="2357640"/>
              </a:tblGrid>
              <a:tr h="12272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Times New Roman"/>
                          <a:ea typeface="Times New Roman"/>
                        </a:rPr>
                        <a:t>Lugar de la causa </a:t>
                      </a:r>
                      <a:endParaRPr b="0" lang="en-US" sz="1800" spc="-1" strike="noStrike">
                        <a:solidFill>
                          <a:srgbClr val="ffffff"/>
                        </a:solidFill>
                        <a:latin typeface="Arial"/>
                      </a:endParaRPr>
                    </a:p>
                  </a:txBody>
                  <a:tcPr anchor="t" marL="90000" marR="90000">
                    <a:lnL w="5760">
                      <a:solidFill>
                        <a:srgbClr val="000000"/>
                      </a:solidFill>
                    </a:lnL>
                    <a:lnR w="5760">
                      <a:solidFill>
                        <a:srgbClr val="010000"/>
                      </a:solidFill>
                    </a:lnR>
                    <a:lnT w="5760">
                      <a:solidFill>
                        <a:srgbClr val="000000"/>
                      </a:solidFill>
                    </a:lnT>
                    <a:lnB w="5760">
                      <a:solidFill>
                        <a:srgbClr val="010000"/>
                      </a:solidFill>
                    </a:lnB>
                    <a:solidFill>
                      <a:srgbClr val="e5e5e5"/>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Times New Roman"/>
                          <a:ea typeface="Times New Roman"/>
                        </a:rPr>
                        <a:t>Estabilidad </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00000"/>
                      </a:solidFill>
                    </a:lnT>
                    <a:lnB w="5760">
                      <a:solidFill>
                        <a:srgbClr val="010000"/>
                      </a:solidFill>
                    </a:lnB>
                    <a:solidFill>
                      <a:srgbClr val="e5e5e5"/>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Times New Roman"/>
                          <a:ea typeface="Times New Roman"/>
                        </a:rPr>
                        <a:t>Intencionalidad </a:t>
                      </a:r>
                      <a:endParaRPr b="0" lang="en-US" sz="1800" spc="-1" strike="noStrike">
                        <a:solidFill>
                          <a:srgbClr val="ffffff"/>
                        </a:solidFill>
                        <a:latin typeface="Arial"/>
                      </a:endParaRPr>
                    </a:p>
                  </a:txBody>
                  <a:tcPr anchor="t" marL="90000" marR="90000">
                    <a:lnL w="5760">
                      <a:solidFill>
                        <a:srgbClr val="010000"/>
                      </a:solidFill>
                    </a:lnL>
                    <a:lnR w="5760">
                      <a:solidFill>
                        <a:srgbClr val="000000"/>
                      </a:solidFill>
                    </a:lnR>
                    <a:lnT w="5760">
                      <a:solidFill>
                        <a:srgbClr val="000000"/>
                      </a:solidFill>
                    </a:lnT>
                    <a:lnB w="5760">
                      <a:solidFill>
                        <a:srgbClr val="010000"/>
                      </a:solidFill>
                    </a:lnB>
                    <a:solidFill>
                      <a:srgbClr val="e5e5e5"/>
                    </a:solidFill>
                  </a:tcPr>
                </a:tc>
              </a:tr>
              <a:tr h="7048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Interno </a:t>
                      </a:r>
                      <a:endParaRPr b="0" lang="en-US" sz="1800" spc="-1" strike="noStrike">
                        <a:solidFill>
                          <a:srgbClr val="ffffff"/>
                        </a:solidFill>
                        <a:latin typeface="Arial"/>
                      </a:endParaRPr>
                    </a:p>
                  </a:txBody>
                  <a:tcPr anchor="t" marL="90000" marR="90000">
                    <a:lnL w="5760">
                      <a:solidFill>
                        <a:srgbClr val="00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Estable </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Controlable </a:t>
                      </a:r>
                      <a:endParaRPr b="0" lang="en-US" sz="1800" spc="-1" strike="noStrike">
                        <a:solidFill>
                          <a:srgbClr val="ffffff"/>
                        </a:solidFill>
                        <a:latin typeface="Arial"/>
                      </a:endParaRPr>
                    </a:p>
                  </a:txBody>
                  <a:tcPr anchor="t" marL="90000" marR="90000">
                    <a:lnL w="5760">
                      <a:solidFill>
                        <a:srgbClr val="010000"/>
                      </a:solidFill>
                    </a:lnL>
                    <a:lnR w="5760">
                      <a:solidFill>
                        <a:srgbClr val="000000"/>
                      </a:solidFill>
                    </a:lnR>
                    <a:lnT w="5760">
                      <a:solidFill>
                        <a:srgbClr val="010000"/>
                      </a:solidFill>
                    </a:lnT>
                    <a:lnB w="5760">
                      <a:solidFill>
                        <a:srgbClr val="010000"/>
                      </a:solidFill>
                    </a:lnB>
                    <a:noFill/>
                  </a:tcPr>
                </a:tc>
              </a:tr>
              <a:tr h="12268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Externo </a:t>
                      </a:r>
                      <a:endParaRPr b="0" lang="en-US" sz="1800" spc="-1" strike="noStrike">
                        <a:solidFill>
                          <a:srgbClr val="ffffff"/>
                        </a:solidFill>
                        <a:latin typeface="Arial"/>
                      </a:endParaRPr>
                    </a:p>
                  </a:txBody>
                  <a:tcPr anchor="t" marL="90000" marR="90000">
                    <a:lnL w="5760">
                      <a:solidFill>
                        <a:srgbClr val="000000"/>
                      </a:solidFill>
                    </a:lnL>
                    <a:lnR w="5760">
                      <a:solidFill>
                        <a:srgbClr val="010000"/>
                      </a:solidFill>
                    </a:lnR>
                    <a:lnT w="5760">
                      <a:solidFill>
                        <a:srgbClr val="01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Inestable </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No controlable </a:t>
                      </a:r>
                      <a:endParaRPr b="0" lang="en-US" sz="1800" spc="-1" strike="noStrike">
                        <a:solidFill>
                          <a:srgbClr val="ffffff"/>
                        </a:solidFill>
                        <a:latin typeface="Arial"/>
                      </a:endParaRPr>
                    </a:p>
                  </a:txBody>
                  <a:tcPr anchor="t" marL="90000" marR="90000">
                    <a:lnL w="5760">
                      <a:solidFill>
                        <a:srgbClr val="010000"/>
                      </a:solidFill>
                    </a:lnL>
                    <a:lnR w="5760">
                      <a:solidFill>
                        <a:srgbClr val="000000"/>
                      </a:solidFill>
                    </a:lnR>
                    <a:lnT w="5760">
                      <a:solidFill>
                        <a:srgbClr val="01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internalidad alude al locus, lugar donde se encuentra la causa, si es interna o externa al suceso o agente desencadenant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estabilidad se refiere a la temporalidad o frecuencia con que se da la causa que provoca el suceso.</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controlabilidad apunta al grado de control que el agente, tiene, o ha tenido, sobre la causa que ha producido tal o cual desenlac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6840" y="0"/>
            <a:ext cx="8435880" cy="6858000"/>
          </a:xfrm>
          <a:prstGeom prst="rect">
            <a:avLst/>
          </a:prstGeom>
          <a:noFill/>
          <a:ln w="0">
            <a:noFill/>
          </a:ln>
        </p:spPr>
        <p:txBody>
          <a:bodyPr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un segundo momento, a lo largo de los 80, Weiner añade una nueva dimensión la </a:t>
            </a:r>
            <a:r>
              <a:rPr b="1" lang="es-ES" sz="2000" spc="-1" strike="noStrike">
                <a:solidFill>
                  <a:srgbClr val="ffffff"/>
                </a:solidFill>
                <a:latin typeface="Arial"/>
              </a:rPr>
              <a:t>globalidad versus la especificidad</a:t>
            </a:r>
            <a:r>
              <a:rPr b="0" lang="es-ES" sz="2000" spc="-1" strike="noStrike">
                <a:solidFill>
                  <a:srgbClr val="ffffff"/>
                </a:solidFill>
                <a:latin typeface="Arial"/>
              </a:rPr>
              <a:t> de la atribución.</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Global</a:t>
            </a:r>
            <a:r>
              <a:rPr b="0" lang="es-ES" sz="2000" spc="-1" strike="noStrike">
                <a:solidFill>
                  <a:srgbClr val="ffffff"/>
                </a:solidFill>
                <a:latin typeface="Arial"/>
              </a:rPr>
              <a:t>: cuestionan su valía por el fracaso de un área, </a:t>
            </a:r>
            <a:r>
              <a:rPr b="0" i="1" lang="es-ES" sz="2000" spc="-1" strike="noStrike">
                <a:solidFill>
                  <a:srgbClr val="ffffff"/>
                </a:solidFill>
                <a:latin typeface="Arial"/>
              </a:rPr>
              <a:t>lo hago todo ma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specifica</a:t>
            </a:r>
            <a:r>
              <a:rPr b="0" lang="es-ES" sz="2000" spc="-1" strike="noStrike">
                <a:solidFill>
                  <a:srgbClr val="ffffff"/>
                </a:solidFill>
                <a:latin typeface="Arial"/>
              </a:rPr>
              <a:t>: se refiere a un aspecto determinad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teoría dice que favorece la indefensión el que las personas tengan un estado atribucional interno, estable, incontrolable y global y además este favorece la depresión.</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importancia de la atribución de la causalidad radica en la influencia que ejerce sobre el planteamiento de la conducta y del aprendizaje.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esquema podría ser: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04:17:25Z</dcterms:created>
  <dc:creator>Edmundo Campusano</dc:creator>
  <dc:description/>
  <dc:language>en-US</dc:language>
  <cp:lastModifiedBy>Hewlett-Packard Company</cp:lastModifiedBy>
  <dcterms:modified xsi:type="dcterms:W3CDTF">2017-11-23T18:58:21Z</dcterms:modified>
  <cp:revision>10</cp:revision>
  <dc:subject/>
  <dc:title>Diapositiva 1</dc:title>
</cp:coreProperties>
</file>