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EDB-6BEF-41FF-BCD5-9D304C43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4B4-384C-4901-8215-10F290FB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694-3000-4D44-BB79-F6EED39F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C07-C976-4E80-85FD-D24DE724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8AFE-8E22-47DB-94BE-A85BB525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6B7B-8D89-4D99-9239-16F32E3C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16A2-3B59-4547-8CA3-3B5E0093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0DA9-2015-44F8-BFBA-F296FD52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D354-8961-47B7-A94D-DDDBC12B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28DA-02E6-430A-B9F6-A25D9535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3007-F879-4150-997F-A5834F92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E66-E77E-49F1-B0A5-83B44C74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FD60-A3D8-4A9C-A40C-F491875B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33EA-BBD1-4C0A-B074-F492DFF5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1BB4-3893-49CE-86E9-F245B6B6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F2F1-0739-4C17-916B-C9EA8C9A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7517-6A85-4468-A572-C2438800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0D7-4422-425C-A05E-277D9DDE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975-8BF8-49E3-9813-C91E81F9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6D7-9D01-4037-A20A-AC35E400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73E-AD19-4D93-B5A9-0657EF55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F6B-8830-47DC-A410-ED4D21F0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6D7-DAE4-4817-AB45-9C6FF6FE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A3D-8001-48D4-9B68-258206CB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4E90-5AC8-4167-ADA6-0A5432EF00D5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7A46-149E-4AD4-AF74-06B0B8FC9F9F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Tahoma"/>
              </a:rPr>
              <a:t>MOTIVACION Y ETiOLOG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gíster en Gobierno y Gerencia Públ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ap-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unque la atracción puede estar fundada en operaciones distintas de la experiencia afectiva, no cabe duda que el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lacer y el dolor que experimentan los individuos en su interacción con las cosas forman una parte singularmente profunda de su conducta tanto apetitiva como evi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verdad indiscutible de que los organismos tienden en líneas generales a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onseguir placer y evitar el dolor han partido las interpretaciones hedonistas del incen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ro estas teorías también explican cómo algunos motivos pueden llegar a oponerse a la satisfacción de las necesidades orgánicas básicas e incluso desencadenan comportamientos perjudiciales para el organ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e tipo de motivación por la búsqueda del placer explicaría, por ejemplo, el consumo de tabaco, el consumo de drogas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os autores como Mc Clelland o James Olds también realizan sus aportaciones a este campo. Para Mc Clelland : "un motivo es una asociación afectiva intensa, caracterizada por una reacción anticipatoria de una meta, en base a la asociación previa de ciertos estímulos clave con reacciones afectivas de placer o dolor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otra part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lds estudia los centros de placer y dolor del cerebro confirmando el gran poder motivacional de las experiencias afectivas que no tienen más función inmediata que el goc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Éste puede funcionar como un fin en sí mismo disociado de toda utilidad homeostática o impulso-reducto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 latín, motus: movimiento; motivación: lo que muev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cho de otra forma,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 motivación representa qué es lo que originariamente determina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que una persona inicie una acción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activ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se desplace hacia un objetivo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direc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y persista en sus tentativas para alcanzarlo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mantenimiento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Tahoma"/>
              </a:rPr>
              <a:t>Motivació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una inferencia que hacemos a partir de las manifestaciones de la conduc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udiendo ser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acertada o equivocad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y no existiendo una explicación unánime a tal fenómeno, ya que en ello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están comprometidos valores sociales que afectan a la clase de personas y a su modelo de socieda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Ball, 197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finición convencional: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conjunto de procesos implicados en la activación, dirección y mantenimiento de la conduc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a definición tiene el mérito de destacar sus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tres dimensiones esenciales: activadora, directiva y persiste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; pero también presenta algunas </a:t>
            </a: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limitacion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como su carácter de </a:t>
            </a: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constructo hipotético inferenc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or lo que resulta difícilmente observable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 inclusión del self (sí mismo) y el establecimiento de interrelaciones entre la cognición, la afectividad y el comportamient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son los rasgos má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racterísticos  de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s modernas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teorí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sobre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tivació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latón: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“la motivación fluye desde el alma: tripartita, jerárquicamente constituida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 nivel: Primitiv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, Aspecto apetitivo del alma: apetitos y deseos corporales (hambre, sed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I Nivel: Elemento Competitiv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Roles socialmente especificados, sentimientos de honor y vergüenz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II Nivel: Aspecto Calculado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Capacidad de toma de decisiones, de razón y ele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diversos aspectos del alma motivaban los diversos terrenos del comport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4343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cDougall (1908) el exponente más característico de las posiciones instintivist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La teoría de McDougall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resuelve el estatus del potencial motivador postulando que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los instintos no sólo impulsan la actividad humana sino que también fijan las metas hacia las que la actividad se diri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El instinto se define como una tendencia genéticamente programada, de carácter innato y univers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conductas instintivas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están gobernadas por el sistema nervioso cent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estionamiento: tratar de explicar la enorme diversidad de conductas humanas con un número reducido de instint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instintos serían patrones innatos de conducta universales para la especie, independientes de la experiencia y provocados por estímulos o condiciones específicos. Las primeras teorías del instinto fueron duramente criticadas, una de las criticas era que implicaba un razonamiento circular; otra, que las teorías del instinto no explican la amplia variedad del comportamiento huma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Observ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gente muestr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Infe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ucha curiosidad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Los seres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humanos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seen un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stinto de exploración o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curios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 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Explicación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gente muest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uriosidad por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see un instinto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xploración o curiosidad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4284720" y="256536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 rot="2443800">
            <a:off x="4858920" y="3789360"/>
            <a:ext cx="289080" cy="1152360"/>
          </a:xfrm>
          <a:prstGeom prst="downArrow">
            <a:avLst>
              <a:gd name="adj1" fmla="val 50000"/>
              <a:gd name="adj2" fmla="val 9965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2843280" y="2997360"/>
            <a:ext cx="288720" cy="934920"/>
          </a:xfrm>
          <a:prstGeom prst="upArrow">
            <a:avLst>
              <a:gd name="adj1" fmla="val 50000"/>
              <a:gd name="adj2" fmla="val 809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0:27:35Z</dcterms:created>
  <dc:creator>Edmundo Campusano</dc:creator>
  <dc:description/>
  <dc:language>en-US</dc:language>
  <cp:lastModifiedBy>Hewlett-Packard Company</cp:lastModifiedBy>
  <dcterms:modified xsi:type="dcterms:W3CDTF">2018-07-23T15:40:06Z</dcterms:modified>
  <cp:revision>23</cp:revision>
  <dc:subject/>
  <dc:title>Diapositiva 1</dc:title>
</cp:coreProperties>
</file>