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23D-878C-41E1-AA59-36BB53AB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291-3928-436A-AD43-C8408176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2E1-DB63-4F49-98CC-2C956970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477-319F-4D9A-8503-6FE7AAD2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22B0-39AF-4371-BD5D-A938056A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816F-1B8D-4E94-94ED-513DBB0F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404F-5F33-4F38-8AB9-E16261FF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02A6-8CED-4BB6-B004-B9A85530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EA70-92AD-43EF-83AE-3DAF269B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8E5F-959F-410B-8712-0ADDBC06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3000-F34A-47B5-83DA-FFAE20FE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950-05C1-435F-A09B-8573AC9C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984E-99FD-4212-8805-DB29EA34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3A99-689A-491A-B030-CD7BD9AF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EB5F-CC90-4F92-988F-CA2AA5D2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9E7B-9D21-4F34-B0FC-909CDE38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D2DD-AE56-410E-9DA9-AC6DDFB2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16F-B9F6-4E67-935C-C12F74D5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946-7F73-446C-A48C-6BB38532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09B-0D8A-4BA5-9C36-AE0F4C09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2E5-FEB3-4D38-892B-CBBB5E21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50B-272A-476A-B4CB-F5EDD16C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3FD-B64A-4B3A-A27D-F576CB99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743-96C1-4FFB-A846-1FFE8F0E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1C41-6B62-4473-AF02-0046570C618A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DD15-5E33-43A4-B555-A11562CC5C8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cc00"/>
                </a:solidFill>
                <a:latin typeface="Tahoma"/>
              </a:rPr>
              <a:t>MOTIVACION Y ETiOLOG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agíster en Gobierno y Gerencia Públ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ap-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unque la atracción puede estar fundada en operaciones distintas de la experiencia afectiva, no cabe duda que el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lacer y el dolor que experimentan los individuos en su interacción con las cosas forman una parte singularmente profunda de su conducta tanto apetitiva como evitativ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la verdad indiscutible de que los organismos tienden en líneas generales a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onseguir placer y evitar el dolor han partido las interpretaciones hedonistas del incen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ero estas teorías también explican cómo algunos motivos pueden llegar a oponerse a la satisfacción de las necesidades orgánicas básicas e incluso desencadenan comportamientos perjudiciales para el organism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e tipo de motivación por la búsqueda del placer explicaría, por ejemplo, el consumo de tabaco, el consumo de drogas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tros autores como Mc Clelland o James Olds también realizan sus aportaciones a este campo. Para Mc Clelland : "un motivo es una asociación afectiva intensa, caracterizada por una reacción anticipatoria de una meta, en base a la asociación previa de ciertos estímulos clave con reacciones afectivas de placer o dolor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otra parte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Olds estudia los centros de placer y dolor del cerebro confirmando el gran poder motivacional de las experiencias afectivas que no tienen más función inmediata que el goc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Éste puede funcionar como un fin en sí mismo disociado de toda utilidad homeostática o impulso-reducto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 latín, motus: movimiento; motivación: lo que muev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cho de otra forma,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 motivación representa qué es lo que originariamente determina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que una persona inicie una acción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activ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se desplace hacia un objetivo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direc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y persista en sus tentativas para alcanzarlo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mantenimiento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aeaea"/>
                </a:solidFill>
                <a:latin typeface="Tahoma"/>
              </a:rPr>
              <a:t>Motivació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una inferencia que hacemos a partir de las manifestaciones de la conduct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udiendo ser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acertada o equivocad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y no existiendo una explicación unánime a tal fenómeno, ya que en ello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están comprometidos valores sociales que afectan a la clase de personas y a su modelo de sociedad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Ball, 197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finición convencional: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conjunto de procesos implicados en la activación, dirección y mantenimiento de la conduct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a definición tiene el mérito de destacar sus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tres dimensiones esenciales: activadora, directiva y persisten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; pero también presenta algunas </a:t>
            </a:r>
            <a:r>
              <a:rPr b="0" lang="es-ES" sz="2400" spc="-1" strike="noStrike">
                <a:solidFill>
                  <a:srgbClr val="99cc00"/>
                </a:solidFill>
                <a:latin typeface="Tahoma"/>
              </a:rPr>
              <a:t>limitacion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como su carácter de </a:t>
            </a:r>
            <a:r>
              <a:rPr b="0" lang="es-ES" sz="2400" spc="-1" strike="noStrike">
                <a:solidFill>
                  <a:srgbClr val="99cc00"/>
                </a:solidFill>
                <a:latin typeface="Tahoma"/>
              </a:rPr>
              <a:t>constructo hipotético inferenci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or lo que resulta difícilmente observable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1700280"/>
            <a:ext cx="754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 inclusión del self (sí mismo) y el establecimiento de interrelaciones entre la cognición, la afectividad y el comportamient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son los rasgos má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racterísticos  de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s modernas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teorí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sobre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otivació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latón: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“la motivación fluye desde el alma: tripartita, jerárquicamente constituida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 nivel: Primitiv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, Aspecto apetitivo del alma: apetitos y deseos corporales (hambre, sed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I Nivel: Elemento Competitiv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Roles socialmente especificados, sentimientos de honor y vergüenz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II Nivel: Aspecto Calculado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Capacidad de toma de decisiones, de razón y ele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diversos aspectos del alma motivaban los diversos terrenos del comport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4343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cDougall (1908) el exponente más característico de las posiciones instintivista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La teoría de McDougall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resuelve el estatus del potencial motivador postulando que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los instintos no sólo impulsan la actividad humana sino que también fijan las metas hacia las que la actividad se dirig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El instinto se define como una tendencia genéticamente programada, de carácter innato y univers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conductas instintivas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están gobernadas por el sistema nervioso centr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uestionamiento: tratar de explicar la enorme diversidad de conductas humanas con un número reducido de instint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instintos serían patrones innatos de conducta universales para la especie, independientes de la experiencia y provocados por estímulos o condiciones específicos. Las primeras teorías del instinto fueron duramente criticadas, una de las criticas era que implicaba un razonamiento circular; otra, que las teorías del instinto no explican la amplia variedad del comportamiento huma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Observ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gente muestra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Infe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ucha curiosidad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Los seres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humanos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seen un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stinto de exploración o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curios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 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Explicación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gente muest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uriosidad por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see un instinto 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xploración o curiosidad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4284720" y="256536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 rot="2443800">
            <a:off x="4858920" y="3789360"/>
            <a:ext cx="289080" cy="1152360"/>
          </a:xfrm>
          <a:prstGeom prst="downArrow">
            <a:avLst>
              <a:gd name="adj1" fmla="val 50000"/>
              <a:gd name="adj2" fmla="val 9965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2843280" y="2997360"/>
            <a:ext cx="288720" cy="934920"/>
          </a:xfrm>
          <a:prstGeom prst="upArrow">
            <a:avLst>
              <a:gd name="adj1" fmla="val 50000"/>
              <a:gd name="adj2" fmla="val 809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00:27:35Z</dcterms:created>
  <dc:creator>Edmundo Campusano</dc:creator>
  <dc:description/>
  <dc:language>en-US</dc:language>
  <cp:lastModifiedBy>Hewlett-Packard Company</cp:lastModifiedBy>
  <dcterms:modified xsi:type="dcterms:W3CDTF">2018-07-23T15:40:06Z</dcterms:modified>
  <cp:revision>23</cp:revision>
  <dc:subject/>
  <dc:title>Diapositiva 1</dc:title>
</cp:coreProperties>
</file>