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98AA9-5449-4C28-8788-3309D7B03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3BD5A-BBC6-4224-BA83-7CDC41EA7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65139-6AFB-4155-94F7-FDEA40C9B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79E78-6F85-406B-8C8A-87180AB03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88353-46DB-4007-9A85-40C1C7080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148BF-629A-4FBC-96F1-72CA33132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864AF-3CEC-4A4E-BCBB-B65CBBE81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E703E-88D6-430F-8C06-CED41EDE4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2D77C-C23B-4DD3-B7F9-42ABDC068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03492-3C3D-46CC-A605-14C619DBC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E5ECC-6E68-42F9-A888-A4395F00E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90377-6D32-45C8-8B8D-69532C89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9EBE-F45E-4A4A-BB68-AEF9234EE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D0C3C-213D-488F-A937-6CA7D8ACF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90CA0-4D9A-4D77-AA75-9F43E0D9A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E8397-2E84-48B1-AB05-CBBF3016A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CD26E-F6BF-4B85-9FFF-91B579320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B9599-7001-4B2B-A798-8F54334D2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6CF03-27A1-456D-842F-09E15D74F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276CA-0EFD-4F94-A0B9-436C1DEA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4869-0CE8-423F-AAF9-3789EBC36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EAC8-DE99-4145-B6DA-97FF0C511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C8F4-19DB-4546-9E9F-49F3976C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ADA9-A55C-46FA-A80B-3929A5FB9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759C-0D77-46A9-8FC2-0762BC597CE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0319-F5F0-49AD-91D4-718EB7E0671C}"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9"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8" dur="500"/>
                                        <p:tgtEl>
                                          <p:spTgt spid="11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63" dur="500"/>
                                        <p:tgtEl>
                                          <p:spTgt spid="119">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8" dur="500"/>
                                        <p:tgtEl>
                                          <p:spTgt spid="119">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500"/>
                                        <p:tgtEl>
                                          <p:spTgt spid="119">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21"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22" name="Picture 6" descr="Imagen relacionada"/>
          <p:cNvPicPr/>
          <p:nvPr/>
        </p:nvPicPr>
        <p:blipFill>
          <a:blip r:embed="rId3"/>
          <a:stretch/>
        </p:blipFill>
        <p:spPr>
          <a:xfrm>
            <a:off x="-30240" y="3645000"/>
            <a:ext cx="5508720" cy="3089160"/>
          </a:xfrm>
          <a:prstGeom prst="rect">
            <a:avLst/>
          </a:prstGeom>
          <a:ln w="0">
            <a:noFill/>
          </a:ln>
        </p:spPr>
      </p:pic>
      <p:pic>
        <p:nvPicPr>
          <p:cNvPr id="123"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22"/>
                                        </p:tgtEl>
                                        <p:attrNameLst>
                                          <p:attrName>style.visibility</p:attrName>
                                        </p:attrNameLst>
                                      </p:cBhvr>
                                      <p:to>
                                        <p:strVal val="visible"/>
                                      </p:to>
                                    </p:set>
                                    <p:animEffect filter="fade"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0"/>
                                        </p:tgtEl>
                                        <p:attrNameLst>
                                          <p:attrName>style.visibility</p:attrName>
                                        </p:attrNameLst>
                                      </p:cBhvr>
                                      <p:to>
                                        <p:strVal val="visible"/>
                                      </p:to>
                                    </p:set>
                                    <p:animEffect filter="fade" transition="in">
                                      <p:cBhvr additive="repl">
                                        <p:cTn id="290" dur="500"/>
                                        <p:tgtEl>
                                          <p:spTgt spid="12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21"/>
                                        </p:tgtEl>
                                        <p:attrNameLst>
                                          <p:attrName>style.visibility</p:attrName>
                                        </p:attrNameLst>
                                      </p:cBhvr>
                                      <p:to>
                                        <p:strVal val="visible"/>
                                      </p:to>
                                    </p:set>
                                    <p:animEffect filter="fade" transition="in">
                                      <p:cBhvr additive="repl">
                                        <p:cTn id="295" dur="500"/>
                                        <p:tgtEl>
                                          <p:spTgt spid="12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23"/>
                                        </p:tgtEl>
                                        <p:attrNameLst>
                                          <p:attrName>style.visibility</p:attrName>
                                        </p:attrNameLst>
                                      </p:cBhvr>
                                      <p:to>
                                        <p:strVal val="visible"/>
                                      </p:to>
                                    </p:set>
                                    <p:animEffect filter="fade" transition="in">
                                      <p:cBhvr additive="repl">
                                        <p:cTn id="3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5"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7" dur="500"/>
                                        <p:tgtEl>
                                          <p:spTgt spid="12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12" dur="500"/>
                                        <p:tgtEl>
                                          <p:spTgt spid="125">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17" dur="500"/>
                                        <p:tgtEl>
                                          <p:spTgt spid="125">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22" dur="500"/>
                                        <p:tgtEl>
                                          <p:spTgt spid="125">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27" dur="500"/>
                                        <p:tgtEl>
                                          <p:spTgt spid="125">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32" dur="500"/>
                                        <p:tgtEl>
                                          <p:spTgt spid="125">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37"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27"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28"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27"/>
                                        </p:tgtEl>
                                        <p:attrNameLst>
                                          <p:attrName>style.visibility</p:attrName>
                                        </p:attrNameLst>
                                      </p:cBhvr>
                                      <p:to>
                                        <p:strVal val="visible"/>
                                      </p:to>
                                    </p:set>
                                    <p:animEffect filter="fade" transition="in">
                                      <p:cBhvr additive="repl">
                                        <p:cTn id="344" dur="500"/>
                                        <p:tgtEl>
                                          <p:spTgt spid="12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28"/>
                                        </p:tgtEl>
                                        <p:attrNameLst>
                                          <p:attrName>style.visibility</p:attrName>
                                        </p:attrNameLst>
                                      </p:cBhvr>
                                      <p:to>
                                        <p:strVal val="visible"/>
                                      </p:to>
                                    </p:set>
                                    <p:animEffect filter="fade" transition="in">
                                      <p:cBhvr additive="repl">
                                        <p:cTn id="34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0"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56" dur="500"/>
                                        <p:tgtEl>
                                          <p:spTgt spid="13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1" dur="500"/>
                                        <p:tgtEl>
                                          <p:spTgt spid="13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6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4"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36"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38"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9"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
                                        </p:tgtEl>
                                        <p:attrNameLst>
                                          <p:attrName>style.visibility</p:attrName>
                                        </p:attrNameLst>
                                      </p:cBhvr>
                                      <p:to>
                                        <p:strVal val="visible"/>
                                      </p:to>
                                    </p:set>
                                    <p:animEffect filter="fade" transition="in">
                                      <p:cBhvr additive="repl">
                                        <p:cTn id="373" dur="5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35"/>
                                        </p:tgtEl>
                                        <p:attrNameLst>
                                          <p:attrName>style.visibility</p:attrName>
                                        </p:attrNameLst>
                                      </p:cBhvr>
                                      <p:to>
                                        <p:strVal val="visible"/>
                                      </p:to>
                                    </p:set>
                                    <p:animEffect filter="fade" transition="in">
                                      <p:cBhvr additive="repl">
                                        <p:cTn id="378" dur="500"/>
                                        <p:tgtEl>
                                          <p:spTgt spid="13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6"/>
                                        </p:tgtEl>
                                        <p:attrNameLst>
                                          <p:attrName>style.visibility</p:attrName>
                                        </p:attrNameLst>
                                      </p:cBhvr>
                                      <p:to>
                                        <p:strVal val="visible"/>
                                      </p:to>
                                    </p:set>
                                    <p:animEffect filter="fade" transition="in">
                                      <p:cBhvr additive="repl">
                                        <p:cTn id="383" dur="500"/>
                                        <p:tgtEl>
                                          <p:spTgt spid="13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9"/>
                                        </p:tgtEl>
                                        <p:attrNameLst>
                                          <p:attrName>style.visibility</p:attrName>
                                        </p:attrNameLst>
                                      </p:cBhvr>
                                      <p:to>
                                        <p:strVal val="visible"/>
                                      </p:to>
                                    </p:set>
                                    <p:animEffect filter="fad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5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5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0"/>
                                        </p:tgtEl>
                                        <p:attrNameLst>
                                          <p:attrName>style.visibility</p:attrName>
                                        </p:attrNameLst>
                                      </p:cBhvr>
                                      <p:to>
                                        <p:strVal val="visible"/>
                                      </p:to>
                                    </p:set>
                                    <p:animEffect filter="fade" transition="in">
                                      <p:cBhvr additive="repl">
                                        <p:cTn id="40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42"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410" dur="500"/>
                                        <p:tgtEl>
                                          <p:spTgt spid="14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15" dur="500"/>
                                        <p:tgtEl>
                                          <p:spTgt spid="14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420" dur="500"/>
                                        <p:tgtEl>
                                          <p:spTgt spid="142">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425" dur="500"/>
                                        <p:tgtEl>
                                          <p:spTgt spid="142">
                                            <p:txEl>
                                              <p:pRg st="3" end="3"/>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430" dur="500"/>
                                        <p:tgtEl>
                                          <p:spTgt spid="142">
                                            <p:txEl>
                                              <p:pRg st="4" end="4"/>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435" dur="500"/>
                                        <p:tgtEl>
                                          <p:spTgt spid="142">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42">
                                            <p:txEl>
                                              <p:pRg st="6" end="6"/>
                                            </p:txEl>
                                          </p:spTgt>
                                        </p:tgtEl>
                                        <p:attrNameLst>
                                          <p:attrName>style.visibility</p:attrName>
                                        </p:attrNameLst>
                                      </p:cBhvr>
                                      <p:to>
                                        <p:strVal val="visible"/>
                                      </p:to>
                                    </p:set>
                                    <p:animEffect filter="fade" transition="in">
                                      <p:cBhvr additive="repl">
                                        <p:cTn id="440" dur="500"/>
                                        <p:tgtEl>
                                          <p:spTgt spid="142">
                                            <p:txEl>
                                              <p:pRg st="6" end="6"/>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142">
                                            <p:txEl>
                                              <p:pRg st="7" end="7"/>
                                            </p:txEl>
                                          </p:spTgt>
                                        </p:tgtEl>
                                        <p:attrNameLst>
                                          <p:attrName>style.visibility</p:attrName>
                                        </p:attrNameLst>
                                      </p:cBhvr>
                                      <p:to>
                                        <p:strVal val="visible"/>
                                      </p:to>
                                    </p:set>
                                    <p:animEffect filter="fade" transition="in">
                                      <p:cBhvr additive="repl">
                                        <p:cTn id="445"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44"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45"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47"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48"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49"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50" name="Conector recto de flecha 10"/>
          <p:cNvCxnSpPr>
            <a:stCxn id="147" idx="2"/>
            <a:endCxn id="146"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51" name="Conector recto de flecha 12"/>
          <p:cNvCxnSpPr>
            <a:stCxn id="145"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52" name="Conector recto de flecha 15"/>
          <p:cNvCxnSpPr>
            <a:stCxn id="147"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53" name="Conector recto de flecha 17"/>
          <p:cNvCxnSpPr>
            <a:stCxn id="146" idx="3"/>
            <a:endCxn id="148"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54" name="Conector recto de flecha 19"/>
          <p:cNvCxnSpPr>
            <a:stCxn id="148" idx="3"/>
            <a:endCxn id="149"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55"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500"/>
                                        <p:tgtEl>
                                          <p:spTgt spid="1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57" dur="500"/>
                                        <p:tgtEl>
                                          <p:spTgt spid="14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45"/>
                                        </p:tgtEl>
                                        <p:attrNameLst>
                                          <p:attrName>style.visibility</p:attrName>
                                        </p:attrNameLst>
                                      </p:cBhvr>
                                      <p:to>
                                        <p:strVal val="visible"/>
                                      </p:to>
                                    </p:set>
                                    <p:animEffect filter="fade" transition="in">
                                      <p:cBhvr additive="repl">
                                        <p:cTn id="462" dur="500"/>
                                        <p:tgtEl>
                                          <p:spTgt spid="14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51"/>
                                        </p:tgtEl>
                                        <p:attrNameLst>
                                          <p:attrName>style.visibility</p:attrName>
                                        </p:attrNameLst>
                                      </p:cBhvr>
                                      <p:to>
                                        <p:strVal val="visible"/>
                                      </p:to>
                                    </p:set>
                                    <p:animEffect filter="fade" transition="in">
                                      <p:cBhvr additive="repl">
                                        <p:cTn id="467" dur="500"/>
                                        <p:tgtEl>
                                          <p:spTgt spid="1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47"/>
                                        </p:tgtEl>
                                        <p:attrNameLst>
                                          <p:attrName>style.visibility</p:attrName>
                                        </p:attrNameLst>
                                      </p:cBhvr>
                                      <p:to>
                                        <p:strVal val="visible"/>
                                      </p:to>
                                    </p:set>
                                    <p:animEffect filter="fade" transition="in">
                                      <p:cBhvr additive="repl">
                                        <p:cTn id="472" dur="500"/>
                                        <p:tgtEl>
                                          <p:spTgt spid="14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46"/>
                                        </p:tgtEl>
                                        <p:attrNameLst>
                                          <p:attrName>style.visibility</p:attrName>
                                        </p:attrNameLst>
                                      </p:cBhvr>
                                      <p:to>
                                        <p:strVal val="visible"/>
                                      </p:to>
                                    </p:set>
                                    <p:animEffect filter="fade" transition="in">
                                      <p:cBhvr additive="repl">
                                        <p:cTn id="477" dur="500"/>
                                        <p:tgtEl>
                                          <p:spTgt spid="14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50"/>
                                        </p:tgtEl>
                                        <p:attrNameLst>
                                          <p:attrName>style.visibility</p:attrName>
                                        </p:attrNameLst>
                                      </p:cBhvr>
                                      <p:to>
                                        <p:strVal val="visible"/>
                                      </p:to>
                                    </p:set>
                                    <p:animEffect filter="fade" transition="in">
                                      <p:cBhvr additive="repl">
                                        <p:cTn id="482" dur="500"/>
                                        <p:tgtEl>
                                          <p:spTgt spid="15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152"/>
                                        </p:tgtEl>
                                        <p:attrNameLst>
                                          <p:attrName>style.visibility</p:attrName>
                                        </p:attrNameLst>
                                      </p:cBhvr>
                                      <p:to>
                                        <p:strVal val="visible"/>
                                      </p:to>
                                    </p:set>
                                    <p:animEffect filter="fade" transition="in">
                                      <p:cBhvr additive="repl">
                                        <p:cTn id="487" dur="500"/>
                                        <p:tgtEl>
                                          <p:spTgt spid="152"/>
                                        </p:tgtEl>
                                      </p:cBhvr>
                                    </p:animEffect>
                                  </p:childTnLst>
                                </p:cTn>
                              </p:par>
                              <p:par>
                                <p:cTn id="488" nodeType="withEffect" fill="hold" presetClass="entr" presetID="10">
                                  <p:stCondLst>
                                    <p:cond delay="0"/>
                                  </p:stCondLst>
                                  <p:childTnLst>
                                    <p:set>
                                      <p:cBhvr>
                                        <p:cTn id="489" dur="1" fill="hold">
                                          <p:stCondLst>
                                            <p:cond delay="0"/>
                                          </p:stCondLst>
                                        </p:cTn>
                                        <p:tgtEl>
                                          <p:spTgt spid="153"/>
                                        </p:tgtEl>
                                        <p:attrNameLst>
                                          <p:attrName>style.visibility</p:attrName>
                                        </p:attrNameLst>
                                      </p:cBhvr>
                                      <p:to>
                                        <p:strVal val="visible"/>
                                      </p:to>
                                    </p:set>
                                    <p:animEffect filter="fade" transition="in">
                                      <p:cBhvr additive="repl">
                                        <p:cTn id="490" dur="500"/>
                                        <p:tgtEl>
                                          <p:spTgt spid="15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48"/>
                                        </p:tgtEl>
                                        <p:attrNameLst>
                                          <p:attrName>style.visibility</p:attrName>
                                        </p:attrNameLst>
                                      </p:cBhvr>
                                      <p:to>
                                        <p:strVal val="visible"/>
                                      </p:to>
                                    </p:set>
                                    <p:animEffect filter="fade" transition="in">
                                      <p:cBhvr additive="repl">
                                        <p:cTn id="495" dur="500"/>
                                        <p:tgtEl>
                                          <p:spTgt spid="14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54"/>
                                        </p:tgtEl>
                                        <p:attrNameLst>
                                          <p:attrName>style.visibility</p:attrName>
                                        </p:attrNameLst>
                                      </p:cBhvr>
                                      <p:to>
                                        <p:strVal val="visible"/>
                                      </p:to>
                                    </p:set>
                                    <p:animEffect filter="fade" transition="in">
                                      <p:cBhvr additive="repl">
                                        <p:cTn id="500" dur="500"/>
                                        <p:tgtEl>
                                          <p:spTgt spid="1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49"/>
                                        </p:tgtEl>
                                        <p:attrNameLst>
                                          <p:attrName>style.visibility</p:attrName>
                                        </p:attrNameLst>
                                      </p:cBhvr>
                                      <p:to>
                                        <p:strVal val="visible"/>
                                      </p:to>
                                    </p:set>
                                    <p:animEffect filter="fade" transition="in">
                                      <p:cBhvr additive="repl">
                                        <p:cTn id="5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60" y="2017440"/>
            <a:ext cx="12192120" cy="472428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e entiendo por Comportamiento Organizacional (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 Administración Pú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ual es el rol del Administrador(a) Público(a) en torno al desarrollo de esta disciplin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cambiado el comportamiento de los individuos, de los grupos y de las organizaciones durante estos últimos 20 añ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uturo del CO. Estamos preparados en la Administración Pública para una sociedad “liqui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Algunas preguntas claves</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87160" y="907560"/>
            <a:ext cx="779292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5" name=""/>
          <p:cNvSpPr txBox="1"/>
          <p:nvPr/>
        </p:nvSpPr>
        <p:spPr>
          <a:xfrm>
            <a:off x="-360" y="20174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uarto semestre de la carrera. Plan profesional. ¿Por qué estudio AP?</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 carácter teórico - práct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pósito de la cátedra: lograr que los estudiantes comprendan y relacionen las variables individuales, grupales, organizacionales y culturales que influyen en el comportamiento organizacion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erfil de Egreso: Desempeños Complej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oner soluciones innovadoras a problemas de gestión pública que respeten los principios democráticos y la diversidad soci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iderar equipos de trabajo para facilitar el cumplimiento de los objetivos y metas de l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9" dur="500"/>
                                        <p:tgtEl>
                                          <p:spTgt spid="10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4" dur="500"/>
                                        <p:tgtEl>
                                          <p:spTgt spid="105">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9" dur="500"/>
                                        <p:tgtEl>
                                          <p:spTgt spid="105">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4" dur="500"/>
                                        <p:tgtEl>
                                          <p:spTgt spid="10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9" dur="500"/>
                                        <p:tgtEl>
                                          <p:spTgt spid="105">
                                            <p:txEl>
                                              <p:pRg st="4" end="4"/>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etencias</a:t>
            </a:r>
            <a:r>
              <a:rPr b="1" lang="es-CL" sz="2800" spc="-1" strike="noStrike">
                <a:solidFill>
                  <a:srgbClr val="000000"/>
                </a:solidFill>
                <a:latin typeface="Tahoma"/>
              </a:rPr>
              <a:t> Genéricas </a:t>
            </a:r>
            <a:r>
              <a:rPr b="0" lang="es-CL" sz="2800" spc="-1" strike="noStrike">
                <a:solidFill>
                  <a:srgbClr val="000000"/>
                </a:solidFill>
                <a:latin typeface="Tahoma"/>
              </a:rPr>
              <a:t>a desarrollar en el curso:</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tiliza y aplica un pensamiento holístico, lógico y creativo para comprender y explicar los fenómenos propios de los asuntos públicos.</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ctúa con criterios éticos guiado por valores y principios de servicio público y compromiso social.</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unica sus decisiones de manera sintética y empática a través de canales adecuados, actuando con actitud receptiva y flexible.</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gra conocimiento de vanguardia  desarrollando competencias lingüísticas orientadas a interpretar y comprender la realidad de los asuntos públ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 dur="500"/>
                                        <p:tgtEl>
                                          <p:spTgt spid="10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6" dur="500"/>
                                        <p:tgtEl>
                                          <p:spTgt spid="107">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1" dur="500"/>
                                        <p:tgtEl>
                                          <p:spTgt spid="107">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86" dur="500"/>
                                        <p:tgtEl>
                                          <p:spTgt spid="10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9"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Competencias</a:t>
            </a:r>
            <a:r>
              <a:rPr b="1" lang="es-CL" sz="2700" spc="-1" strike="noStrike">
                <a:solidFill>
                  <a:srgbClr val="000000"/>
                </a:solidFill>
                <a:latin typeface="Tahoma"/>
              </a:rPr>
              <a:t> Específicas </a:t>
            </a:r>
            <a:r>
              <a:rPr b="0" lang="es-CL" sz="2700" spc="-1" strike="noStrike">
                <a:solidFill>
                  <a:srgbClr val="000000"/>
                </a:solidFill>
                <a:latin typeface="Tahoma"/>
              </a:rPr>
              <a:t>a desarrollar en el curso:</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efine, analiza e interpreta el fenómeno organizativo y/o de red en el que se desarrolla su accionar, utilizando enfoques interdisciplinarios para problematizarlo desde la especificidad de los asuntos públicos.</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iseña un plan de acción realizando pronósticos y proyectando escenarios desde una perspectiva interdisciplinaria, utilizando e interrelacionando diferentes técnicas e instrumentos, conjugando variables políticas, económicas, sociales, culturales, etc.</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Implementa procesos organizativos desde la interdisciplinariedad, coordinando intereses, esfuerzos y recursos de distinto tipo, alineado con las definiciones de política pública, con visión de resultados</a:t>
            </a:r>
            <a:endParaRPr b="0" lang="en-US" sz="27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8" dur="500"/>
                                        <p:tgtEl>
                                          <p:spTgt spid="10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03" dur="500"/>
                                        <p:tgtEl>
                                          <p:spTgt spid="109">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08" dur="500"/>
                                        <p:tgtEl>
                                          <p:spTgt spid="10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13"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11"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Resultados de Aprendizaje:</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individu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grupales y organiz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culturales y situ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relaciones entre las variables que afectan el comportamiento de las personas en las organizaciones con los resultados y productos conseguidos por dich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0" dur="500"/>
                                        <p:tgtEl>
                                          <p:spTgt spid="111">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5" dur="500"/>
                                        <p:tgtEl>
                                          <p:spTgt spid="111">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0" dur="500"/>
                                        <p:tgtEl>
                                          <p:spTgt spid="11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35" dur="500"/>
                                        <p:tgtEl>
                                          <p:spTgt spid="11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4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HORARIO DE CLASES Y EVALUACIONES</a:t>
            </a:r>
            <a:endParaRPr b="0" lang="en-US" sz="3200" spc="-1" strike="noStrike">
              <a:solidFill>
                <a:srgbClr val="333399"/>
              </a:solidFill>
              <a:latin typeface="Tahoma"/>
            </a:endParaRPr>
          </a:p>
        </p:txBody>
      </p:sp>
      <p:sp>
        <p:nvSpPr>
          <p:cNvPr id="113"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rario de Clases: Lunes y viernes de 16:15 a 17:45 horas. Sala 2.1</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valuaciones</a:t>
            </a:r>
            <a:r>
              <a:rPr b="0" lang="es-ES" sz="2400" spc="-1" strike="noStrike">
                <a:solidFill>
                  <a:srgbClr val="000000"/>
                </a:solidFill>
                <a:latin typeface="Tahoma"/>
              </a:rPr>
              <a:t> (según programa de estudios): </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lleres práctic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troles y Pruebas escrita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aboración de ensay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olución de casos</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centaje de las evaluaciones </a:t>
            </a:r>
            <a:r>
              <a:rPr b="0" lang="es-ES" sz="2400" spc="-1" strike="noStrike">
                <a:solidFill>
                  <a:srgbClr val="000000"/>
                </a:solidFill>
                <a:latin typeface="Tahoma"/>
              </a:rPr>
              <a:t>(planilla)</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asistencia: 1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particip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Talleres, controles, ensayos y resolución de casos: 5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Autoevalu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7" dur="500"/>
                                        <p:tgtEl>
                                          <p:spTgt spid="113">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2" dur="500"/>
                                        <p:tgtEl>
                                          <p:spTgt spid="113">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7" dur="500"/>
                                        <p:tgtEl>
                                          <p:spTgt spid="113">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62" dur="500"/>
                                        <p:tgtEl>
                                          <p:spTgt spid="113">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67" dur="500"/>
                                        <p:tgtEl>
                                          <p:spTgt spid="113">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72" dur="500"/>
                                        <p:tgtEl>
                                          <p:spTgt spid="113">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77" dur="500"/>
                                        <p:tgtEl>
                                          <p:spTgt spid="113">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82" dur="500"/>
                                        <p:tgtEl>
                                          <p:spTgt spid="113">
                                            <p:txEl>
                                              <p:pRg st="7" end="7"/>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87" dur="500"/>
                                        <p:tgtEl>
                                          <p:spTgt spid="113">
                                            <p:txEl>
                                              <p:pRg st="8" end="8"/>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92" dur="500"/>
                                        <p:tgtEl>
                                          <p:spTgt spid="113">
                                            <p:txEl>
                                              <p:pRg st="9" end="9"/>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13">
                                            <p:txEl>
                                              <p:pRg st="10" end="10"/>
                                            </p:txEl>
                                          </p:spTgt>
                                        </p:tgtEl>
                                        <p:attrNameLst>
                                          <p:attrName>style.visibility</p:attrName>
                                        </p:attrNameLst>
                                      </p:cBhvr>
                                      <p:to>
                                        <p:strVal val="visible"/>
                                      </p:to>
                                    </p:set>
                                    <p:animEffect filter="fade" transition="in">
                                      <p:cBhvr additive="repl">
                                        <p:cTn id="19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5"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04" dur="500"/>
                                        <p:tgtEl>
                                          <p:spTgt spid="11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09" dur="500"/>
                                        <p:tgtEl>
                                          <p:spTgt spid="115">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4" dur="500"/>
                                        <p:tgtEl>
                                          <p:spTgt spid="115">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19" dur="500"/>
                                        <p:tgtEl>
                                          <p:spTgt spid="115">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24" dur="500"/>
                                        <p:tgtEl>
                                          <p:spTgt spid="115">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229" dur="500"/>
                                        <p:tgtEl>
                                          <p:spTgt spid="115">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34"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7"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41" dur="500"/>
                                        <p:tgtEl>
                                          <p:spTgt spid="11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46" dur="500"/>
                                        <p:tgtEl>
                                          <p:spTgt spid="1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5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2T18:32:17Z</dcterms:modified>
  <cp:revision>180</cp:revision>
  <dc:subject/>
  <dc:title>Diapositiva 1</dc:title>
</cp:coreProperties>
</file>