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CF37-A29C-42B5-929E-541C262D33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D8D-8A40-4254-9B58-DAAABA240E1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3FA-7659-4E6C-A5DA-146B4B9FEC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641A-A335-40BC-A606-4021BFDA994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3F8-116F-4B93-88A3-6825B72976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C2B-9255-4947-90FE-BB4F5455F3A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0C4-3F6F-4E4F-8A9A-96AF9AC292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8689-21C6-4482-B6DC-11D528B144E4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E51-3443-4338-9BC0-CB1239FA31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89F9-353E-4667-A9F5-98F5724608C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8911-653A-43EE-B342-38E8D8FCFA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E71-4971-4256-A0C1-FC892180B7E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587-A59E-4C12-A4D4-4C28A6C618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F78-460B-4D54-A777-AF6CD5EB825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4E3-6159-4F2D-83D0-5522BFB1BC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5A1-8BB5-4988-979F-8DBB79E3CAD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E22-3B46-4720-A50F-60D5FFE074F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0EAA-5D2F-4A72-8467-697394B11EB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4A38-DE58-48E5-B3CA-0B8BF76F218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621-381D-462F-8057-892FEF9D1EF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AB8F-C9CB-4A9D-8289-914C12539BC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F137-6D0C-4370-B3C0-195281B5B8B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DE2-764D-40D3-824A-A831D9B0A3B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9C1-DDA9-4D14-A571-5C19E9C95A7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6AD-834E-4D32-9FFC-09C3D3FFBD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017-5CC5-4A41-84F9-97F80AD2B3B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008-CDF0-4EF8-B6B7-0BE5D8AA7E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6766-2DAB-4553-9E39-794ACBBA012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A5B-D94F-48F3-91AF-3F90E6E768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3F32-E812-40C4-A74E-F5460F1DA97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137-0FC2-412E-8815-CB6A0DFB9B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725-344E-4BC2-9A52-06E848129EB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EB2-8CFA-4579-A461-981AE6135C3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A39-0775-48D4-BB1F-FB10CD374A8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963-2423-4092-8078-DF38EE4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EFD-9163-47C0-869F-60D28443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580-8506-403C-93EF-55532A10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47A-B30F-4958-835E-8A255F49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AA7-8E8D-449E-BF9B-CE01BA04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3F01-47C9-4C9E-B520-6728E3D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537-EAF6-4F9F-BC02-65DFF4C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C523-22FF-4B21-9434-B3846C1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05F-D272-42AD-9E74-AF7872BA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A3BC-244C-4FED-8C77-AEAA043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BCB-0CD4-4677-B211-4E9011A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246-A278-4590-B49A-C0B12BD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8753-31DC-4168-901F-C35E5CE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1E3D-00AF-4E11-9F5F-164B90A6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B6A-055E-4112-AE87-6D9E74C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EEF-50C6-4293-8A6B-61BDCBF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450-05F8-4AEB-A136-CFD11B9A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27BB-DA41-4B13-8A61-3002D981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3E10-F768-4C00-8A45-3ADB633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F82E-A53C-411B-A06E-B78CA8FF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2F8A-019C-4FB1-A42C-31D2CBD4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AEE3-90D3-45A9-83EB-A58D738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0EE-8544-43E8-9E8A-6974995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917B-709A-43A9-B8F9-9564DD8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0D62-1CFA-4C0A-A345-42F997D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3811-6383-4E9A-9A24-BD71C96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C6A2-5C90-4205-868C-BF07AE3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6651-C96F-48F4-8633-14E33F4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6879-8DC9-49A8-9A24-F0817BD9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CBB8-71A9-4106-9786-E75831C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F8AC7-616B-493E-B596-44C79AC5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D67D4-91D4-4618-9937-9B531CE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74D22-770F-480D-A977-5943AA7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96D-991F-4306-AD0E-F23D447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84DC7-472F-42AC-94E1-28B2B9D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26182-7AB4-49FE-911B-ABCF398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FCFB9-F01A-48A1-BF5E-E5D2521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40412-8424-42FB-86D1-9810576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F16D1-53D3-46AE-ACDA-8D50BEC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484AA-13E2-4307-985A-E960C81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C5C9D-5AA9-44C9-AEBB-BAB54434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EBE6F-B490-436D-AC80-A17F0110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DC6B2-F66B-4B3B-A7F9-B972C411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325DB-7ABB-461A-9D71-884EDC0A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756-AF06-40B0-95D2-BE1681F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9C87-FF08-4224-A322-3E99F2F5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F872-FCC9-4BF5-9A6F-C519DF6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906A-1400-4175-9C05-F623355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9CD0-F8C2-4C79-B480-E699A20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BEC8-6A73-464F-B6C5-783276D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7421-7AD6-45E2-A6D4-EAD53DD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3E3E-AD56-475D-90DF-5ABD40A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BE42-D8F2-47BF-9E7A-622171D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D009-0103-4E3F-A338-3B9D6A7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F419-229A-4B9B-B8E6-4E329405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298-839F-4D78-A8DD-C539CA49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95DF-B437-4B70-BAE7-4AD121C4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BD5-39B7-4495-AD4C-0657062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383-AD3C-454A-8D23-69D7E58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A74-581A-4208-98C5-5ED7E78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9DE-9867-4C51-B794-48162EE60A1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FF3-21A0-4B1A-A7B8-31FEF2AB59A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979D-A0BD-49F4-B8FB-A0BF10ED234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69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3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4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7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8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0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1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3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5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D683-1C60-47CD-AE7B-F6755CBDBB14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654-F1DD-492C-B452-348B3902234E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1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2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3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4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6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7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8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0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1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2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4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7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9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B0A-815D-4B89-9341-076A1480743A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12F5-2FAA-4D4B-8672-67F033480FF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3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7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41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45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8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49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1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A2E-5399-4743-951E-C4EBF561CA96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7C14-B921-4DEB-9C92-E7597C9E2A4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7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Imagen 4" descr=""/>
          <p:cNvPicPr/>
          <p:nvPr/>
        </p:nvPicPr>
        <p:blipFill>
          <a:blip r:embed="rId1"/>
          <a:stretch/>
        </p:blipFill>
        <p:spPr>
          <a:xfrm>
            <a:off x="13968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1663200"/>
            <a:ext cx="6637320" cy="33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Century Gothic"/>
              </a:rPr>
              <a:t>Actividad grupal :</a:t>
            </a:r>
            <a:br>
              <a:rPr sz="3600"/>
            </a:br>
            <a:r>
              <a:rPr b="0" i="1" lang="es-CL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Century Gothic"/>
                <a:ea typeface="Calibri"/>
              </a:rPr>
              <a:t>Aplicación Modelo de Estrella</a:t>
            </a:r>
            <a:r>
              <a:rPr b="0" i="1" lang="es-CL" sz="36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rcRect l="8075" t="30233" r="32278" b="19689"/>
          <a:stretch/>
        </p:blipFill>
        <p:spPr>
          <a:xfrm>
            <a:off x="468360" y="841320"/>
            <a:ext cx="8136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rcRect l="8075" t="30233" r="35783" b="19689"/>
          <a:stretch/>
        </p:blipFill>
        <p:spPr>
          <a:xfrm>
            <a:off x="2806560" y="0"/>
            <a:ext cx="633744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Oval 5"/>
          <p:cNvSpPr/>
          <p:nvPr/>
        </p:nvSpPr>
        <p:spPr>
          <a:xfrm>
            <a:off x="3059280" y="3284640"/>
            <a:ext cx="936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Line 6"/>
          <p:cNvSpPr/>
          <p:nvPr/>
        </p:nvSpPr>
        <p:spPr>
          <a:xfrm flipH="1" flipV="1">
            <a:off x="2195640" y="1268280"/>
            <a:ext cx="1008000" cy="208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11280" y="620640"/>
            <a:ext cx="3600360" cy="64260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ién? Ex Presidente de la República Patricio Aylw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Oval 8"/>
          <p:cNvSpPr/>
          <p:nvPr/>
        </p:nvSpPr>
        <p:spPr>
          <a:xfrm>
            <a:off x="4211640" y="2852640"/>
            <a:ext cx="136836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6732720" y="765000"/>
            <a:ext cx="2160360" cy="119124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Dónde? En un medio de comunicación españo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Line 10"/>
          <p:cNvSpPr/>
          <p:nvPr/>
        </p:nvSpPr>
        <p:spPr>
          <a:xfrm flipV="1">
            <a:off x="5435640" y="1916280"/>
            <a:ext cx="1441440" cy="100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Oval 11"/>
          <p:cNvSpPr/>
          <p:nvPr/>
        </p:nvSpPr>
        <p:spPr>
          <a:xfrm>
            <a:off x="2843280" y="2492280"/>
            <a:ext cx="136836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2050920" y="2349360"/>
            <a:ext cx="866880" cy="28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11280" y="1700280"/>
            <a:ext cx="143964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ndo? El 27 de mayo 201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611280" y="2852640"/>
            <a:ext cx="208908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Por qué? Fue homenajeado por la DC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611280" y="4005360"/>
            <a:ext cx="208908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ómo? Oralmente, en una entrevista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611280" y="5229360"/>
            <a:ext cx="2089080" cy="36828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nto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6732720" y="2421000"/>
            <a:ext cx="223200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é? Critica a Ex Presidente Salvador Allende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Oval 18"/>
          <p:cNvSpPr/>
          <p:nvPr/>
        </p:nvSpPr>
        <p:spPr>
          <a:xfrm>
            <a:off x="3924360" y="3357720"/>
            <a:ext cx="36003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Line 20"/>
          <p:cNvSpPr/>
          <p:nvPr/>
        </p:nvSpPr>
        <p:spPr>
          <a:xfrm flipV="1">
            <a:off x="5796000" y="2852280"/>
            <a:ext cx="936720" cy="506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611280" y="5805360"/>
            <a:ext cx="2089080" cy="36828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l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Generando nuevo conocimiento. Importancia de las citas y referencias bibliográfica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e3d2d"/>
                </a:solidFill>
                <a:latin typeface="Century Gothic"/>
              </a:rPr>
              <a:t>Evitar el plagio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e3d2d"/>
                </a:solidFill>
                <a:latin typeface="Century Gothic"/>
              </a:rPr>
              <a:t>Facilitarle las cosas a quien le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e3d2d"/>
                </a:solidFill>
                <a:uFillTx/>
                <a:latin typeface="Century Gothic"/>
              </a:rPr>
              <a:t>1. EVITAR EL PLAGIO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Qué es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Usar palabras o ideas de otra persona en cualquier trabajo académico sin el debido reconocimiento o cita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Qué tiene de grave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Vulnera normas éticas y legales (derecho de autor y propiedad intelectual)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Y si fue sin intención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El plagio no intencionado es </a:t>
            </a:r>
            <a:r>
              <a:rPr b="0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tan grave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como el intencionado y generalmente se debe a un trabajo poco preciso o meticuloso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Cómo lo evito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De forma muy sencilla: citando todo lo que no haya sido creado originalmente por mí (frases, oraciones, ideas, términos, imágenes, gráficos, entre otros), para lo que existen diversos métodos o normas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e3d2d"/>
                </a:solidFill>
                <a:uFillTx/>
                <a:latin typeface="Century Gothic"/>
              </a:rPr>
              <a:t>2. FACILITARLE LAS COSAS A QUIEN LE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e3d2d"/>
                </a:solidFill>
                <a:latin typeface="Century Gothic"/>
              </a:rPr>
              <a:t>Yo como escritor/a.</a:t>
            </a: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Cuando uno escribe algo (texto, ensayo, artículo, correo electrónico, etc.) generalmente es para que otro lo le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   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El tomar conciencia de que existe un/a futuro/a lector/a, hace que las citas cobren importancia, puesto que con ellas señalamos dónde se puede corroborar o profundizar lo que hemos escrito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e3d2d"/>
                </a:solidFill>
                <a:latin typeface="Century Gothic"/>
              </a:rPr>
              <a:t>Yo como lector/a.</a:t>
            </a:r>
            <a:r>
              <a:rPr b="0" lang="es-MX" sz="2000" spc="-1" strike="noStrike">
                <a:solidFill>
                  <a:srgbClr val="3e3d2d"/>
                </a:solidFill>
                <a:latin typeface="Century Gothic"/>
              </a:rPr>
              <a:t> Cuando uno lee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agradece a los autores que utilizan referencias claras, ya que esto disminuye nuestras horas de indagación en bibliotecas o internet.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e3d2d"/>
                </a:solidFill>
                <a:uFillTx/>
                <a:latin typeface="Century Gothic"/>
              </a:rPr>
              <a:t>Normas APA (</a:t>
            </a:r>
            <a:r>
              <a:rPr b="1" i="1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American Psychological Association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 TEXTO/LIBRO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APELLIDO AUTOR, Nombre (año publicación), </a:t>
            </a:r>
            <a:r>
              <a:rPr b="0" i="1" lang="es-AR" sz="2000" spc="-1" strike="noStrike">
                <a:solidFill>
                  <a:srgbClr val="3e3d2d"/>
                </a:solidFill>
                <a:latin typeface="Century Gothic"/>
              </a:rPr>
              <a:t>Título del libro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. Ciudad, País: Editorial, Página X-XX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BOURDIEU, Pierre (1999), </a:t>
            </a:r>
            <a:r>
              <a:rPr b="0" i="1" lang="es-AR" sz="1500" spc="-1" strike="noStrike">
                <a:solidFill>
                  <a:srgbClr val="3e3d2d"/>
                </a:solidFill>
                <a:latin typeface="Century Gothic"/>
              </a:rPr>
              <a:t>La dominación masculina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, Barcelona, España: Anagrama. 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 TEXTO DE UN AUTOR DENTRO DE OTRO LIBRO DE UN AUTOR DISTINTO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APELLIDO AUTOR, Nombre autor (año publicación), "Título del texto", en APELLIDO AUTOR DEL LIBRO, Nombre, </a:t>
            </a:r>
            <a:r>
              <a:rPr b="0" i="1" lang="es-AR" sz="2000" spc="-1" strike="noStrike">
                <a:solidFill>
                  <a:srgbClr val="3e3d2d"/>
                </a:solidFill>
                <a:latin typeface="Century Gothic"/>
              </a:rPr>
              <a:t>Título del libro,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Ciudad, País: Editorial, Página X-XX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 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</a:t>
            </a: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LOMNITZ, Claudio (2002), “Identidad”, en ALTAMIRANO, Carlos (comp.), </a:t>
            </a:r>
            <a:r>
              <a:rPr b="0" i="1" lang="es-AR" sz="1400" spc="-1" strike="noStrike">
                <a:solidFill>
                  <a:srgbClr val="3e3d2d"/>
                </a:solidFill>
                <a:latin typeface="Century Gothic"/>
              </a:rPr>
              <a:t>Términos críticos de sociología de la cultura</a:t>
            </a: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, Buenos Aires, Argentina: Paidos.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e3d2d"/>
                </a:solidFill>
                <a:uFillTx/>
                <a:latin typeface="Century Gothic"/>
              </a:rPr>
              <a:t>Normas APA (</a:t>
            </a:r>
            <a:r>
              <a:rPr b="1" i="1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American Psychological Association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A PÁGINA WEB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Página Oficial de XXX, www.xxxxxxx.cl (revisada el XX.XX.XX)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</a:t>
            </a:r>
            <a:r>
              <a:rPr b="0" lang="es-AR" sz="1600" spc="-1" strike="noStrike">
                <a:solidFill>
                  <a:srgbClr val="3e3d2d"/>
                </a:solidFill>
                <a:latin typeface="Century Gothic"/>
              </a:rPr>
              <a:t>Página Oficial Servicio Electoral de Chile: www.servel.cl (revisada 04.04.2012).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8560" y="1663200"/>
            <a:ext cx="6637320" cy="33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Century Gothic"/>
              </a:rPr>
              <a:t>Actividad en parejas :</a:t>
            </a:r>
            <a:br>
              <a:rPr sz="4000"/>
            </a:br>
            <a:r>
              <a:rPr b="0" i="1" lang="es-CL" sz="4000" spc="-1" strike="noStrike">
                <a:solidFill>
                  <a:srgbClr val="000000"/>
                </a:solidFill>
                <a:latin typeface="Century Gothic"/>
              </a:rPr>
              <a:t> Elaboración de una bibliografía APA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1 Rectángulo"/>
          <p:cNvSpPr/>
          <p:nvPr/>
        </p:nvSpPr>
        <p:spPr>
          <a:xfrm>
            <a:off x="611280" y="98100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Gothic"/>
              </a:rPr>
              <a:t>La dicotomía Política-Administración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Gothic"/>
              </a:rPr>
              <a:t>Este trabajo da a conocer las diferentes visiones y concepciones de los estudios de administración pública respecto de su relación con la política y viceversa, en lo que se entiende como la dicotomía política-administración, dando a entender que esta discusión aún esta presente y es uno de los temas contingentes dentro del área de la ciencia política y la administración públic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87440" y="614520"/>
            <a:ext cx="79531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94c600"/>
                </a:solidFill>
                <a:uFillTx/>
                <a:latin typeface="Century Gothic"/>
              </a:rPr>
              <a:t>Lunes 28 de mayo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7080" y="1274400"/>
            <a:ext cx="8281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omentarios actividad habilidades para trabajar con literatura académica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Modelos de redacció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plicación modelo de estrell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itas y plagio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ctividad en aula (duplas): elaboración de cita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ierre</a:t>
            </a:r>
            <a:r>
              <a:rPr b="0" lang="es-CL" sz="20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  <a:ea typeface="Calibri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6 Rectángulo"/>
          <p:cNvSpPr/>
          <p:nvPr/>
        </p:nvSpPr>
        <p:spPr>
          <a:xfrm>
            <a:off x="554040" y="542880"/>
            <a:ext cx="79423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4c600"/>
                </a:solidFill>
                <a:latin typeface="Century Gothic"/>
              </a:rPr>
              <a:t>Expresión escrita…importancia de las citas y autoría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8" name="7 Imagen" descr=""/>
          <p:cNvPicPr/>
          <p:nvPr/>
        </p:nvPicPr>
        <p:blipFill>
          <a:blip r:embed="rId1"/>
          <a:stretch/>
        </p:blipFill>
        <p:spPr>
          <a:xfrm>
            <a:off x="2262240" y="1920960"/>
            <a:ext cx="2760480" cy="24019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690480" y="1874880"/>
            <a:ext cx="2208240" cy="6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27008" dir="1938390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l presidente de Hungría tuvo que renunciar por haber plagiado su tesis de doctorad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4200480" y="1990800"/>
            <a:ext cx="2147760" cy="66204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Renuncia presidente de Hungría en medio de escándalo de plagi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866880" y="3225960"/>
            <a:ext cx="2031840" cy="57780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scándalo de plagio arruina la carrera política del presidente de Hungría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2" name="Picture 9" descr="El ministro de Defensa alemán, Karl-Theodor zu Guttenberg. | Reuters"/>
          <p:cNvPicPr/>
          <p:nvPr/>
        </p:nvPicPr>
        <p:blipFill>
          <a:blip r:embed="rId2"/>
          <a:stretch/>
        </p:blipFill>
        <p:spPr>
          <a:xfrm>
            <a:off x="5241960" y="4029120"/>
            <a:ext cx="2523960" cy="1969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6"/>
          <p:cNvSpPr/>
          <p:nvPr/>
        </p:nvSpPr>
        <p:spPr>
          <a:xfrm>
            <a:off x="7196040" y="4187880"/>
            <a:ext cx="1889280" cy="662040"/>
          </a:xfrm>
          <a:prstGeom prst="rect">
            <a:avLst/>
          </a:prstGeom>
          <a:gradFill rotWithShape="0">
            <a:gsLst>
              <a:gs pos="0">
                <a:srgbClr val="ebece3"/>
              </a:gs>
              <a:gs pos="100000">
                <a:srgbClr val="929663"/>
              </a:gs>
            </a:gsLst>
            <a:lin ang="5040000"/>
          </a:gradFill>
          <a:ln w="9360">
            <a:solidFill>
              <a:srgbClr val="90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Dimite el ministro de Defensa alemán tras plagiar su tesis doctora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7196040" y="5508720"/>
            <a:ext cx="1889280" cy="663480"/>
          </a:xfrm>
          <a:prstGeom prst="rect">
            <a:avLst/>
          </a:prstGeom>
          <a:gradFill rotWithShape="0">
            <a:gsLst>
              <a:gs pos="0">
                <a:srgbClr val="ffe8d5"/>
              </a:gs>
              <a:gs pos="100000">
                <a:srgbClr val="ffa217"/>
              </a:gs>
            </a:gsLst>
            <a:lin ang="5040000"/>
          </a:gradFill>
          <a:ln w="936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Ministro Alemán Renuncia por acusación de plagi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940200" y="4657680"/>
            <a:ext cx="1889280" cy="663480"/>
          </a:xfrm>
          <a:prstGeom prst="rect">
            <a:avLst/>
          </a:prstGeom>
          <a:gradFill rotWithShape="0">
            <a:gsLst>
              <a:gs pos="0">
                <a:srgbClr val="eaf9d9"/>
              </a:gs>
              <a:gs pos="100000">
                <a:srgbClr val="99d000"/>
              </a:gs>
            </a:gsLst>
            <a:lin ang="5040000"/>
          </a:gradFill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l ex ministro de Defensa alemán plagió "deliberadamente" su tesis doctora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68360" y="912960"/>
            <a:ext cx="79912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omentarios generales actividad: “Habilidades para trabajar con literatura académica”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Palabras desconocida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Ideas fuerz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Título  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bstract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 / Keyswor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Orden lógico de los párrafo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1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36" name="Diagram 2"/>
          <p:cNvGrpSpPr/>
          <p:nvPr/>
        </p:nvGrpSpPr>
        <p:grpSpPr>
          <a:xfrm>
            <a:off x="2474280" y="836640"/>
            <a:ext cx="5055480" cy="4891320"/>
            <a:chOff x="2474280" y="836640"/>
            <a:chExt cx="5055480" cy="4891320"/>
          </a:xfrm>
        </p:grpSpPr>
        <p:sp>
          <p:nvSpPr>
            <p:cNvPr id="437" name="_s1028"/>
            <p:cNvSpPr/>
            <p:nvPr/>
          </p:nvSpPr>
          <p:spPr>
            <a:xfrm flipH="1">
              <a:off x="3786120" y="4220640"/>
              <a:ext cx="6080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_s1029"/>
            <p:cNvSpPr/>
            <p:nvPr/>
          </p:nvSpPr>
          <p:spPr>
            <a:xfrm>
              <a:off x="2474280" y="4220640"/>
              <a:ext cx="1405440" cy="1505160"/>
            </a:xfrm>
            <a:prstGeom prst="ellipse">
              <a:avLst/>
            </a:prstGeom>
            <a:solidFill>
              <a:srgbClr val="ed0b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Razó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_s1030"/>
            <p:cNvSpPr/>
            <p:nvPr/>
          </p:nvSpPr>
          <p:spPr>
            <a:xfrm>
              <a:off x="5610240" y="4222800"/>
              <a:ext cx="6080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_s1031"/>
            <p:cNvSpPr/>
            <p:nvPr/>
          </p:nvSpPr>
          <p:spPr>
            <a:xfrm>
              <a:off x="6124680" y="4222800"/>
              <a:ext cx="1405080" cy="1505160"/>
            </a:xfrm>
            <a:prstGeom prst="ellipse">
              <a:avLst/>
            </a:prstGeom>
            <a:solidFill>
              <a:srgbClr val="51b5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Evidencia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_s1032"/>
            <p:cNvSpPr/>
            <p:nvPr/>
          </p:nvSpPr>
          <p:spPr>
            <a:xfrm flipV="1">
              <a:off x="5003640" y="2341080"/>
              <a:ext cx="0" cy="75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2" name="_s1033"/>
            <p:cNvSpPr/>
            <p:nvPr/>
          </p:nvSpPr>
          <p:spPr>
            <a:xfrm>
              <a:off x="4300920" y="836640"/>
              <a:ext cx="1405440" cy="1504800"/>
            </a:xfrm>
            <a:prstGeom prst="ellipse">
              <a:avLst/>
            </a:prstGeom>
            <a:solidFill>
              <a:srgbClr val="622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Afirmación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3" name="_s1034"/>
            <p:cNvSpPr/>
            <p:nvPr/>
          </p:nvSpPr>
          <p:spPr>
            <a:xfrm>
              <a:off x="4300920" y="3094200"/>
              <a:ext cx="1405440" cy="1504800"/>
            </a:xfrm>
            <a:prstGeom prst="ellipse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GUMENTO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493560" y="549360"/>
            <a:ext cx="39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entury Gothic"/>
              </a:rPr>
              <a:t>Construcción de argumentos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5 Rectángulo"/>
          <p:cNvSpPr/>
          <p:nvPr/>
        </p:nvSpPr>
        <p:spPr>
          <a:xfrm>
            <a:off x="268560" y="1792440"/>
            <a:ext cx="36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c00000"/>
                </a:solidFill>
                <a:latin typeface="Century Gothic"/>
              </a:rPr>
              <a:t>1. Modelo Toulmi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6746760" y="5997600"/>
            <a:ext cx="292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Toulmin (1958)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Afirmació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Aseveración breve, precisa y clar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Razó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Razonamiento, explicación, nexo entre la afirmación y la evidenci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Evidencia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Información que respalde, justifique e ilum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13200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TIPOS DE AFIRMACION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ASSERTIO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Afirmación breve, precisa y clar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REASO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Razonamiento, explicación, nexo entre la afirmación y la evidenci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EVIDENCE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Evidencia que respalde, justifique e ilum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539640" y="1773360"/>
            <a:ext cx="7920000" cy="4319640"/>
          </a:xfrm>
          <a:prstGeom prst="ellipse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Factual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La deserción en la carrera de Derecho ha bajado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Valorativ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El llamado aborto terapéutico es inmoral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Deberían hacerse más ayudantías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Causal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El uso del computador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ha incrementado las habilidades escritas de los estudiantes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Definitori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“La pena de muerte es otro crimen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13200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TIPOS DE AFIRMACION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55640" y="98100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firmaci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Juan José es chileno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292720" y="3645000"/>
            <a:ext cx="31669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videnci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sí lo demuestra su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certificado d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nacimiento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respaldo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2340000" y="2349360"/>
            <a:ext cx="0" cy="122400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4284720" y="4365720"/>
            <a:ext cx="790560" cy="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826920" y="3645000"/>
            <a:ext cx="33847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Raz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Porque nació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n Rancagua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dato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5219640" y="1197000"/>
            <a:ext cx="316728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Garantí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La ley reconoc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nacionalidad de orig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 los nacidos en Chile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Line 15"/>
          <p:cNvSpPr/>
          <p:nvPr/>
        </p:nvSpPr>
        <p:spPr>
          <a:xfrm flipV="1">
            <a:off x="6732720" y="2565360"/>
            <a:ext cx="0" cy="93672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900000" y="117468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firmaci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l aborto debe aprobarse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1042920" y="386064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Raz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Porque la mayoría lo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quiere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dato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5365800" y="3830760"/>
            <a:ext cx="31669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videnci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sí lo demuestra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las encuestas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respaldo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5372280" y="1349280"/>
            <a:ext cx="31669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Garantí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s deseable 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aproba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las conductas qu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quieran las mayorías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97200" y="3712680"/>
            <a:ext cx="4222440" cy="237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rocedimiento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1.- Describir. ¿Cómo se ve, cómo se siente, cómo se gestiona?   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2.- Comparar. ¿A qué se parece o de qué se diferencia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3.- Relacionar. ¿Con qué se relaciona? ¿con qué interactúa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4.- Analizar.  ¿Cuántas áreas tiene? ¿Cuáles? ¿Cómo funcionan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5.- Aplicar.  ¿Cómo se utiliza? ¿Para qué sirve?                                 6.- Argumentar. ¿Qué se puede decir a favor y en contra? 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5 Rectángulo"/>
          <p:cNvSpPr/>
          <p:nvPr/>
        </p:nvSpPr>
        <p:spPr>
          <a:xfrm>
            <a:off x="859680" y="69228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c00000"/>
                </a:solidFill>
                <a:latin typeface="Century Gothic"/>
              </a:rPr>
              <a:t>2. Modelo de cubo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Rectángulo 1"/>
          <p:cNvSpPr/>
          <p:nvPr/>
        </p:nvSpPr>
        <p:spPr>
          <a:xfrm>
            <a:off x="0" y="1066680"/>
            <a:ext cx="896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0" name="Picture 1" descr="escanear0007"/>
          <p:cNvPicPr/>
          <p:nvPr/>
        </p:nvPicPr>
        <p:blipFill>
          <a:blip r:embed="rId1"/>
          <a:stretch/>
        </p:blipFill>
        <p:spPr>
          <a:xfrm>
            <a:off x="468360" y="1515960"/>
            <a:ext cx="3887640" cy="4434120"/>
          </a:xfrm>
          <a:prstGeom prst="rect">
            <a:avLst/>
          </a:prstGeom>
          <a:ln w="0">
            <a:noFill/>
          </a:ln>
        </p:spPr>
      </p:pic>
      <p:sp>
        <p:nvSpPr>
          <p:cNvPr id="471" name="5 CuadroTexto"/>
          <p:cNvSpPr/>
          <p:nvPr/>
        </p:nvSpPr>
        <p:spPr>
          <a:xfrm>
            <a:off x="395640" y="5961240"/>
            <a:ext cx="365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Fuente:  Cassany, La cocina de la escritura (1993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1 CuadroTexto"/>
          <p:cNvSpPr/>
          <p:nvPr/>
        </p:nvSpPr>
        <p:spPr>
          <a:xfrm>
            <a:off x="755640" y="1484280"/>
            <a:ext cx="9367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99080" y="4002120"/>
            <a:ext cx="397656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entury Gothic"/>
              </a:rPr>
              <a:t>Procedimiento: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1. Hacer preguntas sobre el tema a partir de la estrella. Buscar preguntas que puedan dar 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entury Gothic"/>
              </a:rPr>
              <a:t>respuestas relevantes</a:t>
            </a: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2. Responder a las preguntas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3. Evita las preguntas y las ideas repetidas. Buscar nuevos puntos de vista.</a:t>
            </a:r>
            <a:br>
              <a:rPr sz="2200"/>
            </a:b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5 Rectángulo"/>
          <p:cNvSpPr/>
          <p:nvPr/>
        </p:nvSpPr>
        <p:spPr>
          <a:xfrm>
            <a:off x="577440" y="68436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Century Gothic"/>
              </a:rPr>
              <a:t>3. Modelo de  estrell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Rectángulo 1"/>
          <p:cNvSpPr/>
          <p:nvPr/>
        </p:nvSpPr>
        <p:spPr>
          <a:xfrm>
            <a:off x="0" y="1066680"/>
            <a:ext cx="896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1" descr="escanear0006"/>
          <p:cNvPicPr/>
          <p:nvPr/>
        </p:nvPicPr>
        <p:blipFill>
          <a:blip r:embed="rId1"/>
          <a:stretch/>
        </p:blipFill>
        <p:spPr>
          <a:xfrm>
            <a:off x="539640" y="1801800"/>
            <a:ext cx="4081680" cy="4219560"/>
          </a:xfrm>
          <a:prstGeom prst="rect">
            <a:avLst/>
          </a:prstGeom>
          <a:ln w="0">
            <a:noFill/>
          </a:ln>
        </p:spPr>
      </p:pic>
      <p:sp>
        <p:nvSpPr>
          <p:cNvPr id="478" name="1 CuadroTexto"/>
          <p:cNvSpPr/>
          <p:nvPr/>
        </p:nvSpPr>
        <p:spPr>
          <a:xfrm>
            <a:off x="410040" y="5589720"/>
            <a:ext cx="365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Fuente:  Cassany, La cocina de la escritura (1993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52:27Z</dcterms:created>
  <dc:creator>Sofía Schuster</dc:creator>
  <dc:description/>
  <dc:language>en-US</dc:language>
  <cp:lastModifiedBy>usuario</cp:lastModifiedBy>
  <dcterms:modified xsi:type="dcterms:W3CDTF">2012-05-28T13:08:45Z</dcterms:modified>
  <cp:revision>101</cp:revision>
  <dc:subject/>
  <dc:title>Expresión oral y escrita para iniciar el estudio de los asuntos públicos</dc:title>
</cp:coreProperties>
</file>