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7C9-3369-406A-8FC9-755334E80D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A9D-9014-4BBA-A421-501BD170C477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8ADE-F891-4E30-8129-F423B32DC57C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A584-3D39-40B2-9237-9B176B345CF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E61-96C8-42EB-B448-73966730235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FC4-5053-4624-AC08-6B30F68228E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DC0-D550-4FE9-BFB2-E5931409B2A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49DB-8BF1-4770-8038-5B73D8236BF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0456-474B-4120-A763-26D0C7D3BB8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C011-2AD8-4D37-9BE8-DEBDD2C3FE9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887B-C332-474D-9C58-81E7C89C159C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75D2-D572-4491-BD52-7139E2CE0BEE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5D5C-6782-4891-9BF1-87AAA219D46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308-F5AA-43B6-A6C0-2D2816D91FF7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A523-B6A7-4B54-BF00-2C9E175A3DA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FB4-A0E8-4A1C-B7C2-E237C91F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036-CD10-47CF-B6D0-1B8B6808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CF0-5436-47AB-9F21-46842B99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E6B-82E3-4361-9A7C-5CBC39A0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5F67-6206-4D4B-B15F-1CF472CB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6A6-EBA1-47DB-99A8-FA9E6C9D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E9B8-CC95-46D5-AB33-B01F26AA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E96C-9655-4771-9FAF-E34CD9B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B352-551F-4B90-AA87-EC421602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451A-8F96-4D3E-AFB7-74C4259A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095B-4782-4FBD-A68E-4D2AD9B2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B89-F366-4010-8D8E-0C6BABF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8D79-BC32-4C9A-87B3-C7CA548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2BF4-2BD9-4020-80D1-BD36DBC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49D-341A-4C24-AA6F-5A2D7C8A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14DF-A77A-47D6-BF51-F958E553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7EAA-AAA0-4C1F-87CD-F2D2DB03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84EC7-374B-4D0C-AA6D-C78B831D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BCAFE-A7C6-4536-B237-1C2A95B8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D5080-6046-418B-88DD-EA7BA8A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3E154-4C51-43F5-8122-359BE67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F955B-EB64-495A-B75B-C5AEF2EB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E24-21AF-41A3-8EFC-9CD62124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20434-8E0A-4847-9958-FC9DB10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E92AD-CD5E-4FCB-9C63-D455754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4DF16-65B7-453D-856B-F85DB79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4A48-9400-4FA7-8AB3-5D9DB367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53618-1295-44DC-9102-B6BFFB0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24F7A-34E3-4F57-BABD-D472D7C6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86BC8-5F61-4893-8DC9-627D5295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6F15-6B73-407E-B5CB-5C1FD175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E1E3-B141-4071-8E81-DB20AB2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63CA-EEDB-4536-A188-C87ADED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77A-7DEC-4410-96AF-217B8BC8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7FD3-B2B6-43A6-A04E-B9E964B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1BE5-3E5E-4C15-8DDB-EAB8F91A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B7BE-3FE9-429C-903A-75AD37F6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8DDF-59DE-40FD-B93A-BC27F26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6A42-3A9E-4871-9F91-9A2BED1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28E7-3744-4C33-BFE5-6B6307CE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2E3C-CE7F-44A8-A5AC-9CCEAB0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5687-E016-49BC-B8A3-59981BB8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8804-1E62-4E98-91BE-B4292231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D80-F07F-4B06-A051-EF019B61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E28-E5E4-4123-997D-95C60DC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8A9-59A6-4D34-89F5-350B254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9F3-1079-4EF4-9F70-33F4E20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A0A-7203-4702-9FFF-45C6B69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3DDD-0B01-4468-8325-D6804F895BC0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132E-5D60-419C-B9F4-6EB2D080693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DE7F-BD2A-41E3-BFAF-11873E2A4EDB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AF22-1DF2-40B0-8B4E-7DA73B5833AA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C44E-71B4-447F-BA4D-004AE0982BB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E3C-0A7D-437B-89F3-15A6AC868FD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C302-2913-4CC6-8105-E3CB994403BA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4FC7-FFF4-4B3D-9A69-DF9F1867E39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Imagen 4" descr=""/>
          <p:cNvPicPr/>
          <p:nvPr/>
        </p:nvPicPr>
        <p:blipFill>
          <a:blip r:embed="rId1"/>
          <a:stretch/>
        </p:blipFill>
        <p:spPr>
          <a:xfrm>
            <a:off x="13968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3600" y="-76320"/>
            <a:ext cx="100011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 …Plan de estudio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9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0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391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3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4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7"/>
          <a:srcRect l="17069" t="17579" r="18618" b="11924"/>
          <a:stretch/>
        </p:blipFill>
        <p:spPr>
          <a:xfrm>
            <a:off x="387360" y="1285920"/>
            <a:ext cx="86882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3600" y="-104760"/>
            <a:ext cx="81802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Nuestra carrera. Perfil de egreso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8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9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400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1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2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4" name="Rectángulo 13"/>
          <p:cNvSpPr/>
          <p:nvPr/>
        </p:nvSpPr>
        <p:spPr>
          <a:xfrm>
            <a:off x="627120" y="1428840"/>
            <a:ext cx="754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Century Gothic"/>
                <a:ea typeface="MS Mincho"/>
              </a:rPr>
              <a:t>Profesional universitario formado para desempeñarse en el ámbito del Estado, el gobierno y los asuntos públicos.</a:t>
            </a:r>
            <a:r>
              <a:rPr b="1" lang="es-ES_tradnl" sz="1500" spc="-1" strike="noStrike">
                <a:solidFill>
                  <a:srgbClr val="0070c0"/>
                </a:solidFill>
                <a:latin typeface="Century Gothic"/>
                <a:ea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878040" y="2062080"/>
            <a:ext cx="2431800" cy="18288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Lidera equipos multidisciplinarios para el diseño y la gestión de políticas pública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Oval 14"/>
          <p:cNvSpPr/>
          <p:nvPr/>
        </p:nvSpPr>
        <p:spPr>
          <a:xfrm>
            <a:off x="1101600" y="4148280"/>
            <a:ext cx="2432160" cy="18288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Comprende y analiza los fenómenos públicos desde perspectivas, históricas, sociales, políticas, económicas y cultura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Oval 15"/>
          <p:cNvSpPr/>
          <p:nvPr/>
        </p:nvSpPr>
        <p:spPr>
          <a:xfrm>
            <a:off x="3152880" y="2873520"/>
            <a:ext cx="2431800" cy="182880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Ejerce la gestión integral de las organizaciones públicas,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Oval 16"/>
          <p:cNvSpPr/>
          <p:nvPr/>
        </p:nvSpPr>
        <p:spPr>
          <a:xfrm>
            <a:off x="5114880" y="4253040"/>
            <a:ext cx="2432160" cy="18288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entury Gothic"/>
              </a:rPr>
              <a:t>Lidera espacios académicos y de asesoría, en el estudio de los Asuntos Públicos,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5270400" y="1959120"/>
            <a:ext cx="2649600" cy="1828800"/>
          </a:xfrm>
          <a:prstGeom prst="ellipse">
            <a:avLst/>
          </a:prstGeom>
          <a:solidFill>
            <a:srgbClr val="e36c0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Identifica y reconoce problemas y necesidades públicas, apoyando la toma de decisiones para su solució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3600" y="233280"/>
            <a:ext cx="86900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…</a:t>
            </a:r>
            <a:br>
              <a:rPr sz="3600"/>
            </a:b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ámbitos de desempeñ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2" name="4 Diagrama" descr=""/>
          <p:cNvPicPr/>
          <p:nvPr/>
        </p:nvPicPr>
        <p:blipFill>
          <a:blip r:embed="rId1"/>
          <a:stretch/>
        </p:blipFill>
        <p:spPr>
          <a:xfrm>
            <a:off x="1511280" y="1590840"/>
            <a:ext cx="61452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0080" y="3217680"/>
            <a:ext cx="697536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94c600"/>
                </a:solidFill>
                <a:latin typeface="Century Gothic"/>
              </a:rPr>
              <a:t>A propósito de los asuntos públicos…… reflexiones y comentarios sobre diagnóstico de expresión escrita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3600" y="4507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94c600"/>
                </a:solidFill>
                <a:latin typeface="Century Gothic"/>
              </a:rPr>
              <a:t>Áreas del conocimiento que permiten estudiar los Asuntos Públicos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84240" y="-603360"/>
            <a:ext cx="12477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84240" y="-603360"/>
            <a:ext cx="12477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7074000" y="4692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665280" y="23860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21" name="14 Diagrama" descr=""/>
          <p:cNvPicPr/>
          <p:nvPr/>
        </p:nvPicPr>
        <p:blipFill>
          <a:blip r:embed="rId3"/>
          <a:stretch/>
        </p:blipFill>
        <p:spPr>
          <a:xfrm>
            <a:off x="1639800" y="1779480"/>
            <a:ext cx="6108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9920" y="205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4c600"/>
                </a:solidFill>
                <a:latin typeface="Century Gothic"/>
              </a:rPr>
              <a:t>Asuntos Públic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4" name="17 CuadroTexto" descr=""/>
          <p:cNvPicPr/>
          <p:nvPr/>
        </p:nvPicPr>
        <p:blipFill>
          <a:blip r:embed="rId1"/>
          <a:stretch/>
        </p:blipFill>
        <p:spPr>
          <a:xfrm>
            <a:off x="1609560" y="5479920"/>
            <a:ext cx="6218280" cy="835200"/>
          </a:xfrm>
          <a:prstGeom prst="rect">
            <a:avLst/>
          </a:prstGeom>
          <a:ln w="0">
            <a:noFill/>
          </a:ln>
        </p:spPr>
      </p:pic>
      <p:pic>
        <p:nvPicPr>
          <p:cNvPr id="425" name="7 Diagrama" descr=""/>
          <p:cNvPicPr/>
          <p:nvPr/>
        </p:nvPicPr>
        <p:blipFill>
          <a:blip r:embed="rId2"/>
          <a:stretch/>
        </p:blipFill>
        <p:spPr>
          <a:xfrm>
            <a:off x="1627200" y="1487520"/>
            <a:ext cx="5810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9920" y="205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4c600"/>
                </a:solidFill>
                <a:latin typeface="Century Gothic"/>
              </a:rPr>
              <a:t>Para próxima sesió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5 Rectángulo"/>
          <p:cNvSpPr/>
          <p:nvPr/>
        </p:nvSpPr>
        <p:spPr>
          <a:xfrm>
            <a:off x="1060560" y="1932120"/>
            <a:ext cx="65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dentificar estilos de aprendizaje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http://www.estilosdeaprendizaje.es/chaea/chaea.htm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7080" y="-1764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Agenda sesión 1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0320" y="1406160"/>
            <a:ext cx="768024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Bienvenida y presentación del taller (lógica y propósito talleres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Revisión programa y planificación de actividades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Presentación de la comunidad de aprendizaje (sistema de pares). Diagnóstico expresión oral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Actividad práctica. Diagnóstico expresión escrita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entury Gothic"/>
              </a:rPr>
              <a:t>09 de abri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87440" y="-17640"/>
            <a:ext cx="71517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Lógica y propósito</a:t>
            </a: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 taller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4 Diagrama" descr=""/>
          <p:cNvPicPr/>
          <p:nvPr/>
        </p:nvPicPr>
        <p:blipFill>
          <a:blip r:embed="rId1"/>
          <a:stretch/>
        </p:blipFill>
        <p:spPr>
          <a:xfrm>
            <a:off x="1189080" y="1633680"/>
            <a:ext cx="6669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7080" y="1133640"/>
            <a:ext cx="809604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os permiten reforzar nuestro perfil de egreso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5 Imagen" descr=""/>
          <p:cNvPicPr/>
          <p:nvPr/>
        </p:nvPicPr>
        <p:blipFill>
          <a:blip r:embed="rId1"/>
          <a:stretch/>
        </p:blipFill>
        <p:spPr>
          <a:xfrm>
            <a:off x="1133640" y="1835280"/>
            <a:ext cx="6883200" cy="4248000"/>
          </a:xfrm>
          <a:prstGeom prst="rect">
            <a:avLst/>
          </a:prstGeom>
          <a:ln w="0">
            <a:noFill/>
          </a:ln>
        </p:spPr>
      </p:pic>
      <p:sp>
        <p:nvSpPr>
          <p:cNvPr id="355" name="8 CuadroTexto"/>
          <p:cNvSpPr/>
          <p:nvPr/>
        </p:nvSpPr>
        <p:spPr>
          <a:xfrm>
            <a:off x="5146920" y="6012000"/>
            <a:ext cx="293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Century Gothic"/>
              </a:rPr>
              <a:t>Fuente: Elaboración equipo docente taller I, 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Imagen 4" descr=""/>
          <p:cNvPicPr/>
          <p:nvPr/>
        </p:nvPicPr>
        <p:blipFill>
          <a:blip r:embed="rId1"/>
          <a:stretch/>
        </p:blipFill>
        <p:spPr>
          <a:xfrm>
            <a:off x="16344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13644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Agenda sesión 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58560" y="1579680"/>
            <a:ext cx="6637320" cy="15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>
              <a:spcBef>
                <a:spcPts val="64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Introducción a la Universidad y carrera (contexto, malla, perfil de egreso y ámbitos de desempeño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ctividad 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4c600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Revisión  grupal de malla curricula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4c600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Gestión de carrera universitari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4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A propósito de los asuntos públicos: comentarios de fondo y de forma diagnóstico de expresión escrit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ctividad: FODA Personal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4 Rectángulo"/>
          <p:cNvSpPr/>
          <p:nvPr/>
        </p:nvSpPr>
        <p:spPr>
          <a:xfrm>
            <a:off x="6670440" y="59976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entury Gothic"/>
              </a:rPr>
              <a:t>16 de abr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35320" y="815760"/>
            <a:ext cx="42069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La Universidad de Chile…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10 Rectángulo"/>
          <p:cNvSpPr/>
          <p:nvPr/>
        </p:nvSpPr>
        <p:spPr>
          <a:xfrm>
            <a:off x="3527280" y="4735440"/>
            <a:ext cx="138240" cy="914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Picture 2" descr="http://www.uchile.cl/uchile/ImageServlet?idDocumento=8274&amp;indice=0"/>
          <p:cNvPicPr/>
          <p:nvPr/>
        </p:nvPicPr>
        <p:blipFill>
          <a:blip r:embed="rId1"/>
          <a:stretch/>
        </p:blipFill>
        <p:spPr>
          <a:xfrm>
            <a:off x="785880" y="422280"/>
            <a:ext cx="2879640" cy="5956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68" name="8 Elipse"/>
          <p:cNvSpPr/>
          <p:nvPr/>
        </p:nvSpPr>
        <p:spPr>
          <a:xfrm>
            <a:off x="1449360" y="3897360"/>
            <a:ext cx="2216160" cy="24811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69" name="11 Conector recto de flecha"/>
          <p:cNvCxnSpPr/>
          <p:nvPr/>
        </p:nvCxnSpPr>
        <p:spPr>
          <a:xfrm flipV="1">
            <a:off x="3900240" y="4228560"/>
            <a:ext cx="470520" cy="3387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70" name="Picture 5" descr=""/>
          <p:cNvPicPr/>
          <p:nvPr/>
        </p:nvPicPr>
        <p:blipFill>
          <a:blip r:embed="rId2"/>
          <a:srcRect l="15426" t="33309" r="32275" b="0"/>
          <a:stretch/>
        </p:blipFill>
        <p:spPr>
          <a:xfrm>
            <a:off x="4791240" y="2646360"/>
            <a:ext cx="3551040" cy="3003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71" name="20 Elipse"/>
          <p:cNvSpPr/>
          <p:nvPr/>
        </p:nvSpPr>
        <p:spPr>
          <a:xfrm>
            <a:off x="7013520" y="3897360"/>
            <a:ext cx="1146240" cy="336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21 CuadroTexto"/>
          <p:cNvSpPr/>
          <p:nvPr/>
        </p:nvSpPr>
        <p:spPr>
          <a:xfrm>
            <a:off x="4135320" y="6178680"/>
            <a:ext cx="45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uente: http://www.uchile.cl/portal/presentacion/estructura/8274/organigrama-de-la-universidad-de-chile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3600" y="-19080"/>
            <a:ext cx="73710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Instituto de Asuntos Públic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5 Imagen" descr="direccion organigrama general final"/>
          <p:cNvPicPr/>
          <p:nvPr/>
        </p:nvPicPr>
        <p:blipFill>
          <a:blip r:embed="rId1"/>
          <a:srcRect l="0" t="11735" r="0" b="0"/>
          <a:stretch/>
        </p:blipFill>
        <p:spPr>
          <a:xfrm>
            <a:off x="704880" y="1568520"/>
            <a:ext cx="7537320" cy="4216320"/>
          </a:xfrm>
          <a:prstGeom prst="rect">
            <a:avLst/>
          </a:prstGeom>
          <a:ln w="3240">
            <a:solidFill>
              <a:srgbClr val="0070c0"/>
            </a:solidFill>
            <a:miter/>
          </a:ln>
        </p:spPr>
      </p:pic>
      <p:sp>
        <p:nvSpPr>
          <p:cNvPr id="376" name="4 Elipse"/>
          <p:cNvSpPr/>
          <p:nvPr/>
        </p:nvSpPr>
        <p:spPr>
          <a:xfrm>
            <a:off x="4684680" y="3629160"/>
            <a:ext cx="1333440" cy="590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5 CuadroTexto"/>
          <p:cNvSpPr/>
          <p:nvPr/>
        </p:nvSpPr>
        <p:spPr>
          <a:xfrm>
            <a:off x="5176800" y="6178680"/>
            <a:ext cx="344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uente: http://www.inap.uchile.cl/instituto/organigrama.html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3600" y="-76320"/>
            <a:ext cx="100011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 …Plan de estudio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1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382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1" descr=""/>
          <p:cNvPicPr/>
          <p:nvPr/>
        </p:nvPicPr>
        <p:blipFill>
          <a:blip r:embed="rId7"/>
          <a:stretch/>
        </p:blipFill>
        <p:spPr>
          <a:xfrm>
            <a:off x="690480" y="1851120"/>
            <a:ext cx="7589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52:27Z</dcterms:created>
  <dc:creator>Administrador</dc:creator>
  <dc:description/>
  <dc:language>en-US</dc:language>
  <cp:lastModifiedBy>Usuario</cp:lastModifiedBy>
  <dcterms:modified xsi:type="dcterms:W3CDTF">2012-04-23T00:23:04Z</dcterms:modified>
  <cp:revision>62</cp:revision>
  <dc:subject/>
  <dc:title>Expresión oral y escrita para iniciar el estudio de los asuntos públicos</dc:title>
</cp:coreProperties>
</file>