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D142-A81D-48F3-BB50-685246A3F6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DA6A-6974-45AC-818C-5BE3992394D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485-5FD0-4EA7-843C-1DA1A0E4193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02B6-F93B-424B-A49C-711D483268B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E211-9738-4AA3-B363-C92F6000545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AEB6-B680-4971-B83E-B2C5C447A3BD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163-BCEB-4996-BE56-494C4C0CD5A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48E2-AF61-4FBF-9804-973B093FF4D7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6129-D029-4F1E-B171-3CCC4D96C8D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2842-FC6C-4DA6-82B5-1FD1929E8C7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E5D8-8B6D-4E48-8941-876C2432779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394-628A-4131-9A61-4A4F4AFE2576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B418-67E1-4D97-9661-0B831DF4E50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057-5AC0-4C66-B7B2-15CC5CF4F487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1AA5-045E-48CD-B67C-E790E8F9C54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233-19A6-477F-B72E-7EBB4F86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392-BB19-42D8-94F2-E9C3E94E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6F3E-69C1-4A88-8ED4-FA2B457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109-7A4D-4C89-922F-E42846BD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7A69-819B-4C0B-B94D-1E793E32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7A5-CFC2-4AF7-9C89-72B754D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E6F-E88A-46F0-BDE0-A395B86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B0F5-731F-4A2E-BCFA-454F4C46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207-A013-4E5B-8150-DEE2F51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4D19-21E6-4832-AD46-3FD97851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2AA0-A42E-4E8C-A61C-3801E6DE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8A1-D1CC-4483-80D9-1CB4337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D3F-CD0C-48A6-9266-B96A3D7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B689-D2AE-4762-8A10-2FC1E1D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573D-9EB0-4BC5-B87C-5DF6AAA3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28C1-1497-4238-99CE-E16247EB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093E-12B5-408A-8EDB-E3840F88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7C42C-CC56-4B18-ABCE-34AECD03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5E544-CC03-4AA0-9584-68CB52C2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EB0E1-0F94-424A-9C2B-3F71FC79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07188-AD3C-40AB-8058-CD8A8B89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7E0B5-CCB2-49C7-9119-FA7717BB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31F-F09D-42E4-85ED-51615C5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457D0-3470-4D06-B6FC-FDBF9B7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00F7C-43DA-45A7-B932-8892409A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8B98A-8FA6-42F3-916C-447A07D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96119-4EAE-4D04-99AE-BD4EB8F4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A45C9-1DFE-4091-971E-3F01CCE4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776EF-2052-4619-9F61-922BB2DE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02419-CFE2-4603-ABE3-A7333375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0419-B1F9-4996-95D0-10EF05B7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9C748-3D17-44FF-8E66-67D11C38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019C-5B28-48EF-A4B7-CC3CF147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2CA-37DC-47A8-A62A-6C5B43B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14D4C-0B8E-4648-BBFA-8CF9D8BF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4EBE2-BA50-4E8C-9530-19650F17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D7E4-EEB6-4907-A567-4CC9916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6FE9-242D-4E89-96CE-B4CC37D3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CEA93-BC0A-45F4-95AF-E9D3F782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EC54-2EF0-44EF-8831-985BE43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52DB9-DDDD-4255-929B-316BF427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93392-5560-418E-9727-38AC77D5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71D5-8AFB-463B-B547-62764CBD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E8A-D73A-401D-B49F-D6CD485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557-A873-4954-80A1-5857FF7C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458-9DDE-4224-8A97-A7ACC55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301-ADB7-4F67-BCA2-CA194EA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58E-A079-419C-9532-08D9682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68DE-00CE-4F7D-B087-AE003173231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BBDF-1C08-4052-BA93-CD61F3F28B0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FF38-5A17-4802-BDBA-2F0438F8F152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924-E603-4116-8E4B-E4EF12B3F188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7D4-150B-4D2F-9171-331774BBD343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C67-719A-419F-88B7-586E2F80415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79A3-308F-4C47-B5F9-201B7374D6B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72A-686C-4926-AD6E-8F84D1397E8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5" name="Imagen 4" descr=""/>
          <p:cNvPicPr/>
          <p:nvPr/>
        </p:nvPicPr>
        <p:blipFill>
          <a:blip r:embed="rId1"/>
          <a:stretch/>
        </p:blipFill>
        <p:spPr>
          <a:xfrm>
            <a:off x="13968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9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0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91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3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4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7"/>
          <a:srcRect l="17069" t="17579" r="18618" b="11924"/>
          <a:stretch/>
        </p:blipFill>
        <p:spPr>
          <a:xfrm>
            <a:off x="387360" y="1285920"/>
            <a:ext cx="86882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3600" y="-104760"/>
            <a:ext cx="818028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4c600"/>
                </a:solidFill>
                <a:latin typeface="Century Gothic"/>
              </a:rPr>
              <a:t>Nuestra carrera. Perfil de egreso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8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99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400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1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2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4" name="Rectángulo 13"/>
          <p:cNvSpPr/>
          <p:nvPr/>
        </p:nvSpPr>
        <p:spPr>
          <a:xfrm>
            <a:off x="627120" y="1428840"/>
            <a:ext cx="7549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70c0"/>
                </a:solidFill>
                <a:latin typeface="Century Gothic"/>
                <a:ea typeface="MS Mincho"/>
              </a:rPr>
              <a:t>Profesional universitario formado para desempeñarse en el ámbito del Estado, el gobierno y los asuntos públicos.</a:t>
            </a:r>
            <a:r>
              <a:rPr b="1" lang="es-ES_tradnl" sz="1500" spc="-1" strike="noStrike">
                <a:solidFill>
                  <a:srgbClr val="0070c0"/>
                </a:solidFill>
                <a:latin typeface="Century Gothic"/>
                <a:ea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Oval 11"/>
          <p:cNvSpPr/>
          <p:nvPr/>
        </p:nvSpPr>
        <p:spPr>
          <a:xfrm>
            <a:off x="878040" y="2062080"/>
            <a:ext cx="2431800" cy="182880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Lidera equipos multidisciplinarios para el diseño y la gestión de políticas pública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Oval 14"/>
          <p:cNvSpPr/>
          <p:nvPr/>
        </p:nvSpPr>
        <p:spPr>
          <a:xfrm>
            <a:off x="1101600" y="4148280"/>
            <a:ext cx="2432160" cy="18288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Comprende y analiza los fenómenos públicos desde perspectivas, históricas, sociales, políticas, económicas y cultura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Oval 15"/>
          <p:cNvSpPr/>
          <p:nvPr/>
        </p:nvSpPr>
        <p:spPr>
          <a:xfrm>
            <a:off x="3152880" y="2873520"/>
            <a:ext cx="2431800" cy="1828800"/>
          </a:xfrm>
          <a:prstGeom prst="ellipse">
            <a:avLst/>
          </a:prstGeom>
          <a:solidFill>
            <a:srgbClr val="8064a2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Ejerce la gestión integral de las organizaciones públicas,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Oval 16"/>
          <p:cNvSpPr/>
          <p:nvPr/>
        </p:nvSpPr>
        <p:spPr>
          <a:xfrm>
            <a:off x="5114880" y="4253040"/>
            <a:ext cx="2432160" cy="182880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Century Gothic"/>
              </a:rPr>
              <a:t>Lidera espacios académicos y de asesoría, en el estudio de los Asuntos Públicos,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Oval 12"/>
          <p:cNvSpPr/>
          <p:nvPr/>
        </p:nvSpPr>
        <p:spPr>
          <a:xfrm>
            <a:off x="5270400" y="1959120"/>
            <a:ext cx="2649600" cy="1828800"/>
          </a:xfrm>
          <a:prstGeom prst="ellipse">
            <a:avLst/>
          </a:prstGeom>
          <a:solidFill>
            <a:srgbClr val="e36c0a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Century Gothic"/>
              </a:rPr>
              <a:t>Identifica y reconoce problemas y necesidades públicas, apoyando la toma de decisiones para su solució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3600" y="233280"/>
            <a:ext cx="869004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…</a:t>
            </a:r>
            <a:br>
              <a:rPr sz="3600"/>
            </a:b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ámbitos de desempeño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2" name="4 Diagrama" descr=""/>
          <p:cNvPicPr/>
          <p:nvPr/>
        </p:nvPicPr>
        <p:blipFill>
          <a:blip r:embed="rId1"/>
          <a:stretch/>
        </p:blipFill>
        <p:spPr>
          <a:xfrm>
            <a:off x="1511280" y="1590840"/>
            <a:ext cx="614520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0080" y="3217680"/>
            <a:ext cx="6975360" cy="24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A propósito de los asuntos públicos…… reflexiones y comentarios sobre diagnóstico de expresión escrita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3600" y="4507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94c600"/>
                </a:solidFill>
                <a:latin typeface="Century Gothic"/>
              </a:rPr>
              <a:t>Áreas del conocimiento que permiten estudiar los Asuntos Públicos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6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AutoShape 8"/>
          <p:cNvSpPr/>
          <p:nvPr/>
        </p:nvSpPr>
        <p:spPr>
          <a:xfrm>
            <a:off x="84240" y="-603360"/>
            <a:ext cx="12477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1"/>
          <a:stretch/>
        </p:blipFill>
        <p:spPr>
          <a:xfrm>
            <a:off x="7074000" y="4692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"/>
          <p:cNvPicPr/>
          <p:nvPr/>
        </p:nvPicPr>
        <p:blipFill>
          <a:blip r:embed="rId2"/>
          <a:stretch/>
        </p:blipFill>
        <p:spPr>
          <a:xfrm>
            <a:off x="665280" y="238608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21" name="14 Diagrama" descr=""/>
          <p:cNvPicPr/>
          <p:nvPr/>
        </p:nvPicPr>
        <p:blipFill>
          <a:blip r:embed="rId3"/>
          <a:stretch/>
        </p:blipFill>
        <p:spPr>
          <a:xfrm>
            <a:off x="1639800" y="1779480"/>
            <a:ext cx="610884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4" name="17 CuadroTexto" descr=""/>
          <p:cNvPicPr/>
          <p:nvPr/>
        </p:nvPicPr>
        <p:blipFill>
          <a:blip r:embed="rId1"/>
          <a:stretch/>
        </p:blipFill>
        <p:spPr>
          <a:xfrm>
            <a:off x="1609560" y="5479920"/>
            <a:ext cx="6218280" cy="835200"/>
          </a:xfrm>
          <a:prstGeom prst="rect">
            <a:avLst/>
          </a:prstGeom>
          <a:ln w="0">
            <a:noFill/>
          </a:ln>
        </p:spPr>
      </p:pic>
      <p:pic>
        <p:nvPicPr>
          <p:cNvPr id="425" name="7 Diagrama" descr=""/>
          <p:cNvPicPr/>
          <p:nvPr/>
        </p:nvPicPr>
        <p:blipFill>
          <a:blip r:embed="rId2"/>
          <a:stretch/>
        </p:blipFill>
        <p:spPr>
          <a:xfrm>
            <a:off x="1627200" y="1487520"/>
            <a:ext cx="58104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29920" y="20520"/>
            <a:ext cx="86137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94c600"/>
                </a:solidFill>
                <a:latin typeface="Century Gothic"/>
              </a:rPr>
              <a:t>Para próxima sesió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5 Rectángulo"/>
          <p:cNvSpPr/>
          <p:nvPr/>
        </p:nvSpPr>
        <p:spPr>
          <a:xfrm>
            <a:off x="1060560" y="1932120"/>
            <a:ext cx="655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dentificar estilos de aprendizaj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http://www.estilosdeaprendizaje.es/chaea/chaea.htm 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87080" y="-176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1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0320" y="1406160"/>
            <a:ext cx="768024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Bienvenida y presentación del taller (lógica y propósito talleres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Revisión programa y planificación de actividades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Presentación de la comunidad de aprendizaje (sistema de pares). Diagnóstico expresión oral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-150840">
              <a:lnSpc>
                <a:spcPct val="90000"/>
              </a:lnSpc>
              <a:spcBef>
                <a:spcPts val="624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entury Gothic"/>
              </a:rPr>
              <a:t>Actividad práctica. Diagnóstico expresión escrita.</a:t>
            </a:r>
            <a:endParaRPr b="0" lang="en-US" sz="25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09 de abri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15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87440" y="-17640"/>
            <a:ext cx="71517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Lógica y propósito</a:t>
            </a: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 taller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1" name="4 Diagrama" descr=""/>
          <p:cNvPicPr/>
          <p:nvPr/>
        </p:nvPicPr>
        <p:blipFill>
          <a:blip r:embed="rId1"/>
          <a:stretch/>
        </p:blipFill>
        <p:spPr>
          <a:xfrm>
            <a:off x="1189080" y="1633680"/>
            <a:ext cx="6669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7080" y="1133640"/>
            <a:ext cx="8096040" cy="5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os permiten reforzar nuestro perfil de egreso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5 Imagen" descr=""/>
          <p:cNvPicPr/>
          <p:nvPr/>
        </p:nvPicPr>
        <p:blipFill>
          <a:blip r:embed="rId1"/>
          <a:stretch/>
        </p:blipFill>
        <p:spPr>
          <a:xfrm>
            <a:off x="1133640" y="1835280"/>
            <a:ext cx="6883200" cy="4248000"/>
          </a:xfrm>
          <a:prstGeom prst="rect">
            <a:avLst/>
          </a:prstGeom>
          <a:ln w="0">
            <a:noFill/>
          </a:ln>
        </p:spPr>
      </p:pic>
      <p:sp>
        <p:nvSpPr>
          <p:cNvPr id="355" name="8 CuadroTexto"/>
          <p:cNvSpPr/>
          <p:nvPr/>
        </p:nvSpPr>
        <p:spPr>
          <a:xfrm>
            <a:off x="5146920" y="6012000"/>
            <a:ext cx="293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Century Gothic"/>
              </a:rPr>
              <a:t>Fuente: Elaboración equipo docente taller I, 201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9" name="Imagen 4" descr=""/>
          <p:cNvPicPr/>
          <p:nvPr/>
        </p:nvPicPr>
        <p:blipFill>
          <a:blip r:embed="rId1"/>
          <a:stretch/>
        </p:blipFill>
        <p:spPr>
          <a:xfrm>
            <a:off x="16344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58560" y="136440"/>
            <a:ext cx="663732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Agenda sesión 2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58560" y="1579680"/>
            <a:ext cx="6637320" cy="15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Introducción a la Universidad y carrera (contexto, malla, perfil de egreso y ámbitos de desempeño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 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Revisión  grupal de malla curricular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94c600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Gestión de carrera universitari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64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A propósito de los asuntos públicos: comentarios de fondo y de forma diagnóstico de expresión escrit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ctividad: FODA Personal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4 Rectángulo"/>
          <p:cNvSpPr/>
          <p:nvPr/>
        </p:nvSpPr>
        <p:spPr>
          <a:xfrm>
            <a:off x="6670440" y="59976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98989"/>
                </a:solidFill>
                <a:latin typeface="Century Gothic"/>
              </a:rPr>
              <a:t>16 de abri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35320" y="815760"/>
            <a:ext cx="420696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La Universidad de Chile…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10 Rectángulo"/>
          <p:cNvSpPr/>
          <p:nvPr/>
        </p:nvSpPr>
        <p:spPr>
          <a:xfrm>
            <a:off x="3527280" y="4735440"/>
            <a:ext cx="138240" cy="91440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7" name="Picture 2" descr="http://www.uchile.cl/uchile/ImageServlet?idDocumento=8274&amp;indice=0"/>
          <p:cNvPicPr/>
          <p:nvPr/>
        </p:nvPicPr>
        <p:blipFill>
          <a:blip r:embed="rId1"/>
          <a:stretch/>
        </p:blipFill>
        <p:spPr>
          <a:xfrm>
            <a:off x="785880" y="422280"/>
            <a:ext cx="2879640" cy="59562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68" name="8 Elipse"/>
          <p:cNvSpPr/>
          <p:nvPr/>
        </p:nvSpPr>
        <p:spPr>
          <a:xfrm>
            <a:off x="1449360" y="3897360"/>
            <a:ext cx="2216160" cy="24811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369" name="11 Conector recto de flecha"/>
          <p:cNvCxnSpPr/>
          <p:nvPr/>
        </p:nvCxnSpPr>
        <p:spPr>
          <a:xfrm flipV="1">
            <a:off x="3900240" y="4228560"/>
            <a:ext cx="470520" cy="3387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70" name="Picture 5" descr=""/>
          <p:cNvPicPr/>
          <p:nvPr/>
        </p:nvPicPr>
        <p:blipFill>
          <a:blip r:embed="rId2"/>
          <a:srcRect l="15426" t="33309" r="32275" b="0"/>
          <a:stretch/>
        </p:blipFill>
        <p:spPr>
          <a:xfrm>
            <a:off x="4791240" y="2646360"/>
            <a:ext cx="3551040" cy="30034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71" name="20 Elipse"/>
          <p:cNvSpPr/>
          <p:nvPr/>
        </p:nvSpPr>
        <p:spPr>
          <a:xfrm>
            <a:off x="7013520" y="3897360"/>
            <a:ext cx="1146240" cy="336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21 CuadroTexto"/>
          <p:cNvSpPr/>
          <p:nvPr/>
        </p:nvSpPr>
        <p:spPr>
          <a:xfrm>
            <a:off x="4135320" y="6178680"/>
            <a:ext cx="451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uchile.cl/portal/presentacion/estructura/8274/organigrama-de-la-universidad-de-chile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3600" y="-19080"/>
            <a:ext cx="73710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4c600"/>
                </a:solidFill>
                <a:latin typeface="Century Gothic"/>
              </a:rPr>
              <a:t>Instituto de Asuntos Público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5" name="5 Imagen" descr="direccion organigrama general final"/>
          <p:cNvPicPr/>
          <p:nvPr/>
        </p:nvPicPr>
        <p:blipFill>
          <a:blip r:embed="rId1"/>
          <a:srcRect l="0" t="11735" r="0" b="0"/>
          <a:stretch/>
        </p:blipFill>
        <p:spPr>
          <a:xfrm>
            <a:off x="704880" y="1568520"/>
            <a:ext cx="7537320" cy="4216320"/>
          </a:xfrm>
          <a:prstGeom prst="rect">
            <a:avLst/>
          </a:prstGeom>
          <a:ln w="3240">
            <a:solidFill>
              <a:srgbClr val="0070c0"/>
            </a:solidFill>
            <a:miter/>
          </a:ln>
        </p:spPr>
      </p:pic>
      <p:sp>
        <p:nvSpPr>
          <p:cNvPr id="376" name="4 Elipse"/>
          <p:cNvSpPr/>
          <p:nvPr/>
        </p:nvSpPr>
        <p:spPr>
          <a:xfrm>
            <a:off x="4684680" y="3629160"/>
            <a:ext cx="1333440" cy="590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5 CuadroTexto"/>
          <p:cNvSpPr/>
          <p:nvPr/>
        </p:nvSpPr>
        <p:spPr>
          <a:xfrm>
            <a:off x="5176800" y="6178680"/>
            <a:ext cx="344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Fuente: http://www.inap.uchile.cl/instituto/organigrama.html</a:t>
            </a: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3600" y="-76320"/>
            <a:ext cx="1000116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4c600"/>
                </a:solidFill>
                <a:latin typeface="Century Gothic"/>
              </a:rPr>
              <a:t>Nuestra carrera …Plan de estudio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0" name="Imagen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1" name="Imagen 4" descr=""/>
          <p:cNvPicPr/>
          <p:nvPr/>
        </p:nvPicPr>
        <p:blipFill>
          <a:blip r:embed="rId2"/>
          <a:stretch/>
        </p:blipFill>
        <p:spPr>
          <a:xfrm>
            <a:off x="4559400" y="3416400"/>
            <a:ext cx="12600" cy="12600"/>
          </a:xfrm>
          <a:prstGeom prst="rect">
            <a:avLst/>
          </a:prstGeom>
          <a:ln w="0">
            <a:noFill/>
          </a:ln>
        </p:spPr>
      </p:pic>
      <p:pic>
        <p:nvPicPr>
          <p:cNvPr id="382" name="Imagen 5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6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4" name="Imagen 7" descr=""/>
          <p:cNvPicPr/>
          <p:nvPr/>
        </p:nvPicPr>
        <p:blipFill>
          <a:blip r:embed="rId5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5" name="Imagen 8" descr=""/>
          <p:cNvPicPr/>
          <p:nvPr/>
        </p:nvPicPr>
        <p:blipFill>
          <a:blip r:embed="rId6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6" name="Imagen 1" descr=""/>
          <p:cNvPicPr/>
          <p:nvPr/>
        </p:nvPicPr>
        <p:blipFill>
          <a:blip r:embed="rId7"/>
          <a:stretch/>
        </p:blipFill>
        <p:spPr>
          <a:xfrm>
            <a:off x="690480" y="1851120"/>
            <a:ext cx="7589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52:27Z</dcterms:created>
  <dc:creator>Administrador</dc:creator>
  <dc:description/>
  <dc:language>en-US</dc:language>
  <cp:lastModifiedBy>Usuario</cp:lastModifiedBy>
  <dcterms:modified xsi:type="dcterms:W3CDTF">2012-04-23T00:23:04Z</dcterms:modified>
  <cp:revision>62</cp:revision>
  <dc:subject/>
  <dc:title>Expresión oral y escrita para iniciar el estudio de los asuntos públicos</dc:title>
</cp:coreProperties>
</file>