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58D-A65E-45B3-8D75-8D0B4F19B9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A93-794A-4CAE-A9CF-50BDD9EFE1F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595-60F3-4540-8BA8-8A451DB27B5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719-76CC-4A55-BF54-33967A59C67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42EA-D9F1-468C-A672-B45F619288E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BEA-7963-4F2A-A778-5A16B72AF47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D5A-EE7F-405D-9315-26A31EBD586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4BF-ACF2-4459-851E-ACC7D3D3A344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4C2D-C663-41D8-ACF1-A2E304E437AE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B29C-1990-4D31-B982-19A92624CE2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E53-002D-441A-8AC7-575E4ED5167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66A-E2D5-4DDA-87D2-0D72C12A3630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792-559D-4062-9543-620E068ABC34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FAA-AB73-4A91-A8F7-8E82F0BCE26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504-AF93-4332-8034-FDBF1456EA0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ECA-2B21-4576-AA4C-20D418DF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7A4-33AD-4783-BC8F-1E876C29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0D3-9E7F-45D1-BA0D-3B582918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80A-2513-4AB2-A335-BD40A162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FDE-D480-4A99-A6BE-15F675B9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B92-CFA6-4AA4-AF17-7995216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C47-1FAD-4026-B20C-913CE53A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6984-E473-4681-A7AB-6497000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FD05-096B-4BE4-9D6B-15AD5B6B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A74-E52E-4703-AAB0-5FCA631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5E20-F594-4B25-82C0-A256F1E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526-90E2-418E-8DE9-3332BA5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F42D-732A-417D-B271-1708407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BBE9-5A1F-4A09-96F7-452DF4E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FC3A-C52E-41A8-9234-C4B2B5C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7F94-794E-440F-9889-8A54C34F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7E5-F476-49D7-9543-72B041AD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8C99B-14F5-4F19-977B-66356C16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4A65A-3007-4952-B4D4-E04FC392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89EFE-03B4-4C5A-A2FB-30EE8E6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2A160-1EB3-4455-AAC2-A79822F0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29B98-597B-4D85-AC9F-23D90EFB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03E-917C-44A7-AA91-B5FFEFE1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F75E7-3454-440E-8E17-8CD461EC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2DCB2-CBC9-4717-B66B-6A1851E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87DCC-0987-4E1E-A091-EE85B56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B5A71-E270-4E66-864C-774A0C2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16932-3D00-4658-85B0-B9E1603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D1DEE-0787-43AE-9F4A-894D0B2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EAD40-45AE-41BA-8D0D-B4CE19FD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DC42-D8C0-450A-B256-C3525E05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6E55-FF39-476A-A2AF-1D20537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65C0-62A4-4C30-9467-D5989BA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EC6-B4D1-4238-AD22-C4D90FD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4C53-16E5-463D-BA8B-4DD514F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6F33-099E-479B-A94E-7F820E0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B36E-3AAC-4DD3-98BE-7688D4AB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4C55-7217-4B1A-AA0A-D79A0FB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79D4-5F09-4FB6-B972-F9779B8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6977-B432-4FE9-8C43-43900249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A1E9-4510-4D20-8AB0-D46C253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139C-B646-400B-BAB3-CCF2795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6FB9-A71A-446E-B325-0F4DA4C0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668-4ADB-46C2-BEE6-B128A5E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282-8730-485F-AC06-1378135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ADA-18EC-4758-A231-5FBAC03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A9D-CB09-4FED-AAF4-BFFD42D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3D1-B21C-4AFB-BAD9-399D42C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5BD-C639-49A7-838D-B011B9153F0D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F19-F3BE-4611-A59B-7A71874A5E5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221-D914-412B-A56F-D8C4CA297227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9EA-8C48-4B37-8938-03FA1EA0B8F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1546-7460-4521-AD40-3045B6A0A72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91E2-3DB7-42EC-A902-405B841366E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C7D2-7E4C-4FE7-8BF0-C31E89D07AD9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C3D-7A70-42B2-A266-3F59C4C0D55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Imagen 4" descr=""/>
          <p:cNvPicPr/>
          <p:nvPr/>
        </p:nvPicPr>
        <p:blipFill>
          <a:blip r:embed="rId1"/>
          <a:stretch/>
        </p:blipFill>
        <p:spPr>
          <a:xfrm>
            <a:off x="13968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9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3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4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7"/>
          <a:srcRect l="17069" t="17579" r="18618" b="11924"/>
          <a:stretch/>
        </p:blipFill>
        <p:spPr>
          <a:xfrm>
            <a:off x="387360" y="1285920"/>
            <a:ext cx="86882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3600" y="-104760"/>
            <a:ext cx="81802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Nuestra carrera. Perfil de egreso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8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9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400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2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4" name="Rectángulo 13"/>
          <p:cNvSpPr/>
          <p:nvPr/>
        </p:nvSpPr>
        <p:spPr>
          <a:xfrm>
            <a:off x="627120" y="1428840"/>
            <a:ext cx="754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Century Gothic"/>
                <a:ea typeface="MS Mincho"/>
              </a:rPr>
              <a:t>Profesional universitario formado para desempeñarse en el ámbito del Estado, el gobierno y los asuntos públicos.</a:t>
            </a:r>
            <a:r>
              <a:rPr b="1" lang="es-ES_tradnl" sz="1500" spc="-1" strike="noStrike">
                <a:solidFill>
                  <a:srgbClr val="0070c0"/>
                </a:solidFill>
                <a:latin typeface="Century Gothic"/>
                <a:ea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878040" y="2062080"/>
            <a:ext cx="2431800" cy="18288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Lidera equipos multidisciplinarios para el diseño y la gestión de políticas pública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1101600" y="4148280"/>
            <a:ext cx="2432160" cy="18288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Comprende y analiza los fenómenos públicos desde perspectivas, históricas, sociales, políticas, económicas y cultura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3152880" y="2873520"/>
            <a:ext cx="2431800" cy="182880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Ejerce la gestión integral de las organizaciones públicas,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Oval 16"/>
          <p:cNvSpPr/>
          <p:nvPr/>
        </p:nvSpPr>
        <p:spPr>
          <a:xfrm>
            <a:off x="5114880" y="4253040"/>
            <a:ext cx="2432160" cy="1828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entury Gothic"/>
              </a:rPr>
              <a:t>Lidera espacios académicos y de asesoría, en el estudio de los Asuntos Públicos,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70400" y="1959120"/>
            <a:ext cx="2649600" cy="1828800"/>
          </a:xfrm>
          <a:prstGeom prst="ellipse">
            <a:avLst/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Identifica y reconoce problemas y necesidades públicas, apoyando la toma de decisiones para su solució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3600" y="233280"/>
            <a:ext cx="86900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…</a:t>
            </a:r>
            <a:br>
              <a:rPr sz="3600"/>
            </a:b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ámbitos de desempeñ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2" name="4 Diagrama" descr=""/>
          <p:cNvPicPr/>
          <p:nvPr/>
        </p:nvPicPr>
        <p:blipFill>
          <a:blip r:embed="rId1"/>
          <a:stretch/>
        </p:blipFill>
        <p:spPr>
          <a:xfrm>
            <a:off x="1511280" y="1590840"/>
            <a:ext cx="61452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0080" y="3217680"/>
            <a:ext cx="697536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A propósito de los asuntos públicos…… reflexiones y comentarios sobre diagnóstico de expresión escrita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3600" y="4507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4c600"/>
                </a:solidFill>
                <a:latin typeface="Century Gothic"/>
              </a:rPr>
              <a:t>Áreas del conocimiento que permiten estudiar los Asuntos Públicos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7074000" y="4692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665280" y="238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1" name="14 Diagrama" descr=""/>
          <p:cNvPicPr/>
          <p:nvPr/>
        </p:nvPicPr>
        <p:blipFill>
          <a:blip r:embed="rId3"/>
          <a:stretch/>
        </p:blipFill>
        <p:spPr>
          <a:xfrm>
            <a:off x="1639800" y="1779480"/>
            <a:ext cx="6108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4" name="17 CuadroTexto" descr=""/>
          <p:cNvPicPr/>
          <p:nvPr/>
        </p:nvPicPr>
        <p:blipFill>
          <a:blip r:embed="rId1"/>
          <a:stretch/>
        </p:blipFill>
        <p:spPr>
          <a:xfrm>
            <a:off x="1609560" y="5479920"/>
            <a:ext cx="6218280" cy="835200"/>
          </a:xfrm>
          <a:prstGeom prst="rect">
            <a:avLst/>
          </a:prstGeom>
          <a:ln w="0">
            <a:noFill/>
          </a:ln>
        </p:spPr>
      </p:pic>
      <p:pic>
        <p:nvPicPr>
          <p:cNvPr id="425" name="7 Diagrama" descr=""/>
          <p:cNvPicPr/>
          <p:nvPr/>
        </p:nvPicPr>
        <p:blipFill>
          <a:blip r:embed="rId2"/>
          <a:stretch/>
        </p:blipFill>
        <p:spPr>
          <a:xfrm>
            <a:off x="1627200" y="1487520"/>
            <a:ext cx="5810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Para próxima sesió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5 Rectángulo"/>
          <p:cNvSpPr/>
          <p:nvPr/>
        </p:nvSpPr>
        <p:spPr>
          <a:xfrm>
            <a:off x="1060560" y="1932120"/>
            <a:ext cx="65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dentificar estilos de aprendizaj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http://www.estilosdeaprendizaje.es/chaea/chaea.htm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7080" y="-176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1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0320" y="1406160"/>
            <a:ext cx="768024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Bienvenida y presentación del taller (lógica y propósito talleres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Revisión programa y planificación de actividades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Presentación de la comunidad de aprendizaje (sistema de pares). Diagnóstico expresión oral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Actividad práctica. Diagnóstico expresión escrita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09 de abri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87440" y="-17640"/>
            <a:ext cx="71517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Lógica y propósito</a:t>
            </a: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 taller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4 Diagrama" descr=""/>
          <p:cNvPicPr/>
          <p:nvPr/>
        </p:nvPicPr>
        <p:blipFill>
          <a:blip r:embed="rId1"/>
          <a:stretch/>
        </p:blipFill>
        <p:spPr>
          <a:xfrm>
            <a:off x="1189080" y="1633680"/>
            <a:ext cx="6669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7080" y="1133640"/>
            <a:ext cx="809604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os permiten reforzar nuestro perfil de egreso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5 Imagen" descr=""/>
          <p:cNvPicPr/>
          <p:nvPr/>
        </p:nvPicPr>
        <p:blipFill>
          <a:blip r:embed="rId1"/>
          <a:stretch/>
        </p:blipFill>
        <p:spPr>
          <a:xfrm>
            <a:off x="1133640" y="1835280"/>
            <a:ext cx="6883200" cy="4248000"/>
          </a:xfrm>
          <a:prstGeom prst="rect">
            <a:avLst/>
          </a:prstGeom>
          <a:ln w="0">
            <a:noFill/>
          </a:ln>
        </p:spPr>
      </p:pic>
      <p:sp>
        <p:nvSpPr>
          <p:cNvPr id="355" name="8 CuadroTexto"/>
          <p:cNvSpPr/>
          <p:nvPr/>
        </p:nvSpPr>
        <p:spPr>
          <a:xfrm>
            <a:off x="5146920" y="6012000"/>
            <a:ext cx="293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Century Gothic"/>
              </a:rPr>
              <a:t>Fuente: Elaboración equipo docente taller I, 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Imagen 4" descr=""/>
          <p:cNvPicPr/>
          <p:nvPr/>
        </p:nvPicPr>
        <p:blipFill>
          <a:blip r:embed="rId1"/>
          <a:stretch/>
        </p:blipFill>
        <p:spPr>
          <a:xfrm>
            <a:off x="16344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1364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58560" y="1579680"/>
            <a:ext cx="663732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Introducción a la Universidad y carrera (contexto, malla, perfil de egreso y ámbitos de desempeño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 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Revisión  grupal de malla curricula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Gestión de carrera universitari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A propósito de los asuntos públicos: comentarios de fondo y de forma diagnóstico de expresión escrit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: FODA Personal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4 Rectángulo"/>
          <p:cNvSpPr/>
          <p:nvPr/>
        </p:nvSpPr>
        <p:spPr>
          <a:xfrm>
            <a:off x="6670440" y="59976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16 de abr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35320" y="815760"/>
            <a:ext cx="42069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La Universidad de Chile…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10 Rectángulo"/>
          <p:cNvSpPr/>
          <p:nvPr/>
        </p:nvSpPr>
        <p:spPr>
          <a:xfrm>
            <a:off x="3527280" y="4735440"/>
            <a:ext cx="138240" cy="914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Picture 2" descr="http://www.uchile.cl/uchile/ImageServlet?idDocumento=8274&amp;indice=0"/>
          <p:cNvPicPr/>
          <p:nvPr/>
        </p:nvPicPr>
        <p:blipFill>
          <a:blip r:embed="rId1"/>
          <a:stretch/>
        </p:blipFill>
        <p:spPr>
          <a:xfrm>
            <a:off x="785880" y="422280"/>
            <a:ext cx="2879640" cy="5956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68" name="8 Elipse"/>
          <p:cNvSpPr/>
          <p:nvPr/>
        </p:nvSpPr>
        <p:spPr>
          <a:xfrm>
            <a:off x="1449360" y="3897360"/>
            <a:ext cx="2216160" cy="24811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69" name="11 Conector recto de flecha"/>
          <p:cNvCxnSpPr/>
          <p:nvPr/>
        </p:nvCxnSpPr>
        <p:spPr>
          <a:xfrm flipV="1">
            <a:off x="3900240" y="4228560"/>
            <a:ext cx="470520" cy="3387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70" name="Picture 5" descr=""/>
          <p:cNvPicPr/>
          <p:nvPr/>
        </p:nvPicPr>
        <p:blipFill>
          <a:blip r:embed="rId2"/>
          <a:srcRect l="15426" t="33309" r="32275" b="0"/>
          <a:stretch/>
        </p:blipFill>
        <p:spPr>
          <a:xfrm>
            <a:off x="4791240" y="2646360"/>
            <a:ext cx="3551040" cy="3003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71" name="20 Elipse"/>
          <p:cNvSpPr/>
          <p:nvPr/>
        </p:nvSpPr>
        <p:spPr>
          <a:xfrm>
            <a:off x="7013520" y="3897360"/>
            <a:ext cx="1146240" cy="336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21 CuadroTexto"/>
          <p:cNvSpPr/>
          <p:nvPr/>
        </p:nvSpPr>
        <p:spPr>
          <a:xfrm>
            <a:off x="4135320" y="6178680"/>
            <a:ext cx="45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uchile.cl/portal/presentacion/estructura/8274/organigrama-de-la-universidad-de-chile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3600" y="-19080"/>
            <a:ext cx="73710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Instituto de 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5 Imagen" descr="direccion organigrama general final"/>
          <p:cNvPicPr/>
          <p:nvPr/>
        </p:nvPicPr>
        <p:blipFill>
          <a:blip r:embed="rId1"/>
          <a:srcRect l="0" t="11735" r="0" b="0"/>
          <a:stretch/>
        </p:blipFill>
        <p:spPr>
          <a:xfrm>
            <a:off x="704880" y="1568520"/>
            <a:ext cx="7537320" cy="4216320"/>
          </a:xfrm>
          <a:prstGeom prst="rect">
            <a:avLst/>
          </a:prstGeom>
          <a:ln w="3240">
            <a:solidFill>
              <a:srgbClr val="0070c0"/>
            </a:solidFill>
            <a:miter/>
          </a:ln>
        </p:spPr>
      </p:pic>
      <p:sp>
        <p:nvSpPr>
          <p:cNvPr id="376" name="4 Elipse"/>
          <p:cNvSpPr/>
          <p:nvPr/>
        </p:nvSpPr>
        <p:spPr>
          <a:xfrm>
            <a:off x="4684680" y="3629160"/>
            <a:ext cx="1333440" cy="590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5 CuadroTexto"/>
          <p:cNvSpPr/>
          <p:nvPr/>
        </p:nvSpPr>
        <p:spPr>
          <a:xfrm>
            <a:off x="5176800" y="6178680"/>
            <a:ext cx="344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inap.uchile.cl/instituto/organigrama.html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1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1" descr=""/>
          <p:cNvPicPr/>
          <p:nvPr/>
        </p:nvPicPr>
        <p:blipFill>
          <a:blip r:embed="rId7"/>
          <a:stretch/>
        </p:blipFill>
        <p:spPr>
          <a:xfrm>
            <a:off x="690480" y="1851120"/>
            <a:ext cx="7589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52:27Z</dcterms:created>
  <dc:creator>Administrador</dc:creator>
  <dc:description/>
  <dc:language>en-US</dc:language>
  <cp:lastModifiedBy>Usuario</cp:lastModifiedBy>
  <dcterms:modified xsi:type="dcterms:W3CDTF">2012-04-23T00:23:04Z</dcterms:modified>
  <cp:revision>62</cp:revision>
  <dc:subject/>
  <dc:title>Expresión oral y escrita para iniciar el estudio de los asuntos públicos</dc:title>
</cp:coreProperties>
</file>