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8.pct" ContentType="image/x-pict"/>
  <Override PartName="/ppt/media/image11.png" ContentType="image/png"/>
  <Override PartName="/ppt/media/image9.pct" ContentType="image/x-pi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12F7-8E21-4984-A17C-53AD707AE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6703-91F3-4874-B55A-1A3CD34E2A46}" type="slidenum">
              <a:rPr b="0" lang="es-CL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345-A358-40C8-A833-03305C62EBB3}" type="slidenum">
              <a:rPr b="0" lang="es-CL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D55B-3FE3-427D-B1A7-1A070A030A9A}" type="slidenum">
              <a:rPr b="0" lang="es-CL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8B90-BD9C-445F-8344-0572B85F779B}" type="slidenum">
              <a:rPr b="0" lang="es-CL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C33-B66D-4764-89AF-84704748D017}" type="slidenum">
              <a:rPr b="0" lang="es-CL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35F7-5D82-4CD4-AC46-8EB8F671E4BA}" type="slidenum">
              <a:rPr b="0" lang="es-CL" sz="12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B6B5-F235-4072-9A3E-E4732D9C8BFA}" type="slidenum">
              <a:rPr b="0" lang="es-CL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62F-95C6-4FCF-8C89-176DD7D5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C38-921B-46E2-92EC-670E2FE3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EE8-E2EF-4B97-987F-2AB4B131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8C9-7EB7-4884-B3AF-7B8EB69E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D5EDE-CEC0-461B-BD79-510D8D982A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21EEE-2DFB-4A23-8476-AD7DDDF151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99C8C-A539-4D8A-A933-142F47A44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5F192-5A2A-4224-8C89-8D6CC58115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FEF7D-9129-43AA-876E-467061F71A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7BF17-B2FF-4943-A945-7753651E85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1FB5A-4F90-47D1-8020-777984429B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6AF-EAB5-4830-8515-CDAAF8CA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03485-BEA8-4376-AE89-D5DCA219DB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C0E0A-560B-492F-AB79-B4C3B77109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2E473-3A25-423A-8E57-2AA1C0D871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2188B-EA01-4A07-A1C3-4C400C17C0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286BD-4750-4693-9685-D15699B56DD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ADB6C-9F90-4271-862A-5EC2E17F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286D5-5E65-455E-885C-4F8DE53B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4E6FE2-0DA5-4778-B48B-E641594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1C96A-0277-4D30-8854-91D270E0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965C1-30E4-4B7B-AA5C-7892ACE6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352-EC17-499E-B778-27075C02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12196-3A7B-4DDA-B1B4-B60DDAFC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F465E-4D56-4C26-ADF3-0EB44B9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04D46-4A4D-48A6-923C-C7B5DEF8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7F2BA-1AC2-4A78-877A-1C7C4AA3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84A37-641E-4290-B5D1-017672AD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A7854-E506-4036-A0C6-EF6F4793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38E98-0BB2-47C9-9EDD-710F9F00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1F2-43F3-486A-A114-10003D55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DFB-82E3-42D0-8A06-6DFB50E0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1C2-4B45-4970-A3A7-3FA8B6B8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32A-9766-4AA1-8FF4-5216863E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20A-F82D-4941-BC35-4F9052E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92B-DBF9-4A6F-A511-29A00207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AE89-F6CA-4638-B4D0-1FD5267059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Verdana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40AD-72C8-4DC4-9C95-B52C3E952E20}" type="slidenum">
              <a:rPr b="0" lang="en-US" sz="10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0128-7EA0-4D87-B6B3-7BEEE4005A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Plan Nacional de Salud -2020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Verdana"/>
                <a:ea typeface="Arial"/>
              </a:rPr>
              <a:t>para el cumplimiento de los Objetivos Sanitari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28600" y="1442880"/>
            <a:ext cx="8534520" cy="4043520"/>
            <a:chOff x="228600" y="1442880"/>
            <a:chExt cx="8534520" cy="4043520"/>
          </a:xfrm>
        </p:grpSpPr>
        <p:sp>
          <p:nvSpPr>
            <p:cNvPr id="233" name=""/>
            <p:cNvSpPr/>
            <p:nvPr/>
          </p:nvSpPr>
          <p:spPr>
            <a:xfrm>
              <a:off x="7772400" y="2286000"/>
              <a:ext cx="990720" cy="2438280"/>
            </a:xfrm>
            <a:custGeom>
              <a:avLst/>
              <a:gdLst>
                <a:gd name="textAreaLeft" fmla="*/ 48240 w 990720"/>
                <a:gd name="textAreaRight" fmla="*/ 942480 w 990720"/>
                <a:gd name="textAreaTop" fmla="*/ 48240 h 2438280"/>
                <a:gd name="textAreaBottom" fmla="*/ 2390040 h 2438280"/>
              </a:gdLst>
              <a:ahLst/>
              <a:rect l="textAreaLeft" t="textAreaTop" r="textAreaRight" b="textAreaBottom"/>
              <a:pathLst>
                <a:path w="21600" h="53149">
                  <a:moveTo>
                    <a:pt x="3600" y="0"/>
                  </a:moveTo>
                  <a:arcTo wR="3600" hR="3600" stAng="16200000" swAng="-5400000"/>
                  <a:lnTo>
                    <a:pt x="0" y="49549"/>
                  </a:lnTo>
                  <a:arcTo wR="3600" hR="3600" stAng="10800000" swAng="-5400000"/>
                  <a:lnTo>
                    <a:pt x="18000" y="53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2971800"/>
              <a:ext cx="99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61240" y="3203640"/>
              <a:ext cx="100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alud y bienest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562720" y="2286000"/>
              <a:ext cx="1981080" cy="2438280"/>
              <a:chOff x="5562720" y="2286000"/>
              <a:chExt cx="1981080" cy="2438280"/>
            </a:xfrm>
          </p:grpSpPr>
          <p:sp>
            <p:nvSpPr>
              <p:cNvPr id="237" name=""/>
              <p:cNvSpPr/>
              <p:nvPr/>
            </p:nvSpPr>
            <p:spPr>
              <a:xfrm>
                <a:off x="5562720" y="2590920"/>
                <a:ext cx="198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Circunstancias material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62720" y="3276720"/>
                <a:ext cx="1904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Estilos de vida y factores biológicos  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38680" y="4114800"/>
                <a:ext cx="1904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 Narrow"/>
                    <a:ea typeface="ＭＳ Ｐゴシック"/>
                  </a:rPr>
                  <a:t>Factores psicosocial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62720" y="2286000"/>
                <a:ext cx="1981080" cy="2438280"/>
              </a:xfrm>
              <a:custGeom>
                <a:avLst/>
                <a:gdLst>
                  <a:gd name="textAreaLeft" fmla="*/ 50760 w 1981080"/>
                  <a:gd name="textAreaRight" fmla="*/ 1930320 w 1981080"/>
                  <a:gd name="textAreaTop" fmla="*/ 50760 h 2438280"/>
                  <a:gd name="textAreaBottom" fmla="*/ 2387520 h 2438280"/>
                </a:gdLst>
                <a:ahLst/>
                <a:rect l="textAreaLeft" t="textAreaTop" r="textAreaRight" b="textAreaBottom"/>
                <a:pathLst>
                  <a:path w="21600" h="26584">
                    <a:moveTo>
                      <a:pt x="1894" y="0"/>
                    </a:moveTo>
                    <a:arcTo wR="1894" hR="1894" stAng="16200000" swAng="-5400000"/>
                    <a:lnTo>
                      <a:pt x="0" y="24690"/>
                    </a:lnTo>
                    <a:arcTo wR="1894" hR="1894" stAng="10800000" swAng="-5400000"/>
                    <a:lnTo>
                      <a:pt x="19706" y="26584"/>
                    </a:lnTo>
                    <a:arcTo wR="1894" hR="1894" stAng="5400000" swAng="-5400000"/>
                    <a:lnTo>
                      <a:pt x="21600" y="1894"/>
                    </a:lnTo>
                    <a:arcTo wR="1894" hR="1894" stAng="0" swAng="-5400000"/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743200" y="23922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70408"/>
                  </a:solidFill>
                  <a:latin typeface="Arial Narrow"/>
                  <a:ea typeface="ＭＳ Ｐゴシック"/>
                </a:rPr>
                <a:t>Posición Social (P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66880" y="2316240"/>
              <a:ext cx="2743200" cy="1371600"/>
            </a:xfrm>
            <a:prstGeom prst="roundRect">
              <a:avLst>
                <a:gd name="adj" fmla="val 876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71800" y="2620800"/>
              <a:ext cx="2362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70408"/>
                  </a:solidFill>
                  <a:latin typeface="Arial Narrow"/>
                  <a:ea typeface="ＭＳ Ｐゴシック"/>
                </a:rPr>
                <a:t>Estatus Socioeconómico  (EM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(educación, ocupación, ingreso)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71800" y="3124080"/>
              <a:ext cx="243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70408"/>
                  </a:solidFill>
                  <a:latin typeface="Arial Narrow"/>
                  <a:ea typeface="ＭＳ Ｐゴシック"/>
                </a:rPr>
                <a:t>Clase Social (C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(propiedad y control medios producción)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38401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Gen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6880" y="3763800"/>
              <a:ext cx="2743200" cy="457200"/>
            </a:xfrm>
            <a:prstGeom prst="roundRect">
              <a:avLst>
                <a:gd name="adj" fmla="val 18403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437364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Etn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4297320"/>
              <a:ext cx="2743200" cy="457200"/>
            </a:xfrm>
            <a:prstGeom prst="roundRect">
              <a:avLst>
                <a:gd name="adj" fmla="val 1631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247440" y="5029200"/>
              <a:ext cx="1677240" cy="457200"/>
              <a:chOff x="6247440" y="5029200"/>
              <a:chExt cx="1677240" cy="457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247440" y="5105520"/>
                <a:ext cx="1579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Sistema de Salu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48520" y="5029200"/>
                <a:ext cx="1676160" cy="45720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114800" y="5029200"/>
              <a:ext cx="1676520" cy="457200"/>
              <a:chOff x="4114800" y="5029200"/>
              <a:chExt cx="1676520" cy="457200"/>
            </a:xfrm>
          </p:grpSpPr>
          <p:sp>
            <p:nvSpPr>
              <p:cNvPr id="253" name=""/>
              <p:cNvSpPr/>
              <p:nvPr/>
            </p:nvSpPr>
            <p:spPr>
              <a:xfrm>
                <a:off x="4290840" y="5105520"/>
                <a:ext cx="127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Arial"/>
                    <a:ea typeface="ＭＳ Ｐゴシック"/>
                  </a:rPr>
                  <a:t>Capital Soc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14800" y="5029200"/>
                <a:ext cx="1676520" cy="45720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7543800" y="3352680"/>
              <a:ext cx="30492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2971800"/>
              <a:ext cx="304560" cy="380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34120" y="3809880"/>
              <a:ext cx="30456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34120" y="4343400"/>
              <a:ext cx="304560" cy="380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9" name=""/>
            <p:cNvCxnSpPr>
              <a:stCxn id="251" idx="3"/>
              <a:endCxn id="233" idx="2"/>
            </p:cNvCxnSpPr>
            <p:nvPr/>
          </p:nvCxnSpPr>
          <p:spPr>
            <a:xfrm flipV="1">
              <a:off x="7934400" y="4733640"/>
              <a:ext cx="334080" cy="52416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sm"/>
            </a:ln>
          </p:spPr>
        </p:cxnSp>
        <p:cxnSp>
          <p:nvCxnSpPr>
            <p:cNvPr id="260" name=""/>
            <p:cNvCxnSpPr>
              <a:stCxn id="254" idx="3"/>
              <a:endCxn id="251" idx="1"/>
            </p:cNvCxnSpPr>
            <p:nvPr/>
          </p:nvCxnSpPr>
          <p:spPr>
            <a:xfrm>
              <a:off x="5800320" y="5257440"/>
              <a:ext cx="438840" cy="108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  <a:headEnd len="med" type="triangle" w="sm"/>
              <a:tailEnd len="med" type="triangle" w="sm"/>
            </a:ln>
          </p:spPr>
        </p:cxnSp>
        <p:sp>
          <p:nvSpPr>
            <p:cNvPr id="261" name=""/>
            <p:cNvSpPr/>
            <p:nvPr/>
          </p:nvSpPr>
          <p:spPr>
            <a:xfrm>
              <a:off x="304920" y="2438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Contexto Social Económico y Polí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" y="2286000"/>
              <a:ext cx="2209680" cy="2514600"/>
            </a:xfrm>
            <a:custGeom>
              <a:avLst/>
              <a:gdLst>
                <a:gd name="textAreaLeft" fmla="*/ 56520 w 2209680"/>
                <a:gd name="textAreaRight" fmla="*/ 2153160 w 2209680"/>
                <a:gd name="textAreaTop" fmla="*/ 56520 h 2514600"/>
                <a:gd name="textAreaBottom" fmla="*/ 2458080 h 2514600"/>
              </a:gdLst>
              <a:ahLst/>
              <a:rect l="textAreaLeft" t="textAreaTop" r="textAreaRight" b="textAreaBottom"/>
              <a:pathLst>
                <a:path w="21600" h="24580">
                  <a:moveTo>
                    <a:pt x="1894" y="0"/>
                  </a:moveTo>
                  <a:arcTo wR="1894" hR="1894" stAng="16200000" swAng="-5400000"/>
                  <a:lnTo>
                    <a:pt x="0" y="22686"/>
                  </a:lnTo>
                  <a:arcTo wR="1894" hR="1894" stAng="10800000" swAng="-5400000"/>
                  <a:lnTo>
                    <a:pt x="19706" y="24580"/>
                  </a:lnTo>
                  <a:arcTo wR="1894" hR="1894" stAng="5400000" swAng="-5400000"/>
                  <a:lnTo>
                    <a:pt x="21600" y="1894"/>
                  </a:lnTo>
                  <a:arcTo wR="1894" hR="1894" stAng="0" swAng="-5400000"/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920" y="3048120"/>
              <a:ext cx="2209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Gobernanz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Políticas macroeconómic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Políticas Soc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Políticas Públic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Cultu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ＭＳ Ｐゴシック"/>
                </a:rPr>
                <a:t>Valores social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38280" y="2819520"/>
              <a:ext cx="304920" cy="380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3809880"/>
              <a:ext cx="304920" cy="381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8280" y="4343400"/>
              <a:ext cx="304920" cy="3808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7040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67" name=""/>
            <p:cNvCxnSpPr>
              <a:stCxn id="233" idx="0"/>
              <a:endCxn id="242" idx="0"/>
            </p:cNvCxnSpPr>
            <p:nvPr/>
          </p:nvCxnSpPr>
          <p:spPr>
            <a:xfrm rot="5400000">
              <a:off x="6138000" y="176040"/>
              <a:ext cx="30600" cy="4229640"/>
            </a:xfrm>
            <a:prstGeom prst="bentConnector3">
              <a:avLst>
                <a:gd name="adj1" fmla="val -726190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sm"/>
            </a:ln>
          </p:spPr>
        </p:cxnSp>
        <p:cxnSp>
          <p:nvCxnSpPr>
            <p:cNvPr id="268" name=""/>
            <p:cNvCxnSpPr>
              <a:stCxn id="233" idx="0"/>
              <a:endCxn id="262" idx="0"/>
            </p:cNvCxnSpPr>
            <p:nvPr/>
          </p:nvCxnSpPr>
          <p:spPr>
            <a:xfrm rot="5400000">
              <a:off x="4799160" y="-1189800"/>
              <a:ext cx="2160" cy="6935040"/>
            </a:xfrm>
            <a:prstGeom prst="bentConnector3">
              <a:avLst>
                <a:gd name="adj1" fmla="val -21500000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sm"/>
            </a:ln>
          </p:spPr>
        </p:cxnSp>
        <p:sp>
          <p:nvSpPr>
            <p:cNvPr id="269" name=""/>
            <p:cNvSpPr/>
            <p:nvPr/>
          </p:nvSpPr>
          <p:spPr>
            <a:xfrm>
              <a:off x="1076400" y="1442880"/>
              <a:ext cx="30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terminantes estructura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08000" y="1447920"/>
              <a:ext cx="31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terminantes intermediar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090920" y="65372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SDH, 2007. WH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304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Modelo DSS (O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0880" y="304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Salud P</a:t>
            </a:r>
            <a:r>
              <a:rPr b="1" lang="es-CL" sz="2800" spc="-1" strike="noStrike">
                <a:solidFill>
                  <a:srgbClr val="006cb7"/>
                </a:solidFill>
                <a:latin typeface="Arial"/>
                <a:ea typeface="ＭＳ Ｐゴシック"/>
              </a:rPr>
              <a:t>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911240" y="2781360"/>
            <a:ext cx="51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cb7"/>
                </a:solidFill>
                <a:latin typeface="Arial"/>
              </a:rPr>
              <a:t>Metodología de trabaj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32702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trucción de Objetivos Estratégicos manteniendo inicialmente los 4 Objetivos Sanitarios de la década pas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8900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Énfasis se encontrará en la planificación adecuada de los procesos necesarios para alcanzar con éxito los resultados propuestos, la estimación de los recursos necesarios y su prior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4222800"/>
            <a:ext cx="8305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ferente a utiliz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v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grama General de trabajo de la OMS (2006-2015) y su Plan Estratégico de la OMS a Plazo Medio (2008-201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da de Salud para las Américas (OPS, 2008-2017) y su Plan Estratégico de la OPS (2008-201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3413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stión Basada en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0160" y="5475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Arial"/>
              </a:rPr>
              <a:t>Modelo de trabajo Propue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03200" y="838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80202"/>
                </a:solidFill>
                <a:latin typeface="Arial"/>
                <a:ea typeface="ＭＳ Ｐゴシック"/>
              </a:rPr>
              <a:t>Objetivos Sani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2819520"/>
            <a:ext cx="22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ificación Estraté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800" y="2666880"/>
            <a:ext cx="2133720" cy="1219320"/>
          </a:xfrm>
          <a:prstGeom prst="roundRect">
            <a:avLst>
              <a:gd name="adj" fmla="val 14194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5257800"/>
            <a:ext cx="22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ificación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34800" y="5105520"/>
            <a:ext cx="2133720" cy="1218960"/>
          </a:xfrm>
          <a:prstGeom prst="roundRect">
            <a:avLst>
              <a:gd name="adj" fmla="val 14194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5400000">
            <a:off x="1012320" y="19810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8020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936360" y="426708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b8020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03600" y="633240"/>
            <a:ext cx="4640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s Estratégic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Paí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gros esperables a largo plazo por el Sector Salud, como resultado de la implementación de la planificación estratégica. Presumiblemente uno por Objetivo Estratégi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03600" y="2203560"/>
            <a:ext cx="50292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ultados Esperado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Paí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ultados esperados a largo plazo a nivel país (2020), conducentes al logro de los Objetivos Estratégic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75000" y="685800"/>
            <a:ext cx="69840" cy="2527200"/>
          </a:xfrm>
          <a:custGeom>
            <a:avLst/>
            <a:gdLst>
              <a:gd name="textAreaLeft" fmla="*/ 44640 w 69840"/>
              <a:gd name="textAreaRight" fmla="*/ 69840 w 69840"/>
              <a:gd name="textAreaTop" fmla="*/ 65880 h 2527200"/>
              <a:gd name="textAreaBottom" fmla="*/ 2461320 h 25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84" idx="3"/>
            <a:endCxn id="292" idx="1"/>
          </p:cNvCxnSpPr>
          <p:nvPr/>
        </p:nvCxnSpPr>
        <p:spPr>
          <a:xfrm flipV="1">
            <a:off x="2544840" y="1949040"/>
            <a:ext cx="830880" cy="128160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grpSp>
        <p:nvGrpSpPr>
          <p:cNvPr id="294" name=""/>
          <p:cNvGrpSpPr/>
          <p:nvPr/>
        </p:nvGrpSpPr>
        <p:grpSpPr>
          <a:xfrm>
            <a:off x="3375000" y="3933720"/>
            <a:ext cx="5410080" cy="2163960"/>
            <a:chOff x="3375000" y="3933720"/>
            <a:chExt cx="5410080" cy="2163960"/>
          </a:xfrm>
        </p:grpSpPr>
        <p:sp>
          <p:nvSpPr>
            <p:cNvPr id="295" name=""/>
            <p:cNvSpPr/>
            <p:nvPr/>
          </p:nvSpPr>
          <p:spPr>
            <a:xfrm>
              <a:off x="3603600" y="5716440"/>
              <a:ext cx="518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esupuesto y estimación de recurs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03600" y="3933720"/>
              <a:ext cx="518148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lan de Trabajo Anu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reparados por cada entidad (ej. Minsal, Seremi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9000" indent="-1890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ntiene: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79520" indent="-100080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álisis de situación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problemas, intervenciones disponibles, estrategias de implementación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79520" indent="-100080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sultado Esperado Específico (indicadores, hito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79520" indent="-100080"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arrollo de productos, servicios, tareas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75000" y="3963960"/>
              <a:ext cx="152280" cy="2133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6" idx="3"/>
            <a:endCxn id="297" idx="1"/>
          </p:cNvCxnSpPr>
          <p:nvPr/>
        </p:nvCxnSpPr>
        <p:spPr>
          <a:xfrm flipV="1">
            <a:off x="2544840" y="5029920"/>
            <a:ext cx="830880" cy="639000"/>
          </a:xfrm>
          <a:prstGeom prst="bentConnector3">
            <a:avLst>
              <a:gd name="adj1" fmla="val 49891"/>
            </a:avLst>
          </a:prstGeom>
          <a:ln w="9360">
            <a:solidFill>
              <a:srgbClr val="000000"/>
            </a:solidFill>
            <a:prstDash val="sysDot"/>
            <a:miter/>
          </a:ln>
        </p:spPr>
      </p:cxnSp>
      <p:sp>
        <p:nvSpPr>
          <p:cNvPr id="299" name=""/>
          <p:cNvSpPr/>
          <p:nvPr/>
        </p:nvSpPr>
        <p:spPr>
          <a:xfrm>
            <a:off x="4010040" y="177336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cadores y  metas (impac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10040" y="297972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cadores y  metas (proces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3"/>
          <p:cNvSpPr/>
          <p:nvPr/>
        </p:nvSpPr>
        <p:spPr>
          <a:xfrm>
            <a:off x="608040" y="1398600"/>
            <a:ext cx="61196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10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Directores Te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54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Encargados de Comisiones Técnicas por Sub-te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80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  Participantes del Ministe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1913040" y="2995560"/>
            <a:ext cx="41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ubsecretaría de Salud Públ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ubsecretaría de Redes Asist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Gabinete del Minis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1938960" y="3932280"/>
            <a:ext cx="3060720" cy="1729440"/>
            <a:chOff x="1938960" y="3932280"/>
            <a:chExt cx="3060720" cy="1729440"/>
          </a:xfrm>
        </p:grpSpPr>
        <p:sp>
          <p:nvSpPr>
            <p:cNvPr id="305" name="Rectangle 6"/>
            <p:cNvSpPr/>
            <p:nvPr/>
          </p:nvSpPr>
          <p:spPr>
            <a:xfrm>
              <a:off x="1938960" y="4470480"/>
              <a:ext cx="30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FONAS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S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uperintendencia de Salu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CENABA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7"/>
            <p:cNvSpPr/>
            <p:nvPr/>
          </p:nvSpPr>
          <p:spPr>
            <a:xfrm>
              <a:off x="1943280" y="3932280"/>
              <a:ext cx="205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EREM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Directores de 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Line 8"/>
          <p:cNvSpPr/>
          <p:nvPr/>
        </p:nvSpPr>
        <p:spPr>
          <a:xfrm>
            <a:off x="3995640" y="2708280"/>
            <a:ext cx="424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709560" y="2276640"/>
            <a:ext cx="6737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Participantes Otras Instituciones dependientes del Ministe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9 Rectángulo"/>
          <p:cNvSpPr/>
          <p:nvPr/>
        </p:nvSpPr>
        <p:spPr>
          <a:xfrm>
            <a:off x="402120" y="28584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Verdana"/>
                <a:ea typeface="ヒラギノ角ゴ Pro W3"/>
              </a:rPr>
              <a:t>Particip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465840" y="119700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200 Participantes Externos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748080" y="1822320"/>
            <a:ext cx="3928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Facultades de Ciencias de la Salud/ Med./O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scuelas de Salud Pública/ Dp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Sociedades Científ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cademia de Medic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legios profes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xpertos independie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sociación Chilena de Municipal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68360" y="1633680"/>
            <a:ext cx="42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468360" y="1700280"/>
            <a:ext cx="8675640" cy="4680000"/>
            <a:chOff x="468360" y="1700280"/>
            <a:chExt cx="8675640" cy="4680000"/>
          </a:xfrm>
        </p:grpSpPr>
        <p:sp>
          <p:nvSpPr>
            <p:cNvPr id="315" name="Rectangle 4"/>
            <p:cNvSpPr/>
            <p:nvPr/>
          </p:nvSpPr>
          <p:spPr>
            <a:xfrm>
              <a:off x="5292720" y="1700280"/>
              <a:ext cx="2951280" cy="21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4680" indent="-274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inister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Educ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Vivienda y Urbanism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Trabaj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Agricultu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Traspor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nteri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bras Públic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74680" indent="-2746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t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4716360" y="4149720"/>
              <a:ext cx="442764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nstitu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. Nacional de la Juventu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. Nacional de Rehabilit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. Nacional de Geriat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. de Nutrición y Tecnologías de los Alimen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Varios Ot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468360" y="4149720"/>
              <a:ext cx="406728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tros Organismos e Institucion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PS/O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CONA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ERN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ENA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JUNJ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JUNAE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182520" indent="-1825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CITU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1979640" y="4581360"/>
              <a:ext cx="250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SA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ONEM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ND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ACHIP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ICEMER, entre otras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FLACS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AID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Varios Otr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Rectangle 12"/>
          <p:cNvSpPr/>
          <p:nvPr/>
        </p:nvSpPr>
        <p:spPr>
          <a:xfrm>
            <a:off x="7696800" y="6477120"/>
            <a:ext cx="63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*estim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11 Rectángulo"/>
          <p:cNvSpPr/>
          <p:nvPr/>
        </p:nvSpPr>
        <p:spPr>
          <a:xfrm>
            <a:off x="402120" y="28584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Verdana"/>
                <a:ea typeface="ヒラギノ角ゴ Pro W3"/>
              </a:rPr>
              <a:t>Particip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46120" y="1454040"/>
            <a:ext cx="7905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Enfermedades transmis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Enfermedades no Transmisib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Factores de Riesg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Ciclo Vi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Determinantes Sociales e Inequidades en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mbiente, Alimentos, Salud de los Trabaj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Fortalecimiento del Sector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Acceso, Calidad de la atención, satisfacción usu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Emergencias y desast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4720" y="333360"/>
            <a:ext cx="368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Arial"/>
              </a:rPr>
              <a:t>Áreas Temáticas</a:t>
            </a:r>
            <a:br>
              <a:rPr sz="2400"/>
            </a:br>
            <a:r>
              <a:rPr b="1" lang="es-ES_tradnl" sz="2400" spc="-1" strike="noStrike">
                <a:solidFill>
                  <a:srgbClr val="006cb7"/>
                </a:solidFill>
                <a:latin typeface="Arial"/>
              </a:rPr>
              <a:t>(Objetivos Estratégi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1520" y="52736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ité ejecu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55480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binete de Subsecretaría de Salud Públ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binete de Subsecretaría de Redes Asistenci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visión de Planificación Sanit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esores Técnic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00" y="5257800"/>
            <a:ext cx="3889440" cy="1119240"/>
          </a:xfrm>
          <a:prstGeom prst="roundRect">
            <a:avLst>
              <a:gd name="adj" fmla="val 85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1841400"/>
            <a:ext cx="190476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14200" y="19620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ité ejecu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91040" y="3317760"/>
            <a:ext cx="206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23000" y="31114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90040" y="349236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75840" y="28828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77720" y="229860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28320" y="341640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14120" y="295920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600200" y="2146320"/>
            <a:ext cx="21337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700360" y="2298600"/>
            <a:ext cx="118584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886200" y="2441520"/>
            <a:ext cx="469800" cy="619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647960" y="2450880"/>
            <a:ext cx="152280" cy="9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5076720" y="2441160"/>
            <a:ext cx="333360" cy="46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5364000" y="2370240"/>
            <a:ext cx="1570320" cy="10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5651280" y="2154240"/>
            <a:ext cx="115236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486400" y="2298240"/>
            <a:ext cx="182880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743200" y="2374920"/>
            <a:ext cx="129528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78560" y="2790720"/>
            <a:ext cx="1677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975120"/>
            <a:ext cx="439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rector de Objetivo Estratég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onsables de subtema (comisión técnic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cipantes institucion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cipantes externos (instituciones, S.Civil, otros sector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8" name=""/>
          <p:cNvCxnSpPr>
            <a:stCxn id="349" idx="1"/>
            <a:endCxn id="330" idx="1"/>
          </p:cNvCxnSpPr>
          <p:nvPr/>
        </p:nvCxnSpPr>
        <p:spPr>
          <a:xfrm rot="10800000">
            <a:off x="1391400" y="3469680"/>
            <a:ext cx="513720" cy="886320"/>
          </a:xfrm>
          <a:prstGeom prst="bentConnector3">
            <a:avLst>
              <a:gd name="adj1" fmla="val 14453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1905120" y="3975120"/>
            <a:ext cx="75960" cy="762120"/>
          </a:xfrm>
          <a:custGeom>
            <a:avLst/>
            <a:gdLst>
              <a:gd name="textAreaLeft" fmla="*/ 22320 w 75960"/>
              <a:gd name="textAreaRight" fmla="*/ 76320 w 7596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648320" y="1577880"/>
            <a:ext cx="0" cy="26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67240" y="903240"/>
            <a:ext cx="19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ecretaría de Salud Púb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13716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bsecretaría de Redes Asistenci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2920" y="758880"/>
            <a:ext cx="190980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6120" y="26542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19640" y="522936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63280" y="5319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54 Comisiones Técn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itle 7"/>
          <p:cNvSpPr/>
          <p:nvPr/>
        </p:nvSpPr>
        <p:spPr>
          <a:xfrm>
            <a:off x="152280" y="152280"/>
            <a:ext cx="816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6cb7"/>
                </a:solidFill>
                <a:latin typeface="Verdana"/>
                <a:ea typeface="ヒラギノ角ゴ Pro W3"/>
              </a:rPr>
              <a:t>Organigra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167652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72080" y="1314360"/>
            <a:ext cx="1909800" cy="590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550800" y="382284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0800" y="382284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800" y="360684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67280" y="4038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 Narrow"/>
              </a:rPr>
              <a:t>25 Nov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83160" y="360684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4440" y="4021200"/>
            <a:ext cx="12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 Narrow"/>
              </a:rPr>
              <a:t>19 Julio 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616040" y="253044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3522960" y="2451600"/>
            <a:ext cx="131760" cy="1965240"/>
          </a:xfrm>
          <a:custGeom>
            <a:avLst/>
            <a:gdLst>
              <a:gd name="textAreaLeft" fmla="*/ 84240 w 131760"/>
              <a:gd name="textAreaRight" fmla="*/ 132120 w 131760"/>
              <a:gd name="textAreaTop" fmla="*/ 51120 h 1965240"/>
              <a:gd name="textAreaBottom" fmla="*/ 1914120 h 19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44720" y="270360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Resultados Esper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71640" y="27036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Objetivos Estratég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897680" y="3444840"/>
            <a:ext cx="0" cy="304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10320" y="3017880"/>
            <a:ext cx="871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de0000"/>
                </a:solidFill>
                <a:latin typeface="Arial Narrow"/>
              </a:rPr>
              <a:t>  </a:t>
            </a:r>
            <a:r>
              <a:rPr b="1" lang="es-CL" sz="1400" spc="-1" strike="noStrike">
                <a:solidFill>
                  <a:srgbClr val="de0000"/>
                </a:solidFill>
                <a:latin typeface="Arial Narrow"/>
              </a:rPr>
              <a:t>Ma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16800" y="2911320"/>
            <a:ext cx="685800" cy="533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4520" y="26028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655308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73280" y="364500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5280" y="4059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 Narrow"/>
              </a:rPr>
              <a:t>30 Agosto  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254400" y="4436640"/>
            <a:ext cx="5278320" cy="1454400"/>
            <a:chOff x="3254400" y="4436640"/>
            <a:chExt cx="5278320" cy="1454400"/>
          </a:xfrm>
        </p:grpSpPr>
        <p:sp>
          <p:nvSpPr>
            <p:cNvPr id="379" name=""/>
            <p:cNvSpPr/>
            <p:nvPr/>
          </p:nvSpPr>
          <p:spPr>
            <a:xfrm flipV="1" rot="16200000">
              <a:off x="4344840" y="3345480"/>
              <a:ext cx="144360" cy="23256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60480 h 2325600"/>
                <a:gd name="textAreaBottom" fmla="*/ 2265120 h 23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a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 rot="16200000">
              <a:off x="6299640" y="3716280"/>
              <a:ext cx="144360" cy="1584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a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35280" y="458136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Arial Narrow"/>
                </a:rPr>
                <a:t>Consulta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53080" y="458136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Arial Narrow"/>
                </a:rPr>
                <a:t>Consulta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8360" y="5157720"/>
              <a:ext cx="244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 Publ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SEREM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SS (AP, Direct, N2-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84720" y="5157720"/>
              <a:ext cx="244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 Publ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SEREM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 Narrow"/>
                </a:rPr>
                <a:t>Consulta SS (AP, Direct, N2-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56000" y="4869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00720" y="4869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858920" y="2276640"/>
            <a:ext cx="2901960" cy="504720"/>
            <a:chOff x="4858920" y="2276640"/>
            <a:chExt cx="2901960" cy="504720"/>
          </a:xfrm>
        </p:grpSpPr>
        <p:sp>
          <p:nvSpPr>
            <p:cNvPr id="388" name=""/>
            <p:cNvSpPr/>
            <p:nvPr/>
          </p:nvSpPr>
          <p:spPr>
            <a:xfrm rot="5400000">
              <a:off x="6237720" y="1257840"/>
              <a:ext cx="144360" cy="29019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75600 h 2901960"/>
                <a:gd name="textAreaBottom" fmla="*/ 2826360 h 29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96000" y="227664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 Narrow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rot="5400000">
            <a:off x="2520000" y="297360"/>
            <a:ext cx="215640" cy="331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7440" y="1413000"/>
            <a:ext cx="32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f497d"/>
                </a:solidFill>
                <a:latin typeface="Arial"/>
              </a:rPr>
              <a:t>Participación en Comités Técn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02040" y="1052640"/>
            <a:ext cx="3313440" cy="1008000"/>
            <a:chOff x="4802040" y="1052640"/>
            <a:chExt cx="3313440" cy="1008000"/>
          </a:xfrm>
        </p:grpSpPr>
        <p:sp>
          <p:nvSpPr>
            <p:cNvPr id="393" name=""/>
            <p:cNvSpPr/>
            <p:nvPr/>
          </p:nvSpPr>
          <p:spPr>
            <a:xfrm rot="5400000">
              <a:off x="6350760" y="295560"/>
              <a:ext cx="216000" cy="33134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86400 h 3313440"/>
                <a:gd name="textAreaBottom" fmla="*/ 3227040 h 33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38200" y="1052640"/>
              <a:ext cx="29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s-CL" sz="1600" spc="-1" strike="noStrike">
                  <a:solidFill>
                    <a:srgbClr val="1f497d"/>
                  </a:solidFill>
                  <a:latin typeface="Arial"/>
                </a:rPr>
                <a:t>Trabajo con otros ministeri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s-CL" sz="1600" spc="-1" strike="noStrike">
                  <a:solidFill>
                    <a:srgbClr val="1f497d"/>
                  </a:solidFill>
                  <a:latin typeface="Arial"/>
                </a:rPr>
                <a:t>Trabajo con académ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5715000" y="3352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f0101"/>
                </a:solidFill>
                <a:latin typeface="Arial Narrow"/>
              </a:rPr>
              <a:t>Indic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30481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f0101"/>
                </a:solidFill>
                <a:latin typeface="Arial Narrow"/>
              </a:rPr>
              <a:t>Tex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2640" y="1477440"/>
            <a:ext cx="7444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Calibri"/>
              </a:rPr>
              <a:t>Contexto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Calibri"/>
              </a:rPr>
              <a:t>Metodología de trabajo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48" name="Footer Placeholder 10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4160" y="54936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cb7"/>
                </a:solidFill>
                <a:latin typeface="Arial"/>
              </a:rPr>
              <a:t>Contenidos de la pres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22 Rectángulo redondeado"/>
          <p:cNvSpPr/>
          <p:nvPr/>
        </p:nvSpPr>
        <p:spPr>
          <a:xfrm>
            <a:off x="285840" y="1214280"/>
            <a:ext cx="4714920" cy="1571760"/>
          </a:xfrm>
          <a:prstGeom prst="roundRect">
            <a:avLst>
              <a:gd name="adj" fmla="val 8134"/>
            </a:avLst>
          </a:prstGeom>
          <a:solidFill>
            <a:srgbClr val="c6d9f1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itle 7"/>
          <p:cNvSpPr/>
          <p:nvPr/>
        </p:nvSpPr>
        <p:spPr>
          <a:xfrm>
            <a:off x="152280" y="152280"/>
            <a:ext cx="816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4000" y="129708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bjetivo Estraté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71280" y="1571760"/>
            <a:ext cx="557244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Identificación, magnitud, relevancia  de problem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Identificación de act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Construcción de indicador de meta de impa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250920" y="260280"/>
            <a:ext cx="60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cb7"/>
                </a:solidFill>
                <a:latin typeface="Arial"/>
                <a:ea typeface="ヒラギノ角ゴ Pro W3"/>
              </a:rPr>
              <a:t>Etapas del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cb7"/>
                </a:solidFill>
                <a:latin typeface="Arial"/>
                <a:ea typeface="ヒラギノ角ゴ Pro W3"/>
              </a:rPr>
              <a:t>(54 comisiones técnic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2" name="12 Grupo"/>
          <p:cNvGrpSpPr/>
          <p:nvPr/>
        </p:nvGrpSpPr>
        <p:grpSpPr>
          <a:xfrm>
            <a:off x="1071720" y="2571840"/>
            <a:ext cx="5143320" cy="2143080"/>
            <a:chOff x="1071720" y="2571840"/>
            <a:chExt cx="5143320" cy="2143080"/>
          </a:xfrm>
        </p:grpSpPr>
        <p:sp>
          <p:nvSpPr>
            <p:cNvPr id="403" name="23 Rectángulo redondeado"/>
            <p:cNvSpPr/>
            <p:nvPr/>
          </p:nvSpPr>
          <p:spPr>
            <a:xfrm>
              <a:off x="1285920" y="2571840"/>
              <a:ext cx="4929120" cy="2143080"/>
            </a:xfrm>
            <a:prstGeom prst="roundRect">
              <a:avLst>
                <a:gd name="adj" fmla="val 8134"/>
              </a:avLst>
            </a:prstGeom>
            <a:solidFill>
              <a:srgbClr val="c6d9f1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7"/>
            <p:cNvSpPr/>
            <p:nvPr/>
          </p:nvSpPr>
          <p:spPr>
            <a:xfrm>
              <a:off x="1285920" y="2676600"/>
              <a:ext cx="40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Resultados Esperados  (Estrategia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8"/>
            <p:cNvSpPr/>
            <p:nvPr/>
          </p:nvSpPr>
          <p:spPr>
            <a:xfrm>
              <a:off x="1071720" y="2928960"/>
              <a:ext cx="514332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Evaluación de las intervenciones realizad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Revisión de evidenc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Identificación de actores relevant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Definición de estrategi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Construcción de indicadores de Resultados Esperad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13 Grupo"/>
          <p:cNvGrpSpPr/>
          <p:nvPr/>
        </p:nvGrpSpPr>
        <p:grpSpPr>
          <a:xfrm>
            <a:off x="2928960" y="4357800"/>
            <a:ext cx="5143320" cy="2000160"/>
            <a:chOff x="2928960" y="4357800"/>
            <a:chExt cx="5143320" cy="2000160"/>
          </a:xfrm>
        </p:grpSpPr>
        <p:sp>
          <p:nvSpPr>
            <p:cNvPr id="407" name="27 Rectángulo redondeado"/>
            <p:cNvSpPr/>
            <p:nvPr/>
          </p:nvSpPr>
          <p:spPr>
            <a:xfrm>
              <a:off x="3071520" y="4357800"/>
              <a:ext cx="4929120" cy="2000160"/>
            </a:xfrm>
            <a:prstGeom prst="roundRect">
              <a:avLst>
                <a:gd name="adj" fmla="val 8134"/>
              </a:avLst>
            </a:prstGeom>
            <a:solidFill>
              <a:srgbClr val="c6d9f1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7"/>
            <p:cNvSpPr/>
            <p:nvPr/>
          </p:nvSpPr>
          <p:spPr>
            <a:xfrm>
              <a:off x="3084480" y="4429080"/>
              <a:ext cx="213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21 Rectángulo"/>
            <p:cNvSpPr/>
            <p:nvPr/>
          </p:nvSpPr>
          <p:spPr>
            <a:xfrm>
              <a:off x="2928960" y="4714920"/>
              <a:ext cx="51433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Proyección de Metas de Impa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Definición de “estándares de efectividad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Proyección de indicadores de Resultados Esperad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Evaluación de premisas y amenaz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Análisis de sensibilidad (análisis de escenario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Rendición de cuent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- Alineamiento con mecanismos de gestión instituci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0" y="652932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93880" y="3301920"/>
            <a:ext cx="3240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nfermedad Cardiovas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nfermedad Renal Crón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iabe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nfermedades respirato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rastornos 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Violencia domés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fecciones músculoesquelet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lud bu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ccidentes de tráns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án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41960" y="2168640"/>
            <a:ext cx="338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VIH/ SI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Zoonosis y vector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munopreveni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mergentes y reemerg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5680" y="2637000"/>
            <a:ext cx="37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Enfermedades no Transmisibles</a:t>
            </a: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56120" y="152388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Enfermedades Transmisibles</a:t>
            </a: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438280"/>
            <a:ext cx="3816360" cy="34560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1452600"/>
            <a:ext cx="3456000" cy="22320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8520" y="26028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Arial"/>
              </a:rPr>
              <a:t>Problemas de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73640" y="340848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Ciclo V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4199040"/>
            <a:ext cx="4608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Mortalidad perina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Rezago y Retraso psicomotor del ni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Mortalidad por causas externas (adolesce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mbarazo en adolesc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ccidentes labor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nfermedades profes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lidad de vida en el climate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2160" indent="-9216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dulto May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3352680"/>
            <a:ext cx="4753080" cy="29718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1371600"/>
            <a:ext cx="3529080" cy="281952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81920" y="151596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Factores de Ries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02160" y="2235240"/>
            <a:ext cx="2954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lud </a:t>
            </a:r>
            <a:r>
              <a:rPr b="0" lang="es-ES_tradnl" sz="1600" spc="-1" strike="noStrike">
                <a:solidFill>
                  <a:srgbClr val="333333"/>
                </a:solidFill>
                <a:latin typeface="Arial"/>
                <a:ea typeface="ＭＳ Ｐゴシック"/>
              </a:rPr>
              <a:t>óp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aba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lcoh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obrepeso/ obes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edentaris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exo insegu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ustancias psicoactiv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7800" y="260280"/>
            <a:ext cx="48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Arial"/>
              </a:rPr>
              <a:t>Riesgos y Vulnerabi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52360" y="24624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Arial"/>
              </a:rPr>
              <a:t>Determin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60840" y="2895480"/>
            <a:ext cx="3745080" cy="24768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8200" y="1241280"/>
            <a:ext cx="4103640" cy="247680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129528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Determinantes Sociales/ inequ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96760" y="1989000"/>
            <a:ext cx="2592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Posi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eografía (comun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Pueblos Indíge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rabajo y empl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migra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én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35720" y="29941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Ambiente/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137200" y="363996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gu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Residuos sól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iu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ocuidad de al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53440" y="24624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Arial"/>
              </a:rPr>
              <a:t>Sistema de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87280" y="1581120"/>
            <a:ext cx="3097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istemas de inform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Investigación sanit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otación adecua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Gobernanza y particip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Relaciones Inter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7960" y="387360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Emergencias y Desast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50880" y="242244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Acceso, Calidad, Satisfa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32320" y="93348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Fortalecer el S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1f497d"/>
                </a:solidFill>
                <a:latin typeface="Arial"/>
                <a:ea typeface="ＭＳ Ｐゴシック"/>
              </a:rPr>
              <a:t>(Objetivo Estratégico 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21440" y="3214800"/>
            <a:ext cx="309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Acceso y oportun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Ca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Tecnologías sanit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Satisfacción usu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71640" y="4664160"/>
            <a:ext cx="309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esastres natur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Desastres Antróp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pidem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Establecimientos segu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2349360"/>
            <a:ext cx="3745080" cy="216072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1280" y="3789360"/>
            <a:ext cx="3744720" cy="216072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907920"/>
            <a:ext cx="3745080" cy="2521080"/>
          </a:xfrm>
          <a:prstGeom prst="roundRect">
            <a:avLst>
              <a:gd name="adj" fmla="val 6852"/>
            </a:avLst>
          </a:prstGeom>
          <a:noFill/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19"/>
          <p:cNvSpPr/>
          <p:nvPr/>
        </p:nvSpPr>
        <p:spPr>
          <a:xfrm>
            <a:off x="5869080" y="1844640"/>
            <a:ext cx="2303280" cy="2305080"/>
          </a:xfrm>
          <a:custGeom>
            <a:avLst/>
            <a:gdLst>
              <a:gd name="textAreaLeft" fmla="*/ 47160 w 2303280"/>
              <a:gd name="textAreaRight" fmla="*/ 2256120 w 2303280"/>
              <a:gd name="textAreaTop" fmla="*/ 47160 h 2305080"/>
              <a:gd name="textAreaBottom" fmla="*/ 2257920 h 2305080"/>
            </a:gdLst>
            <a:ahLst/>
            <a:rect l="textAreaLeft" t="textAreaTop" r="textAreaRight" b="textAreaBottom"/>
            <a:pathLst>
              <a:path w="21600" h="21617">
                <a:moveTo>
                  <a:pt x="1518" y="0"/>
                </a:moveTo>
                <a:arcTo wR="1518" hR="1518" stAng="16200000" swAng="-5400000"/>
                <a:lnTo>
                  <a:pt x="0" y="20099"/>
                </a:lnTo>
                <a:arcTo wR="1518" hR="1518" stAng="10800000" swAng="-5400000"/>
                <a:lnTo>
                  <a:pt x="20082" y="21617"/>
                </a:lnTo>
                <a:arcTo wR="1518" hR="1518" stAng="5400000" swAng="-5400000"/>
                <a:lnTo>
                  <a:pt x="21600" y="1518"/>
                </a:lnTo>
                <a:arcTo wR="1518" hR="1518" stAng="0" swAng="-5400000"/>
                <a:close/>
              </a:path>
            </a:pathLst>
          </a:cu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20"/>
          <p:cNvSpPr/>
          <p:nvPr/>
        </p:nvSpPr>
        <p:spPr>
          <a:xfrm>
            <a:off x="3494160" y="1844640"/>
            <a:ext cx="1727280" cy="2305080"/>
          </a:xfrm>
          <a:custGeom>
            <a:avLst/>
            <a:gdLst>
              <a:gd name="textAreaLeft" fmla="*/ 34560 w 1727280"/>
              <a:gd name="textAreaRight" fmla="*/ 1692720 w 1727280"/>
              <a:gd name="textAreaTop" fmla="*/ 34560 h 2305080"/>
              <a:gd name="textAreaBottom" fmla="*/ 2270520 h 2305080"/>
            </a:gdLst>
            <a:ahLst/>
            <a:rect l="textAreaLeft" t="textAreaTop" r="textAreaRight" b="textAreaBottom"/>
            <a:pathLst>
              <a:path w="21600" h="28824">
                <a:moveTo>
                  <a:pt x="1489" y="0"/>
                </a:moveTo>
                <a:arcTo wR="1489" hR="1489" stAng="16200000" swAng="-5400000"/>
                <a:lnTo>
                  <a:pt x="0" y="27335"/>
                </a:lnTo>
                <a:arcTo wR="1489" hR="1489" stAng="10800000" swAng="-5400000"/>
                <a:lnTo>
                  <a:pt x="20111" y="28824"/>
                </a:lnTo>
                <a:arcTo wR="1489" hR="1489" stAng="5400000" swAng="-5400000"/>
                <a:lnTo>
                  <a:pt x="21600" y="1489"/>
                </a:lnTo>
                <a:arcTo wR="1489" hR="1489" stAng="0" swAng="-5400000"/>
                <a:close/>
              </a:path>
            </a:pathLst>
          </a:cu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21"/>
          <p:cNvSpPr/>
          <p:nvPr/>
        </p:nvSpPr>
        <p:spPr>
          <a:xfrm>
            <a:off x="539640" y="1844640"/>
            <a:ext cx="2305080" cy="2305080"/>
          </a:xfrm>
          <a:prstGeom prst="roundRect">
            <a:avLst>
              <a:gd name="adj" fmla="val 4065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16"/>
          <p:cNvSpPr/>
          <p:nvPr/>
        </p:nvSpPr>
        <p:spPr>
          <a:xfrm>
            <a:off x="539640" y="4870440"/>
            <a:ext cx="7561440" cy="1295280"/>
          </a:xfrm>
          <a:prstGeom prst="roundRect">
            <a:avLst>
              <a:gd name="adj" fmla="val 7352"/>
            </a:avLst>
          </a:prstGeom>
          <a:solidFill>
            <a:srgbClr val="fdc58d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6084720" y="202716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Enfermedades Transmisibles</a:t>
            </a: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6084720" y="2997360"/>
            <a:ext cx="19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Enfermedades no Transmisibles</a:t>
            </a: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639240" y="2027160"/>
            <a:ext cx="10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Ciclo Vi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638520" y="307008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Factores de Ries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684360" y="3108240"/>
            <a:ext cx="158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Ambiente/ Al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612720" y="198900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Determinantes Sociales/ inequ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3"/>
          <p:cNvSpPr/>
          <p:nvPr/>
        </p:nvSpPr>
        <p:spPr>
          <a:xfrm>
            <a:off x="3492360" y="514368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Fortalecer el S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1044720" y="5000760"/>
            <a:ext cx="20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Preparación para Emergencias y Desast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15"/>
          <p:cNvSpPr/>
          <p:nvPr/>
        </p:nvSpPr>
        <p:spPr>
          <a:xfrm>
            <a:off x="5942160" y="4964040"/>
            <a:ext cx="172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Acceso, Calidad, Satisfa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(OE 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22"/>
          <p:cNvSpPr/>
          <p:nvPr/>
        </p:nvSpPr>
        <p:spPr>
          <a:xfrm>
            <a:off x="2771640" y="2781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23"/>
          <p:cNvSpPr/>
          <p:nvPr/>
        </p:nvSpPr>
        <p:spPr>
          <a:xfrm>
            <a:off x="5148360" y="2781360"/>
            <a:ext cx="576000" cy="360360"/>
          </a:xfrm>
          <a:prstGeom prst="rightArrow">
            <a:avLst>
              <a:gd name="adj1" fmla="val 50000"/>
              <a:gd name="adj2" fmla="val 39960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25"/>
          <p:cNvSpPr/>
          <p:nvPr/>
        </p:nvSpPr>
        <p:spPr>
          <a:xfrm rot="16200000">
            <a:off x="4105440" y="3968640"/>
            <a:ext cx="576000" cy="1370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37"/>
          <p:cNvSpPr/>
          <p:nvPr/>
        </p:nvSpPr>
        <p:spPr>
          <a:xfrm>
            <a:off x="395280" y="1628640"/>
            <a:ext cx="7921800" cy="0"/>
          </a:xfrm>
          <a:prstGeom prst="line">
            <a:avLst/>
          </a:prstGeom>
          <a:ln w="28440">
            <a:solidFill>
              <a:srgbClr val="a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39"/>
          <p:cNvSpPr/>
          <p:nvPr/>
        </p:nvSpPr>
        <p:spPr>
          <a:xfrm>
            <a:off x="2489760" y="836640"/>
            <a:ext cx="31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Objetivos Sa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40"/>
          <p:cNvSpPr/>
          <p:nvPr/>
        </p:nvSpPr>
        <p:spPr>
          <a:xfrm rot="16200000">
            <a:off x="4283640" y="331920"/>
            <a:ext cx="71640" cy="7848720"/>
          </a:xfrm>
          <a:custGeom>
            <a:avLst/>
            <a:gdLst>
              <a:gd name="textAreaLeft" fmla="*/ 20880 w 71640"/>
              <a:gd name="textAreaRight" fmla="*/ 72000 w 71640"/>
              <a:gd name="textAreaTop" fmla="*/ 41760 h 7848720"/>
              <a:gd name="textAreaBottom" fmla="*/ 7806960 h 784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6"/>
                  <a:pt x="0" y="231"/>
                </a:cubicBezTo>
                <a:lnTo>
                  <a:pt x="0" y="21369"/>
                </a:lnTo>
                <a:cubicBezTo>
                  <a:pt x="0" y="21485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a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9"/>
          <p:cNvSpPr/>
          <p:nvPr/>
        </p:nvSpPr>
        <p:spPr>
          <a:xfrm>
            <a:off x="5940360" y="1989000"/>
            <a:ext cx="2519280" cy="719280"/>
          </a:xfrm>
          <a:prstGeom prst="roundRect">
            <a:avLst>
              <a:gd name="adj" fmla="val 7028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20"/>
          <p:cNvSpPr/>
          <p:nvPr/>
        </p:nvSpPr>
        <p:spPr>
          <a:xfrm>
            <a:off x="3494160" y="1916280"/>
            <a:ext cx="2014560" cy="2304720"/>
          </a:xfrm>
          <a:custGeom>
            <a:avLst/>
            <a:gdLst>
              <a:gd name="textAreaLeft" fmla="*/ 40680 w 2014560"/>
              <a:gd name="textAreaRight" fmla="*/ 1973880 w 2014560"/>
              <a:gd name="textAreaTop" fmla="*/ 40680 h 2304720"/>
              <a:gd name="textAreaBottom" fmla="*/ 2264040 h 2304720"/>
            </a:gdLst>
            <a:ahLst/>
            <a:rect l="textAreaLeft" t="textAreaTop" r="textAreaRight" b="textAreaBottom"/>
            <a:pathLst>
              <a:path w="21600" h="24711">
                <a:moveTo>
                  <a:pt x="1489" y="0"/>
                </a:moveTo>
                <a:arcTo wR="1489" hR="1489" stAng="16200000" swAng="-5400000"/>
                <a:lnTo>
                  <a:pt x="0" y="23222"/>
                </a:lnTo>
                <a:arcTo wR="1489" hR="1489" stAng="10800000" swAng="-5400000"/>
                <a:lnTo>
                  <a:pt x="20111" y="24711"/>
                </a:lnTo>
                <a:arcTo wR="1489" hR="1489" stAng="5400000" swAng="-5400000"/>
                <a:lnTo>
                  <a:pt x="21600" y="1489"/>
                </a:lnTo>
                <a:arcTo wR="1489" hR="1489" stAng="0" swAng="-5400000"/>
                <a:close/>
              </a:path>
            </a:pathLst>
          </a:cu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1"/>
          <p:cNvSpPr/>
          <p:nvPr/>
        </p:nvSpPr>
        <p:spPr>
          <a:xfrm>
            <a:off x="539640" y="1916280"/>
            <a:ext cx="2305080" cy="2304720"/>
          </a:xfrm>
          <a:prstGeom prst="roundRect">
            <a:avLst>
              <a:gd name="adj" fmla="val 4065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16"/>
          <p:cNvSpPr/>
          <p:nvPr/>
        </p:nvSpPr>
        <p:spPr>
          <a:xfrm>
            <a:off x="539640" y="5013360"/>
            <a:ext cx="7561440" cy="1295280"/>
          </a:xfrm>
          <a:prstGeom prst="roundRect">
            <a:avLst>
              <a:gd name="adj" fmla="val 7352"/>
            </a:avLst>
          </a:prstGeom>
          <a:solidFill>
            <a:srgbClr val="fdc58d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6012000" y="220500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1 Letalidad IAM/AC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545640" y="2098800"/>
            <a:ext cx="174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Salud Óp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Obes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Sedentaris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Taba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564000" y="359712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4 Trabaj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612720" y="213372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5 Geográ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5 Posi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22"/>
          <p:cNvSpPr/>
          <p:nvPr/>
        </p:nvSpPr>
        <p:spPr>
          <a:xfrm>
            <a:off x="2771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23"/>
          <p:cNvSpPr/>
          <p:nvPr/>
        </p:nvSpPr>
        <p:spPr>
          <a:xfrm>
            <a:off x="5219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25"/>
          <p:cNvSpPr/>
          <p:nvPr/>
        </p:nvSpPr>
        <p:spPr>
          <a:xfrm rot="16200000">
            <a:off x="3959280" y="4400640"/>
            <a:ext cx="576000" cy="792000"/>
          </a:xfrm>
          <a:prstGeom prst="rightArrow">
            <a:avLst>
              <a:gd name="adj1" fmla="val 50000"/>
              <a:gd name="adj2" fmla="val 39977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37"/>
          <p:cNvSpPr/>
          <p:nvPr/>
        </p:nvSpPr>
        <p:spPr>
          <a:xfrm>
            <a:off x="395280" y="1628640"/>
            <a:ext cx="7921800" cy="0"/>
          </a:xfrm>
          <a:prstGeom prst="line">
            <a:avLst/>
          </a:prstGeom>
          <a:ln w="28440">
            <a:solidFill>
              <a:srgbClr val="a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39"/>
          <p:cNvSpPr/>
          <p:nvPr/>
        </p:nvSpPr>
        <p:spPr>
          <a:xfrm>
            <a:off x="539640" y="458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Salud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C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Equidad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Satisfa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6300720" y="549360"/>
            <a:ext cx="1871640" cy="792000"/>
          </a:xfrm>
          <a:prstGeom prst="roundRect">
            <a:avLst>
              <a:gd name="adj" fmla="val 10421"/>
            </a:avLst>
          </a:prstGeom>
          <a:solidFill>
            <a:srgbClr val="c8d7ea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6372360" y="7858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Cardiovas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30 Abrir corchete"/>
          <p:cNvSpPr/>
          <p:nvPr/>
        </p:nvSpPr>
        <p:spPr>
          <a:xfrm rot="16200000">
            <a:off x="4392360" y="223200"/>
            <a:ext cx="142920" cy="8137440"/>
          </a:xfrm>
          <a:custGeom>
            <a:avLst/>
            <a:gdLst>
              <a:gd name="textAreaLeft" fmla="*/ 42120 w 142920"/>
              <a:gd name="textAreaRight" fmla="*/ 143280 w 142920"/>
              <a:gd name="textAreaTop" fmla="*/ 65520 h 8137440"/>
              <a:gd name="textAreaBottom" fmla="*/ 8071920 h 813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5"/>
                  <a:pt x="0" y="349"/>
                </a:cubicBezTo>
                <a:lnTo>
                  <a:pt x="0" y="21251"/>
                </a:lnTo>
                <a:cubicBezTo>
                  <a:pt x="0" y="21426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31 Rectángulo"/>
          <p:cNvSpPr/>
          <p:nvPr/>
        </p:nvSpPr>
        <p:spPr>
          <a:xfrm>
            <a:off x="5670720" y="5157720"/>
            <a:ext cx="314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Ac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Efectividad/Se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Tec. Sanit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Satisfa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32 Rectángulo"/>
          <p:cNvSpPr/>
          <p:nvPr/>
        </p:nvSpPr>
        <p:spPr>
          <a:xfrm>
            <a:off x="971640" y="522936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Sist. Infor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Investi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RRH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29"/>
          <p:cNvSpPr/>
          <p:nvPr/>
        </p:nvSpPr>
        <p:spPr>
          <a:xfrm>
            <a:off x="3132000" y="5229360"/>
            <a:ext cx="22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Gobernan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Financi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611280" y="34527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6 Al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19"/>
          <p:cNvSpPr/>
          <p:nvPr/>
        </p:nvSpPr>
        <p:spPr>
          <a:xfrm>
            <a:off x="6012000" y="3070080"/>
            <a:ext cx="2376360" cy="1079640"/>
          </a:xfrm>
          <a:prstGeom prst="roundRect">
            <a:avLst>
              <a:gd name="adj" fmla="val 7028"/>
            </a:avLst>
          </a:prstGeom>
          <a:solidFill>
            <a:srgbClr val="f0f3f8"/>
          </a:solidFill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27 Rectángulo"/>
          <p:cNvSpPr/>
          <p:nvPr/>
        </p:nvSpPr>
        <p:spPr>
          <a:xfrm>
            <a:off x="6012000" y="3716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2 Tr. 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23"/>
          <p:cNvSpPr/>
          <p:nvPr/>
        </p:nvSpPr>
        <p:spPr>
          <a:xfrm rot="16200000">
            <a:off x="7343640" y="296028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0f3f8"/>
          </a:solidFill>
          <a:ln w="12600">
            <a:solidFill>
              <a:srgbClr val="ff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5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16" descr=""/>
          <p:cNvPicPr/>
          <p:nvPr/>
        </p:nvPicPr>
        <p:blipFill>
          <a:blip r:embed="rId1"/>
          <a:stretch/>
        </p:blipFill>
        <p:spPr>
          <a:xfrm>
            <a:off x="214200" y="4286160"/>
            <a:ext cx="3857760" cy="2500560"/>
          </a:xfrm>
          <a:prstGeom prst="rect">
            <a:avLst/>
          </a:prstGeom>
          <a:ln w="0">
            <a:noFill/>
          </a:ln>
        </p:spPr>
      </p:pic>
      <p:sp>
        <p:nvSpPr>
          <p:cNvPr id="496" name="1 Marcador de pie de página"/>
          <p:cNvSpPr/>
          <p:nvPr/>
        </p:nvSpPr>
        <p:spPr>
          <a:xfrm>
            <a:off x="19080" y="6527880"/>
            <a:ext cx="28954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  <a:ea typeface="ヒラギノ角ゴ Pro W3"/>
              </a:rPr>
              <a:t>Gobierno de Chile | Ministerio del Interi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50920" y="26028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6cb7"/>
                </a:solidFill>
                <a:latin typeface="Calibri"/>
                <a:ea typeface="ヒラギノ角ゴ Pro W3"/>
              </a:rPr>
              <a:t>Proyecciones de metas de imp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Gráfico 16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845160" cy="2367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5" descr=""/>
          <p:cNvPicPr/>
          <p:nvPr/>
        </p:nvPicPr>
        <p:blipFill>
          <a:blip r:embed="rId3"/>
          <a:stretch/>
        </p:blipFill>
        <p:spPr>
          <a:xfrm>
            <a:off x="4572000" y="4286160"/>
            <a:ext cx="3786120" cy="2214720"/>
          </a:xfrm>
          <a:prstGeom prst="rect">
            <a:avLst/>
          </a:prstGeom>
          <a:ln w="0">
            <a:noFill/>
          </a:ln>
        </p:spPr>
      </p:pic>
      <p:pic>
        <p:nvPicPr>
          <p:cNvPr id="500" name="Gráfico 4" descr=""/>
          <p:cNvPicPr/>
          <p:nvPr/>
        </p:nvPicPr>
        <p:blipFill>
          <a:blip r:embed="rId4"/>
          <a:stretch/>
        </p:blipFill>
        <p:spPr>
          <a:xfrm>
            <a:off x="2235240" y="2786040"/>
            <a:ext cx="3693960" cy="2428920"/>
          </a:xfrm>
          <a:prstGeom prst="rect">
            <a:avLst/>
          </a:prstGeom>
          <a:ln w="0">
            <a:noFill/>
          </a:ln>
        </p:spPr>
      </p:pic>
      <p:pic>
        <p:nvPicPr>
          <p:cNvPr id="501" name="Gráfico 2" descr=""/>
          <p:cNvPicPr/>
          <p:nvPr/>
        </p:nvPicPr>
        <p:blipFill>
          <a:blip r:embed="rId5"/>
          <a:stretch/>
        </p:blipFill>
        <p:spPr>
          <a:xfrm>
            <a:off x="285840" y="1285920"/>
            <a:ext cx="3429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19"/>
          <p:cNvSpPr/>
          <p:nvPr/>
        </p:nvSpPr>
        <p:spPr>
          <a:xfrm>
            <a:off x="5940360" y="1989000"/>
            <a:ext cx="2519280" cy="719280"/>
          </a:xfrm>
          <a:prstGeom prst="roundRect">
            <a:avLst>
              <a:gd name="adj" fmla="val 7028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20"/>
          <p:cNvSpPr/>
          <p:nvPr/>
        </p:nvSpPr>
        <p:spPr>
          <a:xfrm>
            <a:off x="3494160" y="1916280"/>
            <a:ext cx="2014560" cy="2304720"/>
          </a:xfrm>
          <a:custGeom>
            <a:avLst/>
            <a:gdLst>
              <a:gd name="textAreaLeft" fmla="*/ 40680 w 2014560"/>
              <a:gd name="textAreaRight" fmla="*/ 1973880 w 2014560"/>
              <a:gd name="textAreaTop" fmla="*/ 40680 h 2304720"/>
              <a:gd name="textAreaBottom" fmla="*/ 2264040 h 2304720"/>
            </a:gdLst>
            <a:ahLst/>
            <a:rect l="textAreaLeft" t="textAreaTop" r="textAreaRight" b="textAreaBottom"/>
            <a:pathLst>
              <a:path w="21600" h="24711">
                <a:moveTo>
                  <a:pt x="1489" y="0"/>
                </a:moveTo>
                <a:arcTo wR="1489" hR="1489" stAng="16200000" swAng="-5400000"/>
                <a:lnTo>
                  <a:pt x="0" y="23222"/>
                </a:lnTo>
                <a:arcTo wR="1489" hR="1489" stAng="10800000" swAng="-5400000"/>
                <a:lnTo>
                  <a:pt x="20111" y="24711"/>
                </a:lnTo>
                <a:arcTo wR="1489" hR="1489" stAng="5400000" swAng="-5400000"/>
                <a:lnTo>
                  <a:pt x="21600" y="1489"/>
                </a:lnTo>
                <a:arcTo wR="1489" hR="1489" stAng="0" swAng="-5400000"/>
                <a:close/>
              </a:path>
            </a:pathLst>
          </a:cu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21"/>
          <p:cNvSpPr/>
          <p:nvPr/>
        </p:nvSpPr>
        <p:spPr>
          <a:xfrm>
            <a:off x="539640" y="1916280"/>
            <a:ext cx="2305080" cy="2304720"/>
          </a:xfrm>
          <a:prstGeom prst="roundRect">
            <a:avLst>
              <a:gd name="adj" fmla="val 4065"/>
            </a:avLst>
          </a:prstGeom>
          <a:solidFill>
            <a:srgbClr val="c8d7ea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6"/>
          <p:cNvSpPr/>
          <p:nvPr/>
        </p:nvSpPr>
        <p:spPr>
          <a:xfrm>
            <a:off x="539640" y="5013360"/>
            <a:ext cx="7561440" cy="1295280"/>
          </a:xfrm>
          <a:prstGeom prst="roundRect">
            <a:avLst>
              <a:gd name="adj" fmla="val 7352"/>
            </a:avLst>
          </a:prstGeom>
          <a:solidFill>
            <a:srgbClr val="fdc58d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6012000" y="220500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1 Letalidad IAM/AC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3545640" y="2098800"/>
            <a:ext cx="174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Salud Óp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Obes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Sedentaris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3 Taba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564000" y="3357720"/>
            <a:ext cx="208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4 Perina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4 Reza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4 Trabajad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0"/>
          <p:cNvSpPr/>
          <p:nvPr/>
        </p:nvSpPr>
        <p:spPr>
          <a:xfrm>
            <a:off x="612720" y="213372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5 Geográ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5 Posición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22"/>
          <p:cNvSpPr/>
          <p:nvPr/>
        </p:nvSpPr>
        <p:spPr>
          <a:xfrm>
            <a:off x="2771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23"/>
          <p:cNvSpPr/>
          <p:nvPr/>
        </p:nvSpPr>
        <p:spPr>
          <a:xfrm>
            <a:off x="5219640" y="2852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AutoShape 25"/>
          <p:cNvSpPr/>
          <p:nvPr/>
        </p:nvSpPr>
        <p:spPr>
          <a:xfrm rot="16200000">
            <a:off x="3959280" y="4400640"/>
            <a:ext cx="576000" cy="792000"/>
          </a:xfrm>
          <a:prstGeom prst="rightArrow">
            <a:avLst>
              <a:gd name="adj1" fmla="val 50000"/>
              <a:gd name="adj2" fmla="val 39977"/>
            </a:avLst>
          </a:prstGeom>
          <a:solidFill>
            <a:srgbClr val="4f81bd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37"/>
          <p:cNvSpPr/>
          <p:nvPr/>
        </p:nvSpPr>
        <p:spPr>
          <a:xfrm>
            <a:off x="395280" y="1628640"/>
            <a:ext cx="7921800" cy="0"/>
          </a:xfrm>
          <a:prstGeom prst="line">
            <a:avLst/>
          </a:prstGeom>
          <a:ln w="28440">
            <a:solidFill>
              <a:srgbClr val="a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539640" y="458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Salud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C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Equidad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	</a:t>
            </a:r>
            <a:r>
              <a:rPr b="1" lang="es-CL" sz="2800" spc="-1" strike="noStrike">
                <a:solidFill>
                  <a:srgbClr val="4f81bd"/>
                </a:solidFill>
                <a:latin typeface="Calibri"/>
                <a:ea typeface="ヒラギノ角ゴ Pro W3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7"/>
          <p:cNvSpPr/>
          <p:nvPr/>
        </p:nvSpPr>
        <p:spPr>
          <a:xfrm>
            <a:off x="6300720" y="549360"/>
            <a:ext cx="1871640" cy="792000"/>
          </a:xfrm>
          <a:prstGeom prst="roundRect">
            <a:avLst>
              <a:gd name="adj" fmla="val 10421"/>
            </a:avLst>
          </a:prstGeom>
          <a:solidFill>
            <a:srgbClr val="c8d7ea"/>
          </a:solidFill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9"/>
          <p:cNvSpPr/>
          <p:nvPr/>
        </p:nvSpPr>
        <p:spPr>
          <a:xfrm>
            <a:off x="6372360" y="78588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Cardiovascul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30 Abrir corchete"/>
          <p:cNvSpPr/>
          <p:nvPr/>
        </p:nvSpPr>
        <p:spPr>
          <a:xfrm rot="16200000">
            <a:off x="4392360" y="223200"/>
            <a:ext cx="142920" cy="8137440"/>
          </a:xfrm>
          <a:custGeom>
            <a:avLst/>
            <a:gdLst>
              <a:gd name="textAreaLeft" fmla="*/ 42120 w 142920"/>
              <a:gd name="textAreaRight" fmla="*/ 143280 w 142920"/>
              <a:gd name="textAreaTop" fmla="*/ 65520 h 8137440"/>
              <a:gd name="textAreaBottom" fmla="*/ 8071920 h 813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5"/>
                  <a:pt x="0" y="349"/>
                </a:cubicBezTo>
                <a:lnTo>
                  <a:pt x="0" y="21251"/>
                </a:lnTo>
                <a:cubicBezTo>
                  <a:pt x="0" y="21426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31 Rectángulo"/>
          <p:cNvSpPr/>
          <p:nvPr/>
        </p:nvSpPr>
        <p:spPr>
          <a:xfrm>
            <a:off x="5670720" y="5157720"/>
            <a:ext cx="314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Ac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Efectividad/Se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Tec. Sanit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8 Satisfa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32 Rectángulo"/>
          <p:cNvSpPr/>
          <p:nvPr/>
        </p:nvSpPr>
        <p:spPr>
          <a:xfrm>
            <a:off x="971640" y="522936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Sist. Infor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Investi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RRH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9"/>
          <p:cNvSpPr/>
          <p:nvPr/>
        </p:nvSpPr>
        <p:spPr>
          <a:xfrm>
            <a:off x="3132000" y="5229360"/>
            <a:ext cx="22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Gobernan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Financi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0"/>
          <p:cNvSpPr/>
          <p:nvPr/>
        </p:nvSpPr>
        <p:spPr>
          <a:xfrm>
            <a:off x="611280" y="34527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6 Alim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AutoShape 19"/>
          <p:cNvSpPr/>
          <p:nvPr/>
        </p:nvSpPr>
        <p:spPr>
          <a:xfrm>
            <a:off x="6012000" y="3070080"/>
            <a:ext cx="2376360" cy="1079640"/>
          </a:xfrm>
          <a:prstGeom prst="roundRect">
            <a:avLst>
              <a:gd name="adj" fmla="val 7028"/>
            </a:avLst>
          </a:prstGeom>
          <a:solidFill>
            <a:srgbClr val="f0f3f8"/>
          </a:solidFill>
          <a:ln w="2844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27 Rectángulo"/>
          <p:cNvSpPr/>
          <p:nvPr/>
        </p:nvSpPr>
        <p:spPr>
          <a:xfrm>
            <a:off x="6012000" y="3716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ヒラギノ角ゴ Pro W3"/>
              </a:rPr>
              <a:t>OE 2 Tr. 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23"/>
          <p:cNvSpPr/>
          <p:nvPr/>
        </p:nvSpPr>
        <p:spPr>
          <a:xfrm rot="16200000">
            <a:off x="7343640" y="296028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0f3f8"/>
          </a:solidFill>
          <a:ln w="12600">
            <a:solidFill>
              <a:srgbClr val="ff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19"/>
          <p:cNvSpPr/>
          <p:nvPr/>
        </p:nvSpPr>
        <p:spPr>
          <a:xfrm>
            <a:off x="3500280" y="1928880"/>
            <a:ext cx="2019600" cy="2286000"/>
          </a:xfrm>
          <a:custGeom>
            <a:avLst/>
            <a:gdLst>
              <a:gd name="textAreaLeft" fmla="*/ 41400 w 2019600"/>
              <a:gd name="textAreaRight" fmla="*/ 1978200 w 2019600"/>
              <a:gd name="textAreaTop" fmla="*/ 41400 h 2286000"/>
              <a:gd name="textAreaBottom" fmla="*/ 2244600 h 2286000"/>
            </a:gdLst>
            <a:ahLst/>
            <a:rect l="textAreaLeft" t="textAreaTop" r="textAreaRight" b="textAreaBottom"/>
            <a:pathLst>
              <a:path w="21600" h="24449">
                <a:moveTo>
                  <a:pt x="1518" y="0"/>
                </a:moveTo>
                <a:arcTo wR="1518" hR="1518" stAng="16200000" swAng="-5400000"/>
                <a:lnTo>
                  <a:pt x="0" y="22931"/>
                </a:lnTo>
                <a:arcTo wR="1518" hR="1518" stAng="10800000" swAng="-5400000"/>
                <a:lnTo>
                  <a:pt x="20082" y="24449"/>
                </a:lnTo>
                <a:arcTo wR="1518" hR="1518" stAng="5400000" swAng="-5400000"/>
                <a:lnTo>
                  <a:pt x="21600" y="1518"/>
                </a:lnTo>
                <a:arcTo wR="1518" hR="1518" stAng="0" swAng="-5400000"/>
                <a:close/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2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8d7ea">
              <a:alpha val="8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7" name="47 Grupo"/>
          <p:cNvGrpSpPr/>
          <p:nvPr/>
        </p:nvGrpSpPr>
        <p:grpSpPr>
          <a:xfrm>
            <a:off x="5929200" y="2000160"/>
            <a:ext cx="3143520" cy="3786120"/>
            <a:chOff x="5929200" y="2000160"/>
            <a:chExt cx="3143520" cy="3786120"/>
          </a:xfrm>
        </p:grpSpPr>
        <p:sp>
          <p:nvSpPr>
            <p:cNvPr id="528" name="42 Rectángulo redondeado"/>
            <p:cNvSpPr/>
            <p:nvPr/>
          </p:nvSpPr>
          <p:spPr>
            <a:xfrm>
              <a:off x="6214680" y="3571560"/>
              <a:ext cx="2500560" cy="221472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43 Rectángulo"/>
            <p:cNvSpPr/>
            <p:nvPr/>
          </p:nvSpPr>
          <p:spPr>
            <a:xfrm>
              <a:off x="6286320" y="3643200"/>
              <a:ext cx="2786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ogramas de reconocimient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ecoz de síntom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iorización en S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Desarrollo de UTA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Acceso neurólogo 24/7 en SU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evención secundaria en 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Rehabilitación comunitar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Intervenciones de adherenc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umplimiento GPC/ O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19"/>
            <p:cNvSpPr/>
            <p:nvPr/>
          </p:nvSpPr>
          <p:spPr>
            <a:xfrm>
              <a:off x="5929200" y="2000160"/>
              <a:ext cx="2519640" cy="718920"/>
            </a:xfrm>
            <a:prstGeom prst="roundRect">
              <a:avLst>
                <a:gd name="adj" fmla="val 7028"/>
              </a:avLst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45 Conector recto"/>
            <p:cNvSpPr/>
            <p:nvPr/>
          </p:nvSpPr>
          <p:spPr>
            <a:xfrm>
              <a:off x="7187400" y="2719080"/>
              <a:ext cx="277560" cy="852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5"/>
            <p:cNvSpPr/>
            <p:nvPr/>
          </p:nvSpPr>
          <p:spPr>
            <a:xfrm>
              <a:off x="6013080" y="2201760"/>
              <a:ext cx="252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99"/>
                  </a:solidFill>
                  <a:latin typeface="Calibri"/>
                  <a:ea typeface="ヒラギノ角ゴ Pro W3"/>
                </a:rPr>
                <a:t>OE 1 Letalidad IAM/AC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55 Grupo"/>
          <p:cNvGrpSpPr/>
          <p:nvPr/>
        </p:nvGrpSpPr>
        <p:grpSpPr>
          <a:xfrm>
            <a:off x="3544560" y="285840"/>
            <a:ext cx="3599280" cy="2409120"/>
            <a:chOff x="3544560" y="285840"/>
            <a:chExt cx="3599280" cy="2409120"/>
          </a:xfrm>
        </p:grpSpPr>
        <p:sp>
          <p:nvSpPr>
            <p:cNvPr id="534" name="Rectangle 6"/>
            <p:cNvSpPr/>
            <p:nvPr/>
          </p:nvSpPr>
          <p:spPr>
            <a:xfrm>
              <a:off x="3544560" y="235764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99"/>
                  </a:solidFill>
                  <a:latin typeface="Calibri"/>
                  <a:ea typeface="ヒラギノ角ゴ Pro W3"/>
                </a:rPr>
                <a:t>OE 3 Obes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52 Rectángulo redondeado"/>
            <p:cNvSpPr/>
            <p:nvPr/>
          </p:nvSpPr>
          <p:spPr>
            <a:xfrm>
              <a:off x="4357440" y="285840"/>
              <a:ext cx="2643480" cy="9284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53 Rectángulo"/>
            <p:cNvSpPr/>
            <p:nvPr/>
          </p:nvSpPr>
          <p:spPr>
            <a:xfrm>
              <a:off x="4357440" y="357120"/>
              <a:ext cx="2786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ontrol especializado en niñ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omover consejería en atencion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de salu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7" name="54 Forma"/>
            <p:cNvCxnSpPr>
              <a:stCxn id="535" idx="2"/>
              <a:endCxn id="534" idx="3"/>
            </p:cNvCxnSpPr>
            <p:nvPr/>
          </p:nvCxnSpPr>
          <p:spPr>
            <a:xfrm rot="5400000">
              <a:off x="4747680" y="1595160"/>
              <a:ext cx="1311480" cy="549720"/>
            </a:xfrm>
            <a:prstGeom prst="bentConnector2">
              <a:avLst/>
            </a:prstGeom>
            <a:ln w="38160">
              <a:solidFill>
                <a:srgbClr val="000099"/>
              </a:solidFill>
              <a:miter/>
            </a:ln>
          </p:spPr>
        </p:cxnSp>
      </p:grpSp>
      <p:grpSp>
        <p:nvGrpSpPr>
          <p:cNvPr id="538" name="66 Grupo"/>
          <p:cNvGrpSpPr/>
          <p:nvPr/>
        </p:nvGrpSpPr>
        <p:grpSpPr>
          <a:xfrm>
            <a:off x="928800" y="233280"/>
            <a:ext cx="4335840" cy="2194920"/>
            <a:chOff x="928800" y="233280"/>
            <a:chExt cx="4335840" cy="2194920"/>
          </a:xfrm>
        </p:grpSpPr>
        <p:sp>
          <p:nvSpPr>
            <p:cNvPr id="539" name="62 Rectángulo redondeado"/>
            <p:cNvSpPr/>
            <p:nvPr/>
          </p:nvSpPr>
          <p:spPr>
            <a:xfrm>
              <a:off x="928800" y="233280"/>
              <a:ext cx="2786040" cy="128592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63 Rectángulo"/>
            <p:cNvSpPr/>
            <p:nvPr/>
          </p:nvSpPr>
          <p:spPr>
            <a:xfrm>
              <a:off x="928800" y="304560"/>
              <a:ext cx="2928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obertura y calidad intervenciones e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escuelas y colegios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obertura Examen de Medicina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Preventiv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Regulación de Sal en alimen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6"/>
            <p:cNvSpPr/>
            <p:nvPr/>
          </p:nvSpPr>
          <p:spPr>
            <a:xfrm>
              <a:off x="3547800" y="2090880"/>
              <a:ext cx="171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99"/>
                  </a:solidFill>
                  <a:latin typeface="Calibri"/>
                  <a:ea typeface="ヒラギノ角ゴ Pro W3"/>
                </a:rPr>
                <a:t>OE 3 Salud Ópti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42" name="65 Forma"/>
            <p:cNvCxnSpPr>
              <a:stCxn id="539" idx="2"/>
              <a:endCxn id="541" idx="1"/>
            </p:cNvCxnSpPr>
            <p:nvPr/>
          </p:nvCxnSpPr>
          <p:spPr>
            <a:xfrm flipH="1" rot="16200000">
              <a:off x="2561040" y="1277640"/>
              <a:ext cx="740520" cy="1222920"/>
            </a:xfrm>
            <a:prstGeom prst="bentConnector2">
              <a:avLst/>
            </a:prstGeom>
            <a:ln w="38160">
              <a:solidFill>
                <a:srgbClr val="000099"/>
              </a:solidFill>
              <a:miter/>
            </a:ln>
          </p:spPr>
        </p:cxnSp>
      </p:grpSp>
      <p:grpSp>
        <p:nvGrpSpPr>
          <p:cNvPr id="543" name="82 Grupo"/>
          <p:cNvGrpSpPr/>
          <p:nvPr/>
        </p:nvGrpSpPr>
        <p:grpSpPr>
          <a:xfrm>
            <a:off x="428760" y="3357720"/>
            <a:ext cx="5221080" cy="1869840"/>
            <a:chOff x="428760" y="3357720"/>
            <a:chExt cx="5221080" cy="1869840"/>
          </a:xfrm>
        </p:grpSpPr>
        <p:sp>
          <p:nvSpPr>
            <p:cNvPr id="544" name="67 Rectángulo redondeado"/>
            <p:cNvSpPr/>
            <p:nvPr/>
          </p:nvSpPr>
          <p:spPr>
            <a:xfrm>
              <a:off x="428760" y="3941640"/>
              <a:ext cx="2786040" cy="128592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Rectangle 7"/>
            <p:cNvSpPr/>
            <p:nvPr/>
          </p:nvSpPr>
          <p:spPr>
            <a:xfrm>
              <a:off x="3564000" y="3357720"/>
              <a:ext cx="2085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4 Perina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4 Rezag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4 Trabajador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69 Rectángulo"/>
            <p:cNvSpPr/>
            <p:nvPr/>
          </p:nvSpPr>
          <p:spPr>
            <a:xfrm>
              <a:off x="428760" y="4032360"/>
              <a:ext cx="28573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Fortalecer el manejo de Alt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Riesgo Obstétric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Fortalecer habilidades paren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Cobertura y calidad intervenciones e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lugares de trabaj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70 Abrir llave"/>
            <p:cNvSpPr/>
            <p:nvPr/>
          </p:nvSpPr>
          <p:spPr>
            <a:xfrm>
              <a:off x="3571920" y="3402000"/>
              <a:ext cx="71280" cy="7142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800 h 714240"/>
                <a:gd name="textAreaBottom" fmla="*/ 71244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"/>
                    <a:pt x="10800" y="180"/>
                  </a:cubicBezTo>
                  <a:lnTo>
                    <a:pt x="10800" y="10620"/>
                  </a:lnTo>
                  <a:cubicBezTo>
                    <a:pt x="10800" y="10710"/>
                    <a:pt x="5400" y="10800"/>
                    <a:pt x="0" y="10800"/>
                  </a:cubicBezTo>
                  <a:cubicBezTo>
                    <a:pt x="5400" y="10800"/>
                    <a:pt x="10800" y="10890"/>
                    <a:pt x="10800" y="10980"/>
                  </a:cubicBezTo>
                  <a:lnTo>
                    <a:pt x="10800" y="21420"/>
                  </a:lnTo>
                  <a:cubicBezTo>
                    <a:pt x="10800" y="2151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48" name="38 Forma"/>
            <p:cNvCxnSpPr>
              <a:stCxn id="544" idx="3"/>
              <a:endCxn id="547" idx="1"/>
            </p:cNvCxnSpPr>
            <p:nvPr/>
          </p:nvCxnSpPr>
          <p:spPr>
            <a:xfrm flipV="1">
              <a:off x="3214800" y="3758400"/>
              <a:ext cx="357840" cy="826200"/>
            </a:xfrm>
            <a:prstGeom prst="bentConnector3">
              <a:avLst>
                <a:gd name="adj1" fmla="val 49949"/>
              </a:avLst>
            </a:prstGeom>
            <a:ln w="38160">
              <a:solidFill>
                <a:srgbClr val="000099"/>
              </a:solidFill>
              <a:miter/>
            </a:ln>
          </p:spPr>
        </p:cxnSp>
      </p:grpSp>
      <p:grpSp>
        <p:nvGrpSpPr>
          <p:cNvPr id="549" name="78 Grupo"/>
          <p:cNvGrpSpPr/>
          <p:nvPr/>
        </p:nvGrpSpPr>
        <p:grpSpPr>
          <a:xfrm>
            <a:off x="199080" y="2133720"/>
            <a:ext cx="3087000" cy="1652400"/>
            <a:chOff x="199080" y="2133720"/>
            <a:chExt cx="3087000" cy="1652400"/>
          </a:xfrm>
        </p:grpSpPr>
        <p:sp>
          <p:nvSpPr>
            <p:cNvPr id="550" name="Rectangle 10"/>
            <p:cNvSpPr/>
            <p:nvPr/>
          </p:nvSpPr>
          <p:spPr>
            <a:xfrm>
              <a:off x="612720" y="2133720"/>
              <a:ext cx="23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5 Geográf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Calibri"/>
                  <a:ea typeface="ＭＳ Ｐゴシック"/>
                </a:rPr>
                <a:t>OE 5 Posición So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74 Rectángulo redondeado"/>
            <p:cNvSpPr/>
            <p:nvPr/>
          </p:nvSpPr>
          <p:spPr>
            <a:xfrm>
              <a:off x="428760" y="2955960"/>
              <a:ext cx="2786040" cy="83016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75 Rectángulo"/>
            <p:cNvSpPr/>
            <p:nvPr/>
          </p:nvSpPr>
          <p:spPr>
            <a:xfrm>
              <a:off x="428760" y="3000240"/>
              <a:ext cx="285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Focalización  de recursos (brech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 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geográficas)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 </a:t>
              </a:r>
              <a:r>
                <a:rPr b="0" lang="es-ES_tradnl" sz="1400" spc="-1" strike="noStrike">
                  <a:solidFill>
                    <a:srgbClr val="ffffff"/>
                  </a:solidFill>
                  <a:latin typeface="Arial Narrow"/>
                  <a:ea typeface="ヒラギノ角ゴ Pro W3"/>
                </a:rPr>
                <a:t>Focalización de estrategias (gradiente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76 Abrir llave"/>
            <p:cNvSpPr/>
            <p:nvPr/>
          </p:nvSpPr>
          <p:spPr>
            <a:xfrm>
              <a:off x="571320" y="2143080"/>
              <a:ext cx="142560" cy="57132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3600 h 571320"/>
                <a:gd name="textAreaBottom" fmla="*/ 56772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5"/>
                    <a:pt x="10800" y="450"/>
                  </a:cubicBezTo>
                  <a:lnTo>
                    <a:pt x="10800" y="10350"/>
                  </a:lnTo>
                  <a:cubicBezTo>
                    <a:pt x="10800" y="10575"/>
                    <a:pt x="5400" y="10800"/>
                    <a:pt x="0" y="10800"/>
                  </a:cubicBezTo>
                  <a:cubicBezTo>
                    <a:pt x="5400" y="10800"/>
                    <a:pt x="10800" y="11025"/>
                    <a:pt x="10800" y="11250"/>
                  </a:cubicBezTo>
                  <a:lnTo>
                    <a:pt x="10800" y="21150"/>
                  </a:lnTo>
                  <a:cubicBezTo>
                    <a:pt x="10800" y="21375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4" name="38 Forma"/>
            <p:cNvCxnSpPr>
              <a:stCxn id="551" idx="1"/>
              <a:endCxn id="550" idx="1"/>
            </p:cNvCxnSpPr>
            <p:nvPr/>
          </p:nvCxnSpPr>
          <p:spPr>
            <a:xfrm flipH="1" rot="10800000">
              <a:off x="427680" y="2423520"/>
              <a:ext cx="184680" cy="946800"/>
            </a:xfrm>
            <a:prstGeom prst="bentConnector3">
              <a:avLst>
                <a:gd name="adj1" fmla="val -124023"/>
              </a:avLst>
            </a:prstGeom>
            <a:ln w="38160">
              <a:solidFill>
                <a:srgbClr val="000099"/>
              </a:solidFill>
              <a:miter/>
            </a:ln>
          </p:spPr>
        </p:cxnSp>
      </p:grpSp>
      <p:sp>
        <p:nvSpPr>
          <p:cNvPr id="555" name="32 Rectángulo"/>
          <p:cNvSpPr/>
          <p:nvPr/>
        </p:nvSpPr>
        <p:spPr>
          <a:xfrm>
            <a:off x="971640" y="521496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Sist. Inform</a:t>
            </a:r>
            <a:r>
              <a:rPr b="0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Calibri"/>
                <a:ea typeface="ＭＳ Ｐゴシック"/>
              </a:rPr>
              <a:t>OE 7 RRH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1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3080" y="24624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f81bd"/>
                </a:solidFill>
                <a:latin typeface="Arial"/>
              </a:rPr>
              <a:t>Pend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995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errar indicadores de Resultados Espe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luir tex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8240" y="2209680"/>
            <a:ext cx="73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luir redacci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Introducción/marco teórico/ metodolog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errar trabajos en comisiones técn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errar trabajo con ministe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visión 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29120" y="278136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cb7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1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87560" y="685800"/>
            <a:ext cx="16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f0101"/>
                </a:solidFill>
                <a:latin typeface="Arial"/>
              </a:rPr>
              <a:t>Objetivos Sanit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78200" y="2178000"/>
            <a:ext cx="16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f0101"/>
                </a:solidFill>
                <a:latin typeface="Arial"/>
              </a:rPr>
              <a:t>Objetivos Estrat</a:t>
            </a:r>
            <a:r>
              <a:rPr b="0" lang="es-ES_tradnl" sz="2000" spc="-1" strike="noStrike">
                <a:solidFill>
                  <a:srgbClr val="9f0101"/>
                </a:solidFill>
                <a:latin typeface="Arial"/>
                <a:ea typeface="ＭＳ Ｐゴシック"/>
              </a:rPr>
              <a:t>ég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60400" y="701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f0101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93800" y="2254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f0101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78200" y="3778200"/>
            <a:ext cx="16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f0101"/>
                </a:solidFill>
                <a:latin typeface="Arial"/>
              </a:rPr>
              <a:t>Metas 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40800" y="38545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f0101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63560" y="5391000"/>
            <a:ext cx="283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f0101"/>
                </a:solidFill>
                <a:latin typeface="Arial"/>
              </a:rPr>
              <a:t>Indicadores de Resultado Esper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14400" y="5454720"/>
            <a:ext cx="10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f0101"/>
                </a:solidFill>
                <a:latin typeface="Arial"/>
              </a:rPr>
              <a:t>48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521080" y="469260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9f01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21080" y="304812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9f01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21080" y="1523880"/>
            <a:ext cx="457200" cy="60984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9f01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419720" y="990720"/>
            <a:ext cx="3581280" cy="5105160"/>
            <a:chOff x="4419720" y="990720"/>
            <a:chExt cx="3581280" cy="5105160"/>
          </a:xfrm>
        </p:grpSpPr>
        <p:sp>
          <p:nvSpPr>
            <p:cNvPr id="573" name=""/>
            <p:cNvSpPr/>
            <p:nvPr/>
          </p:nvSpPr>
          <p:spPr>
            <a:xfrm>
              <a:off x="4419720" y="5181480"/>
              <a:ext cx="75960" cy="9144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9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62400" y="990720"/>
              <a:ext cx="2838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9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</a:rPr>
                <a:t>Sistematizaci</a:t>
              </a: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  <a:ea typeface="ＭＳ Ｐゴシック"/>
                </a:rPr>
                <a:t>ón de estrategi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43680" y="1965240"/>
              <a:ext cx="283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9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</a:rPr>
                <a:t>Adecuaci</a:t>
              </a: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  <a:ea typeface="ＭＳ Ｐゴシック"/>
                </a:rPr>
                <a:t>ón Reg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62400" y="2955960"/>
              <a:ext cx="2838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9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</a:rPr>
                <a:t>Operacionalizaci</a:t>
              </a:r>
              <a:r>
                <a:rPr b="0" lang="es-ES_tradnl" sz="2000" spc="-1" strike="noStrike">
                  <a:solidFill>
                    <a:srgbClr val="9f0101"/>
                  </a:solidFill>
                  <a:latin typeface="Arial"/>
                  <a:ea typeface="ＭＳ Ｐゴシック"/>
                </a:rPr>
                <a:t>ón del Plan (rendición de cuenta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952880" y="1143000"/>
              <a:ext cx="152640" cy="2286000"/>
            </a:xfrm>
            <a:custGeom>
              <a:avLst/>
              <a:gdLst>
                <a:gd name="textAreaLeft" fmla="*/ 360 w 152640"/>
                <a:gd name="textAreaRight" fmla="*/ 55440 w 15264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9f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8" name=""/>
            <p:cNvCxnSpPr>
              <a:stCxn id="573" idx="1"/>
              <a:endCxn id="577" idx="1"/>
            </p:cNvCxnSpPr>
            <p:nvPr/>
          </p:nvCxnSpPr>
          <p:spPr>
            <a:xfrm flipV="1">
              <a:off x="4511520" y="2283840"/>
              <a:ext cx="426240" cy="3354840"/>
            </a:xfrm>
            <a:prstGeom prst="bentConnector3">
              <a:avLst>
                <a:gd name="adj1" fmla="val 49957"/>
              </a:avLst>
            </a:prstGeom>
            <a:ln w="28440">
              <a:solidFill>
                <a:srgbClr val="1f497d"/>
              </a:solidFill>
              <a:miter/>
            </a:ln>
          </p:spPr>
        </p:cxnSp>
      </p:grpSp>
      <p:sp>
        <p:nvSpPr>
          <p:cNvPr id="579" name=""/>
          <p:cNvSpPr/>
          <p:nvPr/>
        </p:nvSpPr>
        <p:spPr>
          <a:xfrm>
            <a:off x="1752480" y="457200"/>
            <a:ext cx="2057400" cy="5791320"/>
          </a:xfrm>
          <a:prstGeom prst="triangle">
            <a:avLst>
              <a:gd name="adj" fmla="val 50000"/>
            </a:avLst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55640" y="1736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33"/>
                </a:solidFill>
                <a:latin typeface="Verdana"/>
              </a:rPr>
              <a:t>1. Mejorar los logros sanitarios alcanz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35908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33"/>
                </a:solidFill>
                <a:latin typeface="Verdana"/>
              </a:rPr>
              <a:t>2. Enfrentar los desafíos derivados del envejecimiento de la población y de los cambios de la soci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5080" y="3213000"/>
            <a:ext cx="58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33"/>
                </a:solidFill>
                <a:latin typeface="Verdana"/>
              </a:rPr>
              <a:t>3. Disminuir las desigualdades en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3807000"/>
            <a:ext cx="78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33"/>
                </a:solidFill>
                <a:latin typeface="Verdana"/>
              </a:rPr>
              <a:t>4. Proveer servicios acordes a las expectativas de l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4920" y="476280"/>
            <a:ext cx="76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Objetivos Sanitarios de la Década 2000-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9240" y="47628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Evaluación de Final de Perí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8997" t="26367" r="16782" b="12586"/>
          <a:stretch/>
        </p:blipFill>
        <p:spPr>
          <a:xfrm>
            <a:off x="684360" y="1063800"/>
            <a:ext cx="7127640" cy="5081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4076640"/>
            <a:ext cx="6912000" cy="1584360"/>
          </a:xfrm>
          <a:prstGeom prst="bracketPair">
            <a:avLst>
              <a:gd name="adj" fmla="val 6393"/>
            </a:avLst>
          </a:prstGeom>
          <a:noFill/>
          <a:ln w="28440">
            <a:solidFill>
              <a:srgbClr val="a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50800" y="382284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00" y="382284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800" y="360684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73400" y="3606840"/>
            <a:ext cx="0" cy="431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021200"/>
            <a:ext cx="8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0384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 rot="16200000">
            <a:off x="2244600" y="3739320"/>
            <a:ext cx="144360" cy="963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4840 h 963360"/>
              <a:gd name="textAreaBottom" fmla="*/ 938520 h 96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140360" y="1014480"/>
            <a:ext cx="4319280" cy="1693800"/>
            <a:chOff x="4140360" y="1014480"/>
            <a:chExt cx="4319280" cy="1693800"/>
          </a:xfrm>
        </p:grpSpPr>
        <p:sp>
          <p:nvSpPr>
            <p:cNvPr id="171" name=""/>
            <p:cNvSpPr/>
            <p:nvPr/>
          </p:nvSpPr>
          <p:spPr>
            <a:xfrm rot="5400000">
              <a:off x="6120720" y="511560"/>
              <a:ext cx="216000" cy="4176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6360" y="1014480"/>
              <a:ext cx="374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- Objetivos y </a:t>
              </a:r>
              <a:r>
                <a:rPr b="0" lang="es-ES_tradnl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Estrategias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- Con foco a </a:t>
              </a:r>
              <a:r>
                <a:rPr b="0" lang="es-ES_tradnl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nivel poblacio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- Relévala importancia de la acció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intersectorial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767600" y="434196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Reforma de Sal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7082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f497d"/>
                </a:solidFill>
                <a:latin typeface="Arial Narrow"/>
              </a:rPr>
              <a:t>Objetivos Sanitario 2000-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708280"/>
            <a:ext cx="22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f497d"/>
                </a:solidFill>
                <a:latin typeface="Arial Narrow"/>
              </a:rPr>
              <a:t>Plan Nacional de Salud 2011 -20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4160" y="260280"/>
            <a:ext cx="23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Cronogra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35280" y="3933720"/>
            <a:ext cx="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4480" y="3933720"/>
            <a:ext cx="0" cy="216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4792680"/>
            <a:ext cx="36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- Acceso a Intervenciones Sanitari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s-ES_tradnl" sz="1600" spc="-1" strike="noStrike">
                <a:solidFill>
                  <a:srgbClr val="333333"/>
                </a:solidFill>
                <a:latin typeface="Arial"/>
              </a:rPr>
              <a:t>(de nivel individu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95280" y="333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De donde vienen la producción la salud/enferm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00" y="358452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0800" y="3584520"/>
            <a:ext cx="813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680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8976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760" y="37828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38005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774880"/>
            <a:ext cx="182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ncuesta Nacional de Calidad de V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33760" y="3749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3749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749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169236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I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ncuesta Nacional de Salu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153972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0" idx="0"/>
            <a:endCxn id="196" idx="2"/>
          </p:cNvCxnSpPr>
          <p:nvPr/>
        </p:nvCxnSpPr>
        <p:spPr>
          <a:xfrm flipH="1" flipV="1" rot="5400000">
            <a:off x="2906280" y="2503080"/>
            <a:ext cx="1121760" cy="534240"/>
          </a:xfrm>
          <a:prstGeom prst="bentConnector3">
            <a:avLst>
              <a:gd name="adj1" fmla="val 482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2" idx="0"/>
            <a:endCxn id="200" idx="2"/>
          </p:cNvCxnSpPr>
          <p:nvPr/>
        </p:nvCxnSpPr>
        <p:spPr>
          <a:xfrm flipV="1" rot="16200000">
            <a:off x="6490800" y="2506320"/>
            <a:ext cx="1256400" cy="392760"/>
          </a:xfrm>
          <a:prstGeom prst="bentConnector3">
            <a:avLst>
              <a:gd name="adj1" fmla="val 484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6248520" y="3368520"/>
            <a:ext cx="0" cy="432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81520" y="3749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 Narrow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83160" y="5146560"/>
            <a:ext cx="229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 Estudio de Carga Atribuible a Factores de Ries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522936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I Estudio de Carga de Enferme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2" idx="2"/>
            <a:endCxn id="206" idx="0"/>
          </p:cNvCxnSpPr>
          <p:nvPr/>
        </p:nvCxnSpPr>
        <p:spPr>
          <a:xfrm rot="5400000">
            <a:off x="5037120" y="3805560"/>
            <a:ext cx="885240" cy="1505880"/>
          </a:xfrm>
          <a:prstGeom prst="bentConnector3">
            <a:avLst>
              <a:gd name="adj1" fmla="val 506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202" idx="2"/>
            <a:endCxn id="208" idx="0"/>
          </p:cNvCxnSpPr>
          <p:nvPr/>
        </p:nvCxnSpPr>
        <p:spPr>
          <a:xfrm flipH="1" rot="16200000">
            <a:off x="6341760" y="4005720"/>
            <a:ext cx="824760" cy="1045080"/>
          </a:xfrm>
          <a:prstGeom prst="bentConnector3">
            <a:avLst>
              <a:gd name="adj1" fmla="val 56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657600" y="5013360"/>
            <a:ext cx="2138400" cy="1079640"/>
          </a:xfrm>
          <a:prstGeom prst="ellipse">
            <a:avLst/>
          </a:prstGeom>
          <a:noFill/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4952880"/>
            <a:ext cx="2514600" cy="1140120"/>
          </a:xfrm>
          <a:prstGeom prst="ellipse">
            <a:avLst/>
          </a:prstGeom>
          <a:noFill/>
          <a:ln w="255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36960" y="2840040"/>
            <a:ext cx="182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I</a:t>
            </a:r>
            <a:r>
              <a:rPr b="0" lang="es-C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ncuesta Nacional de Calidad de V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84720" y="155736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II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ncuesta Nacional de Salu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971800" cy="2637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0" r="0" b="60228"/>
          <a:stretch/>
        </p:blipFill>
        <p:spPr>
          <a:xfrm>
            <a:off x="4038480" y="14130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5280" y="333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Carga de Enfermedad, Estudio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44000" y="17971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8360" y="20858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98160" y="9079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Enferm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1341360"/>
            <a:ext cx="4032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886200" y="4124160"/>
            <a:ext cx="4248000" cy="2414880"/>
            <a:chOff x="3886200" y="4124160"/>
            <a:chExt cx="4248000" cy="2414880"/>
          </a:xfrm>
        </p:grpSpPr>
        <p:sp>
          <p:nvSpPr>
            <p:cNvPr id="219" name=""/>
            <p:cNvSpPr/>
            <p:nvPr/>
          </p:nvSpPr>
          <p:spPr>
            <a:xfrm>
              <a:off x="3995640" y="412416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99"/>
                  </a:solidFill>
                  <a:latin typeface="Arial"/>
                </a:rPr>
                <a:t>Factores de Riesg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886200" y="4572000"/>
              <a:ext cx="4248000" cy="1967040"/>
              <a:chOff x="3886200" y="4572000"/>
              <a:chExt cx="4248000" cy="1967040"/>
            </a:xfrm>
          </p:grpSpPr>
          <p:pic>
            <p:nvPicPr>
              <p:cNvPr id="221" name="" descr=""/>
              <p:cNvPicPr/>
              <p:nvPr/>
            </p:nvPicPr>
            <p:blipFill>
              <a:blip r:embed="rId3"/>
              <a:srcRect l="21404" t="23419" r="23227" b="44283"/>
              <a:stretch/>
            </p:blipFill>
            <p:spPr>
              <a:xfrm>
                <a:off x="3886200" y="4680000"/>
                <a:ext cx="4248000" cy="185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3957480" y="4572000"/>
                <a:ext cx="403236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24000" y="1844640"/>
          <a:ext cx="4103640" cy="31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410364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0" y="6524640"/>
            <a:ext cx="2556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30492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Pero no solo los problem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cb7"/>
                </a:solidFill>
                <a:latin typeface="Arial"/>
              </a:rPr>
              <a:t>también como se distribu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88000" y="1916280"/>
            <a:ext cx="3960720" cy="3097080"/>
          </a:xfrm>
          <a:prstGeom prst="rect">
            <a:avLst/>
          </a:prstGeom>
          <a:solidFill>
            <a:srgbClr val="c8d7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Object 22"/>
          <p:cNvGraphicFramePr/>
          <p:nvPr/>
        </p:nvGraphicFramePr>
        <p:xfrm>
          <a:off x="5148360" y="2421000"/>
          <a:ext cx="2989080" cy="237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9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421000"/>
                    <a:ext cx="29890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4859280" y="2060640"/>
            <a:ext cx="3743280" cy="288360"/>
          </a:xfrm>
          <a:prstGeom prst="rect">
            <a:avLst/>
          </a:prstGeom>
          <a:solidFill>
            <a:srgbClr val="c8d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Hipertensi</a:t>
            </a:r>
            <a:r>
              <a:rPr b="1" lang="es-CL" sz="16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ón A</a:t>
            </a:r>
            <a:r>
              <a:rPr b="1" lang="es-CL" sz="1600" spc="-1" strike="noStrike">
                <a:solidFill>
                  <a:srgbClr val="ffffff"/>
                </a:solidFill>
                <a:latin typeface="Arial Narrow"/>
              </a:rPr>
              <a:t>rterial y 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21:26:00Z</dcterms:created>
  <dc:creator>pzitko</dc:creator>
  <dc:description/>
  <dc:language>en-US</dc:language>
  <cp:lastModifiedBy>Pedro Zitko Melo</cp:lastModifiedBy>
  <dcterms:modified xsi:type="dcterms:W3CDTF">2011-04-24T00:25:14Z</dcterms:modified>
  <cp:revision>8</cp:revision>
  <dc:subject/>
  <dc:title>Plan Nacional de Salud -2020  para el cumplimiento de los Objetivos Sanitarios</dc:title>
</cp:coreProperties>
</file>