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dministración y Gestión por Objetivos</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51F4-5036-4840-9BE1-CC0C2E183E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1654-3E2A-4130-9BFB-43F4C9D4EE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039B-EBBB-431D-BF02-C40AB72215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7B815-915A-4406-AEC6-A3BCFCCA2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DB24-BEDD-48D1-9E5C-6540EF785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C70E9-CD26-427A-8500-01CD823D5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AB81F-CB45-4161-A619-2828F2FE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4A01C-F2D7-465E-90AC-5F450A4B6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7075D-B652-4ACD-BDBD-FD5A70243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535CE-0757-4A38-89EF-3D020172A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443F6-C5B4-4D02-9172-2AE3917CF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768A6-1BB8-420A-91A8-E7D9BE41A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ED9EE-3A84-4FB0-ADA5-B0F4A2222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B7DE-F9C5-45B9-A3EC-ADE4DA606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FF5A0-022F-4075-8922-48E159888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7C439-670D-4F82-9D77-B486F2BC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A4C1-9362-4382-8DC3-A519BDF3F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BC491-1FF7-4AD2-86BE-16A4A0498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142FE-341E-4832-8C7C-F5E93761F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64FFA-A466-4BBF-ACA0-0DD44A79A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8A1D-2935-452D-A38A-9F3C22A6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DF227-8AE0-4F4A-8CEF-2EECD922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45B62-EBA7-4B46-A588-D7FFBECB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C2FC-BE87-4399-92E2-6D7E50238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83EDE-1FCC-47CF-AC3F-A069F7F3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F442-8033-44A6-AAA2-A29D76E1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9D9B-C59B-4BC5-A7FC-B8C84185B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1F70-8C9D-4B20-BE45-8580EDFE3D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72BB-E70F-45E6-B065-76BC1EA59C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14EE-7373-4553-A98E-EDE751BBDD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oría Administrativa</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e: Planificación Estratégic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de Abril de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ánchez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9987-CA7A-4090-A9B5-F95544710F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2" name="PlaceHolder 2"/>
          <p:cNvSpPr>
            <a:spLocks noGrp="1"/>
          </p:cNvSpPr>
          <p:nvPr>
            <p:ph/>
          </p:nvPr>
        </p:nvSpPr>
        <p:spPr>
          <a:xfrm>
            <a:off x="684360" y="1557360"/>
            <a:ext cx="7772400" cy="4959360"/>
          </a:xfrm>
          <a:prstGeom prst="rect">
            <a:avLst/>
          </a:prstGeom>
          <a:noFill/>
          <a:ln w="0">
            <a:noFill/>
          </a:ln>
        </p:spPr>
        <p:txBody>
          <a:bodyPr anchor="t">
            <a:normAutofit fontScale="86000"/>
          </a:bodyPr>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I</a:t>
            </a:r>
            <a:endParaRPr b="0" lang="en-US" sz="2400" spc="-1" strike="noStrike">
              <a:solidFill>
                <a:srgbClr val="000000"/>
              </a:solidFill>
              <a:latin typeface="Arial"/>
            </a:endParaRPr>
          </a:p>
          <a:p>
            <a:pPr marL="294840" indent="-2948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a comunicación y la atención al contribuyente</a:t>
            </a:r>
            <a:r>
              <a:rPr b="0" lang="es-ES" sz="2400" spc="-1" strike="noStrike">
                <a:solidFill>
                  <a:srgbClr val="000000"/>
                </a:solidFill>
                <a:latin typeface="Arial"/>
              </a:rPr>
              <a:t>.</a:t>
            </a:r>
            <a:endParaRPr b="0" lang="en-US" sz="24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aptar el SII a los cambios en la nueva justicia tributaria</a:t>
            </a:r>
            <a:r>
              <a:rPr b="0" lang="es-ES" sz="2800" spc="-1" strike="noStrike">
                <a:solidFill>
                  <a:srgbClr val="000000"/>
                </a:solidFill>
                <a:latin typeface="Arial"/>
              </a:rPr>
              <a:t>. </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feccionar el control de la evasión mediante la fiscalización segmentad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rnizar la función Normativa Tributari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ar innovaciones e intensificar el uso de tecnologías informáticas, haciendo de la Web el canal principal de comunicación del SII con los contribuyentes</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calizar las políticas de RRHH hacia una gestión moderna de las personas y promover una cultura colaborativa e integradora entre áreas</a:t>
            </a:r>
            <a:r>
              <a:rPr b="0" lang="es-ES" sz="2800" spc="-1" strike="noStrike">
                <a:solidFill>
                  <a:srgbClr val="000000"/>
                </a:solidFill>
                <a:latin typeface="Arial"/>
              </a:rPr>
              <a:t>.</a:t>
            </a:r>
            <a:endParaRPr b="0" lang="en-US" sz="28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3AA4-A231-4216-8450-2871F7DE8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5" name="PlaceHolder 2"/>
          <p:cNvSpPr>
            <a:spLocks noGrp="1"/>
          </p:cNvSpPr>
          <p:nvPr>
            <p:ph/>
          </p:nvPr>
        </p:nvSpPr>
        <p:spPr>
          <a:xfrm>
            <a:off x="642960" y="1571760"/>
            <a:ext cx="7772400" cy="474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stro Civi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os niveles de satisfacción de las usuarias y los usuarios, diseñando y aplicando instrumentos que permitan detectar y monitorear en forma oportuna sus necesidades y requerimiento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zar la plena seguridad de nuestros datos a través de  la incorporación permanente de tecnología de la información, con innovación y mejoramiento continúo de los procesos.  </a:t>
            </a:r>
            <a:endParaRPr b="0" lang="en-US" sz="20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mover la excelencia en los resultados mediante el fortalecimiento de las competencias de las personas que conforman la Institución, cumpliendo eficazmente las políticas y planes institucionales y/o gubernamentales</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A40-7F0F-4877-994C-8C3F9154555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sp>
        <p:nvSpPr>
          <p:cNvPr id="138" name="PlaceHolder 2"/>
          <p:cNvSpPr>
            <a:spLocks noGrp="1"/>
          </p:cNvSpPr>
          <p:nvPr>
            <p:ph/>
          </p:nvPr>
        </p:nvSpPr>
        <p:spPr>
          <a:xfrm>
            <a:off x="714240" y="1856880"/>
            <a:ext cx="7972560" cy="3488040"/>
          </a:xfrm>
          <a:prstGeom prst="rect">
            <a:avLst/>
          </a:prstGeom>
          <a:noFill/>
          <a:ln w="0">
            <a:noFill/>
          </a:ln>
        </p:spPr>
        <p:txBody>
          <a:bodyPr anchor="t">
            <a:normAutofit fontScale="85000"/>
          </a:bodyPr>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rónimo de factores: Políticos, Económicos, Sociales y Tecnológicos.</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una herramienta del entorno externo a la organización</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preguntas a responder en cada factor deben ser específicas, de acuerdo a cada problema particular</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a herramienta previa al análisis FODA</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ón Análisis PEST: Resumen de Oportunidades y Amenazas</a:t>
            </a:r>
            <a:endParaRPr b="0" lang="en-US" sz="2200" spc="-1" strike="noStrike">
              <a:solidFill>
                <a:srgbClr val="000000"/>
              </a:solidFill>
              <a:latin typeface="Arial"/>
            </a:endParaRPr>
          </a:p>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5305-89A2-4D4A-B34C-A4B297BA0F5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pic>
        <p:nvPicPr>
          <p:cNvPr id="141" name="Rectangle 3" descr=""/>
          <p:cNvPicPr/>
          <p:nvPr/>
        </p:nvPicPr>
        <p:blipFill>
          <a:blip r:embed="rId1"/>
          <a:stretch/>
        </p:blipFill>
        <p:spPr>
          <a:xfrm>
            <a:off x="706320" y="1536840"/>
            <a:ext cx="8053560" cy="63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994E-359E-4609-B9DD-5241DB46FCD7}"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Red de valor </a:t>
            </a:r>
            <a:r>
              <a:rPr b="0" i="1" lang="es-ES" sz="1600" spc="-1" strike="noStrike">
                <a:solidFill>
                  <a:srgbClr val="000000"/>
                </a:solidFill>
                <a:latin typeface="Arial"/>
              </a:rPr>
              <a:t>(</a:t>
            </a:r>
            <a:r>
              <a:rPr b="0" i="1" lang="en-US" sz="1600" spc="-1" strike="noStrike">
                <a:solidFill>
                  <a:srgbClr val="000000"/>
                </a:solidFill>
                <a:latin typeface="Arial"/>
              </a:rPr>
              <a:t>Competitive Advantage: Creating and Sustaining Superior Performance, Porter</a:t>
            </a:r>
            <a:r>
              <a:rPr b="0" i="1" lang="en-US" sz="1400" spc="-1" strike="noStrike">
                <a:solidFill>
                  <a:srgbClr val="000000"/>
                </a:solidFill>
                <a:latin typeface="Arial"/>
              </a:rPr>
              <a:t>)</a:t>
            </a:r>
            <a:endParaRPr b="0" lang="en-US" sz="1400" spc="-1" strike="noStrike">
              <a:solidFill>
                <a:srgbClr val="330033"/>
              </a:solidFill>
              <a:latin typeface="Times New Roman"/>
            </a:endParaRPr>
          </a:p>
        </p:txBody>
      </p:sp>
      <p:sp>
        <p:nvSpPr>
          <p:cNvPr id="144" name="PlaceHolder 2"/>
          <p:cNvSpPr>
            <a:spLocks noGrp="1"/>
          </p:cNvSpPr>
          <p:nvPr>
            <p:ph/>
          </p:nvPr>
        </p:nvSpPr>
        <p:spPr>
          <a:xfrm>
            <a:off x="714240" y="2071440"/>
            <a:ext cx="7972560" cy="378612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odelo Teórico para analizar la dinámica interna de la organizació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clusión Análisis Red de Valor: Resumen de Fortalezas y Debilidad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tegoriza las actividades que producen valor en la organización en dos grupos: Actividades primarias y las Actividades de apoyo o auxiliar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objetivo es maximizar la creación de valor mientras se minimizan los cost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6BA2-D0FD-4467-96A5-C76BB0D32A2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d de valor:</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8" name="Picture 2" descr=""/>
          <p:cNvPicPr/>
          <p:nvPr/>
        </p:nvPicPr>
        <p:blipFill>
          <a:blip r:embed="rId1"/>
          <a:stretch/>
        </p:blipFill>
        <p:spPr>
          <a:xfrm>
            <a:off x="789120" y="1714680"/>
            <a:ext cx="77835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6427-88AD-4CCA-8C29-B7CBCB4FC70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FODA:</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insumos para la matriz FODA son:</a:t>
            </a:r>
            <a:endParaRPr b="0" lang="en-US" sz="22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PEST (Oportunidades y Amenazas)</a:t>
            </a:r>
            <a:endParaRPr b="0" lang="en-US" sz="17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Cadena de Valor (Fortalezas y Debilidades)</a:t>
            </a:r>
            <a:endParaRPr b="0" lang="en-US" sz="1700" spc="-1" strike="noStrike">
              <a:solidFill>
                <a:srgbClr val="000000"/>
              </a:solidFill>
              <a:latin typeface="Arial"/>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gn="just">
              <a:spcBef>
                <a:spcPts val="550"/>
              </a:spcBef>
              <a:buClr>
                <a:srgbClr val="b2b2b2"/>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álisis FODA</a:t>
            </a:r>
            <a:endParaRPr b="0" lang="en-US" sz="2200" spc="-1" strike="noStrike">
              <a:solidFill>
                <a:srgbClr val="000000"/>
              </a:solidFill>
              <a:latin typeface="Arial"/>
            </a:endParaRPr>
          </a:p>
          <a:p>
            <a:pPr lvl="3" marL="800280" indent="-343080" algn="just">
              <a:spcBef>
                <a:spcPts val="476"/>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combinación de los factores externos (Oportunidades y Amenazas), con los internos (Fortalezas y Debilidades), formaran cuatro se utilizan para la formulación de estrategia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0033"/>
                </a:solidFill>
                <a:latin typeface="Times New Roman"/>
              </a:rPr>
              <a:t>¿Qué es la Planificación Estratégica?</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lanificación Estratégica, PE, es una herramienta de gestión que permite apoyar la toma de decisiones de las organizaciones en torno al quehacer actual y al camino que deben recorrer en el futuro para adecuarse a los cambios y a las demandas que les impone el entorno y lograr la mayor eficiencia, eficacia, calidad en los bienes y servicios que se proveen.</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E consiste en un ejercicio de formulación y establecimiento de objetivos de carácter prioritario, cuya característica principal es el establecimiento de los cursos de acción (estrategias) para alcanzar dichos objetivos. Desde esta perspectiva la PE es una herramienta clave para la toma de decisiones de las instituciones públicas.</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700" spc="-1" strike="noStrike">
                <a:solidFill>
                  <a:srgbClr val="000000"/>
                </a:solidFill>
                <a:latin typeface="Arial"/>
              </a:rPr>
              <a:t>(Manual de Planificación Estratégica e Indicadores de Desempeño en el Sector Público</a:t>
            </a:r>
            <a:r>
              <a:rPr b="0" i="1" lang="es-ES" sz="1700" spc="-1" strike="noStrike">
                <a:solidFill>
                  <a:srgbClr val="000000"/>
                </a:solidFill>
                <a:latin typeface="Arial"/>
              </a:rPr>
              <a:t>; Armijo: ILPES / CEPAL</a:t>
            </a:r>
            <a:r>
              <a:rPr b="0" i="1" lang="es-ES" sz="1700" spc="-1" strike="noStrike">
                <a:solidFill>
                  <a:srgbClr val="000000"/>
                </a:solidFill>
                <a:latin typeface="Arial"/>
              </a:rPr>
              <a:t>).</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D90A-40CE-43C4-AA36-E074A38072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0EF2-AAB9-4961-83DC-23205D4CF1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a:t>
            </a:r>
            <a:endParaRPr b="0" lang="en-US" sz="4200" spc="-1" strike="noStrike">
              <a:solidFill>
                <a:srgbClr val="330033"/>
              </a:solidFill>
              <a:latin typeface="Times New Roman"/>
            </a:endParaRPr>
          </a:p>
        </p:txBody>
      </p:sp>
      <p:sp>
        <p:nvSpPr>
          <p:cNvPr id="112" name="PlaceHolder 2"/>
          <p:cNvSpPr>
            <a:spLocks noGrp="1"/>
          </p:cNvSpPr>
          <p:nvPr>
            <p:ph/>
          </p:nvPr>
        </p:nvSpPr>
        <p:spPr>
          <a:xfrm>
            <a:off x="928800" y="1714320"/>
            <a:ext cx="7772400" cy="4701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misión es el propósito básico, función o tareas de una empresa o dependencia o cualquier parte de ellas” (</a:t>
            </a:r>
            <a:r>
              <a:rPr b="0" i="1" lang="es-ES" sz="1600" spc="-1" strike="noStrike">
                <a:solidFill>
                  <a:srgbClr val="000000"/>
                </a:solidFill>
                <a:latin typeface="Arial"/>
              </a:rPr>
              <a:t>Administración: Una perspectiva global ; Koontz</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sos para desarrollo de declaración de misión</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aluación del perfil pasado y presente de la organizació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 de los participantes de la organización acerca de la dirección futur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nso de las necesidades de los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cusión de la declaración de misión con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de la declaración de misión a todos quienes necesitan conoc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 Ejemplo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428480"/>
            <a:ext cx="7772400" cy="4701960"/>
          </a:xfrm>
          <a:prstGeom prst="rect">
            <a:avLst/>
          </a:prstGeom>
          <a:noFill/>
          <a:ln w="0">
            <a:noFill/>
          </a:ln>
        </p:spPr>
        <p:txBody>
          <a:bodyPr anchor="t">
            <a:normAutofit fontScale="97000"/>
          </a:bodyPr>
          <a:p>
            <a:pPr marL="332640" indent="-33264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Coca Cola</a:t>
            </a:r>
            <a:endParaRPr b="0" lang="en-US" sz="2200" spc="-1" strike="noStrike">
              <a:solidFill>
                <a:srgbClr val="000000"/>
              </a:solidFill>
              <a:latin typeface="Arial"/>
            </a:endParaRPr>
          </a:p>
          <a:p>
            <a:pPr marL="3326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Nuestra misión…es refrescar al mundo, inspirar momentos de optimismo y felicidad y, crear valor y hacer una diferencia”</a:t>
            </a:r>
            <a:endParaRPr b="0" lang="en-US" sz="2200" spc="-1" strike="noStrike">
              <a:solidFill>
                <a:srgbClr val="000000"/>
              </a:solidFill>
              <a:latin typeface="Arial"/>
            </a:endParaRPr>
          </a:p>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Registro Civil</a:t>
            </a:r>
            <a:endParaRPr b="0" lang="en-US" sz="2200" spc="-1" strike="noStrike">
              <a:solidFill>
                <a:srgbClr val="000000"/>
              </a:solidFill>
              <a:latin typeface="Arial"/>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400" spc="-1" strike="noStrike">
                <a:solidFill>
                  <a:srgbClr val="000000"/>
                </a:solidFill>
                <a:latin typeface="Arial"/>
              </a:rPr>
              <a:t>Facilitar el ejercicio de los derechos de las personas a través del registro, certificación y verificación de los hechos relativos al estado civil, identidad, bienes y otros actos específicos encomendados por ley, resguardando la confidencialidad, confiabilidad y certeza de la información, brindando un servicio oportuno y de calidad</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D96C-9644-4562-931B-A8FD0F351F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a:t>
            </a:r>
            <a:endParaRPr b="0" lang="en-US" sz="4200" spc="-1" strike="noStrike">
              <a:solidFill>
                <a:srgbClr val="330033"/>
              </a:solidFill>
              <a:latin typeface="Times New Roman"/>
            </a:endParaRPr>
          </a:p>
        </p:txBody>
      </p:sp>
      <p:sp>
        <p:nvSpPr>
          <p:cNvPr id="117" name="PlaceHolder 2"/>
          <p:cNvSpPr>
            <a:spLocks noGrp="1"/>
          </p:cNvSpPr>
          <p:nvPr>
            <p:ph/>
          </p:nvPr>
        </p:nvSpPr>
        <p:spPr>
          <a:xfrm>
            <a:off x="857160" y="1857240"/>
            <a:ext cx="7772400" cy="4530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Es una exposición clara que indica hacia donde se dirige la empresa a largo plazo y en que se deberá convertir, tomando en cuenta el impacto de las nuevas tecnologías, de las necesidades y expectativas cambiantes de los clientes, de la aparición de nuevas condiciones de mercado, etc” (</a:t>
            </a:r>
            <a:r>
              <a:rPr b="0" i="1" lang="es-ES" sz="1600" spc="-1" strike="noStrike">
                <a:solidFill>
                  <a:srgbClr val="000000"/>
                </a:solidFill>
                <a:latin typeface="Arial"/>
              </a:rPr>
              <a:t>Administración Estráte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A606-4E02-40E5-8B05-B23562BD5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0" name="PlaceHolder 2"/>
          <p:cNvSpPr>
            <a:spLocks noGrp="1"/>
          </p:cNvSpPr>
          <p:nvPr>
            <p:ph/>
          </p:nvPr>
        </p:nvSpPr>
        <p:spPr>
          <a:xfrm>
            <a:off x="28584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a-Co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sonas</a:t>
            </a:r>
            <a:r>
              <a:rPr b="0" lang="en-US" sz="2000" spc="-1" strike="noStrike">
                <a:solidFill>
                  <a:srgbClr val="000000"/>
                </a:solidFill>
                <a:latin typeface="Arial"/>
              </a:rPr>
              <a:t>: Ser un gran lugar para trabajar donde las personas son inspiradas para ser lo mejor que puedan ser.</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eficio: </a:t>
            </a:r>
            <a:r>
              <a:rPr b="0" lang="en-US" sz="2000" spc="-1" strike="noStrike">
                <a:solidFill>
                  <a:srgbClr val="000000"/>
                </a:solidFill>
                <a:latin typeface="Arial"/>
              </a:rPr>
              <a:t>Maximizar el retorno a largo plazo para los accionistas, al mismo tiempo de ser conscientes de nuestras responsabilidades globale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ividad: </a:t>
            </a:r>
            <a:r>
              <a:rPr b="0" lang="en-US" sz="2000" spc="-1" strike="noStrike">
                <a:solidFill>
                  <a:srgbClr val="000000"/>
                </a:solidFill>
                <a:latin typeface="Arial"/>
              </a:rPr>
              <a:t>Ser una organización altamente efectiva, liviana y en rápido movimiento.</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9FC2-F859-4A41-B448-EDAD71E84D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3" name="PlaceHolder 2"/>
          <p:cNvSpPr>
            <a:spLocks noGrp="1"/>
          </p:cNvSpPr>
          <p:nvPr>
            <p:ph/>
          </p:nvPr>
        </p:nvSpPr>
        <p:spPr>
          <a:xfrm>
            <a:off x="35712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Civil</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r una organización de personas orgullosas y comprometidas con nuestro Servicio y con el desarrollo de Chile, contribuyendo al ejercicio efectivo de los derechos de las personas, cumpliendo nuestra misión con criterios de excelencia, confidencialidad, calidad y oportunidad, a través de la innovación permanente y liderando el uso de tecnologías de vanguar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E158-7E43-45E3-A63F-EDB8DA43FF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Son los fines hacia los cuales se dirige la actividad. Representan no sólo el punto final de la planificación, sino al fin al que la organización, la integración de personal, la dirección y el control están dirigidos” (</a:t>
            </a:r>
            <a:r>
              <a:rPr b="0" i="1" lang="es-ES" sz="1600" spc="-1" strike="noStrike">
                <a:solidFill>
                  <a:srgbClr val="000000"/>
                </a:solidFill>
                <a:latin typeface="Arial"/>
              </a:rPr>
              <a:t>Administración: Una perspectiva global ; Koontz)</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determinación de los objetivos convierte a la visión estratégica y al curso direccional en indicadores de desempeño específicos. Representan un compromiso administrativo para lograr efectos y resultados específicos” (</a:t>
            </a:r>
            <a:r>
              <a:rPr b="0" i="1" lang="es-ES" sz="1600" spc="-1" strike="noStrike">
                <a:solidFill>
                  <a:srgbClr val="000000"/>
                </a:solidFill>
                <a:latin typeface="Arial"/>
              </a:rPr>
              <a:t>Administración Estraté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2189-2D01-413C-B482-DBCCD05F99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iterios de selección de Objetivos (</a:t>
            </a:r>
            <a:r>
              <a:rPr b="0" i="1" lang="es-ES" sz="1400" spc="-1" strike="noStrike">
                <a:solidFill>
                  <a:srgbClr val="000000"/>
                </a:solidFill>
                <a:latin typeface="Arial"/>
              </a:rPr>
              <a:t>Chiavenato; Introducción a la Teoría de la Administración</a:t>
            </a:r>
            <a:r>
              <a:rPr b="0" lang="es-ES" sz="2200" spc="-1" strike="noStrike">
                <a:solidFill>
                  <a:srgbClr val="000000"/>
                </a:solidFill>
                <a:latin typeface="Arial"/>
              </a:rPr>
              <a:t>)</a:t>
            </a:r>
            <a:endParaRPr b="0" lang="en-US" sz="22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scar las actividades que tengan mayor impacto sobre los resultad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específico, mensurable, claro y basarse en datos concret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indicar los resultados que deben alcanzarse, pero no la forma de alcanzarlos. Indican el cuánto pero no el cómo.</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difícil de alcanzar, pero no al punto de ser imposibl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estar relacionados con las metas a largo y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34:00Z</dcterms:created>
  <dc:creator>hp</dc:creator>
  <dc:description/>
  <dc:language>en-US</dc:language>
  <cp:lastModifiedBy>Terminal 1</cp:lastModifiedBy>
  <dcterms:modified xsi:type="dcterms:W3CDTF">2011-04-06T02:16:28Z</dcterms:modified>
  <cp:revision>41</cp:revision>
  <dc:subject/>
  <dc:title>Teoría Administrativa</dc:title>
</cp:coreProperties>
</file>