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BB25E-8327-4AEF-A78C-47964D159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7B06-2248-4B88-9A54-13E11262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F2C13-235B-4BB7-AD89-C620BFA2D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B88C5-5BE1-48BD-8324-6644B1691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7B7B-54F8-4E44-A61C-8947F50C8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A83BF-59AF-4599-9B39-4078E711C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97179-658E-4F9B-9C87-2C005C92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7C77F-C5E2-4860-A97B-161503CBD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8307D-628D-43BD-8255-55134929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4C66-CE0E-4020-B7A3-BCA9E8FB5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4AAE9-E935-40C3-AC3E-E1FD72D5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1E8D-C4EF-4EB7-AE2C-A3E599034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2719-791A-4F5E-96D7-FEFE82D823A4}"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31F1-4E61-4E16-9BC6-A7B415B059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2"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opiedad privada de bienes temporales, a la vez, satisface y contiene la innata e insaciable avaricia del homb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regla es inseparable de la coacción y en ese mismo grado es despótic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la sociedad política se vuelve por naturaleza y propósito punitiva y correctiv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 papel es especialmente negativo: castigar a los malhechores y de contener el mal entre los hombres mediante el uso de la fuerz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A0EB-1A62-4679-BE85-01A255FE4D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72" dur="500"/>
                                        <p:tgtEl>
                                          <p:spTgt spid="7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77" dur="500"/>
                                        <p:tgtEl>
                                          <p:spTgt spid="7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182" dur="500"/>
                                        <p:tgtEl>
                                          <p:spTgt spid="7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87"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5" name=""/>
          <p:cNvSpPr txBox="1"/>
          <p:nvPr/>
        </p:nvSpPr>
        <p:spPr>
          <a:xfrm>
            <a:off x="179280" y="1125360"/>
            <a:ext cx="878544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alvación del hombre no llegará por medio de la filosofía, tal como lo puede sostener Platón, sino des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gracia divina, y no la justicia humana, es el nexo de la sociedad y la auténtica fuente de la bienaventur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el estado actual, en la Iglesia recae la tarea de conseguir la vida buena, como instrumento debidamente instituido y visible de la gracia 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ociedad civil, por sí misma, es incapaz de conducir a la virtud.</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C, mediante su acción represiva, puede mantener la paz relativa y así asegurar las condiciones mínimas en que la Iglesia puede ejercer su enseñ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A8FB-EDD8-4D22-A918-20B8D1512A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194" dur="500"/>
                                        <p:tgtEl>
                                          <p:spTgt spid="7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75">
                                            <p:txEl>
                                              <p:pRg st="1" end="1"/>
                                            </p:txEl>
                                          </p:spTgt>
                                        </p:tgtEl>
                                        <p:attrNameLst>
                                          <p:attrName>style.visibility</p:attrName>
                                        </p:attrNameLst>
                                      </p:cBhvr>
                                      <p:to>
                                        <p:strVal val="visible"/>
                                      </p:to>
                                    </p:set>
                                    <p:animEffect filter="wipe(down)" transition="in">
                                      <p:cBhvr additive="repl">
                                        <p:cTn id="199" dur="500"/>
                                        <p:tgtEl>
                                          <p:spTgt spid="75">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75">
                                            <p:txEl>
                                              <p:pRg st="2" end="2"/>
                                            </p:txEl>
                                          </p:spTgt>
                                        </p:tgtEl>
                                        <p:attrNameLst>
                                          <p:attrName>style.visibility</p:attrName>
                                        </p:attrNameLst>
                                      </p:cBhvr>
                                      <p:to>
                                        <p:strVal val="visible"/>
                                      </p:to>
                                    </p:set>
                                    <p:animEffect filter="wipe(down)" transition="in">
                                      <p:cBhvr additive="repl">
                                        <p:cTn id="204" dur="500"/>
                                        <p:tgtEl>
                                          <p:spTgt spid="75">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75">
                                            <p:txEl>
                                              <p:pRg st="3" end="3"/>
                                            </p:txEl>
                                          </p:spTgt>
                                        </p:tgtEl>
                                        <p:attrNameLst>
                                          <p:attrName>style.visibility</p:attrName>
                                        </p:attrNameLst>
                                      </p:cBhvr>
                                      <p:to>
                                        <p:strVal val="visible"/>
                                      </p:to>
                                    </p:set>
                                    <p:animEffect filter="wipe(down)" transition="in">
                                      <p:cBhvr additive="repl">
                                        <p:cTn id="209" dur="500"/>
                                        <p:tgtEl>
                                          <p:spTgt spid="75">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75">
                                            <p:txEl>
                                              <p:pRg st="4" end="4"/>
                                            </p:txEl>
                                          </p:spTgt>
                                        </p:tgtEl>
                                        <p:attrNameLst>
                                          <p:attrName>style.visibility</p:attrName>
                                        </p:attrNameLst>
                                      </p:cBhvr>
                                      <p:to>
                                        <p:strVal val="visible"/>
                                      </p:to>
                                    </p:set>
                                    <p:animEffect filter="wipe(down)" transition="in">
                                      <p:cBhvr additive="repl">
                                        <p:cTn id="214"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78"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rma suprema de justici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ley en virtud del cual es justo que todas las cosas estén perfectamente ordenadas, y es identificada con la voluntad o sabiduría de Dios que dirige todas las cosas hacia su propio fin.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fuente universal de justicia y equida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lla fluye todo lo que es justo o bueno en otras ley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son capaces de conocerla y le deben obediencia en todo momento.</a:t>
            </a:r>
            <a:endParaRPr b="0" lang="en-US" sz="2600" spc="-1" strike="noStrike">
              <a:solidFill>
                <a:srgbClr val="000000"/>
              </a:solidFill>
              <a:latin typeface="Calibri"/>
            </a:endParaRPr>
          </a:p>
        </p:txBody>
      </p:sp>
      <p:sp>
        <p:nvSpPr>
          <p:cNvPr id="7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F593-DCD8-49BE-9B2B-D559E0F169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21" dur="500"/>
                                        <p:tgtEl>
                                          <p:spTgt spid="78">
                                            <p:txEl>
                                              <p:pRg st="0" end="0"/>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78">
                                            <p:txEl>
                                              <p:pRg st="1" end="1"/>
                                            </p:txEl>
                                          </p:spTgt>
                                        </p:tgtEl>
                                        <p:attrNameLst>
                                          <p:attrName>style.visibility</p:attrName>
                                        </p:attrNameLst>
                                      </p:cBhvr>
                                      <p:to>
                                        <p:strVal val="visible"/>
                                      </p:to>
                                    </p:set>
                                    <p:animEffect filter="wipe(down)" transition="in">
                                      <p:cBhvr additive="repl">
                                        <p:cTn id="224" dur="500"/>
                                        <p:tgtEl>
                                          <p:spTgt spid="78">
                                            <p:txEl>
                                              <p:pRg st="1" end="1"/>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227" dur="500"/>
                                        <p:tgtEl>
                                          <p:spTgt spid="78">
                                            <p:txEl>
                                              <p:pRg st="2" end="2"/>
                                            </p:txEl>
                                          </p:spTgt>
                                        </p:tgtEl>
                                      </p:cBhvr>
                                    </p:animEffect>
                                  </p:childTnLst>
                                </p:cTn>
                              </p:par>
                              <p:par>
                                <p:cTn id="228" nodeType="withEffect" fill="hold" presetClass="entr" presetID="22" presetSubtype="4">
                                  <p:stCondLst>
                                    <p:cond delay="0"/>
                                  </p:stCondLst>
                                  <p:childTnLst>
                                    <p:set>
                                      <p:cBhvr>
                                        <p:cTn id="22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30" dur="500"/>
                                        <p:tgtEl>
                                          <p:spTgt spid="78">
                                            <p:txEl>
                                              <p:pRg st="3" end="3"/>
                                            </p:txEl>
                                          </p:spTgt>
                                        </p:tgtEl>
                                      </p:cBhvr>
                                    </p:animEffect>
                                  </p:childTnLst>
                                </p:cTn>
                              </p:par>
                              <p:par>
                                <p:cTn id="231" nodeType="withEffect" fill="hold" presetClass="entr" presetID="22" presetSubtype="4">
                                  <p:stCondLst>
                                    <p:cond delay="0"/>
                                  </p:stCondLst>
                                  <p:childTnLst>
                                    <p:set>
                                      <p:cBhvr>
                                        <p:cTn id="232"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233" dur="500"/>
                                        <p:tgtEl>
                                          <p:spTgt spid="78">
                                            <p:txEl>
                                              <p:pRg st="4" end="4"/>
                                            </p:txEl>
                                          </p:spTgt>
                                        </p:tgtEl>
                                      </p:cBhvr>
                                    </p:animEffect>
                                  </p:childTnLst>
                                </p:cTn>
                              </p:par>
                              <p:par>
                                <p:cTn id="234" nodeType="withEffect" fill="hold" presetClass="entr" presetID="22" presetSubtype="4">
                                  <p:stCondLst>
                                    <p:cond delay="0"/>
                                  </p:stCondLst>
                                  <p:childTnLst>
                                    <p:set>
                                      <p:cBhvr>
                                        <p:cTn id="235" dur="1" fill="hold">
                                          <p:stCondLst>
                                            <p:cond delay="0"/>
                                          </p:stCondLst>
                                        </p:cTn>
                                        <p:tgtEl>
                                          <p:spTgt spid="78">
                                            <p:txEl>
                                              <p:pRg st="5" end="5"/>
                                            </p:txEl>
                                          </p:spTgt>
                                        </p:tgtEl>
                                        <p:attrNameLst>
                                          <p:attrName>style.visibility</p:attrName>
                                        </p:attrNameLst>
                                      </p:cBhvr>
                                      <p:to>
                                        <p:strVal val="visible"/>
                                      </p:to>
                                    </p:set>
                                    <p:animEffect filter="wipe(down)" transition="in">
                                      <p:cBhvr additive="repl">
                                        <p:cTn id="23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1"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lo buenos son recompensados y los malos son castigad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tolera excepcion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be ir acompañada de sanciones adecuada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puede concebirse sin una vida ulterior, en que se enderecen los entuertos y se restaure el orden perfecto de la justici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mplica la existencia de un Dios justo, providente u omnisciente, que recompensa y castiga a cada quien, de acuerdo con sus mérit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35B6-9A1F-41F3-B98D-19C962A4F5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243" dur="500"/>
                                        <p:tgtEl>
                                          <p:spTgt spid="81">
                                            <p:txEl>
                                              <p:pRg st="0" end="0"/>
                                            </p:txEl>
                                          </p:spTgt>
                                        </p:tgtEl>
                                      </p:cBhvr>
                                    </p:animEffect>
                                  </p:childTnLst>
                                </p:cTn>
                              </p:par>
                              <p:par>
                                <p:cTn id="244" nodeType="withEffect" fill="hold" presetClass="entr" presetID="22" presetSubtype="4">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wipe(down)" transition="in">
                                      <p:cBhvr additive="repl">
                                        <p:cTn id="246" dur="500"/>
                                        <p:tgtEl>
                                          <p:spTgt spid="81">
                                            <p:txEl>
                                              <p:pRg st="1" end="1"/>
                                            </p:txEl>
                                          </p:spTgt>
                                        </p:tgtEl>
                                      </p:cBhvr>
                                    </p:animEffect>
                                  </p:childTnLst>
                                </p:cTn>
                              </p:par>
                              <p:par>
                                <p:cTn id="247" nodeType="withEffect" fill="hold" presetClass="entr" presetID="22" presetSubtype="4">
                                  <p:stCondLst>
                                    <p:cond delay="0"/>
                                  </p:stCondLst>
                                  <p:childTnLst>
                                    <p:set>
                                      <p:cBhvr>
                                        <p:cTn id="24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249" dur="500"/>
                                        <p:tgtEl>
                                          <p:spTgt spid="81">
                                            <p:txEl>
                                              <p:pRg st="2" end="2"/>
                                            </p:txEl>
                                          </p:spTgt>
                                        </p:tgtEl>
                                      </p:cBhvr>
                                    </p:animEffect>
                                  </p:childTnLst>
                                </p:cTn>
                              </p:par>
                              <p:par>
                                <p:cTn id="250" nodeType="withEffect" fill="hold" presetClass="entr" presetID="22" presetSubtype="4">
                                  <p:stCondLst>
                                    <p:cond delay="0"/>
                                  </p:stCondLst>
                                  <p:childTnLst>
                                    <p:set>
                                      <p:cBhvr>
                                        <p:cTn id="251" dur="1" fill="hold">
                                          <p:stCondLst>
                                            <p:cond delay="0"/>
                                          </p:stCondLst>
                                        </p:cTn>
                                        <p:tgtEl>
                                          <p:spTgt spid="81">
                                            <p:txEl>
                                              <p:pRg st="3" end="3"/>
                                            </p:txEl>
                                          </p:spTgt>
                                        </p:tgtEl>
                                        <p:attrNameLst>
                                          <p:attrName>style.visibility</p:attrName>
                                        </p:attrNameLst>
                                      </p:cBhvr>
                                      <p:to>
                                        <p:strVal val="visible"/>
                                      </p:to>
                                    </p:set>
                                    <p:animEffect filter="wipe(down)" transition="in">
                                      <p:cBhvr additive="repl">
                                        <p:cTn id="252" dur="500"/>
                                        <p:tgtEl>
                                          <p:spTgt spid="81">
                                            <p:txEl>
                                              <p:pRg st="3" end="3"/>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255" dur="500"/>
                                        <p:tgtEl>
                                          <p:spTgt spid="81">
                                            <p:txEl>
                                              <p:pRg st="4" end="4"/>
                                            </p:txEl>
                                          </p:spTgt>
                                        </p:tgtEl>
                                      </p:cBhvr>
                                    </p:animEffect>
                                  </p:childTnLst>
                                </p:cTn>
                              </p:par>
                              <p:par>
                                <p:cTn id="256" nodeType="withEffect" fill="hold" presetClass="entr" presetID="22" presetSubtype="4">
                                  <p:stCondLst>
                                    <p:cond delay="0"/>
                                  </p:stCondLst>
                                  <p:childTnLst>
                                    <p:set>
                                      <p:cBhvr>
                                        <p:cTn id="257" dur="1" fill="hold">
                                          <p:stCondLst>
                                            <p:cond delay="0"/>
                                          </p:stCondLst>
                                        </p:cTn>
                                        <p:tgtEl>
                                          <p:spTgt spid="81">
                                            <p:txEl>
                                              <p:pRg st="5" end="5"/>
                                            </p:txEl>
                                          </p:spTgt>
                                        </p:tgtEl>
                                        <p:attrNameLst>
                                          <p:attrName>style.visibility</p:attrName>
                                        </p:attrNameLst>
                                      </p:cBhvr>
                                      <p:to>
                                        <p:strVal val="visible"/>
                                      </p:to>
                                    </p:set>
                                    <p:animEffect filter="wipe(down)" transition="in">
                                      <p:cBhvr additive="repl">
                                        <p:cTn id="258"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ey temporal o humana</a:t>
            </a: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adapta los principios comunes de la ley eterna a las necesidades cambiantes de sociedades particulares.</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ría de acuerdo con las circunstancias de tiempo y lugar.</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romulgada para el bien común.</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na ley justa</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uede ser contraria con otras leyes temporales.</a:t>
            </a:r>
            <a:endParaRPr b="0" lang="en-US" sz="26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ariabilidad de la ley temporal es la que distingue una ciudad de otra.</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eficacia se debe directamente al apego del hombre a los bienes terrenales, y sólo porque los hombres son esclavos de estos bienes, la ley tiene algún poder sobre ell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6DB0-1CF9-4B75-9366-4A7F46B904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265" dur="500"/>
                                        <p:tgtEl>
                                          <p:spTgt spid="84">
                                            <p:txEl>
                                              <p:pRg st="0" end="0"/>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268" dur="500"/>
                                        <p:tgtEl>
                                          <p:spTgt spid="84">
                                            <p:txEl>
                                              <p:pRg st="1" end="1"/>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271" dur="500"/>
                                        <p:tgtEl>
                                          <p:spTgt spid="84">
                                            <p:txEl>
                                              <p:pRg st="2" end="2"/>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Effect filter="wipe(down)" transition="in">
                                      <p:cBhvr additive="repl">
                                        <p:cTn id="274" dur="500"/>
                                        <p:tgtEl>
                                          <p:spTgt spid="84">
                                            <p:txEl>
                                              <p:pRg st="3" end="3"/>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277" dur="500"/>
                                        <p:tgtEl>
                                          <p:spTgt spid="84">
                                            <p:txEl>
                                              <p:pRg st="4" end="4"/>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84">
                                            <p:txEl>
                                              <p:pRg st="5" end="5"/>
                                            </p:txEl>
                                          </p:spTgt>
                                        </p:tgtEl>
                                        <p:attrNameLst>
                                          <p:attrName>style.visibility</p:attrName>
                                        </p:attrNameLst>
                                      </p:cBhvr>
                                      <p:to>
                                        <p:strVal val="visible"/>
                                      </p:to>
                                    </p:set>
                                    <p:animEffect filter="wipe(down)" transition="in">
                                      <p:cBhvr additive="repl">
                                        <p:cTn id="280" dur="500"/>
                                        <p:tgtEl>
                                          <p:spTgt spid="84">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4">
                                            <p:txEl>
                                              <p:pRg st="6" end="6"/>
                                            </p:txEl>
                                          </p:spTgt>
                                        </p:tgtEl>
                                        <p:attrNameLst>
                                          <p:attrName>style.visibility</p:attrName>
                                        </p:attrNameLst>
                                      </p:cBhvr>
                                      <p:to>
                                        <p:strVal val="visible"/>
                                      </p:to>
                                    </p:set>
                                    <p:animEffect filter="wipe(down)" transition="in">
                                      <p:cBhvr additive="repl">
                                        <p:cTn id="285" dur="500"/>
                                        <p:tgtEl>
                                          <p:spTgt spid="84">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84">
                                            <p:txEl>
                                              <p:pRg st="7" end="7"/>
                                            </p:txEl>
                                          </p:spTgt>
                                        </p:tgtEl>
                                        <p:attrNameLst>
                                          <p:attrName>style.visibility</p:attrName>
                                        </p:attrNameLst>
                                      </p:cBhvr>
                                      <p:to>
                                        <p:strVal val="visible"/>
                                      </p:to>
                                    </p:set>
                                    <p:animEffect filter="wipe(down)" transition="in">
                                      <p:cBhvr additive="repl">
                                        <p:cTn id="290"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7"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temporal o huma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gazmente puede aprovechar la perversidad del hombre para crear y mantener una medida limitada de justicia en la sociedad.</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enudo no alcanza su fin, por:</a:t>
            </a:r>
            <a:endParaRPr b="0" lang="en-US" sz="28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uchos actos ilícitos son desconocidos, quedan impun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udo es imposible identificar a los delincuent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rescribe y prohíbe actos externos.</a:t>
            </a:r>
            <a:endParaRPr b="0" lang="en-US" sz="2400" spc="-1" strike="noStrike">
              <a:solidFill>
                <a:srgbClr val="000000"/>
              </a:solidFill>
              <a:latin typeface="Calibri"/>
            </a:endParaRPr>
          </a:p>
        </p:txBody>
      </p:sp>
      <p:sp>
        <p:nvSpPr>
          <p:cNvPr id="8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84E1-4DF4-486E-9A02-3BE1EACCAC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97" dur="500"/>
                                        <p:tgtEl>
                                          <p:spTgt spid="87">
                                            <p:txEl>
                                              <p:pRg st="0" end="0"/>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00" dur="500"/>
                                        <p:tgtEl>
                                          <p:spTgt spid="87">
                                            <p:txEl>
                                              <p:pRg st="1" end="1"/>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303" dur="500"/>
                                        <p:tgtEl>
                                          <p:spTgt spid="87">
                                            <p:txEl>
                                              <p:pRg st="2" end="2"/>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87">
                                            <p:txEl>
                                              <p:pRg st="3" end="3"/>
                                            </p:txEl>
                                          </p:spTgt>
                                        </p:tgtEl>
                                        <p:attrNameLst>
                                          <p:attrName>style.visibility</p:attrName>
                                        </p:attrNameLst>
                                      </p:cBhvr>
                                      <p:to>
                                        <p:strVal val="visible"/>
                                      </p:to>
                                    </p:set>
                                    <p:animEffect filter="wipe(down)" transition="in">
                                      <p:cBhvr additive="repl">
                                        <p:cTn id="306" dur="500"/>
                                        <p:tgtEl>
                                          <p:spTgt spid="87">
                                            <p:txEl>
                                              <p:pRg st="3" end="3"/>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309" dur="500"/>
                                        <p:tgtEl>
                                          <p:spTgt spid="87">
                                            <p:txEl>
                                              <p:pRg st="4" end="4"/>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87">
                                            <p:txEl>
                                              <p:pRg st="5" end="5"/>
                                            </p:txEl>
                                          </p:spTgt>
                                        </p:tgtEl>
                                        <p:attrNameLst>
                                          <p:attrName>style.visibility</p:attrName>
                                        </p:attrNameLst>
                                      </p:cBhvr>
                                      <p:to>
                                        <p:strVal val="visible"/>
                                      </p:to>
                                    </p:set>
                                    <p:animEffect filter="wipe(down)" transition="in">
                                      <p:cBhvr additive="repl">
                                        <p:cTn id="31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0" name=""/>
          <p:cNvSpPr txBox="1"/>
          <p:nvPr/>
        </p:nvSpPr>
        <p:spPr>
          <a:xfrm>
            <a:off x="179280" y="836280"/>
            <a:ext cx="8785440" cy="58323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ugar de fundar una ciudad perfecta en el discurso, Cicerón trató de despertar el interés en la vida política, volviéndose al ejemplo de la antigua república romana.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se propone rebatir dicha tesis, centrándose en los vicios de la antigua Rom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vicios de Roma se manifiestan en el trato de ésta sobre las naciones conquistada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ciudad que no está en paz consigo misma, no puede estarlo con las naciones vecinas, porque no tiene justicia interna ni extern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ara San Agustín, Roma nunca fue una república porque la verdadera justicia y la ley nunca tuvieron lugar en ella.</a:t>
            </a:r>
            <a:endParaRPr b="0" lang="en-US" sz="3000" spc="-1" strike="noStrike">
              <a:solidFill>
                <a:srgbClr val="000000"/>
              </a:solidFill>
              <a:latin typeface="Calibri"/>
            </a:endParaRPr>
          </a:p>
        </p:txBody>
      </p:sp>
      <p:sp>
        <p:nvSpPr>
          <p:cNvPr id="9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87DD-0566-4D48-ABF6-79F3AEA2C2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319" dur="500"/>
                                        <p:tgtEl>
                                          <p:spTgt spid="9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324" dur="500"/>
                                        <p:tgtEl>
                                          <p:spTgt spid="90">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329" dur="500"/>
                                        <p:tgtEl>
                                          <p:spTgt spid="9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334" dur="500"/>
                                        <p:tgtEl>
                                          <p:spTgt spid="9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339"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3" name=""/>
          <p:cNvSpPr txBox="1"/>
          <p:nvPr/>
        </p:nvSpPr>
        <p:spPr>
          <a:xfrm>
            <a:off x="179280" y="836280"/>
            <a:ext cx="8785440" cy="5832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antiguos romanos no fueron justos y su ciudad no fue una auténtica ciudad, porque el objeto de su pasión no fue la virtu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ma estuvo dominada por el afán de conquista, un afán de glor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a medida que los romanos renunciaron al placer y a la satisfacción de sus más bajos apetitos, tuvieron derecho a cierta recompens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 sus opiniones sobre Roma, San Agustín cambió, hacia el futuro, la visión de Roma que había sido plasmada por los historiadores romanos. Ello sería así hasta el Renacimient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B8CB-CFA5-4C3C-B3AC-091F3C7E37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346" dur="500"/>
                                        <p:tgtEl>
                                          <p:spTgt spid="9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93">
                                            <p:txEl>
                                              <p:pRg st="1" end="1"/>
                                            </p:txEl>
                                          </p:spTgt>
                                        </p:tgtEl>
                                        <p:attrNameLst>
                                          <p:attrName>style.visibility</p:attrName>
                                        </p:attrNameLst>
                                      </p:cBhvr>
                                      <p:to>
                                        <p:strVal val="visible"/>
                                      </p:to>
                                    </p:set>
                                    <p:animEffect filter="wipe(down)" transition="in">
                                      <p:cBhvr additive="repl">
                                        <p:cTn id="351" dur="500"/>
                                        <p:tgtEl>
                                          <p:spTgt spid="93">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356" dur="500"/>
                                        <p:tgtEl>
                                          <p:spTgt spid="9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93">
                                            <p:txEl>
                                              <p:pRg st="3" end="3"/>
                                            </p:txEl>
                                          </p:spTgt>
                                        </p:tgtEl>
                                        <p:attrNameLst>
                                          <p:attrName>style.visibility</p:attrName>
                                        </p:attrNameLst>
                                      </p:cBhvr>
                                      <p:to>
                                        <p:strVal val="visible"/>
                                      </p:to>
                                    </p:set>
                                    <p:animEffect filter="wipe(down)" transition="in">
                                      <p:cBhvr additive="repl">
                                        <p:cTn id="36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6" name=""/>
          <p:cNvSpPr txBox="1"/>
          <p:nvPr/>
        </p:nvSpPr>
        <p:spPr>
          <a:xfrm>
            <a:off x="179280" y="1125360"/>
            <a:ext cx="8785440" cy="5832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ítica de San Agustín a las religiones paganas culmina en lo que puede considerarse su aporte más distintivo al problema de la sociedad civil: la doctrina de las dos ciudad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humanidad está conformada por muchas ciudades, cada una de las cuales se diferencia con las demás por sus leyes, sus costumbres, sus ritos, su lenguaje y su modo de vida gener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Sagradas Escrituras sólo distinguen dos tipos de sociedades: la ciudad de Dios y la ciudad terrena.</a:t>
            </a:r>
            <a:endParaRPr b="0" lang="en-US" sz="3200" spc="-1" strike="noStrike">
              <a:solidFill>
                <a:srgbClr val="000000"/>
              </a:solidFill>
              <a:latin typeface="Calibri"/>
            </a:endParaRPr>
          </a:p>
        </p:txBody>
      </p:sp>
      <p:sp>
        <p:nvSpPr>
          <p:cNvPr id="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CA82-B3CF-4436-BC19-6B52D75244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368" dur="500"/>
                                        <p:tgtEl>
                                          <p:spTgt spid="9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373" dur="500"/>
                                        <p:tgtEl>
                                          <p:spTgt spid="96">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37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9" name=""/>
          <p:cNvSpPr txBox="1"/>
          <p:nvPr/>
        </p:nvSpPr>
        <p:spPr>
          <a:xfrm>
            <a:off x="179280" y="1125360"/>
            <a:ext cx="8785440" cy="58327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es una ciudad separada, que exista al lado de otras ciudades, y fundada sobre una ley divi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y la ciudad terrenal se extienden más allá de los límites de las ciudades individuales, y ninguna de las dos es identificada con una ciudad en particula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istinción entre ellas, radica en la diferencia entre virtud y vicio, donde la auténtica virtud es la cristia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establece a una persona como miembro de estas dos ciudades, está definido por el fin que persigue y al cual subordina todas sus accion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F530-DF4A-4172-96BF-1EE4DF34BF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385" dur="500"/>
                                        <p:tgtEl>
                                          <p:spTgt spid="9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390" dur="500"/>
                                        <p:tgtEl>
                                          <p:spTgt spid="9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95" dur="500"/>
                                        <p:tgtEl>
                                          <p:spTgt spid="9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400"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 Agustín de Hipona</a:t>
            </a:r>
            <a:endParaRPr b="0" lang="en-US" sz="4400" spc="-1" strike="noStrike">
              <a:solidFill>
                <a:srgbClr val="000000"/>
              </a:solidFill>
              <a:latin typeface="Calibri"/>
            </a:endParaRPr>
          </a:p>
        </p:txBody>
      </p:sp>
      <p:sp>
        <p:nvSpPr>
          <p:cNvPr id="46" name="2 Marcador de contenido"/>
          <p:cNvSpPr/>
          <p:nvPr/>
        </p:nvSpPr>
        <p:spPr>
          <a:xfrm>
            <a:off x="609480" y="1557360"/>
            <a:ext cx="8229600" cy="35272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aturaleza de la sociedad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y eterna v/s ley tempora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re la Roma antigu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dos ciudad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B2B9-351F-4E7A-8865-B62E2BBCE6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repl">
                                        <p:cTn id="19"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repl">
                                        <p:cTn id="25"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46">
                                            <p:txEl>
                                              <p:pRg st="4" end="4"/>
                                            </p:txEl>
                                          </p:spTgt>
                                        </p:tgtEl>
                                        <p:attrNameLst>
                                          <p:attrName>style.visibility</p:attrName>
                                        </p:attrNameLst>
                                      </p:cBhvr>
                                      <p:to>
                                        <p:strVal val="visible"/>
                                      </p:to>
                                    </p:set>
                                    <p:anim calcmode="lin" valueType="num">
                                      <p:cBhvr additive="repl">
                                        <p:cTn id="3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anim calcmode="lin" valueType="num">
                                      <p:cBhvr additive="repl">
                                        <p:cTn id="37"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102"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es la comunidad de los seguidores de Cristo y los adoradores del verdadero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á formada enteramente por santos, y toda su vida puede ser descrita como una aceptación piadosa de la palabra de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ella, y sólo en ella, puede encontrase la verdadera justic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a veces es llamada la “ciudad celestial”.</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debe ser confundida con la ciudad ideal de Platón, dado que ésta última sólo existe en el pensamiento y en la palabr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3F96-F57C-4661-8E00-F3214DF599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407" dur="500"/>
                                        <p:tgtEl>
                                          <p:spTgt spid="10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412" dur="500"/>
                                        <p:tgtEl>
                                          <p:spTgt spid="10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17" dur="500"/>
                                        <p:tgtEl>
                                          <p:spTgt spid="10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22" dur="500"/>
                                        <p:tgtEl>
                                          <p:spTgt spid="102">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42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5"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 es guiada por el amor propio y vive de acuerdo con lo que las Escrituras llaman “carne” (placer, caer en vicios, buscar la sabiduría por el amor a uno mismo y no por el afán de verdad).</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l se caracteriza por su afectación de total independencia y autosuficiencia, y se presenta como la antítesis misma de la vida de obediencia y de reverente sumisión a Dio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menciona que no todo el que sea oficialmente miembro de la Iglesia pertenece a ella (abandona la virtud por el vicio), y muchas personas  que no profesan la fe cristiana son, sin saberlo, miembros de la misma ciudad santa (buscan la verdad y la virtud).</a:t>
            </a:r>
            <a:endParaRPr b="0" lang="en-US" sz="2800" spc="-1" strike="noStrike">
              <a:solidFill>
                <a:srgbClr val="000000"/>
              </a:solidFill>
              <a:latin typeface="Calibri"/>
            </a:endParaRPr>
          </a:p>
        </p:txBody>
      </p:sp>
      <p:sp>
        <p:nvSpPr>
          <p:cNvPr id="10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D7B2-92A1-4970-9D50-F6A2407BC72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34" dur="500"/>
                                        <p:tgtEl>
                                          <p:spTgt spid="105">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39" dur="500"/>
                                        <p:tgtEl>
                                          <p:spTgt spid="105">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44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8" name=""/>
          <p:cNvSpPr txBox="1"/>
          <p:nvPr/>
        </p:nvSpPr>
        <p:spPr>
          <a:xfrm>
            <a:off x="179280" y="1125000"/>
            <a:ext cx="8785440" cy="554364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ólo como miembro de la ciudad de Dios y por virtud de su relación con un orden que trasciende la esfera política, el hombre tiene alguna posibilidad de alcanzar las paz y la felicidad, a la cual aspiran todos, incluso los más pervers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de Dios no busca reemplazar a la sociedad civil, sino complementarla al ofrecer, por encima de los beneficios conferida por ella, los medios para alcanzar una sociedad que es superior a todo aquello a lo que pudiese conducir la sociedad civil.</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sigue siendo indispensable, dado que procura y administra los bienes temporales o materiales que los hombres necesitan en la tierra y que pueden ser utilizados para como instrumentos para promover el bien del alma.</a:t>
            </a:r>
            <a:endParaRPr b="0" lang="en-US" sz="28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9D16-6524-4372-B28A-85F4F75452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51" dur="500"/>
                                        <p:tgtEl>
                                          <p:spTgt spid="10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56" dur="500"/>
                                        <p:tgtEl>
                                          <p:spTgt spid="108">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6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11" name=""/>
          <p:cNvSpPr txBox="1"/>
          <p:nvPr/>
        </p:nvSpPr>
        <p:spPr>
          <a:xfrm>
            <a:off x="179280" y="1125000"/>
            <a:ext cx="8785440" cy="55436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ser ciudadano de la ciudad de Dios no deroga, sino que conserva y complementa la ciudadanía en una sociedad tempor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característico de la posición de San Agustín, es la doble ciudadanía por la cual el hombre puede ser miembro de la ciudad de Dios, sin dejar de ordenar su vida temporal dentro del marco de la sociedad civil y de acuerdo con sus normas.</a:t>
            </a:r>
            <a:endParaRPr b="0" lang="en-US" sz="3000" spc="-1" strike="noStrike">
              <a:solidFill>
                <a:srgbClr val="000000"/>
              </a:solidFill>
              <a:latin typeface="Calibri"/>
            </a:endParaRPr>
          </a:p>
        </p:txBody>
      </p:sp>
      <p:sp>
        <p:nvSpPr>
          <p:cNvPr id="11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F63A-51FF-44B9-AEAB-A4D94EC6CD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68" dur="500"/>
                                        <p:tgtEl>
                                          <p:spTgt spid="11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47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11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115" name="Picture 5" descr="escuela de gobierno y gestión pública"/>
          <p:cNvPicPr/>
          <p:nvPr/>
        </p:nvPicPr>
        <p:blipFill>
          <a:blip r:embed="rId1"/>
          <a:stretch/>
        </p:blipFill>
        <p:spPr>
          <a:xfrm>
            <a:off x="0" y="0"/>
            <a:ext cx="2371680" cy="933480"/>
          </a:xfrm>
          <a:prstGeom prst="rect">
            <a:avLst/>
          </a:prstGeom>
          <a:ln w="0">
            <a:noFill/>
          </a:ln>
        </p:spPr>
      </p:pic>
      <p:pic>
        <p:nvPicPr>
          <p:cNvPr id="116"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9000"/>
          </a:bodyPr>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ace en el pueblo de Tagaste, ubicado en el norte de África, en lo que hoy es Algeria. Este territorio formaba parte del Imperio romano ya desde el siglo I.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 padre pagano y madre cristiana, se vio expuesto desde temprana edad a ambas culturas, la pagana y la cristiana, que coexistían en la vida cotidiana del Imperi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gustín recibe, y se da a sí mismo, la educación más sofisticada disponible en la época, con el objeto de satisfacer su ambición original de convertirse en un maestro de retórica y en un intelectual de renombre; de hecho, estaba bien encaminado en esta dirección al momento de su conversión (387).</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Conoce las ideas principales de la filosofía griega a través de autores latinos como Cicerón y Plotin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razón por sí sola, puesta en ejecución en forma admirable por los filósofos neoplatónicos, es insuficiente para hallar la ver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 bautizado por San Ambrosio, y es ordenado sacerdote en el año 391. Cinco años más tarde, fue nombrado obispo de Hipona, actualmente Annaba en Algeria. Permaneció como tal durante los siguientes 35 años hasta su muerte en 430, a la edad de 76 años.</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vida de Agustín de Hipona (354-430) transcurre durante los comienzos de un período histórico comúnmente llamado “antigüedad tardía” (S. III y VI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te período en la historia de Europa, se caracteriza por la recepción y transformación de las ideas de la antigüedad clásica en el contexto de la creciente, aunque dificultosa, difusión y consolidación del cristianismo en Europa occid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E368-8529-49B4-8F2F-554D41E383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6 Imagen" descr="03b San Agustín.bmp"/>
          <p:cNvPicPr/>
          <p:nvPr/>
        </p:nvPicPr>
        <p:blipFill>
          <a:blip r:embed="rId1"/>
          <a:stretch/>
        </p:blipFill>
        <p:spPr>
          <a:xfrm>
            <a:off x="582480" y="836640"/>
            <a:ext cx="19735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hombre es por naturaleza un animal social, el único dotado de habla, por medio de cual se comunica y entabla diversas relaciones con otros homb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asociándose con sus congéneres y formando con ellos una comunidad política, puede alcanzar el hombre su perfec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virtud que caracteriza al ciudadano como tal y que ordena a todos los ciudadanos hacia el fin común de la ciudad.</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piedra angular de la sociedad civil. De ella dependen la unidad y la nobleza de toda sociedad human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s el bien común intrínseco de la sociedad y requisito de todos los demás beneficios que la sociedad procura. Sin “paz” ninguna sociedad subsiste.</a:t>
            </a:r>
            <a:endParaRPr b="0" lang="en-US" sz="2700" spc="-1" strike="noStrike">
              <a:solidFill>
                <a:srgbClr val="000000"/>
              </a:solidFill>
              <a:latin typeface="Calibri"/>
            </a:endParaRPr>
          </a:p>
        </p:txBody>
      </p:sp>
      <p:sp>
        <p:nvSpPr>
          <p:cNvPr id="5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A6B8-74EA-41FD-88FC-1AE9E27049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
                                            <p:txEl>
                                              <p:pRg st="3" end="3"/>
                                            </p:txEl>
                                          </p:spTgt>
                                        </p:tgtEl>
                                        <p:attrNameLst>
                                          <p:attrName>style.visibility</p:attrName>
                                        </p:attrNameLst>
                                      </p:cBhvr>
                                      <p:to>
                                        <p:strVal val="visible"/>
                                      </p:to>
                                    </p:set>
                                    <p:animEffect filter="wipe(down)" transition="in">
                                      <p:cBhvr additive="repl">
                                        <p:cTn id="60" dur="500"/>
                                        <p:tgtEl>
                                          <p:spTgt spid="54">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6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7"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a partir de Cicerón, define a la sociedad civil o la república como “una reunión (de hombres) asociada por un reconocimiento común del derecho (justicia) y por una comunidad de interes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es posible administrar una república sin justicia, pues ahí no hay derech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critica a los filósofos clásicos su concepto de justicia, dado que éste es inaplicable.</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sede de la justicia, por excelencia, es la ciudad, pero rara vez existe en ella.</a:t>
            </a:r>
            <a:endParaRPr b="0" lang="en-US" sz="3000" spc="-1" strike="noStrike">
              <a:solidFill>
                <a:srgbClr val="000000"/>
              </a:solidFill>
              <a:latin typeface="Calibri"/>
            </a:endParaRPr>
          </a:p>
        </p:txBody>
      </p:sp>
      <p:sp>
        <p:nvSpPr>
          <p:cNvPr id="5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AEAB-3FFC-4D32-903E-D0CFE961F8C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72" dur="500"/>
                                        <p:tgtEl>
                                          <p:spTgt spid="5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77" dur="500"/>
                                        <p:tgtEl>
                                          <p:spTgt spid="5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82" dur="500"/>
                                        <p:tgtEl>
                                          <p:spTgt spid="5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0"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intenta deducir las normas de la conducta humana partiendo de principios teóricos o premoral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orden moral está expresamente arraigado en un orden natural establecido por la razón especulativa (razón teórica, no práctic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en su más alto sentido, prescribe el recto ordenamiento de todas las cosas de acuerdo con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orden exige la universal y completa subordinación de lo inferior a lo superior (cuerpo gobernado por el alma, apetitos más bajos dominados por la razón, la razón gobernada por Dios).</a:t>
            </a:r>
            <a:endParaRPr b="0" lang="en-US" sz="2800" spc="-1" strike="noStrike">
              <a:solidFill>
                <a:srgbClr val="000000"/>
              </a:solidFill>
              <a:latin typeface="Calibri"/>
            </a:endParaRPr>
          </a:p>
        </p:txBody>
      </p:sp>
      <p:sp>
        <p:nvSpPr>
          <p:cNvPr id="6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59E4-AA0E-4470-AE23-A61A7D0172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94" dur="500"/>
                                        <p:tgtEl>
                                          <p:spTgt spid="6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99" dur="500"/>
                                        <p:tgtEl>
                                          <p:spTgt spid="60">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104" dur="500"/>
                                        <p:tgtEl>
                                          <p:spTgt spid="60">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10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3"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isma jerarquía es o debe ser observada en la en una sociedad y se le encuentra cuando unos súbditos virtuosos obedecen a gobernantes sabios, cuyos espíritus están cada vez más sujetos a la ley divi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anterior lleva a la armonía, en su estado de justicia origin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uede romper dicha armonía?</a:t>
            </a:r>
            <a:endParaRPr b="0" lang="en-US" sz="2800" spc="-1" strike="noStrike">
              <a:solidFill>
                <a:srgbClr val="000000"/>
              </a:solidFill>
              <a:latin typeface="Calibri"/>
            </a:endParaRPr>
          </a:p>
        </p:txBody>
      </p:sp>
      <p:sp>
        <p:nvSpPr>
          <p:cNvPr id="6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82E6-B8D3-494F-8630-165900A0BF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16" dur="500"/>
                                        <p:tgtEl>
                                          <p:spTgt spid="6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21" dur="500"/>
                                        <p:tgtEl>
                                          <p:spTgt spid="6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2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6"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 se puede romper. ¿Dónde se consigna ell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Sagradas Escrituras nos dicen que dicha armonía es rota por el pec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la lujuria del hombre y por su abrumador deseo de afirmar su dominio sobre sus semejantes, los hombres se han desenfren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lo es un estado de rebelión permanente que tiene su fuente inicial en Adán y transmitido a sus descendientes.</a:t>
            </a:r>
            <a:endParaRPr b="0" lang="en-US" sz="2800" spc="-1" strike="noStrike">
              <a:solidFill>
                <a:srgbClr val="000000"/>
              </a:solidFill>
              <a:latin typeface="Calibri"/>
            </a:endParaRPr>
          </a:p>
        </p:txBody>
      </p:sp>
      <p:sp>
        <p:nvSpPr>
          <p:cNvPr id="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F4D9-7E3F-416C-8DE8-0E372175CE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133" dur="5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138" dur="500"/>
                                        <p:tgtEl>
                                          <p:spTgt spid="66">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143" dur="500"/>
                                        <p:tgtEl>
                                          <p:spTgt spid="66">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14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9"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ibertad de la cual alguna vez disfrutó el hombre en busca del bien, ha cedido ante la opresión y la coa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acción es evidente en las instituciones más típicas de la sociedad civil (república), como la propiedad privada, la esclavitud y el gobierno mismo. Todo ello es impuesto y explicado por la actual incapacidad del hombre para vivir de acuerdo con los dictados de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ada de ello fue parte del plan original de la crea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2784-85F8-49D9-889E-6249193C87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55" dur="500"/>
                                        <p:tgtEl>
                                          <p:spTgt spid="69">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60" dur="500"/>
                                        <p:tgtEl>
                                          <p:spTgt spid="69">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6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9T22:30:28Z</dcterms:modified>
  <cp:revision>160</cp:revision>
  <dc:subject/>
  <dc:title>HISTORIA DEL PENSAMIENTO POLÍTICO</dc:title>
</cp:coreProperties>
</file>