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474EF-E386-4BFC-8EA6-924698CEF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7C31D-48BA-41C6-BCB0-93996019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1F094-541F-4919-B477-7CA69C63E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26222-EFC5-47F1-BDAF-C7F43F9BD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4E81B-8371-431C-B908-1AF90A85F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8609F-DE0A-486B-82C1-86CC6DFA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CBFC6-C423-4A30-8DCF-7959E51A4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3D4E5-9FC0-4B13-9ED9-195AEBF4B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5D9B-AAB5-4848-9350-2BE7A9012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F858-7765-4A82-B2E1-F510EBBA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E16A-B0FC-4699-B7E5-DCD802743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0E276-DA7F-48B9-BC38-FD42F35D6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1F85-5CC8-4DFD-ACF9-C9CB335FAE1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Calibri"/>
              </a:rPr>
              <a:t>HISTORIA DEL PENSAMIENTO POLÍTICO</a:t>
            </a:r>
            <a:r>
              <a:rPr b="1" lang="es-CL" sz="4000" spc="-1" strike="noStrike">
                <a:solidFill>
                  <a:srgbClr val="000000"/>
                </a:solidFill>
                <a:latin typeface="Calibri"/>
              </a:rPr>
              <a:t>: </a:t>
            </a:r>
            <a:br>
              <a:rPr sz="4000"/>
            </a:br>
            <a:r>
              <a:rPr b="1" lang="es-CL" sz="2900" spc="-1" strike="noStrike">
                <a:solidFill>
                  <a:srgbClr val="000000"/>
                </a:solidFill>
                <a:latin typeface="Calibri"/>
              </a:rPr>
              <a:t>Pierre Bourdieu</a:t>
            </a:r>
            <a:br>
              <a:rPr sz="2900"/>
            </a:br>
            <a:r>
              <a:rPr b="1" lang="es-CL" sz="2900" spc="-1" strike="noStrike">
                <a:solidFill>
                  <a:srgbClr val="000000"/>
                </a:solidFill>
                <a:latin typeface="Calibri"/>
              </a:rPr>
              <a:t>1930-2002</a:t>
            </a:r>
            <a:br>
              <a:rPr sz="2900"/>
            </a:br>
            <a:br>
              <a:rPr sz="2900"/>
            </a:br>
            <a:br>
              <a:rPr sz="3600"/>
            </a:br>
            <a:endParaRPr b="0" lang="en-US" sz="29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Ayudante: Natalia Vargas P.</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2 – 09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28 Imagen" descr="22 Bourdieu.bmp"/>
          <p:cNvPicPr/>
          <p:nvPr/>
        </p:nvPicPr>
        <p:blipFill>
          <a:blip r:embed="rId2"/>
          <a:stretch/>
        </p:blipFill>
        <p:spPr>
          <a:xfrm>
            <a:off x="7072200" y="357120"/>
            <a:ext cx="1764000" cy="19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abitus</a:t>
            </a:r>
            <a:endParaRPr b="0" lang="en-US" sz="4400" spc="-1" strike="noStrike">
              <a:solidFill>
                <a:srgbClr val="000000"/>
              </a:solidFill>
              <a:latin typeface="Calibri"/>
            </a:endParaRPr>
          </a:p>
        </p:txBody>
      </p:sp>
      <p:sp>
        <p:nvSpPr>
          <p:cNvPr id="69" name=""/>
          <p:cNvSpPr txBox="1"/>
          <p:nvPr/>
        </p:nvSpPr>
        <p:spPr>
          <a:xfrm>
            <a:off x="468360" y="1628640"/>
            <a:ext cx="8229600" cy="475776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ntenta dar cuenta de las coerciones macro-estructurales que regulan el individuo así como las dimensiones de invención y acción individual intrínsecas a toda práctic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idea del Habitus es que el sujeto de análisis no es cosas, o personas, sino las relaciones de los sujeto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De esta manera, es el Habitus (como capital cultural heredado) lo que determina las relaciones del individuo y su poder dentro de la soc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 3" descr=""/>
          <p:cNvPicPr/>
          <p:nvPr/>
        </p:nvPicPr>
        <p:blipFill>
          <a:blip r:embed="rId1"/>
          <a:stretch/>
        </p:blipFill>
        <p:spPr>
          <a:xfrm>
            <a:off x="-6480" y="-30240"/>
            <a:ext cx="9156960" cy="6954840"/>
          </a:xfrm>
          <a:prstGeom prst="rect">
            <a:avLst/>
          </a:prstGeom>
          <a:ln w="0">
            <a:noFill/>
          </a:ln>
        </p:spPr>
      </p:pic>
      <p:sp>
        <p:nvSpPr>
          <p:cNvPr id="71" name="TextBox 4"/>
          <p:cNvSpPr/>
          <p:nvPr/>
        </p:nvSpPr>
        <p:spPr>
          <a:xfrm>
            <a:off x="3643200" y="4826160"/>
            <a:ext cx="5500800" cy="20142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ay tres aspectos importantes dentro de la relación Sociedad Educación:</a:t>
            </a:r>
            <a:endParaRPr b="0" lang="en-US" sz="1800" spc="-1" strike="noStrike">
              <a:solidFill>
                <a:srgbClr val="000000"/>
              </a:solidFill>
              <a:latin typeface="Calibri"/>
            </a:endParaRPr>
          </a:p>
          <a:p>
            <a:pPr algn="jus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papel de la educación en la Reproducción cultural (Gramsci).</a:t>
            </a:r>
            <a:endParaRPr b="0" lang="en-US" sz="1800" spc="-1" strike="noStrike">
              <a:solidFill>
                <a:srgbClr val="000000"/>
              </a:solidFill>
              <a:latin typeface="Calibri"/>
            </a:endParaRPr>
          </a:p>
          <a:p>
            <a:pPr algn="jus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Función ideológica de la educación.</a:t>
            </a:r>
            <a:endParaRPr b="0" lang="en-US" sz="1800" spc="-1" strike="noStrike">
              <a:solidFill>
                <a:srgbClr val="000000"/>
              </a:solidFill>
              <a:latin typeface="Calibri"/>
            </a:endParaRPr>
          </a:p>
          <a:p>
            <a:pPr algn="jus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laciones externas de la educación o la dialéctica de su dependencia e indepen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Reproducción cultural</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lección a través de la autoselección:</a:t>
            </a:r>
            <a:endParaRPr b="0" lang="en-US" sz="32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laciones circulares que unen estructuras y prácticas; </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hances objetivas y esperanzas subjetivas</a:t>
            </a: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nálisis de pautas de desigualdades se centra, no en procesos que operan “antes” de la escuela, sino “dentro” de ella.</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ceso escolar de Re-educación o a-culturació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acuerdo a la teoría, la escuela asume como iguales individuos que no son culturalmente iguales y al hacerlo reproduce y legitima la distinción entre aquellos que poseen incorporado (en el cuerpo) un capital cultural de competencias lingüísticas y de relación con la cultura que es similar al transmitido por la educación a aquellos cuyo capital cultural heredado obedece a otros principios (domin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Función Ideológica</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efectos ideológicos fundamentales de la institución escolar no están relacionados con las ideologías que directamente producen o inculcan, sino más bien con el ocultamiento práctico de las vinculaciones existentes entre las calificaciones que otorga y el capital cultural heredado de los alumn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meritocracia, entonces, confiere a los privilegiados (con capital cultural) el privilegio supremo de no verse a sí mismos como privilegiados, logra más fácilmente convencer a los desheredados de que deben su destino escolar y social, a su falta de talento o méritos, porque en materias de cultura la desposesión absoluta excluye la conciencia de ser desposeí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Relaciones externas</a:t>
            </a:r>
            <a:endParaRPr b="0" lang="en-US" sz="4400" spc="-1" strike="noStrike">
              <a:solidFill>
                <a:srgbClr val="000000"/>
              </a:solidFill>
              <a:latin typeface="Calibri"/>
            </a:endParaRPr>
          </a:p>
        </p:txBody>
      </p:sp>
      <p:pic>
        <p:nvPicPr>
          <p:cNvPr id="81" name="Content Placeholder 3" descr=""/>
          <p:cNvPicPr/>
          <p:nvPr/>
        </p:nvPicPr>
        <p:blipFill>
          <a:blip r:embed="rId1"/>
          <a:stretch/>
        </p:blipFill>
        <p:spPr>
          <a:xfrm>
            <a:off x="-79200" y="1311120"/>
            <a:ext cx="9283680" cy="563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istema educacional tiene la capacidad, históricamente variable, de contraponer a las demandas del Estado, el mercado de trabajo o un grupo de clase en particular, principio ligado a su función esencial de inculcación que re-traducirán y re-interpretarán las presiones externas, logrando en un mismo movimiento proteger sus límites externos y salvar la imagen de neutralidad o universalidad de sus mensajes, jerarquías y procedimien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scuela provee bases limitadas de movilidad social, la idea principal que establece Bourdieu es que es la escuela, como mecanismo de dominación, lo que establece la sumisión de los oprimidos a través de la Meritocrac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estudiar historia para Juan Soto que para el nieto de Mont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3"/>
          <p:cNvSpPr/>
          <p:nvPr/>
        </p:nvSpPr>
        <p:spPr>
          <a:xfrm>
            <a:off x="1571760" y="1357200"/>
            <a:ext cx="700092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Pensar el Estado es exponerse a retomar en su provecho un pensamiento de Estado, a aplicar al Estado categorías de pensamiento producidas y garantizadas por el Estado, a desconocer, por consiguiente, la verdad más fundamental del Estado (…) uno de los poderes mayores del Estado, el de producir y de imponer (principalmente por medio de la escuela) las categorías de pensamiento que aplicamos espontáneamente a cualquier cosa del mundo y al Estado mism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7" name=""/>
          <p:cNvSpPr txBox="1"/>
          <p:nvPr/>
        </p:nvSpPr>
        <p:spPr>
          <a:xfrm>
            <a:off x="457200" y="1600200"/>
            <a:ext cx="8229600" cy="504360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Nacido en 1930 en Denguin (Pirineos Atlánticos), Francia.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Estudió en el Liceo de Pau (1941-1947), en la École Normale Superieure (1951-1954) y filosofía en La Sorbona (1951-1954), donde leyó su tesis </a:t>
            </a:r>
            <a:r>
              <a:rPr b="0" i="1" lang="es-CL" sz="2500" spc="-1" strike="noStrike">
                <a:solidFill>
                  <a:srgbClr val="000000"/>
                </a:solidFill>
                <a:latin typeface="Calibri"/>
              </a:rPr>
              <a:t>Structures temporelles de la vie affective</a:t>
            </a:r>
            <a:r>
              <a:rPr b="0" lang="es-CL" sz="2500" spc="-1" strike="noStrike">
                <a:solidFill>
                  <a:srgbClr val="000000"/>
                </a:solidFill>
                <a:latin typeface="Calibri"/>
              </a:rPr>
              <a:t>. A los 25 años ejerce como profesor en el Instituto de Moulins (Allier) y, más tarde, en Argelia, París y Lille. Profesor en la École Normale Superiure (1964-1984).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Entre 1964 y 1980 es director de la L’École Pratique de Hauts Études y catedrático de Sociología en el College de France desde 1981. Director del Centro de Sociología Europea, en sustitución de Raymond Aron, con quien trabajó previamente, y de la Escuela Superior de Ciencias Sociales (1985-2002).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9" name=""/>
          <p:cNvSpPr txBox="1"/>
          <p:nvPr/>
        </p:nvSpPr>
        <p:spPr>
          <a:xfrm>
            <a:off x="457200" y="1600200"/>
            <a:ext cx="8229600" cy="50436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roducción es muy extensa. Así, en 1973 aparece </a:t>
            </a:r>
            <a:r>
              <a:rPr b="0" i="1" lang="es-CL" sz="2000" spc="-1" strike="noStrike">
                <a:solidFill>
                  <a:srgbClr val="000000"/>
                </a:solidFill>
                <a:latin typeface="Calibri"/>
              </a:rPr>
              <a:t>Fondements d’une théorie de la violence symbolique</a:t>
            </a:r>
            <a:r>
              <a:rPr b="0" lang="es-CL" sz="2000" spc="-1" strike="noStrike">
                <a:solidFill>
                  <a:srgbClr val="000000"/>
                </a:solidFill>
                <a:latin typeface="Calibri"/>
              </a:rPr>
              <a:t>. </a:t>
            </a:r>
            <a:r>
              <a:rPr b="0" i="1" lang="es-CL" sz="2000" spc="-1" strike="noStrike">
                <a:solidFill>
                  <a:srgbClr val="000000"/>
                </a:solidFill>
                <a:latin typeface="Calibri"/>
              </a:rPr>
              <a:t>Reproduction culturelle et reproduction sociale</a:t>
            </a:r>
            <a:r>
              <a:rPr b="0" lang="es-CL" sz="2000" spc="-1" strike="noStrike">
                <a:solidFill>
                  <a:srgbClr val="000000"/>
                </a:solidFill>
                <a:latin typeface="Calibri"/>
              </a:rPr>
              <a:t>, escrita con Jean-Claude Passeron</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lcanza su mayor éxito con </a:t>
            </a:r>
            <a:r>
              <a:rPr b="0" i="1" lang="es-CL" sz="2000" spc="-1" strike="noStrike">
                <a:solidFill>
                  <a:srgbClr val="000000"/>
                </a:solidFill>
                <a:latin typeface="Calibri"/>
              </a:rPr>
              <a:t>La misére du monde</a:t>
            </a:r>
            <a:r>
              <a:rPr b="0" lang="es-CL" sz="2000" spc="-1" strike="noStrike">
                <a:solidFill>
                  <a:srgbClr val="000000"/>
                </a:solidFill>
                <a:latin typeface="Calibri"/>
              </a:rPr>
              <a:t> (1993), donde denuncia el sufrimiento social, que bebe en las fuentes marxistas y en el pensamiento de Michel Foucault, y traza, en una combinación de sociología y antropología social, la radiografía de la exclusión social, de los desheredados de la modernización, del progreso tecnológico y de la globalización.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discurso de Bourdieu, que ya se había manifestado con matices críticos antes de mayo del 68, se acentúa en los últimos años de su vida con nuevas argumentaciones contra el neo-liberalismo y en favor de la sociedad civil y del naciente foro social mundial, participando cerca de los sindicatos, de las organizaciones no gubernamentales, de los emigrantes y de las asociaciones cívicas contra las posiciones neoliberales que nutrían el discurso de la sociedad llamada postmoderna.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alleció, como consecuencia de un cáncer, en 2002. Según el diario parisino </a:t>
            </a:r>
            <a:r>
              <a:rPr b="0" i="1" lang="es-CL" sz="2000" spc="-1" strike="noStrike">
                <a:solidFill>
                  <a:srgbClr val="000000"/>
                </a:solidFill>
                <a:latin typeface="Calibri"/>
              </a:rPr>
              <a:t>Le Monde</a:t>
            </a:r>
            <a:r>
              <a:rPr b="0" lang="es-CL" sz="2000" spc="-1" strike="noStrike">
                <a:solidFill>
                  <a:srgbClr val="000000"/>
                </a:solidFill>
                <a:latin typeface="Calibri"/>
              </a:rPr>
              <a:t>, era el intelectual francés más citado en la prensa mundi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Antecedentes: Foucault</a:t>
            </a:r>
            <a:endParaRPr b="0" lang="en-US" sz="4400" spc="-1" strike="noStrike">
              <a:solidFill>
                <a:srgbClr val="000000"/>
              </a:solidFill>
              <a:latin typeface="Calibri"/>
            </a:endParaRPr>
          </a:p>
        </p:txBody>
      </p:sp>
      <p:pic>
        <p:nvPicPr>
          <p:cNvPr id="51" name="Content Placeholder 3" descr=""/>
          <p:cNvPicPr/>
          <p:nvPr/>
        </p:nvPicPr>
        <p:blipFill>
          <a:blip r:embed="rId1"/>
          <a:stretch/>
        </p:blipFill>
        <p:spPr>
          <a:xfrm>
            <a:off x="603360" y="1719360"/>
            <a:ext cx="8242200" cy="4632120"/>
          </a:xfrm>
          <a:prstGeom prst="rect">
            <a:avLst/>
          </a:prstGeom>
          <a:ln w="0">
            <a:noFill/>
          </a:ln>
        </p:spPr>
      </p:pic>
      <p:grpSp>
        <p:nvGrpSpPr>
          <p:cNvPr id="52" name="TextBox 4"/>
          <p:cNvGrpSpPr/>
          <p:nvPr/>
        </p:nvGrpSpPr>
        <p:grpSpPr>
          <a:xfrm>
            <a:off x="249120" y="1438200"/>
            <a:ext cx="3206880" cy="2444760"/>
            <a:chOff x="249120" y="1438200"/>
            <a:chExt cx="3206880" cy="2444760"/>
          </a:xfrm>
        </p:grpSpPr>
        <p:pic>
          <p:nvPicPr>
            <p:cNvPr id="53" name="TextBox 4" descr=""/>
            <p:cNvPicPr/>
            <p:nvPr/>
          </p:nvPicPr>
          <p:blipFill>
            <a:blip r:embed="rId2"/>
            <a:stretch/>
          </p:blipFill>
          <p:spPr>
            <a:xfrm>
              <a:off x="249120" y="1438200"/>
              <a:ext cx="3206880" cy="2444760"/>
            </a:xfrm>
            <a:prstGeom prst="rect">
              <a:avLst/>
            </a:prstGeom>
            <a:ln w="0">
              <a:noFill/>
            </a:ln>
          </p:spPr>
        </p:pic>
        <p:sp>
          <p:nvSpPr>
            <p:cNvPr id="54" name=""/>
            <p:cNvSpPr/>
            <p:nvPr/>
          </p:nvSpPr>
          <p:spPr>
            <a:xfrm>
              <a:off x="357120" y="1500120"/>
              <a:ext cx="3000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in embargo, no es posible conocer a cabalidad qué es lo que e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or lo que “El Saber” es el acuerdo de poder entre un grupo que acuerda qué es “El Saber”</a:t>
              </a:r>
              <a:endParaRPr b="0" lang="en-US" sz="1800" spc="-1" strike="noStrike">
                <a:solidFill>
                  <a:srgbClr val="000000"/>
                </a:solidFill>
                <a:latin typeface="Calibri"/>
              </a:endParaRPr>
            </a:p>
          </p:txBody>
        </p:sp>
      </p:grpSp>
      <p:sp>
        <p:nvSpPr>
          <p:cNvPr id="55" name="TextBox 5"/>
          <p:cNvSpPr/>
          <p:nvPr/>
        </p:nvSpPr>
        <p:spPr>
          <a:xfrm>
            <a:off x="6929280" y="3643200"/>
            <a:ext cx="22147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Bajo estos términos, el Saber es Poder, porque entrega Derechos legítimos a quienes conforman el Saber. Es una relación de dominación semántica lograda a través de la histor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oción de poder definir qué es Saber (dentro de las Relaciones Humanas) hace que la gente DECIDA qué es saber, hace que decida sobre cosas importantes para la Humanidad y por lo tanto le entrega la capacidad para definir lo aceptado dentro de la socie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Bourdieu</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tema no es las cosas y la determinación de las cosas (o sujetos) sino la delimitación que se entrega a los sujetos mediante la educación, el lenguaje, la cultura.</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excluidos, como modelo de sociedad, son producto de las relaciones de poder definidas a través de los procesos históricos, familiares, que llegan a un individuo como cultura oficial del Es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istema Simbólico: autonomía relativa de los individuos</a:t>
            </a:r>
            <a:endParaRPr b="0" lang="en-US" sz="4000" spc="-1" strike="noStrike">
              <a:solidFill>
                <a:srgbClr val="000000"/>
              </a:solidFill>
              <a:latin typeface="Calibri"/>
            </a:endParaRPr>
          </a:p>
        </p:txBody>
      </p:sp>
      <p:pic>
        <p:nvPicPr>
          <p:cNvPr id="61" name="Content Placeholder 3" descr=""/>
          <p:cNvPicPr/>
          <p:nvPr/>
        </p:nvPicPr>
        <p:blipFill>
          <a:blip r:embed="rId1"/>
          <a:stretch/>
        </p:blipFill>
        <p:spPr>
          <a:xfrm>
            <a:off x="396720" y="1596960"/>
            <a:ext cx="8345520" cy="4535640"/>
          </a:xfrm>
          <a:prstGeom prst="rect">
            <a:avLst/>
          </a:prstGeom>
          <a:ln w="0">
            <a:noFill/>
          </a:ln>
        </p:spPr>
      </p:pic>
      <p:grpSp>
        <p:nvGrpSpPr>
          <p:cNvPr id="62" name="TextBox 4"/>
          <p:cNvGrpSpPr/>
          <p:nvPr/>
        </p:nvGrpSpPr>
        <p:grpSpPr>
          <a:xfrm>
            <a:off x="3621240" y="3346560"/>
            <a:ext cx="1888920" cy="987480"/>
            <a:chOff x="3621240" y="3346560"/>
            <a:chExt cx="1888920" cy="987480"/>
          </a:xfrm>
        </p:grpSpPr>
        <p:pic>
          <p:nvPicPr>
            <p:cNvPr id="63" name="TextBox 4" descr=""/>
            <p:cNvPicPr/>
            <p:nvPr/>
          </p:nvPicPr>
          <p:blipFill>
            <a:blip r:embed="rId2"/>
            <a:stretch/>
          </p:blipFill>
          <p:spPr>
            <a:xfrm>
              <a:off x="3621240" y="3346560"/>
              <a:ext cx="1888920" cy="987480"/>
            </a:xfrm>
            <a:prstGeom prst="rect">
              <a:avLst/>
            </a:prstGeom>
            <a:ln w="0">
              <a:noFill/>
            </a:ln>
          </p:spPr>
        </p:pic>
        <p:sp>
          <p:nvSpPr>
            <p:cNvPr id="64" name=""/>
            <p:cNvSpPr/>
            <p:nvPr/>
          </p:nvSpPr>
          <p:spPr>
            <a:xfrm>
              <a:off x="3714840" y="3429000"/>
              <a:ext cx="171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Cultura Dominante</a:t>
              </a:r>
              <a:endParaRPr b="0" lang="en-US" sz="2400" spc="-1" strike="noStrike">
                <a:solidFill>
                  <a:srgbClr val="000000"/>
                </a:solidFill>
                <a:latin typeface="Calibri"/>
              </a:endParaRPr>
            </a:p>
          </p:txBody>
        </p:sp>
      </p:grpSp>
      <p:sp>
        <p:nvSpPr>
          <p:cNvPr id="65" name="TextBox 5"/>
          <p:cNvSpPr/>
          <p:nvPr/>
        </p:nvSpPr>
        <p:spPr>
          <a:xfrm>
            <a:off x="1571760" y="6027840"/>
            <a:ext cx="6286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tonomía relativa entre las relaciones simbólicas con respecto a las relaciones de po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base de la teoría comunicacional de la educación de Bourdieu es que el Estado, a través del colegio, integra los sistemas simbólicos como instrumento de dominación (desde una perspectiva Marxista) al mismo tiempo que integra la idea de Durkheim que ve el lenguaje como sistema de integra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01:59:20Z</dcterms:created>
  <dc:creator>Natalia</dc:creator>
  <dc:description/>
  <dc:language>en-US</dc:language>
  <cp:lastModifiedBy>Claudio Fuentes González</cp:lastModifiedBy>
  <dcterms:modified xsi:type="dcterms:W3CDTF">2010-12-13T20:06:08Z</dcterms:modified>
  <cp:revision>14</cp:revision>
  <dc:subject/>
  <dc:title>HISTORIA DEL PENSAMIENTO POLÍTICO:  Pierre Bourdieu 1930-2002</dc:title>
</cp:coreProperties>
</file>