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9B839-6E78-48EA-B8B4-C17C2390C9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CF0EF-8612-4DDE-A78A-B61E56F3D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A5A0F-7B00-41D3-B1CC-349F9777F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408F8-F7B3-4251-A4B8-AD0AAE7D1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724C3-22E3-4C93-AA0A-E4088B315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C0891-8753-4CC5-945B-9C8861213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D543E-B539-4B61-BFE5-92918EE0A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DAF0F-652A-4197-A732-151D022A6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8C4E9-554B-488D-A483-9781DD1D7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DB39D-D343-4D79-9912-A62120CCB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F36A4-55E3-489B-9872-58C139F6D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AB53B-BAE3-4EBC-B40A-0A4C298F3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EAAB5-DB88-41D5-9D84-32135258A871}" type="datetime">
              <a:rPr b="0" lang="es-C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1BB2-DA70-4E81-A553-C7D92B86379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0320" y="28224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200" spc="-1" strike="noStrike">
                <a:solidFill>
                  <a:srgbClr val="000000"/>
                </a:solidFill>
                <a:latin typeface="Calibri"/>
              </a:rPr>
              <a:t>John Rawls</a:t>
            </a:r>
            <a:br>
              <a:rPr sz="3200"/>
            </a:br>
            <a:r>
              <a:rPr b="1" lang="es-CL" sz="3200" spc="-1" strike="noStrike">
                <a:solidFill>
                  <a:srgbClr val="000000"/>
                </a:solidFill>
                <a:latin typeface="Calibri"/>
              </a:rPr>
              <a:t>[</a:t>
            </a:r>
            <a:r>
              <a:rPr b="1" lang="es-CL" sz="2800" spc="-1" strike="noStrike">
                <a:solidFill>
                  <a:srgbClr val="000000"/>
                </a:solidFill>
                <a:latin typeface="Calibri"/>
              </a:rPr>
              <a:t>1921 - 2002</a:t>
            </a:r>
            <a:r>
              <a:rPr b="1" lang="es-CL" sz="3200" spc="-1" strike="noStrike">
                <a:solidFill>
                  <a:srgbClr val="000000"/>
                </a:solidFill>
                <a:latin typeface="Calibri"/>
              </a:rPr>
              <a:t>] </a:t>
            </a:r>
            <a:br>
              <a:rPr sz="3200"/>
            </a:br>
            <a:br>
              <a:rPr sz="4000"/>
            </a:br>
            <a:endParaRPr b="0" lang="en-US" sz="3200" spc="-1" strike="noStrike">
              <a:solidFill>
                <a:srgbClr val="000000"/>
              </a:solidFill>
              <a:latin typeface="Calibri"/>
            </a:endParaRPr>
          </a:p>
        </p:txBody>
      </p:sp>
      <p:sp>
        <p:nvSpPr>
          <p:cNvPr id="42"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21 – 06 de diciembre de 2010</a:t>
            </a:r>
            <a:endParaRPr b="0" lang="en-US" sz="2000" spc="-1" strike="noStrike">
              <a:solidFill>
                <a:srgbClr val="000000"/>
              </a:solidFill>
              <a:latin typeface="Calibri"/>
            </a:endParaRPr>
          </a:p>
        </p:txBody>
      </p:sp>
      <p:pic>
        <p:nvPicPr>
          <p:cNvPr id="43" name="Picture 5" descr="escuela de gobierno y gestión pública"/>
          <p:cNvPicPr/>
          <p:nvPr/>
        </p:nvPicPr>
        <p:blipFill>
          <a:blip r:embed="rId1"/>
          <a:stretch/>
        </p:blipFill>
        <p:spPr>
          <a:xfrm>
            <a:off x="0" y="0"/>
            <a:ext cx="2371680" cy="933480"/>
          </a:xfrm>
          <a:prstGeom prst="rect">
            <a:avLst/>
          </a:prstGeom>
          <a:ln w="0">
            <a:noFill/>
          </a:ln>
        </p:spPr>
      </p:pic>
      <p:pic>
        <p:nvPicPr>
          <p:cNvPr id="44" name="5 Imagen" descr="20 John Rawls.bmp"/>
          <p:cNvPicPr/>
          <p:nvPr/>
        </p:nvPicPr>
        <p:blipFill>
          <a:blip r:embed="rId2"/>
          <a:stretch/>
        </p:blipFill>
        <p:spPr>
          <a:xfrm>
            <a:off x="6804000" y="189000"/>
            <a:ext cx="2114640" cy="2162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lanteamiento de dos preguntas fundamentales</a:t>
            </a:r>
            <a:endParaRPr b="0" lang="en-US" sz="3200" spc="-1" strike="noStrike">
              <a:solidFill>
                <a:srgbClr val="000000"/>
              </a:solidFill>
              <a:latin typeface="Calibri"/>
            </a:endParaRPr>
          </a:p>
        </p:txBody>
      </p:sp>
      <p:sp>
        <p:nvSpPr>
          <p:cNvPr id="70" name="2 Marcador de contenido"/>
          <p:cNvSpPr/>
          <p:nvPr/>
        </p:nvSpPr>
        <p:spPr>
          <a:xfrm>
            <a:off x="250920" y="620640"/>
            <a:ext cx="8569080" cy="5977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sí pues, el liberalismo político apunta hacia una concepción política de la justicia como punto de vista libremente aceptado. </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 preconiza ninguna doctrina específica.</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mo explicación de los valores políticos, una concepción política libremente aceptada no niega que existan otros valores que se apliquen, por ejemplo, al ámbito personal, familiar o al de las asociaciones; ni tampoco afirma que los valores políticos estén separados de otros valores, o que entre ambos no exista continuidad alguna. </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o de sus objetivos es delimitar el dominio político y especificar su concepción de la justicia de tal manera que sus instituciones puedan obtener el apoyo de un consenso traslapado. </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ciudadanos mismos, en el ejercicio de su libertad de pensamiento y de conciencia, y tomando en cuenta sus doctrinas comprensivas, perciben la concepción política como algo que procede de sus demás valores, o que es congruente con ellos, o, por lo menos, como una concepción que no está en conflicto con tales valores.</a:t>
            </a:r>
            <a:endParaRPr b="0" lang="en-US" sz="2000" spc="-1" strike="noStrike">
              <a:solidFill>
                <a:srgbClr val="000000"/>
              </a:solidFill>
              <a:latin typeface="Arial"/>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234DD-7755-4F26-A74C-EF458383190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concepción política de la justicia</a:t>
            </a:r>
            <a:endParaRPr b="0" lang="en-US" sz="3200" spc="-1" strike="noStrike">
              <a:solidFill>
                <a:srgbClr val="000000"/>
              </a:solidFill>
              <a:latin typeface="Calibri"/>
            </a:endParaRPr>
          </a:p>
        </p:txBody>
      </p:sp>
      <p:sp>
        <p:nvSpPr>
          <p:cNvPr id="73" name="2 Marcador de contenido"/>
          <p:cNvSpPr/>
          <p:nvPr/>
        </p:nvSpPr>
        <p:spPr>
          <a:xfrm>
            <a:off x="250920" y="692280"/>
            <a:ext cx="8569080" cy="597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na concepción política de la justicia tiene tres elementos característicos, los cuales se ejemplifican en la justicia como imparcialidad:</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alibri"/>
              </a:rPr>
              <a:t>El sujeto de una concepción política</a:t>
            </a:r>
            <a:r>
              <a:rPr b="0" lang="es-CL" sz="2200" spc="-1" strike="noStrike">
                <a:solidFill>
                  <a:srgbClr val="000000"/>
                </a:solidFill>
                <a:latin typeface="Calibri"/>
              </a:rPr>
              <a:t>:</a:t>
            </a:r>
            <a:endParaRPr b="0" lang="en-US" sz="22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Se aplica, en particular, a "la estructura básica" de la sociedad.</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Estructura básica: </a:t>
            </a:r>
            <a:r>
              <a:rPr b="0" lang="es-CL" sz="2000" spc="-1" strike="noStrike">
                <a:solidFill>
                  <a:srgbClr val="000000"/>
                </a:solidFill>
                <a:latin typeface="Calibri"/>
                <a:ea typeface="Arial"/>
              </a:rPr>
              <a:t>las principales instituciones políticas, sociales y económicas de una sociedad, y cómo encajan estas instituciones en un sistema unificado de cooperación social, de una generación a la siguiente.</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El foco de atención inicial de una concepción política de la justicia es el marco de las instituciones básicas y los principios, las normas y los preceptos que se aplican a ese marco, así como la forma en que han de expresarse esas normas en el carácter y en las posturas de los miembros de la sociedad que lleva a la práctica los idéales de dicha concepción.</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La estructura básica es la de una sociedad cerrada; es decir, contenida en sí misma y sin tener relaciones con otras sociedade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F26C3-C5E5-4074-A004-97135279BD2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concepción política de la justicia</a:t>
            </a:r>
            <a:endParaRPr b="0" lang="en-US" sz="3200" spc="-1" strike="noStrike">
              <a:solidFill>
                <a:srgbClr val="000000"/>
              </a:solidFill>
              <a:latin typeface="Calibri"/>
            </a:endParaRPr>
          </a:p>
        </p:txBody>
      </p:sp>
      <p:sp>
        <p:nvSpPr>
          <p:cNvPr id="76" name="2 Marcador de contenido"/>
          <p:cNvSpPr/>
          <p:nvPr/>
        </p:nvSpPr>
        <p:spPr>
          <a:xfrm>
            <a:off x="179280" y="692280"/>
            <a:ext cx="8785440" cy="597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do de presentación: una concepción política de la justicia se presenta como un punto de vista libremente aceptado.</a:t>
            </a:r>
            <a:endParaRPr b="0" lang="en-US" sz="2400" spc="-1" strike="noStrike">
              <a:solidFill>
                <a:srgbClr val="000000"/>
              </a:solidFill>
              <a:latin typeface="Arial"/>
            </a:endParaRPr>
          </a:p>
          <a:p>
            <a:pPr marL="514440" indent="-514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contenido se expresa en términos de ciertas ideas fundamentales que se consideran implícitas en la cultura política pública de una sociedad democrática:</a:t>
            </a:r>
            <a:endParaRPr b="0" lang="en-US" sz="24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Constituye la cultura de la vida diaria.</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Esta cultura pública comprende las instituciones políticas de un régimen constitucional y las tradiciones públicas de su interpretación (entre ellas, las del poder judicial), así como textos históricos y documentos de conocimiento común.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Las principales instituciones de la sociedad, y las formas en que generalmente se les interpreta, son vistas como un fondo de ideas y principios implícitamente compartidos.</a:t>
            </a:r>
            <a:endParaRPr b="0" lang="en-US" sz="2000" spc="-1" strike="noStrike">
              <a:solidFill>
                <a:srgbClr val="000000"/>
              </a:solidFill>
              <a:latin typeface="Arial"/>
            </a:endParaRPr>
          </a:p>
          <a:p>
            <a:pPr marL="514440" indent="-514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D36A-AB19-485B-85BC-2CCB9ED124C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concepción política de la justicia</a:t>
            </a:r>
            <a:endParaRPr b="0" lang="en-US" sz="3200" spc="-1" strike="noStrike">
              <a:solidFill>
                <a:srgbClr val="000000"/>
              </a:solidFill>
              <a:latin typeface="Calibri"/>
            </a:endParaRPr>
          </a:p>
        </p:txBody>
      </p:sp>
      <p:sp>
        <p:nvSpPr>
          <p:cNvPr id="79" name="2 Marcador de contenido"/>
          <p:cNvSpPr/>
          <p:nvPr/>
        </p:nvSpPr>
        <p:spPr>
          <a:xfrm>
            <a:off x="179280" y="692280"/>
            <a:ext cx="8785440" cy="597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justicia como imparcialidad empieza desde el interior de cierta tradición política y adopta como su idea fundamental la de la sociedad como un sistema justo de cooperación a través del tiempo y del cambio de una generación a otra.</a:t>
            </a:r>
            <a:endParaRPr b="0" lang="en-US" sz="24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s ideas pueden elaborarse para integrar una concepción política de la justicia capaz de ganarse el apoyo de un consenso traslapado</a:t>
            </a:r>
            <a:endParaRPr b="0" lang="en-US" sz="24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consenso está formado por todas las doctrinas razonables religiosas, filosóficas y morales que se oponen entre sí, que probablemente seguirán existiendo de generación en generación y que obtendrán el apoyo de cuantiosos seguidores en un régimen constitucional más o menos justo, en el que el criterio de justicia que prevalecerá será precisamente esa misma concepción política.</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AD95-0012-449F-AD29-0C8BE30CA72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idea de la sociedad como un </a:t>
            </a:r>
            <a:br>
              <a:rPr sz="2800"/>
            </a:br>
            <a:r>
              <a:rPr b="1" lang="es-CL" sz="2800" spc="-1" strike="noStrike">
                <a:solidFill>
                  <a:srgbClr val="000000"/>
                </a:solidFill>
                <a:latin typeface="Calibri"/>
              </a:rPr>
              <a:t>sistema justo de cooperación</a:t>
            </a:r>
            <a:endParaRPr b="0" lang="en-US" sz="2800" spc="-1" strike="noStrike">
              <a:solidFill>
                <a:srgbClr val="000000"/>
              </a:solidFill>
              <a:latin typeface="Calibri"/>
            </a:endParaRPr>
          </a:p>
        </p:txBody>
      </p:sp>
      <p:sp>
        <p:nvSpPr>
          <p:cNvPr id="82" name="2 Marcador de contenido"/>
          <p:cNvSpPr/>
          <p:nvPr/>
        </p:nvSpPr>
        <p:spPr>
          <a:xfrm>
            <a:off x="179280" y="907920"/>
            <a:ext cx="878544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dea organizadora fundamental de la justicia como imparcialidad es la de la sociedad considerada como sistema justo de cooperación a través de un tiempo prolongado, de una generación a la siguiente.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su pensamiento político, y en la discusión de las cuestiones políticas, los ciudadanos no ven el orden social como un orden natural fijo, o como una jerarquía institucional justificada por valores religiosos o aristocrático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Calibri"/>
              </a:rPr>
              <a:t>Elementos de la cooperación social</a:t>
            </a:r>
            <a:r>
              <a:rPr b="0" lang="es-CL" sz="2000" spc="-1" strike="noStrike">
                <a:solidFill>
                  <a:srgbClr val="000000"/>
                </a:solidFill>
                <a:latin typeface="Calibri"/>
              </a:rPr>
              <a:t>:</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ooperación se distingue de la simple actividad socialmente coordinada. Se guía por reglas públicamente reconocidas y por procedimientos que aceptan los cooperadores y que consideran como normas apropiadas para regular su conduct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ooperación implica la idea de condiciones justas de cooperación: éstas son términos que cada participante puede aceptar razonablemente, siempre y cuando todos los demás también los acepten. Los términos justos de cooperación especifican cierta idea de la reciprocidad. La concepción de justicia política caracteriza a los términos justos de coopera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A8FE-0645-4CA8-B16D-1550D03F5B3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idea de la sociedad como un </a:t>
            </a:r>
            <a:br>
              <a:rPr sz="2800"/>
            </a:br>
            <a:r>
              <a:rPr b="1" lang="es-CL" sz="2800" spc="-1" strike="noStrike">
                <a:solidFill>
                  <a:srgbClr val="000000"/>
                </a:solidFill>
                <a:latin typeface="Calibri"/>
              </a:rPr>
              <a:t>sistema justo de cooperación</a:t>
            </a:r>
            <a:endParaRPr b="0" lang="en-US" sz="2800" spc="-1" strike="noStrike">
              <a:solidFill>
                <a:srgbClr val="000000"/>
              </a:solidFill>
              <a:latin typeface="Calibri"/>
            </a:endParaRPr>
          </a:p>
        </p:txBody>
      </p:sp>
      <p:sp>
        <p:nvSpPr>
          <p:cNvPr id="85" name="2 Marcador de contenido"/>
          <p:cNvSpPr/>
          <p:nvPr/>
        </p:nvSpPr>
        <p:spPr>
          <a:xfrm>
            <a:off x="179280" y="907920"/>
            <a:ext cx="878544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omo el objeto primario de la justicia es la estructura básica de la sociedad, estos términos justos se expresan mediante principios que especifican derechos y deberes básicos dentro de sus principales instituciones, y regulan a través del tiempo los arreglos del trasfondo de justicia, de manera que los beneficios derivados de los esfuerzos de cada cual estén justamente distribuidos y se compartan de una generación a la siguiente.</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idea de cooperación social necesita que intervenga la idea de la ventaja o bien racional de cada participante. </a:t>
            </a:r>
            <a:endParaRPr b="0" lang="en-US" sz="2200" spc="-1" strike="noStrike">
              <a:solidFill>
                <a:srgbClr val="000000"/>
              </a:solidFill>
              <a:latin typeface="Arial"/>
            </a:endParaRPr>
          </a:p>
          <a:p>
            <a:pPr marL="514440" indent="-5144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a idea del bien especifica lo que están tratando de lograr quienes participan en la cooperación, ya sean individuos, familias, asociaciones, o incluso los gobiernos de los pueblos, cuando este esquema o proyecto se ve desde su propia perspectiva.</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BD50F-7613-454B-9571-7D2A61D4826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idea de la sociedad como un </a:t>
            </a:r>
            <a:br>
              <a:rPr sz="2800"/>
            </a:br>
            <a:r>
              <a:rPr b="1" lang="es-CL" sz="2800" spc="-1" strike="noStrike">
                <a:solidFill>
                  <a:srgbClr val="000000"/>
                </a:solidFill>
                <a:latin typeface="Calibri"/>
              </a:rPr>
              <a:t>sistema justo de cooperación</a:t>
            </a:r>
            <a:endParaRPr b="0" lang="en-US" sz="2800" spc="-1" strike="noStrike">
              <a:solidFill>
                <a:srgbClr val="000000"/>
              </a:solidFill>
              <a:latin typeface="Calibri"/>
            </a:endParaRPr>
          </a:p>
        </p:txBody>
      </p:sp>
      <p:sp>
        <p:nvSpPr>
          <p:cNvPr id="88" name="2 Marcador de contenido"/>
          <p:cNvSpPr/>
          <p:nvPr/>
        </p:nvSpPr>
        <p:spPr>
          <a:xfrm>
            <a:off x="179280" y="907920"/>
            <a:ext cx="878544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 la sociedad ha de concebirse como un sistema justo de cooperación a través del tiempo y entre generaciones sucesivas, por tanto, hemos de adoptar una concepción de la persona que sea afín a esta idea.</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persona es alguien que puede ser un Ciudadano, es decir, un integrante normal y cooperador de la sociedad durante toda una vida.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ciudadanos son personas tan libres como iguales.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idea básica consiste en que, en virtud de sus dos poderes morales (la capacidad de tener un sentido de la justicia y de adoptar una concepción del bien) y de los poderes de la razón (de juicio, de pensamiento, y la capacidad de inferencia relacionada con estos poderes), las personas son libr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 que hace que estas personas sean iguales es el tener estos poderes cuando menos en el grado mínimo necesario para ser miembros plenamente cooperadores de la sociedad.</a:t>
            </a:r>
            <a:endParaRPr b="0" lang="en-US" sz="2000" spc="-1" strike="noStrike">
              <a:solidFill>
                <a:srgbClr val="000000"/>
              </a:solidFill>
              <a:latin typeface="Arial"/>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A9F1F-3E14-471C-A0B1-B6E8DA6692C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idea de la sociedad como un </a:t>
            </a:r>
            <a:br>
              <a:rPr sz="2800"/>
            </a:br>
            <a:r>
              <a:rPr b="1" lang="es-CL" sz="2800" spc="-1" strike="noStrike">
                <a:solidFill>
                  <a:srgbClr val="000000"/>
                </a:solidFill>
                <a:latin typeface="Calibri"/>
              </a:rPr>
              <a:t>sistema justo de cooperación</a:t>
            </a:r>
            <a:endParaRPr b="0" lang="en-US" sz="2800" spc="-1" strike="noStrike">
              <a:solidFill>
                <a:srgbClr val="000000"/>
              </a:solidFill>
              <a:latin typeface="Calibri"/>
            </a:endParaRPr>
          </a:p>
        </p:txBody>
      </p:sp>
      <p:sp>
        <p:nvSpPr>
          <p:cNvPr id="91" name="2 Marcador de contenido"/>
          <p:cNvSpPr/>
          <p:nvPr/>
        </p:nvSpPr>
        <p:spPr>
          <a:xfrm>
            <a:off x="179280" y="907920"/>
            <a:ext cx="878544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sentido de la justicia es la capacidad de entender, aplicar y actuar según la concepción pública de la justicia que caracteriza a los términos justos de la cooperación social. </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sentido de la justicia también expresa la disposición, la voluntad, si no es que el deseo, de actuar en relación con los demás ciudadanos en términos que ellos también puedan suscribir públicamente. </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apacidad de adoptar una concepción del bien es la de conformar, examinar y buscar racionalmente una concepción de una ventaja o bien racional propio.</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demás de tener estos dos poderes morales, las personas poseen en un momento dado cierta concepción del bien que intentan lograr. </a:t>
            </a:r>
            <a:endParaRPr b="0" lang="en-US" sz="20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concepción del bien consiste normalmente en un esquema más o menos definido de los fines últimos, esto es, de los fines que deseamos lograr por sí mismos; esquema, asimismo, de nuestros vínculos con otras personas y de nuestras lealtades a diversos grupos y asociaciones. </a:t>
            </a:r>
            <a:endParaRPr b="0" lang="en-US" sz="2000" spc="-1" strike="noStrike">
              <a:solidFill>
                <a:srgbClr val="000000"/>
              </a:solidFill>
              <a:latin typeface="Arial"/>
            </a:endParaRPr>
          </a:p>
        </p:txBody>
      </p:sp>
      <p:sp>
        <p:nvSpPr>
          <p:cNvPr id="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A3469-30C3-4F13-8327-ABA913C7C29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idea de la posición original</a:t>
            </a:r>
            <a:endParaRPr b="0" lang="en-US" sz="3600" spc="-1" strike="noStrike">
              <a:solidFill>
                <a:srgbClr val="000000"/>
              </a:solidFill>
              <a:latin typeface="Calibri"/>
            </a:endParaRPr>
          </a:p>
        </p:txBody>
      </p:sp>
      <p:sp>
        <p:nvSpPr>
          <p:cNvPr id="94" name="2 Marcador de contenido"/>
          <p:cNvSpPr/>
          <p:nvPr/>
        </p:nvSpPr>
        <p:spPr>
          <a:xfrm>
            <a:off x="179280" y="765000"/>
            <a:ext cx="8785440" cy="590400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 introduce esta idea para dilucidar qué concepción tradicional de la justicia, o qué variante de estas concepciones, especifica los principios más apropiados para hacer realidad la libertad y la igualdad, una vez que se entiende a la sociedad como un sistema justo de cooperación entre ciudadanos libres e igual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justicia como imparcialidad reformula la doctrina del contrato social y adopta otra forma: los términos justos de la cooperación social se conciben como un acuerdo a que han llegado quienes están comprometidos con ella; es decir, los ciudadanos libres e iguales que han nacido en la sociedad en que vive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ero su acuerdo, como todo acuerdo válido, debe llevarse a cabo según condiciones apropiada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s condiciones deben poner en una situación justa a las personas libres e iguales, y no deben permitir que algunas de esas personas obtengan mayores ventajas de negociación.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demás, tanto las amenazas de recurrir a la fuerza y la coerción, como al engaño y al fraude, deben ser excluida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53ABD-2A50-4E0A-B216-749094B5943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idea de la posición original</a:t>
            </a:r>
            <a:endParaRPr b="0" lang="en-US" sz="3600" spc="-1" strike="noStrike">
              <a:solidFill>
                <a:srgbClr val="000000"/>
              </a:solidFill>
              <a:latin typeface="Calibri"/>
            </a:endParaRPr>
          </a:p>
        </p:txBody>
      </p:sp>
      <p:sp>
        <p:nvSpPr>
          <p:cNvPr id="97" name="2 Marcador de contenido"/>
          <p:cNvSpPr/>
          <p:nvPr/>
        </p:nvSpPr>
        <p:spPr>
          <a:xfrm>
            <a:off x="179280" y="765000"/>
            <a:ext cx="8785440" cy="590400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Dificultad:</a:t>
            </a:r>
            <a:r>
              <a:rPr b="0" lang="es-CL" sz="2000" spc="-1" strike="noStrike">
                <a:solidFill>
                  <a:srgbClr val="000000"/>
                </a:solidFill>
                <a:latin typeface="Calibri"/>
              </a:rPr>
              <a:t> debemos hallar un punto de vista que se aparte de las características y circunstancias particulares de este marco abarcador y que no sea distorsionado por ellas; un punto de vista a partir del cual sea posible llegar a un acuerdo justo entre personas consideradas libres e iguales.</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osición original, la cual tiene características a las que he llamado el </a:t>
            </a:r>
            <a:r>
              <a:rPr b="1" i="1" lang="es-CL" sz="2000" spc="-1" strike="noStrike">
                <a:solidFill>
                  <a:srgbClr val="000000"/>
                </a:solidFill>
                <a:latin typeface="Calibri"/>
              </a:rPr>
              <a:t>"velo de la ignorancia"</a:t>
            </a:r>
            <a:r>
              <a:rPr b="0" lang="es-CL" sz="2000" spc="-1" strike="noStrike">
                <a:solidFill>
                  <a:srgbClr val="000000"/>
                </a:solidFill>
                <a:latin typeface="Calibri"/>
              </a:rPr>
              <a:t>, es precisamente este punto de vista.</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azón por la que la posición original debe abstraer de las contingencias del mundo social sin ser afectada por éstas, es que las condiciones de un acuerdo justo sobre los principios de la justicia política entre personas libres e iguales deben eliminar las ventajas que para la negociación surgen inevitablemente dentro del marco de las instituciones de cualquier sociedad, debido a sus tendencias acumulativas, sociales, históricas y naturales. </a:t>
            </a:r>
            <a:endParaRPr b="0" lang="en-US" sz="2000" spc="-1" strike="noStrike">
              <a:solidFill>
                <a:srgbClr val="000000"/>
              </a:solidFill>
              <a:latin typeface="Arial"/>
            </a:endParaRPr>
          </a:p>
          <a:p>
            <a:pPr marL="514440" indent="-514440" algn="just">
              <a:lnSpc>
                <a:spcPct val="100000"/>
              </a:lnSpc>
              <a:spcBef>
                <a:spcPts val="3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s ventajas contingentes e influencias accidentales que derivan del pasado no debieran afectar ningún acuerdo basado en los principios reguladores de las instituciones de la estructura básica misma, partiendo del presente, hacia el futuro.</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87D7-8D6A-4849-B790-8E09D8AA5BF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Rawls y el liberalismo político</a:t>
            </a:r>
            <a:endParaRPr b="0" lang="en-US" sz="3200" spc="-1" strike="noStrike">
              <a:solidFill>
                <a:srgbClr val="000000"/>
              </a:solidFill>
              <a:latin typeface="Calibri"/>
            </a:endParaRPr>
          </a:p>
        </p:txBody>
      </p:sp>
      <p:sp>
        <p:nvSpPr>
          <p:cNvPr id="46" name="2 Marcador de contenido"/>
          <p:cNvSpPr/>
          <p:nvPr/>
        </p:nvSpPr>
        <p:spPr>
          <a:xfrm>
            <a:off x="826920" y="981000"/>
            <a:ext cx="7417080" cy="5256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Bitácora:</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deas fundamentales.</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lanteamiento de dos preguntas fundamentales.</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idea de una concepción política de la justicia.</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idea de la sociedad como un sistema justo de cooperación.</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idea de la posición original.</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concepción política de la persona.</a:t>
            </a:r>
            <a:endParaRPr b="0" lang="en-US" sz="2800" spc="-1" strike="noStrike">
              <a:solidFill>
                <a:srgbClr val="000000"/>
              </a:solidFill>
              <a:latin typeface="Arial"/>
            </a:endParaRPr>
          </a:p>
          <a:p>
            <a:pPr marL="514440" indent="-514440" algn="just">
              <a:lnSpc>
                <a:spcPct val="90000"/>
              </a:lnSpc>
              <a:spcBef>
                <a:spcPts val="700"/>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idea de una sociedad bien ordenada.</a:t>
            </a:r>
            <a:endParaRPr b="0" lang="en-US" sz="2800" spc="-1" strike="noStrike">
              <a:solidFill>
                <a:srgbClr val="000000"/>
              </a:solidFill>
              <a:latin typeface="Arial"/>
            </a:endParaRPr>
          </a:p>
        </p:txBody>
      </p:sp>
      <p:sp>
        <p:nvSpPr>
          <p:cNvPr id="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8431C-8F84-4458-92EE-018729E8101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idea de la posición original</a:t>
            </a:r>
            <a:endParaRPr b="0" lang="en-US" sz="3600" spc="-1" strike="noStrike">
              <a:solidFill>
                <a:srgbClr val="000000"/>
              </a:solidFill>
              <a:latin typeface="Calibri"/>
            </a:endParaRPr>
          </a:p>
        </p:txBody>
      </p:sp>
      <p:sp>
        <p:nvSpPr>
          <p:cNvPr id="100" name="2 Marcador de contenido"/>
          <p:cNvSpPr/>
          <p:nvPr/>
        </p:nvSpPr>
        <p:spPr>
          <a:xfrm>
            <a:off x="179280" y="765000"/>
            <a:ext cx="8785440" cy="590400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osición original debe considerarse un recurso de representación, y de ahí que cualquier acuerdo al que lleguen las partes deba interpretarse como hipotético y no histórico.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apel que toman las diversas características de la posición original deber ser entendida como recurso de representación.</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porción original, a las partes no se les permite conocer la posición social de aquellos a quienes representan, ni la particular doctrina comprensiva de la persona a la que representan.</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osición original es simplemente un recurso de representación: describe a las partes, responsable cada una de defender los intereses esenciales de un ciudadano libre e igual, como situadas parcialmente y como representantes para llegar a un acuerdo sujeto a condiciones que limitan apropiadamente lo que pueden esgrimir como buenas razon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93FC0-BDBF-4E07-B4C1-78EC817E01D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0560" y="115920"/>
            <a:ext cx="87138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La idea de la posición original</a:t>
            </a:r>
            <a:endParaRPr b="0" lang="en-US" sz="3600" spc="-1" strike="noStrike">
              <a:solidFill>
                <a:srgbClr val="000000"/>
              </a:solidFill>
              <a:latin typeface="Calibri"/>
            </a:endParaRPr>
          </a:p>
        </p:txBody>
      </p:sp>
      <p:sp>
        <p:nvSpPr>
          <p:cNvPr id="103" name="2 Marcador de contenido"/>
          <p:cNvSpPr/>
          <p:nvPr/>
        </p:nvSpPr>
        <p:spPr>
          <a:xfrm>
            <a:off x="179280" y="765000"/>
            <a:ext cx="8785440" cy="590400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mo recurso de representación, la idea de la posición original sirve como medio de reflexión y esclarecimiento para el público.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s ayuda a elaborar lo que ahora pensamos, una vez que hemos logrado adoptar un punto de vista claro y despejado acerca de qué clase de justicia es necesaria cuando se percibe la sociedad como un esquema de cooperación entre ciudadanos libres e iguales, de una generación a la siguiente.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posición original sirve de idea mediadora con la cual todas nuestras convicciones tenidas en cuenta, cualquiera que sea su grado de generalidad —ya sea que se refieran a las condiciones listas para situar a las partes o a las restricciones razonables a razones, o a primeros principios o preceptos, o bien a juicios acerca de instituciones o acciones particulares—, pueden ser comparadas unas con otras.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o nos permite dar mayor coherencia a todos nuestros juicios; y con esta comprensión más profunda podremos lograr un más amplio acuerdo entre unos y otro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4B4A5-236E-4DB7-B325-D2D27535A39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115920"/>
            <a:ext cx="87138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concepción política de la persona</a:t>
            </a:r>
            <a:endParaRPr b="0" lang="en-US" sz="3200" spc="-1" strike="noStrike">
              <a:solidFill>
                <a:srgbClr val="000000"/>
              </a:solidFill>
              <a:latin typeface="Calibri"/>
            </a:endParaRPr>
          </a:p>
        </p:txBody>
      </p:sp>
      <p:sp>
        <p:nvSpPr>
          <p:cNvPr id="106"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ciudadanos son libres en la medida en que se conciben a sí mismos y unos a otros como poseedores de la capacidad moral para tener una concepción del bien. </a:t>
            </a:r>
            <a:endParaRPr b="0" lang="en-US" sz="24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Por ejemplo: cuando los ciudadanos se convierten de una religión a otra, o ya no profesan un credo religioso establecido, no dejan de ser, en materia de justicia política, las mismas personas que eran antes de este cambio. No existe en este caso ninguna pérdida de lo que podemos llamar su identidad pública o institucional, ni de su identidad como materia de la ley básica. </a:t>
            </a:r>
            <a:endParaRPr b="0" lang="en-US" sz="20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ciudadanos se ven como personas libres que se consideran a sí mismos fuentes autoautentificables de reclamaciones válidas.</a:t>
            </a:r>
            <a:endParaRPr b="0" lang="en-US" sz="24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Es decir, que se consideran con todo el derecho a hacer reclamaciones y plantear exigencias acerca de sus instituciones, con miras a hacer valer sus concepciones del bien (siempre y cuando estas concepciones no se salgan de los márgenes permitidos por la concepción pública de la justicia). </a:t>
            </a:r>
            <a:endParaRPr b="0" lang="en-US" sz="2000" spc="-1" strike="noStrike">
              <a:solidFill>
                <a:srgbClr val="000000"/>
              </a:solidFill>
              <a:latin typeface="Arial"/>
            </a:endParaRPr>
          </a:p>
        </p:txBody>
      </p:sp>
      <p:sp>
        <p:nvSpPr>
          <p:cNvPr id="10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EB304-7CA8-426E-B467-43E34BD7DD2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560" y="115920"/>
            <a:ext cx="87138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concepción política de la persona</a:t>
            </a:r>
            <a:endParaRPr b="0" lang="en-US" sz="3200" spc="-1" strike="noStrike">
              <a:solidFill>
                <a:srgbClr val="000000"/>
              </a:solidFill>
              <a:latin typeface="Calibri"/>
            </a:endParaRPr>
          </a:p>
        </p:txBody>
      </p:sp>
      <p:sp>
        <p:nvSpPr>
          <p:cNvPr id="109"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ersonas libres se consideran capaces de asumir la responsabilidad de sus fines, y esto afecta la manera en que se valoran sus diversos reclamos.</a:t>
            </a:r>
            <a:endParaRPr b="0" lang="en-US" sz="2400" spc="-1" strike="noStrike">
              <a:solidFill>
                <a:srgbClr val="000000"/>
              </a:solidFill>
              <a:latin typeface="Arial"/>
            </a:endParaRPr>
          </a:p>
          <a:p>
            <a:pPr marL="514440" indent="-514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gn="just">
              <a:lnSpc>
                <a:spcPct val="100000"/>
              </a:lnSpc>
              <a:spcBef>
                <a:spcPts val="601"/>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ea typeface="Arial"/>
              </a:rPr>
              <a:t>En términos muy generales, dado un marco de instituciones justas y si existe para cada persona un índice justo de bienes de primera necesidad (como lo requieren los principios de la justicia), se considera que los ciudadanos son capaces de ajustar sus metas y aspiraciones a la luz de lo que pueden razonablemente esperar. </a:t>
            </a:r>
            <a:endParaRPr b="0" lang="en-US" sz="2400" spc="-1" strike="noStrike">
              <a:solidFill>
                <a:srgbClr val="000000"/>
              </a:solidFill>
              <a:latin typeface="Arial"/>
            </a:endParaRPr>
          </a:p>
        </p:txBody>
      </p:sp>
      <p:sp>
        <p:nvSpPr>
          <p:cNvPr id="1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2A58E-5330-416C-A0B7-4F7E52B765E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115920"/>
            <a:ext cx="87138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sociedad bien ordenada</a:t>
            </a:r>
            <a:endParaRPr b="0" lang="en-US" sz="3200" spc="-1" strike="noStrike">
              <a:solidFill>
                <a:srgbClr val="000000"/>
              </a:solidFill>
              <a:latin typeface="Calibri"/>
            </a:endParaRPr>
          </a:p>
        </p:txBody>
      </p:sp>
      <p:sp>
        <p:nvSpPr>
          <p:cNvPr id="112"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justicia como imparcialidad, la idea fundamental de la sociedad como un sistema justo de cooperación a través de generaciones se desarrolla en conjunción a dos ideas afines: la idea de los ciudadanos considerados como personas libres e iguales y la idea de una sociedad bien ordenada vista como una sociedad efectivamente regulada por una concepción  pública de la justici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cir que una sociedad está bien ordenada expresa tres cosas: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Es una sociedad en la que cada cual acepta, y sabe que todo el mundo acepta, los mismos principios de justicia.</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Su estructura básica —esto es, sus principales instituciones políticas y sociales y cómo forman en conjunto un sistema de cooperación—, se sabe públicamente, o al menos se tienen buenas razones para creer, cumple con estos principios.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Sus ciudadanos tienen, normalmente, un sentido efectivo de la justicia, y por ello cumplen generalmente las reglas de sus instituciones básicas, a las que consideran justas. En tal sociedad, la concepción de justicia públicamente reconocida establece un punto de vista compartido desde el cual pueden juzgarse los reclamos que los ciudadanos plantean a la sociedad.</a:t>
            </a:r>
            <a:endParaRPr b="0" lang="en-US" sz="2000" spc="-1" strike="noStrike">
              <a:solidFill>
                <a:srgbClr val="000000"/>
              </a:solidFill>
              <a:latin typeface="Arial"/>
            </a:endParaRPr>
          </a:p>
        </p:txBody>
      </p:sp>
      <p:sp>
        <p:nvSpPr>
          <p:cNvPr id="1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3DB2-99C7-44D3-9EF9-28EE67BA671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0560" y="115920"/>
            <a:ext cx="87138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sociedad bien ordenada</a:t>
            </a:r>
            <a:endParaRPr b="0" lang="en-US" sz="3200" spc="-1" strike="noStrike">
              <a:solidFill>
                <a:srgbClr val="000000"/>
              </a:solidFill>
              <a:latin typeface="Calibri"/>
            </a:endParaRPr>
          </a:p>
        </p:txBody>
      </p:sp>
      <p:sp>
        <p:nvSpPr>
          <p:cNvPr id="115"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ualquier concepción de la justicia que no pueda ordenar bien a una democracia constitucional es inadecuada como concepción democrática.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na concepción de la justicia puede no pasar la prueba al no obtener el apoyo de ciudadanos razonables que profesan doctrinas comprensivas razonables; o, al no poder obtener el apoyo de un razonable consenso traslapado.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ograr esto es necesario para tener una apropiada concepción de la justicia.</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razón de esto es que la cultura política de una sociedad democrática se caracteriza por tres hechos generales, entendidos de esta manera:</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La diversidad de doctrinas comprensivas razonables, religiosas, filosóficas y morales, que encontramos en las sociedades democráticas modernas, no constituyen una mera situación histórica que pronto podrá terminar; es una característica permanente de la cultura pública de la democracia.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01D19-315E-47AA-BDDC-389AA538F2D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0560" y="115920"/>
            <a:ext cx="87138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sociedad bien ordenada</a:t>
            </a:r>
            <a:endParaRPr b="0" lang="en-US" sz="3200" spc="-1" strike="noStrike">
              <a:solidFill>
                <a:srgbClr val="000000"/>
              </a:solidFill>
              <a:latin typeface="Calibri"/>
            </a:endParaRPr>
          </a:p>
        </p:txBody>
      </p:sp>
      <p:sp>
        <p:nvSpPr>
          <p:cNvPr id="118"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Mantener la profesión continua y compartida de una sola doctrina comprensiva, religiosa, filosófica o moral, sólo es posible mediante el uso opresivo del poder del Estado.</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n régimen democrático seguro y durable, que no esté dividido por credos doctrinarios y clases sociales hostiles entre sí, debe tener el sostén libre y voluntario de, por lo menos, una mayoría sustancial de sus ciudadanos políticamente activos.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omo no existe una razonable doctrina comprensiva religiosa, filosófica o moral que profesen todos los ciudadanos, la concepción de la justicia que se afirme en una sociedad democrática bien ordenada debe ser una concepción limitada a lo que llamaré "el dominio de lo político" y a los valores que preconiza.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idea de una sociedad democrática bien ordenada debe configurarse en concordancia con esta tesis.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3D0A-418B-423E-93FD-C8BC98F9EC3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50560" y="115920"/>
            <a:ext cx="87138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idea de una sociedad bien ordenada</a:t>
            </a:r>
            <a:endParaRPr b="0" lang="en-US" sz="3200" spc="-1" strike="noStrike">
              <a:solidFill>
                <a:srgbClr val="000000"/>
              </a:solidFill>
              <a:latin typeface="Calibri"/>
            </a:endParaRPr>
          </a:p>
        </p:txBody>
      </p:sp>
      <p:sp>
        <p:nvSpPr>
          <p:cNvPr id="121" name="2 Marcador de contenido"/>
          <p:cNvSpPr/>
          <p:nvPr/>
        </p:nvSpPr>
        <p:spPr>
          <a:xfrm>
            <a:off x="179280" y="620640"/>
            <a:ext cx="8785440" cy="604836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Calibri"/>
              </a:rPr>
              <a:t>¿Cómo una sociedad democrática bien ordenada satisface una condición necesaria (pero no suficiente) de realismo y estabilidad?</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Tal sociedad puede estar bien ordenada mediante una concepción política de la justicia en tanto que:</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Los ciudadanos que profesan doctrinas razonables, pero opuestas y comprensivas, pertenezcan a un consenso traslapado: es decir, que generalmente suscriban esa concepción de justicia como la que expresa el contenido de sus criterios políticos acerca de las instituciones básicas; y </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Que las doctrinas comprensivas no razonables (suponemos que éstas existen siempre) no obtengan la suficiente aceptación como para minar la justicia esencial de esa sociedad. </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1F2F4-9B8A-4CAB-8947-BEF36B1F3AD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0320" y="28224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200" spc="-1" strike="noStrike">
                <a:solidFill>
                  <a:srgbClr val="000000"/>
                </a:solidFill>
                <a:latin typeface="Calibri"/>
              </a:rPr>
              <a:t>John Rawls</a:t>
            </a:r>
            <a:br>
              <a:rPr sz="3200"/>
            </a:br>
            <a:r>
              <a:rPr b="1" lang="es-CL" sz="3200" spc="-1" strike="noStrike">
                <a:solidFill>
                  <a:srgbClr val="000000"/>
                </a:solidFill>
                <a:latin typeface="Calibri"/>
              </a:rPr>
              <a:t>[</a:t>
            </a:r>
            <a:r>
              <a:rPr b="1" lang="es-CL" sz="2800" spc="-1" strike="noStrike">
                <a:solidFill>
                  <a:srgbClr val="000000"/>
                </a:solidFill>
                <a:latin typeface="Calibri"/>
              </a:rPr>
              <a:t>1921 - 2002</a:t>
            </a:r>
            <a:r>
              <a:rPr b="1" lang="es-CL" sz="3200" spc="-1" strike="noStrike">
                <a:solidFill>
                  <a:srgbClr val="000000"/>
                </a:solidFill>
                <a:latin typeface="Calibri"/>
              </a:rPr>
              <a:t>] </a:t>
            </a:r>
            <a:br>
              <a:rPr sz="3200"/>
            </a:br>
            <a:br>
              <a:rPr sz="4000"/>
            </a:br>
            <a:endParaRPr b="0" lang="en-US" sz="3200" spc="-1" strike="noStrike">
              <a:solidFill>
                <a:srgbClr val="000000"/>
              </a:solidFill>
              <a:latin typeface="Calibri"/>
            </a:endParaRPr>
          </a:p>
        </p:txBody>
      </p:sp>
      <p:sp>
        <p:nvSpPr>
          <p:cNvPr id="124"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21 – 06 de diciembre de 2010</a:t>
            </a:r>
            <a:endParaRPr b="0" lang="en-US" sz="2000" spc="-1" strike="noStrike">
              <a:solidFill>
                <a:srgbClr val="000000"/>
              </a:solidFill>
              <a:latin typeface="Calibri"/>
            </a:endParaRPr>
          </a:p>
        </p:txBody>
      </p:sp>
      <p:pic>
        <p:nvPicPr>
          <p:cNvPr id="125" name="Picture 5" descr="escuela de gobierno y gestión pública"/>
          <p:cNvPicPr/>
          <p:nvPr/>
        </p:nvPicPr>
        <p:blipFill>
          <a:blip r:embed="rId1"/>
          <a:stretch/>
        </p:blipFill>
        <p:spPr>
          <a:xfrm>
            <a:off x="0" y="0"/>
            <a:ext cx="2371680" cy="933480"/>
          </a:xfrm>
          <a:prstGeom prst="rect">
            <a:avLst/>
          </a:prstGeom>
          <a:ln w="0">
            <a:noFill/>
          </a:ln>
        </p:spPr>
      </p:pic>
      <p:pic>
        <p:nvPicPr>
          <p:cNvPr id="126" name="5 Imagen" descr="20 John Rawls.bmp"/>
          <p:cNvPicPr/>
          <p:nvPr/>
        </p:nvPicPr>
        <p:blipFill>
          <a:blip r:embed="rId2"/>
          <a:stretch/>
        </p:blipFill>
        <p:spPr>
          <a:xfrm>
            <a:off x="6804000" y="189000"/>
            <a:ext cx="2114640" cy="2162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Ideas fundamentales</a:t>
            </a:r>
            <a:endParaRPr b="0" lang="en-US" sz="3200" spc="-1" strike="noStrike">
              <a:solidFill>
                <a:srgbClr val="000000"/>
              </a:solidFill>
              <a:latin typeface="Calibri"/>
            </a:endParaRPr>
          </a:p>
        </p:txBody>
      </p:sp>
      <p:sp>
        <p:nvSpPr>
          <p:cNvPr id="49" name="2 Marcador de contenido"/>
          <p:cNvSpPr/>
          <p:nvPr/>
        </p:nvSpPr>
        <p:spPr>
          <a:xfrm>
            <a:off x="250920" y="620640"/>
            <a:ext cx="856908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rimera pregunta fundamental acerca de la justicia política en una sociedad democrática: </a:t>
            </a:r>
            <a:endParaRPr b="0" lang="en-US" sz="22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1" lang="es-CL" sz="2400" spc="-1" strike="noStrike">
                <a:solidFill>
                  <a:srgbClr val="000000"/>
                </a:solidFill>
                <a:latin typeface="Calibri"/>
              </a:rPr>
              <a:t>¿cuál es la más apropiada concepción de la justicia para especificar los términos justos de la cooperación social entre ciudadanos considerados libres e iguales, miembros de una sociedad con la que cooperan plenamente durante toda una vida, de una generación a la siguiente?</a:t>
            </a:r>
            <a:endParaRPr b="0" lang="en-US" sz="2400" spc="-1" strike="noStrike">
              <a:solidFill>
                <a:srgbClr val="000000"/>
              </a:solidFill>
              <a:latin typeface="Arial"/>
            </a:endParaRPr>
          </a:p>
          <a:p>
            <a:pPr marL="514440" indent="-5144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cultura política de una sociedad democrática siempre está marcada por una diversidad de doctrinas religiosas, filosóficas y morales opuestas entre sí e irreconciliables. </a:t>
            </a:r>
            <a:endParaRPr b="0" lang="en-US" sz="2200" spc="-1" strike="noStrike">
              <a:solidFill>
                <a:srgbClr val="000000"/>
              </a:solidFill>
              <a:latin typeface="Arial"/>
            </a:endParaRPr>
          </a:p>
          <a:p>
            <a:pPr marL="514440" indent="-51444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lgunas de estas doctrinas son perfectamente razonables, y el liberalismo político ve en esta diversidad de doctrinas razonables el inevitable resultado, a largo plazo, de las capacidades de la razón humana y su actividad dentro del trasfondo de instituciones libres y duraderas. </a:t>
            </a:r>
            <a:endParaRPr b="0" lang="en-US" sz="2200" spc="-1" strike="noStrike">
              <a:solidFill>
                <a:srgbClr val="000000"/>
              </a:solidFill>
              <a:latin typeface="Arial"/>
            </a:endParaRPr>
          </a:p>
        </p:txBody>
      </p:sp>
      <p:sp>
        <p:nvSpPr>
          <p:cNvPr id="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EDA5E-4ABD-4C7F-8740-EF1CE325EDE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Ideas fundamentales</a:t>
            </a:r>
            <a:endParaRPr b="0" lang="en-US" sz="3200" spc="-1" strike="noStrike">
              <a:solidFill>
                <a:srgbClr val="000000"/>
              </a:solidFill>
              <a:latin typeface="Calibri"/>
            </a:endParaRPr>
          </a:p>
        </p:txBody>
      </p:sp>
      <p:sp>
        <p:nvSpPr>
          <p:cNvPr id="52" name="2 Marcador de contenido"/>
          <p:cNvSpPr/>
          <p:nvPr/>
        </p:nvSpPr>
        <p:spPr>
          <a:xfrm>
            <a:off x="250920" y="620640"/>
            <a:ext cx="856908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unda pregunta relacionada con la tolerancia:</a:t>
            </a:r>
            <a:endParaRPr b="0" lang="en-US" sz="24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	</a:t>
            </a:r>
            <a:r>
              <a:rPr b="1" lang="es-CL" sz="2800" spc="-1" strike="noStrike">
                <a:solidFill>
                  <a:srgbClr val="000000"/>
                </a:solidFill>
                <a:latin typeface="Calibri"/>
              </a:rPr>
              <a:t>¿cuáles son los fundamentos de la tolerancia así entendida, dada la realidad del pluralismo razonable como consecuencia inevitable de instituciones libres? </a:t>
            </a:r>
            <a:endParaRPr b="0" lang="en-US" sz="2800" spc="-1" strike="noStrike">
              <a:solidFill>
                <a:srgbClr val="000000"/>
              </a:solidFill>
              <a:latin typeface="Arial"/>
            </a:endParaRPr>
          </a:p>
          <a:p>
            <a:pPr marL="514440" indent="-5144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combinamos las dos preguntas, tenemos la siguiente: </a:t>
            </a:r>
            <a:endParaRPr b="0" lang="en-US" sz="24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	</a:t>
            </a:r>
            <a:r>
              <a:rPr b="1" lang="es-CL" sz="2800" spc="-1" strike="noStrike">
                <a:solidFill>
                  <a:srgbClr val="000000"/>
                </a:solidFill>
                <a:latin typeface="Calibri"/>
              </a:rPr>
              <a:t>¿cómo es posible que exista durante un tiempo prolongado una sociedad justa y estable de ciudadanos libres e iguales, los cuales permanecen profundamente divididos por doctrinas razonables, religiosas, filosóficas y morales?</a:t>
            </a:r>
            <a:endParaRPr b="0" lang="en-US" sz="2800" spc="-1" strike="noStrike">
              <a:solidFill>
                <a:srgbClr val="000000"/>
              </a:solidFill>
              <a:latin typeface="Arial"/>
            </a:endParaRPr>
          </a:p>
        </p:txBody>
      </p:sp>
      <p:sp>
        <p:nvSpPr>
          <p:cNvPr id="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42446-6318-4A06-ACDE-52838452E80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lanteamiento de dos preguntas fundamentales</a:t>
            </a:r>
            <a:endParaRPr b="0" lang="en-US" sz="3200" spc="-1" strike="noStrike">
              <a:solidFill>
                <a:srgbClr val="000000"/>
              </a:solidFill>
              <a:latin typeface="Calibri"/>
            </a:endParaRPr>
          </a:p>
        </p:txBody>
      </p:sp>
      <p:sp>
        <p:nvSpPr>
          <p:cNvPr id="55" name="2 Marcador de contenido"/>
          <p:cNvSpPr/>
          <p:nvPr/>
        </p:nvSpPr>
        <p:spPr>
          <a:xfrm>
            <a:off x="250920" y="620640"/>
            <a:ext cx="856908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actualidad, no existe ningún acuerdo sobre la forma en que las instituciones básicas de una democracia constitucional deben ordenarse si han de satisfacer los términos justos de cooperación entre ciudadanos considerados libres e igual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mo un modo de contestar a nuestra primera pregunta, la justicia como imparcialidad intenta arbitrar entre las dos tradiciones liberales en pugna:</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Locke</a:t>
            </a:r>
            <a:r>
              <a:rPr b="0" lang="es-CL" sz="2000" spc="-1" strike="noStrike">
                <a:solidFill>
                  <a:srgbClr val="000000"/>
                </a:solidFill>
                <a:latin typeface="Calibri"/>
                <a:ea typeface="Arial"/>
              </a:rPr>
              <a:t>: </a:t>
            </a:r>
            <a:r>
              <a:rPr b="0" i="1" lang="es-CL" sz="2000" spc="-1" strike="noStrike">
                <a:solidFill>
                  <a:srgbClr val="000000"/>
                </a:solidFill>
                <a:latin typeface="Calibri"/>
                <a:ea typeface="Arial"/>
              </a:rPr>
              <a:t>libertad de los modernos</a:t>
            </a:r>
            <a:r>
              <a:rPr b="0" lang="es-CL" sz="2000" spc="-1" strike="noStrike">
                <a:solidFill>
                  <a:srgbClr val="000000"/>
                </a:solidFill>
                <a:latin typeface="Calibri"/>
                <a:ea typeface="Arial"/>
              </a:rPr>
              <a:t>, libertad de pensamiento y de conciencia, ciertos derechos básicos de la persona y de la propiedad y el imperio de la ley.</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ea typeface="Arial"/>
              </a:rPr>
              <a:t>Rousseau</a:t>
            </a:r>
            <a:r>
              <a:rPr b="0" lang="es-CL" sz="2000" spc="-1" strike="noStrike">
                <a:solidFill>
                  <a:srgbClr val="000000"/>
                </a:solidFill>
                <a:latin typeface="Calibri"/>
                <a:ea typeface="Arial"/>
              </a:rPr>
              <a:t>: </a:t>
            </a:r>
            <a:r>
              <a:rPr b="0" i="1" lang="es-CL" sz="2000" spc="-1" strike="noStrike">
                <a:solidFill>
                  <a:srgbClr val="000000"/>
                </a:solidFill>
                <a:latin typeface="Calibri"/>
                <a:ea typeface="Arial"/>
              </a:rPr>
              <a:t>libertad de los antiguos</a:t>
            </a:r>
            <a:r>
              <a:rPr b="0" lang="es-CL" sz="2000" spc="-1" strike="noStrike">
                <a:solidFill>
                  <a:srgbClr val="000000"/>
                </a:solidFill>
                <a:latin typeface="Calibri"/>
                <a:ea typeface="Arial"/>
              </a:rPr>
              <a:t>, las libertades políticas iguales y los valores de la vida públic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sí, Rawls, propone dos principios de justicia que sirvan de guía acerca del modo en que las instituciones básicas deben hacer efectivos los valores de la libertad y de la igualdad.</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gundo, especificando un punto de vista a partir del cual, a diferencia de otros principios conocidos de justicia, puedan verse estos principios como más apropiados a la idea de ciudadanos democráticos considerados como personas libres e iguales. </a:t>
            </a:r>
            <a:endParaRPr b="0" lang="en-US" sz="2000" spc="-1" strike="noStrike">
              <a:solidFill>
                <a:srgbClr val="000000"/>
              </a:solidFill>
              <a:latin typeface="Arial"/>
            </a:endParaRPr>
          </a:p>
        </p:txBody>
      </p:sp>
      <p:sp>
        <p:nvSpPr>
          <p:cNvPr id="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A0C20-255C-4CA7-9A5F-8BF38CD8B7C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lanteamiento de dos preguntas fundamentales</a:t>
            </a:r>
            <a:endParaRPr b="0" lang="en-US" sz="3200" spc="-1" strike="noStrike">
              <a:solidFill>
                <a:srgbClr val="000000"/>
              </a:solidFill>
              <a:latin typeface="Calibri"/>
            </a:endParaRPr>
          </a:p>
        </p:txBody>
      </p:sp>
      <p:sp>
        <p:nvSpPr>
          <p:cNvPr id="58" name="2 Marcador de contenido"/>
          <p:cNvSpPr/>
          <p:nvPr/>
        </p:nvSpPr>
        <p:spPr>
          <a:xfrm>
            <a:off x="250920" y="620640"/>
            <a:ext cx="8569080" cy="5977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dos principios de justicia son los siguientes:</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Cada persona tiene igual derecho a exigir un esquema de derechos y libertades básicos e igualitarios completamente apropiado</a:t>
            </a:r>
            <a:r>
              <a:rPr b="0" lang="es-CL" sz="2400" spc="-1" strike="noStrike">
                <a:solidFill>
                  <a:srgbClr val="000000"/>
                </a:solidFill>
                <a:latin typeface="Calibri"/>
              </a:rPr>
              <a:t>, esquema que sea compatible con el mismo esquema para todos; y en este esquema, las libertades políticas iguales, y sólo esas libertades, tienen que ser garantizadas las en su valor justo.</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Las desigualdades sociales y económicas sólo se justifican por dos condiciones</a:t>
            </a:r>
            <a:r>
              <a:rPr b="0" lang="es-CL" sz="2400" spc="-1" strike="noStrike">
                <a:solidFill>
                  <a:srgbClr val="000000"/>
                </a:solidFill>
                <a:latin typeface="Calibri"/>
              </a:rPr>
              <a:t>: en primer lugar, estarán relacionadas con puestos y cargos abiertos a todos, en condiciones de justa igualdad de oportunidades; en segundo lugar, estas posiciones y estos cargos deberán ejercerse en el máximo beneficio de los integrantes de la sociedad menos privilegiados.</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8779F-1011-4B2C-A6F6-DC6459452B1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lanteamiento de dos preguntas fundamentales</a:t>
            </a:r>
            <a:endParaRPr b="0" lang="en-US" sz="3200" spc="-1" strike="noStrike">
              <a:solidFill>
                <a:srgbClr val="000000"/>
              </a:solidFill>
              <a:latin typeface="Calibri"/>
            </a:endParaRPr>
          </a:p>
        </p:txBody>
      </p:sp>
      <p:sp>
        <p:nvSpPr>
          <p:cNvPr id="61" name="2 Marcador de contenido"/>
          <p:cNvSpPr/>
          <p:nvPr/>
        </p:nvSpPr>
        <p:spPr>
          <a:xfrm>
            <a:off x="250920" y="620640"/>
            <a:ext cx="8569080" cy="5977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ada uno de estos principios regula a las instituciones en determinado dominio, no sólo en cuanto a los derechos, libertades y oportunidades básicos, sino también en cuanto a las exigencias de igualdad; mientras que la segunda parte del segundo principio asegura la validez de estas garantías institucional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mbos principios, conjuntamente con la prioridad atribuida al primero sobre el segundo, regulan las instituciones básicas que aplican en la realidad estos valor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Rawls considera estos principios como ejemplos del contenido de una concepción política liberal de la justicia.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ontenido de tal concepción lo dan tres características principales:</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La especificación de ciertos derechos, libertades y oportunidades básicos (en regímenes democráticos constitucionales).</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La asignación de especial prioridad a esos derechos, libertades y oportunidades, especialmente en cuanto a las exigencias del bien general y de los valores perfeccionistas; y </a:t>
            </a:r>
            <a:endParaRPr b="0" lang="en-US" sz="2000" spc="-1" strike="noStrike">
              <a:solidFill>
                <a:srgbClr val="000000"/>
              </a:solidFill>
              <a:latin typeface="Arial"/>
            </a:endParaRPr>
          </a:p>
          <a:p>
            <a:pPr lvl="1" marL="971640" indent="-514440" algn="just">
              <a:lnSpc>
                <a:spcPct val="100000"/>
              </a:lnSpc>
              <a:spcBef>
                <a:spcPts val="499"/>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ea typeface="Arial"/>
              </a:rPr>
              <a:t>Medidas que aseguren a todos los ciudadanos todos los medios apropiados para hacer el uso eficaz de sus libertades y oportunidades.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A9BAD-2747-4D98-A4EF-55519C8C10E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lanteamiento de dos preguntas fundamentales</a:t>
            </a:r>
            <a:endParaRPr b="0" lang="en-US" sz="3200" spc="-1" strike="noStrike">
              <a:solidFill>
                <a:srgbClr val="000000"/>
              </a:solidFill>
              <a:latin typeface="Calibri"/>
            </a:endParaRPr>
          </a:p>
        </p:txBody>
      </p:sp>
      <p:sp>
        <p:nvSpPr>
          <p:cNvPr id="64" name="2 Marcador de contenido"/>
          <p:cNvSpPr/>
          <p:nvPr/>
        </p:nvSpPr>
        <p:spPr>
          <a:xfrm>
            <a:off x="250920" y="620640"/>
            <a:ext cx="8569080" cy="5977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mbos principios expresan una forma igualitaria de liberalismo, en virtud de tres elementos, que son: </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garantía del valor justo de las libertades políticas, de tal manera que éstas no sean meramente formales.</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justa (y tampoco puramente formal) igualdad de oportunidades, y</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llamado "principio de diferencia", que prescribe que las desigualdades sociales y económicas inherentes a los cargos y puestos tendrán que ajustarse de manera que, cualquiera que sea el grado de tales desigualdades, sea grande o pequeño, habrán de redundar en el mayor beneficio de los integrantes menos privilegiados de la sociedad.</a:t>
            </a:r>
            <a:endParaRPr b="0" lang="en-US" sz="2000" spc="-1" strike="noStrike">
              <a:solidFill>
                <a:srgbClr val="000000"/>
              </a:solidFill>
              <a:latin typeface="Arial"/>
            </a:endParaRPr>
          </a:p>
          <a:p>
            <a:pPr marL="514440" indent="-514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justicia como imparcialidad intenta, valiéndose de una idea organizadora fundamental dentro de la cual sea posible, conectar y relacionar entre sí, en forma sistemática, todas las ideas y todos los principios. </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idea organizadora es la de la sociedad como un sistema justo de cooperación social entre personas libres e iguales, consideradas integrantes verdaderamente cooperadores de la sociedad durante toda su vida.</a:t>
            </a:r>
            <a:endParaRPr b="0" lang="en-US" sz="2000" spc="-1" strike="noStrike">
              <a:solidFill>
                <a:srgbClr val="000000"/>
              </a:solidFill>
              <a:latin typeface="Arial"/>
            </a:endParaRPr>
          </a:p>
          <a:p>
            <a:pPr marL="514440" indent="-514440" algn="just">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2CE5F-A2CB-418C-99A3-5395A7F6E93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50560" y="43920"/>
            <a:ext cx="8713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lanteamiento de dos preguntas fundamentales</a:t>
            </a:r>
            <a:endParaRPr b="0" lang="en-US" sz="3200" spc="-1" strike="noStrike">
              <a:solidFill>
                <a:srgbClr val="000000"/>
              </a:solidFill>
              <a:latin typeface="Calibri"/>
            </a:endParaRPr>
          </a:p>
        </p:txBody>
      </p:sp>
      <p:sp>
        <p:nvSpPr>
          <p:cNvPr id="67" name="2 Marcador de contenido"/>
          <p:cNvSpPr/>
          <p:nvPr/>
        </p:nvSpPr>
        <p:spPr>
          <a:xfrm>
            <a:off x="250920" y="620640"/>
            <a:ext cx="8569080" cy="5977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principales instituciones de la sociedad y la manera en que encajan conjuntamente en un sistema de cooperación social pueden ser valoradas de igual manera por cada ciudadano, cualesquiera que sean su posición social o sus más particulares intereses.</a:t>
            </a:r>
            <a:endParaRPr b="0" lang="en-US" sz="2200" spc="-1" strike="noStrike">
              <a:solidFill>
                <a:srgbClr val="000000"/>
              </a:solidFill>
              <a:latin typeface="Arial"/>
            </a:endParaRPr>
          </a:p>
          <a:p>
            <a:pPr marL="514440" indent="-514440" algn="just">
              <a:lnSpc>
                <a:spcPct val="100000"/>
              </a:lnSpc>
              <a:spcBef>
                <a:spcPts val="5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objetivo de la justicia como imparcialidad es, por tanto, un asunto práctico: </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Se presenta como una concepción de la justicia que pueden compartir los ciudadanos, en tanto que es fundamento de un acuerdo político razonado, informado y voluntario. </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Expresa su razón pública y política compartida. </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Para lograr esa razón compartida, la concepción de la justicia debe ser, en lo posible, independiente de las doctrinas filosóficas y religiosas opuestas e incompatibles que profesen los ciudadanos. </a:t>
            </a:r>
            <a:endParaRPr b="0" lang="en-US" sz="2200" spc="-1" strike="noStrike">
              <a:solidFill>
                <a:srgbClr val="000000"/>
              </a:solidFill>
              <a:latin typeface="Arial"/>
            </a:endParaRPr>
          </a:p>
          <a:p>
            <a:pPr lvl="1" marL="971640" indent="-514440" algn="just">
              <a:lnSpc>
                <a:spcPct val="100000"/>
              </a:lnSpc>
              <a:spcBef>
                <a:spcPts val="55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Al formular tal concepción, el liberalismo político aplica el principio de la tolerancia a la filosofía misma.</a:t>
            </a:r>
            <a:endParaRPr b="0" lang="en-US" sz="2200" spc="-1" strike="noStrike">
              <a:solidFill>
                <a:srgbClr val="000000"/>
              </a:solidFill>
              <a:latin typeface="Arial"/>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27F5-2D06-4DD4-AF53-17A34578750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2-07T21:03:32Z</dcterms:modified>
  <cp:revision>868</cp:revision>
  <dc:subject/>
  <dc:title>HISTORIA DEL PENSAMIENTO POLÍTICO</dc:title>
</cp:coreProperties>
</file>