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67EE9-9BC6-4377-B4FA-B61DDB264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7AC44-2BF4-4C02-AF1D-55BD67B89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B2519-0C95-4412-88CA-1E33898A4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7A3C9-A5BB-476A-83CF-0159A3355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F05D2-F625-4F78-A6BC-99BA20029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2B586-3EE3-4A48-BB74-5854A2E29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FE0C6-0E2F-479C-B2BC-ED79ECC3A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BCD2D-DCBA-4880-A5D3-A9661BFE2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90858-C867-4921-AB9B-EAF36F164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2CF3D-F745-4572-95D2-9DCFAA17F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63ED4-4E84-44D3-9EB9-19FA3E5C7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F0364-AA9B-46C3-8560-F2E178146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86EC2-9492-46EB-98BE-BA4E1E066EF1}"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FC3B-8149-4688-877A-96DBD2FD8CC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Jürgen Habermas</a:t>
            </a:r>
            <a:br>
              <a:rPr sz="3200"/>
            </a:br>
            <a:r>
              <a:rPr b="1" lang="es-CL" sz="3200" spc="-1" strike="noStrike">
                <a:solidFill>
                  <a:srgbClr val="000000"/>
                </a:solidFill>
                <a:latin typeface="Calibri"/>
              </a:rPr>
              <a:t>[</a:t>
            </a:r>
            <a:r>
              <a:rPr b="1" lang="es-CL" sz="2800" spc="-1" strike="noStrike">
                <a:solidFill>
                  <a:srgbClr val="000000"/>
                </a:solidFill>
                <a:latin typeface="Calibri"/>
              </a:rPr>
              <a:t>81 años</a:t>
            </a:r>
            <a:r>
              <a:rPr b="1" lang="es-CL" sz="3200" spc="-1" strike="noStrike">
                <a:solidFill>
                  <a:srgbClr val="000000"/>
                </a:solidFill>
                <a:latin typeface="Calibri"/>
              </a:rPr>
              <a:t>] </a:t>
            </a:r>
            <a:br>
              <a:rPr sz="3200"/>
            </a:br>
            <a:br>
              <a:rPr sz="4000"/>
            </a:br>
            <a:endParaRPr b="0" lang="en-US" sz="32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9 – 01 de diciembre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6 Imagen" descr="19 Habermas.bmp"/>
          <p:cNvPicPr/>
          <p:nvPr/>
        </p:nvPicPr>
        <p:blipFill>
          <a:blip r:embed="rId2"/>
          <a:stretch/>
        </p:blipFill>
        <p:spPr>
          <a:xfrm>
            <a:off x="7451640" y="55440"/>
            <a:ext cx="162900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tres mundos del mundo de la vida</a:t>
            </a:r>
            <a:endParaRPr b="0" lang="en-US" sz="2800" spc="-1" strike="noStrike">
              <a:solidFill>
                <a:srgbClr val="000000"/>
              </a:solidFill>
              <a:latin typeface="Calibri"/>
            </a:endParaRPr>
          </a:p>
        </p:txBody>
      </p:sp>
      <p:sp>
        <p:nvSpPr>
          <p:cNvPr id="70" name="2 Marcador de contenido"/>
          <p:cNvSpPr/>
          <p:nvPr/>
        </p:nvSpPr>
        <p:spPr>
          <a:xfrm>
            <a:off x="179280" y="620640"/>
            <a:ext cx="864072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Mundo de la vida: </a:t>
            </a:r>
            <a:r>
              <a:rPr b="0" lang="es-CL" sz="2000" spc="-1" strike="noStrike">
                <a:solidFill>
                  <a:srgbClr val="000000"/>
                </a:solidFill>
                <a:latin typeface="Calibri"/>
              </a:rPr>
              <a:t>toda la esfera de las experiencias, orientaciones, y acciones  cotidianas, a través de las cuales los individuos persiguen sus intereses y sus asuntos, manipulando objetos, tratando con personas, concibiendo planes y llevándolos a cabo. </a:t>
            </a:r>
            <a:endParaRPr b="0" lang="en-US" sz="2000" spc="-1" strike="noStrike">
              <a:solidFill>
                <a:srgbClr val="000000"/>
              </a:solidFill>
              <a:latin typeface="Arial"/>
            </a:endParaRPr>
          </a:p>
          <a:p>
            <a:pPr marL="514440" indent="-514440" algn="just">
              <a:lnSpc>
                <a:spcPct val="10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acento en esta visión está puesto en la construcción que hace el sujeto de "su" mundo de la vida.  </a:t>
            </a:r>
            <a:endParaRPr b="0" lang="en-US" sz="2000" spc="-1" strike="noStrike">
              <a:solidFill>
                <a:srgbClr val="000000"/>
              </a:solidFill>
              <a:latin typeface="Arial"/>
            </a:endParaRPr>
          </a:p>
          <a:p>
            <a:pPr marL="514440" indent="-514440" algn="just">
              <a:lnSpc>
                <a:spcPct val="10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perspectiva desde la cual se sitúa Habermas, hay un giro apreciable hacia la dimensión socialmente "compartida" del mundo de la vida. </a:t>
            </a:r>
            <a:endParaRPr b="0" lang="en-US" sz="2000" spc="-1" strike="noStrike">
              <a:solidFill>
                <a:srgbClr val="000000"/>
              </a:solidFill>
              <a:latin typeface="Arial"/>
            </a:endParaRPr>
          </a:p>
          <a:p>
            <a:pPr marL="514440" indent="-5144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El mundo de la vida está constituido por una tradición cultural compartida por una comunidad, de modo tal que en él los miembros del grupo encuentran un contexto ya interpretado en lo que atañe a su situ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Habermas el mundo de la vida está intersubjetivamente compartido y constituye el trasfondo de la acción comunicativa, de la interacción socia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3106-59E0-4044-8289-AA8F00E030B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tres mundos del mundo de la vida</a:t>
            </a:r>
            <a:endParaRPr b="0" lang="en-US" sz="2800" spc="-1" strike="noStrike">
              <a:solidFill>
                <a:srgbClr val="000000"/>
              </a:solidFill>
              <a:latin typeface="Calibri"/>
            </a:endParaRPr>
          </a:p>
        </p:txBody>
      </p:sp>
      <p:sp>
        <p:nvSpPr>
          <p:cNvPr id="73"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1" i="1" lang="es-CL" sz="2000" spc="-1" strike="noStrike">
                <a:solidFill>
                  <a:srgbClr val="000000"/>
                </a:solidFill>
                <a:latin typeface="Calibri"/>
              </a:rPr>
              <a:t>El significado de mundo de la vida puede aclararse intuitivamente por referencia a aquellos objetos simbólicos que generamos cuando hablamos y actuamos desde las manifestaciones inmediatas</a:t>
            </a:r>
            <a:r>
              <a:rPr b="1" lang="es-CL" sz="2000" spc="-1" strike="noStrike">
                <a:solidFill>
                  <a:srgbClr val="000000"/>
                </a:solidFill>
                <a:latin typeface="Calibri"/>
              </a:rPr>
              <a:t> </a:t>
            </a:r>
            <a:r>
              <a:rPr b="0" lang="es-CL" sz="2000" spc="-1" strike="noStrike">
                <a:solidFill>
                  <a:srgbClr val="000000"/>
                </a:solidFill>
                <a:latin typeface="Calibri"/>
              </a:rPr>
              <a:t>(actos de habla, actividades teleológicas) </a:t>
            </a:r>
            <a:r>
              <a:rPr b="1" i="1" lang="es-CL" sz="2000" spc="-1" strike="noStrike">
                <a:solidFill>
                  <a:srgbClr val="000000"/>
                </a:solidFill>
                <a:latin typeface="Calibri"/>
              </a:rPr>
              <a:t>pasando por los sedimentos de tales manifestaciones</a:t>
            </a:r>
            <a:r>
              <a:rPr b="1" lang="es-CL" sz="2000" spc="-1" strike="noStrike">
                <a:solidFill>
                  <a:srgbClr val="000000"/>
                </a:solidFill>
                <a:latin typeface="Calibri"/>
              </a:rPr>
              <a:t> </a:t>
            </a:r>
            <a:r>
              <a:rPr b="0" lang="es-CL" sz="2000" spc="-1" strike="noStrike">
                <a:solidFill>
                  <a:srgbClr val="000000"/>
                </a:solidFill>
                <a:latin typeface="Calibri"/>
              </a:rPr>
              <a:t>(textos, tradiciones, documentos, obras de arte, teorías, objetos de la cultura material, bienes, técnicas), </a:t>
            </a:r>
            <a:r>
              <a:rPr b="1" i="1" lang="es-CL" sz="2000" spc="-1" strike="noStrike">
                <a:solidFill>
                  <a:srgbClr val="000000"/>
                </a:solidFill>
                <a:latin typeface="Calibri"/>
              </a:rPr>
              <a:t>hasta los productos generados indirectamente, susceptibles de organización y capaces de estabilizarse a sí mismos </a:t>
            </a:r>
            <a:r>
              <a:rPr b="0" lang="es-CL" sz="2000" spc="-1" strike="noStrike">
                <a:solidFill>
                  <a:srgbClr val="000000"/>
                </a:solidFill>
                <a:latin typeface="Calibri"/>
              </a:rPr>
              <a:t>(como son las instituciones, los sistemas sociales y las estructuras de la personalidad)". </a:t>
            </a:r>
            <a:endParaRPr b="0" lang="en-US" sz="2000" spc="-1" strike="noStrike">
              <a:solidFill>
                <a:srgbClr val="000000"/>
              </a:solidFill>
              <a:latin typeface="Arial"/>
            </a:endParaRPr>
          </a:p>
          <a:p>
            <a:pPr marL="514440" indent="-514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mundo de la vida, socialmente compartido, es la interpretación que nos hacemos del mundo concreto en el cual se desenvuelve nuestra vida, que es a la vez material, personal, y social. </a:t>
            </a:r>
            <a:endParaRPr b="0" lang="en-US" sz="2000" spc="-1" strike="noStrike">
              <a:solidFill>
                <a:srgbClr val="000000"/>
              </a:solidFill>
              <a:latin typeface="Arial"/>
            </a:endParaRPr>
          </a:p>
          <a:p>
            <a:pPr marL="514440" indent="-514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undo de la vida no es una herramienta sino un proceso interpretativo que está en constante movimiento; el mundo de la vida está en un permanente proceso de construcción.</a:t>
            </a:r>
            <a:endParaRPr b="0" lang="en-US" sz="2000" spc="-1" strike="noStrike">
              <a:solidFill>
                <a:srgbClr val="000000"/>
              </a:solidFill>
              <a:latin typeface="Arial"/>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E184-3463-42E3-8EE3-31D0EE3BFDA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tres mundos del mundo de la vida: imagen del mundo</a:t>
            </a:r>
            <a:endParaRPr b="0" lang="en-US" sz="2800" spc="-1" strike="noStrike">
              <a:solidFill>
                <a:srgbClr val="000000"/>
              </a:solidFill>
              <a:latin typeface="Calibri"/>
            </a:endParaRPr>
          </a:p>
        </p:txBody>
      </p:sp>
      <p:sp>
        <p:nvSpPr>
          <p:cNvPr id="76"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magen del mundo entra en la concepción habermasiana como la matriz racionalizadora del mundo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en la imagen del mundo que el sujeto le confiere sentido a su existencia y al contexto en el que está situado. Hablamos de la capacidad "racionalizadora" que tiene la imagen del mundo desde el punto de vista de conferir "sentido" a la realidad.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idea adquiere una especial relevancia en el análisis de la racionalización de la vida y el desencantamiento del mundo propuesto por Max Weber (la tesis de la "pérdida de senti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magen racionalizada del mundo incorpora por una variedad de organizaciones de sentido, tales como los modelos pautados de comportamiento ("valores"), los códigos que posibilitan la acción comunicativa, las destrezas instrumentales con las cuales podemos operar en el mundo factual, los paradigmas para la reproducción simbólica de la realidad, los modelos de organización socia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risis del "desencantamiento" del mundo, o pérdida de sentido, que es uno de los grandes temas de la aproximación weberiana a la modernidad, es ante todo, una crisis de la imagen del mundo; en otras palabras en una "irracionalización" del mundo de la vida. </a:t>
            </a:r>
            <a:endParaRPr b="0" lang="en-US" sz="2000" spc="-1" strike="noStrike">
              <a:solidFill>
                <a:srgbClr val="000000"/>
              </a:solidFill>
              <a:latin typeface="Arial"/>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4288-7CED-4E8A-8E9A-23DB026BE9E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tres mundos del mundo de la vida: imagen del mundo</a:t>
            </a:r>
            <a:endParaRPr b="0" lang="en-US" sz="2800" spc="-1" strike="noStrike">
              <a:solidFill>
                <a:srgbClr val="000000"/>
              </a:solidFill>
              <a:latin typeface="Calibri"/>
            </a:endParaRPr>
          </a:p>
        </p:txBody>
      </p:sp>
      <p:sp>
        <p:nvSpPr>
          <p:cNvPr id="79"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risis moderna de la imagen del mundo es una racionalización unilateral, en donde la racionalidad instrumental "coloniza" todo el mundo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producción de la sociedad posibilita la transmisión de las imágenes del mundo con las cuales nos representamos a la sociedad en la concienci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importante señalar que en la reproducción/transmisión de la imagen del mundo supone un medio "lingüistizado", es decir, un medio que hace posible la interacción mediada por símbol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magen del mundo se dirige a problemas que "se repiten en todas las culturas, del nacimiento y la muerte, de la enfermedad y la desgracia, de la culpa, del amor, de la solidaridad y de la soledad, estructuran formas de vida que no son comparables en su valor"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mprensión moderna del mundo se asienta en un sustrato de estructuras universales de racionalidad, pero las sociedades occidentales modernas fomentan una comprensión distorsionada de la realidad, centrada en los aspectos cognitivo-instrumentale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un sistema moderno el pensamiento es más puntual, más reducido y, por así decirlo más económico.</a:t>
            </a:r>
            <a:endParaRPr b="0" lang="en-US" sz="2000" spc="-1" strike="noStrike">
              <a:solidFill>
                <a:srgbClr val="000000"/>
              </a:solidFill>
              <a:latin typeface="Arial"/>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D928-D111-4C69-8B6C-B1596EC0ACB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Tres mundos:  objetivo, social y subjetivo</a:t>
            </a:r>
            <a:endParaRPr b="0" lang="en-US" sz="2800" spc="-1" strike="noStrike">
              <a:solidFill>
                <a:srgbClr val="000000"/>
              </a:solidFill>
              <a:latin typeface="Calibri"/>
            </a:endParaRPr>
          </a:p>
        </p:txBody>
      </p:sp>
      <p:sp>
        <p:nvSpPr>
          <p:cNvPr id="82"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undo objetivo es supuesto en común como la totalidad de los hechos; el mundo social es también supuesto en común como la totalidad de las relaciones interpersonales que son reconocidas por los integrantes como legítimas; el mundo subjetivo representa la totalidad de las vivencias a las que, en cada caso, sólo un individuo tiene un acceso privilegiad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de el punto de vista del lenguaje, que tiene un rol central en el pensamiento de Habermas, el mundo objetivo se entiende como el conjunto de todas las entidades sobre las cuales son posibles enunciados verdaderos. El mundo social como el conjunto de todas las relaciones interpersonales legítimamente reguladas; y el mundo subjetivo como la totalidad de las vivencias del "hablante" a las que éste tiene un acceso privilegiad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universo externo se divide en un mundo de objetos perceptibles y manipulables y un mundo de relaciones interpersonales normativamente reguladas. </a:t>
            </a:r>
            <a:endParaRPr b="0" lang="en-US" sz="2000" spc="-1" strike="noStrike">
              <a:solidFill>
                <a:srgbClr val="000000"/>
              </a:solidFill>
              <a:latin typeface="Arial"/>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3219-9D26-41BB-A00D-A3F0F806F20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Tres mundos:  objetivo, social y subjetivo</a:t>
            </a:r>
            <a:endParaRPr b="0" lang="en-US" sz="2800" spc="-1" strike="noStrike">
              <a:solidFill>
                <a:srgbClr val="000000"/>
              </a:solidFill>
              <a:latin typeface="Calibri"/>
            </a:endParaRPr>
          </a:p>
        </p:txBody>
      </p:sp>
      <p:sp>
        <p:nvSpPr>
          <p:cNvPr id="85"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noción de imagen del mundo es de una importancia esencial, puesto que nos hace inteligible el mundo de la vida, y este mundo, nos dice Habermas, "acumula el trabajo de interpretación realizado por las generaciones pasad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magen lingüística del mundo, es una condición necesaria para acceder a un sistema de interpretación susceptible de crític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bermas opta por el concepto cotidiano del mundo de la vida, pues los agentes comunicativos localizan y datan sus emisiones en el espacio social y en el tiempo históric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práctica cotidiana comunicativa las personas no sólo salen a encontrarse unas con otras, sino que también hacen exposiciones narrativas de los acontecimientos en sus respectivos mundos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roducción de narraciones supone inequívocamente la mediación lingüística, y representa a la vez la constitución de un comportamiento regido por regla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es la razón del inevitable giro lingüístico hacia el cual se mueve el desarrollo analítico de Haberm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4A73-963C-4A63-8822-2725DF79E20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roceso de construcción del mundo de la vida </a:t>
            </a:r>
            <a:endParaRPr b="0" lang="en-US" sz="2800" spc="-1" strike="noStrike">
              <a:solidFill>
                <a:srgbClr val="000000"/>
              </a:solidFill>
              <a:latin typeface="Calibri"/>
            </a:endParaRPr>
          </a:p>
        </p:txBody>
      </p:sp>
      <p:sp>
        <p:nvSpPr>
          <p:cNvPr id="88"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gún Habermas, el proceso de construcción del mundo de la vida se estructura en torno a dos grandes ejes: uno es el escenario social y el otro es el eje de la dimensión temporal de la existenci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primera dimensión nos da criterios para situarnos en lo que se podría llamar el </a:t>
            </a:r>
            <a:r>
              <a:rPr b="1" i="1" lang="es-CL" sz="2000" spc="-1" strike="noStrike">
                <a:solidFill>
                  <a:srgbClr val="000000"/>
                </a:solidFill>
                <a:latin typeface="Calibri"/>
              </a:rPr>
              <a:t>espacio social</a:t>
            </a:r>
            <a:r>
              <a:rPr b="0" lang="es-CL" sz="2000" spc="-1" strike="noStrike">
                <a:solidFill>
                  <a:srgbClr val="000000"/>
                </a:solidFill>
                <a:latin typeface="Calibri"/>
              </a:rPr>
              <a:t>, que </a:t>
            </a:r>
            <a:r>
              <a:rPr b="1" i="1" lang="es-CL" sz="2000" spc="-1" strike="noStrike">
                <a:solidFill>
                  <a:srgbClr val="000000"/>
                </a:solidFill>
                <a:latin typeface="Calibri"/>
              </a:rPr>
              <a:t>tiene una parte</a:t>
            </a:r>
            <a:r>
              <a:rPr b="0" lang="es-CL" sz="2000" spc="-1" strike="noStrike">
                <a:solidFill>
                  <a:srgbClr val="000000"/>
                </a:solidFill>
                <a:latin typeface="Calibri"/>
              </a:rPr>
              <a:t> </a:t>
            </a:r>
            <a:r>
              <a:rPr b="1" i="1" lang="es-CL" sz="2000" spc="-1" strike="noStrike">
                <a:solidFill>
                  <a:srgbClr val="000000"/>
                </a:solidFill>
                <a:latin typeface="Calibri"/>
              </a:rPr>
              <a:t>privada</a:t>
            </a:r>
            <a:r>
              <a:rPr b="0" lang="es-CL" sz="2000" spc="-1" strike="noStrike">
                <a:solidFill>
                  <a:srgbClr val="000000"/>
                </a:solidFill>
                <a:latin typeface="Calibri"/>
              </a:rPr>
              <a:t> y otra </a:t>
            </a:r>
            <a:r>
              <a:rPr b="1" i="1" lang="es-CL" sz="2000" spc="-1" strike="noStrike">
                <a:solidFill>
                  <a:srgbClr val="000000"/>
                </a:solidFill>
                <a:latin typeface="Calibri"/>
              </a:rPr>
              <a:t>pública</a:t>
            </a:r>
            <a:r>
              <a:rPr b="0" lang="es-CL" sz="2000" spc="-1" strike="noStrike">
                <a:solidFill>
                  <a:srgbClr val="000000"/>
                </a:solidFill>
                <a:latin typeface="Calibri"/>
              </a:rPr>
              <a:t>.</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undo privado es el mundo de las vivencias y experiencias personales. Es un mundo íntimo que no es fácilmente traspasable, salvo que estemos en una relación profundamente afectiva. Es el afecto el que nos permite hacer comunicable este mundo priva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a:t>
            </a:r>
            <a:r>
              <a:rPr b="1" i="1" lang="es-CL" sz="2000" spc="-1" strike="noStrike">
                <a:solidFill>
                  <a:srgbClr val="000000"/>
                </a:solidFill>
                <a:latin typeface="Calibri"/>
              </a:rPr>
              <a:t>mundo público</a:t>
            </a:r>
            <a:r>
              <a:rPr b="0" lang="es-CL" sz="2000" spc="-1" strike="noStrike">
                <a:solidFill>
                  <a:srgbClr val="000000"/>
                </a:solidFill>
                <a:latin typeface="Calibri"/>
              </a:rPr>
              <a:t>, que se experimenta en el ámbito de la sociedad amplia donde se nos está llamando a desempeñar un conjunto de roles que, en gran medida ya están definidos para nosotros, y que dan origen a ciertas expectativas de comportamiento, </a:t>
            </a:r>
            <a:r>
              <a:rPr b="1" i="1" lang="es-CL" sz="2000" spc="-1" strike="noStrike">
                <a:solidFill>
                  <a:srgbClr val="000000"/>
                </a:solidFill>
                <a:latin typeface="Calibri"/>
              </a:rPr>
              <a:t>es</a:t>
            </a:r>
            <a:r>
              <a:rPr b="0" lang="es-CL" sz="2000" spc="-1" strike="noStrike">
                <a:solidFill>
                  <a:srgbClr val="000000"/>
                </a:solidFill>
                <a:latin typeface="Calibri"/>
              </a:rPr>
              <a:t> </a:t>
            </a:r>
            <a:r>
              <a:rPr b="1" i="1" lang="es-CL" sz="2000" spc="-1" strike="noStrike">
                <a:solidFill>
                  <a:srgbClr val="000000"/>
                </a:solidFill>
                <a:latin typeface="Calibri"/>
              </a:rPr>
              <a:t>un</a:t>
            </a:r>
            <a:r>
              <a:rPr b="0" lang="es-CL" sz="2000" spc="-1" strike="noStrike">
                <a:solidFill>
                  <a:srgbClr val="000000"/>
                </a:solidFill>
                <a:latin typeface="Calibri"/>
              </a:rPr>
              <a:t> </a:t>
            </a:r>
            <a:r>
              <a:rPr b="1" i="1" lang="es-CL" sz="2000" spc="-1" strike="noStrike">
                <a:solidFill>
                  <a:srgbClr val="000000"/>
                </a:solidFill>
                <a:latin typeface="Calibri"/>
              </a:rPr>
              <a:t>espacio social de acceso generalizado</a:t>
            </a:r>
            <a:r>
              <a:rPr b="0" lang="es-CL" sz="2000" spc="-1" strike="noStrike">
                <a:solidFill>
                  <a:srgbClr val="000000"/>
                </a:solidFill>
                <a:latin typeface="Calibri"/>
              </a:rPr>
              <a:t> (no privilegiado como es el ámbito de la vida priva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lo de la vida pública puede entonces ser entendido como todo el conjunto de espacios y ámbitos sociales donde está garantizado el acceso generalizado. </a:t>
            </a:r>
            <a:endParaRPr b="0" lang="en-US" sz="2000" spc="-1" strike="noStrike">
              <a:solidFill>
                <a:srgbClr val="000000"/>
              </a:solidFill>
              <a:latin typeface="Arial"/>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B6EE8-1136-48B8-8C4C-4869234E1BD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roceso de construcción del mundo de la vida </a:t>
            </a:r>
            <a:endParaRPr b="0" lang="en-US" sz="2800" spc="-1" strike="noStrike">
              <a:solidFill>
                <a:srgbClr val="000000"/>
              </a:solidFill>
              <a:latin typeface="Calibri"/>
            </a:endParaRPr>
          </a:p>
        </p:txBody>
      </p:sp>
      <p:sp>
        <p:nvSpPr>
          <p:cNvPr id="91"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ambién existe un </a:t>
            </a:r>
            <a:r>
              <a:rPr b="1" i="1" lang="es-CL" sz="1800" spc="-1" strike="noStrike">
                <a:solidFill>
                  <a:srgbClr val="000000"/>
                </a:solidFill>
                <a:latin typeface="Calibri"/>
              </a:rPr>
              <a:t>eje de ubicación </a:t>
            </a:r>
            <a:r>
              <a:rPr b="0" lang="es-CL" sz="1800" spc="-1" strike="noStrike">
                <a:solidFill>
                  <a:srgbClr val="000000"/>
                </a:solidFill>
                <a:latin typeface="Calibri"/>
              </a:rPr>
              <a:t>en el mundo que es el </a:t>
            </a:r>
            <a:r>
              <a:rPr b="1" i="1" lang="es-CL" sz="1800" spc="-1" strike="noStrike">
                <a:solidFill>
                  <a:srgbClr val="000000"/>
                </a:solidFill>
                <a:latin typeface="Calibri"/>
              </a:rPr>
              <a:t>tiempo histórico</a:t>
            </a:r>
            <a:r>
              <a:rPr b="0" lang="es-CL" sz="1800" spc="-1" strike="noStrike">
                <a:solidFill>
                  <a:srgbClr val="000000"/>
                </a:solidFill>
                <a:latin typeface="Calibri"/>
              </a:rPr>
              <a:t>, con sus dos polos, el pasado y el futuro</a:t>
            </a: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a:t>
            </a:r>
            <a:r>
              <a:rPr b="1" lang="es-CL" sz="1800" spc="-1" strike="noStrike">
                <a:solidFill>
                  <a:srgbClr val="000000"/>
                </a:solidFill>
                <a:latin typeface="Calibri"/>
              </a:rPr>
              <a:t>espacio social </a:t>
            </a:r>
            <a:r>
              <a:rPr b="0" lang="es-CL" sz="1800" spc="-1" strike="noStrike">
                <a:solidFill>
                  <a:srgbClr val="000000"/>
                </a:solidFill>
                <a:latin typeface="Calibri"/>
              </a:rPr>
              <a:t>está organizado en un campo que se extiende desde el polo del ámbito privado de la vida personal hasta el polo del ámbito público en que se desenvuelve la vida social. La diferenciación de lo privado y lo público define el contenido central y fundamental de este eje. </a:t>
            </a: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a:t>
            </a:r>
            <a:r>
              <a:rPr b="1" lang="es-CL" sz="1800" spc="-1" strike="noStrike">
                <a:solidFill>
                  <a:srgbClr val="000000"/>
                </a:solidFill>
                <a:latin typeface="Calibri"/>
              </a:rPr>
              <a:t>dimensión temporal </a:t>
            </a:r>
            <a:r>
              <a:rPr b="0" lang="es-CL" sz="1800" spc="-1" strike="noStrike">
                <a:solidFill>
                  <a:srgbClr val="000000"/>
                </a:solidFill>
                <a:latin typeface="Calibri"/>
              </a:rPr>
              <a:t>está organizada entre el polo del pasado hacia el cual nos refiere nuestra memoria para reconocer la permanencia y el cambio que experimentamos en el desarrollo de nuestra identidad personal, y el polo del futuro que recoge las visiones de mundo hacia las cuales tendemos y que reconocemos y anticipamos como apropiadas a nuestra identidad. </a:t>
            </a:r>
            <a:endParaRPr b="0" lang="en-US" sz="1800" spc="-1" strike="noStrike">
              <a:solidFill>
                <a:srgbClr val="000000"/>
              </a:solidFill>
              <a:latin typeface="Arial"/>
            </a:endParaRPr>
          </a:p>
          <a:p>
            <a:pPr lvl="1" marL="971640" indent="-514440" algn="just">
              <a:lnSpc>
                <a:spcPct val="100000"/>
              </a:lnSpc>
              <a:spcBef>
                <a:spcPts val="40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ea typeface="Arial"/>
              </a:rPr>
              <a:t>El pasado puede ser reconstruido tanto en el ámbito de la vida privada, personal, propia de cada uno de nosotros, como en el ámbito de la vida pública, en que se organizan nuestras historias compartidas con otros con los cuales nos sentimos perteneciendo al mismo grupo social. </a:t>
            </a:r>
            <a:endParaRPr b="0" lang="en-US" sz="1600" spc="-1" strike="noStrike">
              <a:solidFill>
                <a:srgbClr val="000000"/>
              </a:solidFill>
              <a:latin typeface="Arial"/>
            </a:endParaRPr>
          </a:p>
          <a:p>
            <a:pPr lvl="1" marL="971640" indent="-514440" algn="just">
              <a:lnSpc>
                <a:spcPct val="100000"/>
              </a:lnSpc>
              <a:spcBef>
                <a:spcPts val="40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ea typeface="Arial"/>
              </a:rPr>
              <a:t>El futuro puede ser anticipado como proyección de nuestra vida personal, - como proyecto de vida-, o bien como imagen del mundo comunitariamente compartido, es decir, como utopía social.</a:t>
            </a:r>
            <a:endParaRPr b="0" lang="en-US" sz="16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ruzamiento de estos dos ejes del mundo de la vida establece el escenario completo donde es posible "centrar" nuestra existencia personal y social. </a:t>
            </a: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l mismo tiempo ese cruzamiento permite diferenciar los cuadrantes (los distintos "mundos") donde se construye el mundo de la vida.</a:t>
            </a:r>
            <a:endParaRPr b="0" lang="en-US" sz="1800" spc="-1" strike="noStrike">
              <a:solidFill>
                <a:srgbClr val="000000"/>
              </a:solidFill>
              <a:latin typeface="Arial"/>
            </a:endParaRPr>
          </a:p>
        </p:txBody>
      </p:sp>
      <p:sp>
        <p:nvSpPr>
          <p:cNvPr id="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1A31-88E3-41AC-A541-C077A3795D6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arámetros de la construcción del mundo de la vida</a:t>
            </a:r>
            <a:endParaRPr b="0" lang="en-US" sz="2800" spc="-1" strike="noStrike">
              <a:solidFill>
                <a:srgbClr val="000000"/>
              </a:solidFill>
              <a:latin typeface="Calibri"/>
            </a:endParaRPr>
          </a:p>
        </p:txBody>
      </p:sp>
      <p:sp>
        <p:nvSpPr>
          <p:cNvPr id="94"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276A-5716-4D21-AAE6-EC809390648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96" name=""/>
          <p:cNvGraphicFramePr/>
          <p:nvPr/>
        </p:nvGraphicFramePr>
        <p:xfrm>
          <a:off x="1523880" y="1397160"/>
          <a:ext cx="6096240" cy="1960560"/>
        </p:xfrm>
        <a:graphic>
          <a:graphicData uri="http://schemas.openxmlformats.org/drawingml/2006/table">
            <a:tbl>
              <a:tblPr/>
              <a:tblGrid>
                <a:gridCol w="3048120"/>
                <a:gridCol w="3048120"/>
              </a:tblGrid>
              <a:tr h="1023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Historia Común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Utopías (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3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Vivencia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ersonales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oyectos de Vida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 name="7 CuadroTexto"/>
          <p:cNvSpPr/>
          <p:nvPr/>
        </p:nvSpPr>
        <p:spPr>
          <a:xfrm>
            <a:off x="4067280" y="765000"/>
            <a:ext cx="100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úblico</a:t>
            </a:r>
            <a:endParaRPr b="0" lang="en-US" sz="2000" spc="-1" strike="noStrike">
              <a:solidFill>
                <a:srgbClr val="000000"/>
              </a:solidFill>
              <a:latin typeface="Arial"/>
            </a:endParaRPr>
          </a:p>
        </p:txBody>
      </p:sp>
      <p:sp>
        <p:nvSpPr>
          <p:cNvPr id="98" name="8 CuadroTexto"/>
          <p:cNvSpPr/>
          <p:nvPr/>
        </p:nvSpPr>
        <p:spPr>
          <a:xfrm>
            <a:off x="4140360" y="350028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rivado</a:t>
            </a:r>
            <a:endParaRPr b="0" lang="en-US" sz="2000" spc="-1" strike="noStrike">
              <a:solidFill>
                <a:srgbClr val="000000"/>
              </a:solidFill>
              <a:latin typeface="Arial"/>
            </a:endParaRPr>
          </a:p>
        </p:txBody>
      </p:sp>
      <p:sp>
        <p:nvSpPr>
          <p:cNvPr id="99" name="9 CuadroTexto"/>
          <p:cNvSpPr/>
          <p:nvPr/>
        </p:nvSpPr>
        <p:spPr>
          <a:xfrm>
            <a:off x="7740720" y="2205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Futuro</a:t>
            </a:r>
            <a:endParaRPr b="0" lang="en-US" sz="2000" spc="-1" strike="noStrike">
              <a:solidFill>
                <a:srgbClr val="000000"/>
              </a:solidFill>
              <a:latin typeface="Arial"/>
            </a:endParaRPr>
          </a:p>
        </p:txBody>
      </p:sp>
      <p:sp>
        <p:nvSpPr>
          <p:cNvPr id="100" name="10 CuadroTexto"/>
          <p:cNvSpPr/>
          <p:nvPr/>
        </p:nvSpPr>
        <p:spPr>
          <a:xfrm>
            <a:off x="324000" y="223668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asado</a:t>
            </a:r>
            <a:endParaRPr b="0" lang="en-US" sz="2000" spc="-1" strike="noStrike">
              <a:solidFill>
                <a:srgbClr val="000000"/>
              </a:solidFill>
              <a:latin typeface="Arial"/>
            </a:endParaRPr>
          </a:p>
        </p:txBody>
      </p:sp>
      <p:sp>
        <p:nvSpPr>
          <p:cNvPr id="101" name="2 Marcador de contenido"/>
          <p:cNvSpPr/>
          <p:nvPr/>
        </p:nvSpPr>
        <p:spPr>
          <a:xfrm>
            <a:off x="179280" y="3924360"/>
            <a:ext cx="8785440" cy="2529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ida íntima: el mundo pasado/privad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proyectos de vida: el mundo futuro/privad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historia colectiva: el mundo pasado/públic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utopías: el mundo futuro/públ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articipación e identidad</a:t>
            </a:r>
            <a:endParaRPr b="0" lang="en-US" sz="2800" spc="-1" strike="noStrike">
              <a:solidFill>
                <a:srgbClr val="000000"/>
              </a:solidFill>
              <a:latin typeface="Calibri"/>
            </a:endParaRPr>
          </a:p>
        </p:txBody>
      </p:sp>
      <p:sp>
        <p:nvSpPr>
          <p:cNvPr id="103"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3BF3-D5FA-47E8-8073-D7A6DE45633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 name="2 Marcador de contenido"/>
          <p:cNvSpPr/>
          <p:nvPr/>
        </p:nvSpPr>
        <p:spPr>
          <a:xfrm>
            <a:off x="179280" y="620640"/>
            <a:ext cx="8785440" cy="5832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articipación social es siempre el tránsito de ida y vuelta entre la esfera de la vida privada y la de la vida públic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dentidad es siempre un tránsito entre el pasado y el futur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ticipación e identidad no son condiciones o situaciones estáticas, sino procesos fluidos, dinámicos, que consisten en "pasajes", en tránsitos permanent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dentidad se trabaja sin cesar como una comprobación del cambio o no cambio que existe en mí mismo respecto de mi experiencia personal acumulada y a la posibilidad de cambio respecto del futuro anticipa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a doble referencia, simultáneamente hacia el pasado y hacia al futuro es, en el fondo, el dilema fenomenológico de la identidad, del ensimismamiento que está en el núcleo de la construcción de la identidad personal.</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oceso que caracteriza a la participación es el doble recorrido de ida y vuelta que va de la esfera privada a la pública.:</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tránsito que se da entre el mundo de las vivencias personales y el mundo de la historia colectiva, se refiere a la participación como proceso que interconecta nuestra vida personal, el sustrato profundo y elemental de nuestra "historia" vivencial,  con el mundo de la historia compartida en la comunidad mayor de la cual formamos par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Habermas y la modernidad traicionada</a:t>
            </a:r>
            <a:endParaRPr b="0" lang="en-US" sz="3200" spc="-1" strike="noStrike">
              <a:solidFill>
                <a:srgbClr val="000000"/>
              </a:solidFill>
              <a:latin typeface="Calibri"/>
            </a:endParaRPr>
          </a:p>
        </p:txBody>
      </p:sp>
      <p:sp>
        <p:nvSpPr>
          <p:cNvPr id="46" name="2 Marcador de contenido"/>
          <p:cNvSpPr/>
          <p:nvPr/>
        </p:nvSpPr>
        <p:spPr>
          <a:xfrm>
            <a:off x="826920" y="981000"/>
            <a:ext cx="7417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Bitácora:</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tecedentes: la Escuela de Frankfurt.</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teoría crítica en la perspectiva de Habermas.</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acción comunicativa y la problemática de la racionalidad.</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mundos del mundo de la vida.</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relación del mundo de la vida con el sistema social.</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teoría de la modernidad.</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56B4-0FD1-4EBB-8B13-B257402B6FA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articipación e identidad</a:t>
            </a:r>
            <a:endParaRPr b="0" lang="en-US" sz="2800" spc="-1" strike="noStrike">
              <a:solidFill>
                <a:srgbClr val="000000"/>
              </a:solidFill>
              <a:latin typeface="Calibri"/>
            </a:endParaRPr>
          </a:p>
        </p:txBody>
      </p:sp>
      <p:sp>
        <p:nvSpPr>
          <p:cNvPr id="107"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A620-1B08-4ECD-B60C-981EA6A15E2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2 Marcador de contenido"/>
          <p:cNvSpPr/>
          <p:nvPr/>
        </p:nvSpPr>
        <p:spPr>
          <a:xfrm>
            <a:off x="179280" y="620640"/>
            <a:ext cx="8785440" cy="5832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articipación social nos inserta en la corriente histórica de la vida colectiva, a la cual nos sentimos contribuyendo desde nuestra experiencia personal que se hace comunicable hacia los demás  y, por otra parte,  enriquece el significado de nuestra vida íntima al proyectar en ella la presencia de los otros. Historias personales e historia colectiva pasan a ser entonces momentos de un proceso diversificado y ampliado.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Calibri"/>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La participación significa también un movimiento que interconecta nuestros proyectos de vida con las imágenes compartidas de la sociedad deseada, es decir, con las utopías. Por medio de la participación aportamos a la construcción de la sociedad deseada nuestros propios proyectos de vida que construimos en la esfera privada y, de vuelta, enriquecemos éstos con la proyección de la imagen de sociedad que nos viene dada desde el ámbito público.</a:t>
            </a:r>
            <a:endParaRPr b="0" lang="en-US" sz="18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su parte, el proceso de </a:t>
            </a:r>
            <a:r>
              <a:rPr b="1" lang="es-CL" sz="2000" spc="-1" strike="noStrike">
                <a:solidFill>
                  <a:srgbClr val="000000"/>
                </a:solidFill>
                <a:latin typeface="Calibri"/>
              </a:rPr>
              <a:t>desarrollo de la identidad</a:t>
            </a:r>
            <a:r>
              <a:rPr b="0" lang="es-CL" sz="2000" spc="-1" strike="noStrike">
                <a:solidFill>
                  <a:srgbClr val="000000"/>
                </a:solidFill>
                <a:latin typeface="Calibri"/>
              </a:rPr>
              <a:t>, comprende también un doble movimiento: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Implica un tránsito que interconecta el mundo de las historias colectivas, (un pasado compartido en común por los miembros del grupo) con el mundo de las utopías. Esto quiere decir que todas las imágenes utópicas de la sociedad futura deseada, se originan en la matriz de la historia compartida en el seno del gru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articipación e identidad</a:t>
            </a:r>
            <a:endParaRPr b="0" lang="en-US" sz="2800" spc="-1" strike="noStrike">
              <a:solidFill>
                <a:srgbClr val="000000"/>
              </a:solidFill>
              <a:latin typeface="Calibri"/>
            </a:endParaRPr>
          </a:p>
        </p:txBody>
      </p:sp>
      <p:sp>
        <p:nvSpPr>
          <p:cNvPr id="111"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3D1A-14E4-47A8-B223-ADEE5CC8949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3" name="2 Marcador de contenido"/>
          <p:cNvSpPr/>
          <p:nvPr/>
        </p:nvSpPr>
        <p:spPr>
          <a:xfrm>
            <a:off x="179280" y="620640"/>
            <a:ext cx="8785440" cy="5832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oda utopía implica un ejercicio de comprensión y proyección histórica; la sociedad futura es siempre imaginada desde y con el pasado. A su vez la historia compartida en común contiene siempre en su seno la fuerza motriz de la acción imaginativa con que el grupo visualiza anticipadamente el estado de cosas que es buscado como objetivo deseable de la acción colectiva. Toda historia contiene siempre un germen de futuro que está sembrado en ella por la acción imaginativa del grupo. Este primer movimiento liga el pasado con el futuro en la esfera del mundo público.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Calibri"/>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desarrollo de la identidad supone también un tránsito que interconecta las vivencias personales, que se guardan en el sustrato de la vida íntima, con los proyectos de vida. Esto significa que la identidad supone la construcción del puente que liga el pasado personal de la persona con la proyección que ella hace de sí misma imaginada hacia el futuro.  Este segundo movimiento de la identidad liga el pasado con el futuro en la esfera del mundo privado.</a:t>
            </a:r>
            <a:endParaRPr b="0" lang="en-US" sz="18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todo momento por la vía de la participación y por la vía de la identidad se pone en juego una cierta combinación de vivencias personales, proyectos de vida, utopías e historias colectivas. Esos son los materiales con que se construye el conjunto variado y amplio en el cual se integran los campos del mundo de la vida. Y eso lo hacemos querámoslo o no, en forma consciente o inconsciente. </a:t>
            </a:r>
            <a:endParaRPr b="0" lang="en-US" sz="2000" spc="-1" strike="noStrike">
              <a:solidFill>
                <a:srgbClr val="000000"/>
              </a:solidFill>
              <a:latin typeface="Arial"/>
            </a:endParaRPr>
          </a:p>
          <a:p>
            <a:pPr marL="514440" indent="-514440" algn="just">
              <a:lnSpc>
                <a:spcPct val="100000"/>
              </a:lnSpc>
              <a:spcBef>
                <a:spcPts val="451"/>
              </a:spcBef>
              <a:buClr>
                <a:srgbClr val="000000"/>
              </a:buClr>
              <a:buSzPct val="80000"/>
              <a:buFont typeface="Calibri"/>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Mundo de la vida y sistema</a:t>
            </a:r>
            <a:endParaRPr b="0" lang="en-US" sz="2800" spc="-1" strike="noStrike">
              <a:solidFill>
                <a:srgbClr val="000000"/>
              </a:solidFill>
              <a:latin typeface="Calibri"/>
            </a:endParaRPr>
          </a:p>
        </p:txBody>
      </p:sp>
      <p:sp>
        <p:nvSpPr>
          <p:cNvPr id="115"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Habermas el concepto de sistema surge ligado a la diferenciación funcional de la sociedad.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uncionalización supone alguna forma de control que opera desde fuera del universo simbólico del sujet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trata de formas de control que posibilitan y aseguran una coordinación de la acción que se rige por la regla de la adecuación funcional de las tareas y actividades que se desempeñan por las diferentes unidades del to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está siempre dotada de organización y ésta surge como acompañante del proceso de diferenciación de las tareas que cada cual acomete dentro de la sociedad.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organización supone a su vez alguna forma de contro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acionalidad de la organización y de las formas de control que le son propias está dada por la coordinación de la ac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ordinación de la acción es también la racionalidad de la acción comunicativ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Ésta es la que se da entre dos o más sujetos capaces de lenguaje para alcanzar un consenso sobre la coordinación de sus planes de acción. </a:t>
            </a:r>
            <a:endParaRPr b="0" lang="en-US" sz="2000" spc="-1" strike="noStrike">
              <a:solidFill>
                <a:srgbClr val="000000"/>
              </a:solidFill>
              <a:latin typeface="Arial"/>
            </a:endParaRPr>
          </a:p>
        </p:txBody>
      </p:sp>
      <p:sp>
        <p:nvSpPr>
          <p:cNvPr id="11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7547-369B-4D69-BED2-A95AA73997F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Mundo de la vida y sistema</a:t>
            </a:r>
            <a:endParaRPr b="0" lang="en-US" sz="2800" spc="-1" strike="noStrike">
              <a:solidFill>
                <a:srgbClr val="000000"/>
              </a:solidFill>
              <a:latin typeface="Calibri"/>
            </a:endParaRPr>
          </a:p>
        </p:txBody>
      </p:sp>
      <p:sp>
        <p:nvSpPr>
          <p:cNvPr id="118"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cción comunicativa es la que, por excelencia, integra todos los componentes del mundo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nto el sistema como la acción comunicativa tienden a la coordinación de la ac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ero lo hacen de distinta manera, de modo que no siempre coincide la forma coordinativa del sistema con la forma coordinativa de la acción comunicativ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Habermas habla del acoplamiento del mundo de la vida y el sistema, está refiriéndose a esta doble lógica de coordinación y de allí se explica, entonces, la presencia de este acoplamiento como uno de los ejes principales de toda la reflexión habermasiana sobre la sociedad.</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adoptamos la óptica del sistema para situar los procesos de coordinación y control  de la acción, asumimos la posición del observador.</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adoptamos la óptica del mundo de la vida, asumimos la posición del participante.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son dos estrategias cognitivas diferentes para captar la relación especifica que se da entre la lógica coordinativa del sistema y la del mundo de la vida vía la acción comunicativa </a:t>
            </a:r>
            <a:endParaRPr b="0" lang="en-US" sz="2000" spc="-1" strike="noStrike">
              <a:solidFill>
                <a:srgbClr val="000000"/>
              </a:solidFill>
              <a:latin typeface="Arial"/>
            </a:endParaRPr>
          </a:p>
        </p:txBody>
      </p:sp>
      <p:sp>
        <p:nvSpPr>
          <p:cNvPr id="11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688E-8CD2-4406-962A-EEBD7995E9F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Desacoplamiento del mundo de la vida y el sistema</a:t>
            </a:r>
            <a:endParaRPr b="0" lang="en-US" sz="2800" spc="-1" strike="noStrike">
              <a:solidFill>
                <a:srgbClr val="000000"/>
              </a:solidFill>
              <a:latin typeface="Calibri"/>
            </a:endParaRPr>
          </a:p>
        </p:txBody>
      </p:sp>
      <p:sp>
        <p:nvSpPr>
          <p:cNvPr id="121"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érdida de libertad que Weber atribuye a la burocratización ya no podemos explicarla por el vuelco consistente en que la racionalidad pierda su arraigo en las orientaciones de acción racionales con arreglo a valores y se convierte en una racionalidad con arreglo a fines desprovista de toda base étic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les fenómenos han de considerarse como "efectos de un desacoplamiento de sistema y mundo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paradójica ya no se da entre diversos tipos de orientación de la acción sino entre diversos principios de socializ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acionalización del mundo de la vida hace posible que la integración de la sociedad se polarice hacia medios de control independientes del lenguaje.</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ustitución de la ética por el derecho es señal de que ha quedado conclusa la institucionalización de un medio de contro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ello es que la burocratización pasa a ser un componente normal de la modernización: no es un problema de secularización, como la veía Weber.</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ediatización del mundo de la vida se trueca en una colonización del mundo de la vida: a) las relaciones de intercambio (consumidor y ciudadano; monetarización y burocratización) son relaciones que vienen definidas por roles ligados a una organización (capitalismo e instituto estatal).</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84B6-940A-4D65-BA1D-2E85BE7AEE7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Desacoplamiento del mundo de la vida y el sistema</a:t>
            </a:r>
            <a:endParaRPr b="0" lang="en-US" sz="2800" spc="-1" strike="noStrike">
              <a:solidFill>
                <a:srgbClr val="000000"/>
              </a:solidFill>
              <a:latin typeface="Calibri"/>
            </a:endParaRPr>
          </a:p>
        </p:txBody>
      </p:sp>
      <p:sp>
        <p:nvSpPr>
          <p:cNvPr id="124"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conomía burguesa y la teoría política burguesa elaboran la ficción de la autonomía del consumidor al decidir sus compras y de autonomía del ciudadano al decidir sus vot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orientaciones del consumidor y del ciudadano refieren a procesos previos de formación en la vida privada y en la esfera pública respectivamente.</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caracteriza a la modernidad cultural según Weber, es que la razón sustancial (imágenes religiosas y metafísicas del mundo) se disocia en momentos que sólo se relacionan formalmente entre sí.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iencia, la moral y el arte que son las matrices donde se construyen las representaciones del mundo, quedan cada vez más reducidas a asuntos de expert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profesionalización de estos campos hace creer la distancia entre las culturas de expertos y el gran público  . Allí radica el empobrecimiento del mundo de la vida, el mundo uni-dimensional marcusiano que se apodera de la cultura de masas ("mass culture"): el mundo moderno establece de ese modo la producción industrial de la cultur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C076-52C4-4C24-91B2-86B28C4C531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27"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Teorizar acerca de la modernidad supone una aproximación histórica a los fenómenos de reproducción de la sociedad, es decir supone una caracterización de épocas, entendidas éstas como campos temporalmente acotados. </a:t>
            </a:r>
            <a:endParaRPr b="0" lang="en-US" sz="2200" spc="-1" strike="noStrike">
              <a:solidFill>
                <a:srgbClr val="000000"/>
              </a:solidFill>
              <a:latin typeface="Arial"/>
            </a:endParaRPr>
          </a:p>
          <a:p>
            <a:pPr marL="514440" indent="-5144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tema de la modernidad y su correlato que es el tema de la modernización, tienen un lugar central en la propuesta teórica de Habermas.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Hay una interpretación habermasiana de la historia, lo cual equivale a decir que hay una postura habermasiana frente al fenómeno de la modernidad. </a:t>
            </a:r>
            <a:endParaRPr b="0" lang="en-US" sz="2200" spc="-1" strike="noStrike">
              <a:solidFill>
                <a:srgbClr val="000000"/>
              </a:solidFill>
              <a:latin typeface="Arial"/>
            </a:endParaRPr>
          </a:p>
          <a:p>
            <a:pPr marL="514440" indent="-5144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época moderna se caracteriza por un divorcio perpetuado entre la racionalización del mundo cotidiano de la vida y la creciente complejidad del sistema. </a:t>
            </a:r>
            <a:endParaRPr b="0" lang="en-US" sz="2200" spc="-1" strike="noStrike">
              <a:solidFill>
                <a:srgbClr val="000000"/>
              </a:solidFill>
              <a:latin typeface="Arial"/>
            </a:endParaRPr>
          </a:p>
        </p:txBody>
      </p:sp>
      <p:sp>
        <p:nvSpPr>
          <p:cNvPr id="1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C64A-7603-4A39-A71A-72550C85045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30"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visión histórica indispensable para proponer una teoría habermasiana de la modernidad se puede sintetizar en el cuadro siguiente:</a:t>
            </a:r>
            <a:endParaRPr b="0" lang="en-US" sz="2200" spc="-1" strike="noStrike">
              <a:solidFill>
                <a:srgbClr val="000000"/>
              </a:solidFill>
              <a:latin typeface="Arial"/>
            </a:endParaRPr>
          </a:p>
          <a:p>
            <a:pPr marL="514440" indent="-514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Formas de acoplamiento de sistema y acción</a:t>
            </a:r>
            <a:endParaRPr b="0" lang="en-US" sz="2000" spc="-1" strike="noStrike">
              <a:solidFill>
                <a:srgbClr val="000000"/>
              </a:solidFill>
              <a:latin typeface="Arial"/>
            </a:endParaRPr>
          </a:p>
          <a:p>
            <a:pPr marL="514440" indent="-514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tipos de formaciones sociales</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BE13-1EE3-46EB-837C-C3598CB4111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32" name=""/>
          <p:cNvGraphicFramePr/>
          <p:nvPr/>
        </p:nvGraphicFramePr>
        <p:xfrm>
          <a:off x="250920" y="2546280"/>
          <a:ext cx="8697960" cy="3907080"/>
        </p:xfrm>
        <a:graphic>
          <a:graphicData uri="http://schemas.openxmlformats.org/drawingml/2006/table">
            <a:tbl>
              <a:tblPr/>
              <a:tblGrid>
                <a:gridCol w="2898720"/>
                <a:gridCol w="2898720"/>
                <a:gridCol w="2900520"/>
              </a:tblGrid>
              <a:tr h="30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Coordinación de la acció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15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ea typeface="Times New Roman"/>
                        </a:rPr>
                        <a:t>Diferenciación e integración del sistem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ea typeface="Times New Roman"/>
                        </a:rPr>
                        <a:t>Intercambi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ea typeface="Times New Roman"/>
                        </a:rPr>
                        <a:t>Pode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01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Unidades de estructura similar que están “dada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1)</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Diferenciación segmentaria</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iedad trib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2)</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Estratificación.</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 estamentaria</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 corporativ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036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Unidades de estructura no similar funcionalmente diferenciada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4)</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Medios de control sistémico</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iedad de clases</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Determinada económicamen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3)</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Organización estatal</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iedad de clases</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Determinada políticamen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34"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es un cuadro de ubicación histórica. Se refiere a formaciones sociales que están temporal y espacialmente contextualizad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lave para distinguir estos tipos de sociedades, reside en la combinación de dos criterios definitorios: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proceso mediante el cual se da la coordinación de la acción, o sea, la forma de llevar a cabo la ejecución de planes puestos en común.</a:t>
            </a:r>
            <a:endParaRPr b="0" lang="en-US" sz="18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Las características de las unidades entre las cuales ha de producirse esa coordinación. </a:t>
            </a:r>
            <a:endParaRPr b="0" lang="en-US" sz="18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imer criterio permite distinguir dos grandes modalidades de coordinación, que son:</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a:t>
            </a:r>
            <a:r>
              <a:rPr b="1" lang="es-CL" sz="1800" spc="-1" strike="noStrike">
                <a:solidFill>
                  <a:srgbClr val="000000"/>
                </a:solidFill>
                <a:latin typeface="Calibri"/>
                <a:ea typeface="Arial"/>
              </a:rPr>
              <a:t>intercambio</a:t>
            </a:r>
            <a:r>
              <a:rPr b="0" lang="es-CL" sz="1800" spc="-1" strike="noStrike">
                <a:solidFill>
                  <a:srgbClr val="000000"/>
                </a:solidFill>
                <a:latin typeface="Calibri"/>
                <a:ea typeface="Arial"/>
              </a:rPr>
              <a:t>:  coordinación por medio de la equivalencia reconocida de las aportaciones que hacen los agentes de la acción</a:t>
            </a:r>
            <a:endParaRPr b="0" lang="en-US" sz="18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a:t>
            </a:r>
            <a:r>
              <a:rPr b="1" lang="es-CL" sz="1800" spc="-1" strike="noStrike">
                <a:solidFill>
                  <a:srgbClr val="000000"/>
                </a:solidFill>
                <a:latin typeface="Calibri"/>
                <a:ea typeface="Arial"/>
              </a:rPr>
              <a:t>poder</a:t>
            </a:r>
            <a:r>
              <a:rPr b="0" lang="es-CL" sz="1800" spc="-1" strike="noStrike">
                <a:solidFill>
                  <a:srgbClr val="000000"/>
                </a:solidFill>
                <a:latin typeface="Calibri"/>
                <a:ea typeface="Arial"/>
              </a:rPr>
              <a:t>: coordinación por medio de la aplicación impositiva de una capacidad de dominación. </a:t>
            </a:r>
            <a:endParaRPr b="0" lang="en-US" sz="18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gundo criterio es estructural y permite distinguir unidades similares (estructura homogénea) o no similares (estructura heterogéne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el segundo caso la diferenciación es especialización funcional que está sistémicamente inducida. Para acceder a este tipo de estructura heterogénea, se necesita recurrir a la noción de sistema.</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1740-AA34-41C3-85B3-FDEAEE63CCC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37"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mecanismos que operan en cada una de las celdas del cuadro y que hacen posible el surgimiento y la concreción de la respectiva formación social, son los siguientes, siguiendo el mismo orden del cuadro: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l parentesco.</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jerarquí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burocraci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l diner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o significa que el proceso mediante el cual se concreta la formación social que llamamos "sociedad tribal" pasa por el parentesco. Este es el mecanismo que posibilita la coordinación de la acción por intercambio, entre unidades similares que conforman una estructura social homogénea. El mismo razonamiento es aplicable al resto de los mecanismos (jerarquía, burocracia y diner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uadro contiene otra importante dinámica. Hay un hito histórico que separa la parte superior de la mitad inferior.</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decir, el pasaje de la sociedad estamentaria (cuadrante 2), a la sociedad estatalmente organizada (cuadrante 3) es también el paso a la sociedad modern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E12B-73D6-4ADD-91D9-97A5F76B5F8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Antecedentes: la Escuela de Frankfurt</a:t>
            </a:r>
            <a:endParaRPr b="0" lang="en-US" sz="3200" spc="-1" strike="noStrike">
              <a:solidFill>
                <a:srgbClr val="000000"/>
              </a:solidFill>
              <a:latin typeface="Calibri"/>
            </a:endParaRPr>
          </a:p>
        </p:txBody>
      </p:sp>
      <p:sp>
        <p:nvSpPr>
          <p:cNvPr id="49" name="2 Marcador de contenido"/>
          <p:cNvSpPr/>
          <p:nvPr/>
        </p:nvSpPr>
        <p:spPr>
          <a:xfrm>
            <a:off x="250920" y="620640"/>
            <a:ext cx="856908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scuela de Frankfurt surgió como una consecuencia lógica ante los acontecimientos que desde la década de los años veinte se iniciaban en Europa</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1923 se plantea la necesidad de desarrollar una reflexión global sobre los procesos que consolidan la sociedad burguesa-capitalista y el significado de la teoría ante tal consolidación. De este modo, el Instituto de Investigación Social vendrá a devolver a la Filosofía y a la Ciencia Social su carácter de análisis crítico no sólo en relación a la teoría sino, también, a la praxis y a la conjunción histórica de ambas. </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plantean el estudio del </a:t>
            </a:r>
            <a:r>
              <a:rPr b="1" i="1" lang="es-CL" sz="2000" spc="-1" strike="noStrike">
                <a:solidFill>
                  <a:srgbClr val="000000"/>
                </a:solidFill>
                <a:latin typeface="Calibri"/>
              </a:rPr>
              <a:t>Marxismo</a:t>
            </a:r>
            <a:r>
              <a:rPr b="0" lang="es-CL" sz="2000" spc="-1" strike="noStrike">
                <a:solidFill>
                  <a:srgbClr val="000000"/>
                </a:solidFill>
                <a:latin typeface="Calibri"/>
              </a:rPr>
              <a:t>, pero no desde una perspectiva de afiliación política, sino desde la actualización de los conceptos y problemas de la obra misma de Marx, y que ya en 1922 se habían retomado en una semana de estudio organizada sobre esta problemática.</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scuela de Frankfurt tiene su auténtica génesis con la dirección de Max Horkheimer cuando sucede a Grünberg en la dirección del Instituto. Desde 1931, y ya en 1932 con la publicación de la "Revista de Investigación Social"</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ED93-D95C-4267-9183-AF43497F3FD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40"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itad inferior, que abarca las sociedades de clases (políticamente determinadas y económicamente determinadas, según sea la formación social característica de la cual estamos hablando), corresponde a la sociedad modern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La modernidad es el umbral que históricamente marca el trance del pasaje de la sociedad "antigua" a la moderna, y es también el marco en que se da la diferenciación funcional como basamento de la estructura social "modern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aíz fundamental de la modernidad está, según Habermas, en Hegel, el filósofo de la subjetividad. Mientras el mundo no se piensa y se vive desde la perspectiva del sujeto, no hay modernidad. ¿Qué significa esta afirmación rotun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gnifica que a partir de Hegel, se hace posible la reflexión del sujeto sobre sí mismo, la autoconciencia y la autoreferencia como criterios del ser y del saber.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ubjetividad, así entendida implica: capacidad crítica, individualismo, autonomía del sujeto y pensamiento idealista. El paradigma histórico de la modernidad es por consiguiente la Ilustr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F7A9-A63D-4CE8-A7F8-21980CAC808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43"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uesta en movimiento la comprensión del mundo "desde el sujeto", en los términos hegelianos, se hace posible, con el paradigma de la Ilustración y por primera vez en la historia, la construcción de una imagen racionalizada del mundo centrada en el sujeto. </a:t>
            </a:r>
            <a:r>
              <a:rPr b="1" i="1" lang="es-CL" sz="2000" spc="-1" strike="noStrike">
                <a:solidFill>
                  <a:srgbClr val="000000"/>
                </a:solidFill>
                <a:latin typeface="Calibri"/>
              </a:rPr>
              <a:t>Esto es lo propio y distintivo de la modernidad</a:t>
            </a:r>
            <a:r>
              <a:rPr b="0" lang="es-CL" sz="2000" spc="-1" strike="noStrike">
                <a:solidFill>
                  <a:srgbClr val="000000"/>
                </a:solidFill>
                <a:latin typeface="Calibri"/>
              </a:rPr>
              <a:t>.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onces, la modernidad es un fenómeno que tiene una propiedad cultural, pues se origina y se desarrolla en el campo de las imágenes del mun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odernidad toca a la sociedad desde los componentes estructurales del mundo de la vida y produce así un saber válido moderno; un derecho moderno y una identidad personal modern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lelamente hay un proceso de creciente funcionalización de las unidades de la estructura social a los requerimientos del sistem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o es lo que corresponde al fenómeno de la moderniz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La modernización se resume en una forma específica de integración social sistémica, regida por la racionalidad instrumental y por consiguiente la modernización es siempre "socia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undo moderno implica pues una modernidad cultural y una modernización social.</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441E-3209-4072-9CCE-F4E663BF0A2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Jürgen Habermas</a:t>
            </a:r>
            <a:br>
              <a:rPr sz="3200"/>
            </a:br>
            <a:r>
              <a:rPr b="1" lang="es-CL" sz="3200" spc="-1" strike="noStrike">
                <a:solidFill>
                  <a:srgbClr val="000000"/>
                </a:solidFill>
                <a:latin typeface="Calibri"/>
              </a:rPr>
              <a:t>[</a:t>
            </a:r>
            <a:r>
              <a:rPr b="1" lang="es-CL" sz="2800" spc="-1" strike="noStrike">
                <a:solidFill>
                  <a:srgbClr val="000000"/>
                </a:solidFill>
                <a:latin typeface="Calibri"/>
              </a:rPr>
              <a:t>81 años</a:t>
            </a:r>
            <a:r>
              <a:rPr b="1" lang="es-CL" sz="3200" spc="-1" strike="noStrike">
                <a:solidFill>
                  <a:srgbClr val="000000"/>
                </a:solidFill>
                <a:latin typeface="Calibri"/>
              </a:rPr>
              <a:t>] </a:t>
            </a:r>
            <a:br>
              <a:rPr sz="3200"/>
            </a:br>
            <a:br>
              <a:rPr sz="4000"/>
            </a:br>
            <a:endParaRPr b="0" lang="en-US" sz="3200" spc="-1" strike="noStrike">
              <a:solidFill>
                <a:srgbClr val="000000"/>
              </a:solidFill>
              <a:latin typeface="Calibri"/>
            </a:endParaRPr>
          </a:p>
        </p:txBody>
      </p:sp>
      <p:sp>
        <p:nvSpPr>
          <p:cNvPr id="146"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9 – 01 de diciembre de 2010</a:t>
            </a:r>
            <a:endParaRPr b="0" lang="en-US" sz="2000" spc="-1" strike="noStrike">
              <a:solidFill>
                <a:srgbClr val="000000"/>
              </a:solidFill>
              <a:latin typeface="Calibri"/>
            </a:endParaRPr>
          </a:p>
        </p:txBody>
      </p:sp>
      <p:pic>
        <p:nvPicPr>
          <p:cNvPr id="147" name="Picture 5" descr="escuela de gobierno y gestión pública"/>
          <p:cNvPicPr/>
          <p:nvPr/>
        </p:nvPicPr>
        <p:blipFill>
          <a:blip r:embed="rId1"/>
          <a:stretch/>
        </p:blipFill>
        <p:spPr>
          <a:xfrm>
            <a:off x="0" y="0"/>
            <a:ext cx="2371680" cy="933480"/>
          </a:xfrm>
          <a:prstGeom prst="rect">
            <a:avLst/>
          </a:prstGeom>
          <a:ln w="0">
            <a:noFill/>
          </a:ln>
        </p:spPr>
      </p:pic>
      <p:pic>
        <p:nvPicPr>
          <p:cNvPr id="148" name="6 Imagen" descr="19 Habermas.bmp"/>
          <p:cNvPicPr/>
          <p:nvPr/>
        </p:nvPicPr>
        <p:blipFill>
          <a:blip r:embed="rId2"/>
          <a:stretch/>
        </p:blipFill>
        <p:spPr>
          <a:xfrm>
            <a:off x="7451640" y="55440"/>
            <a:ext cx="1629000" cy="237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Antecedentes: la Escuela de Frankfurt</a:t>
            </a:r>
            <a:endParaRPr b="0" lang="en-US" sz="3200" spc="-1" strike="noStrike">
              <a:solidFill>
                <a:srgbClr val="000000"/>
              </a:solidFill>
              <a:latin typeface="Calibri"/>
            </a:endParaRPr>
          </a:p>
        </p:txBody>
      </p:sp>
      <p:sp>
        <p:nvSpPr>
          <p:cNvPr id="52" name="2 Marcador de contenido"/>
          <p:cNvSpPr/>
          <p:nvPr/>
        </p:nvSpPr>
        <p:spPr>
          <a:xfrm>
            <a:off x="250920" y="620640"/>
            <a:ext cx="871380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puede hablar de la Escuela de Frankfurt conformada por quienes serán sus autores fundamentales: Theodor W. Adorno, Max Horkheimer, Erich Fromm, Walter Benjamin, Leo Lowenthal, y poco después Herbert Marcuse.</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simismo, Franz Borkenau, Siegfried Kracauer, Otto Kirchheimer, Franz Neumann, Olga Lang o, durante un breve tiempo Paul Lazarsfeld, entre otros nombres relevantes, trabajarán y colaborarán en los proyectos de la Escuel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nominación de Teoría Crítica fue acuñada por Horkheimer.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Teoría Crítica</a:t>
            </a:r>
            <a:r>
              <a:rPr b="0" lang="es-CL" sz="2000" spc="-1" strike="noStrike">
                <a:solidFill>
                  <a:srgbClr val="000000"/>
                </a:solidFill>
                <a:latin typeface="Calibri"/>
              </a:rPr>
              <a:t>: el análisis crítico-dialéctico, histórico y negativo de lo existente en cuanto "es" y frente a lo que "debería ser", y desde el punto de vista de la Razón histórico-universa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es" de lo existente en cuanto "status quo" conlleva una investigación central de la Escuela: los principios de dominación colectiv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comprender el rumbo y la dinámica de la sociedad burguesa que se organiza económicamente a través del capitalismo, se hace indispensable la síntesis de las tres grandes concepciones críticas anteriores a la Escuela: Hegel-Marx-Freud aplicados dialécticamente en el examen de las direcciones de la relación entre racionalidad-irracionalidad y sus efectos sociales e históric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4B05-7561-45A9-B94D-A77C9A3D2C2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crítica en la perspectiva de Habermas</a:t>
            </a:r>
            <a:endParaRPr b="0" lang="en-US" sz="3200" spc="-1" strike="noStrike">
              <a:solidFill>
                <a:srgbClr val="000000"/>
              </a:solidFill>
              <a:latin typeface="Calibri"/>
            </a:endParaRPr>
          </a:p>
        </p:txBody>
      </p:sp>
      <p:sp>
        <p:nvSpPr>
          <p:cNvPr id="55" name="2 Marcador de contenido"/>
          <p:cNvSpPr/>
          <p:nvPr/>
        </p:nvSpPr>
        <p:spPr>
          <a:xfrm>
            <a:off x="250920" y="692280"/>
            <a:ext cx="8569080" cy="5545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el proyecto teórico de Habermas tiene especial gravitación el intento por reencontrar el nexo entre teoría y práctica que fue vital en la Teoría Crítica en su origen.</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ello la reflexión filosófica debe reintegrarse al análisis social, económico y polític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bermas retoma la labor de reconstruir la noción de totalidad, partiendo una vez más de la premisa de Lukács de que "la primacía de la categoría de totalidad es el portador del principio de la revolución en la cienci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bermas hace una original propuesta de reconstruir el holismo propio de la dialéctic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gún Habermas, Hegel "entendió que el proceso formativo del espíritu transcurre por medio de tres mediaciones que pueden distinguirse analíticamente: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La representación simbólica que opera por el lenguaje; </a:t>
            </a:r>
            <a:endParaRPr b="0" lang="en-US" sz="18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trabajo, que es control de la naturaleza;  y </a:t>
            </a:r>
            <a:endParaRPr b="0" lang="en-US" sz="18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La interacción o lucha por el reconocimiento. </a:t>
            </a: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9217-3093-42B3-B2EE-8C34D2E7745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crítica en la perspectiva de Habermas</a:t>
            </a:r>
            <a:endParaRPr b="0" lang="en-US" sz="3200" spc="-1" strike="noStrike">
              <a:solidFill>
                <a:srgbClr val="000000"/>
              </a:solidFill>
              <a:latin typeface="Calibri"/>
            </a:endParaRPr>
          </a:p>
        </p:txBody>
      </p:sp>
      <p:sp>
        <p:nvSpPr>
          <p:cNvPr id="58" name="2 Marcador de contenido"/>
          <p:cNvSpPr/>
          <p:nvPr/>
        </p:nvSpPr>
        <p:spPr>
          <a:xfrm>
            <a:off x="250920" y="981000"/>
            <a:ext cx="8569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tres se interpenetran, pero ninguna tiene primacía sobre el rest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Habermas "la liberación del hambre y la miseria no converge necesariamente con la liberación de la servidumbre y la degradación, porque no hay una relación automática de desarrollo entre el trabajo y la interacción“.</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Habermas, hay tres intereses cognitivos que desencadenan toda la acción humana: </a:t>
            </a:r>
            <a:endParaRPr b="0" lang="en-US" sz="24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Un interés técnico en el control instrumental de la naturaleza;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Un interés práctico en mantener la comunicación intersubjetiva; y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Un interés emancipador en el derrocamiento de las relaciones de poder que son explotadoras y de las coerciones sociales ilegítim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DA9C-A466-4517-8088-687CFEC723F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crítica en la perspectiva de Habermas</a:t>
            </a:r>
            <a:endParaRPr b="0" lang="en-US" sz="3200" spc="-1" strike="noStrike">
              <a:solidFill>
                <a:srgbClr val="000000"/>
              </a:solidFill>
              <a:latin typeface="Calibri"/>
            </a:endParaRPr>
          </a:p>
        </p:txBody>
      </p:sp>
      <p:sp>
        <p:nvSpPr>
          <p:cNvPr id="61" name="2 Marcador de contenido"/>
          <p:cNvSpPr/>
          <p:nvPr/>
        </p:nvSpPr>
        <p:spPr>
          <a:xfrm>
            <a:off x="250920" y="981000"/>
            <a:ext cx="8569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ualquiera de estos casos, es obvio para Habermas que lo que NO desencadena el proceso de la acción es la búsqueda del conocimiento por el conocimiento. </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anto que la teoría tradicional fundada en el positivismo, (en el sentido del término que proviene de Horkheimer y la Escuela de Frankfurt), perseguía el conocimiento </a:t>
            </a:r>
            <a:r>
              <a:rPr b="0" i="1" lang="es-CL" sz="2400" spc="-1" strike="noStrike">
                <a:solidFill>
                  <a:srgbClr val="000000"/>
                </a:solidFill>
                <a:latin typeface="Calibri"/>
              </a:rPr>
              <a:t>per se </a:t>
            </a:r>
            <a:r>
              <a:rPr b="0" lang="es-CL" sz="2400" spc="-1" strike="noStrike">
                <a:solidFill>
                  <a:srgbClr val="000000"/>
                </a:solidFill>
                <a:latin typeface="Calibri"/>
              </a:rPr>
              <a:t>como un fin en sí mismo, una teoría crítica genuina, reconoce la íntima conexión entre la cognición y el interés, o bien, entre la teoría y la práctica ). </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a perspectiva, la verdad no es un objeto sino un movimiento.</a:t>
            </a:r>
            <a:endParaRPr b="0" lang="en-US" sz="2400" spc="-1" strike="noStrike">
              <a:solidFill>
                <a:srgbClr val="000000"/>
              </a:solidFill>
              <a:latin typeface="Arial"/>
            </a:endParaRPr>
          </a:p>
        </p:txBody>
      </p:sp>
      <p:sp>
        <p:nvSpPr>
          <p:cNvPr id="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38F5-72DE-4073-8B60-BB233236A75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La acción comunicativa y la problemática de la racionalidad</a:t>
            </a:r>
            <a:endParaRPr b="0" lang="en-US" sz="2600" spc="-1" strike="noStrike">
              <a:solidFill>
                <a:srgbClr val="000000"/>
              </a:solidFill>
              <a:latin typeface="Calibri"/>
            </a:endParaRPr>
          </a:p>
        </p:txBody>
      </p:sp>
      <p:sp>
        <p:nvSpPr>
          <p:cNvPr id="64" name="2 Marcador de contenido"/>
          <p:cNvSpPr/>
          <p:nvPr/>
        </p:nvSpPr>
        <p:spPr>
          <a:xfrm>
            <a:off x="250920" y="981000"/>
            <a:ext cx="8569080" cy="554364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toma la problemática de la racionalidad de la acción social en el punto en que la dejó Weber, reinsertándola en la matriz de la comunicación como proceso creador de significad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retomar la tradición weberiana que es donde el problema de la racionalidad de la acción adquiere su plena centralidad como tema y problema sociológico preeminente, esa racionalidad, al estilo de Weber, se entiende a partir de tres aspectos fundamentales:</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Racionalidad práctica</a:t>
            </a:r>
            <a:r>
              <a:rPr b="0" lang="es-CL" sz="2000" spc="-1" strike="noStrike">
                <a:solidFill>
                  <a:srgbClr val="000000"/>
                </a:solidFill>
                <a:latin typeface="Calibri"/>
                <a:ea typeface="Arial"/>
              </a:rPr>
              <a:t>: centrada en las destrezas técnicas, que definen el campo de la acción instrumental.</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Racionalidad analítica</a:t>
            </a:r>
            <a:r>
              <a:rPr b="0" lang="es-CL" sz="2000" spc="-1" strike="noStrike">
                <a:solidFill>
                  <a:srgbClr val="000000"/>
                </a:solidFill>
                <a:latin typeface="Calibri"/>
                <a:ea typeface="Arial"/>
              </a:rPr>
              <a:t>: centrada en la familiarización y dominio de un marco de interpretación cognitiva del mundo, posibilitador de una imagen del mundo que otorga sentido a la realidad.</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Racionalidad vocacional</a:t>
            </a:r>
            <a:r>
              <a:rPr b="0" lang="es-CL" sz="2000" spc="-1" strike="noStrike">
                <a:solidFill>
                  <a:srgbClr val="000000"/>
                </a:solidFill>
                <a:latin typeface="Calibri"/>
                <a:ea typeface="Arial"/>
              </a:rPr>
              <a:t>: centrada en la construcción de la identidad, a partir de las expectativas de desempeño que ingresan al mundo personal, al mundo de la identidad.</a:t>
            </a:r>
            <a:endParaRPr b="0" lang="en-US" sz="2000" spc="-1" strike="noStrike">
              <a:solidFill>
                <a:srgbClr val="000000"/>
              </a:solidFill>
              <a:latin typeface="Arial"/>
            </a:endParaRPr>
          </a:p>
        </p:txBody>
      </p:sp>
      <p:sp>
        <p:nvSpPr>
          <p:cNvPr id="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3C69-6D5A-4676-9E79-EEDD9AA77BB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La acción comunicativa y la problemática de la racionalidad</a:t>
            </a:r>
            <a:endParaRPr b="0" lang="en-US" sz="2600" spc="-1" strike="noStrike">
              <a:solidFill>
                <a:srgbClr val="000000"/>
              </a:solidFill>
              <a:latin typeface="Calibri"/>
            </a:endParaRPr>
          </a:p>
        </p:txBody>
      </p:sp>
      <p:sp>
        <p:nvSpPr>
          <p:cNvPr id="67" name="2 Marcador de contenido"/>
          <p:cNvSpPr/>
          <p:nvPr/>
        </p:nvSpPr>
        <p:spPr>
          <a:xfrm>
            <a:off x="250920" y="981000"/>
            <a:ext cx="8569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Habermas esta multidimensionalidad de la racionalidad  puede entonces expresarse en una acepción:</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Cognitivo-instrumental</a:t>
            </a:r>
            <a:r>
              <a:rPr b="0" lang="es-CL" sz="2000" spc="-1" strike="noStrike">
                <a:solidFill>
                  <a:srgbClr val="000000"/>
                </a:solidFill>
                <a:latin typeface="Calibri"/>
                <a:ea typeface="Arial"/>
              </a:rPr>
              <a:t>: utilización de un saber descriptivo, o</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Comunicativa</a:t>
            </a:r>
            <a:r>
              <a:rPr b="0" lang="es-CL" sz="2000" spc="-1" strike="noStrike">
                <a:solidFill>
                  <a:srgbClr val="000000"/>
                </a:solidFill>
                <a:latin typeface="Calibri"/>
                <a:ea typeface="Arial"/>
              </a:rPr>
              <a:t>: utilización comunicativa del saber proposicional en actos de habl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rimera se inscribe en una postura "realista", en tanto la segunda lo hace en una postura "fenomenológic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realista se limita a “analizar las condiciones que un sujeto agente tiene que cumplir para poder proponerse fines y realizarl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fenomenólogo inquiere sobre las condiciones bajo las cuales se constituye para los miembros de una comunidad de comunicación la unidad de un mundo objetiv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La práctica comunicativa es el proceso por el cual se construye el mundo de la vida compartido por los sujet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8FF9-F1AD-4705-AEDD-6B8F38BFE53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2-01T13:30:37Z</dcterms:modified>
  <cp:revision>822</cp:revision>
  <dc:subject/>
  <dc:title>HISTORIA DEL PENSAMIENTO POLÍTICO</dc:title>
</cp:coreProperties>
</file>