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7986-9E84-4EB3-938D-25C65C018EA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79D2-EFEF-4FA5-98CE-15A82D7E11B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7B76-0234-434E-B910-968112804CC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DF79-5848-484E-9674-B09E0D8754E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6C1C-96D4-4F66-BE87-A4F62C97719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2C93-CAB8-4F33-BD5C-B7D5BE11CAE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AE9C-1F0F-4AA6-B800-48C827013C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4688-6B3E-4CB0-8DBF-3E147931D9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4FAD-6E2F-452F-80EC-38C9D57E4BA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A314-D2C4-4667-83D7-E153E9F726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B479A-943C-4234-821D-D88E71F25BB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442B-48FD-4AE6-BE08-AD13D261DD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957F-1887-4B67-B828-52C5460D0B0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F8A6-2D17-4965-A20F-A122CC03F9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2162-6279-4F18-9E53-607442A10FB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21F1-2F7C-4364-9EF7-651B4C44BC6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FD49-8B4F-4AC9-9DCB-BDE30382CAA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0DE1-120F-404F-9181-692D4DC7083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3E00-5600-4CA2-8C0F-C6DEC69AD04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1F4D-74B4-45D4-ADAE-B9773A5D45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F582-7E0A-4902-850B-988E10B673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84CC-6A33-4998-9C69-85056659EBE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E91E-4F4A-441B-AC30-0133143398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3AF0-C093-4256-A0F0-8F485BCBF5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C0E20-5C6A-4C42-9FD0-7A4845D0F7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494A-7A84-4336-B26A-958D66FEBE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074B-62B5-4B95-BA02-03C1887174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1353-937B-410B-B129-55D4D3599D0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5F150-A90A-4E78-9F02-96009C80F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D6198-8988-4330-BE82-16AE061B2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DA215-5283-4C82-BDF7-21698B860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0489B-A9B4-43DF-BDA5-C17E26AEE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EC46E-DE3A-4DE2-A747-A48CF5486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A8F11-4D19-45C5-9FC6-352E4699E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567D4-6F63-409B-B3BF-25F072EAA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E0192-8431-4CD9-95F4-55E6448BB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20BB1-7355-4AFE-839E-7C091AD47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2D8E5-6506-4116-925A-94FCCD730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37EE2-EFAF-4D40-AF32-8E48C7D06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9778-C014-4AA5-A48A-7B2A567A4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73DE-C10F-4D6E-B97D-6FD82E322A63}"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9211-951C-4C2A-A443-3D8268A480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Karl Marx</a:t>
            </a:r>
            <a:br>
              <a:rPr sz="3200"/>
            </a:br>
            <a:r>
              <a:rPr b="1" lang="nb-NO" sz="2800" spc="-1" strike="noStrike">
                <a:solidFill>
                  <a:srgbClr val="000000"/>
                </a:solidFill>
                <a:latin typeface="Calibri"/>
              </a:rPr>
              <a:t>[1818-1883]</a:t>
            </a:r>
            <a:br>
              <a:rPr sz="4000"/>
            </a:br>
            <a:endParaRPr b="0" lang="en-US" sz="28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6– 24 de nov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15 Marx.bmp"/>
          <p:cNvPicPr/>
          <p:nvPr/>
        </p:nvPicPr>
        <p:blipFill>
          <a:blip r:embed="rId2"/>
          <a:stretch/>
        </p:blipFill>
        <p:spPr>
          <a:xfrm>
            <a:off x="7236000" y="49320"/>
            <a:ext cx="187308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75" name=""/>
          <p:cNvSpPr txBox="1"/>
          <p:nvPr/>
        </p:nvSpPr>
        <p:spPr>
          <a:xfrm>
            <a:off x="178920" y="691920"/>
            <a:ext cx="8713800" cy="5832360"/>
          </a:xfrm>
          <a:prstGeom prst="rect">
            <a:avLst/>
          </a:prstGeom>
          <a:noFill/>
          <a:ln w="0">
            <a:noFill/>
          </a:ln>
        </p:spPr>
        <p:txBody>
          <a:bodyPr anchor="t">
            <a:normAutofit fontScale="98000"/>
          </a:bodyPr>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se vuelve más pobre a medida que produce más riqueza y a medida que su producción crece en poder y en cantidad.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se convierte en una mercancía aún más barata cuantos más bienes crea.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devaluación del mundo humano aumenta en relación directa con el incremento de valor del mundo de las cosa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o no sólo crea bienes; también se produce a sí mismo y al trabajador como una mercancía y en la misma proporción en que produce biene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e hecho supone simplemente que el objeto producido por el trabajo, su producto, se opone ahora a él como un ser ajeno, como un poder independiente del productor.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producto del trabajo es trabajo encarnado en un objeto y convertido en cosa física; este producto es una objetivación del trabajo.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realización del trabajo aparece en la esfera de la economía política como una invalidación del trabajador, la objetivación como una pérdida y como servidumbre al objeto y la apropiación como enajenación.</a:t>
            </a:r>
            <a:endParaRPr b="0" lang="en-US" sz="2100" spc="-1" strike="noStrike">
              <a:solidFill>
                <a:srgbClr val="000000"/>
              </a:solidFill>
              <a:latin typeface="Calibri"/>
            </a:endParaRPr>
          </a:p>
        </p:txBody>
      </p:sp>
      <p:sp>
        <p:nvSpPr>
          <p:cNvPr id="7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133E-8560-4D5C-B8DE-AB65719286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78"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propiación del objeto se manifiesta hasta tal punto como enajenación, que cuanto mayor sea el número de objetos que produzca el trabajador, menos puede poseer y más cae bajo el dominio de su producto, del capital.</a:t>
            </a:r>
            <a:endParaRPr b="0" lang="en-US" sz="20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odas estas consecuencias se originan en el hecho de que el trabajador se relaciona con el producto de su trabajo como un objeto ajen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evidente, sobre este presupuesto, que cuanto más se gasta el trabajador en su trabajo más poderoso se vuelve el mundo de los objetos que crea frente a sí mismo, más pobre se vuelve en su vida interior y menos se pertenece a sí mism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enajenación del trabajador en su producto no sólo significa que su trabajo se convierte en un objeto, asume una existencia externa, sino que existe independientemente, fuera de él mismo y ajeno a él y que se opone a él como un poder autónom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no puede crear nada sin naturaleza, sin el mundo sensorial externo. Éste es el material en el que se realiza su trabajo, en el que actúa, del cual y a través del cual produce cosas.</a:t>
            </a:r>
            <a:endParaRPr b="0" lang="en-US" sz="2100" spc="-1" strike="noStrike">
              <a:solidFill>
                <a:srgbClr val="000000"/>
              </a:solidFill>
              <a:latin typeface="Calibri"/>
            </a:endParaRPr>
          </a:p>
        </p:txBody>
      </p:sp>
      <p:sp>
        <p:nvSpPr>
          <p:cNvPr id="7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B3D4-21D3-4944-AF49-829F54A8C00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1" name=""/>
          <p:cNvSpPr txBox="1"/>
          <p:nvPr/>
        </p:nvSpPr>
        <p:spPr>
          <a:xfrm>
            <a:off x="178920" y="691920"/>
            <a:ext cx="8713800" cy="5832360"/>
          </a:xfrm>
          <a:prstGeom prst="rect">
            <a:avLst/>
          </a:prstGeom>
          <a:noFill/>
          <a:ln w="0">
            <a:noFill/>
          </a:ln>
        </p:spPr>
        <p:txBody>
          <a:bodyPr anchor="t">
            <a:normAutofit fontScale="96000"/>
          </a:bodyPr>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najenación del trabajador en su objeto se expresa de acuerdo con las leyes de la economía política: </a:t>
            </a:r>
            <a:endParaRPr b="0" lang="en-US" sz="20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produce el trabajador menos tiene para consumi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valor crea más se desvaloriza él mismo;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refinado es su producto más vulgar y desgraciado es el trabajador;</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civilizado es el producto más bárbaro es el trabajado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poderosa es la obra más débil es el trabajado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a mayor inteligencia manifieste su obra más declina en inteligencia el trabajador y se convierte en esclavo de la naturaleza.</a:t>
            </a:r>
            <a:endParaRPr b="0" lang="en-US" sz="18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directa del trabajo con sus productos es la relación del trabajador con los objetos de su producción. </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de los propietarios con los objetos de producción y la producción misma es meramente una consecuencia de esta primera relación y la confirma.</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najenación no sólo aparece en el resultado, sino también en el proceso de producción, dentro de la actividad productiva misma.</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oducto es, en  realidad, sólo el resumen de la actividad, de la producción.</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onsecuencia, si el producto del trabajo es la enajenación, la producción misma debe ser enajenación activa.</a:t>
            </a:r>
            <a:endParaRPr b="0" lang="en-US" sz="2000" spc="-1" strike="noStrike">
              <a:solidFill>
                <a:srgbClr val="000000"/>
              </a:solidFill>
              <a:latin typeface="Calibri"/>
            </a:endParaRPr>
          </a:p>
        </p:txBody>
      </p:sp>
      <p:sp>
        <p:nvSpPr>
          <p:cNvPr id="8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14AE-0374-44AE-9200-861B774B3EF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4"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onces, </a:t>
            </a:r>
            <a:r>
              <a:rPr b="1" i="1" lang="es-CL" sz="2000" spc="-1" strike="noStrike">
                <a:solidFill>
                  <a:srgbClr val="000000"/>
                </a:solidFill>
                <a:latin typeface="Calibri"/>
              </a:rPr>
              <a:t>¿qué constituye la enajenación del trabajo? </a:t>
            </a: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imero, que el trabajo es externo al trabajador, que no es parte de su naturaleza; y que, en consecuencia, no se realiza en su trabajo sino que se niega, experimenta una sensación de malestar más que de bienestar, no desarrolla libremente sus energías mentales y físicas sino que se encuentra físicamente exhausto y mentalmente abati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trabajador sólo se siente a sus anchas, pues, en sus horas de ocio, mientras que en el trabajo se siente incómo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u trabajo no es voluntario sino impuesto, es un trabajo forza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es la satisfacción de una necesidad, sino sólo un medio para satisfacer otras necesidades.</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trabajo externo, el trabajo en que el hombre se enajena, es un trabajo que implica sacrificio y mortificació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externo del trabajo para el trabajador se demuestra en el hecho de que no es su propio trabajo sino trabajo para otr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nemos que inferir ahora una tercera característica del trabajo enajenado, partiendo de las dos que hemos considerado. </a:t>
            </a:r>
            <a:endParaRPr b="0" lang="en-US" sz="2000" spc="-1" strike="noStrike">
              <a:solidFill>
                <a:srgbClr val="000000"/>
              </a:solidFill>
              <a:latin typeface="Calibri"/>
            </a:endParaRPr>
          </a:p>
        </p:txBody>
      </p:sp>
      <p:sp>
        <p:nvSpPr>
          <p:cNvPr id="8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9D26-30FD-4FE7-9853-74A860D27C3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7"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hombre es "ser genérico", no sólo en el sentido de que constituye la comunidad (la suya propia y la de otras cosas) su objeto práctica y teóricamente sino también (y esto es simplemente otra expresión de la misma cosa) en el sentido de que se considera como la especie actual, viva, como un ser universal y en consecuencia libr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fectos del trabajo enajenado:</a:t>
            </a:r>
            <a:endParaRPr b="0" lang="en-US" sz="20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ajena a la naturaleza del hombre; y  </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ajena al hombre de sí mismo, de su propia función activa, de su actividad vital, así lo enajena de la especie. </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trabajo enajenado convierte así la vida del hombre como especie y la naturaleza como su propiedad mental como especie, en un ser ajeno y en un medio para su existencia individual. Enajena al hombre de su propio cuerpo, la naturaleza externa, su vida mental y su vida humana.</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na consecuencia directa de la enajenación del hombre del producto de su trabajo, de su actividad vital y de su vida como especie es que el hombre se enajena de los demás homb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1272-7026-48EC-A4C6-C93F6C508D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0" name=""/>
          <p:cNvSpPr txBox="1"/>
          <p:nvPr/>
        </p:nvSpPr>
        <p:spPr>
          <a:xfrm>
            <a:off x="178920" y="907920"/>
            <a:ext cx="8713800" cy="5616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ategorías centrales para el análisis histórico de Marx se articulan en torno al concepto de modo de producción. </a:t>
            </a: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curso de la producción de su vida material, los hombres entran en determinadas relaciones que son independientes de su voluntad. </a:t>
            </a: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nte este concepto complejo y de alto nivel de abstracción, el modo de producción, Marx es capaz de desarrollar una propuesta teórica coherente para la explicación del cambio social, entendido como cambio "de la sociedad", y para definir fases históricas claramente identificables. </a:t>
            </a:r>
            <a:endParaRPr b="0" lang="en-US" sz="24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180A-E3E7-4D6E-A8AA-6C8ABA245F8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3" name=""/>
          <p:cNvSpPr txBox="1"/>
          <p:nvPr/>
        </p:nvSpPr>
        <p:spPr>
          <a:xfrm>
            <a:off x="178920" y="907920"/>
            <a:ext cx="8713800" cy="5616720"/>
          </a:xfrm>
          <a:prstGeom prst="rect">
            <a:avLst/>
          </a:prstGeom>
          <a:noFill/>
          <a:ln w="0">
            <a:noFill/>
          </a:ln>
        </p:spPr>
        <p:txBody>
          <a:bodyPr anchor="t">
            <a:normAutofit/>
          </a:bodyPr>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El modo de producción es una estructura conceptual en la cual se integran los siguientes conceptos: </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Fuerzas productivas</a:t>
            </a:r>
            <a:r>
              <a:rPr b="0" i="1" lang="es-ES_tradnl" sz="2100" spc="-1" strike="noStrike">
                <a:solidFill>
                  <a:srgbClr val="000000"/>
                </a:solidFill>
                <a:latin typeface="Calibri"/>
              </a:rPr>
              <a:t>: </a:t>
            </a:r>
            <a:r>
              <a:rPr b="0" lang="es-ES_tradnl" sz="2100" spc="-1" strike="noStrike">
                <a:solidFill>
                  <a:srgbClr val="000000"/>
                </a:solidFill>
                <a:latin typeface="Calibri"/>
              </a:rPr>
              <a:t>la capacidad tecnológica de la sociedad que está dada por las destrezas instrumentales de la tecnología y por la organización técnica del trabajo. Esas destrezas instrumentales y la organización técnica del trabajo están en permanente tensión y contradicción;.</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Condiciones de producción</a:t>
            </a:r>
            <a:r>
              <a:rPr b="0" lang="es-ES_tradnl" sz="2100" spc="-1" strike="noStrike">
                <a:solidFill>
                  <a:srgbClr val="000000"/>
                </a:solidFill>
                <a:latin typeface="Calibri"/>
              </a:rPr>
              <a:t>: la disponibilidad de recursos materiales a las que una determinada sociedad tiene acceso en cualquier momento dado. </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Relaciones sociales de producción:</a:t>
            </a:r>
            <a:r>
              <a:rPr b="0" i="1" lang="es-ES_tradnl" sz="2100" spc="-1" strike="noStrike">
                <a:solidFill>
                  <a:srgbClr val="000000"/>
                </a:solidFill>
                <a:latin typeface="Calibri"/>
              </a:rPr>
              <a:t> </a:t>
            </a:r>
            <a:r>
              <a:rPr b="0" lang="es-ES_tradnl" sz="2100" spc="-1" strike="noStrike">
                <a:solidFill>
                  <a:srgbClr val="000000"/>
                </a:solidFill>
                <a:latin typeface="Calibri"/>
              </a:rPr>
              <a:t>las interacciones humanas que surgen en el proceso productivo que combina, por una parte, las fuerzas productivas y, por otra, las condiciones materiales de producción.</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Expresión legal/institucional</a:t>
            </a:r>
            <a:r>
              <a:rPr b="0" lang="es-ES_tradnl" sz="2100" spc="-1" strike="noStrike">
                <a:solidFill>
                  <a:srgbClr val="000000"/>
                </a:solidFill>
                <a:latin typeface="Calibri"/>
              </a:rPr>
              <a:t>: de esas relaciones sociales de producción está en el sistema de propiedad que consagra e impone un determinado modo de apropiación de las fuerzas productivas.</a:t>
            </a:r>
            <a:endParaRPr b="0" lang="en-US" sz="21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B761-7C2F-44D1-87E3-7240B4CDC72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6" name=""/>
          <p:cNvSpPr txBox="1"/>
          <p:nvPr/>
        </p:nvSpPr>
        <p:spPr>
          <a:xfrm>
            <a:off x="178920" y="907920"/>
            <a:ext cx="8713800" cy="5616720"/>
          </a:xfrm>
          <a:prstGeom prst="rect">
            <a:avLst/>
          </a:prstGeom>
          <a:noFill/>
          <a:ln w="0">
            <a:noFill/>
          </a:ln>
        </p:spPr>
        <p:txBody>
          <a:bodyPr anchor="t">
            <a:normAutofit/>
          </a:bodyPr>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ada modo de producción tiene dentro de sí una dinámica inmanente de transformación que lleva a su propia superación y reemplazo por otro.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 dinámica está inserta en las contradicciones que ineludiblemente se desarrollan entre los componentes del modo de producción.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e es un postulado gravitante en toda la teorización de Marx acerca el cambio social como proceso endógeno a la vida social y, por consiguiente, estructuralmente inducido en ella.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factor que desencadena la dinámica inmanente del cambio es el conflicto o enfrentamiento de aquellas categorías sociales que emergen de las relaciones sociales de producción características de cada modo de producción.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aquellos modos de producción que se estructuran en torno a la propiedad privada de las fuerzas productivas, estas categorías son clases sociales.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ese el sentido de la muy conocida afirmación de Marx en el Manifiesto, que "la lucha de clases es el motor de la historia".</a:t>
            </a:r>
            <a:endParaRPr b="0" lang="en-US" sz="21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3CFF-4E64-4846-B050-907C0BEE3B3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9" name=""/>
          <p:cNvSpPr txBox="1"/>
          <p:nvPr/>
        </p:nvSpPr>
        <p:spPr>
          <a:xfrm>
            <a:off x="178920" y="907920"/>
            <a:ext cx="8713800" cy="5616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nsión entre apropiación universal y apropiación particular, propiedad social versus propiedad privada, es crucial en toda la visión histórica de Marx.</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ularización de la relación hombre-producto, es decir, la privatización del dominio sobre los medios de producción, es siempre en Marx la raíz de la dominación y de la explotación de unos grupos sociales por otros.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ve para desentrañar el movimiento de la historia y el desarrollo del antagonismo de las clases, está entonces en el modo de apropiación de las fuerzas productivas. </a:t>
            </a:r>
            <a:endParaRPr b="0" lang="en-US" sz="2400" spc="-1" strike="noStrike">
              <a:solidFill>
                <a:srgbClr val="000000"/>
              </a:solidFill>
              <a:latin typeface="Calibri"/>
            </a:endParaRPr>
          </a:p>
          <a:p>
            <a:pPr marL="514440" indent="-514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9DD6-8CE5-4F9E-ABC7-D6D9576D5A5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odos de producción en la historia humana</a:t>
            </a:r>
            <a:endParaRPr b="0" lang="en-US" sz="2800" spc="-1" strike="noStrike">
              <a:solidFill>
                <a:srgbClr val="000000"/>
              </a:solidFill>
              <a:latin typeface="Calibri"/>
            </a:endParaRPr>
          </a:p>
        </p:txBody>
      </p:sp>
      <p:sp>
        <p:nvSpPr>
          <p:cNvPr id="102" name=""/>
          <p:cNvSpPr txBox="1"/>
          <p:nvPr/>
        </p:nvSpPr>
        <p:spPr>
          <a:xfrm>
            <a:off x="324000" y="691920"/>
            <a:ext cx="864072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pecificación concreta de estas categorías abstractas da origen a los tipos históricos de estructuras sociales que se pueden distinguir según las características que asume el modo de producción que las caracteriza en forma predominante. Esta especificación da origen a los siguientes modos de producción en las formaciones sociales históricamente determinada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El modo de producción "asiático”</a:t>
            </a:r>
            <a:r>
              <a:rPr b="0" lang="es-CL" sz="2000" spc="-1" strike="noStrike">
                <a:solidFill>
                  <a:srgbClr val="000000"/>
                </a:solidFill>
                <a:latin typeface="Calibri"/>
              </a:rPr>
              <a:t>: en el que las relaciones de producción descansan en el control burocrático jerarquizado de parte de los que operan los instrumentos de producció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omunismo primitivo: supuso una organización social totalmente colectivizada en todos los planos de la vida social.</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antigua: fundado sobre la obligatoriedad compulsiva del trabajo esclavizado.</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feudal: se asienta en las relaciones entre los siervos y el señor feudal.</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capitalista: descansa en el proceso de producción de mercancías por medio del trabajo asalariado, en el marco de la empresa privada como estructura productiva.</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C8DBF-CD62-468D-8F2E-62DB9C69AE4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0320" y="2205000"/>
            <a:ext cx="777240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No es la conciencia la que determina la vida, sino la vida la que determina la concienc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Modos de producción en la historia humana</a:t>
            </a:r>
            <a:endParaRPr b="0" lang="en-US" sz="3200" spc="-1" strike="noStrike">
              <a:solidFill>
                <a:srgbClr val="000000"/>
              </a:solidFill>
              <a:latin typeface="Calibri"/>
            </a:endParaRPr>
          </a:p>
        </p:txBody>
      </p:sp>
      <p:sp>
        <p:nvSpPr>
          <p:cNvPr id="105" name=""/>
          <p:cNvSpPr txBox="1"/>
          <p:nvPr/>
        </p:nvSpPr>
        <p:spPr>
          <a:xfrm>
            <a:off x="179280" y="691920"/>
            <a:ext cx="8785440" cy="583236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os anteriores modos de producción que, según Marx,  se han dado a lo largo de la historia se agrega el modo de producción de la sociedad socialista (post-capitalista) que eventualmente conduciría al comunismo puro.</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s sociedades históricas, vale decir en las formaciones sociales concretas, coexisten junto al modo de producción dominante que da la clave del funcionamiento del sistema, relaciones sociales que se enraízan en la lógica de otros modos de producción que persisten como resabios de fases históricas pretéritas, e incluso como anticipaciones de modos emergentes.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so de un modo de producción a otro, se produce cuando están agotadas las transformaciones posibles de las fuerzas productivas que corresponden a la naturaleza del modo de producción de que se trate. S</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guiendo la gráfica expresión de Marx, la lucha de clases es así la "comadrona/partera" de la historia, que hace nacer una nueva estructura de relaciones sociales desde el seno de la vieja estructura agotad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D013-B358-4C1F-8321-6267C2E18F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de las clases sociales</a:t>
            </a:r>
            <a:endParaRPr b="0" lang="en-US" sz="3200" spc="-1" strike="noStrike">
              <a:solidFill>
                <a:srgbClr val="000000"/>
              </a:solidFill>
              <a:latin typeface="Calibri"/>
            </a:endParaRPr>
          </a:p>
        </p:txBody>
      </p:sp>
      <p:sp>
        <p:nvSpPr>
          <p:cNvPr id="108" name=""/>
          <p:cNvSpPr txBox="1"/>
          <p:nvPr/>
        </p:nvSpPr>
        <p:spPr>
          <a:xfrm>
            <a:off x="179280" y="549000"/>
            <a:ext cx="8785440" cy="5832360"/>
          </a:xfrm>
          <a:prstGeom prst="rect">
            <a:avLst/>
          </a:prstGeom>
          <a:noFill/>
          <a:ln w="0">
            <a:noFill/>
          </a:ln>
        </p:spPr>
        <p:txBody>
          <a:bodyPr anchor="t">
            <a:normAutofit fontScale="92000"/>
          </a:bodyPr>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visión de Marx las clases sociales corresponden a las relaciones sociales de producción y están, esencialmente, ligadas a ese proceso, se originan en él y no pueden entonces ser analizadas sino en directa y estrecha conexión con el proceso que da origen al capital y al trabajo.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aclara esta noción básica diciendo que ser capitalista significa ocupar, no sólo una posición personal en la producción, sino también una posición social.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pital es un producto colectivo; no puede ser puesto en movimiento sino por la actividad conjunta de muchos miembros de la sociedad.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pital no es pues una fuerza personal; es una fuerza social.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urguesía: se entiende la clase de los capitalistas modernos propietarios de los medios de producción social, que emplean el trabajo asalariado.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letarios: se entiende a la clase de los  trabajadores asalariados modernos que, privados de medios de producción propios, se ven obligados a vender su fuerza de trabajo para subsistir".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proletarios no viven sino a condición de encontrar trabajo, y lo encuentran únicamente mientras su trabajo acrecienta el capital. Estos obreros obligados a venderse al detalle, son una mercancía como cualquier otro artículo de comercio, sujeta, por tanto a todas las vicisitudes de la competencia, a todas las fluctuaciones del mercado.</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EE89-B7C9-4A8B-9323-33D64851AE4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lase en sí y la clase para sí</a:t>
            </a:r>
            <a:endParaRPr b="0" lang="en-US" sz="3200" spc="-1" strike="noStrike">
              <a:solidFill>
                <a:srgbClr val="000000"/>
              </a:solidFill>
              <a:latin typeface="Calibri"/>
            </a:endParaRPr>
          </a:p>
        </p:txBody>
      </p:sp>
      <p:sp>
        <p:nvSpPr>
          <p:cNvPr id="111" name=""/>
          <p:cNvSpPr txBox="1"/>
          <p:nvPr/>
        </p:nvSpPr>
        <p:spPr>
          <a:xfrm>
            <a:off x="179280" y="692280"/>
            <a:ext cx="8785440" cy="5689440"/>
          </a:xfrm>
          <a:prstGeom prst="rect">
            <a:avLst/>
          </a:prstGeom>
          <a:noFill/>
          <a:ln w="0">
            <a:noFill/>
          </a:ln>
        </p:spPr>
        <p:txBody>
          <a:bodyPr anchor="t">
            <a:normAutofit fontScale="94000"/>
          </a:bodyPr>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Cómo surge una clase social?, ¿cómo se produce el proceso que transforma a los poseedores de capital y trabajo en "clases sociales"?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establece una distinción entre el agregado social, compuesto por individuos que comparten una misma situación, y la clase social.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factor básico para ese paso del agregado a la clase, es la </a:t>
            </a:r>
            <a:r>
              <a:rPr b="0" i="1" lang="es-CL" sz="2000" spc="-1" strike="noStrike">
                <a:solidFill>
                  <a:srgbClr val="000000"/>
                </a:solidFill>
                <a:latin typeface="Calibri"/>
              </a:rPr>
              <a:t>autopercepción</a:t>
            </a:r>
            <a:r>
              <a:rPr b="0" lang="es-CL" sz="2000" spc="-1" strike="noStrike">
                <a:solidFill>
                  <a:srgbClr val="000000"/>
                </a:solidFill>
                <a:latin typeface="Calibri"/>
              </a:rPr>
              <a:t> que los individuos tienen de su propia identidad colectiva por diferenciación y oposición a otra clase.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unca una clase social surge sino por la referencia dialéctica a su opuesta.</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actores de identificación grupal tales como: actividad común, modo de vida similar, o cultura compartida, son condiciones necesarias pero no suficientes para la realización de la clase social.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condiciones no nos llevan más que a la </a:t>
            </a:r>
            <a:r>
              <a:rPr b="0" i="1" lang="es-CL" sz="2000" spc="-1" strike="noStrike">
                <a:solidFill>
                  <a:srgbClr val="000000"/>
                </a:solidFill>
                <a:latin typeface="Calibri"/>
              </a:rPr>
              <a:t>clase en sí</a:t>
            </a:r>
            <a:r>
              <a:rPr b="0" lang="es-CL" sz="2000" spc="-1" strike="noStrike">
                <a:solidFill>
                  <a:srgbClr val="000000"/>
                </a:solidFill>
                <a:latin typeface="Calibri"/>
              </a:rPr>
              <a:t>, es decir, la situación de clase. Para el paso a la </a:t>
            </a:r>
            <a:r>
              <a:rPr b="0" i="1" lang="es-CL" sz="2000" spc="-1" strike="noStrike">
                <a:solidFill>
                  <a:srgbClr val="000000"/>
                </a:solidFill>
                <a:latin typeface="Calibri"/>
              </a:rPr>
              <a:t>clase para sí</a:t>
            </a:r>
            <a:r>
              <a:rPr b="0" lang="es-CL" sz="2000" spc="-1" strike="noStrike">
                <a:solidFill>
                  <a:srgbClr val="000000"/>
                </a:solidFill>
                <a:latin typeface="Calibri"/>
              </a:rPr>
              <a:t>, y por tanto, para el desarrollo en plenitud de la clase social, se requiere además la conciencia de separación y de antagonismo respecto de otras clases.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ay clase social sin conciencia de clase.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entre las clase principales es siempre dialéctica; la una necesita de la otra. </a:t>
            </a:r>
            <a:endParaRPr b="0" lang="en-US" sz="2000" spc="-1" strike="noStrike">
              <a:solidFill>
                <a:srgbClr val="000000"/>
              </a:solidFill>
              <a:latin typeface="Calibri"/>
            </a:endParaRPr>
          </a:p>
        </p:txBody>
      </p:sp>
      <p:sp>
        <p:nvSpPr>
          <p:cNvPr id="11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FAF4-10AA-42CF-A3B4-D9D392B2130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392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lucha de clases</a:t>
            </a:r>
            <a:endParaRPr b="0" lang="en-US" sz="2800" spc="-1" strike="noStrike">
              <a:solidFill>
                <a:srgbClr val="000000"/>
              </a:solidFill>
              <a:latin typeface="Calibri"/>
            </a:endParaRPr>
          </a:p>
        </p:txBody>
      </p:sp>
      <p:sp>
        <p:nvSpPr>
          <p:cNvPr id="114" name=""/>
          <p:cNvSpPr txBox="1"/>
          <p:nvPr/>
        </p:nvSpPr>
        <p:spPr>
          <a:xfrm>
            <a:off x="179280" y="475920"/>
            <a:ext cx="8785440" cy="5832360"/>
          </a:xfrm>
          <a:prstGeom prst="rect">
            <a:avLst/>
          </a:prstGeom>
          <a:noFill/>
          <a:ln w="0">
            <a:noFill/>
          </a:ln>
        </p:spPr>
        <p:txBody>
          <a:bodyPr anchor="t">
            <a:normAutofit fontScale="96000"/>
          </a:bodyPr>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ste concepto descansa en ciertas ideas elementales: </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sociedad moderna está marcada por su antagonismo interno.</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s clases son los actores de la historia en general, y de la sociedad capitalista en particular.</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de clases conduce al cambio revolucionario que hará posible el surgimiento de una sociedad no antagónica.</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Marx y Engels sostienen que "la historia de todas las sociedades que han existido hasta nuestros días es la historia de las luchas de clases. Hombres libres y esclavos, patricios y plebeyos, señores, maestros y oficiales, en una palabra opresores y oprimidos se enfrentaron siempre, mantuvieron una lucha constantes, velada unas veces y otras franca y abierta; lucha que terminó siempre con la transformación revolucionaria de toda la sociedad o el hundimiento de las clases beligerantes“.</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de clases un proceso inherente a determinadas relaciones de producción. </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desarrollo mismo de la burguesía, cuyo rol histórico revolucionario no puede ponerse en duda, ilustra esta ley de la historia. </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efecto, dice Marx, "las armas de que se sirvió la burguesía para derribar al feudalismo se vuelven ahora contra la propia burguesía. Pero la burguesía no ha forjado solamente las armas que deben darle muerte; ha producido también los hombres que empuñarán esas armas: los obreros modernos, los proletarios".</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D3E9-A839-4B71-B488-F89D846F77F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s fracciones de clase</a:t>
            </a:r>
            <a:endParaRPr b="0" lang="en-US" sz="2800" spc="-1" strike="noStrike">
              <a:solidFill>
                <a:srgbClr val="000000"/>
              </a:solidFill>
              <a:latin typeface="Calibri"/>
            </a:endParaRPr>
          </a:p>
        </p:txBody>
      </p:sp>
      <p:sp>
        <p:nvSpPr>
          <p:cNvPr id="117" name=""/>
          <p:cNvSpPr txBox="1"/>
          <p:nvPr/>
        </p:nvSpPr>
        <p:spPr>
          <a:xfrm>
            <a:off x="179280" y="549000"/>
            <a:ext cx="8785440" cy="583236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Qué es lo que constituye a estos grupos en clase social?. En otras palabras, ¿qué es una clase? "A primera vista -dice Marx- la identidad de sus rentas y fuentes de renta.</a:t>
            </a:r>
            <a:endParaRPr b="0" lang="en-US" sz="20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propietarios de simple fuerza de trabajo, los propietarios de capital y los propietarios de tierras, cuyas respectivas fuentes de ingreso son el salario, la ganancia y la renta del suelo, es decir, los obreros asalariados, los capitalistas y los terratenientes, forman las tres grandes clases de la sociedad moderna, basada en el régimen capitalista de producción".</a:t>
            </a:r>
            <a:endParaRPr b="0" lang="en-US" sz="20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apital-ganancia (beneficio del empresario más interés); tierra-renta del suelo; trabajo-salario: he aquí la fórmula trinitaria que engloba todos los secretos del proceso social de producción". Esta trinidad no agota el cuadro completo de las clases</a:t>
            </a:r>
            <a:r>
              <a:rPr b="0" lang="es-CL" sz="2000" spc="-1" strike="noStrike">
                <a:solidFill>
                  <a:srgbClr val="000000"/>
                </a:solidFill>
                <a:latin typeface="Calibri"/>
              </a:rPr>
              <a:t>.</a:t>
            </a:r>
            <a:endParaRPr b="0" lang="en-US" sz="2000" spc="-1" strike="noStrike">
              <a:solidFill>
                <a:srgbClr val="000000"/>
              </a:solidFill>
              <a:latin typeface="Calibri"/>
            </a:endParaRPr>
          </a:p>
          <a:p>
            <a:pPr marL="514440" indent="-51444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14440" indent="-51444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623A8-99DE-4264-9F46-BAABC9F0506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Sobre el Estado</a:t>
            </a:r>
            <a:endParaRPr b="0" lang="en-US" sz="2800" spc="-1" strike="noStrike">
              <a:solidFill>
                <a:srgbClr val="000000"/>
              </a:solidFill>
              <a:latin typeface="Calibri"/>
            </a:endParaRPr>
          </a:p>
        </p:txBody>
      </p:sp>
      <p:sp>
        <p:nvSpPr>
          <p:cNvPr id="120" name=""/>
          <p:cNvSpPr txBox="1"/>
          <p:nvPr/>
        </p:nvSpPr>
        <p:spPr>
          <a:xfrm>
            <a:off x="179280" y="620640"/>
            <a:ext cx="8785440" cy="5832720"/>
          </a:xfrm>
          <a:prstGeom prst="rect">
            <a:avLst/>
          </a:prstGeom>
          <a:noFill/>
          <a:ln w="0">
            <a:noFill/>
          </a:ln>
        </p:spPr>
        <p:txBody>
          <a:bodyPr anchor="t">
            <a:normAutofit fontScale="98000"/>
          </a:bodyPr>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organización social y el Estado brotan constantemente del proceso de vida de determinados individuos como realmente ellos son.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acento de Marx está en ese proceso de vida real, en el conjunto de las relaciones sociales. De aquí se explica que para Marx el tema del Estado haya sido relativamente secundario en el desarrollo de su proyecto intelectual.</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alibri"/>
              </a:rPr>
              <a:t>El eje de la visión teórica de Marx sobre el Estado debe ser reconstruido a partir de la crítica a la Filosofía del Derecho de Hegel que está en la base de la estructura teórica de "La Ideología Alemana". La discusión que nos interesa retomar aquí se plantea en torno a la idea hegeliana de "sociedad civil".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Calibri"/>
              </a:rPr>
              <a:t>Marx concibe la sociedad civil como el ámbito de la totalidad de los intercambios.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práctica de los intereses particulares de los individuos que constantemente se enfrentan a los intereses comunes o que ilusoriamente se creen tales, impone como algo necesario la interposición práctica y el refrenamiento por el interés "general" ilusorio bajo la forma del Estado.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poder social se les aparece a los individuos como un poder ajeno, que no saben de dónde procede ni a dónde se dirige, y que no pueden ya dominar.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Estado, independizado entonces de la voluntad de los hombres, toma vida propia y recorre una serie de fases y etapas de desarrollo, llegando incluso a dirigir la voluntad de los hombres.</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C086-B2DD-4330-932D-AABD4D70274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3" name=""/>
          <p:cNvSpPr txBox="1"/>
          <p:nvPr/>
        </p:nvSpPr>
        <p:spPr>
          <a:xfrm>
            <a:off x="179280" y="620640"/>
            <a:ext cx="8785440" cy="5832720"/>
          </a:xfrm>
          <a:prstGeom prst="rect">
            <a:avLst/>
          </a:prstGeom>
          <a:noFill/>
          <a:ln w="0">
            <a:noFill/>
          </a:ln>
        </p:spPr>
        <p:txBody>
          <a:bodyPr anchor="t">
            <a:normAutofit fontScale="96000"/>
          </a:bodyPr>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rma de intercambio condicionada por las fuerzas de producción existente en todas las fase históricas anteriores, y que a su vez las condiciona, es la </a:t>
            </a:r>
            <a:r>
              <a:rPr b="0" i="1" lang="es-CL" sz="2000" spc="-1" strike="noStrike">
                <a:solidFill>
                  <a:srgbClr val="000000"/>
                </a:solidFill>
                <a:latin typeface="Calibri"/>
              </a:rPr>
              <a:t>sociedad civil</a:t>
            </a:r>
            <a:r>
              <a:rPr b="0" lang="es-CL" sz="2000" spc="-1" strike="noStrike">
                <a:solidFill>
                  <a:srgbClr val="000000"/>
                </a:solidFill>
                <a:latin typeface="Calibri"/>
              </a:rPr>
              <a:t>. Es el verdadero escenario de toda la historia. </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civil abarca todo el intercambio material de los individuos y, en este sentido, transciende los límites del Estado y de la nación.</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de esta concepción de la sociedad civil como una totalidad social surgen dos consideraciones fundamentales para la conceptualización del Estado: </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a falsedad de la igualación del Estado a la sociedad civil:</a:t>
            </a:r>
            <a:endParaRPr b="0" lang="en-US" sz="20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Estado no puede hacerse equivalente a la sociedad civil porque es una parte de ella; es aquella parte que corresponde a la organización política.</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Estado, al contrario de la tesis hegeliana, no es la realización plena y completa de la sociedad civil, es la parte de la sociedad civil donde se asiente la organización de la dominación de una clase.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Marx el Estado es entonces analizado como instrumento de dominación.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clase dominante actúa como soporte de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interés de la clase dominante es el interés general pues, las ideas de esa clase son las ideas dominantes en cada época; o, dicho en otros términos, la clase que ejerce el poder material dominante en la sociedad es, al mismo tiempo, su poder espiritual dominante.</a:t>
            </a:r>
            <a:endParaRPr b="0" lang="en-US" sz="1800" spc="-1" strike="noStrike">
              <a:solidFill>
                <a:srgbClr val="000000"/>
              </a:solidFill>
              <a:latin typeface="Calibri"/>
            </a:endParaRPr>
          </a:p>
        </p:txBody>
      </p:sp>
      <p:sp>
        <p:nvSpPr>
          <p:cNvPr id="12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E5F3-942D-4F64-9710-F25247AA4F8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6" name=""/>
          <p:cNvSpPr txBox="1"/>
          <p:nvPr/>
        </p:nvSpPr>
        <p:spPr>
          <a:xfrm>
            <a:off x="179280" y="620640"/>
            <a:ext cx="8785440" cy="5832720"/>
          </a:xfrm>
          <a:prstGeom prst="rect">
            <a:avLst/>
          </a:prstGeom>
          <a:noFill/>
          <a:ln w="0">
            <a:noFill/>
          </a:ln>
        </p:spPr>
        <p:txBody>
          <a:bodyPr anchor="t">
            <a:normAutofit fontScale="96000"/>
          </a:bodyPr>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individuos que forman la clase dominante tienen también, entre otras cosas, la conciencia de ello y piensan a tono con ell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dominante se hace ver como "lo general".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interés común, en cuanto Estado, cobra una forma independiente y propia, separada de los reales intereses particulares y colectivos y, entonces pasa a ser una comunidad ilusoria, que se superimpone a los vínculos reales existentes dentro de cada conglomerado social (familiar y tribal) carne, sangre, lengua, división del trabajo a mayor escala, y sobre todo, vínculos de clases.</a:t>
            </a:r>
            <a:endParaRPr b="0" lang="en-US" sz="1800" spc="-1" strike="noStrike">
              <a:solidFill>
                <a:srgbClr val="000000"/>
              </a:solidFill>
              <a:latin typeface="Calibri"/>
            </a:endParaRPr>
          </a:p>
          <a:p>
            <a:pPr marL="493560" indent="-493560" algn="just">
              <a:spcBef>
                <a:spcPts val="499"/>
              </a:spcBef>
              <a:buClr>
                <a:srgbClr val="000000"/>
              </a:buClr>
              <a:buFont typeface="Calibri"/>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 la concepción de la sociedad civil como la totalidad de los intercambios materiales, se desprende la falsedad de la separación del Estado de la Sociedad civil:</a:t>
            </a:r>
            <a:endParaRPr b="0" lang="en-US" sz="20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es la crítica de Marx al liberalismo en el cual el individuo es anterior y opuesto a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hay tal contraposición "individuo versus Estado" en Marx.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realidad la sociedad civil es más que e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realidad del individuo se encuentra en la sociedad civil y cuando en ésta se organiza políticamente la dominación de clases, bajo la forma del Estado, éste no hace más que expresar la verdadera contraposición que es la que se da entre clases. Es en este carácter del Estado, que se entiende la expresión de Marx de que "</a:t>
            </a:r>
            <a:r>
              <a:rPr b="0" i="1" lang="es-CL" sz="1800" spc="-1" strike="noStrike">
                <a:solidFill>
                  <a:srgbClr val="000000"/>
                </a:solidFill>
                <a:latin typeface="Calibri"/>
              </a:rPr>
              <a:t>la lucha de clases es siempre política</a:t>
            </a:r>
            <a:r>
              <a:rPr b="0" lang="es-CL" sz="1800" spc="-1" strike="noStrike">
                <a:solidFill>
                  <a:srgbClr val="000000"/>
                </a:solidFill>
                <a:latin typeface="Calibri"/>
              </a:rPr>
              <a:t>".</a:t>
            </a:r>
            <a:endParaRPr b="0" lang="en-US" sz="1800" spc="-1" strike="noStrike">
              <a:solidFill>
                <a:srgbClr val="000000"/>
              </a:solidFill>
              <a:latin typeface="Calibri"/>
            </a:endParaRPr>
          </a:p>
          <a:p>
            <a:pPr marL="493560" indent="-4935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BFEF-A343-4B4B-BECF-D109859E75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9" name=""/>
          <p:cNvSpPr txBox="1"/>
          <p:nvPr/>
        </p:nvSpPr>
        <p:spPr>
          <a:xfrm>
            <a:off x="179280" y="620640"/>
            <a:ext cx="8785440" cy="5832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sin clases se produce la realización plena (no alienada) de la sociedad civil.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como organización coercitiva, no tiene entonces razón de ser.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pasa con la autoridad como principio de organización?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saparece, sino que se funda en otras bases.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parece el Estado como instrumento de dominación de una clase sobre otra.</a:t>
            </a:r>
            <a:endParaRPr b="0" lang="en-US" sz="2400" spc="-1" strike="noStrike">
              <a:solidFill>
                <a:srgbClr val="000000"/>
              </a:solidFill>
              <a:latin typeface="Calibri"/>
            </a:endParaRPr>
          </a:p>
        </p:txBody>
      </p:sp>
      <p:sp>
        <p:nvSpPr>
          <p:cNvPr id="13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DE2B-256A-4E35-AF03-8F08C913829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Infraestructura y Superestructura</a:t>
            </a:r>
            <a:endParaRPr b="0" lang="en-US" sz="2800" spc="-1" strike="noStrike">
              <a:solidFill>
                <a:srgbClr val="000000"/>
              </a:solidFill>
              <a:latin typeface="Calibri"/>
            </a:endParaRPr>
          </a:p>
        </p:txBody>
      </p:sp>
      <p:sp>
        <p:nvSpPr>
          <p:cNvPr id="132" name=""/>
          <p:cNvSpPr txBox="1"/>
          <p:nvPr/>
        </p:nvSpPr>
        <p:spPr>
          <a:xfrm>
            <a:off x="179280" y="620640"/>
            <a:ext cx="8785440" cy="5832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Infraestructura o estructura económica</a:t>
            </a:r>
            <a:r>
              <a:rPr b="0" lang="es-CL" sz="2000" spc="-1" strike="noStrike">
                <a:solidFill>
                  <a:srgbClr val="000000"/>
                </a:solidFill>
                <a:latin typeface="Calibri"/>
              </a:rPr>
              <a:t>: es la base material de la sociedad que determina la estructura social y el desarrollo y cambio social. Incluye las fuerzas productivas y las relaciones de producción. De ella depende la superestructur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tesis marxistas más claras relativas a la infraestructura son las siguientes:</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el factor fundamental del proceso histórico y determina el desarrollo y cambio social; dicho de otro modo, cuando cambia la infraestructura, cambia el conjunto de la sociedad (las relaciones sociales, el poder, las instituciones y el resto de elementos de la superestructura);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mponen las fuerzas productivas  (recursos naturales, medios técnicos y fuerza del trabajo) y las relaciones de producción (los vínculos sociales que se establecen entre las personas a partir del modo en que éstas se vinculan con las fuerzas productivas, las clases sociales, por ejemplo);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ella depende la superestructura (formas jurídicas y políticas, filosofía, religión, arte, cienci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B0FF-FCB1-4A6B-9ED5-A5423732F38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Historia y lucha de clases</a:t>
            </a:r>
            <a:endParaRPr b="0" lang="en-US" sz="4000" spc="-1" strike="noStrike">
              <a:solidFill>
                <a:srgbClr val="000000"/>
              </a:solidFill>
              <a:latin typeface="Calibri"/>
            </a:endParaRPr>
          </a:p>
        </p:txBody>
      </p:sp>
      <p:sp>
        <p:nvSpPr>
          <p:cNvPr id="54" name="2 Marcador de contenido"/>
          <p:cNvSpPr/>
          <p:nvPr/>
        </p:nvSpPr>
        <p:spPr>
          <a:xfrm>
            <a:off x="324000" y="907920"/>
            <a:ext cx="851688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tácora:</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terialismo históric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tesis del desarrollo históric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bajo enajenad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odos de producción.</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 las clases sociales.</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bre el Estad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fraestructura y Superestructura.</a:t>
            </a:r>
            <a:endParaRPr b="0" lang="en-US" sz="24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D192-8DDC-490B-8543-BB5F7237F92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Infraestructura y Superestructura</a:t>
            </a:r>
            <a:endParaRPr b="0" lang="en-US" sz="2800" spc="-1" strike="noStrike">
              <a:solidFill>
                <a:srgbClr val="000000"/>
              </a:solidFill>
              <a:latin typeface="Calibri"/>
            </a:endParaRPr>
          </a:p>
        </p:txBody>
      </p:sp>
      <p:sp>
        <p:nvSpPr>
          <p:cNvPr id="135" name=""/>
          <p:cNvSpPr txBox="1"/>
          <p:nvPr/>
        </p:nvSpPr>
        <p:spPr>
          <a:xfrm>
            <a:off x="179280" y="620640"/>
            <a:ext cx="8785440" cy="5832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Superestructura</a:t>
            </a:r>
            <a:r>
              <a:rPr b="0" lang="es-CL" sz="2000" spc="-1" strike="noStrike">
                <a:solidFill>
                  <a:srgbClr val="000000"/>
                </a:solidFill>
                <a:latin typeface="Calibri"/>
              </a:rPr>
              <a:t>: conjunto de elementos de la vida social dependientes de la infraestructura. En este conjunto se incluyen la religión, la moral, la ciencia, la filosofía, el arte, el derecho y las instituciones políticas y jurídicas.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tesis básica del materialismo histórico es que la superestructura depende de las condiciones económicas en las que vive cada sociedad,  de los medios y fuerzas productivas (infraestructura).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perestructura no tiene una historia propia, independiente, sino que está en función de los intereses de clase de los grupos que la han creado. Los cambios en la superestructura son consecuencia de los cambios en la infraestructura. Esta teoría tiene importantes consecuencias: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una lado, la completa comprensión de cada uno de los elementos de la superestructura sólo se puede realizar con la comprensión de la estructura y cambios económicos que se encuentran a su base.</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o, la idea de que no es posible la independencia de la mente humana, del pensamiento, respecto del mundo económico en el que están inmersas las personas, lo que puede fomentar un cierto relativismo. </a:t>
            </a:r>
            <a:endParaRPr b="0" lang="en-US" sz="2000" spc="-1" strike="noStrike">
              <a:solidFill>
                <a:srgbClr val="000000"/>
              </a:solidFill>
              <a:latin typeface="Calibri"/>
            </a:endParaRPr>
          </a:p>
          <a:p>
            <a:pPr lvl="1" marL="914400" indent="-514440" algn="just">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14400" indent="-514440" algn="just">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563F-7CAA-45B6-9590-E89A0119F90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Karl Marx</a:t>
            </a:r>
            <a:br>
              <a:rPr sz="3200"/>
            </a:br>
            <a:r>
              <a:rPr b="1" lang="nb-NO" sz="2800" spc="-1" strike="noStrike">
                <a:solidFill>
                  <a:srgbClr val="000000"/>
                </a:solidFill>
                <a:latin typeface="Calibri"/>
              </a:rPr>
              <a:t>[1818-1883]</a:t>
            </a:r>
            <a:br>
              <a:rPr sz="4000"/>
            </a:br>
            <a:endParaRPr b="0" lang="en-US" sz="2800" spc="-1" strike="noStrike">
              <a:solidFill>
                <a:srgbClr val="000000"/>
              </a:solidFill>
              <a:latin typeface="Calibri"/>
            </a:endParaRPr>
          </a:p>
        </p:txBody>
      </p:sp>
      <p:sp>
        <p:nvSpPr>
          <p:cNvPr id="13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6 – 24 de noviembre de 2010</a:t>
            </a:r>
            <a:endParaRPr b="0" lang="en-US" sz="2000" spc="-1" strike="noStrike">
              <a:solidFill>
                <a:srgbClr val="000000"/>
              </a:solidFill>
              <a:latin typeface="Calibri"/>
            </a:endParaRPr>
          </a:p>
        </p:txBody>
      </p:sp>
      <p:pic>
        <p:nvPicPr>
          <p:cNvPr id="139" name="Picture 5" descr="escuela de gobierno y gestión pública"/>
          <p:cNvPicPr/>
          <p:nvPr/>
        </p:nvPicPr>
        <p:blipFill>
          <a:blip r:embed="rId1"/>
          <a:stretch/>
        </p:blipFill>
        <p:spPr>
          <a:xfrm>
            <a:off x="0" y="0"/>
            <a:ext cx="2371680" cy="933480"/>
          </a:xfrm>
          <a:prstGeom prst="rect">
            <a:avLst/>
          </a:prstGeom>
          <a:ln w="0">
            <a:noFill/>
          </a:ln>
        </p:spPr>
      </p:pic>
      <p:pic>
        <p:nvPicPr>
          <p:cNvPr id="140" name="6 Imagen" descr="15 Marx.bmp"/>
          <p:cNvPicPr/>
          <p:nvPr/>
        </p:nvPicPr>
        <p:blipFill>
          <a:blip r:embed="rId2"/>
          <a:stretch/>
        </p:blipFill>
        <p:spPr>
          <a:xfrm>
            <a:off x="7236000" y="49320"/>
            <a:ext cx="1873080" cy="22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aterialismo histórico </a:t>
            </a:r>
            <a:endParaRPr b="0" lang="en-US" sz="3400" spc="-1" strike="noStrike">
              <a:solidFill>
                <a:srgbClr val="000000"/>
              </a:solidFill>
              <a:latin typeface="Calibri"/>
            </a:endParaRPr>
          </a:p>
        </p:txBody>
      </p:sp>
      <p:sp>
        <p:nvSpPr>
          <p:cNvPr id="57" name=""/>
          <p:cNvSpPr txBox="1"/>
          <p:nvPr/>
        </p:nvSpPr>
        <p:spPr>
          <a:xfrm>
            <a:off x="178920" y="764640"/>
            <a:ext cx="8713800" cy="575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terminología filosófica, el "materialismo" (o "naturalismo") se refiere a una concepción filosófica que sostiene que la materia en movimiento es el elemento fundamental del univers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definió sucintamente su propio método histórico: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odo como los hombres producen sus medios de vida depende, ante todo, de la naturaleza misma de los medios de vida con que se encuentran y que se trata de reproducir.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modo de producción no debe considerarse solamente en cuanto es la reproducción de la existencia física de los individuo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un determinado modo de la actividad de estos individuos, un determinado modo de manifestar su vida, un determinada modo de vida de los mismo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l y como los individuos manifiestan su vida, así so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son coincide, por consiguiente, con su producción, tanto con lo que produce como con el modo cómo produce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los individuos son depende, por tanto, de las condiciones materiales de su producción."</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2D56-2481-4A7D-8B2A-CECDF628CB9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emisas del materialismo histórico </a:t>
            </a:r>
            <a:endParaRPr b="0" lang="en-US" sz="3400" spc="-1" strike="noStrike">
              <a:solidFill>
                <a:srgbClr val="000000"/>
              </a:solidFill>
              <a:latin typeface="Calibri"/>
            </a:endParaRPr>
          </a:p>
        </p:txBody>
      </p:sp>
      <p:sp>
        <p:nvSpPr>
          <p:cNvPr id="60" name=""/>
          <p:cNvSpPr txBox="1"/>
          <p:nvPr/>
        </p:nvSpPr>
        <p:spPr>
          <a:xfrm>
            <a:off x="178920" y="907920"/>
            <a:ext cx="8713800" cy="5616720"/>
          </a:xfrm>
          <a:prstGeom prst="rect">
            <a:avLst/>
          </a:prstGeom>
          <a:noFill/>
          <a:ln w="0">
            <a:noFill/>
          </a:ln>
        </p:spPr>
        <p:txBody>
          <a:bodyPr anchor="t">
            <a:normAutofit fontScale="96000"/>
          </a:bodyPr>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dad</a:t>
            </a:r>
            <a:r>
              <a:rPr b="0" lang="es-CL" sz="2000" spc="-1" strike="noStrike">
                <a:solidFill>
                  <a:srgbClr val="000000"/>
                </a:solidFill>
                <a:latin typeface="Calibri"/>
              </a:rPr>
              <a:t>: la condición real de los individuos como sustento de nuestra comprensión del mundo. Se debe partir de la existencia de individuos humanos vivos: esto es, desde la organización física de los individuos (el ser humano natural) y de su relación con el resto de la  naturaleza.</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roducción</a:t>
            </a:r>
            <a:r>
              <a:rPr b="0" lang="es-CL" sz="2000" spc="-1" strike="noStrike">
                <a:solidFill>
                  <a:srgbClr val="000000"/>
                </a:solidFill>
                <a:latin typeface="Calibri"/>
              </a:rPr>
              <a:t>: Desde el punto de vista del observador los hombres pueden distinguirse de los animales por la conciencia, la religión o cualquier otra característica. Ellos mismos, sin embargo, </a:t>
            </a:r>
            <a:r>
              <a:rPr b="0" i="1" lang="es-CL" sz="2000" spc="-1" strike="noStrike">
                <a:solidFill>
                  <a:srgbClr val="000000"/>
                </a:solidFill>
                <a:latin typeface="Calibri"/>
              </a:rPr>
              <a:t>empiezan a distinguirse </a:t>
            </a:r>
            <a:r>
              <a:rPr b="0" lang="es-CL" sz="2000" spc="-1" strike="noStrike">
                <a:solidFill>
                  <a:srgbClr val="000000"/>
                </a:solidFill>
                <a:latin typeface="Calibri"/>
              </a:rPr>
              <a:t>de los animales </a:t>
            </a:r>
            <a:r>
              <a:rPr b="0" i="1" lang="es-CL" sz="2000" spc="-1" strike="noStrike">
                <a:solidFill>
                  <a:srgbClr val="000000"/>
                </a:solidFill>
                <a:latin typeface="Calibri"/>
              </a:rPr>
              <a:t>cuando comienzan a producir sus medios de subsistencia</a:t>
            </a:r>
            <a:r>
              <a:rPr b="0" lang="es-CL" sz="2000" spc="-1" strike="noStrike">
                <a:solidFill>
                  <a:srgbClr val="000000"/>
                </a:solidFill>
                <a:latin typeface="Calibri"/>
              </a:rPr>
              <a:t>, lo cual está condicionado por su organización física. El modo de producir los medios de subsistencia es un modo de vida definido: </a:t>
            </a:r>
            <a:r>
              <a:rPr b="0" i="1" lang="es-CL" sz="2000" spc="-1" strike="noStrike">
                <a:solidFill>
                  <a:srgbClr val="000000"/>
                </a:solidFill>
                <a:latin typeface="Calibri"/>
              </a:rPr>
              <a:t>lo que los individuos son coincide con lo que producen y cómo producen</a:t>
            </a:r>
            <a:r>
              <a:rPr b="0" lang="es-CL" sz="2000" spc="-1" strike="noStrike">
                <a:solidFill>
                  <a:srgbClr val="000000"/>
                </a:solidFill>
                <a:latin typeface="Calibri"/>
              </a:rPr>
              <a:t>.</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ndiciones materiales</a:t>
            </a:r>
            <a:r>
              <a:rPr b="0" lang="es-CL" sz="2000" spc="-1" strike="noStrike">
                <a:solidFill>
                  <a:srgbClr val="000000"/>
                </a:solidFill>
                <a:latin typeface="Calibri"/>
              </a:rPr>
              <a:t>: La naturaleza de los individuos depende entonces de las condiciones materiales que determinan su producción. Esta producción aparece con el aumento de la población y a su vez, presupone, el intercambio de individuos. Esta forma de producción está, de nuevo, determinada por la producción.</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0E40-C112-4E37-8E00-E6956125E25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emisas del materialismo histórico </a:t>
            </a:r>
            <a:endParaRPr b="0" lang="en-US" sz="3200" spc="-1" strike="noStrike">
              <a:solidFill>
                <a:srgbClr val="000000"/>
              </a:solidFill>
              <a:latin typeface="Calibri"/>
            </a:endParaRPr>
          </a:p>
        </p:txBody>
      </p:sp>
      <p:sp>
        <p:nvSpPr>
          <p:cNvPr id="63" name=""/>
          <p:cNvSpPr txBox="1"/>
          <p:nvPr/>
        </p:nvSpPr>
        <p:spPr>
          <a:xfrm>
            <a:off x="178920" y="764640"/>
            <a:ext cx="8713800" cy="5977080"/>
          </a:xfrm>
          <a:prstGeom prst="rect">
            <a:avLst/>
          </a:prstGeom>
          <a:noFill/>
          <a:ln w="0">
            <a:noFill/>
          </a:ln>
        </p:spPr>
        <p:txBody>
          <a:bodyPr anchor="t">
            <a:normAutofit/>
          </a:bodyPr>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pendencia</a:t>
            </a:r>
            <a:r>
              <a:rPr b="0" lang="es-CL" sz="2000" spc="-1" strike="noStrike">
                <a:solidFill>
                  <a:srgbClr val="000000"/>
                </a:solidFill>
                <a:latin typeface="Calibri"/>
              </a:rPr>
              <a:t>: toda la estructura interna de una nación depende del estado de desarrollo alcanzado por su producción y por sus intercambios productivos internos y externos.</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sarrollo y división del trabajo</a:t>
            </a:r>
            <a:r>
              <a:rPr b="0" lang="es-CL" sz="2000" spc="-1" strike="noStrike">
                <a:solidFill>
                  <a:srgbClr val="000000"/>
                </a:solidFill>
                <a:latin typeface="Calibri"/>
              </a:rPr>
              <a:t>: El desarrollo de las fuerzas productivas de una nación se manifiesta en el grado que alcanza la división del trabajo. Primero, la división del trabajo lleva a la separación del trabajo industrial y comercial  del trabajo agrícola, y por tanto a la separación de ciudad y campo y al conflicto entre sus respectivos interes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ormas de propiedad</a:t>
            </a:r>
            <a:r>
              <a:rPr b="0" lang="es-CL" sz="2000" spc="-1" strike="noStrike">
                <a:solidFill>
                  <a:srgbClr val="000000"/>
                </a:solidFill>
                <a:latin typeface="Calibri"/>
              </a:rPr>
              <a:t>: Los distintos grados de desarrollo de la división del trabajo no son más que otras tantas formas de propiedad: la primera forma es tribal (donde sólo existe propiedad común o colectiva);  la segunda es la antigua  propiedad comunal (que combina la existencia de propiedad sobre esclavos, con la propiedad estatal); la tercera forma es la propiedad feudal:  (se combina aquí la propiedad de la tierra que se extiende sobre el  trabajo de los pequeños campesinos en servidumbre y la  propiedad corporativa  de los gremios que abarca el trabajo de  jornaleros y aprendices).</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Individuos</a:t>
            </a:r>
            <a:r>
              <a:rPr b="0" lang="es-CL" sz="2000" spc="-1" strike="noStrike">
                <a:solidFill>
                  <a:srgbClr val="000000"/>
                </a:solidFill>
                <a:latin typeface="Calibri"/>
              </a:rPr>
              <a:t> determinados que son productivos en una forma determinada, entran en relaciones sociales y políticas que también son determinadas.  </a:t>
            </a:r>
            <a:endParaRPr b="0" lang="en-US" sz="20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5A14-79BE-4E3A-BBD7-EABFACCA360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esumen: materialismo histórico </a:t>
            </a:r>
            <a:endParaRPr b="0" lang="en-US" sz="3400" spc="-1" strike="noStrike">
              <a:solidFill>
                <a:srgbClr val="000000"/>
              </a:solidFill>
              <a:latin typeface="Calibri"/>
            </a:endParaRPr>
          </a:p>
        </p:txBody>
      </p:sp>
      <p:sp>
        <p:nvSpPr>
          <p:cNvPr id="66"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concepción de la historia consiste en exponer el proceso real de producción, partiendo para ello de la producción material de la vida inmediata, y en concebir la forma de intercambio correspondiente a este modo de producción y engendrada por él, es decir, la sociedad civil en sus diferentes fases como el fundamento de toda la historia, presentándola en su acción en cuanto Estado y explicando a base de él todos los diversos productos teóricos y formas de la conciencia, la religión, la filosofía, la moral.</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concepción, a diferencia de la idealista, no busca una categoría en cada período, sino que se mantiene siempre sobre el terreno histórico real, no explica la práctica partiendo de la idea, sino explica las formaciones ideológicas sobre la base de la práctica material, por lo cual llega, consecuentemente, a la conclusión de que todas las formas y todos los productos de la conciencia no pueden ser destruidos por obra de la crítica espiritual, mediante la reducción a la «autoconciencia» o la transformación en «fantasmas», «espectros», «visiones», sino que sólo pueden disolverse por el derrocamiento práctico de las relaciones sociales reales, de las que emanan estas quimeras idealista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FCF4-648A-44CB-8BAE-FE2AF917832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s tesis del desarrollo histórico </a:t>
            </a:r>
            <a:endParaRPr b="0" lang="en-US" sz="3400" spc="-1" strike="noStrike">
              <a:solidFill>
                <a:srgbClr val="000000"/>
              </a:solidFill>
              <a:latin typeface="Calibri"/>
            </a:endParaRPr>
          </a:p>
        </p:txBody>
      </p:sp>
      <p:sp>
        <p:nvSpPr>
          <p:cNvPr id="69" name=""/>
          <p:cNvSpPr txBox="1"/>
          <p:nvPr/>
        </p:nvSpPr>
        <p:spPr>
          <a:xfrm>
            <a:off x="178920" y="907920"/>
            <a:ext cx="8713800" cy="5616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pués de sentar las premisas fundamentales del materialismo histórico, Marx indica lo que a su juicio son los eventos o hechos que definen y acotan la historia, como proceso y escenario del desarrollo de las formas de producción.</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imer hecho histórico es la producción de los medios para satisfacer las necesidades vital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gundo es que la satisfacción de esas necesidades lleva a la producción de nuevas necesidad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tercer hecho es que los hombres comienzan a hacer otros hombres (relación entre hombre y mujer, padres e hijos, la familia). Al lado de la relación natural está la relación social.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relación social  es la cooperación de varios individuos, independientemente de las condiciones, modos o finalidades. De aqui que un cierto modo de producción está siempre combinado con un cierto modo de cooperación y este modo de cooperación es en sí mismo una “fuerza productiv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38EC-1027-4357-9700-45B4B5F7BFA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s tesis del desarrollo histórico </a:t>
            </a:r>
            <a:endParaRPr b="0" lang="en-US" sz="3400" spc="-1" strike="noStrike">
              <a:solidFill>
                <a:srgbClr val="000000"/>
              </a:solidFill>
              <a:latin typeface="Calibri"/>
            </a:endParaRPr>
          </a:p>
        </p:txBody>
      </p:sp>
      <p:sp>
        <p:nvSpPr>
          <p:cNvPr id="72" name=""/>
          <p:cNvSpPr txBox="1"/>
          <p:nvPr/>
        </p:nvSpPr>
        <p:spPr>
          <a:xfrm>
            <a:off x="178920" y="907920"/>
            <a:ext cx="8713800" cy="5616720"/>
          </a:xfrm>
          <a:prstGeom prst="rect">
            <a:avLst/>
          </a:prstGeom>
          <a:noFill/>
          <a:ln w="0">
            <a:noFill/>
          </a:ln>
        </p:spPr>
        <p:txBody>
          <a:bodyPr anchor="t">
            <a:normAutofit/>
          </a:bodyPr>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ijación de la actividad social que es producida por la división del trabajo, es la consolidación de lo que producimos, en un poder objetivo por encima de nosotros, que escapa de nuestro control, tuerce nuestras expectativas, deshace nuestros cálculos, y es uno de los principales factores del desarrollo histórico hasta ahora.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odas las luchas dentro del Estado (que aparece como la forma independiente de los intereses generales)  son tan sólo formas ilusorias de las luchas reales libradas por diferentes clases que luchan unas contra otras.  Cada clase que lucha por la dominación debe conquistar primero y por sí misma el poder político para poder representar sus intereses como si fueran  el interés general.</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ualquier época las ideas de la clase dominante (es decir de la clase que es  la fuerza gobernante material) pasan a ser la fuerza intelectual dominante de la sociedad.</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A560-62F4-41CD-880A-5FEEB256545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1-25T01:39:11Z</dcterms:modified>
  <cp:revision>782</cp:revision>
  <dc:subject/>
  <dc:title>HISTORIA DEL PENSAMIENTO POLÍTICO</dc:title>
</cp:coreProperties>
</file>