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2545-5075-4DBB-945D-D5EEBD1EBA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397F-B726-4301-A788-39FA7A0DB12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3CE6-A4F9-499C-928E-A17E2149CA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38F0-9786-4E89-850B-84437E9373F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80FF-F673-421A-B527-C849095DC8C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C2BA-F220-43AE-AB3B-2357F669A9E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2F83-30E7-4DE8-9E80-3E374D23E0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A4EF-09D3-4F1C-B3E4-771DD9DEC2D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1CDC-0F95-4EF8-9BDF-6552A3C143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0B2A-217C-4601-9A3C-5AEEFF97AD8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DB35-8521-4DA5-B0FC-C4F1C72C07D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E699-6881-4BB0-88D9-9FCB2088675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5E14-E45A-47D4-AB8D-627B9861686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DDA0-7F94-4812-B9C8-C07C1A4E58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1456-E03F-48D0-9F1C-03DA53E9E0F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EAD9-80B9-4BC9-8750-347D26C8155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E8B3-0007-4840-9669-98E8784692B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101F-82A3-4194-9F4E-E43C0089C9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DD82-A18C-4311-8D23-28F369C15CE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9AA3-2E6C-4E7D-AA6E-E01B8FA6558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E3C9-F6B8-4FBB-AC5F-9C61836987D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92CB-98DE-4752-9CBF-D08D0E96D98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F0DF-ED52-4525-BA2A-F7006D4E9BD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C3D0-FFEF-48BD-A228-62AC478E37B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58CA-79D2-4768-81E4-B77AC034F6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A01C-67E9-46C0-884B-D42FC9F01CF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A3BD-7357-4C59-A00A-F74BC938784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A860-2BF1-4E9B-BBE1-AFA24C8B42B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B634-B2CD-4CED-AE3A-C9AF415A33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C779-8805-4E1F-9C66-680E106B280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5E97-A070-4EBB-8810-DEB1901FFA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EB57-2694-4859-8A8D-3CFCFBB6E68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A23F-F590-474A-9EC9-4E5CAD375E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8CF9-94CB-41B6-BE3F-B7524E8072F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E4D5-23EA-44C8-B275-850FDB56EE1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E686-BB27-4C74-B00D-822B9A3E1D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6D88-5FD3-444A-ACAB-4C5618895B3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62A3-5D3D-4F2D-94A6-1C219819880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0010-0EAF-486A-B4FF-DA78C04B6D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21F1-0E98-4DEE-9F3F-8C5A4DFE1DA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BF7C-60D0-47A1-8205-0B41B99C20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F9F2-F5D7-4045-9BB5-E3BF9D6F4EB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C95A-512B-4EAA-BD15-AFD13A5CBE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3DE6-E472-446F-8FB0-B98A719EDCA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D18D-78C2-4CB6-B1E9-BF64A40BCFC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F73E-9EA1-4EBB-962E-D252B7A576D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F17E-E2BC-4227-8290-004590448A9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4AE5-CDE4-43E0-9B2D-99E8ECB760E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7943-6A6A-45E9-8137-297959CBD3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384E-FBCB-400B-8EE8-DB0A8CF9E0E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9409-9240-43A5-B1C2-A7BD41BF514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15BB-0CAC-45D6-8C30-63E05A833E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92BB-DBCC-4DF0-A548-CC98A6F586C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28FF-F5A0-4DA2-9497-8604F567DF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0D01-92E0-4083-81B8-F0FF312513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B474-C3EC-46E0-9E63-0DC05094270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17A80-7122-4BE1-A737-CFDC1C43A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D16EC-9350-4EE5-A59C-38A190F8B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89C87-DBCF-4203-AB3F-A7F55FB10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41E95-E4EE-4861-BF11-B7CE6B4DB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B5E6A-19FC-422B-ADFE-54493C009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BFD72-9F26-4535-9F7C-8B9E426E0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701F0-6313-4380-BA74-1E4AD7EF4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E16C3-BA2A-4D02-A48E-A32896A46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C2299-C2A6-4992-9EB2-FAA7D8A55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94A54-07D0-4863-854B-EC3CB4CF3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5478A-70C1-4EB9-A730-E3E641FBB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38E88-C21B-4E18-B7F9-E0F9F648D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3220A-131D-4090-9C47-367E4BC38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BD2EC-C815-410D-9D5F-916038E22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1895F-44A9-4D1E-BFAA-D527AD8C7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40A77-293F-4D49-9EB5-C3769463B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6C336-E9F2-44D6-82CB-5738BB206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F93FA-1FC7-4485-B2E3-044237BA4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95392-37AB-4D8C-8931-70EF8FD41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A4995-6164-43A7-9D22-AB01A5A07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F54E7-5F76-41B6-81A0-FF228BD03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3BBBB-4D95-418F-BEAB-E9B6563F4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598CB-88EC-4563-A07A-C8D9FFEA4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DD41-EDB1-4B81-9312-9C0F1BFF8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F535-6876-436E-AE42-58B0705FB883}"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3BD1-8DB4-418F-9832-B8953771DB2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E3E7-A368-4220-BF21-976B7198F3C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Georg W. F. Hegel</a:t>
            </a:r>
            <a:br>
              <a:rPr sz="3200"/>
            </a:br>
            <a:r>
              <a:rPr b="1" lang="nb-NO" sz="2800" spc="-1" strike="noStrike">
                <a:solidFill>
                  <a:srgbClr val="000000"/>
                </a:solidFill>
                <a:latin typeface="Calibri"/>
              </a:rPr>
              <a:t>[1770-1831]</a:t>
            </a:r>
            <a:br>
              <a:rPr sz="4000"/>
            </a:br>
            <a:endParaRPr b="0" lang="en-US" sz="2800" spc="-1" strike="noStrike">
              <a:solidFill>
                <a:srgbClr val="000000"/>
              </a:solidFill>
              <a:latin typeface="Calibri"/>
            </a:endParaRPr>
          </a:p>
        </p:txBody>
      </p:sp>
      <p:sp>
        <p:nvSpPr>
          <p:cNvPr id="9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5 – 26 de octubre de 2010</a:t>
            </a:r>
            <a:endParaRPr b="0" lang="en-US" sz="2000" spc="-1" strike="noStrike">
              <a:solidFill>
                <a:srgbClr val="000000"/>
              </a:solidFill>
              <a:latin typeface="Calibri"/>
            </a:endParaRPr>
          </a:p>
        </p:txBody>
      </p:sp>
      <p:pic>
        <p:nvPicPr>
          <p:cNvPr id="91" name="Picture 5" descr="escuela de gobierno y gestión pública"/>
          <p:cNvPicPr/>
          <p:nvPr/>
        </p:nvPicPr>
        <p:blipFill>
          <a:blip r:embed="rId1"/>
          <a:stretch/>
        </p:blipFill>
        <p:spPr>
          <a:xfrm>
            <a:off x="0" y="0"/>
            <a:ext cx="2371680" cy="933480"/>
          </a:xfrm>
          <a:prstGeom prst="rect">
            <a:avLst/>
          </a:prstGeom>
          <a:ln w="0">
            <a:noFill/>
          </a:ln>
        </p:spPr>
      </p:pic>
      <p:pic>
        <p:nvPicPr>
          <p:cNvPr id="92" name="5 Imagen" descr="14 Hegel.bmp"/>
          <p:cNvPicPr/>
          <p:nvPr/>
        </p:nvPicPr>
        <p:blipFill>
          <a:blip r:embed="rId2"/>
          <a:stretch/>
        </p:blipFill>
        <p:spPr>
          <a:xfrm>
            <a:off x="7416720" y="15840"/>
            <a:ext cx="1692360" cy="218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18"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libertad subjetiva debe ser reconocido de dos maneras: </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derecho de la particularidad del súbdito a satisfacer sus necesidades y su bienestar,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derecho de la conciencia a no reconocer nada que no apruebe racionalmente. Pero la particularidad debe adaptarse a lo universal y a la vida colectiva, y la conciencia crítica no debe poner en peligro la existencia de una autoridad, de un gobierno, de un Estado organizado.</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dición sólo puede satisfacerla el Esta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el pueblo no esté organizado en el Estado y por él, no será más que una colección de voluntades particulares y "no sabrá lo que dese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este formalismo de libertad, con esta abstracción, no es posible establecer una organización sólid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CF52-FD3E-4070-9E58-6E38C2EB361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disposiciones particulares adoptadas por el gobierno encuentran inmediatamente la oposición de la libertad, pues sólo son manifestaciones de la voluntad particular y, por tanto, arbitrari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de los muchos derriba al ministerio y lo que hasta ahora era la oposición aparece en el escenario como nuevo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dado que ahora es un gobierno, tiene a su vez a los muchos en su contra. De esta manera se perpetúan el cambio y la inquietu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niega que el reconocimiento de las libertades y de los derechos individuales y la igualdad jurídica conduzca a la democraci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BB74-AE97-49D9-9FDF-6F59ABEFA3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uo debe ser tomado en cuenta, en el aspecto político, sólo en la medida en que ocupa un lugar definido en tal organ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osibilidad de que cada quien llegue a ser miembro de la clase gobernante, la igualdad jurídica, no debe ir en detrimento de la diferenciación social; ni tampoco la opinión pública, la posibilidad de que cada quien haga oír su voz por la autoridad, debe dañar la autoridad del Estado y sus representantes competen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sea una síntesis de "liberación y respeto", de pasión y moral, de principios revolucionarios y la necesidad del orden polític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lo largo de la historia, el Estado moderno debe representar una síntesis de la polis y la sociedad liberal de la economía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edio de esta síntesis es la historia.</a:t>
            </a:r>
            <a:endParaRPr b="0" lang="en-US" sz="2400" spc="-1" strike="noStrike">
              <a:solidFill>
                <a:srgbClr val="000000"/>
              </a:solidFill>
              <a:latin typeface="Calibri"/>
            </a:endParaRPr>
          </a:p>
        </p:txBody>
      </p:sp>
      <p:sp>
        <p:nvSpPr>
          <p:cNvPr id="12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CB26-5DEF-4795-9AEF-1C897560CD7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7"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se realiza en el Estado moderno porque el Estado ha separado y manifestado los diferentes momentos y aspectos de la libertad (libertad objetiva, libertad subjetiva); y, dado que hoy la libertad se revela como la esencia del hombre, todos los hombres están en el Estado, y saben que son en él esencialmente lib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cubrimiento de la verdadera y completa esencia de la libertad coincide con la libertad de tod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necesario que todos sean reconocidos libres, que el principio de libertad interna, o del valor infinito del individuo, haya hecho su aparición en la religión, que la particularidad de las necesidades y las demandas de su satisfacción haya hecho su aparición en las costumbres y la moral de los homb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stitución política de un pueblo es un resultado de su espíritu; por ello es peligroso imponer a un pueblo una constitución elaborada a priori.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DB17-0C3A-4213-9817-73AE5747F85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0"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que busca la universalidad, sólo puede realizarse quedando encarnada en instituciones y costu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stumbres o morales son "la vida del Estado en los individu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 devoción al Estado, el individuo deja atrás su primitivo egoísmo espontáneo; es la actividad de instrucción del Estado la que le da una enseñanza y una educ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constituye un "último fin" para el individuo que en él encuentra la verdad de su existencia, su deber y su satisfacción, y que el Estado es la realización o la apariencia de lo divino en el mundo exteri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obstante, la relación del Estado con el individuo es esencialmente recíproca; sólo es un último fin para el individuo en la medida en que su propio fin es su libertad y su satisfacción. </a:t>
            </a:r>
            <a:endParaRPr b="0" lang="en-US" sz="2400" spc="-1" strike="noStrike">
              <a:solidFill>
                <a:srgbClr val="000000"/>
              </a:solidFill>
              <a:latin typeface="Calibri"/>
            </a:endParaRPr>
          </a:p>
        </p:txBody>
      </p:sp>
      <p:sp>
        <p:nvSpPr>
          <p:cNvPr id="13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9E50-7468-4E66-B19E-8BA6047BD54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3" name=""/>
          <p:cNvSpPr txBox="1"/>
          <p:nvPr/>
        </p:nvSpPr>
        <p:spPr>
          <a:xfrm>
            <a:off x="178920" y="47628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o religión del alma del individuo tiene un valor infinito independiente del Esta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el individuo deja atrás el nivel de sus pensamientos y deseos privados y personales, su existencia misma a la que Hegel llama el </a:t>
            </a:r>
            <a:r>
              <a:rPr b="0" i="1" lang="es-CL" sz="2400" spc="-1" strike="noStrike">
                <a:solidFill>
                  <a:srgbClr val="000000"/>
                </a:solidFill>
                <a:latin typeface="Calibri"/>
              </a:rPr>
              <a:t>espíritu subjetivo</a:t>
            </a:r>
            <a:r>
              <a:rPr b="0" lang="es-CL" sz="2400" spc="-1" strike="noStrike">
                <a:solidFill>
                  <a:srgbClr val="000000"/>
                </a:solidFill>
                <a:latin typeface="Calibri"/>
              </a:rPr>
              <a:t>.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medio del Estado ha aprendido a universalizar sus deseos, a convertirlos en leyes y a vivir de acuerdo con ell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es una realidad, no un proyecto; se le puede vivir y pensa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or medio del Estado el individuo ocupa su lugar en el mundo; sólo como ciudadano aprende lo que es razonable en sus dese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fiende la racionalidad del Estado real contra los románticos que simplemente se apartan de la política, pero también contra los utópicos y reformadores que se apartan del Estado real en favor de un Estado ideal.</a:t>
            </a:r>
            <a:endParaRPr b="0" lang="en-US" sz="2400" spc="-1" strike="noStrike">
              <a:solidFill>
                <a:srgbClr val="000000"/>
              </a:solidFill>
              <a:latin typeface="Calibri"/>
            </a:endParaRPr>
          </a:p>
        </p:txBody>
      </p:sp>
      <p:sp>
        <p:nvSpPr>
          <p:cNvPr id="13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5224-AF59-4351-B878-5B6C5E2F706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6" name=""/>
          <p:cNvSpPr txBox="1"/>
          <p:nvPr/>
        </p:nvSpPr>
        <p:spPr>
          <a:xfrm>
            <a:off x="178920" y="62064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sea mostrar lo racional en lo irracional: el mal conduce al bien, las pasiones a la razón, la contradicción y el conflicto a la síntesis y la paz.</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Estado interpretado como totalidad armoniosa y diferenciada el que hace posible esta síntesi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expresar la relación que existe entre el todo articulado, que es nada sin sus partes y las partes que son nada sin el todo.</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sale a luz, a la vez como resultado final y como condició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resultado de la acción de individuos y del juego de las pasione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constituido, su estructura parece primera y primaria mientras su génesis es interpretada como hecho simplemente empírico y exterior.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es un resultado final en que desaparece el hecho de que tiene su origen en la operación de individuo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7A80-C618-4E7A-96E5-70A00DE22A1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39" name=""/>
          <p:cNvSpPr txBox="1"/>
          <p:nvPr/>
        </p:nvSpPr>
        <p:spPr>
          <a:xfrm>
            <a:off x="178920" y="691920"/>
            <a:ext cx="8713800" cy="561636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las naciones germánicas han llegado, en el cristianismo, a la conciencia de que el hombre es libre como hombre, de que la libertad del espíritu constituye su más propia naturalez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ciencia ha surgido por, primera vez, en la relig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aplicación del principio a los asuntos del mundo" la que en última instancia decide el destino de los regímenes polític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moderno se basa en la religión cristiana protestante y en una sociedad económica y socialmente diferencia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n la religión cristiana hace su aparición el principio del valor infinito del individu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l principio cristiano pueda realizarse en el mundo por medio del Estado racional, se requería otra revolución espiritual, </a:t>
            </a:r>
            <a:r>
              <a:rPr b="0" i="1" lang="es-CL" sz="2400" spc="-1" strike="noStrike">
                <a:solidFill>
                  <a:srgbClr val="000000"/>
                </a:solidFill>
                <a:latin typeface="Calibri"/>
              </a:rPr>
              <a:t>la Reforma</a:t>
            </a:r>
            <a:r>
              <a:rPr b="0" lang="es-CL" sz="2400" spc="-1" strike="noStrike">
                <a:solidFill>
                  <a:srgbClr val="000000"/>
                </a:solidFill>
                <a:latin typeface="Calibri"/>
              </a:rPr>
              <a:t>.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n la religión protestante se realiza la libertad cristiana y efectúa su reconciliación con el mundo y con el Estad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F53B-78E1-4445-B7B5-842D2688DE7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42" name=""/>
          <p:cNvSpPr txBox="1"/>
          <p:nvPr/>
        </p:nvSpPr>
        <p:spPr>
          <a:xfrm>
            <a:off x="178920" y="691920"/>
            <a:ext cx="8713800" cy="561636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religión luterana queda eliminada la obediencia ciega.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protestantismo no hay una clase clerical, sino un sacerdocio universal; la conciencia individual tiene el derecho de juzgar.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acaba por transformarse en el derecho de la razón individual a juzgar.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principio peculiar del protestantismo es el del espíritu libre.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contenido esencial de la Reforma: el hombre, por sí mismo, decide ser libr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puede ser constituido el Estado racional, conduciendo la libertad subjetiva a la universalidad.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esto sólo es posible porque, dentro de la religión misma, la libertad reside, en adelante, en el sujeto como tal, con exclusión de toda autoridad exterior.</a:t>
            </a:r>
            <a:endParaRPr b="0" lang="en-US" sz="2400" spc="-1" strike="noStrike">
              <a:solidFill>
                <a:srgbClr val="000000"/>
              </a:solidFill>
              <a:latin typeface="Calibri"/>
            </a:endParaRPr>
          </a:p>
        </p:txBody>
      </p:sp>
      <p:sp>
        <p:nvSpPr>
          <p:cNvPr id="14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79B9-C87F-42D2-B40F-C3BB972746D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4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a no hay ninguna diferencia entre sacerdotes y legos; el contenido de la verdad ya no está reservado exclusivamente a una cas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han de llevar a cabo por sí mismos la obra de la reconcili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reconciliación, al abolir la diferencia entre los dos mundos, da como resultado que, en cierto sentido, la religión se suprima al mismo tiempo que se realiza: protestantismo significa al mismo tiempo cristianización del </a:t>
            </a:r>
            <a:r>
              <a:rPr b="0" i="1" lang="es-CL" sz="2400" spc="-1" strike="noStrike">
                <a:solidFill>
                  <a:srgbClr val="000000"/>
                </a:solidFill>
                <a:latin typeface="Calibri"/>
              </a:rPr>
              <a:t>saeculum</a:t>
            </a:r>
            <a:r>
              <a:rPr b="0" lang="es-CL" sz="2400" spc="-1" strike="noStrike">
                <a:solidFill>
                  <a:srgbClr val="000000"/>
                </a:solidFill>
                <a:latin typeface="Calibri"/>
              </a:rPr>
              <a:t> y secularización del cristianis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a pesar de la actividad de Napoleón, los principios modernos han fracaso en los países latinos, la razón de ello es el catolicismo de esos país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ujeción a la religión trae consigo la servidumbre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FF18-26D1-4322-BA47-6DCC3256B6F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ado y sociedad civil</a:t>
            </a:r>
            <a:endParaRPr b="0" lang="en-US" sz="4000" spc="-1" strike="noStrike">
              <a:solidFill>
                <a:srgbClr val="000000"/>
              </a:solidFill>
              <a:latin typeface="Calibri"/>
            </a:endParaRPr>
          </a:p>
        </p:txBody>
      </p:sp>
      <p:sp>
        <p:nvSpPr>
          <p:cNvPr id="94" name="2 Marcador de contenido"/>
          <p:cNvSpPr/>
          <p:nvPr/>
        </p:nvSpPr>
        <p:spPr>
          <a:xfrm>
            <a:off x="324000" y="907920"/>
            <a:ext cx="851688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tácor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roducc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turaleza human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turaleza humana y Estad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y relig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economía y socie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familia y socie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lases sociale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y burocraci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der Legislativ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gual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hesión interna para hacer respetar afuer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2D4E-4E53-46CD-9CC2-4CC2FFF0D1B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48"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tro principio fundamental para la constitución del Estado racional es la diferenciación económica y social fundada en la liberación de carencias y necesidades individu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ultiplicación de circunstancias individuales y de necesidades, competencia y división del trabajo hacen imposible un régimen que estuviese fundado simplemente en la sabiduría y la virtud de los gobernan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racional está lejos de fundarse en una sociedad sin clases o dirigido a la homogene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cree que las diferencias de clase y de riqueza no sólo son inevitables sino indispensables para la eficiencia de la libertad individual y la actividad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Según él, no hay todavía un verdadero Estado en la América del Norte, por la ausencia de tensión económica y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2D29-82B4-481B-BFC8-CD068F48096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51"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moderno se caracteriza por sus leyes racional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ntroducción depende de condiciones históricas y socia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muestra una prudente reserva al proponer la aplicación concreta de los principios universal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stumbres o hábitos del pueblo deben prepararse (ésta es la causa de la importancia de la religión), y la transición a la racionalidad debe efectuarse con prudencia para evitar una revolución.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tarea del poder gubernativo, el cual debe tener, con este fin, una poderosa autor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falta de la guía y del dominio de la mano firme del gobierno, en ausencia de la preparación de una clase directiva fundada en la competencia más que en el dinero, tradición o demagogia, la evolución corre el riesgo de ser precipitada y engendrar por ello anarquía.</a:t>
            </a:r>
            <a:endParaRPr b="0" lang="en-US" sz="2400" spc="-1" strike="noStrike">
              <a:solidFill>
                <a:srgbClr val="000000"/>
              </a:solidFill>
              <a:latin typeface="Calibri"/>
            </a:endParaRPr>
          </a:p>
        </p:txBody>
      </p:sp>
      <p:sp>
        <p:nvSpPr>
          <p:cNvPr id="15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90A8-7213-45BB-9F24-5DFB122CD15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54"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prusiano es el modelo más afín al Estado racional porque, gracias a la religión protestante y a la autoridad de la monarquía, representa una síntesis entre las exigencias revolucionarias de los principios y las exigencias tradicionales de la organización.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l establecimiento del Estado moderno requiere tres elementos: </a:t>
            </a:r>
            <a:endParaRPr b="0" lang="en-US" sz="24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Leyes racionales,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Gobierno y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entimiento o moral.</a:t>
            </a:r>
            <a:endParaRPr b="0" lang="en-US" sz="20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o es nada menos que la corona y el fundamento de la labor de la moral que eleva lo particular a lo universal, enseñando al individuo a realizarse a sí mismo, al entregarse a un todo.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tapas de esta educación, o los momentos del espíritu moral concreto son la familia, la sociedad civil y el Estado.</a:t>
            </a:r>
            <a:endParaRPr b="0" lang="en-US" sz="2400" spc="-1" strike="noStrike">
              <a:solidFill>
                <a:srgbClr val="000000"/>
              </a:solidFill>
              <a:latin typeface="Calibri"/>
            </a:endParaRPr>
          </a:p>
        </p:txBody>
      </p:sp>
      <p:sp>
        <p:nvSpPr>
          <p:cNvPr id="15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675A-D4CD-4FE9-99D8-1C0434067C2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Familia y Sociedad</a:t>
            </a:r>
            <a:endParaRPr b="0" lang="en-US" sz="3400" spc="-1" strike="noStrike">
              <a:solidFill>
                <a:srgbClr val="000000"/>
              </a:solidFill>
              <a:latin typeface="Calibri"/>
            </a:endParaRPr>
          </a:p>
        </p:txBody>
      </p:sp>
      <p:sp>
        <p:nvSpPr>
          <p:cNvPr id="157"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nto la familia como la sociedad civil son distintas del Estado, opuestas a él, como lo particular a lo universal.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mbas tienen algo en común con él, algo con lo cual contribuyen a la educación moral, abriendo lo individual a lo universal.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tiene una unidad sustancial: constituye un todo fundado en la confianza de sus miembros, un fin en sí mismo en que el individuo está consciente de tener su reali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s la imagen del Estado, con esta diferencia: la unidad que prevalece en ella es natural, inmediata, sentida, y no pensada o aceptada racionalmente.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es una asociación de miembros independientes en que la persona (totalidad de deseos), es el primer principi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representa el momento de separación y de diferencia en que la moral concreta parece disolverse en favor de la particularidad y el egoísmo.</a:t>
            </a:r>
            <a:endParaRPr b="0" lang="en-US" sz="2400" spc="-1" strike="noStrike">
              <a:solidFill>
                <a:srgbClr val="000000"/>
              </a:solidFill>
              <a:latin typeface="Calibri"/>
            </a:endParaRPr>
          </a:p>
        </p:txBody>
      </p:sp>
      <p:sp>
        <p:nvSpPr>
          <p:cNvPr id="1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D2ED-EF8A-46BC-AF8A-202072768EB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laciones recíprocas de los individuos crean un sistema de mutua dependencia que produce una universalidad formal, que es externa y no deseada por los individu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sona, primer principio de la sociedad civil, está sustancialmente en relación con otra individualidad, cada uno se hace valer y se satisface mediante el otr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conomía política, creación de los tiempos modernos y consecuencia de la liberación de las necesidades individuales, es precisamente la ciencia de esta dependencia recípro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resultado de sus relaciones con los demás, el individuo, sus necesidades y su trabajo pasan por una profunda adapt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engendra nuevas necesidades que son creadas por ella y que no son naturales. </a:t>
            </a:r>
            <a:endParaRPr b="0" lang="en-US" sz="2400" spc="-1" strike="noStrike">
              <a:solidFill>
                <a:srgbClr val="000000"/>
              </a:solidFill>
              <a:latin typeface="Calibri"/>
            </a:endParaRPr>
          </a:p>
        </p:txBody>
      </p:sp>
      <p:sp>
        <p:nvSpPr>
          <p:cNvPr id="16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BE10-C3CF-4C7F-B3DB-9797F757D0B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ecesidad de orientarse a sí mismo de acuerdo con los demás en una rutina diaria en sus costumbres, eleva la individualidad natural de los miembros de una sociedad civil a la universalidad formal de la cultur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gue siendo una universalidad obtenida inconscientemente, pero que ya transforma la individualidad mism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civil lo universal tiene una presencia directa, libre y consciente, en forma de la necesidad del hombre de recurrir a la ley y la administr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propiedad, engendrado por el sistema de necesidades y su reconocimiento recíproco, es reconocido en su universalidad en la medida en que la autoridad asegura su protección. </a:t>
            </a:r>
            <a:endParaRPr b="0" lang="en-US" sz="2400" spc="-1" strike="noStrike">
              <a:solidFill>
                <a:srgbClr val="000000"/>
              </a:solidFill>
              <a:latin typeface="Calibri"/>
            </a:endParaRPr>
          </a:p>
        </p:txBody>
      </p:sp>
      <p:sp>
        <p:nvSpPr>
          <p:cNvPr id="16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9654-09DB-425F-AC76-63F6BB50F5E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6"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universalidad sigue teniendo el carácter de un derecho simplemente abstract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realización de su unidad con todo el ámbito de lo particular es misión de la administración que asegura</a:t>
            </a:r>
            <a:endParaRPr b="0" lang="en-US" sz="22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eguridad ininterrumpida de la persona y de la propiedad; y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Que la garantía de la subsistencia y del bienestar del individuo, esto es, el bienestar particular, sea tratado y realizado como derecho.</a:t>
            </a:r>
            <a:endParaRPr b="0" lang="en-US" sz="20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previsión administrativa (acción del Estado), protege la universalidad en la particularidad de la sociedad civil, en forma de orden externo y de instituciones que mantienen y apoyan el conjunto de fines e intereses que hay en ella.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Hegel desea asegurar un equilibrio entre la libertad de industria y de comercio y la necesidad de previsión y dirección del Estado en su conjunt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unque la voluntad y el interés de los individuos son los impulsores de la acción de la sociedad civil y la función del Estado es simplemente reconducir a lo universal, se deben conciliar los conflictos.</a:t>
            </a:r>
            <a:endParaRPr b="0" lang="en-US" sz="2200" spc="-1" strike="noStrike">
              <a:solidFill>
                <a:srgbClr val="000000"/>
              </a:solidFill>
              <a:latin typeface="Calibri"/>
            </a:endParaRPr>
          </a:p>
        </p:txBody>
      </p:sp>
      <p:sp>
        <p:nvSpPr>
          <p:cNvPr id="16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1CD9-BB9B-4826-BC4A-E2CBE8E75E5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6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sistema de necesidades, el individuo queda conectado con lo universal de manera inmediata y adquiere una realidad definida: </a:t>
            </a:r>
            <a:r>
              <a:rPr b="0" i="1" lang="es-CL" sz="2400" spc="-1" strike="noStrike">
                <a:solidFill>
                  <a:srgbClr val="000000"/>
                </a:solidFill>
                <a:latin typeface="Calibri"/>
              </a:rPr>
              <a:t>la división de clases o de grupos gene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es la 1° base del Estado, los grupos generales son la 2°.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tres clases, y su división es dialéctica: </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campesina, llamada sustancial o inmediata;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industrial, llamada reflexiva o formal,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de los servidores civiles, llamada la clase universal.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se campesina es la clase de seguridad, consolidación, satisfacción duradera de las necesidades y éstas no son más que formas de universal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e una moral concreta e inmediata que se basa en la familia y en la buena fe.</a:t>
            </a:r>
            <a:endParaRPr b="0" lang="en-US" sz="2400" spc="-1" strike="noStrike">
              <a:solidFill>
                <a:srgbClr val="000000"/>
              </a:solidFill>
              <a:latin typeface="Calibri"/>
            </a:endParaRPr>
          </a:p>
        </p:txBody>
      </p:sp>
      <p:sp>
        <p:nvSpPr>
          <p:cNvPr id="17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4A59-78B8-43E0-8D7C-291223130E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2" name=""/>
          <p:cNvSpPr txBox="1"/>
          <p:nvPr/>
        </p:nvSpPr>
        <p:spPr>
          <a:xfrm>
            <a:off x="178920" y="691920"/>
            <a:ext cx="8713800" cy="561636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servidores civiles están, por naturaleza, orientados hacia el Estado y en su servicio encuentran su razón de ser y su satisfacción.</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lase intermediaria, la clase industrial, está orientada esencialmente hacia lo particular.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or ello está esclavizada a las privaciones, la inseguridad, la lucha por alcanzar lo necesario, su indefinida multiplicación y la división infinita del trabajo, y de la contradicción de pobreza y de riqueza.</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ecesita la intervención del Estado.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ara el fin de su propia subsistencia se basa en el propio trabajo, en la reflexión y el entendimiento.</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esencialmente esta clase la que da cultura, refinamiento y formación intelectual al individuo.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esta clase, el individuo despierta a la libertad al despertar a la reflexión.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libertad nace en las ciudades, en tanto que el campo es, por tradición, más sumiso, por ser más pasivo.</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6CD4-0366-4AE1-9C37-E614FA25B67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5"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 todo, aun en esta clase, la particularidad es llevada a tomar como su meta lo universal.</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integrarla es misión de la corporación (gremio), que limita las contradicciones de la sociedad civil, asegurándose de que haya un terreno común para las contradicciones, dando una consagración racional a la diversidad y variedad de talentos y de aptitudes o protegiendo a los individuos contra accidentes particular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ma, anulando el aislamiento y la dureza de la vida civil al desempeñar el papel de segunda famili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introduce la moral objetiva en la sociedad civil por medio de los sentimientos de honor profesional, al que aporta la base, y de probidad, que es en verdad reconocida y honrad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ocupa un lugar central, pues en la sociedad moderna la probidad y el honor profesional son las únicas formas de virtud realmente viva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1F6E-47A7-413F-AAAB-9BABD4A600D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97" name=""/>
          <p:cNvSpPr txBox="1"/>
          <p:nvPr/>
        </p:nvSpPr>
        <p:spPr>
          <a:xfrm>
            <a:off x="178920" y="691920"/>
            <a:ext cx="8713800" cy="58323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gún Hegel, Razón e Historia no son separable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desenvolvimiento de la Razón corre paralelo al proceso de la historia universal, o, el proceso histórico es fundamentalmente racion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or tanto, Hegel no desea exponer un Estado ideal sino rehabilitar el Estado real, mostrando que es racional.</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tra la actitud de una conciencia moral, religiosa o intelectual que intenta refugiarse en la vida interior y rechazar el "sonido y la furia" de las realidades políticas, Hegel justifica la vida política como t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sólo en el Estado y por el Estado donde el individuo alcanza su auténtica realidad, pues sólo en él y por él llega a la universalidad.</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ólo el Estado puede actuar universalmente instituyendo leye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scripción hegeliana del desarrollo histórico como la del Estado racional implican que el Estado final representa una síntesis que reconcilia todas las posibilidades humanas sin dejar espacio a lo inconcluso y a la insatisfacción que produciría un nuevo desarrollo de la historia universal.</a:t>
            </a:r>
            <a:endParaRPr b="0" lang="en-US" sz="2200" spc="-1" strike="noStrike">
              <a:solidFill>
                <a:srgbClr val="000000"/>
              </a:solidFill>
              <a:latin typeface="Calibri"/>
            </a:endParaRPr>
          </a:p>
        </p:txBody>
      </p:sp>
      <p:sp>
        <p:nvSpPr>
          <p:cNvPr id="9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E905-5BFB-4832-96D1-BBA006B3662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8"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es la segunda raíz, la raíz ética del Estado ahondada en la sociedad civil, después de la famili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reúne en sí misma los momentos de particularidad subjetiva y de universalidad objetiva que antes habían estado divididos en la sociedad civi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trabajo de unión no es más que un aspecto particular de lo que el Estado se fija como meta. Por consiguiente, la esfera de la sociedad civil conduce al Esta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entimiento de la familia, la dignidad profesional y la probidad parecen, en tiempos normales, sustitutos de la virtud política y del patriot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conducen al patriotismo en la medida en que la seguridad y la confianza que expresan se fundan en el Estado, y quienes poseen estos sentimientos deben, si cobran conciencia del hecho, tomar como su objetivo al Estado.</a:t>
            </a:r>
            <a:endParaRPr b="0" lang="en-US" sz="2400" spc="-1" strike="noStrike">
              <a:solidFill>
                <a:srgbClr val="000000"/>
              </a:solidFill>
              <a:latin typeface="Calibri"/>
            </a:endParaRPr>
          </a:p>
        </p:txBody>
      </p:sp>
      <p:sp>
        <p:nvSpPr>
          <p:cNvPr id="17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077C-17A9-4810-9005-F2B62A57BA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mprender el contenido de este sentimiento cívico, debemos considerar ahora al Estado como organización racional y necesar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entimiento cívico recibe su contenido particular de los diversos aspectos del organismo del Est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organismo es la constitución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stitución "es racional en la medida en que el Estado diferencia y determina internamente su actividad en sí mismo de acuerdo con la naturaleza del concepto, es decir, de tal modo que cada uno de los poderes vea en sí mismo la totalidad de la constit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en realidad, una diferenciación de poderes, pero debe ser orgánica y no mecánica.</a:t>
            </a:r>
            <a:endParaRPr b="0" lang="en-US" sz="2400" spc="-1" strike="noStrike">
              <a:solidFill>
                <a:srgbClr val="000000"/>
              </a:solidFill>
              <a:latin typeface="Calibri"/>
            </a:endParaRPr>
          </a:p>
        </p:txBody>
      </p:sp>
      <p:sp>
        <p:nvSpPr>
          <p:cNvPr id="18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B3E3-99DE-4786-94AB-74D4439C185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be considerarse que los poderes son totalmente independientes, ni que se limitan unos a otros, por lo contrario, deben reflejarse uno a otro y ser determinados exclusivamente por la idea del conjun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odo forma una monarquía constitucional fundada en un cuerpo de servidores civiles profesionales, que ha recibido ciertas instituciones representativas. "Lo completo del Estado en una monarquía constitucional es obra del mundo moder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la monarquía constitucional corresponde a la idea plenamente desarrollada del Estado, que ha liberado todos sus momentos, y a una sociedad complicada, que ha liberado los poderes de particularidad. </a:t>
            </a:r>
            <a:endParaRPr b="0" lang="en-US" sz="2400" spc="-1" strike="noStrike">
              <a:solidFill>
                <a:srgbClr val="000000"/>
              </a:solidFill>
              <a:latin typeface="Calibri"/>
            </a:endParaRPr>
          </a:p>
        </p:txBody>
      </p:sp>
      <p:sp>
        <p:nvSpPr>
          <p:cNvPr id="18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060F-672F-4816-A112-A4BE63C261C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7"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ipología clásica —monarquía, aristocracia, democracia— sólo fue válida para una sociedad aún indiferenciad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formas vuelven a encontrarse como momentos en la monarquía constitucional: </a:t>
            </a:r>
            <a:endParaRPr b="0" lang="en-US" sz="24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onarca es uno.</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os cuantos participan en el poder gubernamental. </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ultitud en general participa en el poder legislativo. </a:t>
            </a:r>
            <a:endParaRPr b="0" lang="en-US" sz="20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uténtica diferenciación no se basa en una distinción cuantitativa, sino en la naturaleza lógica de Estado, que distingue:</a:t>
            </a:r>
            <a:endParaRPr b="0" lang="en-US" sz="24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legislativo: el poder de determinar y de instituir lo universal.</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ejecutivo, al que concierne la subsunción bajo lo universal, de las esferas particulares y de los casos singulares.</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del soberano, que representa el poder de la subjetividad como última decisión de la voluntad (la Corona), en la cual los distintos poderes son reunidos en una unidad individual que es la culminación y fundamento de la totalidad, es decir, la monarquía constitucional.</a:t>
            </a:r>
            <a:endParaRPr b="0" lang="en-US" sz="2000" spc="-1" strike="noStrike">
              <a:solidFill>
                <a:srgbClr val="000000"/>
              </a:solidFill>
              <a:latin typeface="Calibri"/>
            </a:endParaRPr>
          </a:p>
        </p:txBody>
      </p:sp>
      <p:sp>
        <p:nvSpPr>
          <p:cNvPr id="18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62E3-DD11-4ED6-947C-4BE306152D4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beranía</a:t>
            </a:r>
            <a:endParaRPr b="0" lang="en-US" sz="3400" spc="-1" strike="noStrike">
              <a:solidFill>
                <a:srgbClr val="000000"/>
              </a:solidFill>
              <a:latin typeface="Calibri"/>
            </a:endParaRPr>
          </a:p>
        </p:txBody>
      </p:sp>
      <p:sp>
        <p:nvSpPr>
          <p:cNvPr id="19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un sitio de decisión suprema; la soberanía y la unidad del Estado deben expresarse en una voluntad que determine con fina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del Estado, como voluntad, es personalidad; debe estar encarnada en un individuo, el monarc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en esencia se caracteriza como esta persona, en abstracción de todas sus otras características", debe ser designado de una manera inmediatamente natural: por nacimien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or el principio hereditario, la persona del monarca —que simboliza la unidad y la continuidad del Estado— se libra de las luchas de interés y de opinión que por necesidad dominan un imperio electivo. </a:t>
            </a:r>
            <a:endParaRPr b="0" lang="en-US" sz="2400" spc="-1" strike="noStrike">
              <a:solidFill>
                <a:srgbClr val="000000"/>
              </a:solidFill>
              <a:latin typeface="Calibri"/>
            </a:endParaRPr>
          </a:p>
        </p:txBody>
      </p:sp>
      <p:sp>
        <p:nvSpPr>
          <p:cNvPr id="19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8D21-FC96-4CD8-8445-30411A3301F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beranía</a:t>
            </a:r>
            <a:endParaRPr b="0" lang="en-US" sz="3400" spc="-1" strike="noStrike">
              <a:solidFill>
                <a:srgbClr val="000000"/>
              </a:solidFill>
              <a:latin typeface="Calibri"/>
            </a:endParaRPr>
          </a:p>
        </p:txBody>
      </p:sp>
      <p:sp>
        <p:nvSpPr>
          <p:cNvPr id="19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cción misma del príncipe tiene cierto carácter simbólico y arbitrario; es él quien declara la guerra, firma leyes, elige a sus consejeros y zanja sus diferencia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da ocasión es el </a:t>
            </a:r>
            <a:r>
              <a:rPr b="0" i="1" lang="es-CL" sz="2400" spc="-1" strike="noStrike">
                <a:solidFill>
                  <a:srgbClr val="000000"/>
                </a:solidFill>
                <a:latin typeface="Calibri"/>
              </a:rPr>
              <a:t>fíat </a:t>
            </a:r>
            <a:r>
              <a:rPr b="0" lang="es-CL" sz="2400" spc="-1" strike="noStrike">
                <a:solidFill>
                  <a:srgbClr val="000000"/>
                </a:solidFill>
                <a:latin typeface="Calibri"/>
              </a:rPr>
              <a:t>(consentimiento o mandato para que algo tenga efecto)</a:t>
            </a:r>
            <a:r>
              <a:rPr b="0" i="1" lang="es-CL" sz="2400" spc="-1" strike="noStrike">
                <a:solidFill>
                  <a:srgbClr val="000000"/>
                </a:solidFill>
                <a:latin typeface="Calibri"/>
              </a:rPr>
              <a:t> </a:t>
            </a:r>
            <a:r>
              <a:rPr b="0" lang="es-CL" sz="2400" spc="-1" strike="noStrike">
                <a:solidFill>
                  <a:srgbClr val="000000"/>
                </a:solidFill>
                <a:latin typeface="Calibri"/>
              </a:rPr>
              <a:t>la decisión en que recae en él, y no la tarea auténtica de gobernar, y las más de las veces esta última determina la primera casi por necesi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eyes fijas y una organización determinada del Estado, son pocas y poco importantes, comparadas con lo sustancial, las cosas que quedan reservadas a la exclusiva decisión del monarca. </a:t>
            </a:r>
            <a:endParaRPr b="0" lang="en-US" sz="2400" spc="-1" strike="noStrike">
              <a:solidFill>
                <a:srgbClr val="000000"/>
              </a:solidFill>
              <a:latin typeface="Calibri"/>
            </a:endParaRPr>
          </a:p>
        </p:txBody>
      </p:sp>
      <p:sp>
        <p:nvSpPr>
          <p:cNvPr id="19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68DA-2B8B-46EF-B15B-451E57C8EA0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196" name=""/>
          <p:cNvSpPr txBox="1"/>
          <p:nvPr/>
        </p:nvSpPr>
        <p:spPr>
          <a:xfrm>
            <a:off x="178920" y="620640"/>
            <a:ext cx="8713800" cy="56167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én representa esta razón y ejerce lo que es esencial en el poder? Es el gobierno y, en general, la clase universal de los servidores civiles, ya que "el gobierno se apoya en el mundo de los servidores civi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te gobierno el que prepara y a la vez pone en vigor las decisiones del soberan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firma el interés general.</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s acciones de los servidores civiles y en su preparación donde encontramos el punto en el que las leyes y las decisiones del gobierno tienen contacto con los individuos y se hacen valer en la real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 situación de los propios servidores civiles donde la función del Estado, la síntesis de lo particular y de lo universal, se realiza mejor, pues sólo en el cumplimiento de su deber, en su servicio al Estado, encuentran la satisfacción de sus necesidades particular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A837-BFCD-4FBD-8774-8AAAFABE49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199"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presentan el tipo de hombre que encarna el espíritu del régimen y que sirve de modelo a toda la comunidad.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derecho, cada miembro de la comunidad puede llegar a servidor civi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se universal está abierta a todos los ciudadanos; tal es el aspecto democrático del Estado racional; pero sólo está abierto a quien pase un examen objetivo de sus aptitudes y de su formación intelectual y moral.</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vez sea en este tipo de examen, que afecta las ciencias relacionadas directamente con la competencia administrativa así como con la preparación intelectual y la moral general en que "se vuelve costumbre una conducta desapasionada, recta y cortés", en donde se encuentra </a:t>
            </a:r>
            <a:r>
              <a:rPr b="0" i="1" lang="es-CL" sz="2400" spc="-1" strike="noStrike">
                <a:solidFill>
                  <a:srgbClr val="000000"/>
                </a:solidFill>
                <a:latin typeface="Calibri"/>
              </a:rPr>
              <a:t>el elemento más importante del Estado hegeliano, ese Estado que ha sido justamente caracterizado como burocracia.</a:t>
            </a:r>
            <a:endParaRPr b="0" lang="en-US" sz="2400" spc="-1" strike="noStrike">
              <a:solidFill>
                <a:srgbClr val="000000"/>
              </a:solidFill>
              <a:latin typeface="Calibri"/>
            </a:endParaRPr>
          </a:p>
        </p:txBody>
      </p:sp>
      <p:sp>
        <p:nvSpPr>
          <p:cNvPr id="20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52ED-E585-42B1-8692-005196F723B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los que saben, los que deben reinar, y no la ignorancia o la van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de los servidores civiles es la forma moderna de aristocra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término que apareció por vez primera en la segunda parte del siglo XVIII con los comienzos del Estado moderno, y que inmediatamente adquirió un sentido peyorativo, queda rehabilitada en el pensamiento de Hegel, quien ve en ella la forma sistematizada y racionalizada del gobierno de los mejo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55A6-3CC6-4421-A92C-F9BE7EAE3DC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constituye un conjunto articulado de reglas y pautas de funcionamiento que se insertan en el poder ejecutivo con la finalidad de, por un lado, dar continuidad, coherencia y relevancia a las políticas públicas y, por otro lado, de asegurar un ejercicio neutral, objetivo y no arbitrario de los poderes públic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en su modelo ideal weberiano, está conectada tanto con la efectividad de la democracia, que requiere estabilidad y continuidad en la satisfacción de las necesidades colectivas, como con la legitimidad del ejercicio del poder a través de la aplicación neutral y objetiva de la le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sería un actor clave para reforzar el carácter intertemporal de los acuerdos políticos, especialmente en su papel de agente de implantación y cumplimiento efectivo de los mismos.</a:t>
            </a:r>
            <a:endParaRPr b="0" lang="en-US" sz="2400" spc="-1" strike="noStrike">
              <a:solidFill>
                <a:srgbClr val="000000"/>
              </a:solidFill>
              <a:latin typeface="Calibri"/>
            </a:endParaRPr>
          </a:p>
        </p:txBody>
      </p:sp>
      <p:sp>
        <p:nvSpPr>
          <p:cNvPr id="2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727B-4392-4012-BAEC-6AAF37BF808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4 CuadroTexto"/>
          <p:cNvSpPr/>
          <p:nvPr/>
        </p:nvSpPr>
        <p:spPr>
          <a:xfrm>
            <a:off x="250920" y="6093000"/>
            <a:ext cx="813744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Koldo Echebarría, Caracterización empírica de las burocracias latinoamericanas: configuraciones y roles en el proceso de elaboración de políticas públicas, Revista del CLAD Reforma y Democracia. No. 34. (Feb. 2006). Carac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0" name=""/>
          <p:cNvSpPr txBox="1"/>
          <p:nvPr/>
        </p:nvSpPr>
        <p:spPr>
          <a:xfrm>
            <a:off x="178920" y="620640"/>
            <a:ext cx="8713800" cy="56167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ace de conflictos y es, a su vez, teatro y origen de incontables conflictos potencial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puede decirse del Estado porque también puede decirse del hombre mism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se eleva al nivel de humanidad en aislamiento, sino en una lucha a muerte por el "reconocimient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para sí mismo, es consciente de sí mismo o de su propia libertad sólo en la medida en que es reconocido, como conciencia o libertad, por otras conciencias y otras libertad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ucha por el reconocimiento será una lucha a vida o muerte.</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sale de la lucha por el reconocimiento como amo o como esclav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realidad es social y política en esencia, ya que la lucha por el reconocimiento y la sumisión al dominio, es el fenómeno del que surgió la vida social y es el comienzo de los Estad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2C0F-EE5D-4674-8B8E-378246F7CF6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mérica Latina ha sido tradicionalmente percibida como una región con Estados grandes, pero débiles, con poca capacidad de respuesta a las necesidades de los ciudadan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ena parte de esta debilidad se ha asociado históricamente a la falta de una burocracia de profesionales estab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ha sido percibida como un sistema de empleo, recurso en manos del poder político y de los intereses corporativos, muy alejado de los rasgos institucionales del modelo weberia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debilidad es coherente con las patologías de ineficiencia, desproporcionalidad de dotaciones y formalismo e hiperregulación de comportamientos.</a:t>
            </a:r>
            <a:endParaRPr b="0" lang="en-US" sz="2400" spc="-1" strike="noStrike">
              <a:solidFill>
                <a:srgbClr val="000000"/>
              </a:solidFill>
              <a:latin typeface="Calibri"/>
            </a:endParaRPr>
          </a:p>
        </p:txBody>
      </p:sp>
      <p:sp>
        <p:nvSpPr>
          <p:cNvPr id="21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B498-C1C5-4A42-8BF0-AF3B72256F4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1"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1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bilidad de la burocracia ha sido uno de los factores que ha tenido más peso en la debilidad del poder ejecutivo de los países de la región, tanto frente a otros actores políticos como frente a los intereses organizado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hace que esta debilidad burocrática se haya situado como una de las causas del fracaso en la región de las políticas desarrollistas que tienen al Estado como su actor principal.</a:t>
            </a:r>
            <a:endParaRPr b="0" lang="en-US" sz="2400" spc="-1" strike="noStrike">
              <a:solidFill>
                <a:srgbClr val="000000"/>
              </a:solidFill>
              <a:latin typeface="Calibri"/>
            </a:endParaRPr>
          </a:p>
        </p:txBody>
      </p:sp>
      <p:sp>
        <p:nvSpPr>
          <p:cNvPr id="2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0958-A70A-45BA-8B5D-77B2EC54928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F71E-F462-4E9A-A650-7CBE61A78E6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8"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19" name="Picture 2" descr=""/>
          <p:cNvPicPr/>
          <p:nvPr/>
        </p:nvPicPr>
        <p:blipFill>
          <a:blip r:embed="rId1"/>
          <a:stretch/>
        </p:blipFill>
        <p:spPr>
          <a:xfrm>
            <a:off x="252360" y="765000"/>
            <a:ext cx="8336160" cy="5145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D502-D076-4D8A-A12F-8689EFA75A8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2"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23" name="Picture 2" descr=""/>
          <p:cNvPicPr/>
          <p:nvPr/>
        </p:nvPicPr>
        <p:blipFill>
          <a:blip r:embed="rId1"/>
          <a:stretch/>
        </p:blipFill>
        <p:spPr>
          <a:xfrm>
            <a:off x="147600" y="981000"/>
            <a:ext cx="8683560" cy="4757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1A3E-60B4-41F1-9E7F-F55ED4AAE1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27" name="Picture 2" descr=""/>
          <p:cNvPicPr/>
          <p:nvPr/>
        </p:nvPicPr>
        <p:blipFill>
          <a:blip r:embed="rId1"/>
          <a:stretch/>
        </p:blipFill>
        <p:spPr>
          <a:xfrm>
            <a:off x="120600" y="836640"/>
            <a:ext cx="8737560" cy="5383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0F86-F078-405D-B397-A5C19C19267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1" name="Picture 2" descr=""/>
          <p:cNvPicPr/>
          <p:nvPr/>
        </p:nvPicPr>
        <p:blipFill>
          <a:blip r:embed="rId1"/>
          <a:stretch/>
        </p:blipFill>
        <p:spPr>
          <a:xfrm>
            <a:off x="133200" y="907920"/>
            <a:ext cx="8829720" cy="5257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3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70B8-49F2-4D30-89ED-02CD6AB2581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4" name="4 CuadroTexto"/>
          <p:cNvSpPr/>
          <p:nvPr/>
        </p:nvSpPr>
        <p:spPr>
          <a:xfrm>
            <a:off x="468360" y="6434280"/>
            <a:ext cx="755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5" name="Picture 2" descr=""/>
          <p:cNvPicPr/>
          <p:nvPr/>
        </p:nvPicPr>
        <p:blipFill>
          <a:blip r:embed="rId1"/>
          <a:stretch/>
        </p:blipFill>
        <p:spPr>
          <a:xfrm>
            <a:off x="468360" y="765000"/>
            <a:ext cx="8099280" cy="5619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3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DCD4-1991-4920-B02C-59CC9C923FD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4 CuadroTexto"/>
          <p:cNvSpPr/>
          <p:nvPr/>
        </p:nvSpPr>
        <p:spPr>
          <a:xfrm>
            <a:off x="468360" y="6434280"/>
            <a:ext cx="755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9" name="Picture 2" descr=""/>
          <p:cNvPicPr/>
          <p:nvPr/>
        </p:nvPicPr>
        <p:blipFill>
          <a:blip r:embed="rId1"/>
          <a:stretch/>
        </p:blipFill>
        <p:spPr>
          <a:xfrm>
            <a:off x="0" y="620640"/>
            <a:ext cx="9144000" cy="576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15560"/>
            <a:ext cx="82296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Weber y sus fuentes de legitimidad</a:t>
            </a:r>
            <a:endParaRPr b="0" lang="en-US" sz="2800" spc="-1" strike="noStrike">
              <a:solidFill>
                <a:srgbClr val="000000"/>
              </a:solidFill>
              <a:latin typeface="Calibri"/>
            </a:endParaRPr>
          </a:p>
        </p:txBody>
      </p:sp>
      <p:sp>
        <p:nvSpPr>
          <p:cNvPr id="241" name="PlaceHolder 2"/>
          <p:cNvSpPr>
            <a:spLocks noGrp="1"/>
          </p:cNvSpPr>
          <p:nvPr>
            <p:ph/>
          </p:nvPr>
        </p:nvSpPr>
        <p:spPr>
          <a:xfrm>
            <a:off x="179280" y="691920"/>
            <a:ext cx="8785440" cy="5073480"/>
          </a:xfrm>
          <a:prstGeom prst="rect">
            <a:avLst/>
          </a:prstGeom>
          <a:noFill/>
          <a:ln w="0">
            <a:noFill/>
          </a:ln>
        </p:spPr>
        <p:txBody>
          <a:bodyPr anchor="t">
            <a:normAutofit fontScale="89000"/>
          </a:bodyPr>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1. Tradicional: </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egitimidad fundada en el carácter sagrado de la tradi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No implica coerción en la domina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Reconocimiento basado en la interiorización de normas, valores y tradición.</a:t>
            </a:r>
            <a:endParaRPr b="0" lang="en-US" sz="2200" spc="-1" strike="noStrike">
              <a:solidFill>
                <a:srgbClr val="000000"/>
              </a:solidFill>
              <a:latin typeface="Calibri"/>
            </a:endParaRPr>
          </a:p>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2. Carismática:</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umisión a las cualidades extraordinarias de una persona por parte de un grupo en una interac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 una dominación totalmente personalizada.</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carisma es una forma d dominación que rompe con la tradición, surge en periodos de crisis, donde se necesita un líder providencial.</a:t>
            </a:r>
            <a:endParaRPr b="0" lang="en-US" sz="2200" spc="-1" strike="noStrike">
              <a:solidFill>
                <a:srgbClr val="000000"/>
              </a:solidFill>
              <a:latin typeface="Calibri"/>
            </a:endParaRPr>
          </a:p>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3. Racional-Legal:</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e efectúa en función de competencias que van a justuciar o dar  sentido a la domina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escansa en un conjunto de reglas aplicadas a todos.</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autoridad está fundada en las competencias.</a:t>
            </a:r>
            <a:endParaRPr b="0" lang="en-US" sz="2200" spc="-1" strike="noStrike">
              <a:solidFill>
                <a:srgbClr val="000000"/>
              </a:solidFill>
              <a:latin typeface="Calibri"/>
            </a:endParaRPr>
          </a:p>
          <a:p>
            <a:pPr marL="5421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8864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Tipos de Dominación (Autoridad)</a:t>
            </a:r>
            <a:endParaRPr b="0" lang="en-US" sz="2800" spc="-1" strike="noStrike">
              <a:solidFill>
                <a:srgbClr val="000000"/>
              </a:solidFill>
              <a:latin typeface="Calibri"/>
            </a:endParaRPr>
          </a:p>
        </p:txBody>
      </p:sp>
      <p:graphicFrame>
        <p:nvGraphicFramePr>
          <p:cNvPr id="243" name=""/>
          <p:cNvGraphicFramePr/>
          <p:nvPr/>
        </p:nvGraphicFramePr>
        <p:xfrm>
          <a:off x="179280" y="620640"/>
          <a:ext cx="8785440" cy="5762520"/>
        </p:xfrm>
        <a:graphic>
          <a:graphicData uri="http://schemas.openxmlformats.org/drawingml/2006/table">
            <a:tbl>
              <a:tblPr/>
              <a:tblGrid>
                <a:gridCol w="1656000"/>
                <a:gridCol w="2849400"/>
                <a:gridCol w="1974960"/>
                <a:gridCol w="230508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radiciona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arismátic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acional-Legal</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tor Domin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to del carácter sagrado de la tradi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nocimiento de la grac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bedecimiento a la le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mbre Je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ñ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ef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ior, funcionar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mbre Domin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rvidores (asociados o sujet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eptos</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udadan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curs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ibucion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otín, d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uest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égimen Político Típ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arquí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tadura Plebiscitar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mocracia Parlamentar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ultad Us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to</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o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z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ipo de Revolu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oución Tradicionalis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olución radical del mund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Text Box 152"/>
          <p:cNvSpPr/>
          <p:nvPr/>
        </p:nvSpPr>
        <p:spPr>
          <a:xfrm>
            <a:off x="468360" y="6491160"/>
            <a:ext cx="74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53"/>
          <p:cNvSpPr/>
          <p:nvPr/>
        </p:nvSpPr>
        <p:spPr>
          <a:xfrm>
            <a:off x="468360" y="649116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nte: Dominique Colas, “Sociologie Politique”, PUF, París, 1994, p. 1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3" name=""/>
          <p:cNvSpPr txBox="1"/>
          <p:nvPr/>
        </p:nvSpPr>
        <p:spPr>
          <a:xfrm>
            <a:off x="178920" y="62064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flicto entre amo y esclavo es anterior al Estado.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cupa el mismo lugar, en la formulación de Hegel, que el estado de naturaleza, opuesto al Estado civil, ocupa en la de Hobbe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como en Hobbes, deja su huella en la realidad política siguient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ambos, el Estado surge de la violencia; la primera relación entre los hombres es de conflicto, que pone en juego las dos pasiones fundamentales, la vanidad (o deseo de reconocimiento) y el miedo a la muerte violent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lación del amo y el esclavo, lejos de terminar con la victoria para el amo, engendra una dialéctica que será el resorte impulsor de la historia human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 obliga al esclavo a trabajar para él.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ida del amo, esencialmente ociosa, queda resumida en la busca de reconocimiento, de prestigio y de gloria por medio de la guerra. </a:t>
            </a:r>
            <a:endParaRPr b="0" lang="en-US" sz="2400" spc="-1" strike="noStrike">
              <a:solidFill>
                <a:srgbClr val="000000"/>
              </a:solidFill>
              <a:latin typeface="Calibri"/>
            </a:endParaRPr>
          </a:p>
        </p:txBody>
      </p:sp>
      <p:sp>
        <p:nvSpPr>
          <p:cNvPr id="1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D8DA-9604-4CC2-B5A3-07C1A237C0A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47" name=""/>
          <p:cNvSpPr txBox="1"/>
          <p:nvPr/>
        </p:nvSpPr>
        <p:spPr>
          <a:xfrm>
            <a:off x="178920" y="691920"/>
            <a:ext cx="8713800" cy="561636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legislativo hace surgir las asambleas de las órden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pel de estas últimas no es, precisamente, legislar.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toman decisiones esenciales o definitiva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n voz a la libertad subjetiva de los individuos, a las opiniones y los intereses de la masa, y a la sociedad civil, en la medida en que éstas están apartadas del gobiern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encia, las asambleas sirven de mediadoras entre el príncipe, el gobierno y el puebl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Gracias a esta mediación, el poder del príncipe no parece aislado o, por consiguiente, ser simple dominación o capricho; tampoco quedan aislados entre sí los intereses particulares de comunidades, corporaciones e individu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ce todo por impedir que el pueblo, como masa indiferenciada, participe directamente en el poder, mientras, al mismo tiempo, se le da una relación con el Estad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89B6-C183-4252-9543-F016364C210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a manera no hay voto individual directo, que daría reconocimiento a la existencia y el papel del individuo aislado abstrac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úo debe estar representado en su realidad concreta, como hombre dotado con ciertas características e intereses que le dan un lugar en el organismo soci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mentos en el sentido político (asambleas de las órdenes) se fundan en las órdenes en el sentido social (clases); los grupos económicos y sociales, los grupos con intereses particulares, deben estar representados como t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también aquí debe haber órganos de mediación; debe haber, dentro de los estamentos, un elemento esencialmente orientado a la función intermediaria que les ha sido asignad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DD93-8A67-42DA-9493-837744E02B2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papel de la considerable clase de propietarios terratenientes que son favorecidos por causa de su estabilidad y de su gran independencia en relación a la vez con el Estado y con las incertidumbres de la vida económic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ropios terratenientes ocupan directamente lugares en la asamble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otra parte, se introduce el lado inestable de la sociedad civil, el cual sólo puede intervenir por medio de los diputados; exteriormente, a causa de la multitud de sus miembros, pero esencialmente en razón a la naturaleza de su determinación y ocup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los miembros de la clase industrial quedan representados por intermediación de las corpora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1811-69AE-4BD2-8BE7-02A77936E96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6" name=""/>
          <p:cNvSpPr txBox="1"/>
          <p:nvPr/>
        </p:nvSpPr>
        <p:spPr>
          <a:xfrm>
            <a:off x="178920" y="691920"/>
            <a:ext cx="8713800" cy="561636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ropios representantes participan en las esferas de interés que representan y, además, deben satisfacer ciertas condiciones de competencia que corresponden a las condiciones de fortuna exigidas a los miembros del primer orde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dos órdenes ocupan distintas asambleas; el papel de la primera cámara puede consistir en conciliar la segunda y el gobierno.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toda una serie de cuerpos intermedios y órganos de mediación sirve para disipar el espectro de una democracia abstracta y constituir un Estado en que la libertad coincida con la organización.</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decirse que las instituciones garantizan un libre juego de la libertad, la igualdad y la fraternidad (o la universalidad de la persona humana), pero dentro de unos límites muy estrechos impuestos por esta organización del Estado. </a:t>
            </a:r>
            <a:endParaRPr b="0" lang="en-US" sz="2400" spc="-1" strike="noStrike">
              <a:solidFill>
                <a:srgbClr val="000000"/>
              </a:solidFill>
              <a:latin typeface="Calibri"/>
            </a:endParaRPr>
          </a:p>
        </p:txBody>
      </p:sp>
      <p:sp>
        <p:nvSpPr>
          <p:cNvPr id="2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948B-D97E-4E51-810E-D13ADD0DA3E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hay libertad en la elección de oficio, en la distribución de los miembros de las clases, y en el hecho de que las únicas, demandas que el Estado hace en tiempos normales son de dinero, en forma de impuest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todos estos puntos de vista, es el libre albedrío el que debe ser ese intermediario por el cual obtiene el Estado lo que necesi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907A-908F-4323-A13E-602223F51BC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gualdad</a:t>
            </a:r>
            <a:endParaRPr b="0" lang="en-US" sz="3400" spc="-1" strike="noStrike">
              <a:solidFill>
                <a:srgbClr val="000000"/>
              </a:solidFill>
              <a:latin typeface="Calibri"/>
            </a:endParaRPr>
          </a:p>
        </p:txBody>
      </p:sp>
      <p:sp>
        <p:nvSpPr>
          <p:cNvPr id="26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reconoce la igualdad, pero sólo como igualdad abstracta de las personas ante la le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expresa política y socialmente en la posibilidad de que cada quien llegue a ser miembro de la clase universal y director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la igualdad debe ceder ante la supremacía de la diferenciación y de la articulación: No existe la igualdad soci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ización de las fortunas es un sueño producido por el espíritu abstrac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basada en la economía moderna fomenta unas desigualdades sociales más considerables de las que antes se habían conocido, y el Estado racional presupone una gran diferenci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punto de vista político, se evita cuidadosamente el poder de los simples números. </a:t>
            </a:r>
            <a:endParaRPr b="0" lang="en-US" sz="2400" spc="-1" strike="noStrike">
              <a:solidFill>
                <a:srgbClr val="000000"/>
              </a:solidFill>
              <a:latin typeface="Calibri"/>
            </a:endParaRPr>
          </a:p>
        </p:txBody>
      </p:sp>
      <p:sp>
        <p:nvSpPr>
          <p:cNvPr id="2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F146-C81B-41C2-AE33-B07CD2E292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gualdad</a:t>
            </a:r>
            <a:endParaRPr b="0" lang="en-US" sz="3400" spc="-1" strike="noStrike">
              <a:solidFill>
                <a:srgbClr val="000000"/>
              </a:solidFill>
              <a:latin typeface="Calibri"/>
            </a:endParaRPr>
          </a:p>
        </p:txBody>
      </p:sp>
      <p:sp>
        <p:nvSpPr>
          <p:cNvPr id="265" name=""/>
          <p:cNvSpPr txBox="1"/>
          <p:nvPr/>
        </p:nvSpPr>
        <p:spPr>
          <a:xfrm>
            <a:off x="178920" y="549000"/>
            <a:ext cx="8713800" cy="561636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nto de vista de la minoría ilustrada debe triunfar sobre el de la masa que no sabe lo que dese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reconoce la universalidad de la persona humana, pero sólo en la medida en que no trae consigo el cosmopolitismo político.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la igualdad de personas no significa un Estado homogéneo, también así la universalidad de la naturaleza humana no significa la universalidad del Estado, que siempre sigue siendo un soberano particular, que, por su individualidad misma, excluye todas las demás soberanías.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la creación de una especie de sociedad universal desde un punto de vista económico, pero no prescinde de esta individualidad esencial de los Estados.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sociedad en gran parte liberal y descentralizada, pero más desde un punto de vista económico y social que desde uno político. Para tomar decisiones políticas concernientes al Estado, hay que adaptarse a su organización. </a:t>
            </a:r>
            <a:endParaRPr b="0" lang="en-US" sz="2400" spc="-1" strike="noStrike">
              <a:solidFill>
                <a:srgbClr val="000000"/>
              </a:solidFill>
              <a:latin typeface="Calibri"/>
            </a:endParaRPr>
          </a:p>
        </p:txBody>
      </p:sp>
      <p:sp>
        <p:nvSpPr>
          <p:cNvPr id="2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56B2-740A-47C9-909D-5998A8BCF3F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68" name=""/>
          <p:cNvSpPr txBox="1"/>
          <p:nvPr/>
        </p:nvSpPr>
        <p:spPr>
          <a:xfrm>
            <a:off x="178920" y="691920"/>
            <a:ext cx="8713800" cy="5616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 relación entre la política interna y la política externa, en último análisis, entre la paz y la guerra, donde el problema de la relación entre la sociedad y el Estado, entre las esferas particulares y el bien universal se plantea con toda su intensidad y envergadura.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punto de vista del Estado, hay una comunidad entre la guerra y la paz.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se afirma por medio de oposición.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que va dirigida hacia dentro trae consigo una soberanía dirigida hacia fuera; en la medida en que el Estado está constituido, ante todo, por su independencia e individualidad, por fuerza comprende un aspecto negativo y exclusivo que lo opone a otras individualidades autónoma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l Estado no puede afirmar, con justicia, su autoridad interna sin afirmar con ello su independencia externa.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F499-E592-40EE-AD2E-A09F005F16C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7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no sólo una relación forzosa sino una relación proporcional: cuanto más está un país en su interior, bajo la autoridad del Estado, es más capaz de hacer respetar su independencia desde fu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ueblos renuentes o temerosos de tolerar la soberanía interna han sido subyugados desde el exterior, y han luchado por su independencia con tanto menos gloria y éxito cuanto menos habían logrado organizar los poderes del Estado en asuntos intern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la recíproca, "las guerras providenciales han impedido agitaciones internas y consolidado el poder interno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un gran peligro o un gran esfuerzo externo permite la realización de la unión sagrada del Estado, acallando divisiones e intereses particulares. </a:t>
            </a:r>
            <a:endParaRPr b="0" lang="en-US" sz="2400" spc="-1" strike="noStrike">
              <a:solidFill>
                <a:srgbClr val="000000"/>
              </a:solidFill>
              <a:latin typeface="Calibri"/>
            </a:endParaRPr>
          </a:p>
        </p:txBody>
      </p:sp>
      <p:sp>
        <p:nvSpPr>
          <p:cNvPr id="2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CDE6-DD7A-4C6A-A287-4629CD20A75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7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s evidente que en la guerra y por ella, el Estado, se revela mejor a sí mismo y mejor desempeña su fun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tiempos normales se caracterizan por la libre actividad de las esferas particula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quien vive para su familia y su profes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otalidad sólo se introduce indirectamente en forma de cobro de impuesto, único requerimiento exigido por el Est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Es en las crisis donde se afirma a sí misma la auténtica naturaleza del Estado del patriotismo, exigiendo y obteniendo del individuo el sacrificio de lo que en tiempos de paz, parecía constituir la esencia misma de su existencia: su familia, su propiedad, sus opiniones, su vida. </a:t>
            </a:r>
            <a:endParaRPr b="0" lang="en-US" sz="2400" spc="-1" strike="noStrike">
              <a:solidFill>
                <a:srgbClr val="000000"/>
              </a:solidFill>
              <a:latin typeface="Calibri"/>
            </a:endParaRPr>
          </a:p>
        </p:txBody>
      </p:sp>
      <p:sp>
        <p:nvSpPr>
          <p:cNvPr id="2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3090-1B78-41A1-BB60-AF5BF2667E9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6"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 no trabaja, no está en contacto directo con las cos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mbio, el esclavo, que prepara las cosas para satisfacer las necesidades del amo, es el que transforma la naturaleza y se transforma a sí mismo por medio del trabaj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laza la destrucción de la cosa (por medio del consumo) al prepararla para el trabajo, y aplaza la satisfacción de sus propias necesidades al trabajar para satisfacer las del amo: "trabajo es deseo reprimi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ctúa en función de una idea abstracta, un proyecto que hay que realizar, que no es el suy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actitud de trabajo y temor a la muerte violenta, la actitud prosaica, la del esclavo y la del burgués, en oposición a la actitud heroica y aristocrática la que, como en Hobbes, es fundamento de la sociedad de Hege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49C6-42CF-4BAA-8290-636B0D324AC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Georg W. F. Hegel</a:t>
            </a:r>
            <a:br>
              <a:rPr sz="3200"/>
            </a:br>
            <a:r>
              <a:rPr b="1" lang="nb-NO" sz="3200" spc="-1" strike="noStrike">
                <a:solidFill>
                  <a:srgbClr val="000000"/>
                </a:solidFill>
                <a:latin typeface="Calibri"/>
              </a:rPr>
              <a:t>[1770-1831]</a:t>
            </a:r>
            <a:br>
              <a:rPr sz="4000"/>
            </a:br>
            <a:endParaRPr b="0" lang="en-US" sz="3200" spc="-1" strike="noStrike">
              <a:solidFill>
                <a:srgbClr val="000000"/>
              </a:solidFill>
              <a:latin typeface="Calibri"/>
            </a:endParaRPr>
          </a:p>
        </p:txBody>
      </p:sp>
      <p:sp>
        <p:nvSpPr>
          <p:cNvPr id="277"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5 – 26 de octubre de 2010</a:t>
            </a:r>
            <a:endParaRPr b="0" lang="en-US" sz="2000" spc="-1" strike="noStrike">
              <a:solidFill>
                <a:srgbClr val="000000"/>
              </a:solidFill>
              <a:latin typeface="Calibri"/>
            </a:endParaRPr>
          </a:p>
        </p:txBody>
      </p:sp>
      <p:pic>
        <p:nvPicPr>
          <p:cNvPr id="278" name="Picture 5" descr="escuela de gobierno y gestión pública"/>
          <p:cNvPicPr/>
          <p:nvPr/>
        </p:nvPicPr>
        <p:blipFill>
          <a:blip r:embed="rId1"/>
          <a:stretch/>
        </p:blipFill>
        <p:spPr>
          <a:xfrm>
            <a:off x="0" y="0"/>
            <a:ext cx="2371680" cy="933480"/>
          </a:xfrm>
          <a:prstGeom prst="rect">
            <a:avLst/>
          </a:prstGeom>
          <a:ln w="0">
            <a:noFill/>
          </a:ln>
        </p:spPr>
      </p:pic>
      <p:pic>
        <p:nvPicPr>
          <p:cNvPr id="279" name="5 Imagen" descr="14 Hegel.bmp"/>
          <p:cNvPicPr/>
          <p:nvPr/>
        </p:nvPicPr>
        <p:blipFill>
          <a:blip r:embed="rId2"/>
          <a:stretch/>
        </p:blipFill>
        <p:spPr>
          <a:xfrm>
            <a:off x="7416720" y="15840"/>
            <a:ext cx="169236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9"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egel el pensamiento y lo universal están del lado del trabajo, y el ocio se concibe esencialmente belicos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flicto continúa, y la función del Estado es resolverl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conciliación que el Estado debe efectuar es doble. Por una parte:</a:t>
            </a:r>
            <a:endParaRPr b="0" lang="en-US" sz="24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tado se funda en la reciprocidad: sus ciudadanos se reconocen unos a otros; es el terreno de ese reconocimiento recíproco al que en vano tienden el amo y el esclavo. </a:t>
            </a:r>
            <a:endParaRPr b="0" lang="en-US" sz="20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tado encuentra dentro de sí a la vez el momento (o elemento) de trabajo y necesidad, y el de sacrificio y guerra. </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tensión aparece en forma de la oposición entre la "sociedad civil" y el Estado, entre el "burgués" y el "ciudadan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blema del Estado moderno consistirá precisamente en tolerar los dos momentos y en reconciliarlos, es decir, en aplicar la síntesis del punto de vista aristocrático y del punto de vista burgués o, en último análisis, del amo y el esclavo.</a:t>
            </a:r>
            <a:endParaRPr b="0" lang="en-US" sz="2400" spc="-1" strike="noStrike">
              <a:solidFill>
                <a:srgbClr val="000000"/>
              </a:solidFill>
              <a:latin typeface="Calibri"/>
            </a:endParaRPr>
          </a:p>
        </p:txBody>
      </p:sp>
      <p:sp>
        <p:nvSpPr>
          <p:cNvPr id="11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5144-5E20-4ED0-8552-34175E1D562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1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los conflictos que están implícitos en las relaciones del individuo, la familia, la sociedad y el Estado se remiten en última instancia a una oposición fundamental que tiene su sede en la voluntad del individuo, conflicto en que lo que está en juego es el status del individuo en 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e </a:t>
            </a:r>
            <a:r>
              <a:rPr b="0" i="1" lang="es-CL" sz="2400" spc="-1" strike="noStrike">
                <a:solidFill>
                  <a:srgbClr val="000000"/>
                </a:solidFill>
                <a:latin typeface="Calibri"/>
              </a:rPr>
              <a:t>conflicto surge </a:t>
            </a:r>
            <a:r>
              <a:rPr b="0" lang="es-CL" sz="2400" spc="-1" strike="noStrike">
                <a:solidFill>
                  <a:srgbClr val="000000"/>
                </a:solidFill>
                <a:latin typeface="Calibri"/>
              </a:rPr>
              <a:t>como oposición </a:t>
            </a:r>
            <a:r>
              <a:rPr b="0" i="1" lang="es-CL" sz="2400" spc="-1" strike="noStrike">
                <a:solidFill>
                  <a:srgbClr val="000000"/>
                </a:solidFill>
                <a:latin typeface="Calibri"/>
              </a:rPr>
              <a:t>entre</a:t>
            </a:r>
            <a:r>
              <a:rPr b="0" lang="es-CL" sz="2400" spc="-1" strike="noStrike">
                <a:solidFill>
                  <a:srgbClr val="000000"/>
                </a:solidFill>
                <a:latin typeface="Calibri"/>
              </a:rPr>
              <a:t> lo individual y lo universal, la voluntad particular y la voluntad general, el interés particular y el interés público, el burgués y el ciudadano, la satisfacción de las necesidades y el sacrificio, los deberes y los derechos, las pasiones y la razón, la interioridad negativa y lo positivo, la conciencia crítica y la aceptación de la ley, en suma, entre lo que Hegel llama "</a:t>
            </a:r>
            <a:r>
              <a:rPr b="0" i="1" lang="es-CL" sz="2400" spc="-1" strike="noStrike">
                <a:solidFill>
                  <a:srgbClr val="000000"/>
                </a:solidFill>
                <a:latin typeface="Calibri"/>
              </a:rPr>
              <a:t>libertad subjetiva</a:t>
            </a:r>
            <a:r>
              <a:rPr b="0" lang="es-CL" sz="2400" spc="-1" strike="noStrike">
                <a:solidFill>
                  <a:srgbClr val="000000"/>
                </a:solidFill>
                <a:latin typeface="Calibri"/>
              </a:rPr>
              <a:t>" (como conciencia y voluntad individuales que buscan sus metas particulares) y "</a:t>
            </a:r>
            <a:r>
              <a:rPr b="0" i="1" lang="es-CL" sz="2400" spc="-1" strike="noStrike">
                <a:solidFill>
                  <a:srgbClr val="000000"/>
                </a:solidFill>
                <a:latin typeface="Calibri"/>
              </a:rPr>
              <a:t>libertad objetiva</a:t>
            </a:r>
            <a:r>
              <a:rPr b="0" lang="es-CL" sz="2400" spc="-1" strike="noStrike">
                <a:solidFill>
                  <a:srgbClr val="000000"/>
                </a:solidFill>
                <a:latin typeface="Calibri"/>
              </a:rPr>
              <a:t>" (es decir, la "voluntad general sustancial"). </a:t>
            </a:r>
            <a:endParaRPr b="0" lang="en-US" sz="2400" spc="-1" strike="noStrike">
              <a:solidFill>
                <a:srgbClr val="000000"/>
              </a:solidFill>
              <a:latin typeface="Calibri"/>
            </a:endParaRPr>
          </a:p>
        </p:txBody>
      </p:sp>
      <p:sp>
        <p:nvSpPr>
          <p:cNvPr id="11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3529-98E4-42AF-9016-7DCBE45FA15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1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como "libertad concreta" es la unión de estos dos elementos en la medida en que el individuo queda satisfecho reconociendo lo universal como ley y considerando al Estado como fi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unidad de su fin universal y final y los intereses particulares de lo individual" queda expresada en el hecho de que "tiene deberes para con el Estado en proporción a los derechos que tienen contra é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reciprocidad de deberes y de derechos permite al Estado constituir una "serena totali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CECE-A7F7-4E22-A10F-1D5478A8E82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27T16:42:58Z</dcterms:modified>
  <cp:revision>697</cp:revision>
  <dc:subject/>
  <dc:title>HISTORIA DEL PENSAMIENTO POLÍTICO</dc:title>
</cp:coreProperties>
</file>