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4687-158D-40A5-918C-1E394E59C3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4FFB-6283-4DDD-9893-F429B5C9A4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EC2A-4DBD-4EB9-B414-8CDBC5890E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6C2B-9C87-45B2-B323-3B16209ED73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AA0F-6A02-411B-81BA-88C8354B1C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F6D8-9253-4D07-9860-629C644ABAE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FEBF-BA9D-4AA7-8F48-FE1968D66D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3DC7-A475-4F69-A090-DDD64AA556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D6FF-6E7C-4ADC-AC71-21AFCF9EFEF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3AC8-C5F7-4CF3-848B-E15040C312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56A8-E34D-4B13-AF6C-D94B6FD05FA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5D4C-B133-47B5-A82C-A0B3418F47A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26E6-8348-4D81-97A8-F2151F997A8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1CF7-3457-4029-B07F-AA9FD209A1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E1D8-8C49-440C-A516-708FF1BC94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CAE9-0E86-4452-880F-D5031BA2E5F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1BD1-8D1C-425F-A97C-103DDD3DB15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C588-3BE9-4BE5-841A-EBA8C64B35B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893C-175B-4D55-B263-8889394EA1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D121-D77F-432E-BA33-0A2F58F1F2C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8952-60F4-49BC-9AFD-F7C3CD033D5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5D90-28A3-45C3-B926-744F2AC995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41B2-E12C-408D-9B0E-A8EA2ACCEF7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D523-A48D-44E8-9DB6-71E6BBFDCB5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0C5B-32AE-4E16-99B9-3101EE3882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CA4E-60F3-4208-A756-E8BF05F8558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E6CB-0A42-477D-AE19-B2143BC4114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C357-8919-4906-9F0D-E08E9B4808A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D9C5-5696-4179-AFC3-AE94B2FE7D9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566A-3104-4CBE-9310-6318C0B8B49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80B5-C30C-402E-AB60-6D67112BFD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435A-CD44-469D-88FA-9CD39B52068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8A08-4365-47AA-AEFA-A13B996DF18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006F-9411-4A85-A802-3FF16E8DAC0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412E-ED1B-40E6-8564-086D8848A5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9858A-9B00-4A77-9E05-09875CCED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8FEE2-CF6E-41A9-8638-18552EACB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1ED5F-9F8D-4EE5-A8EF-01C688359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B2C86-03DE-476A-AAB6-8C0A835C3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28085-A357-4F76-AE2D-F7ABDFBE8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4A825-7247-440F-BCEB-285560285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271D2-2F1B-4DE6-B18C-E041B8E07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EE736-9284-4528-BF76-18DC5677D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3EB20-C7E8-4977-8D44-21B2B180E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406C8-4B48-478E-87CA-94759D0B7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6BF87-760B-4413-A09E-BBA699E33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15B8B-7C94-42C4-B839-B924C2B52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8228-E51D-4F82-8119-64EE1C1E8C2C}" type="datetime">
              <a:rPr b="0" lang="es-C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A2B0-D9C2-443C-8FF8-2712F43596C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ohn Stuart Mill</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3 – 18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12 John Stuart Mill.bmp"/>
          <p:cNvPicPr/>
          <p:nvPr/>
        </p:nvPicPr>
        <p:blipFill>
          <a:blip r:embed="rId2"/>
          <a:stretch/>
        </p:blipFill>
        <p:spPr>
          <a:xfrm>
            <a:off x="7020000" y="44280"/>
            <a:ext cx="2019240" cy="23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77"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no sólo existe para producir el máximo de ese tipo de placer que, casualmente, prefieran sus ciudadanos. </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gunos tipos de placer son mejores que otros, y el gobierno tiene la responsabilidad de educar a sus ciudadanos de modo que busquen los placeres más elevados en lugar de los más bajos. </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ducación moral, ya sea efectuada por el gobierno o por individuos particulares (Mill parece preferir a estos últimos) es, por tanto, una de las responsabilidades de la sociedad buena; y la educación moral deberá ir dirigida al hombre no sólo como animal que busca placeres, sino como "ser progresista".</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Mill, el individuo es anterior al Estado, pero no el individuo tal como es, sino antes bien el individuo como puede llegar a ser con una educación apropiada en la sociedad bien organizada.</a:t>
            </a: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E64A-DF67-4226-9E51-2CE238CBFF7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80" name=""/>
          <p:cNvSpPr txBox="1"/>
          <p:nvPr/>
        </p:nvSpPr>
        <p:spPr>
          <a:xfrm>
            <a:off x="178920" y="907920"/>
            <a:ext cx="8713800" cy="5616720"/>
          </a:xfrm>
          <a:prstGeom prst="rect">
            <a:avLst/>
          </a:prstGeom>
          <a:noFill/>
          <a:ln w="0">
            <a:noFill/>
          </a:ln>
        </p:spPr>
        <p:txBody>
          <a:bodyPr anchor="t">
            <a:normAutofit fontScale="96000"/>
          </a:bodyPr>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una gran variedad de potenciales en el hombre y que la sociedad debe propiciar las condiciones en que cada quien pueda desarrollar sus talentos especiales, poniéndolos a disposición de la comunidad. </a:t>
            </a:r>
            <a:endParaRPr b="0" lang="en-US" sz="2400" spc="-1" strike="noStrike">
              <a:solidFill>
                <a:srgbClr val="000000"/>
              </a:solidFill>
              <a:latin typeface="Calibri"/>
            </a:endParaRPr>
          </a:p>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ejor modo en que el hombre podrá hacerlo será si cuenta con la oportunidad de emplear activamente sus talentos. </a:t>
            </a:r>
            <a:endParaRPr b="0" lang="en-US" sz="2400" spc="-1" strike="noStrike">
              <a:solidFill>
                <a:srgbClr val="000000"/>
              </a:solidFill>
              <a:latin typeface="Calibri"/>
            </a:endParaRPr>
          </a:p>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a que la vida activa es superior en lo moral a una vida de obediencia pasiva en casi todos los niveles de las realizaciones humanas. </a:t>
            </a:r>
            <a:endParaRPr b="0" lang="en-US" sz="2400" spc="-1" strike="noStrike">
              <a:solidFill>
                <a:srgbClr val="000000"/>
              </a:solidFill>
              <a:latin typeface="Calibri"/>
            </a:endParaRPr>
          </a:p>
          <a:p>
            <a:pPr marL="438840" indent="-438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el gobierno que fomenta la participación activa en su operación por todos los ciudadanos es mejor, pese a los problemas que puedan surgir como consecuencia, que aquel que es más ordenado pero alienta a sus ciudadanos a ser pasivamente obedientes a las órdenes de un grupo gobernante, cualesquiera que sean la moral y la justicia de esas órdenes.</a:t>
            </a: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B166-8793-4608-BC0A-4FD115C2E02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83"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reyente en el avance de la sociedad, de etapas inferiores a etapas superiores de civilización, vio la culminación política de este desarrollo como el surgimiento de un sistema de democracia representativa. </a:t>
            </a:r>
            <a:endParaRPr b="0" lang="en-US" sz="2400" spc="-1" strike="noStrike">
              <a:solidFill>
                <a:srgbClr val="000000"/>
              </a:solidFill>
              <a:latin typeface="Calibri"/>
            </a:endParaRPr>
          </a:p>
          <a:p>
            <a:pPr marL="457200" indent="-45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ideró que la democracia representativa es el sistema político ideal, es decir, esa forma de gobierno hacia la cual iba avanzando la humanidad. </a:t>
            </a:r>
            <a:endParaRPr b="0" lang="en-US" sz="2400" spc="-1" strike="noStrike">
              <a:solidFill>
                <a:srgbClr val="000000"/>
              </a:solidFill>
              <a:latin typeface="Calibri"/>
            </a:endParaRPr>
          </a:p>
          <a:p>
            <a:pPr marL="457200" indent="-45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Mill no vio el surgimiento de la democracia representativa como la aparición de la utopía. </a:t>
            </a:r>
            <a:endParaRPr b="0" lang="en-US" sz="2400" spc="-1" strike="noStrike">
              <a:solidFill>
                <a:srgbClr val="000000"/>
              </a:solidFill>
              <a:latin typeface="Calibri"/>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sólo había una tendencia omnipresente al retroceso, contra la cual habría de luchar continuamente la sociedad</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7840-9754-4F9F-B5B3-C4A0F7120E3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86"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como la obediencia y el trabajo eran las condiciones principales del progreso humano en anteriores etapas del desarrollo del hombre, así también en el periodo civilizado ya debidamente asimiladas la obediencia y la laboriosidad, </a:t>
            </a:r>
            <a:r>
              <a:rPr b="0" i="1" lang="es-CL" sz="2400" spc="-1" strike="noStrike">
                <a:solidFill>
                  <a:srgbClr val="000000"/>
                </a:solidFill>
                <a:latin typeface="Calibri"/>
              </a:rPr>
              <a:t>la libertad es la condición necesaria para todo progreso ulterior</a:t>
            </a:r>
            <a:r>
              <a:rPr b="0" lang="es-CL" sz="2400" spc="-1" strike="noStrike">
                <a:solidFill>
                  <a:srgbClr val="000000"/>
                </a:solidFill>
                <a:latin typeface="Calibri"/>
              </a:rPr>
              <a:t>.</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teoría de la libertad expuesta por Mill, sólo tiene utilidad práctica cuando la sociedad llega a ser más importante que el Estado.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haya una reconocida oposición de intereses entre gobernantes y gobernados, el progreso de la humanidad exigirá que los hombres trabajen por lograr las condiciones del gobierno representativo. </a:t>
            </a: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6F30-46BD-4D4D-883E-1D09DD20C1A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89" name=""/>
          <p:cNvSpPr txBox="1"/>
          <p:nvPr/>
        </p:nvSpPr>
        <p:spPr>
          <a:xfrm>
            <a:off x="178920" y="907920"/>
            <a:ext cx="8713800" cy="5616720"/>
          </a:xfrm>
          <a:prstGeom prst="rect">
            <a:avLst/>
          </a:prstGeom>
          <a:noFill/>
          <a:ln w="0">
            <a:noFill/>
          </a:ln>
        </p:spPr>
        <p:txBody>
          <a:bodyPr anchor="t">
            <a:normAutofit/>
          </a:bodyPr>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alcanzadas estas condiciones, podrá surgir una democracia representativa en que desaparezca la oposición entre gobernantes y gobernados, pues los gobernantes representarán entonces los intereses de los gobernados. Esta condición hace posible la libertad del individuo, pero no la garantiza.</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blema de las subsecuentes etapas de progreso es impedir que el individuo sea oprimido por la masa de la humanidad, cada vez más poderosa y más confiada. </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vance hacia la civilización exige frenos a la libertad individual; el progreso en la civilización exige librar al individuo de estas restricciones.</a:t>
            </a:r>
            <a:endParaRPr b="0" lang="en-US" sz="2400" spc="-1" strike="noStrike">
              <a:solidFill>
                <a:srgbClr val="000000"/>
              </a:solidFill>
              <a:latin typeface="Calibri"/>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7D18-CB54-4EBA-82A5-00ED2A781EC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92" name=""/>
          <p:cNvSpPr txBox="1"/>
          <p:nvPr/>
        </p:nvSpPr>
        <p:spPr>
          <a:xfrm>
            <a:off x="179280" y="691920"/>
            <a:ext cx="8785440" cy="5832360"/>
          </a:xfrm>
          <a:prstGeom prst="rect">
            <a:avLst/>
          </a:prstGeom>
          <a:noFill/>
          <a:ln w="0">
            <a:noFill/>
          </a:ln>
        </p:spPr>
        <p:txBody>
          <a:bodyPr anchor="t">
            <a:normAutofit fontScale="98000"/>
          </a:bodyPr>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 que se necesita, cree Mill, es un principio práctico que definirá la esfera de la libertad individual de tal modo que no impida al gobierno cumplir su obligación de promover el progreso de la sociedad.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Mill fundamenta este principio en su teoría moral: </a:t>
            </a:r>
            <a:r>
              <a:rPr b="0" i="1" lang="es-CL" sz="2300" spc="-1" strike="noStrike">
                <a:solidFill>
                  <a:srgbClr val="000000"/>
                </a:solidFill>
                <a:latin typeface="Calibri"/>
              </a:rPr>
              <a:t>lo único de valor último es la felicidad de los individuos</a:t>
            </a:r>
            <a:r>
              <a:rPr b="0" lang="es-CL" sz="2300" spc="-1" strike="noStrike">
                <a:solidFill>
                  <a:srgbClr val="000000"/>
                </a:solidFill>
                <a:latin typeface="Calibri"/>
              </a:rPr>
              <a:t>, y donde mejor pueden los individuos alcanzar su felicidad es </a:t>
            </a:r>
            <a:r>
              <a:rPr b="0" i="1" lang="es-CL" sz="2300" spc="-1" strike="noStrike">
                <a:solidFill>
                  <a:srgbClr val="000000"/>
                </a:solidFill>
                <a:latin typeface="Calibri"/>
              </a:rPr>
              <a:t>en una sociedad civilizada</a:t>
            </a:r>
            <a:r>
              <a:rPr b="0" lang="es-CL" sz="2300" spc="-1" strike="noStrike">
                <a:solidFill>
                  <a:srgbClr val="000000"/>
                </a:solidFill>
                <a:latin typeface="Calibri"/>
              </a:rPr>
              <a:t>, que los deje en libertad de favorecer sus intereses con sus propios talentos, como éstos son interpretados y desarrollados por ellos, en un sistema de educación adecuado.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esto subyace la suposición del valor último de la individualidad, del desarrollo individual, tanto para la persona cuanto como para el futuro progreso de la sociedad: para el individuo, una vez establecidas las condiciones de libre desarrollo, a saber, la civilización y el gobierno representativo; para la sociedad, porque el progreso de la civilización depende de las aportaciones que sólo pueden hacer quienes piensan por sí mismos. </a:t>
            </a:r>
            <a:endParaRPr b="0" lang="en-US" sz="23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C51F-5595-4445-AE74-30DD60E5C38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95"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Mill, el hombre civilizado es el que actúa de acuerdo con lo que entiende, y que hace todo esfuerzo por comprend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rge entonces la pregunta sobre las condiciones en que la sociedad puede avanzar hacia esta met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dición principal es la moderación de parte de los individuos en la sociedad, y la teoría de Mill sobre la libertad es un intento por detallar en términos prácticos lo que exige la moder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Requiere como fundamento que cada individuo, grupo de individuos, el gobierno y la masa del pueblo se contengan de inmiscuirse en el pensamiento, la expresión y la acción de cada quien. Este es el principio básico de la libertad</a:t>
            </a:r>
            <a:r>
              <a:rPr b="0" lang="es-CL"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el pensamiento debe ser absolutamente libre, la libertad de acción de los individuos debe ser limitada para seguridad de la sociedad. </a:t>
            </a: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F08A-2924-44BE-AA26-3F25D9D0F29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98" name=""/>
          <p:cNvSpPr txBox="1"/>
          <p:nvPr/>
        </p:nvSpPr>
        <p:spPr>
          <a:xfrm>
            <a:off x="179280" y="691920"/>
            <a:ext cx="8785440" cy="583236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arguye que el individuo se pertenece a sí mismo y sólo está sometido a un control social con el propósito de impedirle dañar a los demás (principio de no agresión).</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es soberano sobre sí mismo, y la sociedad es soberana sobre los actos de quienes afectan a otro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ensamientos del individuo son parte de sí mismo y, por tanto, el principio requiere que la sociedad no ejerza ningún control sobre ello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ree que la expresión requiere la misma libertad absoluta que el pensamiento, por las razones siguientes: </a:t>
            </a:r>
            <a:endParaRPr b="0" lang="en-US" sz="2400" spc="-1" strike="noStrike">
              <a:solidFill>
                <a:srgbClr val="000000"/>
              </a:solidFill>
              <a:latin typeface="Calibri"/>
            </a:endParaRPr>
          </a:p>
          <a:p>
            <a:pPr lvl="1" marL="896040" indent="-447840" algn="just">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xpresión está relacionada tan directamente con el pensamiento que el freno a la expresión se convertiría, de hecho, en freno al pensamiento; </a:t>
            </a:r>
            <a:endParaRPr b="0" lang="en-US" sz="2000" spc="-1" strike="noStrike">
              <a:solidFill>
                <a:srgbClr val="000000"/>
              </a:solidFill>
              <a:latin typeface="Calibri"/>
            </a:endParaRPr>
          </a:p>
          <a:p>
            <a:pPr lvl="1" marL="896040" indent="-447840" algn="just">
              <a:spcBef>
                <a:spcPts val="499"/>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firma que la aspiración al derecho de limitar la libertad de expresión, es decir, la pretensión de tener derecho a acallar la expresión de opiniones en la sociedad presupondría una infalibilidad de parte de quienes tienen esa pretensión. </a:t>
            </a:r>
            <a:endParaRPr b="0" lang="en-US" sz="20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13F6-0A74-46C5-A5CF-D9D5ACA3C17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01"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dea de Mill es que nadie puede aspirar legítimamente a la infalibilidad, por tanto, nadie puede aspirar con toda legitimidad al derecho de suprimir cualquier opin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tiene todo que ganar y nada que perder con la libertad absoluta de expres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nfoque de Mill al problema de los límites —si los hay— a la libertad de expresión pública en sociedad presupone un público maduro, que lleva adelante su discusión en forma grave y civilizad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ienes no viven a la altura de las reglas del juego no tienen tales derech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admite que las condiciones no pueden ser tan libres como las opiniones. Las acciones deben ser limitadas a la medida en que no provoque daño a otros. </a:t>
            </a: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17B7-CF51-478B-9A2D-4436B8F598C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04"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eligro de dañarse a sí mismo, cuando se es un individuo maduro, no es motivo para que el gobierno intervenga. En esa circunstancia se puede llamar la atención al individuo, pero no ejercer coerción contra 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bjetivo último de la acción social debe consistir en "asegurar a todas las personas la independencia completa y la libertad de ac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incluye especialmente la libertad de satisfacer los gustos y dedicarse a actividades personales, así como la libertad de asociación, todo en la medida en que no se cause daño 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nte la educación en las virtudes para consigo mismo, se debe alentar a las personas en sociedad a utilizar su libertad para mejorar moral e intelectualmente.</a:t>
            </a: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8CC3-1152-4FF4-A663-38C055134AF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Mill y el gobierno representativ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greso y socied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sideraciones moral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teoría de la libert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fin del Estad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l gobierno representativ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6166-F24A-42E3-885A-882D21639EB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07" name=""/>
          <p:cNvSpPr txBox="1"/>
          <p:nvPr/>
        </p:nvSpPr>
        <p:spPr>
          <a:xfrm>
            <a:off x="179280" y="691920"/>
            <a:ext cx="8785440" cy="5832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 la sociedad ni el gobierno deben inmiscuirse en sus vidas a menos que no cumplan alguna obligación social que está fincada, en última instancia, en el principio utilitarista de la mayor felicidad del mayor númer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año o injuria definitivo a otros debe ser castigado, pero el daño simplemente contingente (y que no viola un deber específico) debe ser tolerado, para bien de mayor liber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cluye reafirmando los argumentos en pro de la iniciativa individual, de preferencia sobre la restricción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si todas las cosas suelen estar mejor hechas cuando las hacen individuos que cuando las hace el gobierno; la acción individual promueve la educación mental del individuo, lo que no hace la acción gubernamental; y una mayor acción gubernamental constituye una amenaza para la libertad.</a:t>
            </a: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E5F5-31F3-4666-BEFF-9F7AD1669D6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teoría de la libertad</a:t>
            </a:r>
            <a:endParaRPr b="0" lang="en-US" sz="3400" spc="-1" strike="noStrike">
              <a:solidFill>
                <a:srgbClr val="000000"/>
              </a:solidFill>
              <a:latin typeface="Calibri"/>
            </a:endParaRPr>
          </a:p>
        </p:txBody>
      </p:sp>
      <p:sp>
        <p:nvSpPr>
          <p:cNvPr id="110"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Mill no excluye la intervención del gobierno en la vida económica de la comunidad, como imposible o como indeseable en principio, sí desearía limitar esas intervenciones a la esfera de la distribución de bienes, dejando exenta la esfera de la producción, por ser gobernada por las leyes de la naturalez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reconoció la ventaja de una intervención gubernamental "no autoritaria", en forma de consejo e información, y en competencia con la empresa privada, donde no hubiese el riesgo de una ventaja de una intervención gubernamental "no autoritaria", en forma de consejo monopolio.</a:t>
            </a: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FD15-BDE7-431F-A53D-8DEFC8378B2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13" name=""/>
          <p:cNvSpPr txBox="1"/>
          <p:nvPr/>
        </p:nvSpPr>
        <p:spPr>
          <a:xfrm>
            <a:off x="179280" y="907920"/>
            <a:ext cx="8785440" cy="56167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señala tres condiciones que todo pueblo debe satisfacer para que un sistema particular de gobierno pueda triunfar en él: </a:t>
            </a:r>
            <a:endParaRPr b="0" lang="en-US" sz="24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ueblo debe estar dispuesto a aceptarlo. </a:t>
            </a:r>
            <a:endParaRPr b="0" lang="en-US" sz="22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ispuesto a hacer lo que sea necesario para mantenerlo en pie.</a:t>
            </a:r>
            <a:endParaRPr b="0" lang="en-US" sz="22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ispuesto a hacer lo que sea necesario para permitirle cumplir con su propósito. </a:t>
            </a:r>
            <a:endParaRPr b="0" lang="en-US" sz="22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ondiciones favorables al establecimiento y el mantenimiento de sistemas particulares de gobierno pueden ser resultado, hasta cierto punto, de la educación del pueblo; y dentro de los límites fijados por estas condiciones, la forma específica de gobierno será cosa de elecció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existen para mantener el orden y lograr el progreso en la sociedad. Esto le parece redundante, ya que el logro del progreso presupone el orden, es decir, la seguridad en lo que se ha alcanzado. </a:t>
            </a: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3844-90A6-4B03-8735-D42EA420976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16"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Mill estaría dispuesto a decir que el progreso es el único fin del gobierno, pero lo diría con cierta renuencia, pues el decir esto no hace suficiente hincapié en la necesidad, no menos importante, de preservar contra el peligro de retroces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manera más apropiada de llegar a los requisitos de una forma de gobierno es reconocer que la supuesta antítesis entre orden y progreso no es más que un reflejo de una antítesis psicológica más profunda entre dos tipos de carácter humano: el tipo en que predomina la cautela y aquél en que es dominante la auda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uen gobierno, el que alcanza el progreso con base en el orden, exige personas de ambos tipos para lograr un equilibr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que se necesita es estar seguro de que ninguno de los dos tipos quede sistemáticamente elimin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0541-65E2-45AC-8D98-84FED28D848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19"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fundamental son las cualidades de los seres humanos sobre los que se ejerce el gobierno, y esto aparece en dos perspectivas:</a:t>
            </a:r>
            <a:endParaRPr b="0" lang="en-US" sz="24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prueba para el buen gobierno es la medida en que promueve la virtud y la inteligencia del pueblo mismo. </a:t>
            </a:r>
            <a:endParaRPr b="0" lang="en-US" sz="22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otra es la medida en que la maquinaria de gobierno aprovecha las buenas cualidades de la población. </a:t>
            </a:r>
            <a:endParaRPr b="0" lang="en-US" sz="2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el fin del gobierno es mejorar al pueblo, y los medios son educarlo y dar buen uso a las más altas cualidades que haya alcanz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Mill reconoce que el gobierno debe encargarse de los asuntos de la comunidad, es más importante aún su responsabilidad de desarrollar a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orma de su eficacia en el primero es la eficiencia, y las normas de eficiencia son las mismas para todas las formas de gobierno.</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D2B3-09BB-4919-8FA0-C61D0208C0C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22"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normas de su eficacia en la educación del pueblo son más complicadas y dependen de la etapa de desarrollo en que se encuentra el pueblo m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como hay un orden natural en la educación de un individuo, también hay un orden natural en la educación de un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la condición precivilizada es la barbarie, la obediencia es la primera lección, el trabajo es la siguiente, y el gobierno propio es el último pas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ve una continua línea de desarrollo de la esclavitud al gobierno propio, preparada cada etapa por el aprendizaje de una lección específica, es decir, por la adquisición de un nuevo rasgo de carácter por la población en general. </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86B5-0C00-4E2D-8935-668C5F6A315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fin del Estado</a:t>
            </a:r>
            <a:endParaRPr b="0" lang="en-US" sz="3600" spc="-1" strike="noStrike">
              <a:solidFill>
                <a:srgbClr val="000000"/>
              </a:solidFill>
              <a:latin typeface="Calibri"/>
            </a:endParaRPr>
          </a:p>
        </p:txBody>
      </p:sp>
      <p:sp>
        <p:nvSpPr>
          <p:cNvPr id="125" name=""/>
          <p:cNvSpPr txBox="1"/>
          <p:nvPr/>
        </p:nvSpPr>
        <p:spPr>
          <a:xfrm>
            <a:off x="179280" y="907920"/>
            <a:ext cx="878544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jando aparte el lado administrativo del gobierno, la norma de la mejor forma de gobierno para cualquier pueblo es que ofrezca lo que se necesita para enseñarle la lección que debe aprender si desea pasar a la siguiente etapa más avanzada de la sociedad, y que no le obstaculice el pasar, después de una preparación apropiada al siguiente pas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Mill, esta secuencia de pasos implica una culminación en la mejor forma de gobierno, una forma que, si existieran las condiciones necesarias, promovería, más que ninguna otra, no una forma de mejora humana, sino todas las formas y grad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dice, es cierta variedad del sistema representativo.</a:t>
            </a:r>
            <a:endParaRPr b="0" lang="en-US" sz="24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6920-3A29-48A2-BC9F-09445345B6E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28" name=""/>
          <p:cNvSpPr txBox="1"/>
          <p:nvPr/>
        </p:nvSpPr>
        <p:spPr>
          <a:xfrm>
            <a:off x="179280" y="691920"/>
            <a:ext cx="878544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ueblos libres han prosperado más que los pueblos que vivieron bajo despotismo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Mill, el despotismo exige obediencia de parte del cuerpo ciudadano, es decir, pasividad.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celencia intelectual, práctica y moral, los más altos objetivos que el Estado debe esforzarse por cultivar entre sus ciudadanos, son, todos ellos, producto de un carácter activo.</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ipación activa sólo es posible en un gobierno popular.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l gobierno popular parece ser la constitución ideal por dos razones: </a:t>
            </a:r>
            <a:endParaRPr b="0" lang="en-US" sz="24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tege los derechos de los individuos. </a:t>
            </a:r>
            <a:endParaRPr b="0" lang="en-US" sz="20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mueve su supremo desarrollo moral e intelectual. </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Mill da un paso más en su argumento: el supremo desarrollo de los individuos también se basa en una civilización avanzada, que sólo es posible en un Estado grande.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81AC-0415-4A38-A5F7-5098469BF2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31" name=""/>
          <p:cNvSpPr txBox="1"/>
          <p:nvPr/>
        </p:nvSpPr>
        <p:spPr>
          <a:xfrm>
            <a:off x="179280" y="691920"/>
            <a:ext cx="878544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popular sólo es posible en Estados pequeñ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 aproximación al gobierno popular que es factible en los Estados grandes es el gobierno representativo, es decir, la democracia representativ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representativo no sólo es la constitución mejor, en lo ideal, si todo se considera; también es una forma de gobierno que puede establecerse en el mundo mod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existencia depende de las tres condiciones ya mencionadas, junto con un grado de madurez que haga posible esta forma de auto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gobierno representativo constituido en debida forma sería el que más ayudara al pueblo a lograr el avance hacia la siguiente etapa de la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DEFE-58FC-4712-8441-9E5C8F68DC1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34" name=""/>
          <p:cNvSpPr txBox="1"/>
          <p:nvPr/>
        </p:nvSpPr>
        <p:spPr>
          <a:xfrm>
            <a:off x="179280" y="691920"/>
            <a:ext cx="878544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popular sólo es posible en Estados pequeñ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 aproximación al gobierno popular que es factible en los Estados grandes es el gobierno representativo, es decir, la democracia representativ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representativo no sólo es la constitución mejor, en lo ideal, si todo se considera; también es una forma de gobierno que puede establecerse en el mundo mod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existencia depende de las tres condiciones ya mencionadas, junto con un grado de madurez que haga posible esta forma de auto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gobierno representativo constituido en debida forma sería el que más ayudara al pueblo a lograr el avance hacia la siguiente etapa de la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CEFAE-504E-49F2-9A5D-0587A7C4B64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56"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yó que el progreso social era posible y deseable, pero no inevitabl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humanidad, como lo sabemos por la historia, es capaz de pasar de la barbarie a la civilización, y este avance adopta diferentes formas y ocurre a diferentes ritmos en distintas sociedades, aunque, reconoce, hay un cierto orden de progreso huma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stinguió dos estados básicos de sociedad: el natural y el de transición.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natural de la sociedad resultaba ser aquel en que los más aptos para gobernar eran, en realidad, los gobernant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de transición ocupaban el poder quienes no eran más aptos para gobernar.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FF16-45B7-4D18-9D94-BC5338B2CD9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37" name=""/>
          <p:cNvSpPr txBox="1"/>
          <p:nvPr/>
        </p:nvSpPr>
        <p:spPr>
          <a:xfrm>
            <a:off x="179280" y="620640"/>
            <a:ext cx="8785440" cy="568800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rror habitual al concebir un gobierno representativo, declaró Mill, consistía en sostener que los representantes del pueblo debían ser los que en realidad gobernaran.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funciones del gobierno —ejecutivas, legislativas y judiciales— son actividades sumamente especializadas que requieren personas con experiencia y buena preparación, que el pueblo no está calificado para seleccionar.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puede decirse que Mill cree en el gobierno de los expert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toda constitución tiene un "poder controlador último", y en una democracia este poder debe residir en el pueblo mism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eblo, no siendo capaz de ejercer este poder por sí mismo, puede supervisar las operaciones del gobierno en bien del interés público, por medio de diputados (representantes) periódicamente elegidos. </a:t>
            </a:r>
            <a:endParaRPr b="0" lang="en-US" sz="2400" spc="-1" strike="noStrike">
              <a:solidFill>
                <a:srgbClr val="000000"/>
              </a:solidFill>
              <a:latin typeface="Calibri"/>
            </a:endParaRPr>
          </a:p>
        </p:txBody>
      </p:sp>
      <p:sp>
        <p:nvSpPr>
          <p:cNvPr id="13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15F2-2427-451C-B32F-9748FE4ECB8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0" name=""/>
          <p:cNvSpPr txBox="1"/>
          <p:nvPr/>
        </p:nvSpPr>
        <p:spPr>
          <a:xfrm>
            <a:off x="179280" y="620640"/>
            <a:ext cx="8785440" cy="56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según Mill, los representantes no son el gobierno, sino que actúan para que el pueblo pueda supervisar al gobier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parlamento de representantes elegidos servirá como supervisor del gobierno en bien del interés de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a este parlamento principalmente como un cuerpo deliberativo, a la vez "Comité de Quejas" y "Congreso de Opinio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contener "una muestra proporcional de cada grado de intelecto que tiene derecho a una voz en los negocios públicos", su función sería "indicar las carencias, ser órgano de las demandas populares y lugar de discusión adversa de todas las opiniones relacionadas con los negocios públic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democracia sin freno puede ser tan tiránica como una monarquía absoluta. </a:t>
            </a:r>
            <a:endParaRPr b="0" lang="en-US" sz="2400" spc="-1" strike="noStrike">
              <a:solidFill>
                <a:srgbClr val="000000"/>
              </a:solidFill>
              <a:latin typeface="Calibri"/>
            </a:endParaRPr>
          </a:p>
        </p:txBody>
      </p:sp>
      <p:sp>
        <p:nvSpPr>
          <p:cNvPr id="14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DE7D-A838-4D03-B521-29327B96C76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3" name=""/>
          <p:cNvSpPr txBox="1"/>
          <p:nvPr/>
        </p:nvSpPr>
        <p:spPr>
          <a:xfrm>
            <a:off x="179280" y="620640"/>
            <a:ext cx="8785440" cy="56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buena operación de la democracia representativa, hay que conservar un sano equilibrio entre el cuerpo representativo y los cuerpos que en realidad gobierna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cuerpo representativo demasiado poderoso obstaculizará al gobierno en el cumplimiento de sus funciones, y uno que sea demasiado débil será incapaz de contener al 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uerpo representativo puede no tener la capacidad mental necesaria para desempeñar su lab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reses siniestros, intereses que no son idénticos al interés de la comunidad en general pueden lograr el predomini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recae en la rutina, la cual reprime la individualidad de sus miembros y se vuelve un sistema gobernado por una mediocridad especializada.</a:t>
            </a:r>
            <a:endParaRPr b="0" lang="en-US" sz="2400" spc="-1" strike="noStrike">
              <a:solidFill>
                <a:srgbClr val="000000"/>
              </a:solidFill>
              <a:latin typeface="Calibri"/>
            </a:endParaRPr>
          </a:p>
        </p:txBody>
      </p:sp>
      <p:sp>
        <p:nvSpPr>
          <p:cNvPr id="14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DE78-B69B-4BC0-977E-D9ECF4BB55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6" name=""/>
          <p:cNvSpPr txBox="1"/>
          <p:nvPr/>
        </p:nvSpPr>
        <p:spPr>
          <a:xfrm>
            <a:off x="179280" y="620640"/>
            <a:ext cx="8785440" cy="5688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l gobierno popular mantiene vivos unos intereses antagónicos en la comunidad, estimulando así el pensamiento y la iniciativa individuales, pero capacitando al hombre de genio original a salvar la barrera de la mediocridad institucionalizad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a libertad que el sistema representativo produce debe combinarse con aptitudes calificad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istinción entre gobernar y supervisar, que se encuentra en la base misma del sistema de Mill, produce la combin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xpertos gobiernan, pero son supervisados por los representantes del pueb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una capacitación, no es posible resolver los complejos problemas del gobierno de una sociedad libr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democracia no hay seguridad para el buen gobierno, es decir, para la protección de los derechos de los ciudadanos. </a:t>
            </a:r>
            <a:endParaRPr b="0" lang="en-US" sz="2400" spc="-1" strike="noStrike">
              <a:solidFill>
                <a:srgbClr val="000000"/>
              </a:solidFill>
              <a:latin typeface="Calibri"/>
            </a:endParaRPr>
          </a:p>
        </p:txBody>
      </p:sp>
      <p:sp>
        <p:nvSpPr>
          <p:cNvPr id="14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28C9-5990-4606-898C-A852412AC17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49" name=""/>
          <p:cNvSpPr txBox="1"/>
          <p:nvPr/>
        </p:nvSpPr>
        <p:spPr>
          <a:xfrm>
            <a:off x="179280" y="620640"/>
            <a:ext cx="8785440" cy="56880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a que la actual concepción de democracia se basa en una interpretación equivocada del gobierno de la mayorí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democracia significa gobierno para todos por una mayoría, única que tiene representación, esto tiene que frustrar los fines de la democracia, pues la minoría, carente de representantes, no tiene ninguna seguridad de que serán protegidos sus derechos, y la mayoría se encontrará en posición de favorecer sus intereses siniestr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de la mayoría en su propio interés es, en el mismo grado, un gobierno de la desigualdad y el privilegio que el gobierno de una minoría privilegiada, en su propio interé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auténtica es el gobierno de todos por todos, representados igualmente.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istema existente de falsa democracia incluye a la vez una mala representación y una no representació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7284-01FD-4304-B17D-CB2650BFA34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52" name=""/>
          <p:cNvSpPr txBox="1"/>
          <p:nvPr/>
        </p:nvSpPr>
        <p:spPr>
          <a:xfrm>
            <a:off x="179280" y="620640"/>
            <a:ext cx="8785440" cy="56880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usencia de una voz convincente en oposición a la mayoría en el cuerpo representativo tiende a producir un grupo gobernante mediocre e incompetent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reía que en el sistema existente, en que una mayoría en un distrito geográfico determina la representación de tal distrito, quedan marginados los votantes de los candidatos perdedor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consideró que sin una representación personal el sufragio universal conduciría a la tiranía mayoritar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la teoría de representación de Mill, el representante elegido tenía la responsabilidad de pensar y de discutir los asuntos públicos en bien de todos, sin limitarse a reflejar las opiniones de sus votant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acó los compromisos de los candidatos que se presentaban a los cargos, y se negó a hacerlos cuando él mismo se presentó a elecciones para el Parlament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BDA4-B679-468E-90BA-D77582B47F6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Del gobierno representativo</a:t>
            </a:r>
            <a:endParaRPr b="0" lang="en-US" sz="3600" spc="-1" strike="noStrike">
              <a:solidFill>
                <a:srgbClr val="000000"/>
              </a:solidFill>
              <a:latin typeface="Calibri"/>
            </a:endParaRPr>
          </a:p>
        </p:txBody>
      </p:sp>
      <p:sp>
        <p:nvSpPr>
          <p:cNvPr id="155" name=""/>
          <p:cNvSpPr txBox="1"/>
          <p:nvPr/>
        </p:nvSpPr>
        <p:spPr>
          <a:xfrm>
            <a:off x="179280" y="620640"/>
            <a:ext cx="8785440" cy="5688000"/>
          </a:xfrm>
          <a:prstGeom prst="rect">
            <a:avLst/>
          </a:prstGeom>
          <a:noFill/>
          <a:ln w="0">
            <a:noFill/>
          </a:ln>
        </p:spPr>
        <p:txBody>
          <a:bodyPr anchor="t">
            <a:normAutofit fontScale="94000"/>
          </a:bodyPr>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Mill consideró que había que adoptar medidas especiales para impedir que las opiniones de las clases instruidas fuesen sofocadas en un diluvio de votos de las clases no instruidas. </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sistema de representación personal impediría el gobierno de los ignorantes al permitir a los hombres instruidos de todas partes de la nación unir sus votos para asegurar la elección de los candidatos que prefiriesen. </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Pero esto no bastó a Mill. Para dar a los hombres cultos un peso aún mayor del que merecerían sus simples números, pidió el voto plural para los profesionales y otras clases que tuviesen mayor responsabilidad en la comunidad.</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sistema de votación plural es un freno a la democracia e indica la fuerza de la convicción de Mill sobre los peligros de la democracia irrestricta. </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Mill prefirió depender de un cuerpo representativo en que los intereses de las dos principales clases de la sociedad, la clase obrera y la clase superior, estuvieran bien equilibrados, con la esperanza de que la mayoría de los representantes votaran de acuerdo con sus intereses de clase, mientras que una minoría de cada grupo, de la que dependería el equilibrio del poder, votaría en interés del público.</a:t>
            </a:r>
            <a:endParaRPr b="0" lang="en-US" sz="2100" spc="-1" strike="noStrike">
              <a:solidFill>
                <a:srgbClr val="000000"/>
              </a:solidFill>
              <a:latin typeface="Calibri"/>
            </a:endParaRPr>
          </a:p>
          <a:p>
            <a:pPr marL="322200" indent="-3222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5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A6CD-47D3-4336-AE8B-52769F78F49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ohn Stuart Mill</a:t>
            </a:r>
            <a:endParaRPr b="0" lang="en-US" sz="4000" spc="-1" strike="noStrike">
              <a:solidFill>
                <a:srgbClr val="000000"/>
              </a:solidFill>
              <a:latin typeface="Calibri"/>
            </a:endParaRPr>
          </a:p>
        </p:txBody>
      </p:sp>
      <p:sp>
        <p:nvSpPr>
          <p:cNvPr id="15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3 – 18 de octubre de 2010</a:t>
            </a:r>
            <a:endParaRPr b="0" lang="en-US" sz="2000" spc="-1" strike="noStrike">
              <a:solidFill>
                <a:srgbClr val="000000"/>
              </a:solidFill>
              <a:latin typeface="Calibri"/>
            </a:endParaRPr>
          </a:p>
        </p:txBody>
      </p:sp>
      <p:pic>
        <p:nvPicPr>
          <p:cNvPr id="159" name="Picture 5" descr="escuela de gobierno y gestión pública"/>
          <p:cNvPicPr/>
          <p:nvPr/>
        </p:nvPicPr>
        <p:blipFill>
          <a:blip r:embed="rId1"/>
          <a:stretch/>
        </p:blipFill>
        <p:spPr>
          <a:xfrm>
            <a:off x="0" y="0"/>
            <a:ext cx="2371680" cy="9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59"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dos naturales tienden a ser socavados por el surgimiento de nuevos jefes; la lucha entre ellos y los antiguos jefes produce el estado de transición que, a la postre, es reemplazado por un nuevo estado natu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estado de sociedad es satisfactorio a menos que los más aptos para gobernar ejerzan la mayor autoridad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ada etapa de la civilización pueden producirse ciertas condiciones que hagan posible la siguiente etapa; por ejemplo: indica que la primera lección que debemos aprender antes de que sea posible algún progreso social es la lección de obedien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a existencia de las condiciones de progreso no garantiza que ocurrirá un progreso. </a:t>
            </a: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5AE0-F8A0-4F78-A459-7B84E7AFAA9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62"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vance de la sociedad es producido por las ideas, el ejemplo y la jefatura moral e intelectual de individuos superio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os individuos superiores han florecido principalmente en condiciones de libertad, de modo que la libertad es condición necesaria para el progres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rgumento es bastante sencillo: el progreso depende del surgimiento de ideas nuevas; las ideas nuevas sólo surgen como desafíos a las ideas antiguas y aceptadas, y aun entonces sólo si hay libertad para desafiar las creencias existentes y sugerir opcio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reconoció que las creencias existentes dan la base para la estabilidad de la socie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reconoció que el desafío a esas creencias era una amenaza para la sociedad. </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DA00-FB76-4E8A-B3ED-389650EDFF5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greso y Sociedad</a:t>
            </a:r>
            <a:endParaRPr b="0" lang="en-US" sz="3400" spc="-1" strike="noStrike">
              <a:solidFill>
                <a:srgbClr val="000000"/>
              </a:solidFill>
              <a:latin typeface="Calibri"/>
            </a:endParaRPr>
          </a:p>
        </p:txBody>
      </p:sp>
      <p:sp>
        <p:nvSpPr>
          <p:cNvPr id="65"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señales de la civilización son la existencia de un gobierno responsable y la aparición de conocimiento científico. </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parece creer que la medida del avance de una sociedad es el estado del intelecto, y parece tener pocas dudas de que el progreso futuro de la humanidad está unido al continuado desarrollo del conocimiento científico, especialmente en la esfera de las ciencias sociales.</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que aún quede por alcanzar nuevo progreso es una piedra fundamental de todo su sistema de pensamiento político.</a:t>
            </a:r>
            <a:endParaRPr b="0" lang="en-US" sz="24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dad llevada demasiado lejos choca con la justicia y puede socavar a la vez la libertad y el respeto a esa excelencia intelectual y moral que es condición de todo nuevo progreso. </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BA7A-7BB3-4A19-AE82-550B564D9F8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68"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fin del Estado, para los primeros utilitaristas, era el bien de los individuos que integraban el Estado, y ese bien era definido en términos hedonistas como el máximo de placer alcanzable con el mínimo de dol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el gobierno era considerado como un agente para aumentar el placer y reducir el dol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cabe duda de que Mill aceptó esta idea en principio, pero la encontró inadecuada, tanto por descuidar un aspecto de la naturaleza humana como por comprender mal los aspectos que incluí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chazó esta idea y sostuvo que el principio fundamental de la moral es conocido por experiencia, y no por la intuición.</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C514-0A8F-4E75-B57E-ACA5AC2B247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71"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objeción que más pareció preocuparle fue que el utilitarismo adoptaba una visión muy baja de la vida humana, sin distinguir una vida apropiada para animales de lo que es apropiado para los ho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ll introdujo una distinción cualitativa entre los placeres para complementar las distinciones simplemente cuantitativas de Bentha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gunos placeres, sobre todo los mentales y espirituales, son superiores en sí mismos a los placeres del cuerpo, cualesquiera que sean las consideraciones cuantitativas o circunstanci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la felicidad no sólo requeriría una vida de placer sin dolor, sino el logro de los placeres superiores, aun al costo de dolor y del sacrificio de los placeres inferiores.</a:t>
            </a: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1402-3AB9-4375-8605-9DC30AB0688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nsideraciones morales</a:t>
            </a:r>
            <a:endParaRPr b="0" lang="en-US" sz="3400" spc="-1" strike="noStrike">
              <a:solidFill>
                <a:srgbClr val="000000"/>
              </a:solidFill>
              <a:latin typeface="Calibri"/>
            </a:endParaRPr>
          </a:p>
        </p:txBody>
      </p:sp>
      <p:sp>
        <p:nvSpPr>
          <p:cNvPr id="74"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punto es significativo para la filosofía política de Mill en tres aspectos:</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á relacionado con su teoría del progreso humano. Una sociedad en que el pueblo busca los placeres superiores está más avanzada en su civilización que otra en que no lo hace. De este modo, la promoción de la búsqueda de los placeres superiores es al mismo tiempo la promoción del avance de la sociedad. </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ultivo de los placeres superiores requiere libertad social, de modo que sólo una sociedad libre puede ser en verdad civilizada.</a:t>
            </a:r>
            <a:endParaRPr b="0" lang="en-US" sz="2400" spc="-1" strike="noStrike">
              <a:solidFill>
                <a:srgbClr val="000000"/>
              </a:solidFill>
              <a:latin typeface="Calibri"/>
            </a:endParaRPr>
          </a:p>
          <a:p>
            <a:pPr marL="343080" indent="-34308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pueden vivir unidos más justamente y con superiores realizaciones humanas en la medida en que busquen los placeres superiores y no los inferio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el problema del gobierno queda resuelto en parte por la búsqueda de los placeres superiores.</a:t>
            </a: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19A7-F7FC-455D-9F20-D90B20F068F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18T21:09:36Z</dcterms:modified>
  <cp:revision>570</cp:revision>
  <dc:subject/>
  <dc:title>HISTORIA DEL PENSAMIENTO POLÍTICO</dc:title>
</cp:coreProperties>
</file>