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344D-2B0A-4C95-833B-1E41A0CEE57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142B-175B-45B6-A938-CEA176155A2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F66F-40FB-4774-88EF-079B981A913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5E58-C1ED-4223-9397-90147B38B1D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F5F6-5E1C-4A53-8AAB-BCE42EC398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2D10-AB18-47C9-A3BC-751526A931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6322-E6AD-43F9-8423-A570FF14D7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4C1A-00EC-4D9A-9414-C9965328F3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56BC-8297-4BD6-8309-E222FD627F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D81D-004C-4766-AFBA-85AC2092F75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6F10-DC9F-4038-A88E-42BB4467FF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C9A6-BFE3-458A-9EA6-870D95A08E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E535-1F89-4301-B0F4-38741923B4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7AB1-7221-4AF1-8E14-7EA2C6320C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B01C-E51B-4520-A123-9A4BF96D930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E30E-05C8-4E9F-83A9-39F5B09B80B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EBA9-3B50-4560-8871-39135FB229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4562-50CC-479F-BCBE-686BB07C87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49E2-034E-4EC6-8235-8876CA38F9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5CB3-4C64-44DE-870E-4688F1E64B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506C-B376-454C-B33A-5BB492A91C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22FD-9AA8-4822-BC37-0FE8672AC7F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E23D-0CCB-447E-ACEE-E9501CC88D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D21B-F969-495D-9EA6-5FC34D1090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64E0-D655-45BB-9282-48ECB9500DC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4D9D-4742-42DB-804C-7F75BA2D237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BBA2-DB19-415B-98EA-7D4B6A03E2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06869-390E-4B69-BF81-D1BCB8827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446A2-5FB9-4F80-B9A7-7D94F54E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D2BDB-7C56-4006-B81A-D413D3FB5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C5DBA-EA4C-4470-A85F-B78097A79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52C9E-857B-483A-B576-11973491D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E213D-A6A0-413D-A0E7-8305A8978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D632-27F7-4CCB-8792-CECBAFE74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1E406-E20B-46E2-8870-3C3A2CBDB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DAC82-B42D-44BE-90E0-32A828C03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8377-5898-4654-BFB7-4AF4B5BAD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B4237-D036-48AC-968A-45765A543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8D1B9-991C-4ADD-8127-83BE7A986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3526-BC33-4E9A-A130-53C15709BA45}"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11EC-22D7-46B5-84DB-796383A07C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eremy Bentham</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2 – 14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11 Jeremy Bentham.bmp"/>
          <p:cNvPicPr/>
          <p:nvPr/>
        </p:nvPicPr>
        <p:blipFill>
          <a:blip r:embed="rId2"/>
          <a:stretch/>
        </p:blipFill>
        <p:spPr>
          <a:xfrm>
            <a:off x="7451640" y="22320"/>
            <a:ext cx="1657440" cy="23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7"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política social tendiente a promover la mayor felicidad para un mayor número de personas, no tiene que justificarse en relación con algún individuo o grupo específico, aun cuando, en principio, pretenda traer el bienestar al mayor número posible (oposición a políticas públicas focalizada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entham rechaza el concepto de bienes absolutos o de verdades evidentes, porque pretende defender la realización individu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in embargo, la administración social dedicada a mejorar científicamente el bienestar general, bien puede tomar precedencia sobre reclamaciones individuales de derech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uestión es más significativa cuando se comprende que la tradición liberal moderna da forma a su pensamiento político tratando de lograr un equilibrio adecuado entre la intervención y la no intervención de la acción gubernamental en las vidas de los ciudadanos. </a:t>
            </a:r>
            <a:endParaRPr b="0" lang="en-US" sz="2200" spc="-1" strike="noStrike">
              <a:solidFill>
                <a:srgbClr val="000000"/>
              </a:solidFill>
              <a:latin typeface="Calibri"/>
            </a:endParaRPr>
          </a:p>
          <a:p>
            <a:pPr marL="339480" indent="-339480" algn="just">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quieren gran importancia las preguntas acerca de la esfera apropiada y los límites de toda regulación gubernamental. </a:t>
            </a:r>
            <a:endParaRPr b="0" lang="en-US" sz="20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3F5A-AC7E-4DF9-93EC-811EB1EE26A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4948-5ED5-4D43-9BF8-56DA0F0F1F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
          <p:cNvSpPr txBox="1"/>
          <p:nvPr/>
        </p:nvSpPr>
        <p:spPr>
          <a:xfrm>
            <a:off x="179280" y="836280"/>
            <a:ext cx="8507520" cy="52894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creyó que la mejora social fuese cuestión arc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jor alimento, mejores condiciones sanitarias, mejor educación, mayor igualdad de oportunidades: éstas son las sencillas condiciones, obviamente deseables, que según Bentham constituían la </a:t>
            </a:r>
            <a:r>
              <a:rPr b="1" lang="es-CL" sz="2400" spc="-1" strike="noStrike">
                <a:solidFill>
                  <a:srgbClr val="000000"/>
                </a:solidFill>
                <a:latin typeface="Calibri"/>
              </a:rPr>
              <a:t>condición necesaria de la felicidad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reen ustedes que lo anterior es as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1458-7486-4958-8FE1-38470260C1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
          <p:cNvSpPr txBox="1"/>
          <p:nvPr/>
        </p:nvSpPr>
        <p:spPr>
          <a:xfrm>
            <a:off x="179280" y="836280"/>
            <a:ext cx="8507520" cy="528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ndividuos, en la prosecución de su felicidad, no necesariamente ven armonizados sus intereses y acciones, de hecho, de hecho surgir pueden conflicto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onces la acción legislativa y de gobierno consiste en procurar que tales búsquedas individuales se armonicen y se disminuya la posibilidad de conflict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78AD-1DDB-4897-9E14-FC1C3069BFE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
          <p:cNvSpPr txBox="1"/>
          <p:nvPr/>
        </p:nvSpPr>
        <p:spPr>
          <a:xfrm>
            <a:off x="178920" y="836280"/>
            <a:ext cx="8713800" cy="5289480"/>
          </a:xfrm>
          <a:prstGeom prst="rect">
            <a:avLst/>
          </a:prstGeom>
          <a:noFill/>
          <a:ln w="0">
            <a:noFill/>
          </a:ln>
        </p:spPr>
        <p:txBody>
          <a:bodyPr anchor="t">
            <a:normAutofit fontScale="91000"/>
          </a:bodyPr>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Bentham se percata que el placer inmediato no puede servir para elaborar una teoría que justifique la moral social, pues el hedonismo del presente, regularmente da pie a conflictos y contrasentidos. </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hedonista, aplicado dentro del marco referencial de la sociedad, y poseyendo como horizonte el largo plazo, conduce a la integración y armonización de los placeres y dolores.</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meta consiste en promover la mayor felicidad posible para el mayor número posible de individuos (bien común).</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acuerdo a los psicólogos el principio de asociación conduce del hedonismo psicológico al hedonismo ético:</a:t>
            </a:r>
            <a:endParaRPr b="0" lang="en-US" sz="2300" spc="-1" strike="noStrike">
              <a:solidFill>
                <a:srgbClr val="000000"/>
              </a:solidFill>
              <a:latin typeface="Calibri"/>
            </a:endParaRPr>
          </a:p>
          <a:p>
            <a:pPr lvl="1" marL="676080" indent="-2599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i="1" lang="es-CL" sz="2000" spc="-1" strike="noStrike">
                <a:solidFill>
                  <a:srgbClr val="000000"/>
                </a:solidFill>
                <a:latin typeface="Calibri"/>
              </a:rPr>
              <a:t>Pronto el individuo llega a asociar el placer en vez del dolor con aquellas acciones que conducen a la meta de la comunidad: el mayor placer para el mayor número de personas.</a:t>
            </a:r>
            <a:endParaRPr b="0" lang="en-US" sz="20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acciones que llamamos buenas tienden a incrementar el placer mientras las llamadas malas lo disminuyen. </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que debemos hacer lo bueno y no lo malo, nuestra obligación es efectuar aquellas acciones promotoras de la mayor felicidad.</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D956-7CA9-4FB6-9EA2-1E98B5BBB3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
          <p:cNvSpPr txBox="1"/>
          <p:nvPr/>
        </p:nvSpPr>
        <p:spPr>
          <a:xfrm>
            <a:off x="457200" y="836280"/>
            <a:ext cx="8229600" cy="528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un Administrador Público o un Politólogo, a través de su ejercicio profesional, logar esclarecer las siguientes problemática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ómo saber si nuestro acto beneficiará al mayor número posible de personas?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caso el criterio de lo placentero o de la felicidad exactamente el mismo para todos?</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opin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2"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la costumbre y el hábito son defensores del prejuicio irracional, hay que buscar el antídoto en la consciente </a:t>
            </a:r>
            <a:r>
              <a:rPr b="0" i="1" lang="es-CL" sz="2400" spc="-1" strike="noStrike">
                <a:solidFill>
                  <a:srgbClr val="000000"/>
                </a:solidFill>
                <a:latin typeface="Calibri"/>
              </a:rPr>
              <a:t>aplicación del principio de utilidad a las acciones y la legislación</a:t>
            </a:r>
            <a:r>
              <a:rPr b="0" lang="es-CL"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s posible sacudir a los miembros de la sociedad para que abandonen su irreflexiva condición y enseñanza, bajo los auspicios del principio de utilidad, que empleen el cálculo de ventajas y de desventajas, quedará claro que la gran mayoría es perfectamente capaz de regulars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a misma mayoría mostrará ser capaz de alterar su conducta para mantenerse en armonía con unas condiciones sociales en evolución. </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14B2-F090-4F3F-B58B-5300EB5A21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5"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emisa unificadora de su obra es el principio de utilidad: </a:t>
            </a:r>
            <a:endParaRPr b="0" lang="en-US" sz="24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Es el principio que aprueba o desaprueba toda acción, según la tendencia que parezca tener a aumentar o disminuir la felicidad de la parte cuyo interés está en juego, digo de cualquier acción y por tanto no sólo de cada acción de un individuo particular, sino de cada medida de gobierno".</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s sancionado por la naturaleza, ya que "la naturaleza ha colocado a la humanidad bajo el gobierno de dos amos soberanos, el dolor y el plac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llos pueden indicar lo que debemos hacer, además de determinar lo que harem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rtante observar que los amos soberanos: el placer y el dolor, no sólo determinan lo que en realidad hacemos; también nos muestran lo que debemos hacer, son los resortes de la a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4406-A0BA-4DA7-A67C-BFDE3E1BDD9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8"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xpresa sencilla y directamente una cadena de razonamientos que, en sus detalles, es complicada y extensa. Ofrece una guía breve para orientar correctamente todo marco mental individua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La comunidad es un cuerpo ficticio, compuesto por las personas particulares que, según se considera, constituyen por decirlo así sus miembr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Entonces, el interés de la comunidad: es la suma de los intereses de los diversos miembros que la componen".</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Bentham, toda acción racional es una acción que está de conformidad con el principio de utili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que acepten esto se someterán voluntariamente a las leyes prevalecientes mientras estén formadas con referencia a la utilidad (que no se identifican simplemente con sus deseos personales), y las critican en la medida en que no lo están.</a:t>
            </a: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2025-D641-483B-847D-3418C63826D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1"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decirse que un hombre es partidario del principio de utilidad cuando su aprobación o desaprobación de alguna acción, o de alguna medida, está determinada —y proporcionada— por la tendencia que, según concibe, producirá un aumento o una disminución de la dicha de la comunidad.</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xiste nada como una regla de moral, de valor o de ley que sea independientemente recta o verdader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cuenta debe ser determinado mediante el debate de quienes tienen plena conciencia de su compromiso con la observancia del principi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étodo de deliberación consciente y autocrítica es esencial para producir reglas útiles que se eleven por encima de todo partidar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que algún interés de la sociedad exprese los mejores intereses del todo. </a:t>
            </a: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50B1-2F6D-4BB5-9CE5-A6EBE8BBDE1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4"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quiere mostrar que la cura de la anarquía moral no es el despotismo, sino la deliberación en cooperativa. Consideró que el compromiso consciente con el principio de utilidad era el único medio de alcanzar finalmente unos acuerdos sostenibles sustancios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negó la posibilidad del derecho natural o la ley natural, Bentham supuso que tras todos los llamados a ellos había unos intereses egoístas, bien o mal disimulad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r los derechos por su utilidad significa medir el derecho con respecto a los intereses propios, recordando que los intereses propios deben interpretarse en forma benévola o con respecto a la mayor felicidad del mayor númer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debe retener su jurisdicción al definir su propia felicidad, no podemos someternos a una colectividad fictici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se necesitan leyes para mantenernos unidos. </a:t>
            </a: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5AAA-6826-434D-96A0-9284BD7CB84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entham y el utilita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troducción.</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aturaleza Human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lic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io de util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ol del legislador.</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ítica a Rousseau.</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ítica al conservadurism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0867-B33B-4DEF-8963-688F56E395D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7"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íamos actuar de un modo (cumplir la promesa) en que nos gustaría ver que otros también actuar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nsión entre el egoísmo y la consideración a los demás se encuentra en el núcleo del utilitarismo y no puede resolverse apelando a un trascendental deber moral por sí so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os utilitaristas, hay que sopesar las consecuencias siempre que surge una pugna entre diversos cursos de acción posib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utilidad es el único principio moral válido, 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s pues el principio moral id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9CBA-3C1C-4448-8C09-3B9130E44C7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0"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considera a la ley como un mecanismo para asegurar que cada cual podrá perseguir sus propios fines sin detrimento para sus semejant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os grandes conclusiones se desprenden de la ética utilitaria:</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iertos aspectos todas las personas sienten anhelos de felicidad igualmente poderoso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ayor felicidad sólo puede alcanzarse si las condiciones permanecen estables.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la felicidad debe asegurar la mayor cantidad posible de esta última para la mayor cantidad posible de individu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xigiría que los legisladores obrasen siempre con suma presciencia, sobre la base de un conocimiento absoluto. Pero, esta suposición no es muy sólida" (B. Russell).</a:t>
            </a: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A1D2-915E-46DC-A90B-E987999F13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3"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spiración fundamental de cada quien a la felicidad es idéntica a la aspiración fundamental de legislación, interpretada como se deb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 Bentham trata de especificar la relación que hay entre la ética privada y los deberes legales. El arte de la legislación consiste en saber cuándo no legislar y cuándo hacer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Bentham se niega a apelar a reglas eternas o inmutables de derecho, el único fin para los legisladores debe consistir en garantizar los placeres y la seguridad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política y legislación debe ser explicable por el principio de uti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dado que este principio es comprensible a todos, todos pueden evaluar críticamente toda legislación. </a:t>
            </a: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97E2-D8D5-4F4E-987F-F387FF1B8E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6" name=""/>
          <p:cNvSpPr txBox="1"/>
          <p:nvPr/>
        </p:nvSpPr>
        <p:spPr>
          <a:xfrm>
            <a:off x="178920" y="76500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elucida principios para guiar la renovación y transformación de la política y la sociedad por medio de una legislación científicamente planead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creía que estaba haciendo una cruzada para destruir el "prejuicio" e instalar el espíritu crítico en la sociedad.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stumbre y la tradición serían culpables mientras no demostrasen que eran inocentes, emancipando así a la humanidad de las modas y costumbres debidas al azar, que acaso empezaran inadvertidamente pero que ahora se habían convertido en intereses creados de unos cuantos, a expensas de los demá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ideró que el estado de cosas contemporáneo no era más que un conglomerado de principios y de prácticas conflictivos e indefensos en que no se podía distinguir lo racional de lo irracional. </a:t>
            </a: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4070-2426-4AB5-876F-46CF7AA029D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9"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se propuso decir directamente a los individuos lo que debían hacer; intentó, en cambio, guiar sus cálculos en direcciones prometedoras, de acuerdo con leyes que promoviesen la mayor felicidad del mayor núme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creía que simplemente se podía dictar la felicidad de ot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conoció que el orden impuesto por la legislación favorecería la mejora de actitudes y procedimientos en las relaciones entre los individuos, pero no trató simplemente de dictar las actitudes y los motivos person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yó que esto variaría una enormidad entre los distintos individuos y circunstancias históricas.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8198-64B9-4427-8828-24E0C102D7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22" name=""/>
          <p:cNvSpPr txBox="1"/>
          <p:nvPr/>
        </p:nvSpPr>
        <p:spPr>
          <a:xfrm>
            <a:off x="179280" y="691920"/>
            <a:ext cx="878544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obstante, la legislación reformista de la índole de Bentham afectaría inevitablemente las creencias y los hábitos personales de conducta, facilitando a unos y dificultando a otros el persistir en sus modos habitual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mismo de la mayor felicidad para el mayor número implicaba que ciertas felicidades personales no quedarían y en realidad no deberían quedar satisfecha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enes ejercen las facultades de un cargo de gobierno no tienen otra sabiduría que la de cada ser humano que comprende la economía de la naturaleza soberana y puede aprender las lecciones de la experiencia con las disposiciones prevalecient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ofrece un modelo de pensamiento racional para el legislador: el valor de un placer o un dolor está relacionado directamente con su intensidad, duración, certeza, inmediatez, fecundidad, pureza y el número de personas que en realidad afecta.</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3EAA-BD21-44FC-B2A0-CC1E204B3FE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 Rousseau</a:t>
            </a:r>
            <a:endParaRPr b="0" lang="en-US" sz="3400" spc="-1" strike="noStrike">
              <a:solidFill>
                <a:srgbClr val="000000"/>
              </a:solidFill>
              <a:latin typeface="Calibri"/>
            </a:endParaRPr>
          </a:p>
        </p:txBody>
      </p:sp>
      <p:sp>
        <p:nvSpPr>
          <p:cNvPr id="125"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rechaza la "voluntad general" de Rousseau.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el autor, una "voluntad general" es una forma moderna del antiguo intento por imponer la "virtud" a los hombres, a expensas de su felicidad como ellos la interpret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bligar a los hombres a ser libres" es, según Bentham, una contradicción inadmisible que surge de la incapacidad de la teoría del contrato social para ofrecer un fundamento adecuado al ejercicio de la autoridad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l contrato social presupone un compromiso anterior de cumplir las propias promesas (como en convenir en abandonar el estado de naturaleza y obedecer a un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no es el contrato el que crea el cumplimiento de las promesas, sino el cumplimiento de las promesas el que hace verosímiles los contratos. </a:t>
            </a: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33B0-1450-4CC9-B8AF-33ABF961259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 Rousseau</a:t>
            </a:r>
            <a:endParaRPr b="0" lang="en-US" sz="3400" spc="-1" strike="noStrike">
              <a:solidFill>
                <a:srgbClr val="000000"/>
              </a:solidFill>
              <a:latin typeface="Calibri"/>
            </a:endParaRPr>
          </a:p>
        </p:txBody>
      </p:sp>
      <p:sp>
        <p:nvSpPr>
          <p:cNvPr id="128"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l contrato social expresa una actitud hacia el gobierno que ya debió de existir mucho antes, como hábito de obediencia, adquirido por haber experimentado su uti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sostuvo claramente que la ley con sus sanciones punitivas no crea la libertad, sino que la inhib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justifica a la ley al hacerlo es que con ello aumenta la felicidad gene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Bentham, un orden político racional es aquel en que hay una distinción cada vez más precisa entre lo que es obligatorio y lo que es cuestión de preferencia priv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rden no tiene que depender de unas extensas obligaciones legales sino, antes bien, de la seguridad de que las obligaciones que existen, puedan ser defendidas aparte de todo interés especial (imperio y respeto de la le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C159-29D7-4270-920A-64B8F6CAE95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l conservadurismo</a:t>
            </a:r>
            <a:endParaRPr b="0" lang="en-US" sz="3400" spc="-1" strike="noStrike">
              <a:solidFill>
                <a:srgbClr val="000000"/>
              </a:solidFill>
              <a:latin typeface="Calibri"/>
            </a:endParaRPr>
          </a:p>
        </p:txBody>
      </p:sp>
      <p:sp>
        <p:nvSpPr>
          <p:cNvPr id="131" name=""/>
          <p:cNvSpPr txBox="1"/>
          <p:nvPr/>
        </p:nvSpPr>
        <p:spPr>
          <a:xfrm>
            <a:off x="178920" y="765000"/>
            <a:ext cx="8713800" cy="5616720"/>
          </a:xfrm>
          <a:prstGeom prst="rect">
            <a:avLst/>
          </a:prstGeom>
          <a:noFill/>
          <a:ln w="0">
            <a:noFill/>
          </a:ln>
        </p:spPr>
        <p:txBody>
          <a:bodyPr anchor="t">
            <a:normAutofit fontScale="96000"/>
          </a:bodyPr>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reyó que hay juicios mejores y juicios peores: aquellos que son racionales porque están informados por la ciencia, y aquellos que son irracionales porque son gobernados por el simple prejuicio.</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 esfera del juicio siempre puede haber disputa acerca de las decisiones de hacer una cosa en lugar de otra, pero nadie negará la superioridad del juicio científicamente informado: </a:t>
            </a:r>
            <a:endParaRPr b="0" lang="en-US" sz="2200" spc="-1" strike="noStrike">
              <a:solidFill>
                <a:srgbClr val="000000"/>
              </a:solidFill>
              <a:latin typeface="Calibri"/>
            </a:endParaRPr>
          </a:p>
          <a:p>
            <a:pPr lvl="1" marL="713160" indent="-2743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Hay que inclinarse ante el prejuicio y la más ciega costumbre; pero no tienen por qué ser los únicos árbitros y guías. El que ataca el prejuicio por capricho y sin necesidad, y el que a ciegas se deja someter por él, han abandonado, por igual, la línea de la razón.</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tensión entre costumbre y tradición, por una parte, y el progreso científico, se encuentra en el núcleo del debate político modern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oposición entre conservadores y progresistas se resuelve en favor del progreso por Bentham: la búsqueda científicamente formada de la felicidad, se justifica porque aún no se ha encontrado un límite empíricamente demostrado a la realización o a la mejora de la humanidad. </a:t>
            </a:r>
            <a:endParaRPr b="0" lang="en-US" sz="22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989A-9AB8-4660-879A-6584E2B93B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eremy Bentham</a:t>
            </a:r>
            <a:endParaRPr b="0" lang="en-US" sz="4000" spc="-1" strike="noStrike">
              <a:solidFill>
                <a:srgbClr val="000000"/>
              </a:solidFill>
              <a:latin typeface="Calibri"/>
            </a:endParaRPr>
          </a:p>
        </p:txBody>
      </p:sp>
      <p:sp>
        <p:nvSpPr>
          <p:cNvPr id="13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2 – 14 de octubre de 2010</a:t>
            </a:r>
            <a:endParaRPr b="0" lang="en-US" sz="2000" spc="-1" strike="noStrike">
              <a:solidFill>
                <a:srgbClr val="000000"/>
              </a:solidFill>
              <a:latin typeface="Calibri"/>
            </a:endParaRPr>
          </a:p>
        </p:txBody>
      </p:sp>
      <p:pic>
        <p:nvPicPr>
          <p:cNvPr id="135" name="Picture 5" descr="escuela de gobierno y gestión pública"/>
          <p:cNvPicPr/>
          <p:nvPr/>
        </p:nvPicPr>
        <p:blipFill>
          <a:blip r:embed="rId1"/>
          <a:stretch/>
        </p:blipFill>
        <p:spPr>
          <a:xfrm>
            <a:off x="0" y="0"/>
            <a:ext cx="2371680" cy="933480"/>
          </a:xfrm>
          <a:prstGeom prst="rect">
            <a:avLst/>
          </a:prstGeom>
          <a:ln w="0">
            <a:noFill/>
          </a:ln>
        </p:spPr>
      </p:pic>
      <p:pic>
        <p:nvPicPr>
          <p:cNvPr id="136" name="6 Imagen" descr="11 Jeremy Bentham.bmp"/>
          <p:cNvPicPr/>
          <p:nvPr/>
        </p:nvPicPr>
        <p:blipFill>
          <a:blip r:embed="rId2"/>
          <a:stretch/>
        </p:blipFill>
        <p:spPr>
          <a:xfrm>
            <a:off x="7521480" y="22320"/>
            <a:ext cx="1587600" cy="225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56" name=""/>
          <p:cNvSpPr txBox="1"/>
          <p:nvPr/>
        </p:nvSpPr>
        <p:spPr>
          <a:xfrm>
            <a:off x="178920" y="90792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ació el 15 de febrero de 1748 en Londres y muere en 1832, lo que lo convierte en maduro contemporáneo de los sucesos revolucionarios del siglo XVIII y XIX.</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stituye los conceptos de derecho natural y contrato social por el de utili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nsaba que la política podía regirse por la razón y esperaba que las opiniones de los hombres fueran determinadas por el peso de la evidenci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ice, en un lenguaje que parece anticipar a Marx, que las moralidades sentimentales y ascéticas sirven los intereses de la clase gobernante y son el producto de un régimen aristocrático.</a:t>
            </a:r>
            <a:endParaRPr b="0" lang="en-US" sz="2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A0D2-ECB0-4B9D-9D68-D5214F9460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59" name=""/>
          <p:cNvSpPr txBox="1"/>
          <p:nvPr/>
        </p:nvSpPr>
        <p:spPr>
          <a:xfrm>
            <a:off x="178920" y="98100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parece haber pensado que, por medio de la democracia combinada con una adecuada supervisión, cabría controlar a los legisladores de tal suerte que sólo pudieran promover sus intereses privados siendo útiles al público general.</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Bentham los principios que mueven al mundo son el placer y el dolor.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mbres buscan la felicidad, y el objeto del gobierno es proporcionar a los hombres las condiciones en las que puedan buscar la felicidad, empleando las amenazas de dolor y la promesa de felicidad.</a:t>
            </a:r>
            <a:endParaRPr b="0" lang="en-US" sz="26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D938-5457-4F5B-B15A-AE80C84FFD6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C1E3-9FBB-40D2-99DC-864790636A6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
          <p:cNvSpPr txBox="1"/>
          <p:nvPr/>
        </p:nvSpPr>
        <p:spPr>
          <a:xfrm>
            <a:off x="457200" y="836280"/>
            <a:ext cx="8229600" cy="52894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aturaleza colocó al ser humano bajo la gobernanza de dos dueños soberanos: dolor y placer.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or ellos sólo que sabemos lo que debemos hacer, tanto como lo que haremos.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un modo apreciado, la norma del bien y del dolor (mal) y, del otro, la relación de causa-efecto, son atados a su trono (de la gobernanza del placer y del dolor).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s dirigen en todo lo que hacemos, lo que decimos y aquel en lo que pensamos: todos los esfuerzos que hacemos para desembarazarnos de esta sumisión, nos servirá sólo para demostrar y confirmar este hecho.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5" name=""/>
          <p:cNvSpPr txBox="1"/>
          <p:nvPr/>
        </p:nvSpPr>
        <p:spPr>
          <a:xfrm>
            <a:off x="178920" y="76500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creía que la condición humana, inevitablemente, tiene que mejorar mediante la simple proliferación del conocimiento en el sentido de información enciclopédica, aunada a principios abstractos para clasificar la información y ponerla a funcionar reformando a la socie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desconfiaba de la experiencia heredada y de los rasgos del orden político defendidos apelando a la aceptación tradicional.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gún él, depender de la práctica pasada era señal de ignoranci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antídoto de la ignorancia consistía en informarse bien.</a:t>
            </a:r>
            <a:endParaRPr b="0" lang="en-US" sz="26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32F7-AA77-4902-A157-7D3C706D3B3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8"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osible estar bien informado, porque la base universal de la acción humana puede discernirse en todo lo que hace y dice la gent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deseó traducir la significación de las acciones en unos cálculos explícitos de los placeres y los dolores que acompañan esas acciones, para aconsejar a la gente sobre lo adecuado de los medios que haya escogido para ser feliz.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odemos juzgar las acciones aparte de sus consecuencias, o evaluar con independencia los méritos de las experiencias que la gente considera placenter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ve un método científico capaz de estipular la satisfacción espiritua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 posible hacer buenos o felices a los hombr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sí es posible planear unas mejoras de condiciones materiales que de otra manera pueden apartarse del sentido de bienestar.</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C25C-A196-4F10-AD55-5E580A42814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738A-FD23-4BDD-9232-415440C6CE2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179280" y="836280"/>
            <a:ext cx="8507520" cy="5289480"/>
          </a:xfrm>
          <a:prstGeom prst="rect">
            <a:avLst/>
          </a:prstGeom>
          <a:noFill/>
          <a:ln w="0">
            <a:noFill/>
          </a:ln>
        </p:spPr>
        <p:txBody>
          <a:bodyPr anchor="t">
            <a:normAutofit fontScale="96000"/>
          </a:bodyPr>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iedra angular del pensamiento de Bentham es el denominado hedonismo psicológico.</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seres humanos se orientan al actuar por la evitación del dolor y el acercamiento a lo placentero y agradable.</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formular el hedonismo psicológico, como móvil fundamental de la acción, lo expuso así:</a:t>
            </a:r>
            <a:endParaRPr b="0" lang="en-US" sz="2400" spc="-1" strike="noStrike">
              <a:solidFill>
                <a:srgbClr val="000000"/>
              </a:solidFill>
              <a:latin typeface="Calibri"/>
            </a:endParaRPr>
          </a:p>
          <a:p>
            <a:pPr lvl="1" marL="713160" indent="-27432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	</a:t>
            </a:r>
            <a:r>
              <a:rPr b="0" i="1" lang="es-CL" sz="1800" spc="-1" strike="noStrike">
                <a:solidFill>
                  <a:srgbClr val="000000"/>
                </a:solidFill>
                <a:latin typeface="Calibri"/>
              </a:rPr>
              <a:t>La naturaleza ha colocado a la humanidad bajo el gobierno de dos señores soberanos, el dolor y el placer... Ambos nos gobiernan en todo lo que hacemos, en todo lo que decimos: cualquier esfuerzo que hagamos para librarnos de nuestra sujeción a ellos, no hará sino demostrarla y confirmarla. De palabra, el hombre puede pretender que abjura de su imperio; en realidad, permanecerá siempre sujeto a él.</a:t>
            </a:r>
            <a:endParaRPr b="0" lang="en-US" sz="18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ignifica que los actos llevados a cabo por los seres humanos están dominados por el interés de evitar el dolor y buscar lo agradable y placentero.</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ien (felicidad) de una sociedad es la suma de la felicidad de los individuos en esta socie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4"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elicidad humana no puede determinarse por referencia a un bien objetivo o a derechos naturales como los que fueron proclamados en la Declaración de Independencia de los Estados Unidos o en la Declaración de los Derechos del Hombre y del Ciudadano, en Fra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bjetivo de alcanzar la mayor felicidad del mayor número no significa que se privilegie la felicidad particular de algui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muy probable que, en la práctica, este principio conduzca a unas políticas según las cuales algunas ideas de felicidad serán sistemáticamente depreciad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pendiendo del caso y de cada punto de vista, la negativa de cualquier felicidad particular puede parecer buena o mala.</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5F38-E34A-426A-AE56-3E45F3538DC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15T13:38:30Z</dcterms:modified>
  <cp:revision>537</cp:revision>
  <dc:subject/>
  <dc:title>HISTORIA DEL PENSAMIENTO POLÍTICO</dc:title>
</cp:coreProperties>
</file>