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BD12-DB3F-4609-BED6-C5437E8685A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EC338-DC07-408C-B3E9-CC005183BA6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EDC7-C53E-4922-8271-86D0B76C8EF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B128-288F-4611-9184-5AA53E60327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39DC-C469-4C7E-AA2F-AB2ADF5F1AE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C17B-4CBC-4F28-B88F-4A59B0427C5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FC15-8023-418F-8984-E3B486FD8DA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5063-FF3C-4C90-AA69-C132A99A30E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84151-1656-4EA4-B571-00A829EEAA3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E0C4-3293-4C90-ADAB-1CD1EACCC1F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2DF3D-73DF-4163-B63F-CFEEBBDFA29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16CD-D592-47A3-95CB-E334D4C5D0E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3BF0-1F16-4F73-9AC4-D3C191575AD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7A19-A38E-4E27-90F3-6B5F2C1E0AB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5F08-D392-4FF9-A8AA-43499CA8F5E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1098-832C-4862-A5D7-E0C21429398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CF298-615C-4BC1-92D3-C6D6A8CFDEB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27BE-3456-4FA0-9FB7-074AE7BC2F8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3E2A-F92B-4E2C-8CC1-BCDE2C35E39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0CAD-B459-4FAF-87AE-F0EAD45170E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AFF9-97DE-4A23-AF27-AD74A37283C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2B54F-76D0-4DFD-A377-0AE2EB590BC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0E86-C897-4D73-A4D3-9F0F61E968C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5BA5-C72A-4670-AE06-68538364F77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E8EC-441B-4DD9-8372-38107479121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12CA-E6F3-492B-ACB8-5262C94219E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39A32-A302-4A2B-B7D0-2E58200A4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9CF4F-B8B3-4016-B162-47CBD801B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0D4A6-4429-4E30-9F70-FC0D708ED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8E60C-8FB8-4EA2-BE48-8FA027421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CFA8A-0C47-46F6-9D84-7514CCD15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F2285-25B4-44B9-BED7-0D93919FD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CA9E9-840A-4685-A63F-88343D0DD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CF800-14A5-47AE-885D-13C601A2D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CA5CA-E9C9-4F06-A5F1-C856EC2EF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9826D-BF52-4E98-A2CC-E4BEF23BC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FE0F2-8D48-416F-BFBF-1BED3AD82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E66D4-497B-4208-890D-B235CA7B8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446F-FDAA-49CF-87F0-7E6B4F959EB7}" type="datetime">
              <a:rPr b="0" lang="es-C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9830-2D46-437C-A441-7C3ABE1A609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Edmund Burk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1 – 06 de octu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5 Imagen" descr="10 Edmund Burke.bmp"/>
          <p:cNvPicPr/>
          <p:nvPr/>
        </p:nvPicPr>
        <p:blipFill>
          <a:blip r:embed="rId2"/>
          <a:stretch/>
        </p:blipFill>
        <p:spPr>
          <a:xfrm>
            <a:off x="7534440" y="115920"/>
            <a:ext cx="1430280" cy="218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77" name=""/>
          <p:cNvSpPr txBox="1"/>
          <p:nvPr/>
        </p:nvSpPr>
        <p:spPr>
          <a:xfrm>
            <a:off x="250920" y="836640"/>
            <a:ext cx="8642160" cy="56167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mbio "la más poderosa ley de naturaleza”.</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lo que podemos hacer, y lo que puede hacer la sabiduría humana, es velar porque el cambio proceda mediante </a:t>
            </a:r>
            <a:r>
              <a:rPr b="0" i="1" lang="es-CL" sz="2400" spc="-1" strike="noStrike">
                <a:solidFill>
                  <a:srgbClr val="000000"/>
                </a:solidFill>
                <a:latin typeface="Calibri"/>
              </a:rPr>
              <a:t>grados insensibles</a:t>
            </a:r>
            <a:r>
              <a:rPr b="0" lang="es-CL" sz="2400" spc="-1" strike="noStrike">
                <a:solidFill>
                  <a:srgbClr val="000000"/>
                </a:solidFill>
                <a:latin typeface="Calibri"/>
              </a:rPr>
              <a:t>.</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haber cambio, pero los hombres deben cuidar de que proceda por grados insensible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mbio insensible puede ser cambio legal, porque no pone en entredicho las leyes o la constitución establecida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puede legalizar el cambi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iega que el movimiento tenga que ser violento o revolucionari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opone a las pretensiones históricas que quisieran derrocar el poder establecido, y se muestra escéptico ante la investigación histórica que quisiera confirmarl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F08F-9F0B-4F4B-96B6-6740A952AA1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80"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gobiernos deben considerar la sabiduría de una reforma adecuada, efectuada a tiemp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tempranas son arreglos amistosos con un amigo que detenta el pode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tardías son términos impuestos al enemigo conqui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oportunas se hacen apaciblemente, en tanto que las reformas tardías se imponen en estado de irrit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al gobierno le interesa que las reformas sean hechas a tiempo, al pueblo le interesa que ellas sean llevadas a cabo apaciblement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hechas con moderación son permanentes, y encierran un principio de crecimiento (cambio increment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DF69-915F-4594-B700-D32E75BFB34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83" name=""/>
          <p:cNvSpPr txBox="1"/>
          <p:nvPr/>
        </p:nvSpPr>
        <p:spPr>
          <a:xfrm>
            <a:off x="250920" y="981000"/>
            <a:ext cx="864216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iscordancia no produce contradicción social.</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iscordancia produce una armonía que debe mucho más a la experiencia de los seres vivos que están unidos en libertad, que a un pensamiento afín o que sostiene ciertos principios comunes (en contra, por ejemplo, de una conciencia de clase).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mejante orden es complicado; consiste en nunca afirmar o negar directamente cualquier pretensión de justicia que requiriese un ordenamiento particular de la sociedad.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y que llegar a un acuerdo con estas pretensiones, pero no descubriendo un principio que mantenga lo que es cierto en cada pretensión, como en el régimen mixto clásic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acuerdo más seguro y prudente resultará de desviar las pretensiones de derecho a cuestiones de conveniencia, de modo que "toda la organización del gobierno se vuelve consideración de conveniencia".</a:t>
            </a: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4393-23E3-4ED9-A829-D1CA0A38767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86"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es un contra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ontratos menores que involucran objetos de mero interés ocasional pueden disolverse a volunt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considerarse al Estado como un acuerdo entre socios para el comerci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ser considerado con mucho respeto, porque es una asociación que va mucho más allá de la simple existencia animal de cosas temporales y perecib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asociación que abarca toda ciencia, todo arte y toda perfe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los fines de una asociación así no pueden lograrse sino en muchas generaciones, pasa a ser una asociación no solamente entre seres vivos, sino entre aquellos que están vivos, los que están muertos y aquellos que están por nace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17C0-2CF2-4C25-BF04-ECD13FD2AB2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89"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ún hombre puede gobernarse a sí mismo según su propia voluntad; menos aún puede ser gobernado por una voluntad aje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nacimos sometidos, tanto los de clase alta como media y baja, tanto los gobernantes como los gobernad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estamos sujetos a una ley preexistente, grande e inmutable, anterior, que es superior a todas nuestras ideas y sensa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anterior a nuestra existencia misma, que nos une y relaciona a las estructuras eternas del universo, al margen de las cuales no se puede existi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gran ley no surge de convenciones o convenios, no surge de vanas institu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E2BD-909E-4051-BFE4-FE7BF1450A9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92" name=""/>
          <p:cNvSpPr txBox="1"/>
          <p:nvPr/>
        </p:nvSpPr>
        <p:spPr>
          <a:xfrm>
            <a:off x="250920" y="692280"/>
            <a:ext cx="8642160" cy="590544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tienen tiene derecho a una parte equitativa de todo aquello que la sociedad pueda ofrecerle, gracias a todas sus posibilidades de conocimientos y fuerza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una asociación así, todos los tienen derechos iguales, aunque no a las mismas cosa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uanto a la distribución del poder, de la autoridad y dirección que cada individuo debería tener en la administración del Estado, ese derecho no está incluido entre los derechos originales del hombre en una sociedad civil.</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la sociedad civil es el resultado de un convenio, ese convenio deberá ser su ley.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rá limitar y modificar toda descripción de las constituciones que se creen bajo él.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clase de poder, sea legislativo, judicial o ejecutivo, pasa a ser hijo suy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C1DA-B175-4163-9B8D-22E0C1D8CF6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ontrato Social</a:t>
            </a:r>
            <a:endParaRPr b="0" lang="en-US" sz="3400" spc="-1" strike="noStrike">
              <a:solidFill>
                <a:srgbClr val="000000"/>
              </a:solidFill>
              <a:latin typeface="Calibri"/>
            </a:endParaRPr>
          </a:p>
        </p:txBody>
      </p:sp>
      <p:sp>
        <p:nvSpPr>
          <p:cNvPr id="95" name=""/>
          <p:cNvSpPr txBox="1"/>
          <p:nvPr/>
        </p:nvSpPr>
        <p:spPr>
          <a:xfrm>
            <a:off x="250920" y="692280"/>
            <a:ext cx="8642160" cy="590544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sociedad civil, uno de los primeros principios, que pasa a ser una de sus formas fundamentales, es que "ningún hombre puede ser juez de su propia caus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persona ha renunciado al primer derecho fundamental del hombre, cual es de juzgar por sí mismo y fallar su propia caus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bdica de todo derecho a ser su propio gobernante.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bandona en gran medida el derecho a la defensa propia, primera ley de la naturalez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no puede disfrutar a la vez de los derechos de un estado civil y de otro no civi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obtener justicia, renuncia a su derecho a decidir qué es lo esencial para é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asegurarse la libertad, la entrega por enter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mor al lucro, aunque llevado a un exceso ridículo y a veces vicioso, es la gran causa de la prosperidad de todos los Estado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5FCB-B161-4B97-A516-BD7F07BCFFE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ablishment como guardianes de la constitución</a:t>
            </a:r>
            <a:endParaRPr b="0" lang="en-US" sz="3200" spc="-1" strike="noStrike">
              <a:solidFill>
                <a:srgbClr val="000000"/>
              </a:solidFill>
              <a:latin typeface="Calibri"/>
            </a:endParaRPr>
          </a:p>
        </p:txBody>
      </p:sp>
      <p:sp>
        <p:nvSpPr>
          <p:cNvPr id="98" name=""/>
          <p:cNvSpPr txBox="1"/>
          <p:nvPr/>
        </p:nvSpPr>
        <p:spPr>
          <a:xfrm>
            <a:off x="250920" y="692280"/>
            <a:ext cx="8642160" cy="5905440"/>
          </a:xfrm>
          <a:prstGeom prst="rect">
            <a:avLst/>
          </a:prstGeom>
          <a:noFill/>
          <a:ln w="0">
            <a:noFill/>
          </a:ln>
        </p:spPr>
        <p:txBody>
          <a:bodyPr anchor="t">
            <a:normAutofit fontScale="89000"/>
          </a:bodyPr>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las constituciones deben desarrollarse, sus establishment las preservan de la simple fluidez y del cambio violento. Los "establishments de la constitución británica se encargan, en el pensamiento de Burke, de esas formas constitucionales y formalidades que él tiene en tan poca estima. Aportan estabilidad y seguridad, haciendo más lento el flujo de las pasiones y de las ideas y dirigiéndolo mientras gradualmente se establecen en esta tarea.</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blishments de Burke se refieren a clases sociales vistas informalmente, pero difieren al ser plurales y estar ante la mirada pública.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blishments de Burke no son conspiradores unidos para disminuir y aniquilar los derechos formales de un pueblo; antes bien, son las prominencias sociales que resultan del ejercicio real y por fuerza desigual de esos derechos: la Iglesia, los intereses monetarios, la nobleza terrateniente, los militares y hasta la monarquía.</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instituciones están lejos de subvertir la libertad: de hecho, son los únicos medios para asegurarla.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07D8-59F3-4A9D-BE1C-A80001E5B90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ablishment como guardianes de la constitución</a:t>
            </a:r>
            <a:endParaRPr b="0" lang="en-US" sz="3200" spc="-1" strike="noStrike">
              <a:solidFill>
                <a:srgbClr val="000000"/>
              </a:solidFill>
              <a:latin typeface="Calibri"/>
            </a:endParaRPr>
          </a:p>
        </p:txBody>
      </p:sp>
      <p:sp>
        <p:nvSpPr>
          <p:cNvPr id="101" name=""/>
          <p:cNvSpPr txBox="1"/>
          <p:nvPr/>
        </p:nvSpPr>
        <p:spPr>
          <a:xfrm>
            <a:off x="250920" y="692280"/>
            <a:ext cx="8642160" cy="590544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instituciones están lejos de subvertir la libertad: de hecho, son los únicos medios para asegurarl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stitución hecha sólida por los establishments es mantenida por el principio de propiedad, es decir, de propiedad heredada. Cada uno de los establisments es una propiedad, y Burke aclara hasta en el ejemplo de la Iglesia —cuyo propósito superior es consagrar la república y elevar a los hombres por encima del egoísmo— que el ataque de los revolucionarios franceses fue una usurpación de la propiedad.</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propiedad en las eminencias axiales sobrevive y crece no por la razón que justificara su adquisición original, sino por los beneficios que pueden verse en su funcionamiento actual, beneficios que a menudo sólo son discernibles por el ojo de la sabiduría y la experiencia, ya que las apariencias son engañosas y las formas del gobierno libre son compatibles con los fines del gobierno arbitrario, y a la invers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37E7-86DB-4BE1-8E91-F3EE5575011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04"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no se crea en virtud de derechos naturales, que pueden y de hecho existen en forma independiente de é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es una creación de la sabiduría humana para satisfacer las necesidades human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tiene derecho a que esa sabiduría le solucione esas necesidad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re esas necesidades está la necesidad de refrenar adecuadamente sus pasiones, dentro de una sociedad civi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exige no sólo refrenar las pasiones de los individuos, sino que las inclinaciones de la masa también sean dominadas, que su voluntad sea controlada y sus pasiones subyugad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sólo lo puede lograr un poder ajeno a ella, que al ejercitar su función no esté sometido a su voluntad y a esas pasiones que tiene que dominar y subyug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DCF7-5147-4E5C-86A6-55403B0A8CA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Burke y el conservadurismo</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Bitácor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aturaleza human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prudenci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ibertad. </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ambio y tradición.</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contrato social.</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establishment.</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Gobierno y sus formas. </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polític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6D6F8-6DCB-4335-B3FF-90E33A37AB1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07"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el momento en que se elimina alguno de los derechos del hombre a gobernarse a sí mismo y a sufrir alguna limitación artificial de esos derechos, toda la organización del gobierno pasa a ser asunto de convenienc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es lo que hace que el constituir un Estado y distribuir sus poderes exija conocimientos adecuad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ge profundo conocimiento de la naturaleza humana y de las necesidades humanas, y de aquellas cosas que facilitan o dificultan los diversos objetivos que persigue el mecanismo de las instituciones cívic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endo la ciencia de gobernar una ciencia práctica, destinada a fines prácticos, algo que requiere experiencia, no se debe proceder a demoler una institución que ha servido por años los fines de una sociedad, como tampoco se puede reconstruir sin un nuevo modelo de probada util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7D40-6A6A-4043-9057-F9CEC0F431D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10" name=""/>
          <p:cNvSpPr txBox="1"/>
          <p:nvPr/>
        </p:nvSpPr>
        <p:spPr>
          <a:xfrm>
            <a:off x="250920" y="692280"/>
            <a:ext cx="8642160" cy="590544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está en el poder del gobierno el satisfacer las necesidade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ría una vana presunción de los estadistas pensar que podrían lograrl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l pueblo quien los mantiene a ellos y no ellos al puebl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tiene poder para evitar muchos males, pero en ese sentido es poco lo que puede hacer.</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debería limitarse a aquello que concierne al Estado o a las criaturas del Estado: </a:t>
            </a:r>
            <a:endParaRPr b="0" lang="en-US" sz="24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blecimiento exterior de su religión;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su magistratura; a sus entradas;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sus fuerzas militares de mar y tierra;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las corporaciones a que dio origen su fiat. </a:t>
            </a:r>
            <a:endParaRPr b="0" lang="en-US" sz="20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debe limitarse a todo aquello que es verdadera y debidamente público, incluyendo la paz pública, la seguridad y la prosperidad pública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9DDC9-5E70-475C-9082-EE66D748E88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13"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o cree que cada quien tenga un derecho natural, ni que el pueblo sienta el deseo natural de goberna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se contenta con dejar que su sabiduría sea latente, en lugar de afirmarla, y por ello la aristocracia puede ser educada para gobernar sin afirmar su propio carácter distintiv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aristocracia natural" gobierna sin afirmarse a sí misma y, por tanto, sin imponers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sostiene que "las costumbres son de mayor importancia que las ley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que son decisiones formales tomadas por los gobiernos, porque se han hecho de acuerdo con sus formas, dependen de costumbres informales, y no a la invers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D79E-4F5B-4680-8BEF-42F07D6C811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16"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onsiguiente, en todas las formas de gobierno "el pueblo es el auténtico legislador", ya que el pueblo hace sus costu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es el amo"; nosotros los estadistas, dice Burke, "damos a sus deseos su forma perfec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egurar los derechos naturales es "el gran y último propósito de la sociedad civil"; así, todas las formas de gobierno sólo son buenas si sirven al propósito al que están enteramente subordinad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opósito de la sociedad civil es asegurar los derechos naturales que ejercemos diversamente en "la mayor variedad de fin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0C11-65F1-48B6-BE54-79DC9006489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19"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o considera que la democracia sea un régimen posibl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no puede gobernar; es el elemento pasivo, en contraste con los "hombres activos del E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el pueblo pueda ser encabezado por una viciosa oligarquía de alguna índole, debe ser encabezado por una "auténtica aristocracia natural", por ministros que "no sólo son nuestros gobernantes naturales, sino nuestros guías natur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aturaleza ha hecho que los muchos sean incapaces de gobernarse a sí mism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democracia perfecta es Ia cosa más desvergonzada del mundo, porque la parte de responsabilidad de cada cual es tan pequeña que no la siente, y porque la opinión pública que debiera moderar al gobierno no es, en el caso de la democracia, más que la autoaprobación del pueblo. </a:t>
            </a:r>
            <a:endParaRPr b="0" lang="en-US" sz="24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4D556-DA89-4055-A906-7E2DB37C4C5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22" name=""/>
          <p:cNvSpPr txBox="1"/>
          <p:nvPr/>
        </p:nvSpPr>
        <p:spPr>
          <a:xfrm>
            <a:off x="250920" y="692280"/>
            <a:ext cx="8642160" cy="5905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una aristocracia, como ninguna democracia, puede gobernar largo tiemp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alta de este sentido es lo que hace que la democracia, además de desvergonzada, sea imposibl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o fundamental, el gobierno no consiste en regir; consiste en modificar, reformar, equilibrar o ajust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no es alimentado por pretensiones planteadas por demócratas y oligarcas en defensa (y exageración) de su igualdad y la desigualdad para los demá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no pretende regir por su propia voluntad; sólo cuando es inflamado por unos cuantos cree que desea regi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 los aristócratas, aun de ser naturales, son criados para los puestos de eminencia, que aceptan sin tener que exigirlos.</a:t>
            </a: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F521-C6FE-4198-9FC0-42B50B13C9D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olítica</a:t>
            </a:r>
            <a:endParaRPr b="0" lang="en-US" sz="3400" spc="-1" strike="noStrike">
              <a:solidFill>
                <a:srgbClr val="000000"/>
              </a:solidFill>
              <a:latin typeface="Calibri"/>
            </a:endParaRPr>
          </a:p>
        </p:txBody>
      </p:sp>
      <p:sp>
        <p:nvSpPr>
          <p:cNvPr id="125" name=""/>
          <p:cNvSpPr txBox="1"/>
          <p:nvPr/>
        </p:nvSpPr>
        <p:spPr>
          <a:xfrm>
            <a:off x="250920" y="692280"/>
            <a:ext cx="8642160" cy="59054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urke fue el primero en sostener que la conducta con principios en los políticos, inevitablemente debe ser partidarist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artidarismo no sólo en ocasiones es necesario en casos de urgencia, sino que es útil y respetable en el funcionamiento ordinario de la constitución.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artido es la unión de un grupo de individuos que se esfuerzan conjuntamente por promover el interés nacional según un determinado principio sobre el cual están todos de acuerd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e corresponde al político, buscar los medios apropiados para alcanzar metas y ponerlas en práctica.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3B8B-813D-4E07-98AD-6FD9C298284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olítica</a:t>
            </a:r>
            <a:endParaRPr b="0" lang="en-US" sz="3400" spc="-1" strike="noStrike">
              <a:solidFill>
                <a:srgbClr val="000000"/>
              </a:solidFill>
              <a:latin typeface="Calibri"/>
            </a:endParaRPr>
          </a:p>
        </p:txBody>
      </p:sp>
      <p:sp>
        <p:nvSpPr>
          <p:cNvPr id="128" name=""/>
          <p:cNvSpPr txBox="1"/>
          <p:nvPr/>
        </p:nvSpPr>
        <p:spPr>
          <a:xfrm>
            <a:off x="250920" y="692280"/>
            <a:ext cx="8642160" cy="59054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artidarismo es informal y, sin embargo, cuando se hace respetable, ya no tiene que ser oculto ni tener un carácter conspiratorio.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n su fuente en la amistad privada y en los apegos honorables, la lealtad al partido ofrece una medida visible de congruencia en el principio; no abandonar a los amigos se vuelve la marca del patriota.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odo político honorable reconocerá que su objetivo principal es emplear todos los medios lícitos para colocar a los hombres que comparten sus mismas ideas en condiciones de aplicar esas ideas con toda la autoridad y el poder que confiere el Estado.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mo este poder está ligado a ciertas posiciones, su deber es luchar por asegurar esas mismas posiciones.</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D191-2837-4BC8-A28E-C8518AC0A87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Edmund Burke</a:t>
            </a:r>
            <a:endParaRPr b="0" lang="en-US" sz="4000" spc="-1" strike="noStrike">
              <a:solidFill>
                <a:srgbClr val="000000"/>
              </a:solidFill>
              <a:latin typeface="Calibri"/>
            </a:endParaRPr>
          </a:p>
        </p:txBody>
      </p:sp>
      <p:sp>
        <p:nvSpPr>
          <p:cNvPr id="131"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1 – 06 de octubre de 2010</a:t>
            </a:r>
            <a:endParaRPr b="0" lang="en-US" sz="2000" spc="-1" strike="noStrike">
              <a:solidFill>
                <a:srgbClr val="000000"/>
              </a:solidFill>
              <a:latin typeface="Calibri"/>
            </a:endParaRPr>
          </a:p>
        </p:txBody>
      </p:sp>
      <p:pic>
        <p:nvPicPr>
          <p:cNvPr id="132" name="Picture 5" descr="escuela de gobierno y gestión pública"/>
          <p:cNvPicPr/>
          <p:nvPr/>
        </p:nvPicPr>
        <p:blipFill>
          <a:blip r:embed="rId1"/>
          <a:stretch/>
        </p:blipFill>
        <p:spPr>
          <a:xfrm>
            <a:off x="0" y="0"/>
            <a:ext cx="2371680" cy="933480"/>
          </a:xfrm>
          <a:prstGeom prst="rect">
            <a:avLst/>
          </a:prstGeom>
          <a:ln w="0">
            <a:noFill/>
          </a:ln>
        </p:spPr>
      </p:pic>
      <p:pic>
        <p:nvPicPr>
          <p:cNvPr id="133" name="5 Imagen" descr="10 Edmund Burke.bmp"/>
          <p:cNvPicPr/>
          <p:nvPr/>
        </p:nvPicPr>
        <p:blipFill>
          <a:blip r:embed="rId2"/>
          <a:stretch/>
        </p:blipFill>
        <p:spPr>
          <a:xfrm>
            <a:off x="7534440" y="115920"/>
            <a:ext cx="1430280" cy="218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a:t>
            </a:r>
            <a:endParaRPr b="0" lang="en-US" sz="3400" spc="-1" strike="noStrike">
              <a:solidFill>
                <a:srgbClr val="000000"/>
              </a:solidFill>
              <a:latin typeface="Calibri"/>
            </a:endParaRPr>
          </a:p>
        </p:txBody>
      </p:sp>
      <p:sp>
        <p:nvSpPr>
          <p:cNvPr id="56" name=""/>
          <p:cNvSpPr txBox="1"/>
          <p:nvPr/>
        </p:nvSpPr>
        <p:spPr>
          <a:xfrm>
            <a:off x="250920" y="765000"/>
            <a:ext cx="8642160" cy="56167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aturaleza humana es intrincada; los fines de la sociedad son extraordinariamente complejos, por lo que no todas las disposiciones de dirección o poder son apropiadas para la naturaleza del hombre o sus asuntos.</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no tiene derecho a nada que no sea razonable y que no sea para su propio benefici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no dice que en nuestra alma tengamos unas inclinaciones naturales que se realizan en la política; el alma no es tema de Burke.</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poco dice que el hombre es un animal político por naturaleza, de modo que nuestros artificios políticos fuesen la realización de una potencialidad natura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ce, en cambio, que "el hombre es por su constitución [natural] un animal religioso", ya que el ateísmo va contra nuestros instintos así como contra nuestra razón. </a:t>
            </a:r>
            <a:endParaRPr b="0" lang="en-US" sz="24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E812-9371-49B7-9A17-DD76DAF372D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a:t>
            </a:r>
            <a:endParaRPr b="0" lang="en-US" sz="3400" spc="-1" strike="noStrike">
              <a:solidFill>
                <a:srgbClr val="000000"/>
              </a:solidFill>
              <a:latin typeface="Calibri"/>
            </a:endParaRPr>
          </a:p>
        </p:txBody>
      </p:sp>
      <p:sp>
        <p:nvSpPr>
          <p:cNvPr id="59" name=""/>
          <p:cNvSpPr txBox="1"/>
          <p:nvPr/>
        </p:nvSpPr>
        <p:spPr>
          <a:xfrm>
            <a:off x="250920" y="981000"/>
            <a:ext cx="8642160" cy="56167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s vemos impelidos al reconocimiento de una voluntad superior, para no depender de nuestra propia voluntad arbitraria: reconocimiento que es un instinto humano para el bien human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de naturaleza son las leyes de la refracción.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n las leyes que describen los modos en que los hombres, haciendo sus propias convenciones, constituciones o propiedad, imitan o siguen a la naturaleza, así como la naturaleza se conduce a sí misma sin referencia a los seres humano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rte es la naturaleza del hombre.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rte (no la elección) es el especial don de la naturaleza a los seres humanos, pero este don no se utiliza de tal modo que mantenga la condición especial de los seres humano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sociedad es artificial, y sin embargo, todo artificio está de acuerdo con la ley natural.</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A554-C51B-40F0-8895-AA7E5980256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rudencia</a:t>
            </a:r>
            <a:endParaRPr b="0" lang="en-US" sz="3400" spc="-1" strike="noStrike">
              <a:solidFill>
                <a:srgbClr val="000000"/>
              </a:solidFill>
              <a:latin typeface="Calibri"/>
            </a:endParaRPr>
          </a:p>
        </p:txBody>
      </p:sp>
      <p:sp>
        <p:nvSpPr>
          <p:cNvPr id="62"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rudencia es "el dios de este bajo mundo", puesto que tiene "dominio completo sobre todo ejercicio del poder puesto en sus man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la primera de todas las virtudes, así como la directora suprema de todas ell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azón de la soberanía de la prudencia es el poder de las circunstancias para alterar toda regularidad y todo principi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ircunstancias (que para algunos caballeros no son nada) dan en realidad a todo principio político su color distintivo y su efecto discriminado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insiste en que la prudencia de la que habla es una "prudencia moral" o una "prudencia pública y agrandada", en oposición a una prudencia egoísta.</a:t>
            </a:r>
            <a:endParaRPr b="0" lang="en-US" sz="24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D7D5-C4B5-40B6-9C0C-F2B8A718C11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Prudencia</a:t>
            </a:r>
            <a:endParaRPr b="0" lang="en-US" sz="3400" spc="-1" strike="noStrike">
              <a:solidFill>
                <a:srgbClr val="000000"/>
              </a:solidFill>
              <a:latin typeface="Calibri"/>
            </a:endParaRPr>
          </a:p>
        </p:txBody>
      </p:sp>
      <p:sp>
        <p:nvSpPr>
          <p:cNvPr id="65" name=""/>
          <p:cNvSpPr txBox="1"/>
          <p:nvPr/>
        </p:nvSpPr>
        <p:spPr>
          <a:xfrm>
            <a:off x="250920" y="62064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rke distingue, dentro de la prudencia misma, entre "reglas de prudencia" de las que disponen los estadistas ordinarios, y "prudencia de un orden superio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glas de la prudencia no son matemáticas, universales o ideales; y sin embargo, no dejan de ser reglas, "formadas en la marcha conocida de la providencia ordinaria de Dios", es decir, visibles en la experiencia huma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sencia de la moral es la prudencia (moderación), y no el poder de ele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ral debe interpretarse tal como es en un contrato, que no puede romperse sin el consentimiento de todas las partes, y no en una fundación o en una revolución, en que los principios de elección salen a luz.</a:t>
            </a: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BA8F-B6EA-4F45-A23B-5553BC4961E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a:t>
            </a:r>
            <a:endParaRPr b="0" lang="en-US" sz="3400" spc="-1" strike="noStrike">
              <a:solidFill>
                <a:srgbClr val="000000"/>
              </a:solidFill>
              <a:latin typeface="Calibri"/>
            </a:endParaRPr>
          </a:p>
        </p:txBody>
      </p:sp>
      <p:sp>
        <p:nvSpPr>
          <p:cNvPr id="68" name=""/>
          <p:cNvSpPr txBox="1"/>
          <p:nvPr/>
        </p:nvSpPr>
        <p:spPr>
          <a:xfrm>
            <a:off x="250920" y="765000"/>
            <a:ext cx="8642160" cy="56167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tiene derecho a hacer todo lo que puede hacer por sí solo, sin atropellar a otr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bendición y un beneficio, no una especulación abstract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social y cívica, como otros aspectos de la vida diaria, sufre mezclas y modificaciones, es disfrutada en diferentes grados y adquiere una infinita diversidad de formas, de acuerdo al temperamento y a las circunstancias de cada comunidad.</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extrema" no lleva a nad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xtremos, en todo lo que tenga relación con nuestros deberes o satisfacciones en la vida, son destructivos tanto para la virtud como para el disfrute de ell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debe ser limitada, para ser poseíd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imposible fijar con precisión el grado de restricción que requiere, pero los hombres públicos deberían esforzarse por descubrir cuál será el mínimo de restricciones apropiado.</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6799-1656-4E0A-BA09-3DC0B7FC0E7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a:t>
            </a:r>
            <a:endParaRPr b="0" lang="en-US" sz="3400" spc="-1" strike="noStrike">
              <a:solidFill>
                <a:srgbClr val="000000"/>
              </a:solidFill>
              <a:latin typeface="Calibri"/>
            </a:endParaRPr>
          </a:p>
        </p:txBody>
      </p:sp>
      <p:sp>
        <p:nvSpPr>
          <p:cNvPr id="71" name=""/>
          <p:cNvSpPr txBox="1"/>
          <p:nvPr/>
        </p:nvSpPr>
        <p:spPr>
          <a:xfrm>
            <a:off x="250920" y="981000"/>
            <a:ext cx="8642160" cy="56167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libertad es un bien que hay que mejorar y no un mal que hay que disminuir. </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el resorte vital y la energía misma del Estado, cuya vida y vigor dependen del grado de libertad de que goza.</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libertad abstracta, al igual que otras abstracciones, no existe. </a:t>
            </a:r>
            <a:endParaRPr b="0" lang="en-US" sz="2600" spc="-1" strike="noStrike">
              <a:solidFill>
                <a:srgbClr val="000000"/>
              </a:solidFill>
              <a:latin typeface="Calibri"/>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libertad depende de algo tangible, y cada nación se crea un objetivo favorito.</a:t>
            </a:r>
            <a:endParaRPr b="0" lang="en-US" sz="26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CB928-967C-42CB-93C6-2D4079607DB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ambio y tradición</a:t>
            </a:r>
            <a:endParaRPr b="0" lang="en-US" sz="3400" spc="-1" strike="noStrike">
              <a:solidFill>
                <a:srgbClr val="000000"/>
              </a:solidFill>
              <a:latin typeface="Calibri"/>
            </a:endParaRPr>
          </a:p>
        </p:txBody>
      </p:sp>
      <p:sp>
        <p:nvSpPr>
          <p:cNvPr id="74" name=""/>
          <p:cNvSpPr txBox="1"/>
          <p:nvPr/>
        </p:nvSpPr>
        <p:spPr>
          <a:xfrm>
            <a:off x="250920" y="836640"/>
            <a:ext cx="864216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que no cuenta con medios de cambio no cuenta con medios de conservación.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hay algún criterio eminente que se distinga entre todos para discernir un gobierno sabio de otro débil e imprevisor, es el siguiente: "</a:t>
            </a:r>
            <a:r>
              <a:rPr b="0" i="1" lang="es-CL" sz="2400" spc="-1" strike="noStrike">
                <a:solidFill>
                  <a:srgbClr val="000000"/>
                </a:solidFill>
                <a:latin typeface="Calibri"/>
              </a:rPr>
              <a:t>hay que saber elegir el mejor momento y la mejor forma de ceder lo que es imposible conservar</a:t>
            </a:r>
            <a:r>
              <a:rPr b="0" lang="es-CL" sz="2400" spc="-1" strike="noStrike">
                <a:solidFill>
                  <a:srgbClr val="000000"/>
                </a:solidFill>
                <a:latin typeface="Calibri"/>
              </a:rPr>
              <a:t>“.</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ista debe guiarse por las circunstancias, sin perder nunca de vista los principios, pues al ir en contra de las exigencias del momento, estaría arruinando su país para siempre.</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rente a un plan de reformas, se debe "limitar la cantidad de poder que podría prestarse a abuso".</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vez que mejoramos, hay que dejar espacio a nuevas mejoras.</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sta la mejor constitución tiene un principio de crecimiento; éste es su único principio guía.</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592C-C0CC-41CE-BCBC-AB13449A14A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07T03:37:12Z</dcterms:modified>
  <cp:revision>483</cp:revision>
  <dc:subject/>
  <dc:title>HISTORIA DEL PENSAMIENTO POLÍTICO</dc:title>
</cp:coreProperties>
</file>