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B9888-AC30-4568-ADA7-36F649FE43C9}"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5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7E9FB-66AB-4911-8DE2-3A61028F67D0}"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6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F6539-4191-4331-B304-AF9894493782}"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6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9C3D2-5707-4202-AC4B-3E93292C16E4}"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6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FD068-F3C2-4FC6-BE01-5CDE2BA61635}"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6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EC5A1-7F1F-4B60-99DA-AAD8794480B1}"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7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CC4EF-DEA9-4F7B-8BD0-9F02BF29E972}"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7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A84F0-3F43-4858-8107-BCE20DE00769}"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7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5ABC7-E1B2-490C-9167-F326A1CACCBB}"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8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3660B-891E-4F9C-8D2C-44F54A69A0BA}"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8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5C8E9-D7D0-4A45-801C-15A104ABF694}"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8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D5D1A-C421-4FFF-B2CF-9DCBF55FE63B}"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9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CCBDF-38D0-46B1-84CB-413935EE67AD}"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9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DC3DC-B4F3-423C-A1F6-BEC0470814B0}"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9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76C3D-0CBB-4820-94BE-C87E52543BB9}"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9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8CE11-BBA1-4A5F-ABA3-135CE634E493}"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0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C6BBC-8823-44A9-9800-12616AAB1332}"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0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73DD1-5DC8-4637-AF10-96F57DECA83B}"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0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48CE5-6DE2-4E90-B212-21E573841B86}"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3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C0163-202B-4E5C-A1F4-4F611EBDA53E}"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3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8155E-1611-4F99-A988-2C7E501C7A6A}"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4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031D2-7DBF-4E17-895A-5D490FCA4C25}"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4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20DA3-F13A-41F4-8E69-21A01978838B}"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4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E64EB-9545-4A28-9920-070CD0429CDE}"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5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71CE0-3327-4E07-A028-3677F1AD13BD}"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5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7DFFC-3183-4B1F-BDAB-4CA3F762322D}"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8599DF-E16F-4DB7-8A9E-318D5BACCF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7F3054-D670-44A9-B289-E3AFD014E0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D58AAE-811E-4045-9FB6-57F849E1EE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A7FE2A-D2BE-42C6-9C4E-63533941B4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5B1867-DE33-485F-9B5D-BAE947C838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B56158-AF31-4534-A72D-F33CBBCDAC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69F388-5C0E-4CE4-97D5-0D0ACE7050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6902B2-8F91-4BBF-A4F2-E85352FA10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E447D5-789E-486D-8C15-1FF2444036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09B275-1436-4523-BA91-595A867405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3E3A1B-84B2-4854-A179-B95E45557C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EC3967-3022-4666-9CA8-A1ECE2CA9E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3468B-4A6E-487C-862C-67A59F08E081}" type="datetime">
              <a:rPr b="0" lang="es-CL" sz="1200" spc="-1" strike="noStrike">
                <a:solidFill>
                  <a:srgbClr val="898989"/>
                </a:solidFill>
                <a:latin typeface="Calibri"/>
              </a:rPr>
              <a:t>31/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8FB2A-CE87-4A26-B1FD-8001581AC33F}"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76032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HISTORIA DEL PENSAMIENTO POLÍTICO</a:t>
            </a:r>
            <a:r>
              <a:rPr b="1" lang="es-CL" sz="4400" spc="-1" strike="noStrike">
                <a:solidFill>
                  <a:srgbClr val="000000"/>
                </a:solidFill>
                <a:latin typeface="Calibri"/>
              </a:rPr>
              <a:t>: </a:t>
            </a:r>
            <a:br>
              <a:rPr sz="4400"/>
            </a:br>
            <a:r>
              <a:rPr b="1" lang="es-CL" sz="4000" spc="-1" strike="noStrike">
                <a:solidFill>
                  <a:srgbClr val="000000"/>
                </a:solidFill>
                <a:latin typeface="Calibri"/>
              </a:rPr>
              <a:t>Edmund Burke</a:t>
            </a:r>
            <a:endParaRPr b="0" lang="en-US" sz="4000" spc="-1" strike="noStrike">
              <a:solidFill>
                <a:srgbClr val="000000"/>
              </a:solidFill>
              <a:latin typeface="Calibri"/>
            </a:endParaRPr>
          </a:p>
        </p:txBody>
      </p:sp>
      <p:sp>
        <p:nvSpPr>
          <p:cNvPr id="49" name="PlaceHolder 2"/>
          <p:cNvSpPr>
            <a:spLocks noGrp="1"/>
          </p:cNvSpPr>
          <p:nvPr>
            <p:ph type="subTitle"/>
          </p:nvPr>
        </p:nvSpPr>
        <p:spPr>
          <a:xfrm>
            <a:off x="1116000" y="4989600"/>
            <a:ext cx="6840720" cy="146376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alibri"/>
              </a:rPr>
              <a:t>Profesor: Claudio Fuentes González</a:t>
            </a:r>
            <a:endParaRPr b="0" lang="en-US" sz="26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Clase  11 – 06 de octubre de 2010</a:t>
            </a:r>
            <a:endParaRPr b="0" lang="en-US" sz="2000" spc="-1" strike="noStrike">
              <a:solidFill>
                <a:srgbClr val="000000"/>
              </a:solidFill>
              <a:latin typeface="Calibri"/>
            </a:endParaRPr>
          </a:p>
        </p:txBody>
      </p:sp>
      <p:pic>
        <p:nvPicPr>
          <p:cNvPr id="50" name="Picture 5" descr="escuela de gobierno y gestión pública"/>
          <p:cNvPicPr/>
          <p:nvPr/>
        </p:nvPicPr>
        <p:blipFill>
          <a:blip r:embed="rId1"/>
          <a:stretch/>
        </p:blipFill>
        <p:spPr>
          <a:xfrm>
            <a:off x="0" y="0"/>
            <a:ext cx="2371680" cy="933480"/>
          </a:xfrm>
          <a:prstGeom prst="rect">
            <a:avLst/>
          </a:prstGeom>
          <a:ln w="0">
            <a:noFill/>
          </a:ln>
        </p:spPr>
      </p:pic>
      <p:pic>
        <p:nvPicPr>
          <p:cNvPr id="51" name="5 Imagen" descr="10 Edmund Burke.bmp"/>
          <p:cNvPicPr/>
          <p:nvPr/>
        </p:nvPicPr>
        <p:blipFill>
          <a:blip r:embed="rId2"/>
          <a:stretch/>
        </p:blipFill>
        <p:spPr>
          <a:xfrm>
            <a:off x="7534440" y="115920"/>
            <a:ext cx="1430280" cy="2182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Cambio y tradición</a:t>
            </a:r>
            <a:endParaRPr b="0" lang="en-US" sz="3400" spc="-1" strike="noStrike">
              <a:solidFill>
                <a:srgbClr val="000000"/>
              </a:solidFill>
              <a:latin typeface="Calibri"/>
            </a:endParaRPr>
          </a:p>
        </p:txBody>
      </p:sp>
      <p:sp>
        <p:nvSpPr>
          <p:cNvPr id="77" name=""/>
          <p:cNvSpPr txBox="1"/>
          <p:nvPr/>
        </p:nvSpPr>
        <p:spPr>
          <a:xfrm>
            <a:off x="250920" y="836640"/>
            <a:ext cx="8642160" cy="5616720"/>
          </a:xfrm>
          <a:prstGeom prst="rect">
            <a:avLst/>
          </a:prstGeom>
          <a:noFill/>
          <a:ln w="0">
            <a:noFill/>
          </a:ln>
        </p:spPr>
        <p:txBody>
          <a:bodyPr anchor="t">
            <a:normAutofit fontScale="99000"/>
          </a:bodyPr>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cambio "la más poderosa ley de naturaleza”.</a:t>
            </a: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Todo lo que podemos hacer, y lo que puede hacer la sabiduría humana, es velar porque el cambio proceda mediante </a:t>
            </a:r>
            <a:r>
              <a:rPr b="0" i="1" lang="es-CL" sz="2400" spc="-1" strike="noStrike">
                <a:solidFill>
                  <a:srgbClr val="000000"/>
                </a:solidFill>
                <a:latin typeface="Calibri"/>
              </a:rPr>
              <a:t>grados insensibles</a:t>
            </a:r>
            <a:r>
              <a:rPr b="0" lang="es-CL" sz="2400" spc="-1" strike="noStrike">
                <a:solidFill>
                  <a:srgbClr val="000000"/>
                </a:solidFill>
                <a:latin typeface="Calibri"/>
              </a:rPr>
              <a:t>.</a:t>
            </a: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Debe haber cambio, pero los hombres deben cuidar de que proceda por grados insensibles. </a:t>
            </a: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cambio insensible puede ser cambio legal, porque no pone en entredicho las leyes o la constitución establecidas. </a:t>
            </a: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e puede legalizar el cambio.</a:t>
            </a: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Burke niega que el movimiento tenga que ser violento o revolucionario.</a:t>
            </a: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e opone a las pretensiones históricas que quisieran derrocar el poder establecido, y se muestra escéptico ante la investigación histórica que quisiera confirmarlo.</a:t>
            </a: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8"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25113-44A7-40A3-8C69-0EDF52146631}"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Cambio y tradición</a:t>
            </a:r>
            <a:endParaRPr b="0" lang="en-US" sz="3400" spc="-1" strike="noStrike">
              <a:solidFill>
                <a:srgbClr val="000000"/>
              </a:solidFill>
              <a:latin typeface="Calibri"/>
            </a:endParaRPr>
          </a:p>
        </p:txBody>
      </p:sp>
      <p:sp>
        <p:nvSpPr>
          <p:cNvPr id="80" name=""/>
          <p:cNvSpPr txBox="1"/>
          <p:nvPr/>
        </p:nvSpPr>
        <p:spPr>
          <a:xfrm>
            <a:off x="250920" y="981000"/>
            <a:ext cx="8642160" cy="56167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os gobiernos deben considerar la sabiduría de una reforma adecuada, efectuada a tiempo.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s reformas tempranas son arreglos amistosos con un amigo que detenta el poder.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s reformas tardías son términos impuestos al enemigo conquistado.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s reformas oportunas se hacen apaciblemente, en tanto que las reformas tardías se imponen en estado de irritación.</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Como al gobierno le interesa que las reformas sean hechas a tiempo, al pueblo le interesa que ellas sean llevadas a cabo apaciblemente.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s reformas hechas con moderación son permanentes, y encierran un principio de crecimiento (cambio incremental).</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1"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769F9-9185-4CEC-9F30-17C515B08B8F}"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Cambio y tradición</a:t>
            </a:r>
            <a:endParaRPr b="0" lang="en-US" sz="3400" spc="-1" strike="noStrike">
              <a:solidFill>
                <a:srgbClr val="000000"/>
              </a:solidFill>
              <a:latin typeface="Calibri"/>
            </a:endParaRPr>
          </a:p>
        </p:txBody>
      </p:sp>
      <p:sp>
        <p:nvSpPr>
          <p:cNvPr id="83" name=""/>
          <p:cNvSpPr txBox="1"/>
          <p:nvPr/>
        </p:nvSpPr>
        <p:spPr>
          <a:xfrm>
            <a:off x="250920" y="981000"/>
            <a:ext cx="8642160" cy="5616720"/>
          </a:xfrm>
          <a:prstGeom prst="rect">
            <a:avLst/>
          </a:prstGeom>
          <a:noFill/>
          <a:ln w="0">
            <a:noFill/>
          </a:ln>
        </p:spPr>
        <p:txBody>
          <a:bodyPr anchor="t">
            <a:normAutofit fontScale="95000"/>
          </a:bodyPr>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discordancia no produce contradicción social.</a:t>
            </a:r>
            <a:endParaRPr b="0" lang="en-US" sz="2400" spc="-1" strike="noStrike">
              <a:solidFill>
                <a:srgbClr val="000000"/>
              </a:solidFill>
              <a:latin typeface="Calibri"/>
            </a:endParaRPr>
          </a:p>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discordancia produce una armonía que debe mucho más a la experiencia de los seres vivos que están unidos en libertad, que a un pensamiento afín o que sostiene ciertos principios comunes (en contra, por ejemplo, de una conciencia de clase). </a:t>
            </a:r>
            <a:endParaRPr b="0" lang="en-US" sz="2400" spc="-1" strike="noStrike">
              <a:solidFill>
                <a:srgbClr val="000000"/>
              </a:solidFill>
              <a:latin typeface="Calibri"/>
            </a:endParaRPr>
          </a:p>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emejante orden es complicado; consiste en nunca afirmar o negar directamente cualquier pretensión de justicia que requiriese un ordenamiento particular de la sociedad. </a:t>
            </a:r>
            <a:endParaRPr b="0" lang="en-US" sz="2400" spc="-1" strike="noStrike">
              <a:solidFill>
                <a:srgbClr val="000000"/>
              </a:solidFill>
              <a:latin typeface="Calibri"/>
            </a:endParaRPr>
          </a:p>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Hay que llegar a un acuerdo con estas pretensiones, pero no descubriendo un principio que mantenga lo que es cierto en cada pretensión, como en el régimen mixto clásico. </a:t>
            </a:r>
            <a:endParaRPr b="0" lang="en-US" sz="2400" spc="-1" strike="noStrike">
              <a:solidFill>
                <a:srgbClr val="000000"/>
              </a:solidFill>
              <a:latin typeface="Calibri"/>
            </a:endParaRPr>
          </a:p>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Un acuerdo más seguro y prudente resultará de desviar las pretensiones de derecho a cuestiones de conveniencia, de modo que "toda la organización del gobierno se vuelve consideración de conveniencia".</a:t>
            </a:r>
            <a:endParaRPr b="0" lang="en-US" sz="2400" spc="-1" strike="noStrike">
              <a:solidFill>
                <a:srgbClr val="000000"/>
              </a:solidFill>
              <a:latin typeface="Calibri"/>
            </a:endParaRPr>
          </a:p>
        </p:txBody>
      </p:sp>
      <p:sp>
        <p:nvSpPr>
          <p:cNvPr id="84"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2B2B1-E21E-43B6-A208-6FD59852206F}"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El Contrato Social</a:t>
            </a:r>
            <a:endParaRPr b="0" lang="en-US" sz="3400" spc="-1" strike="noStrike">
              <a:solidFill>
                <a:srgbClr val="000000"/>
              </a:solidFill>
              <a:latin typeface="Calibri"/>
            </a:endParaRPr>
          </a:p>
        </p:txBody>
      </p:sp>
      <p:sp>
        <p:nvSpPr>
          <p:cNvPr id="86" name=""/>
          <p:cNvSpPr txBox="1"/>
          <p:nvPr/>
        </p:nvSpPr>
        <p:spPr>
          <a:xfrm>
            <a:off x="250920" y="981000"/>
            <a:ext cx="8642160" cy="56167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sociedad es un contrato.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os contratos menores que involucran objetos de mero interés ocasional pueden disolverse a voluntad.</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No puede considerarse al Estado como un acuerdo entre socios para el comercio.</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Debe ser considerado con mucho respeto, porque es una asociación que va mucho más allá de la simple existencia animal de cosas temporales y perecible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 una asociación que abarca toda ciencia, todo arte y toda perfección.</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Como los fines de una asociación así no pueden lograrse sino en muchas generaciones, pasa a ser una asociación no solamente entre seres vivos, sino entre aquellos que están vivos, los que están muertos y aquellos que están por nacer.</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7"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362D8-9AE2-4E11-BEE7-EE782364EAF0}"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El Contrato Social</a:t>
            </a:r>
            <a:endParaRPr b="0" lang="en-US" sz="3400" spc="-1" strike="noStrike">
              <a:solidFill>
                <a:srgbClr val="000000"/>
              </a:solidFill>
              <a:latin typeface="Calibri"/>
            </a:endParaRPr>
          </a:p>
        </p:txBody>
      </p:sp>
      <p:sp>
        <p:nvSpPr>
          <p:cNvPr id="89" name=""/>
          <p:cNvSpPr txBox="1"/>
          <p:nvPr/>
        </p:nvSpPr>
        <p:spPr>
          <a:xfrm>
            <a:off x="250920" y="981000"/>
            <a:ext cx="8642160" cy="56167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Ningún hombre puede gobernarse a sí mismo según su propia voluntad; menos aún puede ser gobernado por una voluntad ajena.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Todos nacimos sometidos, tanto los de clase alta como media y baja, tanto los gobernantes como los gobernado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Todos estamos sujetos a una ley preexistente, grande e inmutable, anterior, que es superior a todas nuestras ideas y sensacione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 anterior a nuestra existencia misma, que nos une y relaciona a las estructuras eternas del universo, al margen de las cuales no se puede existir.</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ta gran ley no surge de convenciones o convenios, no surge de vanas institucione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0"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7A800-0841-424A-9964-57C6BAC1FDAF}"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El Contrato Social</a:t>
            </a:r>
            <a:endParaRPr b="0" lang="en-US" sz="3400" spc="-1" strike="noStrike">
              <a:solidFill>
                <a:srgbClr val="000000"/>
              </a:solidFill>
              <a:latin typeface="Calibri"/>
            </a:endParaRPr>
          </a:p>
        </p:txBody>
      </p:sp>
      <p:sp>
        <p:nvSpPr>
          <p:cNvPr id="92" name=""/>
          <p:cNvSpPr txBox="1"/>
          <p:nvPr/>
        </p:nvSpPr>
        <p:spPr>
          <a:xfrm>
            <a:off x="250920" y="692280"/>
            <a:ext cx="8642160" cy="5905440"/>
          </a:xfrm>
          <a:prstGeom prst="rect">
            <a:avLst/>
          </a:prstGeom>
          <a:noFill/>
          <a:ln w="0">
            <a:noFill/>
          </a:ln>
        </p:spPr>
        <p:txBody>
          <a:bodyPr anchor="t">
            <a:normAutofit fontScale="99000"/>
          </a:bodyPr>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s personas tienen tiene derecho a una parte equitativa de todo aquello que la sociedad pueda ofrecerle, gracias a todas sus posibilidades de conocimientos y fuerzas. </a:t>
            </a: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n una asociación así, todos los tienen derechos iguales, aunque no a las mismas cosas.</a:t>
            </a: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n cuanto a la distribución del poder, de la autoridad y dirección que cada individuo debería tener en la administración del Estado, ese derecho no está incluido entre los derechos originales del hombre en una sociedad civil.</a:t>
            </a: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i la sociedad civil es el resultado de un convenio, ese convenio deberá ser su ley. </a:t>
            </a: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Deberá limitar y modificar toda descripción de las constituciones que se creen bajo él. </a:t>
            </a: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Toda clase de poder, sea legislativo, judicial o ejecutivo, pasa a ser hijo suyo. </a:t>
            </a: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3"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A647A-8358-406B-A2BC-9819ACA1FBC6}"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El Contrato Social</a:t>
            </a:r>
            <a:endParaRPr b="0" lang="en-US" sz="3400" spc="-1" strike="noStrike">
              <a:solidFill>
                <a:srgbClr val="000000"/>
              </a:solidFill>
              <a:latin typeface="Calibri"/>
            </a:endParaRPr>
          </a:p>
        </p:txBody>
      </p:sp>
      <p:sp>
        <p:nvSpPr>
          <p:cNvPr id="95" name=""/>
          <p:cNvSpPr txBox="1"/>
          <p:nvPr/>
        </p:nvSpPr>
        <p:spPr>
          <a:xfrm>
            <a:off x="250920" y="692280"/>
            <a:ext cx="8642160" cy="5905440"/>
          </a:xfrm>
          <a:prstGeom prst="rect">
            <a:avLst/>
          </a:prstGeom>
          <a:noFill/>
          <a:ln w="0">
            <a:noFill/>
          </a:ln>
        </p:spPr>
        <p:txBody>
          <a:bodyPr anchor="t">
            <a:normAutofit fontScale="96000"/>
          </a:bodyPr>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n la sociedad civil, uno de los primeros principios, que pasa a ser una de sus formas fundamentales, es que "ningún hombre puede ser juez de su propia causa". </a:t>
            </a: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Cada persona ha renunciado al primer derecho fundamental del hombre, cual es de juzgar por sí mismo y fallar su propia causa.</a:t>
            </a: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bdica de todo derecho a ser su propio gobernante. </a:t>
            </a: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bandona en gran medida el derecho a la defensa propia, primera ley de la naturaleza. </a:t>
            </a: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hombre no puede disfrutar a la vez de los derechos de un estado civil y de otro no civil. </a:t>
            </a: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ara obtener justicia, renuncia a su derecho a decidir qué es lo esencial para él. </a:t>
            </a: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ara asegurarse la libertad, la entrega por entero.</a:t>
            </a: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amor al lucro, aunque llevado a un exceso ridículo y a veces vicioso, es la gran causa de la prosperidad de todos los Estados. </a:t>
            </a: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6"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007C4-B29B-4857-A9CD-302BFF0EDAF6}"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Establishment como guardianes de la constitución</a:t>
            </a:r>
            <a:endParaRPr b="0" lang="en-US" sz="3200" spc="-1" strike="noStrike">
              <a:solidFill>
                <a:srgbClr val="000000"/>
              </a:solidFill>
              <a:latin typeface="Calibri"/>
            </a:endParaRPr>
          </a:p>
        </p:txBody>
      </p:sp>
      <p:sp>
        <p:nvSpPr>
          <p:cNvPr id="98" name=""/>
          <p:cNvSpPr txBox="1"/>
          <p:nvPr/>
        </p:nvSpPr>
        <p:spPr>
          <a:xfrm>
            <a:off x="250920" y="692280"/>
            <a:ext cx="8642160" cy="5905440"/>
          </a:xfrm>
          <a:prstGeom prst="rect">
            <a:avLst/>
          </a:prstGeom>
          <a:noFill/>
          <a:ln w="0">
            <a:noFill/>
          </a:ln>
        </p:spPr>
        <p:txBody>
          <a:bodyPr anchor="t">
            <a:normAutofit fontScale="89000"/>
          </a:bodyPr>
          <a:p>
            <a:pPr marL="305280" indent="-3052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unque las constituciones deben desarrollarse, sus establishment las preservan de la simple fluidez y del cambio violento. Los "establishments de la constitución británica se encargan, en el pensamiento de Burke, de esas formas constitucionales y formalidades que él tiene en tan poca estima. Aportan estabilidad y seguridad, haciendo más lento el flujo de las pasiones y de las ideas y dirigiéndolo mientras gradualmente se establecen en esta tarea.</a:t>
            </a:r>
            <a:endParaRPr b="0" lang="en-US" sz="2400" spc="-1" strike="noStrike">
              <a:solidFill>
                <a:srgbClr val="000000"/>
              </a:solidFill>
              <a:latin typeface="Calibri"/>
            </a:endParaRPr>
          </a:p>
          <a:p>
            <a:pPr marL="305280" indent="-3052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os establishments de Burke se refieren a clases sociales vistas informalmente, pero difieren al ser plurales y estar ante la mirada pública. </a:t>
            </a:r>
            <a:endParaRPr b="0" lang="en-US" sz="2400" spc="-1" strike="noStrike">
              <a:solidFill>
                <a:srgbClr val="000000"/>
              </a:solidFill>
              <a:latin typeface="Calibri"/>
            </a:endParaRPr>
          </a:p>
          <a:p>
            <a:pPr marL="305280" indent="-3052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os establishments de Burke no son conspiradores unidos para disminuir y aniquilar los derechos formales de un pueblo; antes bien, son las prominencias sociales que resultan del ejercicio real y por fuerza desigual de esos derechos: la Iglesia, los intereses monetarios, la nobleza terrateniente, los militares y hasta la monarquía.</a:t>
            </a:r>
            <a:endParaRPr b="0" lang="en-US" sz="2400" spc="-1" strike="noStrike">
              <a:solidFill>
                <a:srgbClr val="000000"/>
              </a:solidFill>
              <a:latin typeface="Calibri"/>
            </a:endParaRPr>
          </a:p>
          <a:p>
            <a:pPr marL="305280" indent="-3052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tas instituciones están lejos de subvertir la libertad: de hecho, son los únicos medios para asegurarla. </a:t>
            </a:r>
            <a:endParaRPr b="0" lang="en-US" sz="2400" spc="-1" strike="noStrike">
              <a:solidFill>
                <a:srgbClr val="000000"/>
              </a:solidFill>
              <a:latin typeface="Calibri"/>
            </a:endParaRPr>
          </a:p>
          <a:p>
            <a:pPr marL="305280" indent="-3052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05280" indent="-3052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05280" indent="-3052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05280" indent="-3052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05280" indent="-3052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9"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28EAD-73EA-48B0-9B2B-1B213C135D3D}"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Establishment como guardianes de la constitución</a:t>
            </a:r>
            <a:endParaRPr b="0" lang="en-US" sz="3200" spc="-1" strike="noStrike">
              <a:solidFill>
                <a:srgbClr val="000000"/>
              </a:solidFill>
              <a:latin typeface="Calibri"/>
            </a:endParaRPr>
          </a:p>
        </p:txBody>
      </p:sp>
      <p:sp>
        <p:nvSpPr>
          <p:cNvPr id="101" name=""/>
          <p:cNvSpPr txBox="1"/>
          <p:nvPr/>
        </p:nvSpPr>
        <p:spPr>
          <a:xfrm>
            <a:off x="250920" y="692280"/>
            <a:ext cx="8642160" cy="5905440"/>
          </a:xfrm>
          <a:prstGeom prst="rect">
            <a:avLst/>
          </a:prstGeom>
          <a:noFill/>
          <a:ln w="0">
            <a:noFill/>
          </a:ln>
        </p:spPr>
        <p:txBody>
          <a:bodyPr anchor="t">
            <a:normAutofit fontScale="96000"/>
          </a:bodyPr>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tas instituciones están lejos de subvertir la libertad: de hecho, son los únicos medios para asegurarla. </a:t>
            </a: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constitución hecha sólida por los establishments es mantenida por el principio de propiedad, es decir, de propiedad heredada. Cada uno de los establisments es una propiedad, y Burke aclara hasta en el ejemplo de la Iglesia —cuyo propósito superior es consagrar la república y elevar a los hombres por encima del egoísmo— que el ataque de los revolucionarios franceses fue una usurpación de la propiedad.</a:t>
            </a: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Tal propiedad en las eminencias axiales sobrevive y crece no por la razón que justificara su adquisición original, sino por los beneficios que pueden verse en su funcionamiento actual, beneficios que a menudo sólo son discernibles por el ojo de la sabiduría y la experiencia, ya que las apariencias son engañosas y las formas del gobierno libre son compatibles con los fines del gobierno arbitrario, y a la inversa.</a:t>
            </a: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2"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3E2D4-5FA0-4DFB-91DC-C01742D32D04}"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Gobierno</a:t>
            </a:r>
            <a:endParaRPr b="0" lang="en-US" sz="3400" spc="-1" strike="noStrike">
              <a:solidFill>
                <a:srgbClr val="000000"/>
              </a:solidFill>
              <a:latin typeface="Calibri"/>
            </a:endParaRPr>
          </a:p>
        </p:txBody>
      </p:sp>
      <p:sp>
        <p:nvSpPr>
          <p:cNvPr id="104" name=""/>
          <p:cNvSpPr txBox="1"/>
          <p:nvPr/>
        </p:nvSpPr>
        <p:spPr>
          <a:xfrm>
            <a:off x="250920" y="692280"/>
            <a:ext cx="8642160" cy="590544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gobierno no se crea en virtud de derechos naturales, que pueden y de hecho existen en forma independiente de él.</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gobierno es una creación de la sabiduría humana para satisfacer las necesidades humana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hombre tiene derecho a que esa sabiduría le solucione esas necesidade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ntre esas necesidades está la necesidad de refrenar adecuadamente sus pasiones, dentro de una sociedad civil.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sociedad exige no sólo refrenar las pasiones de los individuos, sino que las inclinaciones de la masa también sean dominadas, que su voluntad sea controlada y sus pasiones subyugada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to sólo lo puede lograr un poder ajeno a ella, que al ejercitar su función no esté sometido a su voluntad y a esas pasiones que tiene que dominar y subyugar.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5"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AF3E0-84E5-4A06-A162-758A31F51C6B}"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250560" y="115920"/>
            <a:ext cx="8713800" cy="85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Burke y el conservadurismo</a:t>
            </a:r>
            <a:endParaRPr b="0" lang="en-US" sz="4000" spc="-1" strike="noStrike">
              <a:solidFill>
                <a:srgbClr val="000000"/>
              </a:solidFill>
              <a:latin typeface="Calibri"/>
            </a:endParaRPr>
          </a:p>
        </p:txBody>
      </p:sp>
      <p:sp>
        <p:nvSpPr>
          <p:cNvPr id="53" name="2 Marcador de contenido"/>
          <p:cNvSpPr/>
          <p:nvPr/>
        </p:nvSpPr>
        <p:spPr>
          <a:xfrm>
            <a:off x="611280" y="1457280"/>
            <a:ext cx="8229600" cy="434808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0000"/>
                </a:solidFill>
                <a:latin typeface="Calibri"/>
              </a:rPr>
              <a:t>Bitácora:</a:t>
            </a:r>
            <a:endParaRPr b="0" lang="en-US" sz="3000" spc="-1" strike="noStrike">
              <a:solidFill>
                <a:srgbClr val="000000"/>
              </a:solidFill>
              <a:latin typeface="Arial"/>
            </a:endParaRPr>
          </a:p>
          <a:p>
            <a:pPr marL="514440" indent="-514440" algn="just">
              <a:lnSpc>
                <a:spcPct val="80000"/>
              </a:lnSpc>
              <a:spcBef>
                <a:spcPts val="75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Naturaleza humana.</a:t>
            </a:r>
            <a:endParaRPr b="0" lang="en-US" sz="3000" spc="-1" strike="noStrike">
              <a:solidFill>
                <a:srgbClr val="000000"/>
              </a:solidFill>
              <a:latin typeface="Arial"/>
            </a:endParaRPr>
          </a:p>
          <a:p>
            <a:pPr marL="514440" indent="-514440" algn="just">
              <a:lnSpc>
                <a:spcPct val="80000"/>
              </a:lnSpc>
              <a:spcBef>
                <a:spcPts val="75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La prudencia.</a:t>
            </a:r>
            <a:endParaRPr b="0" lang="en-US" sz="3000" spc="-1" strike="noStrike">
              <a:solidFill>
                <a:srgbClr val="000000"/>
              </a:solidFill>
              <a:latin typeface="Arial"/>
            </a:endParaRPr>
          </a:p>
          <a:p>
            <a:pPr marL="514440" indent="-514440" algn="just">
              <a:lnSpc>
                <a:spcPct val="80000"/>
              </a:lnSpc>
              <a:spcBef>
                <a:spcPts val="75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Libertad. </a:t>
            </a:r>
            <a:endParaRPr b="0" lang="en-US" sz="3000" spc="-1" strike="noStrike">
              <a:solidFill>
                <a:srgbClr val="000000"/>
              </a:solidFill>
              <a:latin typeface="Arial"/>
            </a:endParaRPr>
          </a:p>
          <a:p>
            <a:pPr marL="514440" indent="-514440" algn="just">
              <a:lnSpc>
                <a:spcPct val="80000"/>
              </a:lnSpc>
              <a:spcBef>
                <a:spcPts val="75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Cambio y tradición.</a:t>
            </a:r>
            <a:endParaRPr b="0" lang="en-US" sz="3000" spc="-1" strike="noStrike">
              <a:solidFill>
                <a:srgbClr val="000000"/>
              </a:solidFill>
              <a:latin typeface="Arial"/>
            </a:endParaRPr>
          </a:p>
          <a:p>
            <a:pPr marL="514440" indent="-514440" algn="just">
              <a:lnSpc>
                <a:spcPct val="80000"/>
              </a:lnSpc>
              <a:spcBef>
                <a:spcPts val="75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El contrato social.</a:t>
            </a:r>
            <a:endParaRPr b="0" lang="en-US" sz="3000" spc="-1" strike="noStrike">
              <a:solidFill>
                <a:srgbClr val="000000"/>
              </a:solidFill>
              <a:latin typeface="Arial"/>
            </a:endParaRPr>
          </a:p>
          <a:p>
            <a:pPr marL="514440" indent="-514440" algn="just">
              <a:lnSpc>
                <a:spcPct val="80000"/>
              </a:lnSpc>
              <a:spcBef>
                <a:spcPts val="75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El establishment.</a:t>
            </a:r>
            <a:endParaRPr b="0" lang="en-US" sz="3000" spc="-1" strike="noStrike">
              <a:solidFill>
                <a:srgbClr val="000000"/>
              </a:solidFill>
              <a:latin typeface="Arial"/>
            </a:endParaRPr>
          </a:p>
          <a:p>
            <a:pPr marL="514440" indent="-514440" algn="just">
              <a:lnSpc>
                <a:spcPct val="80000"/>
              </a:lnSpc>
              <a:spcBef>
                <a:spcPts val="75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Gobierno y sus formas. </a:t>
            </a:r>
            <a:endParaRPr b="0" lang="en-US" sz="3000" spc="-1" strike="noStrike">
              <a:solidFill>
                <a:srgbClr val="000000"/>
              </a:solidFill>
              <a:latin typeface="Arial"/>
            </a:endParaRPr>
          </a:p>
          <a:p>
            <a:pPr marL="514440" indent="-514440" algn="just">
              <a:lnSpc>
                <a:spcPct val="80000"/>
              </a:lnSpc>
              <a:spcBef>
                <a:spcPts val="75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La política.</a:t>
            </a:r>
            <a:endParaRPr b="0" lang="en-US" sz="3000" spc="-1" strike="noStrike">
              <a:solidFill>
                <a:srgbClr val="000000"/>
              </a:solidFill>
              <a:latin typeface="Arial"/>
            </a:endParaRPr>
          </a:p>
          <a:p>
            <a:pPr marL="514440" indent="-514440" algn="just">
              <a:lnSpc>
                <a:spcPct val="80000"/>
              </a:lnSpc>
              <a:spcBef>
                <a:spcPts val="75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514440" indent="-514440" algn="just">
              <a:lnSpc>
                <a:spcPct val="80000"/>
              </a:lnSpc>
              <a:spcBef>
                <a:spcPts val="75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514440" indent="-514440" algn="just">
              <a:lnSpc>
                <a:spcPct val="80000"/>
              </a:lnSpc>
              <a:spcBef>
                <a:spcPts val="75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514440" indent="-514440" algn="just">
              <a:lnSpc>
                <a:spcPct val="80000"/>
              </a:lnSpc>
              <a:spcBef>
                <a:spcPts val="75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C76E3-A860-4536-9F5D-2547D08ADED5}"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Gobierno</a:t>
            </a:r>
            <a:endParaRPr b="0" lang="en-US" sz="3400" spc="-1" strike="noStrike">
              <a:solidFill>
                <a:srgbClr val="000000"/>
              </a:solidFill>
              <a:latin typeface="Calibri"/>
            </a:endParaRPr>
          </a:p>
        </p:txBody>
      </p:sp>
      <p:sp>
        <p:nvSpPr>
          <p:cNvPr id="107" name=""/>
          <p:cNvSpPr txBox="1"/>
          <p:nvPr/>
        </p:nvSpPr>
        <p:spPr>
          <a:xfrm>
            <a:off x="250920" y="692280"/>
            <a:ext cx="8642160" cy="590544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Desde el momento en que se elimina alguno de los derechos del hombre a gobernarse a sí mismo y a sufrir alguna limitación artificial de esos derechos, toda la organización del gobierno pasa a ser asunto de conveniencia.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to es lo que hace que el constituir un Estado y distribuir sus poderes exija conocimientos adecuado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xige profundo conocimiento de la naturaleza humana y de las necesidades humanas, y de aquellas cosas que facilitan o dificultan los diversos objetivos que persigue el mecanismo de las instituciones cívica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iendo la ciencia de gobernar una ciencia práctica, destinada a fines prácticos, algo que requiere experiencia, no se debe proceder a demoler una institución que ha servido por años los fines de una sociedad, como tampoco se puede reconstruir sin un nuevo modelo de probada utilidad.</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8"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45791-019E-48C9-BA0E-93D5041B34A1}"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Gobierno</a:t>
            </a:r>
            <a:endParaRPr b="0" lang="en-US" sz="3400" spc="-1" strike="noStrike">
              <a:solidFill>
                <a:srgbClr val="000000"/>
              </a:solidFill>
              <a:latin typeface="Calibri"/>
            </a:endParaRPr>
          </a:p>
        </p:txBody>
      </p:sp>
      <p:sp>
        <p:nvSpPr>
          <p:cNvPr id="110" name=""/>
          <p:cNvSpPr txBox="1"/>
          <p:nvPr/>
        </p:nvSpPr>
        <p:spPr>
          <a:xfrm>
            <a:off x="250920" y="692280"/>
            <a:ext cx="8642160" cy="5905440"/>
          </a:xfrm>
          <a:prstGeom prst="rect">
            <a:avLst/>
          </a:prstGeom>
          <a:noFill/>
          <a:ln w="0">
            <a:noFill/>
          </a:ln>
        </p:spPr>
        <p:txBody>
          <a:bodyPr anchor="t">
            <a:normAutofit fontScale="99000"/>
          </a:bodyPr>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No está en el poder del gobierno el satisfacer las necesidades.</a:t>
            </a: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ería una vana presunción de los estadistas pensar que podrían lograrlo. </a:t>
            </a: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 el pueblo quien los mantiene a ellos y no ellos al pueblo. </a:t>
            </a: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gobierno tiene poder para evitar muchos males, pero en ese sentido es poco lo que puede hacer.</a:t>
            </a: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Estado debería limitarse a aquello que concierne al Estado o a las criaturas del Estado: </a:t>
            </a:r>
            <a:endParaRPr b="0" lang="en-US" sz="2400" spc="-1" strike="noStrike">
              <a:solidFill>
                <a:srgbClr val="000000"/>
              </a:solidFill>
              <a:latin typeface="Calibri"/>
            </a:endParaRPr>
          </a:p>
          <a:p>
            <a:pPr lvl="1" marL="735480" indent="-28296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stablecimiento exterior de su religión; </a:t>
            </a:r>
            <a:endParaRPr b="0" lang="en-US" sz="2000" spc="-1" strike="noStrike">
              <a:solidFill>
                <a:srgbClr val="000000"/>
              </a:solidFill>
              <a:latin typeface="Calibri"/>
            </a:endParaRPr>
          </a:p>
          <a:p>
            <a:pPr lvl="1" marL="735480" indent="-28296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A su magistratura; a sus entradas; </a:t>
            </a:r>
            <a:endParaRPr b="0" lang="en-US" sz="2000" spc="-1" strike="noStrike">
              <a:solidFill>
                <a:srgbClr val="000000"/>
              </a:solidFill>
              <a:latin typeface="Calibri"/>
            </a:endParaRPr>
          </a:p>
          <a:p>
            <a:pPr lvl="1" marL="735480" indent="-28296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A sus fuerzas militares de mar y tierra; </a:t>
            </a:r>
            <a:endParaRPr b="0" lang="en-US" sz="2000" spc="-1" strike="noStrike">
              <a:solidFill>
                <a:srgbClr val="000000"/>
              </a:solidFill>
              <a:latin typeface="Calibri"/>
            </a:endParaRPr>
          </a:p>
          <a:p>
            <a:pPr lvl="1" marL="735480" indent="-28296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A las corporaciones a que dio origen su fiat. </a:t>
            </a:r>
            <a:endParaRPr b="0" lang="en-US" sz="20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Estado debe limitarse a todo aquello que es verdadera y debidamente público, incluyendo la paz pública, la seguridad y la prosperidad públicas.</a:t>
            </a: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1"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B01C3-F348-4F20-BCF5-35D9B3F2CA57}"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Formas de gobierno</a:t>
            </a:r>
            <a:endParaRPr b="0" lang="en-US" sz="3400" spc="-1" strike="noStrike">
              <a:solidFill>
                <a:srgbClr val="000000"/>
              </a:solidFill>
              <a:latin typeface="Calibri"/>
            </a:endParaRPr>
          </a:p>
        </p:txBody>
      </p:sp>
      <p:sp>
        <p:nvSpPr>
          <p:cNvPr id="113" name=""/>
          <p:cNvSpPr txBox="1"/>
          <p:nvPr/>
        </p:nvSpPr>
        <p:spPr>
          <a:xfrm>
            <a:off x="250920" y="692280"/>
            <a:ext cx="8642160" cy="590544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Burke no cree que cada quien tenga un derecho natural, ni que el pueblo sienta el deseo natural de gobernar.</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pueblo se contenta con dejar que su sabiduría sea latente, en lugar de afirmarla, y por ello la aristocracia puede ser educada para gobernar sin afirmar su propio carácter distintivo.</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Una "aristocracia natural" gobierna sin afirmarse a sí misma y, por tanto, sin imponerse.</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Burke sostiene que "las costumbres son de mayor importancia que las leye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s leyes, que son decisiones formales tomadas por los gobiernos, porque se han hecho de acuerdo con sus formas, dependen de costumbres informales, y no a la inversa.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4"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A423A-AB2A-4F07-A058-700DF7DBCC1A}"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Formas de gobierno</a:t>
            </a:r>
            <a:endParaRPr b="0" lang="en-US" sz="3400" spc="-1" strike="noStrike">
              <a:solidFill>
                <a:srgbClr val="000000"/>
              </a:solidFill>
              <a:latin typeface="Calibri"/>
            </a:endParaRPr>
          </a:p>
        </p:txBody>
      </p:sp>
      <p:sp>
        <p:nvSpPr>
          <p:cNvPr id="116" name=""/>
          <p:cNvSpPr txBox="1"/>
          <p:nvPr/>
        </p:nvSpPr>
        <p:spPr>
          <a:xfrm>
            <a:off x="250920" y="692280"/>
            <a:ext cx="8642160" cy="590544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or consiguiente, en todas las formas de gobierno "el pueblo es el auténtico legislador", ya que el pueblo hace sus costumbre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pueblo es el amo"; nosotros los estadistas, dice Burke, "damos a sus deseos su forma perfecta.</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segurar los derechos naturales es "el gran y último propósito de la sociedad civil"; así, todas las formas de gobierno sólo son buenas si sirven al propósito al que están enteramente subordinada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propósito de la sociedad civil es asegurar los derechos naturales que ejercemos diversamente en "la mayor variedad de fine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7"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366C2-E1C6-4658-AD71-5C1CEF80416F}"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Formas de gobierno</a:t>
            </a:r>
            <a:endParaRPr b="0" lang="en-US" sz="3400" spc="-1" strike="noStrike">
              <a:solidFill>
                <a:srgbClr val="000000"/>
              </a:solidFill>
              <a:latin typeface="Calibri"/>
            </a:endParaRPr>
          </a:p>
        </p:txBody>
      </p:sp>
      <p:sp>
        <p:nvSpPr>
          <p:cNvPr id="119" name=""/>
          <p:cNvSpPr txBox="1"/>
          <p:nvPr/>
        </p:nvSpPr>
        <p:spPr>
          <a:xfrm>
            <a:off x="250920" y="692280"/>
            <a:ext cx="8642160" cy="590544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Burke no considera que la democracia sea un régimen posible.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pueblo no puede gobernar; es el elemento pasivo, en contraste con los "hombres activos del Estado".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unque el pueblo pueda ser encabezado por una viciosa oligarquía de alguna índole, debe ser encabezado por una "auténtica aristocracia natural", por ministros que "no sólo son nuestros gobernantes naturales, sino nuestros guías naturale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naturaleza ha hecho que los muchos sean incapaces de gobernarse a sí mismo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Una democracia perfecta es Ia cosa más desvergonzada del mundo, porque la parte de responsabilidad de cada cual es tan pequeña que no la siente, y porque la opinión pública que debiera moderar al gobierno no es, en el caso de la democracia, más que la autoaprobación del pueblo. </a:t>
            </a:r>
            <a:endParaRPr b="0" lang="en-US" sz="2400" spc="-1" strike="noStrike">
              <a:solidFill>
                <a:srgbClr val="000000"/>
              </a:solidFill>
              <a:latin typeface="Calibri"/>
            </a:endParaRPr>
          </a:p>
        </p:txBody>
      </p:sp>
      <p:sp>
        <p:nvSpPr>
          <p:cNvPr id="120"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FAF5C-DF07-4DCC-B22F-AEAEDD322580}"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Formas de gobierno</a:t>
            </a:r>
            <a:endParaRPr b="0" lang="en-US" sz="3400" spc="-1" strike="noStrike">
              <a:solidFill>
                <a:srgbClr val="000000"/>
              </a:solidFill>
              <a:latin typeface="Calibri"/>
            </a:endParaRPr>
          </a:p>
        </p:txBody>
      </p:sp>
      <p:sp>
        <p:nvSpPr>
          <p:cNvPr id="122" name=""/>
          <p:cNvSpPr txBox="1"/>
          <p:nvPr/>
        </p:nvSpPr>
        <p:spPr>
          <a:xfrm>
            <a:off x="250920" y="692280"/>
            <a:ext cx="8642160" cy="590544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Ninguna aristocracia, como ninguna democracia, puede gobernar largo tiempo.</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falta de este sentido es lo que hace que la democracia, además de desvergonzada, sea imposible.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n lo fundamental, el gobierno no consiste en regir; consiste en modificar, reformar, equilibrar o ajustar.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gobierno no es alimentado por pretensiones planteadas por demócratas y oligarcas en defensa (y exageración) de su igualdad y la desigualdad para los demá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pueblo no pretende regir por su propia voluntad; sólo cuando es inflamado por unos cuantos cree que desea regir.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Y los aristócratas, aun de ser naturales, son criados para los puestos de eminencia, que aceptan sin tener que exigirlos.</a:t>
            </a:r>
            <a:endParaRPr b="0" lang="en-US" sz="2400" spc="-1" strike="noStrike">
              <a:solidFill>
                <a:srgbClr val="000000"/>
              </a:solidFill>
              <a:latin typeface="Calibri"/>
            </a:endParaRPr>
          </a:p>
        </p:txBody>
      </p:sp>
      <p:sp>
        <p:nvSpPr>
          <p:cNvPr id="123"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55C02-392D-4D30-9C24-6BC34536EDB8}"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La política</a:t>
            </a:r>
            <a:endParaRPr b="0" lang="en-US" sz="3400" spc="-1" strike="noStrike">
              <a:solidFill>
                <a:srgbClr val="000000"/>
              </a:solidFill>
              <a:latin typeface="Calibri"/>
            </a:endParaRPr>
          </a:p>
        </p:txBody>
      </p:sp>
      <p:sp>
        <p:nvSpPr>
          <p:cNvPr id="125" name=""/>
          <p:cNvSpPr txBox="1"/>
          <p:nvPr/>
        </p:nvSpPr>
        <p:spPr>
          <a:xfrm>
            <a:off x="250920" y="692280"/>
            <a:ext cx="8642160" cy="5905440"/>
          </a:xfrm>
          <a:prstGeom prst="rect">
            <a:avLst/>
          </a:prstGeom>
          <a:noFill/>
          <a:ln w="0">
            <a:noFill/>
          </a:ln>
        </p:spPr>
        <p:txBody>
          <a:bodyPr anchor="t">
            <a:normAutofit/>
          </a:bodyPr>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Burke fue el primero en sostener que la conducta con principios en los políticos, inevitablemente debe ser partidarista.</a:t>
            </a:r>
            <a:endParaRPr b="0" lang="en-US" sz="2600" spc="-1" strike="noStrike">
              <a:solidFill>
                <a:srgbClr val="000000"/>
              </a:solidFill>
              <a:latin typeface="Calibri"/>
            </a:endParaRPr>
          </a:p>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El partidarismo no sólo en ocasiones es necesario en casos de urgencia, sino que es útil y respetable en el funcionamiento ordinario de la constitución. </a:t>
            </a:r>
            <a:endParaRPr b="0" lang="en-US" sz="2600" spc="-1" strike="noStrike">
              <a:solidFill>
                <a:srgbClr val="000000"/>
              </a:solidFill>
              <a:latin typeface="Calibri"/>
            </a:endParaRPr>
          </a:p>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El partido es la unión de un grupo de individuos que se esfuerzan conjuntamente por promover el interés nacional según un determinado principio sobre el cual están todos de acuerdo.</a:t>
            </a:r>
            <a:endParaRPr b="0" lang="en-US" sz="2600" spc="-1" strike="noStrike">
              <a:solidFill>
                <a:srgbClr val="000000"/>
              </a:solidFill>
              <a:latin typeface="Calibri"/>
            </a:endParaRPr>
          </a:p>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Le corresponde al político, buscar los medios apropiados para alcanzar metas y ponerlas en práctica. </a:t>
            </a:r>
            <a:endParaRPr b="0" lang="en-US" sz="2600" spc="-1" strike="noStrike">
              <a:solidFill>
                <a:srgbClr val="000000"/>
              </a:solidFill>
              <a:latin typeface="Calibri"/>
            </a:endParaRPr>
          </a:p>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26"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E3F62-A5BE-46CA-9ED3-5759C8ACB1E8}"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La política</a:t>
            </a:r>
            <a:endParaRPr b="0" lang="en-US" sz="3400" spc="-1" strike="noStrike">
              <a:solidFill>
                <a:srgbClr val="000000"/>
              </a:solidFill>
              <a:latin typeface="Calibri"/>
            </a:endParaRPr>
          </a:p>
        </p:txBody>
      </p:sp>
      <p:sp>
        <p:nvSpPr>
          <p:cNvPr id="128" name=""/>
          <p:cNvSpPr txBox="1"/>
          <p:nvPr/>
        </p:nvSpPr>
        <p:spPr>
          <a:xfrm>
            <a:off x="250920" y="692280"/>
            <a:ext cx="8642160" cy="5905440"/>
          </a:xfrm>
          <a:prstGeom prst="rect">
            <a:avLst/>
          </a:prstGeom>
          <a:noFill/>
          <a:ln w="0">
            <a:noFill/>
          </a:ln>
        </p:spPr>
        <p:txBody>
          <a:bodyPr anchor="t">
            <a:normAutofit/>
          </a:bodyPr>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El partidarismo es informal y, sin embargo, cuando se hace respetable, ya no tiene que ser oculto ni tener un carácter conspiratorio. </a:t>
            </a:r>
            <a:endParaRPr b="0" lang="en-US" sz="2600" spc="-1" strike="noStrike">
              <a:solidFill>
                <a:srgbClr val="000000"/>
              </a:solidFill>
              <a:latin typeface="Calibri"/>
            </a:endParaRPr>
          </a:p>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Con su fuente en la amistad privada y en los apegos honorables, la lealtad al partido ofrece una medida visible de congruencia en el principio; no abandonar a los amigos se vuelve la marca del patriota. </a:t>
            </a:r>
            <a:endParaRPr b="0" lang="en-US" sz="2600" spc="-1" strike="noStrike">
              <a:solidFill>
                <a:srgbClr val="000000"/>
              </a:solidFill>
              <a:latin typeface="Calibri"/>
            </a:endParaRPr>
          </a:p>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Todo político honorable reconocerá que su objetivo principal es emplear todos los medios lícitos para colocar a los hombres que comparten sus mismas ideas en condiciones de aplicar esas ideas con toda la autoridad y el poder que confiere el Estado. </a:t>
            </a:r>
            <a:endParaRPr b="0" lang="en-US" sz="2600" spc="-1" strike="noStrike">
              <a:solidFill>
                <a:srgbClr val="000000"/>
              </a:solidFill>
              <a:latin typeface="Calibri"/>
            </a:endParaRPr>
          </a:p>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Como este poder está ligado a ciertas posiciones, su deber es luchar por asegurar esas mismas posiciones.</a:t>
            </a:r>
            <a:endParaRPr b="0" lang="en-US" sz="2600" spc="-1" strike="noStrike">
              <a:solidFill>
                <a:srgbClr val="000000"/>
              </a:solidFill>
              <a:latin typeface="Calibri"/>
            </a:endParaRPr>
          </a:p>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29"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FB69E-E508-4C76-B84C-24AD13233198}"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76032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HISTORIA DEL PENSAMIENTO POLÍTICO</a:t>
            </a:r>
            <a:r>
              <a:rPr b="1" lang="es-CL" sz="4400" spc="-1" strike="noStrike">
                <a:solidFill>
                  <a:srgbClr val="000000"/>
                </a:solidFill>
                <a:latin typeface="Calibri"/>
              </a:rPr>
              <a:t>: </a:t>
            </a:r>
            <a:br>
              <a:rPr sz="4400"/>
            </a:br>
            <a:r>
              <a:rPr b="1" lang="es-CL" sz="4000" spc="-1" strike="noStrike">
                <a:solidFill>
                  <a:srgbClr val="000000"/>
                </a:solidFill>
                <a:latin typeface="Calibri"/>
              </a:rPr>
              <a:t>Edmund Burke</a:t>
            </a:r>
            <a:endParaRPr b="0" lang="en-US" sz="4000" spc="-1" strike="noStrike">
              <a:solidFill>
                <a:srgbClr val="000000"/>
              </a:solidFill>
              <a:latin typeface="Calibri"/>
            </a:endParaRPr>
          </a:p>
        </p:txBody>
      </p:sp>
      <p:sp>
        <p:nvSpPr>
          <p:cNvPr id="131" name="PlaceHolder 2"/>
          <p:cNvSpPr>
            <a:spLocks noGrp="1"/>
          </p:cNvSpPr>
          <p:nvPr>
            <p:ph type="subTitle"/>
          </p:nvPr>
        </p:nvSpPr>
        <p:spPr>
          <a:xfrm>
            <a:off x="1116000" y="4989600"/>
            <a:ext cx="6840720" cy="146376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alibri"/>
              </a:rPr>
              <a:t>Profesor: Claudio Fuentes González</a:t>
            </a:r>
            <a:endParaRPr b="0" lang="en-US" sz="26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Clase  11 – 06 de octubre de 2010</a:t>
            </a:r>
            <a:endParaRPr b="0" lang="en-US" sz="2000" spc="-1" strike="noStrike">
              <a:solidFill>
                <a:srgbClr val="000000"/>
              </a:solidFill>
              <a:latin typeface="Calibri"/>
            </a:endParaRPr>
          </a:p>
        </p:txBody>
      </p:sp>
      <p:pic>
        <p:nvPicPr>
          <p:cNvPr id="132" name="Picture 5" descr="escuela de gobierno y gestión pública"/>
          <p:cNvPicPr/>
          <p:nvPr/>
        </p:nvPicPr>
        <p:blipFill>
          <a:blip r:embed="rId1"/>
          <a:stretch/>
        </p:blipFill>
        <p:spPr>
          <a:xfrm>
            <a:off x="0" y="0"/>
            <a:ext cx="2371680" cy="933480"/>
          </a:xfrm>
          <a:prstGeom prst="rect">
            <a:avLst/>
          </a:prstGeom>
          <a:ln w="0">
            <a:noFill/>
          </a:ln>
        </p:spPr>
      </p:pic>
      <p:pic>
        <p:nvPicPr>
          <p:cNvPr id="133" name="5 Imagen" descr="10 Edmund Burke.bmp"/>
          <p:cNvPicPr/>
          <p:nvPr/>
        </p:nvPicPr>
        <p:blipFill>
          <a:blip r:embed="rId2"/>
          <a:stretch/>
        </p:blipFill>
        <p:spPr>
          <a:xfrm>
            <a:off x="7534440" y="115920"/>
            <a:ext cx="1430280" cy="2182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Naturaleza humana </a:t>
            </a:r>
            <a:endParaRPr b="0" lang="en-US" sz="3400" spc="-1" strike="noStrike">
              <a:solidFill>
                <a:srgbClr val="000000"/>
              </a:solidFill>
              <a:latin typeface="Calibri"/>
            </a:endParaRPr>
          </a:p>
        </p:txBody>
      </p:sp>
      <p:sp>
        <p:nvSpPr>
          <p:cNvPr id="56" name=""/>
          <p:cNvSpPr txBox="1"/>
          <p:nvPr/>
        </p:nvSpPr>
        <p:spPr>
          <a:xfrm>
            <a:off x="250920" y="765000"/>
            <a:ext cx="8642160" cy="5616720"/>
          </a:xfrm>
          <a:prstGeom prst="rect">
            <a:avLst/>
          </a:prstGeom>
          <a:noFill/>
          <a:ln w="0">
            <a:noFill/>
          </a:ln>
        </p:spPr>
        <p:txBody>
          <a:bodyPr anchor="t">
            <a:normAutofit fontScale="96000"/>
          </a:bodyPr>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naturaleza humana es intrincada; los fines de la sociedad son extraordinariamente complejos, por lo que no todas las disposiciones de dirección o poder son apropiadas para la naturaleza del hombre o sus asuntos.</a:t>
            </a: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hombre no tiene derecho a nada que no sea razonable y que no sea para su propio beneficio.</a:t>
            </a: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Burke no dice que en nuestra alma tengamos unas inclinaciones naturales que se realizan en la política; el alma no es tema de Burke.</a:t>
            </a: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Tampoco dice que el hombre es un animal político por naturaleza, de modo que nuestros artificios políticos fuesen la realización de una potencialidad natural. </a:t>
            </a: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Dice, en cambio, que "el hombre es por su constitución [natural] un animal religioso", ya que el ateísmo va contra nuestros instintos así como contra nuestra razón. </a:t>
            </a:r>
            <a:endParaRPr b="0" lang="en-US" sz="2400" spc="-1" strike="noStrike">
              <a:solidFill>
                <a:srgbClr val="000000"/>
              </a:solidFill>
              <a:latin typeface="Calibri"/>
            </a:endParaRPr>
          </a:p>
        </p:txBody>
      </p:sp>
      <p:sp>
        <p:nvSpPr>
          <p:cNvPr id="57"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8EB5E-13AF-4CEF-9B58-15F9787EF845}"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Naturaleza humana </a:t>
            </a:r>
            <a:endParaRPr b="0" lang="en-US" sz="3400" spc="-1" strike="noStrike">
              <a:solidFill>
                <a:srgbClr val="000000"/>
              </a:solidFill>
              <a:latin typeface="Calibri"/>
            </a:endParaRPr>
          </a:p>
        </p:txBody>
      </p:sp>
      <p:sp>
        <p:nvSpPr>
          <p:cNvPr id="59" name=""/>
          <p:cNvSpPr txBox="1"/>
          <p:nvPr/>
        </p:nvSpPr>
        <p:spPr>
          <a:xfrm>
            <a:off x="250920" y="981000"/>
            <a:ext cx="8642160" cy="5616720"/>
          </a:xfrm>
          <a:prstGeom prst="rect">
            <a:avLst/>
          </a:prstGeom>
          <a:noFill/>
          <a:ln w="0">
            <a:noFill/>
          </a:ln>
        </p:spPr>
        <p:txBody>
          <a:bodyPr anchor="t">
            <a:normAutofit fontScale="99000"/>
          </a:bodyPr>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Nos vemos impelidos al reconocimiento de una voluntad superior, para no depender de nuestra propia voluntad arbitraria: reconocimiento que es un instinto humano para el bien humano. </a:t>
            </a: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s leyes de naturaleza son las leyes de la refracción. </a:t>
            </a: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on las leyes que describen los modos en que los hombres, haciendo sus propias convenciones, constituciones o propiedad, imitan o siguen a la naturaleza, así como la naturaleza se conduce a sí misma sin referencia a los seres humanos. </a:t>
            </a: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arte es la naturaleza del hombre. </a:t>
            </a: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arte (no la elección) es el especial don de la naturaleza a los seres humanos, pero este don no se utiliza de tal modo que mantenga la condición especial de los seres humanos. </a:t>
            </a: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Toda sociedad es artificial, y sin embargo, todo artificio está de acuerdo con la ley natural.</a:t>
            </a: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0"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44A26-05C0-4647-A6EF-6EBA30EB98B7}"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La Prudencia</a:t>
            </a:r>
            <a:endParaRPr b="0" lang="en-US" sz="3400" spc="-1" strike="noStrike">
              <a:solidFill>
                <a:srgbClr val="000000"/>
              </a:solidFill>
              <a:latin typeface="Calibri"/>
            </a:endParaRPr>
          </a:p>
        </p:txBody>
      </p:sp>
      <p:sp>
        <p:nvSpPr>
          <p:cNvPr id="62" name=""/>
          <p:cNvSpPr txBox="1"/>
          <p:nvPr/>
        </p:nvSpPr>
        <p:spPr>
          <a:xfrm>
            <a:off x="250920" y="981000"/>
            <a:ext cx="8642160" cy="56167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prudencia es "el dios de este bajo mundo", puesto que tiene "dominio completo sobre todo ejercicio del poder puesto en sus mano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 la primera de todas las virtudes, así como la directora suprema de todas ella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razón de la soberanía de la prudencia es el poder de las circunstancias para alterar toda regularidad y todo principio.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s circunstancias (que para algunos caballeros no son nada) dan en realidad a todo principio político su color distintivo y su efecto discriminador.</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Burke insiste en que la prudencia de la que habla es una "prudencia moral" o una "prudencia pública y agrandada", en oposición a una prudencia egoísta.</a:t>
            </a:r>
            <a:endParaRPr b="0" lang="en-US" sz="2400" spc="-1" strike="noStrike">
              <a:solidFill>
                <a:srgbClr val="000000"/>
              </a:solidFill>
              <a:latin typeface="Calibri"/>
            </a:endParaRPr>
          </a:p>
        </p:txBody>
      </p:sp>
      <p:sp>
        <p:nvSpPr>
          <p:cNvPr id="63"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16251-8794-4518-8F4C-55D4627AAC2F}"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250920" y="43920"/>
            <a:ext cx="864216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La Prudencia</a:t>
            </a:r>
            <a:endParaRPr b="0" lang="en-US" sz="3400" spc="-1" strike="noStrike">
              <a:solidFill>
                <a:srgbClr val="000000"/>
              </a:solidFill>
              <a:latin typeface="Calibri"/>
            </a:endParaRPr>
          </a:p>
        </p:txBody>
      </p:sp>
      <p:sp>
        <p:nvSpPr>
          <p:cNvPr id="65" name=""/>
          <p:cNvSpPr txBox="1"/>
          <p:nvPr/>
        </p:nvSpPr>
        <p:spPr>
          <a:xfrm>
            <a:off x="250920" y="620640"/>
            <a:ext cx="8642160" cy="56167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Burke distingue, dentro de la prudencia misma, entre "reglas de prudencia" de las que disponen los estadistas ordinarios, y "prudencia de un orden superior“.</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s reglas de la prudencia no son matemáticas, universales o ideales; y sin embargo, no dejan de ser reglas, "formadas en la marcha conocida de la providencia ordinaria de Dios", es decir, visibles en la experiencia humana.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esencia de la moral es la prudencia (moderación), y no el poder de elección.</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moral debe interpretarse tal como es en un contrato, que no puede romperse sin el consentimiento de todas las partes, y no en una fundación o en una revolución, en que los principios de elección salen a luz.</a:t>
            </a:r>
            <a:endParaRPr b="0" lang="en-US" sz="2400" spc="-1" strike="noStrike">
              <a:solidFill>
                <a:srgbClr val="000000"/>
              </a:solidFill>
              <a:latin typeface="Calibri"/>
            </a:endParaRPr>
          </a:p>
        </p:txBody>
      </p:sp>
      <p:sp>
        <p:nvSpPr>
          <p:cNvPr id="66"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8FFB7-685F-4E18-9088-AEA7779EBB4D}"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La Libertad</a:t>
            </a:r>
            <a:endParaRPr b="0" lang="en-US" sz="3400" spc="-1" strike="noStrike">
              <a:solidFill>
                <a:srgbClr val="000000"/>
              </a:solidFill>
              <a:latin typeface="Calibri"/>
            </a:endParaRPr>
          </a:p>
        </p:txBody>
      </p:sp>
      <p:sp>
        <p:nvSpPr>
          <p:cNvPr id="68" name=""/>
          <p:cNvSpPr txBox="1"/>
          <p:nvPr/>
        </p:nvSpPr>
        <p:spPr>
          <a:xfrm>
            <a:off x="250920" y="765000"/>
            <a:ext cx="8642160" cy="5616720"/>
          </a:xfrm>
          <a:prstGeom prst="rect">
            <a:avLst/>
          </a:prstGeom>
          <a:noFill/>
          <a:ln w="0">
            <a:noFill/>
          </a:ln>
        </p:spPr>
        <p:txBody>
          <a:bodyPr anchor="t">
            <a:normAutofit fontScale="93000"/>
          </a:bodyPr>
          <a:p>
            <a:pPr marL="318960" indent="-3189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hombre tiene derecho a hacer todo lo que puede hacer por sí solo, sin atropellar a otros.</a:t>
            </a:r>
            <a:endParaRPr b="0" lang="en-US" sz="2400" spc="-1" strike="noStrike">
              <a:solidFill>
                <a:srgbClr val="000000"/>
              </a:solidFill>
              <a:latin typeface="Calibri"/>
            </a:endParaRPr>
          </a:p>
          <a:p>
            <a:pPr marL="318960" indent="-3189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 una bendición y un beneficio, no una especulación abstracta.</a:t>
            </a:r>
            <a:endParaRPr b="0" lang="en-US" sz="2400" spc="-1" strike="noStrike">
              <a:solidFill>
                <a:srgbClr val="000000"/>
              </a:solidFill>
              <a:latin typeface="Calibri"/>
            </a:endParaRPr>
          </a:p>
          <a:p>
            <a:pPr marL="318960" indent="-3189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libertad social y cívica, como otros aspectos de la vida diaria, sufre mezclas y modificaciones, es disfrutada en diferentes grados y adquiere una infinita diversidad de formas, de acuerdo al temperamento y a las circunstancias de cada comunidad.</a:t>
            </a:r>
            <a:endParaRPr b="0" lang="en-US" sz="2400" spc="-1" strike="noStrike">
              <a:solidFill>
                <a:srgbClr val="000000"/>
              </a:solidFill>
              <a:latin typeface="Calibri"/>
            </a:endParaRPr>
          </a:p>
          <a:p>
            <a:pPr marL="318960" indent="-3189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libertad "extrema" no lleva a nada. </a:t>
            </a:r>
            <a:endParaRPr b="0" lang="en-US" sz="2400" spc="-1" strike="noStrike">
              <a:solidFill>
                <a:srgbClr val="000000"/>
              </a:solidFill>
              <a:latin typeface="Calibri"/>
            </a:endParaRPr>
          </a:p>
          <a:p>
            <a:pPr marL="318960" indent="-3189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os extremos, en todo lo que tenga relación con nuestros deberes o satisfacciones en la vida, son destructivos tanto para la virtud como para el disfrute de ellos.</a:t>
            </a:r>
            <a:endParaRPr b="0" lang="en-US" sz="2400" spc="-1" strike="noStrike">
              <a:solidFill>
                <a:srgbClr val="000000"/>
              </a:solidFill>
              <a:latin typeface="Calibri"/>
            </a:endParaRPr>
          </a:p>
          <a:p>
            <a:pPr marL="318960" indent="-3189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libertad debe ser limitada, para ser poseída. </a:t>
            </a:r>
            <a:endParaRPr b="0" lang="en-US" sz="2400" spc="-1" strike="noStrike">
              <a:solidFill>
                <a:srgbClr val="000000"/>
              </a:solidFill>
              <a:latin typeface="Calibri"/>
            </a:endParaRPr>
          </a:p>
          <a:p>
            <a:pPr marL="318960" indent="-3189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 imposible fijar con precisión el grado de restricción que requiere, pero los hombres públicos deberían esforzarse por descubrir cuál será el mínimo de restricciones apropiado.</a:t>
            </a:r>
            <a:endParaRPr b="0" lang="en-US" sz="2400" spc="-1" strike="noStrike">
              <a:solidFill>
                <a:srgbClr val="000000"/>
              </a:solidFill>
              <a:latin typeface="Calibri"/>
            </a:endParaRPr>
          </a:p>
        </p:txBody>
      </p:sp>
      <p:sp>
        <p:nvSpPr>
          <p:cNvPr id="69"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D8A45-9B5C-4C01-8F8F-18272454433C}"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La Libertad</a:t>
            </a:r>
            <a:endParaRPr b="0" lang="en-US" sz="3400" spc="-1" strike="noStrike">
              <a:solidFill>
                <a:srgbClr val="000000"/>
              </a:solidFill>
              <a:latin typeface="Calibri"/>
            </a:endParaRPr>
          </a:p>
        </p:txBody>
      </p:sp>
      <p:sp>
        <p:nvSpPr>
          <p:cNvPr id="71" name=""/>
          <p:cNvSpPr txBox="1"/>
          <p:nvPr/>
        </p:nvSpPr>
        <p:spPr>
          <a:xfrm>
            <a:off x="250920" y="981000"/>
            <a:ext cx="8642160" cy="5616720"/>
          </a:xfrm>
          <a:prstGeom prst="rect">
            <a:avLst/>
          </a:prstGeom>
          <a:noFill/>
          <a:ln w="0">
            <a:noFill/>
          </a:ln>
        </p:spPr>
        <p:txBody>
          <a:bodyPr anchor="t">
            <a:normAutofit/>
          </a:bodyPr>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La libertad es un bien que hay que mejorar y no un mal que hay que disminuir. </a:t>
            </a:r>
            <a:endParaRPr b="0" lang="en-US" sz="2600" spc="-1" strike="noStrike">
              <a:solidFill>
                <a:srgbClr val="000000"/>
              </a:solidFill>
              <a:latin typeface="Calibri"/>
            </a:endParaRPr>
          </a:p>
          <a:p>
            <a:pPr marL="343080" indent="-343080"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Es el resorte vital y la energía misma del Estado, cuya vida y vigor dependen del grado de libertad de que goza.</a:t>
            </a:r>
            <a:endParaRPr b="0" lang="en-US" sz="2600" spc="-1" strike="noStrike">
              <a:solidFill>
                <a:srgbClr val="000000"/>
              </a:solidFill>
              <a:latin typeface="Calibri"/>
            </a:endParaRPr>
          </a:p>
          <a:p>
            <a:pPr marL="343080" indent="-343080"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La libertad abstracta, al igual que otras abstracciones, no existe. </a:t>
            </a:r>
            <a:endParaRPr b="0" lang="en-US" sz="2600" spc="-1" strike="noStrike">
              <a:solidFill>
                <a:srgbClr val="000000"/>
              </a:solidFill>
              <a:latin typeface="Calibri"/>
            </a:endParaRPr>
          </a:p>
          <a:p>
            <a:pPr marL="343080" indent="-343080"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La libertad depende de algo tangible, y cada nación se crea un objetivo favorito.</a:t>
            </a:r>
            <a:endParaRPr b="0" lang="en-US" sz="2600" spc="-1" strike="noStrike">
              <a:solidFill>
                <a:srgbClr val="000000"/>
              </a:solidFill>
              <a:latin typeface="Calibri"/>
            </a:endParaRPr>
          </a:p>
        </p:txBody>
      </p:sp>
      <p:sp>
        <p:nvSpPr>
          <p:cNvPr id="72"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33C89-FC03-4583-A1B2-DC28A20EDADB}"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Cambio y tradición</a:t>
            </a:r>
            <a:endParaRPr b="0" lang="en-US" sz="3400" spc="-1" strike="noStrike">
              <a:solidFill>
                <a:srgbClr val="000000"/>
              </a:solidFill>
              <a:latin typeface="Calibri"/>
            </a:endParaRPr>
          </a:p>
        </p:txBody>
      </p:sp>
      <p:sp>
        <p:nvSpPr>
          <p:cNvPr id="74" name=""/>
          <p:cNvSpPr txBox="1"/>
          <p:nvPr/>
        </p:nvSpPr>
        <p:spPr>
          <a:xfrm>
            <a:off x="250920" y="836640"/>
            <a:ext cx="8642160" cy="5616720"/>
          </a:xfrm>
          <a:prstGeom prst="rect">
            <a:avLst/>
          </a:prstGeom>
          <a:noFill/>
          <a:ln w="0">
            <a:noFill/>
          </a:ln>
        </p:spPr>
        <p:txBody>
          <a:bodyPr anchor="t">
            <a:normAutofit fontScale="98000"/>
          </a:bodyPr>
          <a:p>
            <a:pPr marL="335880" indent="-3358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Estado que no cuenta con medios de cambio no cuenta con medios de conservación. </a:t>
            </a:r>
            <a:endParaRPr b="0" lang="en-US" sz="2400" spc="-1" strike="noStrike">
              <a:solidFill>
                <a:srgbClr val="000000"/>
              </a:solidFill>
              <a:latin typeface="Calibri"/>
            </a:endParaRPr>
          </a:p>
          <a:p>
            <a:pPr marL="335880" indent="-3358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i hay algún criterio eminente que se distinga entre todos para discernir un gobierno sabio de otro débil e imprevisor, es el siguiente: "</a:t>
            </a:r>
            <a:r>
              <a:rPr b="0" i="1" lang="es-CL" sz="2400" spc="-1" strike="noStrike">
                <a:solidFill>
                  <a:srgbClr val="000000"/>
                </a:solidFill>
                <a:latin typeface="Calibri"/>
              </a:rPr>
              <a:t>hay que saber elegir el mejor momento y la mejor forma de ceder lo que es imposible conservar</a:t>
            </a:r>
            <a:r>
              <a:rPr b="0" lang="es-CL" sz="2400" spc="-1" strike="noStrike">
                <a:solidFill>
                  <a:srgbClr val="000000"/>
                </a:solidFill>
                <a:latin typeface="Calibri"/>
              </a:rPr>
              <a:t>“.</a:t>
            </a:r>
            <a:endParaRPr b="0" lang="en-US" sz="2400" spc="-1" strike="noStrike">
              <a:solidFill>
                <a:srgbClr val="000000"/>
              </a:solidFill>
              <a:latin typeface="Calibri"/>
            </a:endParaRPr>
          </a:p>
          <a:p>
            <a:pPr marL="335880" indent="-3358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estadista debe guiarse por las circunstancias, sin perder nunca de vista los principios, pues al ir en contra de las exigencias del momento, estaría arruinando su país para siempre.</a:t>
            </a:r>
            <a:endParaRPr b="0" lang="en-US" sz="2400" spc="-1" strike="noStrike">
              <a:solidFill>
                <a:srgbClr val="000000"/>
              </a:solidFill>
              <a:latin typeface="Calibri"/>
            </a:endParaRPr>
          </a:p>
          <a:p>
            <a:pPr marL="335880" indent="-3358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Frente a un plan de reformas, se debe "limitar la cantidad de poder que podría prestarse a abuso".</a:t>
            </a:r>
            <a:endParaRPr b="0" lang="en-US" sz="2400" spc="-1" strike="noStrike">
              <a:solidFill>
                <a:srgbClr val="000000"/>
              </a:solidFill>
              <a:latin typeface="Calibri"/>
            </a:endParaRPr>
          </a:p>
          <a:p>
            <a:pPr marL="335880" indent="-3358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Cada vez que mejoramos, hay que dejar espacio a nuevas mejoras.</a:t>
            </a:r>
            <a:endParaRPr b="0" lang="en-US" sz="2400" spc="-1" strike="noStrike">
              <a:solidFill>
                <a:srgbClr val="000000"/>
              </a:solidFill>
              <a:latin typeface="Calibri"/>
            </a:endParaRPr>
          </a:p>
          <a:p>
            <a:pPr marL="335880" indent="-3358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Hasta la mejor constitución tiene un principio de crecimiento; éste es su único principio guía.</a:t>
            </a:r>
            <a:endParaRPr b="0" lang="en-US" sz="2400" spc="-1" strike="noStrike">
              <a:solidFill>
                <a:srgbClr val="000000"/>
              </a:solidFill>
              <a:latin typeface="Calibri"/>
            </a:endParaRPr>
          </a:p>
          <a:p>
            <a:pPr marL="335880" indent="-3358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5"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95B84-C259-48CB-BC40-56E446D02921}"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10T21:37:03Z</dcterms:created>
  <dc:creator>Claudio Fuentes González</dc:creator>
  <dc:description/>
  <dc:language>en-US</dc:language>
  <cp:lastModifiedBy>Claudio Fuentes González</cp:lastModifiedBy>
  <dcterms:modified xsi:type="dcterms:W3CDTF">2010-10-07T03:37:12Z</dcterms:modified>
  <cp:revision>483</cp:revision>
  <dc:subject/>
  <dc:title>HISTORIA DEL PENSAMIENTO POLÍTICO</dc:title>
</cp:coreProperties>
</file>