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9B4B-A1A3-4AC8-8526-E4B3D7BA47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CBCE-C3B8-4116-BA87-019F90C4F6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72F2-2DBC-4080-8C01-E785A24FE9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0641-FF32-4D62-AC7E-6F9EFF8099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894B-DD22-4351-8632-2CFFF7B9AE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4C18-F752-4B42-9770-19C620A167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0D19-1675-41D9-97A2-A16F653B68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717F-6FC0-4694-8DB8-74ACA52A18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9F1A-9BF7-4B26-9D2F-3BE1A59B98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E15E-ABD7-45F3-B3C7-7B9FD4CA3C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940A-EFB2-492C-BAE3-6C7CF4C320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A452-54CD-43BD-BF51-60CCE870A6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8A9E-F1CF-42CD-83A5-FFF777B1CC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EA76-79F9-410B-9F7B-F5D5B81307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1BE1-B86D-440B-B054-55590FE465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AFF9-35F3-4664-826C-031FE1F164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5116-0274-4430-BD3A-6C75D44347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5B47-67C2-48F3-9AE8-0D2BE4A2C7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02EB-6BFF-4EEE-8026-76234B5BEB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6DD1-78B7-4E39-9D5A-75541B0435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248F-4825-48AA-8817-63F55E3453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D37-035F-47FF-89C5-6790D47F22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15F0-1395-4874-B86C-380FAA1D9B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6487-6B32-4733-AC09-8D37BCCF62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939A-86E4-4DEE-BDEA-D297B36C3A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F220-BD43-48C2-9D34-1DC808AD1A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1013-CD73-441D-A9D4-738A61FC67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3769-57A5-405F-8517-78F8BF057A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3ECB-D7AF-4281-BB7D-301C6045ED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0E92-EB0A-409C-B622-AFEA49F2F0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F79-6EFF-486E-82A5-2FA8371C76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C78D2-4902-4472-8524-1680B2FDB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B02E-EA9D-455D-84F8-3E8EBCD9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B9A04-1665-4E11-A15F-44EB4310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9473F-C50E-43C0-8E24-79417F48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94594-D0D9-464A-A623-4A35A0B3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175D-F9B8-46B5-9994-950B04BA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2F96-C1FE-4951-B5BC-83E99E82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2B33-11C9-4FFF-AD3E-739CB053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CB74-6AF9-4490-8B86-6CCE7012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72F50-254A-4643-A57E-B48F3C4A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71F00-561C-40FD-92BA-700B76F5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03CB-510B-4310-96E7-E1818D383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48CB-4293-4770-9027-7B135B2F12F7}"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EEED-CEC0-431D-BB52-1F8E5ED6727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77" name=""/>
          <p:cNvSpPr txBox="1"/>
          <p:nvPr/>
        </p:nvSpPr>
        <p:spPr>
          <a:xfrm>
            <a:off x="250920" y="90792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s el más sagrado de todos los derechos de los ciudadanos, y es más importante, en ciertos aspectos, que la misma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que tiende más directamente a la conservación de la vida, porque la propiedad es el verdadero garante de los compromisos de los ciudadanos, pues si los bienes no respondiesen de las personas, sería muy fácil eludir los deberes y mofarse de l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antenimiento del Estado exige gastos, y como el que acepta el fin no puede rechazar los medios, resulta que los miembros de la sociedad deben contribuir con sus bienes a su sosté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su naturaleza el derecho de propiedad no se extiende más allá de la vida del propietario, de modo que, desde que muere, su bien deja de pertenecer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1827-41A1-4438-800B-AA06B180C9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0" name=""/>
          <p:cNvSpPr txBox="1"/>
          <p:nvPr/>
        </p:nvSpPr>
        <p:spPr>
          <a:xfrm>
            <a:off x="250920" y="620640"/>
            <a:ext cx="864216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Primeras sociedades:</a:t>
            </a:r>
            <a:r>
              <a:rPr b="0" lang="es-CL" sz="2400" spc="-1" strike="noStrike">
                <a:solidFill>
                  <a:srgbClr val="000000"/>
                </a:solidFill>
                <a:latin typeface="Calibri"/>
              </a:rPr>
              <a:t> La más antigua de todas las sociedades, y la única natural, es la de la famil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el primer modelo de las sociedades políticas: el jefe es la imagen del padre, el pueblo la de los hijos, y todos, habiendo nacido iguales y libres, no enajenan su libertad sino en cambio de su uti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ntinúan unidos, no es ya forzosa y naturalmente, sino voluntariamente; y la familia misma, no subsiste más que por convenció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libertad común es consecuencia de la naturaleza huma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al ley es velar por su propia conservación, sus primeros cuidados son los que se deben a su perso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gando a la edad de la razón, siendo el único juez de los medios adecuados para conservarse, conviértese por consecuencia en dueño de sí mismo.</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CFAF-E5D6-466F-A465-708705E3B5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política se compone de otras sociedades más pequeñas y de diferente especie, cada una de las cuales posee sus intereses y máxim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sociedades, que todos pueden ver por su forma exterior y autorizada, no son las únicas que existen realmente en el Estado: todos los particulares reunidos en torno a un interés común componen otras tantas sociedades, permanentes o pasajeras, cuya fuerza, aun siendo menos aparente, no es menos real, y cuyas relaciones, si se examinan con detenimiento, nos proporcionan el verdadero conocimiento de las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trata de todas aquellas asociaciones, tácitas o formales, que tan variadamente modifican las apariencias de la voluntad pública mediante la influencia de la suya propia. </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0F5C-74EB-4E2F-A160-20689E945BC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dichas sociedades presenta siempre dos tipos de relaciones: para sus propios miembros, en una voluntad general; para la gran sociedad, es una voluntad particular. Con frecuencia es una voluntad recta bajo el primer aspecto y viciosa bajo el segun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imera y más importante máxima del gobierno legítimo y popular, es decir, del que tiene por objeto el bien del pueblo, es, por tanto, como ya he dicho, la de guiarse en todo por la voluntad general. Pero para seguirla es necesario conocerla y sobre todo distinguirla de la voluntad particular. otra dificultad no menor consiste en asegurar a la vez la libertad pública y la autoridad del gobierno.</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54AE-7B97-46DA-B2F8-BC9856F72F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89"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organización política: </a:t>
            </a:r>
            <a:r>
              <a:rPr b="0" lang="es-CL" sz="2400" spc="-1" strike="noStrike">
                <a:solidFill>
                  <a:srgbClr val="000000"/>
                </a:solidFill>
                <a:latin typeface="Calibri"/>
              </a:rPr>
              <a:t>en lugar de volver nuestras fuerzas contra nosotros mismos, unámoslas en un poder supremo que nos gobierne según sabias leyes, que proteja y defienda a todos los miembros de la asociación, rechace los enemigos comunes y nos mantenga en eterna concord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orrieron detrás de sus cadenas, creyendo asegurar su libertad, porque, con excesiva razón para sentir las ventajas de un ordenamiento político, no tenían demasiada experiencia para prever los pelig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ás capaces de presentir el abuso eran precisamente los que esperaban sacar provecho de ello, y los mismos sabios vieron que era preciso resolverse a sacrificar una parte de la libertad para la conservación de la ot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1E62-1D06-482B-887B-EE816C24D1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2"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o debió de ser el origen de la sociedad y de las leyes que dieron nuevas trabas al débil y nuevas fuerzas al rico, destruyeron sin posible retorno la libertad natural, fijaron para siempre la ley de la propiedad y de la desigualdad, de una astuta usurpación hicieron un derecho irrevocable y, para el provecho de algunos ambiciosos, sometieron desde entonces todo el género humano al trabajo, a la servidumbre y a la miser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uerpos políticos, permaneciendo de este modo entre ellos en el estado de naturaleza, se dieron cuenta bien pronto de los inconvenientes que habían forzado a los particulares a salir de aqu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tado se volvió entre estos grandes cuerpos aún más funesto que lo que había sido antes entre los individuos de que están compuestos.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2E5A-E239-43CB-8D18-89809A9558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5" name=""/>
          <p:cNvSpPr txBox="1"/>
          <p:nvPr/>
        </p:nvSpPr>
        <p:spPr>
          <a:xfrm>
            <a:off x="250920" y="691920"/>
            <a:ext cx="864216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hí surgieron las guerras nacionales, las batallas, los asesinatos, las represalias, que hacen estremecerse a la naturaleza y chocan a la razón, y todos esos prejuicios horribles que elevan al rango de honor el derramamiento de sangre humana. Tales son los primeros efectos que se entreven de la división del género humano en diferentes sociedad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naturaleza del contrato se verá que este es revocable, dado que si no hubiese ningún poder superior que pudiese ser garantía de la fidelidad de los contratantes ni forzarlos a cumplir sus compromisos recíprocos, las partes permanecerían siendo únicos jueces de su propia causa y cada una de ellas tendría siempre el derecho a renunciar al contrato en cuanto hallase que la otra parte infringe las condiciones o que éstas dejasen de convenir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 que es sobre este principio sobre el que puede fundarse el derecho de abdicar.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AD51-5F0A-4A1A-9B0A-C751D840AA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8" name=""/>
          <p:cNvSpPr txBox="1"/>
          <p:nvPr/>
        </p:nvSpPr>
        <p:spPr>
          <a:xfrm>
            <a:off x="250920" y="1052640"/>
            <a:ext cx="8642160" cy="5256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primer contrat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originari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l establecid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ibilita el dominio del opresor.</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esigualdades se incrementan.</a:t>
            </a:r>
            <a:endParaRPr b="0" lang="en-US" sz="2400" spc="-1" strike="noStrike">
              <a:solidFill>
                <a:srgbClr val="000000"/>
              </a:solidFill>
              <a:latin typeface="Calibri"/>
            </a:endParaRPr>
          </a:p>
          <a:p>
            <a:pPr lvl="1" marL="942480" indent="-498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tanto, es preciso romper este pacto, y así recuperar la libertad y la igualdad natur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stitucionalidad de la desigualdad</a:t>
            </a:r>
            <a:r>
              <a:rPr b="0" lang="es-CL" sz="2400" spc="-1" strike="noStrike">
                <a:solidFill>
                  <a:srgbClr val="000000"/>
                </a:solidFill>
                <a:latin typeface="Calibri"/>
              </a:rPr>
              <a:t>: el establecimiento de la ley y del derecho de propiedad fue su primer término, la institución de la magistratura el segundo y el tercero y último el cambio del poder legítimo en poder arbitrari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7658-C75D-42D1-AE51-61BEB995FE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1"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sclavitud</a:t>
            </a:r>
            <a:r>
              <a:rPr b="0" lang="es-CL" sz="2400" spc="-1" strike="noStrike">
                <a:solidFill>
                  <a:srgbClr val="000000"/>
                </a:solidFill>
                <a:latin typeface="Calibri"/>
              </a:rPr>
              <a:t>: Puesto que ningún hombre tiene por naturaleza autoridad sobre su semejante, y puesto que la fuerza no constituye derecho alguno, quedan sólo las convenciones como base de toda autoridad legítima entre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mitiendo que el hombre pudiera enajenar su libertad, no puede enajenar la de sus hijos, nacidos hombres y li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ibertad les pertenece, sin que nadie tenga derecho a disponer de el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s de que estén en la edad de la razón, puede el padre, en su nombre estipular condiciones para asegurar su conservación y bienestar, pero no darlos irrevocable e incondicionalmente; pues acto tal sería contrario a los fines de la naturaleza y traspasaría el límite de los derechos paternales.</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2F33-6DD5-4F45-89D9-D71DBB6A34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4"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nunciar a su libertad es renunciar a su condición de hombre, a los derechos de la humanidad y aun a sus deberes. No hay resarcimiento alguno posible para quien renuncia a todo. Semejante renuncia es incompatible con la naturaleza del hombre: despojarse de la libertad es despojarse de moralidad. En fin, es una convención fútil y contradictoria estipular de una parte una autoridad absoluta y de la otra una obediencia sin lími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erdadero fundamento de la sociedad es cuando un pueblo se constituye como 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9AA1-77BB-4B6D-91E2-EA4AE83938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ousseau y el Contrato Social</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ado de naturalez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esigual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 civil y prop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trato social (1° y 2°).</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oluntad gener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ormas de 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639C-70BB-4492-8DED-93374087DAD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7"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cto social: “Cada uno pone en común su persona y todo su poder bajo la suprema dirección de la voluntad general, y cada miembro es considerado como parte indivisible del to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hombres no pueden engendrar nuevas fuerzas, sino solamente unir y dirigir las que exciten, no tienen otro medio de conservación que el de formar por agregación una suma de fuerzas capaz de sobrepujar la resistencia, de ponerlas en juego con un solo fin y de hacerlas obrar unidas y convergentem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contrar una forma de asociación que defienda y proteja con la fuerza común la persona y los bienes de cada asociado, y por la cual cada uno, uniéndose a todos, no obedezca sino a sí mismo y permanezca tan libre como 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roblema fundamental cuya solución da el Contra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E3BB-DE13-4F2C-B686-5ED55AA537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0"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láusulas de este contrato son en todas partes las mismas y han sido en todas partes tácitamente reconocidas y admitidas, hasta tanto que, violado el pacto social, cada cual recobra sus primitivos derechos y recupera su libertad natural, al perder la convencional por la cual había renunciado a la prim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fectuándose la enajenación sin reservas, la unión resulta tan perfecta como puede serlo, sin que ningún asociado tenga nada que reclam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acto de asociación convierte al instante a la persona particular de cada contratante, en un cuerpo normal y colectivo, compuesto de tantos miembros como votos tiene la asamblea, la cual recibe de este mismo acto su unidad, su yo común, su vida y su voluntad. </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063D-BE63-483C-B860-6F7DC6809E8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3"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ública que se constituye así, por la unión de todas las demás, tomaba en otro tiempo el nombre de Ciudad y hoy el de República o Cuerpo político, el cual es denominado Estado cuando es activo, Potencia en relación con sus semejant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os asociados, éstos toman colectivamente el nombre de Pueblo y particularmente el de ciudadanos como partícipes de la autoridad soberana, y súbditos por estar sometidos a las leyes del Estado.</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C842-C871-40A3-86C3-8B783A75B4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6" name=""/>
          <p:cNvSpPr txBox="1"/>
          <p:nvPr/>
        </p:nvSpPr>
        <p:spPr>
          <a:xfrm>
            <a:off x="250920" y="836640"/>
            <a:ext cx="8642160" cy="5472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Soberano</a:t>
            </a:r>
            <a:r>
              <a:rPr b="0" lang="es-CL" sz="2400" spc="-1" strike="noStrike">
                <a:solidFill>
                  <a:srgbClr val="000000"/>
                </a:solidFill>
                <a:latin typeface="Calibri"/>
              </a:rPr>
              <a:t>: el acto de asociación implica un compromiso recíproco del público con los particulares y que, cada individuo, contratando consigo mismo, se halla obligado bajo una doble relación, a saber: como miembro del soberano para con los particulares y como miembro del Estado para con el soberan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in de que este pacto social no sea una vana fórmula, él encierra tácitamente el compromiso de que, cualquiera que rehúse obedecer a la voluntad general, será obligado a ello por todo el cuerpo; lo cual no significa otra cosa sino que se le obligará a ser libre, pues tal es la condición que, otorgando cada ciudadano a la patria, le garantiza de toda dependencia personal, condición que constituye el artificio y el juego del mecanismo político y que es la única que legítima las obligaciones civiles, las cuales, sin ella, serían absurdas, tiránicas y quedarían expuestas a los mayores abusos.</a:t>
            </a: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5210-DB42-4ACD-86D9-6F2ACA386C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9"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inalienable (no se puede ce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general puede únicamente dirigir las fuerzas del Estado de acuerdo con los fines de su institución, que es el bien comú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si no es imposible, que la voluntad particular se concilie con la general, es imposible que este acuerdo sea durable y constante, pues la primera tiende, por su naturaleza, a las preferencias y la segunda a la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rcicio de la voluntad general jamás deberá enajenarse, y que el soberano, que no es más que un ser colectivo, no puede ser representado sino por él mismo: el poder se trasmite, pero no la voluntad.</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0F90-0D00-41D0-85A6-A49FBB041A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2"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ímites del poder soberano</a:t>
            </a:r>
            <a:r>
              <a:rPr b="0" lang="es-CL" sz="2400" spc="-1" strike="noStrike">
                <a:solidFill>
                  <a:srgbClr val="000000"/>
                </a:solidFill>
                <a:latin typeface="Calibri"/>
              </a:rPr>
              <a:t>: el poder soberano, con todo y ser absoluto, sagrado e inviolable, no traspasa ni puede traspasar los límites de las convenciones generales, y que todo hombre puede disponer plenamente de lo que le ha sido dejado de sus bienes y de su libertad por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vención es legítima, porque tiene por base el contrato socia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quitativa: porque es común a to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Útil: porque no puede tener otro objeto que el bien general,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ólida: porque tiene como garantía la fuerza pública y el poder supremo.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que los súbditos están sujetos a tales convenciones, no obedecen más que su propia voluntad.</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7B47-7350-47EE-A02D-A826A7B363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5"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segundo contrat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ánime.</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esión de soberanía.</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tende restituir la libertad e igualdad.</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ciedad y soberano son un sol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strumento que posibilita este funcionamiento de esta institución y salvaguardar los principios de la libertad es la volunt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C13F-3FBA-4252-AB7E-DA659F6B294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28"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identifica con el bien común (lo expres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igualitariamente,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deben acatar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lución armoniosa y natural a los conflictos hu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siempre r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es conveniente que no existan sociedade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osición asegura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el bien particular de cada u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ser libre y la supresión de la libertad individual por una libertad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de a la utilidad públ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9B4C-5D7B-43EF-80F7-AD7D3D1D75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31" name=""/>
          <p:cNvSpPr txBox="1"/>
          <p:nvPr/>
        </p:nvSpPr>
        <p:spPr>
          <a:xfrm>
            <a:off x="250920" y="691920"/>
            <a:ext cx="8642160" cy="525780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ién define sus contenidos</a:t>
            </a:r>
            <a:r>
              <a:rPr b="0" lang="es-CL" sz="2400" spc="-1" strike="noStrike">
                <a:solidFill>
                  <a:srgbClr val="000000"/>
                </a:solidFill>
                <a:latin typeface="Calibri"/>
              </a:rPr>
              <a:t>?</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el consenso de todos.</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la mayoría, por la insuperable desconfianza en la capacidad del pueblo para decidir sus destin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tarea de determinar la VG y sus contenidos es función de unos pocos hombres selectos y esclarecidos, quienes interpretan la voluntad general.</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terminan lo que el pueblo quiere y lo que verdaderamente le conviene.</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misión es desarrollada por el legislador:</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unta a cambiar la naturaleza humana.</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conductor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uál es el bien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ómo acceder a ese bien.</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3F56-E6E0-4EEC-9261-481281AB3D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4" name=""/>
          <p:cNvSpPr txBox="1"/>
          <p:nvPr/>
        </p:nvSpPr>
        <p:spPr>
          <a:xfrm>
            <a:off x="250920" y="691920"/>
            <a:ext cx="8642160" cy="52578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é es el Gobierno</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 cuerpo intermediario establecido entre los súbditos y el soberano para su mutua comunicación, encargado de la ejecución de las leyes y del mantenimiento de la libertad tanto civil como polític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iembros de este cuerpo se llaman magistrados o reyes, es decir, gobernadores, y el cuerpo entero príncip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a la fuerza pública un agente propio que la reúna y que la emplee de acuerdo con la dirección de la voluntad general, que sirva como órgano de comunicación entre el Estado y el soberano, que desempeñe, en cierto modo, en la persona pública, el mismo papel que en el hombre la unión del alma y del cuerp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a la razón del gobierno en el Est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9D70-1C6B-49B3-9E3E-FEFF08F949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ha nacido libre, y sin embargo, vive en todas partes entre cadenas. El mismo que se considera amo, no deja por eso de ser menos esclavo que los demá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social constituye un derecho sagrado que sirve de base a todos los demás. Sin embargo, este derecho no es un derecho natural: está fundado sobre conven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a sería tan miserable como el hombre salvaje deslumbrado por las luces, atormentado por las pasiones y razonando acerca de un estado diferente del suy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acultades que él tenía en potencia sólo debían desarrollarse con las ocasiones de ejercitarlas a fin de que no le resultasen superfluas y onerosas antes de tiempo, ni tardías o inútiles para la necesidad.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F25D-3A7C-452C-9158-335BAEF117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7" name=""/>
          <p:cNvSpPr txBox="1"/>
          <p:nvPr/>
        </p:nvSpPr>
        <p:spPr>
          <a:xfrm>
            <a:off x="0" y="691920"/>
            <a:ext cx="8964720" cy="525780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fin de la asociación política</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nservación y la prosperidad de sus miembros. </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signo más seguro de que se conservan y prosperan</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número y la población. El gobierno bajo el cual, sin medios extraños, sin colonias, los ciudadanos se multiplican, es infaliblemente el mejor. Aquel bajo el cual un pueblo disminuye y decae, es el peor.</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isten dos vías o medios generales por los cuales un gobierno degenera, a saber: cuando se concentra o cuando el Estado se disuelve. El gobierno se concentra cuando pasa del gran número al pequeño, es decir, de la democracia a la aristocracia y de ésta a la monarquí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isolución del Estado puede efectuarse de dos maneras: Primeramente, cuando el príncipe no administra el Estado de acuerdo con las leyes y usurpa el poder soberano. En segundo lugar, cuando los miembros del gobierno usurpan por separado el poder que deben ejercer en conjunto, infracción de las leyes no menor y que produce mayores desórdenes.</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99E0-C2AC-4C45-9423-F3EB7C25EB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0" name=""/>
          <p:cNvSpPr txBox="1"/>
          <p:nvPr/>
        </p:nvSpPr>
        <p:spPr>
          <a:xfrm>
            <a:off x="-360" y="691920"/>
            <a:ext cx="8893080" cy="52578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y Formas de Gobierno</a:t>
            </a:r>
            <a:r>
              <a:rPr b="0" lang="es-CL" sz="2400" spc="-1" strike="noStrike">
                <a:solidFill>
                  <a:srgbClr val="000000"/>
                </a:solidFill>
                <a:latin typeface="Calibri"/>
              </a:rPr>
              <a:t>: Las distintas formas de gobierno tienen su origen en las diferencias más o menos grandes que se encuentran entre los particulares en el momento de su constitu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xistía un hombre eminente en poder, en virtud, en riqueza o en crédito, en ese caso fue elegido él solo magistrado y el Estado se convirtió en monárquic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muchos, más o menos iguales entre sí, destacaban sobre los demás, entonces fueron elegidos de modo conjunto y surgió una arist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ellos cuya fortuna o talentos eran menos desproporcionados y se habían alejado menos del estado de naturaleza, conservaron en común la administración suprema y formaron una dem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verificará cuál de estas formas era la más ventajosa para los hombre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4FB8-3916-44EE-AB2E-89C7A23CA9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3" name=""/>
          <p:cNvSpPr txBox="1"/>
          <p:nvPr/>
        </p:nvSpPr>
        <p:spPr>
          <a:xfrm>
            <a:off x="323640" y="691920"/>
            <a:ext cx="856908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ormas de Gobierno</a:t>
            </a:r>
            <a:r>
              <a:rPr b="0" lang="es-CL" sz="2400" spc="-1" strike="noStrike">
                <a:solidFill>
                  <a:srgbClr val="000000"/>
                </a:solidFill>
                <a:latin typeface="Calibri"/>
              </a:rPr>
              <a:t>:</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mocracia:</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ristocracia.</a:t>
            </a:r>
            <a:endParaRPr b="0" lang="en-US" sz="24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tural.</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tiva.</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reditaria</a:t>
            </a:r>
            <a:endParaRPr b="0" lang="en-US" sz="20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arquía.</a:t>
            </a:r>
            <a:endParaRPr b="0" lang="en-US" sz="2400" spc="-1" strike="noStrike">
              <a:solidFill>
                <a:srgbClr val="000000"/>
              </a:solidFill>
              <a:latin typeface="Calibri"/>
            </a:endParaRPr>
          </a:p>
          <a:p>
            <a:pPr lvl="1" marL="914400" indent="-4572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BF42-3930-4A03-BCEC-238A39D507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ía en el solo instinto todo lo que necesitaba para vivir en el estado de naturaleza; no existe en una razón cultivada más que lo necesario para vivir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en tal estado, al no existir entre ellos ninguna clase de relación moral ni de deberes comunes, no pudieron ser ni buenos ni malos, no tuvieron ni vicios ni virtu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fácil ver que entre las diferencias que distinguen a los hombres muchas que pasan por naturales son tan sólo obra del hábito y de los diversos géneros de vida que los hombres adoptan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comprenderá cómo la diferencia entre un hombre y otro debe residir menos en el estado de naturaleza que en el de sociedad y cómo la desigualdad natural debe aumentar en la especie humana por la desigualdad de i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B202-2C8C-4D0C-8926-24BB6A99D1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hombre primitivo</a:t>
            </a:r>
            <a:r>
              <a:rPr b="0" lang="es-CL" sz="2400" spc="-1" strike="noStrike">
                <a:solidFill>
                  <a:srgbClr val="000000"/>
                </a:solidFill>
                <a:latin typeface="Calibri"/>
              </a:rPr>
              <a:t>: El primer sentimiento del hombre fue el de su existencia; su primer cuidado el de su conserv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ducciones de la tierra le aportaban todos los socorros necesarios; el instinto lo conducía a usar de ell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ambre y otros apetitos le hacían probar poco a poco diversas maneras de existir; entre ellos hay uno que le invitaba a perpetuar su espec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satisfecha la necesidad, los dos sexos no se reconocían y el propio hijo sólo estaba junto a la madre en cuanto no podía pasarse sin el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la condición del hombre naciente; tal fue la vida de un animal limitado al principio a las puras sensaciones y aprovechándose apenas de los dones que le ofrecía la naturaleza, lejos de pensar en arrancarle nad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D8E3-AF76-491B-9CA3-D65AEBE61A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aparecieron dificultades y fue preciso aprender a vencerlas, todo obligó a aplicarse a los ejercicios corpo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rendió a vencer los obstáculos de la naturaleza, a combatir en la necesidad a los restantes animales, a disputar su subsistencia a los hombres mismos o a resarcirse de lo que había que ceder al más fuer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dida que el género humano se extendió, las penas se multiplicaron co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6011-D90E-4067-B150-83021B141C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natural o física ha sido establecida por la naturaleza y consiste en la diferencia de edades, de salud, de las fuerzas del cuerpo y las cualidades del espíritu o del alm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tra, que puede denominarse desigualdad moral o política, depende de una especie de convención y está establecida, o cuando menos autorizada, por el consentimiento de los hombr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última consiste en los diferentes privilegios de los que gozan unos en detrimento de los otros, como el ser más ricos, más honrados, más poderosos que ellos o, incluso, hacerse obedece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lases de desigualdad</a:t>
            </a:r>
            <a:r>
              <a:rPr b="0" lang="es-CL" sz="2400" spc="-1" strike="noStrike">
                <a:solidFill>
                  <a:srgbClr val="000000"/>
                </a:solidFill>
                <a:latin typeface="Calibri"/>
              </a:rPr>
              <a:t>: la riqueza, la nobleza o el rango, el poder y el mérito personal al ser las distinciones principales por las que se mide en sociedad, probará quizá que el acuerdo o conflicto de estas distintas fuerzas es la más segura indicación de un Estado bien o mal constitui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1145-4514-4C55-8CD0-60AF05869F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tas cuatro clases de desigualdad, siendo las cualidades personales el origen de todas las demás, es la riqueza la última a la que todas se reducen finalmente puesto que, al ser la más inmediatamente útil al bienestar y la más fácil de comunicar, se usa fácilmente de ella para comprar todo lo demá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siendo prácticamente nula en el estado de naturaleza, toma su fuerza y su acrecentamiento del desarrollo de nuestras facultades y del progreso del espíritu humano hasta convertirse finalmente en estable y legítima por el establecimiento de la propiedad y de las leyes. </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1CD0-ECA6-4A6E-A97F-B13BB81862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Civil</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mero que, habiendo cercado un terreno, se le ocurrió decir: “</a:t>
            </a:r>
            <a:r>
              <a:rPr b="0" i="1" lang="es-CL" sz="2400" spc="-1" strike="noStrike">
                <a:solidFill>
                  <a:srgbClr val="000000"/>
                </a:solidFill>
                <a:latin typeface="Calibri"/>
              </a:rPr>
              <a:t>Esto es mío”</a:t>
            </a:r>
            <a:r>
              <a:rPr b="0" lang="es-CL" sz="2400" spc="-1" strike="noStrike">
                <a:solidFill>
                  <a:srgbClr val="000000"/>
                </a:solidFill>
                <a:latin typeface="Calibri"/>
              </a:rPr>
              <a:t>, y encontró gentes lo bastante simples para creerlo, ése fue el verdadero fundador de la sociedad ci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Propiedad</a:t>
            </a:r>
            <a:r>
              <a:rPr b="0" lang="es-CL" sz="2400" spc="-1" strike="noStrike">
                <a:solidFill>
                  <a:srgbClr val="000000"/>
                </a:solidFill>
                <a:latin typeface="Calibri"/>
              </a:rPr>
              <a:t>: Es solamente el trabajo el que, dando derecho al cultivador sobre el producto de la tierra que ha trabajado, se lo da también sobre los fondos cuando menos hasta la reco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 de este modo como la desigualdad natural se duplicó insensiblemente con la de la combinación y las diferencias de los hombres, desarrolladas por las de las circunstancias, se volvieron más sensibles, más permanentes en sus efectos y comenzaron a influir en la misma proporción sobre la suerte de lo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79B5-6777-48C8-8718-8339D1B93D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5T03:25:30Z</dcterms:modified>
  <cp:revision>447</cp:revision>
  <dc:subject/>
  <dc:title>HISTORIA DEL PENSAMIENTO POLÍTICO</dc:title>
</cp:coreProperties>
</file>